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186C-F2A6-4FFB-ABA5-E3EE1FC4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B272-D069-460D-82C9-A17FFF78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C497-8872-4890-B143-7806F009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8C05-B0A2-4388-A485-808F10A0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DC6A-2FE5-499E-BCE5-CFBCD637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B5B4-F41C-48D3-9BF8-F7E6488C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A179-B37D-45E9-BF1C-34B6FCF5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E531-52E4-4A44-A79A-69629C59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DC73-BC46-499C-8630-EBCD2BEE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3BC6-340E-4693-B969-47A174D3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F201-1ECF-4AAA-9754-621297CF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91DA-4098-4F33-AB3E-A1A56FA0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B354-287F-4349-87C5-33FB79B6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F0D6-DE79-475A-A7E9-70BFE49A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3EBA-9E6B-4FB9-AAA8-564EC868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37D1-BF76-4BEC-883B-F9C7483B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7C31-0EA7-4194-94A3-999FAE81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E98F-4040-4054-8BE4-586ED7A6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DE5F-C298-46DB-B3FA-D3E46225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CAA4-1803-41C6-A963-8FF244C0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B3C8-6CCB-4F25-9B76-26B500D3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02F5-E767-4782-82CE-34F677D8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A5E4-E975-4F9C-BBEE-E251E709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EEDA-C53E-46A7-AEB6-65934304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368960"/>
            <a:ext cx="9131400" cy="2476440"/>
            <a:chOff x="0" y="4368960"/>
            <a:chExt cx="9131400" cy="2476440"/>
          </a:xfrm>
        </p:grpSpPr>
        <p:sp>
          <p:nvSpPr>
            <p:cNvPr id="1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077240" y="4368960"/>
              <a:ext cx="1888920" cy="2261880"/>
              <a:chOff x="7077240" y="4368960"/>
              <a:chExt cx="1888920" cy="2261880"/>
            </a:xfrm>
          </p:grpSpPr>
          <p:sp>
            <p:nvSpPr>
              <p:cNvPr id="3" name="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V="1">
                <a:off x="7365960" y="6134040"/>
                <a:ext cx="160200" cy="2923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8272440" y="4564080"/>
                <a:ext cx="54000" cy="1094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8367840" y="4368960"/>
                <a:ext cx="54000" cy="1094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6075-F8C2-4B26-A09E-5FAAFA98E8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115920"/>
            <a:ext cx="9142560" cy="6740640"/>
            <a:chOff x="0" y="115920"/>
            <a:chExt cx="9142560" cy="6740640"/>
          </a:xfrm>
        </p:grpSpPr>
        <p:sp>
          <p:nvSpPr>
            <p:cNvPr id="70" name="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115920"/>
              <a:ext cx="9142560" cy="3236760"/>
              <a:chOff x="0" y="115920"/>
              <a:chExt cx="9142560" cy="3236760"/>
            </a:xfrm>
          </p:grpSpPr>
          <p:sp>
            <p:nvSpPr>
              <p:cNvPr id="72" name="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3633840" y="115920"/>
                <a:ext cx="2286000" cy="3147840"/>
                <a:chOff x="3633840" y="115920"/>
                <a:chExt cx="2286000" cy="314784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3691080" y="2572920"/>
                  <a:ext cx="223560" cy="4064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4952880" y="387360"/>
                  <a:ext cx="76320" cy="154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5086440" y="115920"/>
                  <a:ext cx="75960" cy="154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37A9-0F00-447B-886C-C3E18E5E9F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769608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99"/>
                </a:solidFill>
                <a:latin typeface="Lucida Sans"/>
              </a:rPr>
              <a:t>El  Objetivo de las  Uniones Económicas y los Limites que éstas Imponen a las Políticas Fiscales de los Países Miembros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4419360"/>
            <a:ext cx="624852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Times New Roman"/>
              </a:rPr>
              <a:t>Gilberto Ayres Moreira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Lucida Sans"/>
              </a:rPr>
              <a:t>Las  Uniones Económicas y Los Limites a las Políticas Fiscal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lobalização e Soberania Tributá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MC e Livre Comér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nefícios do Capital Estrangei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senvolvimento das Telecomunicaçõ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senvolvimento dos Meios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mpresas Multinacion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Lucida Sans"/>
              </a:rPr>
              <a:t>Las  Uniones Económicas y Los Limites a las Políticas Fiscal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lobalização e Soberania Tributá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trição ao Protecionism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etição Comer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etição Tributá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ibutação do Capi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dificação nas Estruturas Tributár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Lucida Sans"/>
              </a:rPr>
              <a:t>Las  Uniones Económicas y Los Limites a las Políticas Fiscal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canismos de Adequ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orden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rmoniz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Lucida Sans"/>
              </a:rPr>
              <a:t>Las  Uniones Económicas y Los Limites a las Políticas Fiscal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ão Aduanei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berdade no Fluxo de Bens e Serviç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ão Econôm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berdade no Fluxo de Bens, Serviços e Fatores de Produção (Capital e Trabalh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íticas Fiscais Comu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Integração e Harmonizaçã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Lucida Sans"/>
              </a:rPr>
              <a:t>Las  Uniones Económicas y Los Limites a las Políticas Fiscal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Limi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xN - Neutral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ão-Discriminação e Não-Interven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Lucida Sans"/>
              </a:rPr>
              <a:t>Las  Uniones Económicas y Los Limites a las Políticas Fiscal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ostos Indire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Fluxo de Mercadorias e Serviç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ocação de Recur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nipulação e Guerra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VA sobre o Consumo no Desti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juste de Fronteira 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ximização da Produ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Lucida Sans"/>
              </a:rPr>
              <a:t>Las  Uniones Económicas y Los Limites a las Políticas Fiscal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ostos Dire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Fluxos de Capital e Pessoa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armonização da Estrutura (Alocaçã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ibutação na Fonte x Residê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ão-Discrimin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ividend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Preços de Transferênc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ub-Captalizaçã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Prejuíz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Lucida Sans"/>
              </a:rPr>
              <a:t>Las  Uniones Económicas y Los Limites a las Políticas Fiscal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gres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gociaçã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urisdi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U – Corte Européia de Justiç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RCOSUL – Cortes Inter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MC – Órgão de Solução de Controvérc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12:38:18Z</dcterms:created>
  <dc:creator>GAIA, SILVA, ROLIM</dc:creator>
  <dc:description/>
  <dc:language>en-US</dc:language>
  <cp:lastModifiedBy>C.P.C.E.C.A.B.A.</cp:lastModifiedBy>
  <cp:lastPrinted>1997-07-11T21:20:30Z</cp:lastPrinted>
  <dcterms:modified xsi:type="dcterms:W3CDTF">2005-09-22T17:51:01Z</dcterms:modified>
  <cp:revision>124</cp:revision>
  <dc:subject/>
  <dc:title>Direito Tributári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31882186</vt:r8>
  </property>
  <property fmtid="{D5CDD505-2E9C-101B-9397-08002B2CF9AE}" pid="3" name="_AuthorEmail">
    <vt:lpwstr>miro@gaiasilvarolim.com.br</vt:lpwstr>
  </property>
  <property fmtid="{D5CDD505-2E9C-101B-9397-08002B2CF9AE}" pid="4" name="_AuthorEmailDisplayName">
    <vt:lpwstr>Claudemiro Francisco Caetano</vt:lpwstr>
  </property>
  <property fmtid="{D5CDD505-2E9C-101B-9397-08002B2CF9AE}" pid="5" name="_EmailSubject">
    <vt:lpwstr/>
  </property>
</Properties>
</file>