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913-E295-499F-96ED-7F04FA67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7F7-630A-4C82-A031-59CDCCA2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8AC-5BBC-4E83-90D3-54FB552D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E32-8591-408B-AC79-C5219CF5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DDE-7DA9-40A5-A8BB-F3533807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83C-6D2F-4278-A687-350F6F98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AAA-A8D4-48F9-A548-8F2C2055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7F9-FB4C-4A03-8BFD-001EC3C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7A0-D4FD-4B9F-BF3C-00C9D9D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4E1-4A42-48A3-BDCF-9AE966CF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FC9-979E-4D8A-A09F-05E2CCE2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EC0-8484-4B39-9863-8C4D077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B073-5CAD-4716-802D-D47545B2CF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FD1C66-FA97-4A38-A836-AE5578B4F00E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9:02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A6AE-C266-475D-A9A9-61BDA612C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17680" y="314784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gnación de Recursos en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sto Pres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° Jornada de Administración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484360" y="586260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 de Mayo 200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27280" y="5864400"/>
            <a:ext cx="657000" cy="51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14400" y="1946160"/>
            <a:ext cx="2311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27400" y="1944720"/>
            <a:ext cx="356868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73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9d"/>
                </a:solidFill>
                <a:latin typeface="Verdana"/>
              </a:rPr>
              <a:t>Efectiva asignación de recursos </a:t>
            </a:r>
            <a:br>
              <a:rPr sz="3200"/>
            </a:br>
            <a:r>
              <a:rPr b="0" lang="en-US" sz="3200" spc="-1" strike="noStrike">
                <a:solidFill>
                  <a:srgbClr val="17379d"/>
                </a:solidFill>
                <a:latin typeface="Verdana"/>
              </a:rPr>
              <a:t>= Calidad de la prestació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17379d"/>
                </a:solidFill>
                <a:latin typeface="Arial"/>
              </a:rPr>
              <a:t>Revisión de los tres tipos de proceso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2471760"/>
            <a:ext cx="914400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9d"/>
                </a:solidFill>
                <a:latin typeface="Arial"/>
              </a:rPr>
              <a:t>Procesos Estratégicos</a:t>
            </a:r>
            <a:r>
              <a:rPr b="0" lang="es-AR" sz="1800" spc="-1" strike="noStrike">
                <a:solidFill>
                  <a:srgbClr val="17379d"/>
                </a:solidFill>
                <a:latin typeface="Arial"/>
              </a:rPr>
              <a:t>: Los que guían a la organización hacia la obtención de alta calidad en la prestación de servic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La opinión de los usuarios/clientes ( precepción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los plane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la innovación de los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el </a:t>
            </a:r>
            <a:r>
              <a:rPr b="0" i="1" lang="es-AR" sz="1600" spc="-1" strike="noStrike">
                <a:solidFill>
                  <a:srgbClr val="17379d"/>
                </a:solidFill>
                <a:latin typeface="Arial"/>
              </a:rPr>
              <a:t>benchmark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9d"/>
                </a:solidFill>
                <a:latin typeface="Arial"/>
              </a:rPr>
              <a:t>Procesos Clave</a:t>
            </a:r>
            <a:r>
              <a:rPr b="0" lang="es-AR" sz="1800" spc="-1" strike="noStrike">
                <a:solidFill>
                  <a:srgbClr val="17379d"/>
                </a:solidFill>
                <a:latin typeface="Arial"/>
              </a:rPr>
              <a:t>: Los que producen el servicio que son la razón de ser de laorganización. Son la esencia de la justificación de la organiz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Los que resolverán, o no, un problema de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El acceso en tiempo y forma al sistem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9d"/>
                </a:solidFill>
                <a:latin typeface="Arial"/>
              </a:rPr>
              <a:t>Procesos de Soporte</a:t>
            </a:r>
            <a:r>
              <a:rPr b="0" lang="es-AR" sz="1800" spc="-1" strike="noStrike">
                <a:solidFill>
                  <a:srgbClr val="17379d"/>
                </a:solidFill>
                <a:latin typeface="Arial"/>
              </a:rPr>
              <a:t>: Actúan siempre como proveedores de los procesos cl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17379d"/>
                </a:solidFill>
                <a:latin typeface="Arial"/>
              </a:rPr>
              <a:t>Infor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Auto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077840"/>
            <a:ext cx="91440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Fomentar la capacitación del beneficiario del sistema en el cuidado personal de la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Fomentar la capacitación del beneficiario en su alimentación (somos lo que comemos) y en el rol de la actividad física en el mantenimiento de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Capacitación en uso racional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Verdana"/>
              </a:rPr>
              <a:t>Información de cómo s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Verdana"/>
              </a:rPr>
              <a:t>Información de cuando se debe consul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Verdana"/>
              </a:rPr>
              <a:t>Información de que centros se deben visitar para que sit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Comunicación efectiva usando recursos propios (Call center, revista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Prevención en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37960"/>
            <a:ext cx="914400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Mantener sanos a los s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Evitar co-mor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Mejorar la calidad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Programas de prevención de la sal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Programas de control del adulto j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Programas de control de hipertens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Programas de control de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Programas de control de 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Programas de control de la 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Verdana"/>
              </a:rPr>
              <a:t>Programas de actividad física rut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52440"/>
            <a:ext cx="91440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TENCION PRIMARIA ACCESIBLE CONTINUADA Y CON 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ISEÑO DEL PLAN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APACITACION DE BENEFICI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TROL DE PR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USO RACIONAL DE MEDIC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OCO EN PROCESOS ESTRATEGICOS Y CLAVE QUE ASEGUREN L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52000"/>
            <a:ext cx="914400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OMENTAR LA AUTO RESPONSABILIDAD EN EL USO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USO DE LOS COSEGUROS COMO REGULADORES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USO DE LAS 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REVEN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CTIVIDADES EN RELACION CON EL BIENESTAR Y LA CALIDAD DE VIDA DE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2123640"/>
            <a:ext cx="9144000" cy="34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iveles de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lidad de la pres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uto-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ve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Niveles de 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22120"/>
            <a:ext cx="9144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im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mbul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sulta clínica, pediatría, ginecología (ahora cardiolog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studios diagnósticos de ru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edicamentos amb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gundo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ter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aja y Media 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irugía peri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studios diagnósticos espe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ercer 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lta complejidad media y 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lto costo Baja inci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irugía Central Cardio cirugía/ Neurociru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17379d"/>
                </a:solidFill>
                <a:latin typeface="Verdana"/>
              </a:rPr>
              <a:t>Contener el gasto no 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25520"/>
            <a:ext cx="9144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Consultas dirig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Consultas programadas/d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Acceso restring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Mucha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Altos coseguros y copa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No cob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Verdana"/>
              </a:rPr>
              <a:t>Desorganización de la 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Atención Pri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54240"/>
            <a:ext cx="91440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 la puerta habitual a cualquier sistema de sal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eguimiento longitu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Globalidad e integr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ordin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apacidad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Efectiva asignación de recursos </a:t>
            </a:r>
            <a:br>
              <a:rPr sz="2800"/>
            </a:b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= Contener el gasto en el primer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25520"/>
            <a:ext cx="9144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9d"/>
                </a:solidFill>
                <a:latin typeface="Arial"/>
              </a:rPr>
              <a:t>Mas médicos de atención primaria van acompañados de un menor gasto per/cápita, una menor frecuencia en la hospitalización y de consultas a especialis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9d"/>
                </a:solidFill>
                <a:latin typeface="Arial"/>
              </a:rPr>
              <a:t>Aquellos sistemas con mejor Atención Primaria de Salud parecen más efici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9d"/>
                </a:solidFill>
                <a:latin typeface="Arial"/>
              </a:rPr>
              <a:t>El acceso directo del paciente a los especialistas conlleva una mayor tasa de uso inapropiado de re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9d"/>
                </a:solidFill>
                <a:latin typeface="Arial"/>
              </a:rPr>
              <a:t>Los médicos generales suelen emplear menos recursos que los especialistas en el tratamiento de las mismas patolog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9d"/>
                </a:solidFill>
                <a:latin typeface="Arial"/>
              </a:rPr>
              <a:t>Los especialistas utilizan más tecnología que los generalistas, incluso para tratar los mismos proble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9d"/>
                </a:solidFill>
                <a:latin typeface="Arial"/>
              </a:rPr>
              <a:t>Los pacientes que perciben que su médico general de Atención Primaria se hace cargo del conjunto de sus problemas de salud están más satisfechos con la atención recib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9d"/>
                </a:solidFill>
                <a:latin typeface="Arial"/>
              </a:rPr>
              <a:t>Estudios realizados hasta el momento en diferentes ámbitos geográficos demuestran que los sistemas basados en una Atención Primaria fuerte se asocian a reducciones de costos, mayor satisfacción de los usuarios y mayor nivel de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Efectiva asignación de recursos </a:t>
            </a:r>
            <a:br>
              <a:rPr sz="2800"/>
            </a:b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= Diseño de un plan de salud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25160"/>
            <a:ext cx="914400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definición de metas operacionales y objetivos, de acuerdo a los problemas y a la prioridad de los mism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finición de las estrategias. Como se abordarán los problemas. En su origen o en el daño a la salud y sus consecuencias, o en todos estos asp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finición de actividades, según la estrategia decid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rmulación de normas de at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rmulación de normas de cober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rmulación de normas de rendimiento que orientan sobre cuando y como utilizar los re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rmulación de los programas de salud, como 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álisis de obstáculos y forma de resolve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Historia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Efectiva asignación de recursos </a:t>
            </a:r>
            <a:br>
              <a:rPr sz="2800"/>
            </a:b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= Libre elección de pres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7379d"/>
                </a:solidFill>
                <a:latin typeface="Arial"/>
              </a:rPr>
              <a:t>Asegura la competencia por 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7379d"/>
                </a:solidFill>
                <a:latin typeface="Arial"/>
              </a:rPr>
              <a:t>Mejora la orientación hacia enfermedades prior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7379d"/>
                </a:solidFill>
                <a:latin typeface="Arial"/>
              </a:rPr>
              <a:t>Focaliza en prácticas de costo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7379d"/>
                </a:solidFill>
                <a:latin typeface="Arial"/>
              </a:rPr>
              <a:t>No implica en si mismo un aumento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7379d"/>
                </a:solidFill>
                <a:latin typeface="Arial"/>
              </a:rPr>
              <a:t>Elimina el comportamiento monopó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7379d"/>
                </a:solidFill>
                <a:latin typeface="Arial"/>
              </a:rPr>
              <a:t>Mejora la calidad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7379d"/>
                </a:solidFill>
                <a:latin typeface="Arial"/>
              </a:rPr>
              <a:t>Incentiva a l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7379d"/>
                </a:solidFill>
                <a:latin typeface="Arial"/>
              </a:rPr>
              <a:t>Sin embar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37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79d"/>
                </a:solidFill>
                <a:latin typeface="Arial"/>
              </a:rPr>
              <a:t>Hay que evitar la sobre demanda de los pr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379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79d"/>
                </a:solidFill>
                <a:latin typeface="Arial"/>
              </a:rPr>
              <a:t>Hay que evitar las asimetrías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5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Efectiva asignación de recursos </a:t>
            </a:r>
            <a:br>
              <a:rPr sz="2800"/>
            </a:br>
            <a:r>
              <a:rPr b="0" lang="en-US" sz="2800" spc="-1" strike="noStrike">
                <a:solidFill>
                  <a:srgbClr val="17379d"/>
                </a:solidFill>
                <a:latin typeface="Verdana"/>
              </a:rPr>
              <a:t>= Uso racional de medicamentos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17379d"/>
                </a:solidFill>
                <a:latin typeface="Arial"/>
              </a:rPr>
              <a:t>Potenciar que los fármacos prescritos sean de calidad,</a:t>
            </a:r>
            <a:br>
              <a:rPr sz="2000"/>
            </a:br>
            <a:r>
              <a:rPr b="1" lang="en-US" sz="2000" spc="-1" strike="noStrike">
                <a:solidFill>
                  <a:srgbClr val="17379d"/>
                </a:solidFill>
                <a:latin typeface="Arial"/>
              </a:rPr>
              <a:t>seguros, eficaces y conlleven el menor gasto posible</a:t>
            </a:r>
            <a:r>
              <a:rPr b="0" lang="en-US" sz="1800" spc="-1" strike="noStrike">
                <a:solidFill>
                  <a:srgbClr val="17379d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124000"/>
            <a:ext cx="914400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Evitar la auto prescripción y la prescripción indu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Sesiones fármaco terapéuticas impartidas a los médicos con el objetivo de potenciar la </a:t>
            </a:r>
            <a:r>
              <a:rPr b="1" lang="en-US" sz="2000" spc="-1" strike="noStrike">
                <a:solidFill>
                  <a:srgbClr val="17379d"/>
                </a:solidFill>
                <a:latin typeface="Arial"/>
              </a:rPr>
              <a:t>formación continuada</a:t>
            </a: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Actividad de </a:t>
            </a:r>
            <a:r>
              <a:rPr b="1" lang="en-US" sz="2000" spc="-1" strike="noStrike">
                <a:solidFill>
                  <a:srgbClr val="17379d"/>
                </a:solidFill>
                <a:latin typeface="Arial"/>
              </a:rPr>
              <a:t>comisiones </a:t>
            </a: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de Uso Racional del Medic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Edición de </a:t>
            </a:r>
            <a:r>
              <a:rPr b="1" lang="en-US" sz="2000" spc="-1" strike="noStrike">
                <a:solidFill>
                  <a:srgbClr val="17379d"/>
                </a:solidFill>
                <a:latin typeface="Arial"/>
              </a:rPr>
              <a:t>Boletines de información </a:t>
            </a: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sobre medicamentos que se hacen llegar a todos los profes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Elaboración de </a:t>
            </a:r>
            <a:r>
              <a:rPr b="1" lang="en-US" sz="2000" spc="-1" strike="noStrike">
                <a:solidFill>
                  <a:srgbClr val="17379d"/>
                </a:solidFill>
                <a:latin typeface="Arial"/>
              </a:rPr>
              <a:t>Guías fármaco</a:t>
            </a: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 terapéuticas y </a:t>
            </a:r>
            <a:r>
              <a:rPr b="1" lang="en-US" sz="2000" spc="-1" strike="noStrike">
                <a:solidFill>
                  <a:srgbClr val="17379d"/>
                </a:solidFill>
                <a:latin typeface="Arial"/>
              </a:rPr>
              <a:t>protoc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737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9d"/>
                </a:solidFill>
                <a:latin typeface="Arial"/>
              </a:rPr>
              <a:t>Elaboración de </a:t>
            </a:r>
            <a:r>
              <a:rPr b="1" lang="en-US" sz="2000" spc="-1" strike="noStrike">
                <a:solidFill>
                  <a:srgbClr val="17379d"/>
                </a:solidFill>
                <a:latin typeface="Arial"/>
              </a:rPr>
              <a:t>Perfiles fármaco terapéu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4720" y="6354720"/>
            <a:ext cx="6299280" cy="503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 de May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90880" y="6343560"/>
            <a:ext cx="65700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20:58:08Z</dcterms:created>
  <dc:creator>Administrador</dc:creator>
  <dc:description/>
  <dc:language>en-US</dc:language>
  <cp:lastModifiedBy>C.P.C.E.C.A.B.A.</cp:lastModifiedBy>
  <dcterms:modified xsi:type="dcterms:W3CDTF">2006-05-04T22:39:56Z</dcterms:modified>
  <cp:revision>145</cp:revision>
  <dc:subject/>
  <dc:title>Diapositiva 1</dc:title>
</cp:coreProperties>
</file>