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216920" y="0"/>
            <a:ext cx="1931760" cy="9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9000" y="6656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13120" y="1379160"/>
            <a:ext cx="5330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erramientas para una gestión efectiva en Salu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469800"/>
            <a:ext cx="76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3° Jornada de Administración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3800520" cy="576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9440" y="4795920"/>
            <a:ext cx="52545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ablero de control en la era de la información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89440" y="6008760"/>
            <a:ext cx="5254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ra. Marisa Silvina Sori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52600" y="1217520"/>
            <a:ext cx="81532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8520" y="227160"/>
            <a:ext cx="78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nstrucción del tab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2200" y="1217520"/>
            <a:ext cx="84978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tablero de control debería incluir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ntética: poca pero bu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ultifacética: desde distintas óp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tendencias: ver películas no fotograf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mostrar los desvíos por ex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debe ayudar a anticiparnos a los problemas, permitiéndonos adelantar acciones corre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23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52600" y="1217520"/>
            <a:ext cx="81532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6240" y="227160"/>
            <a:ext cx="80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nstrucción del tab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8520" y="1217520"/>
            <a:ext cx="84214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n generar de manera perió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que incluir análisis y conclu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 principales ventajas son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caliza en la visión 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bina el éxito actual y fu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luye factores internos y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6" dur="1" fill="hold"/>
                                  <p:tgtEl>
                                    <p:spTgt spid="2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52600" y="1217520"/>
            <a:ext cx="81532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6240" y="227160"/>
            <a:ext cx="80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nstrucción del tab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0360" y="1228680"/>
            <a:ext cx="838512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medir el cumplimiento de los objetivos que surgieron del plan estraté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mplir los objetivos nos acercan a las metas, las cu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criben lo que aspiramos a conseguir (estados o result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on medibles pero proveen dirección o sen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ocalizan en los fines mas que en los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52600" y="1217520"/>
            <a:ext cx="81532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6240" y="227160"/>
            <a:ext cx="80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nstrucción del tab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0360" y="923760"/>
            <a:ext cx="838512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168120" indent="-168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objetivos pueden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960" indent="-26532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procesos: especifican los medios para llegar a los objetivos (proveer, servir, capacitar, implement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960" indent="-26532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resultados: fijan el fin a ser conseguido (aumentar, reducir, disminuir, mejor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s objetivos, a ser medidos por el tablero, deben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960" indent="-2653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960" indent="-2653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960" indent="-2653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960" indent="-2653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nsu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960" indent="-2653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un límite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25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87000" y="1152360"/>
            <a:ext cx="8358120" cy="546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formación contable es insuficiente para la gestión del negocio de salud y apar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contemplan la necesidad de inno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considera la información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fieren al pasado y son est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5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salud creciente en todo 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 demanda del público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remento de la tecnología aplicada (nuevos equipos de diagnóstico, nuevos procedimientos y nuevas dro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remento de la expectativa de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2200" y="22716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rincipales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7000" y="1298520"/>
            <a:ext cx="8358120" cy="532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existencia de un marco regulatorio para e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jo nivel de automatización de la captura de las prestaciones médicas, con volúmenes millonarios de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dificación específica in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quemas de contratación diferentes por zonas y tipo de pre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2200" y="22716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rincipales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21840" y="1303200"/>
            <a:ext cx="844236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jo nivel de profesionalización de las empresas de salud e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an cantidad de procesos informales, altamente visuales y con una importante manipulación de pap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icultades serias a la hora de comparar la información de diferentes Compañ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2200" y="22716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rincipales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d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7" dur="1" fill="hold"/>
                                  <p:tgtEl>
                                    <p:spTgt spid="2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21840" y="1228320"/>
            <a:ext cx="82724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Planes médicos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el principal producto que comercializan las empresas de medicina prepaga, el que permite a sus clientes (asociados)  acceder a una amplia cobertura médico  asistencial pagando una cuota mens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bertura asistencial  (Plan) incluye un conjunto de prestaciones, un conjunto de prestadores con un esquema de normas para acceder al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6240" y="0"/>
            <a:ext cx="69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spectiva del cliente, definición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9" dur="1" fill="hold"/>
                                  <p:tgtEl>
                                    <p:spTgt spid="2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1840" y="1228320"/>
            <a:ext cx="8651880" cy="531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staciones mínimas a incluir en cada producto (Plan) son las incluidas en el  “Plan médico obligatorio” (P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otros productos menos desarrollados, que no serán objeto de esta ch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s médico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hequeos mé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mpañas de vacunación, cobertura de even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bertura de personas en tránsito, segur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unos de estos pueden estar incluidos en el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6240" y="0"/>
            <a:ext cx="69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spectiva del cliente, definición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1" dur="1" fill="hold"/>
                                  <p:tgtEl>
                                    <p:spTgt spid="26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73040" y="1152000"/>
            <a:ext cx="8145360" cy="546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incremento de clientes y la retención de los mi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uevos clientes generados por los diferentes canales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quisición de clientes (carteras, socie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cimiento vegetativo de la car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tención de clientes y  gestión de b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ecio de venta o cuota por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íneas de produc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z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tisfacción de lo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ntabilidad de lo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6240" y="0"/>
            <a:ext cx="69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spectiva del cliente, indicadores cent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1" dur="1" fill="hold"/>
                                  <p:tgtEl>
                                    <p:spTgt spid="26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3040" y="1303200"/>
            <a:ext cx="815328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62720" indent="-1627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 no será una exposición de “tableros de control”, sino una visión de la necesidad de implementar este tipo de herramientas, en una empres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que comercializa plane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aremos la relación del tablero con la estrategia y algunas premi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do lo que se mide mej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n estrategia no hay tab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obtiene lo que se pr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estrategias fracasan sin lideraz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planeamiento y el control son dos hojas de una misma tij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2200" y="22716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216920" y="0"/>
            <a:ext cx="1931760" cy="93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73040" y="1152000"/>
            <a:ext cx="8145360" cy="546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ntabilidad de los clientes, cualquiera sea su segmentación, está relacionada c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precios de venta o valores de las cuotas (tiene como límite el mercado y lo que los clientes puedan o estén dispuestos a pa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sto méd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fuertemente influenciado por la inflación mé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stos variables de la operación,  aquellos relacionados con las ventas, fácilmente previsibles y de poca relev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 algn="just">
              <a:lnSpc>
                <a:spcPct val="15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otro lado tenemos costos fijos de estructura, a absorber por el volumen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6240" y="0"/>
            <a:ext cx="69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spectiva del cliente, indicadores cent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d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1" dur="1" fill="hold"/>
                                  <p:tgtEl>
                                    <p:spTgt spid="2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2200" y="1228680"/>
            <a:ext cx="8651880" cy="45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9920" indent="-1699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ando grupos que tengan diferentes comportamientos,  a los clientes los podemos agrup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tipo de cliente (corporativos, directos o individuales, obras sociales, afin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tipo de facturación (individual, grup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línea de producto (carti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tipo de cobertura (abiertos, cerrados, diferente cobertura para prestaciones top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zona geo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edad y sex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6240" y="241200"/>
            <a:ext cx="69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spectiva del cliente, seg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3" dur="1" fill="hold"/>
                                  <p:tgtEl>
                                    <p:spTgt spid="2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73040" y="1228680"/>
            <a:ext cx="842472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71720" indent="-1717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remos rentabilidad como precio de venta (cuota por socio o grupo de socios) menos costo méd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rentabilidades se pueden medir combinando de diferentes formas las diferentes segmentaciones que definimos,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710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po de afiliado y 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710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porativos, cuenta, 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710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es, línea,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710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Zona y tipo de afil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710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Zona, tipo de afiliado, cuenta,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710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porativos, edad,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710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6240" y="241200"/>
            <a:ext cx="69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spectiva del cliente, rent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73040" y="1228680"/>
            <a:ext cx="842472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rentabilidades no poseen mayor dificultad que la propia segmentación, la que genera una gran variedad de formas de corte sobre la misma in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 importante es no incluir en el tablero todas las combinaciones posibles, sino sintetizar las que queremos controlar según lo que definimos como objetivo estratég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6240" y="241200"/>
            <a:ext cx="69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spectiva del cliente, rent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46240" y="0"/>
            <a:ext cx="69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spectiva del proceso interno, indicadores cent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5178600" cy="57866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5407200" y="1456920"/>
            <a:ext cx="3736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La gestión del costo médico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foco de esta presen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ceso o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señ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estadores propios, o la integración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d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39" dur="1" fill="hold"/>
                                  <p:tgtEl>
                                    <p:spTgt spid="2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46240" y="227160"/>
            <a:ext cx="63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porque gestiona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19320" y="1000080"/>
            <a:ext cx="5342040" cy="5095800"/>
          </a:xfrm>
          <a:prstGeom prst="upArrow">
            <a:avLst>
              <a:gd name="adj1" fmla="val 51398"/>
              <a:gd name="adj2" fmla="val 371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63640" y="2897280"/>
            <a:ext cx="6051600" cy="8078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o de la ofert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43080" y="3808440"/>
            <a:ext cx="5253120" cy="80784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nvejec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pob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63640" y="4719600"/>
            <a:ext cx="6148440" cy="808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yor demanda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19400" y="5629320"/>
            <a:ext cx="5253120" cy="80784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Mayor expectativa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d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indefinite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0"/>
                            </p:stCondLst>
                            <p:childTnLst>
                              <p:par>
                                <p:cTn id="8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7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9000"/>
                            </p:stCondLst>
                            <p:childTnLst>
                              <p:par>
                                <p:cTn id="8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6240" y="24120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u 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60840" y="1228680"/>
            <a:ext cx="523692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ulatorio: Incluye todas aquellas prestaciones médicas realizadas fuera de una inter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stema de urgencias y emerg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ultas mé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udios de diagnóstico y trata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1000080"/>
            <a:ext cx="3168720" cy="5668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mb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46240" y="24120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u 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54240" y="1228680"/>
            <a:ext cx="584352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nación: Aquellos tratamientos que requieren la hospitalización del paciente en una institución, la misma puede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í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á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irúr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st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quiá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uperación o tercer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000080"/>
            <a:ext cx="3139920" cy="561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mb dir="horz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46240" y="24120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u 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01960" y="1076400"/>
            <a:ext cx="60721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rmacia: Se divide en dos grandes rub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 de farmacias: corresponde al gasto en medicamentos durante la atención ambulatoria en el mayor de los casos generados por la atención medica, o algún tratamiento crónico (descuento del plan o crónicos según  Res 3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medicación especial: para determinadas patologías cubierta por Ley (PMO) al 100% por ejemplos: HIV, oncológica, otras de alto costo y baja incidenc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10402" t="0" r="19233" b="0"/>
          <a:stretch/>
        </p:blipFill>
        <p:spPr>
          <a:xfrm>
            <a:off x="0" y="923760"/>
            <a:ext cx="2739960" cy="5769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mb dir="horz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46240" y="24120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u 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01960" y="1228680"/>
            <a:ext cx="5995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75320" indent="-1753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cunas: Aquellas incluidas en la cobertura, con descuento del  100% o el que corresponda 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dontología: Los diferentes planes odontológicos que el cliente  ha optado a la hora de elegir su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ótesis: Se analiza por separado dada su diversidad, pero en la mayoría de los casos es parte del costo de una internación quirú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2817720" cy="5764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mb dir="horz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1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73040" y="1303200"/>
            <a:ext cx="827244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indar algunos conceptos teóricos que nos ayuden entender la relación entre el tablero y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unciar los principales problemas que se nos presentan a la hora de establecer un tablero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cutir y entender los problemas específicos del Sector Salud, para definir un cuadro de comando integ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8520" y="241200"/>
            <a:ext cx="78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" dur="1" fill="hold"/>
                                  <p:tgtEl>
                                    <p:spTgt spid="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46240" y="317520"/>
            <a:ext cx="59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u 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4960" y="1360440"/>
            <a:ext cx="878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Participación de los conceptos sobre el cost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73040" y="2138400"/>
          <a:ext cx="8196120" cy="41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2138400"/>
                    <a:ext cx="819612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1911240"/>
            <a:ext cx="9143640" cy="4097160"/>
            <a:chOff x="0" y="1911240"/>
            <a:chExt cx="9143640" cy="4097160"/>
          </a:xfrm>
        </p:grpSpPr>
        <p:sp>
          <p:nvSpPr>
            <p:cNvPr id="315" name=""/>
            <p:cNvSpPr/>
            <p:nvPr/>
          </p:nvSpPr>
          <p:spPr>
            <a:xfrm>
              <a:off x="102240" y="1972080"/>
              <a:ext cx="9041400" cy="3955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12560" y="3095640"/>
              <a:ext cx="3070080" cy="26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31840" indent="-23184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Se valorizan las prestaciones medicas utilizadas y las internaciones realiz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Se considera a dicho efecto convenio o contrato que tengo con el prestador medico que realizo la pres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Medimos la correcta valorización de las mismas y s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La responsabilidad es </a:t>
              </a: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del sector encargado de contratacion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34480" y="3095640"/>
              <a:ext cx="286488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buClr>
                  <a:srgbClr val="80808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Es el resultado de las variables anteri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80808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Es el que utilizo para las rentabilid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80808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Se gestiona a través de los dos puntos anteri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74920" y="2333160"/>
              <a:ext cx="2940480" cy="620640"/>
            </a:xfrm>
            <a:custGeom>
              <a:avLst/>
              <a:gdLst>
                <a:gd name="textAreaLeft" fmla="*/ 0 w 2940480"/>
                <a:gd name="textAreaRight" fmla="*/ 2940840 w 2940480"/>
                <a:gd name="textAreaTop" fmla="*/ 0 h 620640"/>
                <a:gd name="textAreaBottom" fmla="*/ 6206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Costo de cada pres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16280" y="2333160"/>
              <a:ext cx="2621880" cy="62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Costo medico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9040" y="1911240"/>
              <a:ext cx="18432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3095640"/>
              <a:ext cx="2880360" cy="26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El cliente tiene acceso a el servic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22200" indent="-32220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Puede ser de manera ambulatoria o a través de una internac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22200" indent="-32220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Medimos las cantidades utilizadas y las relacionamos con los cli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22200" indent="-32220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La responsabilidad de control de esta tasa estaria en el </a:t>
              </a: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sector encargado de gestión med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1080" y="2333160"/>
              <a:ext cx="2940480" cy="620640"/>
            </a:xfrm>
            <a:custGeom>
              <a:avLst/>
              <a:gdLst>
                <a:gd name="textAreaLeft" fmla="*/ 0 w 2940480"/>
                <a:gd name="textAreaRight" fmla="*/ 2940840 w 2940480"/>
                <a:gd name="textAreaTop" fmla="*/ 0 h 620640"/>
                <a:gd name="textAreaBottom" fmla="*/ 6206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Cantidad de prest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760" y="1959120"/>
              <a:ext cx="2139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83440" y="2041920"/>
              <a:ext cx="1832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46240" y="317520"/>
            <a:ext cx="59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Gestión del costo médic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Medición de la tasa de uso y de los valores por pres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39960" y="1779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6560" y="1374840"/>
            <a:ext cx="81504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mos la diferente composición del costo médico, a medir considerando cantidad y precio de las prestació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su vez el costo médico lo podemos desagregar considerando la segmentación que vimos para lo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regunta es que incluir en el tab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quello que decidimos poner foco en el plan estraté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2200" y="241200"/>
            <a:ext cx="65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 y el tabler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5702400" y="4111560"/>
          <a:ext cx="34416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2400" y="4111560"/>
                    <a:ext cx="34416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46240" y="1987560"/>
            <a:ext cx="8727840" cy="3043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0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acumulado a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69920" y="2670120"/>
            <a:ext cx="8727840" cy="28288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2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16240" y="1228680"/>
            <a:ext cx="4781520" cy="49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demos obtener una mayor apertura de los conceptos ambulatorios como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adi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ágenes, TAC y R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erg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copatolog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 prácticas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1000080"/>
            <a:ext cx="3660840" cy="56926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6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8" dur="1" fill="hold"/>
                                  <p:tgtEl>
                                    <p:spTgt spid="34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ambulatorio, proble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6560" y="1374840"/>
            <a:ext cx="81504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jo nivel de automatización de la captura de las prestaciones médicas, con volúmenes millonarios de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dificación específica inadecuada, con tendencia a la duplicación de códi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quemas de contratación diferentes por zonas y tipo de pre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an cantidad de procesos informales, altamente visuales y con una importante manipulación de pap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6" dur="1" fill="hold"/>
                                  <p:tgtEl>
                                    <p:spTgt spid="3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en inter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46240" y="1987560"/>
            <a:ext cx="8727840" cy="34750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en inter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acumulado a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69920" y="1987560"/>
            <a:ext cx="8804160" cy="35067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en inter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92560" y="1228680"/>
            <a:ext cx="47052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demos obtener una mayor apertura de las internaciones como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í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irúr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á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stétricas (partos, cesár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quiá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4040280" cy="5769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9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5" dur="1" fill="hold"/>
                                  <p:tgtEl>
                                    <p:spTgt spid="3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8520" y="1217520"/>
            <a:ext cx="83469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ender la complejidad y casuística de la cobertura médica que brindan las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mpresas financiadoras de salu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 su efecto en la definición de objetivos y medición de lo mi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poner un enfoque de trabajo diferente, con un equipo multidiscipl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strar algunos ejemplos de reportes y tabl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8520" y="241200"/>
            <a:ext cx="78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en inter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13120" y="1228680"/>
            <a:ext cx="50846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77120" indent="-177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demos considerar el tipo de cama ocupada y abrirl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terapia intensiva (con y sin AR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coro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pediá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odina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3586320" cy="5769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4" dur="1" fill="hold"/>
                                  <p:tgtEl>
                                    <p:spTgt spid="3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en internación, proble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6560" y="1374840"/>
            <a:ext cx="81504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dificación específica inadecuada, módulos con diferentes inclusiones y ex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quemas de contratación diferentes por zonas y tipo de pre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xiste un esquema para compartir el riesgo con los prestadores, como por ejemplo el pago por diagnós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an cantidad de procesos informales, altamente visuales y con una importante manipulación de pap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2" dur="1" fill="hold"/>
                                  <p:tgtEl>
                                    <p:spTgt spid="36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de farmacia y vacu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69920" y="1758960"/>
            <a:ext cx="8727840" cy="4402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de farmacia y vacu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acumulado a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46240" y="1911240"/>
            <a:ext cx="8651520" cy="4024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de odontología y pr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69920" y="2062080"/>
            <a:ext cx="8727840" cy="34927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0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de odontología y pr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acumulado a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46240" y="2055960"/>
            <a:ext cx="8651520" cy="33462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3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24120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egmentación del tab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6560" y="1303200"/>
            <a:ext cx="81504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73520" indent="-1735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modelos de de tableros podemos desagregarlos considera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egmentación de cli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5480" indent="-219240">
              <a:lnSpc>
                <a:spcPct val="155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5480" indent="-219240">
              <a:lnSpc>
                <a:spcPct val="155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rporativo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zo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dad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íneas de productos, plan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podemos abrirlo a nivel prestador o efector, para evaluar el costo efectividad o perfil del mismo, lo que denominamos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profy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1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3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1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92" dur="1" fill="hold"/>
                                  <p:tgtEl>
                                    <p:spTgt spid="38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profy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6560" y="1076400"/>
            <a:ext cx="8150400" cy="49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78920" indent="-1789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indicadores están puestos sobre los prestadores médicos, considerando su especialidad, el diagnóstico, y el grupo de pacientes a los que se atienden, se podrá med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28260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ce de recon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28260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sto generado por cada consu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28260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ropiabilidad de la prestación mé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28260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fectividad clínica y diagnó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28260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tilización adecuada de nueva 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28260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busca el compromiso de los prestadores con el sistema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1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3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5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6" dur="1" fill="hold"/>
                                  <p:tgtEl>
                                    <p:spTgt spid="38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profy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560" y="1076400"/>
            <a:ext cx="8355240" cy="49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signar los recursos a quienes verdaderamente lo necesitan, tratando de minimizar los costos evi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 herramienta poco desarrollada en nuestr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tecnologían informática juega un papel vi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ecesitamos de un equipo multidiciplinario: Médicos, Administradores de Salud y profesionales de inform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84" dur="1" fill="hold"/>
                                  <p:tgtEl>
                                    <p:spTgt spid="3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939960" y="1779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6240" y="241200"/>
            <a:ext cx="59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el modelo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98160" y="1000080"/>
            <a:ext cx="8745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flación médica es un problema en el mundo (tecnología, envejecimiento de la población, mayores demandas de la sociedad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estadores ven incrementados sus costo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i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cesidad de acceso a la 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ntos de equilibrio muy al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5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xiste una relación fluida entre efectores y financiadores, que permitan afrontar los inconvenientes de manera conju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7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7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2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7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8520" y="1217520"/>
            <a:ext cx="84358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herramienta que permite la evaluación constante y sistemática  del ente en su conjunto, verificando el grado de cumplimiento de las metas establec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egura el éxito de la estrategia definida  y mantiene su relación con la misión y con las condiciones del medio en que a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 sistema de medición que ayuda a las empresas  administrar mejor la creación de valor en el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8520" y="227160"/>
            <a:ext cx="78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Tablero de control: Defin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939960" y="1779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6240" y="241200"/>
            <a:ext cx="59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el modelo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246240" y="1076040"/>
            <a:ext cx="889776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stro sistema comparativamente con otros países es más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cartillas son muy amplias (problema comer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existen deducibles (problema comercial, cultural, leg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hay topes claros en las pres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opagan las prestaciones (problema comercial, cultural, leg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obertura es superior en la Argentina que en otr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5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mos innovar, como por ejemplo a través de la promoción y pre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ablero es una necesidad para las empresas financi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5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0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0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1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100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0" y="1463760"/>
          <a:ext cx="8897760" cy="46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3760"/>
                    <a:ext cx="889776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5178600" y="11523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compa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151760" y="115236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87680" y="11523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muy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86320" y="1152360"/>
            <a:ext cx="9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6240" y="241200"/>
            <a:ext cx="66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berturas, comparativo entre paí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8480" y="6161040"/>
            <a:ext cx="479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: estudio de coberturas médicas – Mercer Argen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53600" y="1360440"/>
            <a:ext cx="8623080" cy="5107680"/>
            <a:chOff x="453600" y="1360440"/>
            <a:chExt cx="8623080" cy="5107680"/>
          </a:xfrm>
        </p:grpSpPr>
        <p:sp>
          <p:nvSpPr>
            <p:cNvPr id="411" name=""/>
            <p:cNvSpPr/>
            <p:nvPr/>
          </p:nvSpPr>
          <p:spPr>
            <a:xfrm>
              <a:off x="1630440" y="1695600"/>
              <a:ext cx="94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Ambula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67960" y="1695600"/>
              <a:ext cx="825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Inter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64920" y="1876320"/>
              <a:ext cx="1130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Matern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93080" y="1743120"/>
              <a:ext cx="14166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Medicam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en farma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62440" y="1876320"/>
              <a:ext cx="861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Odo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67400" y="1876320"/>
              <a:ext cx="735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Op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05680" y="1695600"/>
              <a:ext cx="13496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Tratamient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preven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420400" y="1876320"/>
              <a:ext cx="656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Ot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1360440"/>
              <a:ext cx="22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obertura Bás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89560" y="1386000"/>
              <a:ext cx="43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obertura Adi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68000" y="5697360"/>
              <a:ext cx="8520480" cy="287280"/>
              <a:chOff x="468000" y="5697360"/>
              <a:chExt cx="8520480" cy="287280"/>
            </a:xfrm>
          </p:grpSpPr>
          <p:sp>
            <p:nvSpPr>
              <p:cNvPr id="422" name=""/>
              <p:cNvSpPr/>
              <p:nvPr/>
            </p:nvSpPr>
            <p:spPr>
              <a:xfrm>
                <a:off x="468000" y="5717880"/>
                <a:ext cx="128376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Puerto Ri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1805040" y="5697360"/>
                <a:ext cx="7183440" cy="287280"/>
                <a:chOff x="1805040" y="5697360"/>
                <a:chExt cx="7183440" cy="2872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805040" y="5697360"/>
                  <a:ext cx="8319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562480" y="569736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318120" y="5697360"/>
                  <a:ext cx="1135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375440" y="5697360"/>
                  <a:ext cx="12855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586480" y="5697360"/>
                  <a:ext cx="9828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492960" y="5697360"/>
                  <a:ext cx="7574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74080" y="5697360"/>
                  <a:ext cx="11332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231400" y="5697360"/>
                  <a:ext cx="757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2" name=""/>
            <p:cNvSpPr/>
            <p:nvPr/>
          </p:nvSpPr>
          <p:spPr>
            <a:xfrm>
              <a:off x="4495680" y="1693800"/>
              <a:ext cx="445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684000" y="2219400"/>
              <a:ext cx="8331480" cy="287280"/>
              <a:chOff x="684000" y="2219400"/>
              <a:chExt cx="8331480" cy="28728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1832040" y="2219400"/>
                <a:ext cx="7183440" cy="287280"/>
                <a:chOff x="1832040" y="2219400"/>
                <a:chExt cx="7183440" cy="2872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1832040" y="2219400"/>
                  <a:ext cx="8319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589480" y="221940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345120" y="2219400"/>
                  <a:ext cx="1135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402440" y="2219400"/>
                  <a:ext cx="12855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613480" y="2219400"/>
                  <a:ext cx="9828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519960" y="2219400"/>
                  <a:ext cx="7574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201080" y="2219400"/>
                  <a:ext cx="11332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258400" y="2219400"/>
                  <a:ext cx="757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684000" y="2240280"/>
                <a:ext cx="106740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Argen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116000" y="2786040"/>
              <a:ext cx="5403960" cy="287280"/>
              <a:chOff x="1116000" y="2786040"/>
              <a:chExt cx="5403960" cy="28728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1832040" y="2786040"/>
                <a:ext cx="4687920" cy="287280"/>
                <a:chOff x="1832040" y="2786040"/>
                <a:chExt cx="4687920" cy="2872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832040" y="2786040"/>
                  <a:ext cx="8319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589480" y="278604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345120" y="2786040"/>
                  <a:ext cx="1135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688000" y="2786040"/>
                  <a:ext cx="8319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1116000" y="2806560"/>
                <a:ext cx="63468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Brasi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191600" y="3354480"/>
              <a:ext cx="6084720" cy="287280"/>
              <a:chOff x="1191600" y="3354480"/>
              <a:chExt cx="6084720" cy="28728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1831680" y="3354480"/>
                <a:ext cx="5444640" cy="287280"/>
                <a:chOff x="1831680" y="3354480"/>
                <a:chExt cx="5444640" cy="2872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831680" y="335448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588760" y="3354480"/>
                  <a:ext cx="8312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344400" y="3354480"/>
                  <a:ext cx="11347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01720" y="3354480"/>
                  <a:ext cx="12852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612760" y="3354480"/>
                  <a:ext cx="9824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19240" y="3354480"/>
                  <a:ext cx="757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1191600" y="3375000"/>
                <a:ext cx="56016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Ch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08480" y="3922560"/>
              <a:ext cx="7549560" cy="358200"/>
              <a:chOff x="708480" y="3922560"/>
              <a:chExt cx="7549560" cy="3582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1831680" y="3922560"/>
                <a:ext cx="6426360" cy="358200"/>
                <a:chOff x="1831680" y="3922560"/>
                <a:chExt cx="6426360" cy="3582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831680" y="3993840"/>
                  <a:ext cx="831960" cy="286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589120" y="3993840"/>
                  <a:ext cx="831600" cy="286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344760" y="3993840"/>
                  <a:ext cx="1135080" cy="286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200720" y="3922560"/>
                  <a:ext cx="1057320" cy="286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708480" y="3979800"/>
                <a:ext cx="104328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Colomb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976320" y="4560840"/>
              <a:ext cx="4788000" cy="287280"/>
              <a:chOff x="976320" y="4560840"/>
              <a:chExt cx="4788000" cy="28728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1832040" y="4560840"/>
                <a:ext cx="3932280" cy="287280"/>
                <a:chOff x="1832040" y="4560840"/>
                <a:chExt cx="3932280" cy="2872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832040" y="4560840"/>
                  <a:ext cx="8319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589480" y="4560840"/>
                  <a:ext cx="9079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421080" y="4560840"/>
                  <a:ext cx="1135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480200" y="4560840"/>
                  <a:ext cx="12841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976320" y="4581360"/>
                <a:ext cx="77508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Mexi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633240" y="5129280"/>
              <a:ext cx="8381880" cy="287280"/>
              <a:chOff x="633240" y="5129280"/>
              <a:chExt cx="8381880" cy="28728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1831680" y="5129280"/>
                <a:ext cx="7183440" cy="287280"/>
                <a:chOff x="1831680" y="5129280"/>
                <a:chExt cx="7183440" cy="2872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831680" y="5129280"/>
                  <a:ext cx="8319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589120" y="512928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344760" y="5129280"/>
                  <a:ext cx="1135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402080" y="5129280"/>
                  <a:ext cx="12855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613120" y="5129280"/>
                  <a:ext cx="9828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519600" y="5129280"/>
                  <a:ext cx="7574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200720" y="5129280"/>
                  <a:ext cx="11332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258040" y="5129280"/>
                  <a:ext cx="757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633240" y="5150160"/>
                <a:ext cx="111780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Venezue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453600" y="6161040"/>
              <a:ext cx="483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Fuente: estudio de coberturas médicas – Mercer Argen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246240" y="241200"/>
            <a:ext cx="66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berturas, comparativo entre paí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2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24120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Financiamiento, comparativo entre paí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642960" y="1228680"/>
          <a:ext cx="8102520" cy="4660920"/>
        </p:xfrm>
        <a:graphic>
          <a:graphicData uri="http://schemas.openxmlformats.org/drawingml/2006/table">
            <a:tbl>
              <a:tblPr/>
              <a:tblGrid>
                <a:gridCol w="2700360"/>
                <a:gridCol w="2701800"/>
                <a:gridCol w="270036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í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mbul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ern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Bra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Venezu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0% hasta t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é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$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Estados Unid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0% + $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$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anad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$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It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0% en GP, €36 re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661680" y="6116760"/>
            <a:ext cx="483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: estudio de coberturas médicas – Mercer Argen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69920" y="241200"/>
            <a:ext cx="67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Inflación médica, Estados Un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398520" y="1228680"/>
          <a:ext cx="811692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228680"/>
                    <a:ext cx="811692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340200" y="6227640"/>
            <a:ext cx="57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: encuesta de Salud Corporativa Mercer 2005 – Estados Un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57720" y="2214720"/>
            <a:ext cx="2438280" cy="1608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1542960"/>
            <a:ext cx="9144000" cy="3583080"/>
          </a:xfrm>
          <a:prstGeom prst="rect">
            <a:avLst/>
          </a:prstGeom>
          <a:solidFill>
            <a:srgbClr val="66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89440" y="3049560"/>
            <a:ext cx="5254560" cy="2048040"/>
          </a:xfrm>
          <a:prstGeom prst="rect">
            <a:avLst/>
          </a:prstGeom>
          <a:solidFill>
            <a:srgbClr val="66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6200000">
            <a:off x="1425600" y="3835080"/>
            <a:ext cx="1103400" cy="3684600"/>
          </a:xfrm>
          <a:custGeom>
            <a:avLst/>
            <a:gdLst>
              <a:gd name="textAreaLeft" fmla="*/ 0 w 1103400"/>
              <a:gd name="textAreaRight" fmla="*/ 1103760 w 1103400"/>
              <a:gd name="textAreaTop" fmla="*/ 0 h 3684600"/>
              <a:gd name="textAreaBottom" fmla="*/ 3684960 h 368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7f0ae"/>
                </a:solidFill>
                <a:latin typeface="Arial Black"/>
              </a:rPr>
              <a:t>Promo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6200000">
            <a:off x="4656960" y="4369320"/>
            <a:ext cx="1103400" cy="2616120"/>
          </a:xfrm>
          <a:custGeom>
            <a:avLst/>
            <a:gdLst>
              <a:gd name="textAreaLeft" fmla="*/ 0 w 1103400"/>
              <a:gd name="textAreaRight" fmla="*/ 1103760 w 1103400"/>
              <a:gd name="textAreaTop" fmla="*/ 0 h 2616120"/>
              <a:gd name="textAreaBottom" fmla="*/ 2616480 h 261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Arial Black"/>
              </a:rPr>
              <a:t>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7308720" y="4394160"/>
            <a:ext cx="1077840" cy="25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cc00"/>
                </a:solidFill>
                <a:latin typeface="Arial"/>
              </a:rPr>
              <a:t>Tra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42800" y="301140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Bajo 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545160" y="4235400"/>
            <a:ext cx="259884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8920" y="1682640"/>
            <a:ext cx="13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9920" y="241200"/>
            <a:ext cx="67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Tendencia, promoción y preven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469200" y="4340160"/>
            <a:ext cx="2674800" cy="580680"/>
            <a:chOff x="6469200" y="4340160"/>
            <a:chExt cx="2674800" cy="580680"/>
          </a:xfrm>
        </p:grpSpPr>
        <p:sp>
          <p:nvSpPr>
            <p:cNvPr id="508" name=""/>
            <p:cNvSpPr/>
            <p:nvPr/>
          </p:nvSpPr>
          <p:spPr>
            <a:xfrm>
              <a:off x="7683480" y="4340160"/>
              <a:ext cx="1460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nferme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cró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69200" y="4340160"/>
              <a:ext cx="136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nferme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gu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500"/>
                            </p:stCondLst>
                            <p:childTnLst>
                              <p:par>
                                <p:cTn id="18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500"/>
                            </p:stCondLst>
                            <p:childTnLst>
                              <p:par>
                                <p:cTn id="1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69920" y="241200"/>
            <a:ext cx="67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6560" y="1303200"/>
            <a:ext cx="81504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o de los costos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ecesidad de limitar o copagar las coberturas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ortancia de mejorar la relación entre financiadores y efectores o pr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quipo multidiciplinario como centro de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ablero es el medio para la supervivencia de las empresas con el sistema 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dencias a la promoción y pre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62" dur="1" fill="hold"/>
                                  <p:tgtEl>
                                    <p:spTgt spid="5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239920" y="1387440"/>
            <a:ext cx="4608720" cy="47116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920" y="241200"/>
            <a:ext cx="67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9920" y="241200"/>
            <a:ext cx="67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54240" y="2517840"/>
            <a:ext cx="29606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chas Grac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370240" y="3732120"/>
            <a:ext cx="44020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ra. Marisa Silvina S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u"/>
  </p:transition>
  <p:timing>
    <p:tnLst>
      <p:par>
        <p:cTn id="1977" dur="indefinite" restart="never" nodeType="tmRoot">
          <p:childTnLst>
            <p:seq>
              <p:cTn id="1978" dur="indefinite" nodeType="mainSeq">
                <p:childTnLst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8520" y="1217520"/>
            <a:ext cx="84358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no puedes medirlo, no puedes gestion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s empresas han de sobrevivir y prosperar en la competencia de la era de la información, han de utilizar sistemas de medición y de gestión derivado de sus estrategias y su capa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uadro de mando integral proporciona a los ejecutivos un amplio marco que traduce la misión, visión y estrategia de la empresa, en un conjunto coherente de indicadores de ac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2200" y="22716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Tablero de control: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473040" y="1217520"/>
            <a:ext cx="8153280" cy="4710240"/>
            <a:chOff x="473040" y="1217520"/>
            <a:chExt cx="8153280" cy="4710240"/>
          </a:xfrm>
        </p:grpSpPr>
        <p:sp>
          <p:nvSpPr>
            <p:cNvPr id="65" name=""/>
            <p:cNvSpPr/>
            <p:nvPr/>
          </p:nvSpPr>
          <p:spPr>
            <a:xfrm>
              <a:off x="473040" y="1217520"/>
              <a:ext cx="8153280" cy="47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81080" indent="-181080">
                <a:lnSpc>
                  <a:spcPct val="155000"/>
                </a:lnSpc>
                <a:spcBef>
                  <a:spcPts val="49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55000"/>
                </a:lnSpc>
                <a:spcBef>
                  <a:spcPts val="49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480" y="2865600"/>
              <a:ext cx="3616200" cy="1863720"/>
            </a:xfrm>
            <a:prstGeom prst="rightArrow">
              <a:avLst>
                <a:gd name="adj1" fmla="val 89435"/>
                <a:gd name="adj2" fmla="val 3577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strate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443000">
              <a:off x="2212200" y="2734920"/>
              <a:ext cx="1323720" cy="837000"/>
            </a:xfrm>
            <a:prstGeom prst="rightArrow">
              <a:avLst>
                <a:gd name="adj1" fmla="val 70028"/>
                <a:gd name="adj2" fmla="val 4708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450200">
              <a:off x="792000" y="2735280"/>
              <a:ext cx="1322280" cy="836640"/>
            </a:xfrm>
            <a:prstGeom prst="rightArrow">
              <a:avLst>
                <a:gd name="adj1" fmla="val 70028"/>
                <a:gd name="adj2" fmla="val 47055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931200">
              <a:off x="2663640" y="3792600"/>
              <a:ext cx="1284120" cy="1022400"/>
            </a:xfrm>
            <a:prstGeom prst="rightArrow">
              <a:avLst>
                <a:gd name="adj1" fmla="val 70028"/>
                <a:gd name="adj2" fmla="val 3739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879200">
              <a:off x="792000" y="4032360"/>
              <a:ext cx="1322280" cy="836640"/>
            </a:xfrm>
            <a:prstGeom prst="rightArrow">
              <a:avLst>
                <a:gd name="adj1" fmla="val 70028"/>
                <a:gd name="adj2" fmla="val 47055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97080" y="2738520"/>
              <a:ext cx="3618000" cy="1863720"/>
            </a:xfrm>
            <a:prstGeom prst="rightArrow">
              <a:avLst>
                <a:gd name="adj1" fmla="val 89435"/>
                <a:gd name="adj2" fmla="val 3578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strate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80000" y="2746440"/>
              <a:ext cx="1324080" cy="836640"/>
            </a:xfrm>
            <a:prstGeom prst="rightArrow">
              <a:avLst>
                <a:gd name="adj1" fmla="val 70028"/>
                <a:gd name="adj2" fmla="val 47119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60880" y="2746440"/>
              <a:ext cx="1320840" cy="836640"/>
            </a:xfrm>
            <a:prstGeom prst="rightArrow">
              <a:avLst>
                <a:gd name="adj1" fmla="val 70028"/>
                <a:gd name="adj2" fmla="val 4700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80000" y="3878280"/>
              <a:ext cx="1324080" cy="836640"/>
            </a:xfrm>
            <a:prstGeom prst="rightArrow">
              <a:avLst>
                <a:gd name="adj1" fmla="val 70028"/>
                <a:gd name="adj2" fmla="val 47119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60880" y="3878280"/>
              <a:ext cx="1320840" cy="836640"/>
            </a:xfrm>
            <a:prstGeom prst="rightArrow">
              <a:avLst>
                <a:gd name="adj1" fmla="val 70028"/>
                <a:gd name="adj2" fmla="val 4700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73400" y="1995480"/>
              <a:ext cx="3557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Estado esperado a la hora de diseñar el tablero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4480" y="1963800"/>
              <a:ext cx="3251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Estado anterior al planeamiento estraté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98520" y="24120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Alineando las estraté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cover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92040" y="1219320"/>
            <a:ext cx="8272440" cy="5311800"/>
            <a:chOff x="392040" y="1219320"/>
            <a:chExt cx="8272440" cy="5311800"/>
          </a:xfrm>
        </p:grpSpPr>
        <p:sp>
          <p:nvSpPr>
            <p:cNvPr id="81" name=""/>
            <p:cNvSpPr/>
            <p:nvPr/>
          </p:nvSpPr>
          <p:spPr>
            <a:xfrm>
              <a:off x="406440" y="1219320"/>
              <a:ext cx="8258040" cy="531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040" y="1219320"/>
              <a:ext cx="8244000" cy="529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20840" y="1246320"/>
              <a:ext cx="8243640" cy="525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5400" y="3581280"/>
              <a:ext cx="1138320" cy="68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Cuadr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Mando Integ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62280" y="1986120"/>
              <a:ext cx="174492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larando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raduciendo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isión y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strate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60840" y="4567320"/>
              <a:ext cx="174456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lanificación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stabl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 obje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07200" y="3276720"/>
              <a:ext cx="174456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stratégico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6280" y="3276720"/>
              <a:ext cx="174456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munican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inculan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 rot="19568400">
              <a:off x="5557320" y="2062080"/>
              <a:ext cx="608040" cy="1103400"/>
            </a:xfrm>
            <a:custGeom>
              <a:avLst/>
              <a:gdLst>
                <a:gd name="textAreaLeft" fmla="*/ 81360 w 608040"/>
                <a:gd name="textAreaRight" fmla="*/ 526680 w 608040"/>
                <a:gd name="textAreaTop" fmla="*/ 209160 h 1103400"/>
                <a:gd name="textAreaBottom" fmla="*/ 776160 h 11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196" stAng="-5400000" swAng="5400000"/>
                  <a:lnTo>
                    <a:pt x="21600" y="11092"/>
                  </a:lnTo>
                  <a:arcTo wR="21600" hR="8196" stAng="0" swAng="2821378"/>
                  <a:lnTo>
                    <a:pt x="7200" y="21131"/>
                  </a:lnTo>
                  <a:lnTo>
                    <a:pt x="0" y="17840"/>
                  </a:lnTo>
                  <a:lnTo>
                    <a:pt x="7200" y="13611"/>
                  </a:lnTo>
                  <a:lnTo>
                    <a:pt x="7200" y="15923"/>
                  </a:lnTo>
                  <a:arcTo wR="21600" hR="8196" stAng="2821378" swAng="-2587600"/>
                  <a:lnTo>
                    <a:pt x="21260" y="9644"/>
                  </a:lnTo>
                  <a:arcTo wR="21600" hR="8196" stAng="-233778" swAng="-5166222"/>
                  <a:close/>
                </a:path>
                <a:path fill="darkenLess" w="21600" h="21600">
                  <a:moveTo>
                    <a:pt x="0" y="0"/>
                  </a:moveTo>
                  <a:arcTo wR="21600" hR="8196" stAng="-5400000" swAng="5400000"/>
                  <a:lnTo>
                    <a:pt x="21600" y="11092"/>
                  </a:lnTo>
                  <a:arcTo wR="21600" hR="8196" stAng="0" swAng="-233778"/>
                  <a:lnTo>
                    <a:pt x="21260" y="9644"/>
                  </a:lnTo>
                  <a:arcTo wR="21600" hR="8196" stAng="-233778" swAng="-5166222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 rot="13518600">
              <a:off x="2730240" y="2194920"/>
              <a:ext cx="607680" cy="1103400"/>
            </a:xfrm>
            <a:custGeom>
              <a:avLst/>
              <a:gdLst>
                <a:gd name="textAreaLeft" fmla="*/ 81360 w 607680"/>
                <a:gd name="textAreaRight" fmla="*/ 526320 w 607680"/>
                <a:gd name="textAreaTop" fmla="*/ 209160 h 1103400"/>
                <a:gd name="textAreaBottom" fmla="*/ 776160 h 11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196" stAng="-5400000" swAng="5400000"/>
                  <a:lnTo>
                    <a:pt x="21600" y="11092"/>
                  </a:lnTo>
                  <a:arcTo wR="21600" hR="8196" stAng="0" swAng="2821378"/>
                  <a:lnTo>
                    <a:pt x="7200" y="21131"/>
                  </a:lnTo>
                  <a:lnTo>
                    <a:pt x="0" y="17840"/>
                  </a:lnTo>
                  <a:lnTo>
                    <a:pt x="7200" y="13611"/>
                  </a:lnTo>
                  <a:lnTo>
                    <a:pt x="7200" y="15923"/>
                  </a:lnTo>
                  <a:arcTo wR="21600" hR="8196" stAng="2821378" swAng="-2587600"/>
                  <a:lnTo>
                    <a:pt x="21260" y="9644"/>
                  </a:lnTo>
                  <a:arcTo wR="21600" hR="8196" stAng="-233778" swAng="-5166222"/>
                  <a:close/>
                </a:path>
                <a:path fill="darkenLess" w="21600" h="21600">
                  <a:moveTo>
                    <a:pt x="0" y="0"/>
                  </a:moveTo>
                  <a:arcTo wR="21600" hR="8196" stAng="-5400000" swAng="5400000"/>
                  <a:lnTo>
                    <a:pt x="21600" y="11092"/>
                  </a:lnTo>
                  <a:arcTo wR="21600" hR="8196" stAng="0" swAng="-233778"/>
                  <a:lnTo>
                    <a:pt x="21260" y="9644"/>
                  </a:lnTo>
                  <a:arcTo wR="21600" hR="8196" stAng="-233778" swAng="-5166222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 rot="8685000">
              <a:off x="2901600" y="4642560"/>
              <a:ext cx="608040" cy="1103400"/>
            </a:xfrm>
            <a:custGeom>
              <a:avLst/>
              <a:gdLst>
                <a:gd name="textAreaLeft" fmla="*/ 81360 w 608040"/>
                <a:gd name="textAreaRight" fmla="*/ 526680 w 608040"/>
                <a:gd name="textAreaTop" fmla="*/ 209160 h 1103400"/>
                <a:gd name="textAreaBottom" fmla="*/ 776160 h 11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196" stAng="-5400000" swAng="5400000"/>
                  <a:lnTo>
                    <a:pt x="21600" y="11092"/>
                  </a:lnTo>
                  <a:arcTo wR="21600" hR="8196" stAng="0" swAng="2821378"/>
                  <a:lnTo>
                    <a:pt x="7200" y="21131"/>
                  </a:lnTo>
                  <a:lnTo>
                    <a:pt x="0" y="17840"/>
                  </a:lnTo>
                  <a:lnTo>
                    <a:pt x="7200" y="13611"/>
                  </a:lnTo>
                  <a:lnTo>
                    <a:pt x="7200" y="15923"/>
                  </a:lnTo>
                  <a:arcTo wR="21600" hR="8196" stAng="2821378" swAng="-2587600"/>
                  <a:lnTo>
                    <a:pt x="21260" y="9644"/>
                  </a:lnTo>
                  <a:arcTo wR="21600" hR="8196" stAng="-233778" swAng="-5166222"/>
                  <a:close/>
                </a:path>
                <a:path fill="darkenLess" w="21600" h="21600">
                  <a:moveTo>
                    <a:pt x="0" y="0"/>
                  </a:moveTo>
                  <a:arcTo wR="21600" hR="8196" stAng="-5400000" swAng="5400000"/>
                  <a:lnTo>
                    <a:pt x="21600" y="11092"/>
                  </a:lnTo>
                  <a:arcTo wR="21600" hR="8196" stAng="0" swAng="-233778"/>
                  <a:lnTo>
                    <a:pt x="21260" y="9644"/>
                  </a:lnTo>
                  <a:arcTo wR="21600" hR="8196" stAng="-233778" swAng="-5166222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3107400">
              <a:off x="5730480" y="4471200"/>
              <a:ext cx="608040" cy="1103400"/>
            </a:xfrm>
            <a:custGeom>
              <a:avLst/>
              <a:gdLst>
                <a:gd name="textAreaLeft" fmla="*/ 81360 w 608040"/>
                <a:gd name="textAreaRight" fmla="*/ 526680 w 608040"/>
                <a:gd name="textAreaTop" fmla="*/ 209160 h 1103400"/>
                <a:gd name="textAreaBottom" fmla="*/ 776160 h 11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196" stAng="-5400000" swAng="5400000"/>
                  <a:lnTo>
                    <a:pt x="21600" y="11092"/>
                  </a:lnTo>
                  <a:arcTo wR="21600" hR="8196" stAng="0" swAng="2821378"/>
                  <a:lnTo>
                    <a:pt x="7200" y="21131"/>
                  </a:lnTo>
                  <a:lnTo>
                    <a:pt x="0" y="17840"/>
                  </a:lnTo>
                  <a:lnTo>
                    <a:pt x="7200" y="13611"/>
                  </a:lnTo>
                  <a:lnTo>
                    <a:pt x="7200" y="15923"/>
                  </a:lnTo>
                  <a:arcTo wR="21600" hR="8196" stAng="2821378" swAng="-2587600"/>
                  <a:lnTo>
                    <a:pt x="21260" y="9644"/>
                  </a:lnTo>
                  <a:arcTo wR="21600" hR="8196" stAng="-233778" swAng="-5166222"/>
                  <a:close/>
                </a:path>
                <a:path fill="darkenLess" w="21600" h="21600">
                  <a:moveTo>
                    <a:pt x="0" y="0"/>
                  </a:moveTo>
                  <a:arcTo wR="21600" hR="8196" stAng="-5400000" swAng="5400000"/>
                  <a:lnTo>
                    <a:pt x="21600" y="11092"/>
                  </a:lnTo>
                  <a:arcTo wR="21600" hR="8196" stAng="0" swAng="-233778"/>
                  <a:lnTo>
                    <a:pt x="21260" y="9644"/>
                  </a:lnTo>
                  <a:arcTo wR="21600" hR="8196" stAng="-233778" swAng="-5166222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9720" y="3276720"/>
              <a:ext cx="245880" cy="303120"/>
            </a:xfrm>
            <a:prstGeom prst="upArrow">
              <a:avLst>
                <a:gd name="adj1" fmla="val 50000"/>
                <a:gd name="adj2" fmla="val 3082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4419000" y="4264200"/>
              <a:ext cx="245880" cy="303120"/>
            </a:xfrm>
            <a:prstGeom prst="upArrow">
              <a:avLst>
                <a:gd name="adj1" fmla="val 50000"/>
                <a:gd name="adj2" fmla="val 3082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 rot="16200000">
              <a:off x="5131440" y="3808080"/>
              <a:ext cx="246240" cy="303480"/>
            </a:xfrm>
            <a:prstGeom prst="upArrow">
              <a:avLst>
                <a:gd name="adj1" fmla="val 50000"/>
                <a:gd name="adj2" fmla="val 3081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5400000">
              <a:off x="3690720" y="3835800"/>
              <a:ext cx="245880" cy="303120"/>
            </a:xfrm>
            <a:prstGeom prst="upArrow">
              <a:avLst>
                <a:gd name="adj1" fmla="val 50000"/>
                <a:gd name="adj2" fmla="val 3082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5520" y="1303200"/>
              <a:ext cx="74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* La estrategia es el punto de referencia para todo el proceso de 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96000" y="1608120"/>
              <a:ext cx="653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* La visión compartida es la base para la formación estratég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8520" y="241200"/>
            <a:ext cx="78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uadro de mando integ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46240" y="1004400"/>
            <a:ext cx="8826840" cy="5917320"/>
            <a:chOff x="246240" y="1004400"/>
            <a:chExt cx="8826840" cy="5917320"/>
          </a:xfrm>
        </p:grpSpPr>
        <p:sp>
          <p:nvSpPr>
            <p:cNvPr id="102" name=""/>
            <p:cNvSpPr/>
            <p:nvPr/>
          </p:nvSpPr>
          <p:spPr>
            <a:xfrm flipH="1">
              <a:off x="1491840" y="2795760"/>
              <a:ext cx="124164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82680" y="1154160"/>
              <a:ext cx="3654720" cy="91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9800" y="3583080"/>
              <a:ext cx="896760" cy="78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46560" y="2401920"/>
              <a:ext cx="1932120" cy="393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46560" y="3124080"/>
              <a:ext cx="2000520" cy="2363760"/>
            </a:xfrm>
            <a:custGeom>
              <a:avLst/>
              <a:gdLst>
                <a:gd name="textAreaLeft" fmla="*/ 49320 w 2000520"/>
                <a:gd name="textAreaRight" fmla="*/ 1951200 w 2000520"/>
                <a:gd name="textAreaTop" fmla="*/ 49320 h 2363760"/>
                <a:gd name="textAreaBottom" fmla="*/ 2314440 h 2363760"/>
              </a:gdLst>
              <a:ahLst/>
              <a:rect l="textAreaLeft" t="textAreaTop" r="textAreaRight" b="textAreaBottom"/>
              <a:pathLst>
                <a:path w="21600" h="25521">
                  <a:moveTo>
                    <a:pt x="1823" y="0"/>
                  </a:moveTo>
                  <a:arcTo wR="1823" hR="1823" stAng="16200000" swAng="-5400000"/>
                  <a:lnTo>
                    <a:pt x="0" y="23698"/>
                  </a:lnTo>
                  <a:arcTo wR="1823" hR="1823" stAng="10800000" swAng="-5400000"/>
                  <a:lnTo>
                    <a:pt x="19777" y="25521"/>
                  </a:lnTo>
                  <a:arcTo wR="1823" hR="1823" stAng="5400000" swAng="-5400000"/>
                  <a:lnTo>
                    <a:pt x="21600" y="1823"/>
                  </a:lnTo>
                  <a:arcTo wR="1823" hR="1823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803680" y="1088640"/>
              <a:ext cx="0" cy="4792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0920" y="1089000"/>
              <a:ext cx="0" cy="459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50920" y="108900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920" y="5684760"/>
              <a:ext cx="813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0920" y="1744560"/>
              <a:ext cx="820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41400" y="2401920"/>
              <a:ext cx="7515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040" y="3057480"/>
              <a:ext cx="7929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5440" y="3714840"/>
              <a:ext cx="7861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7040" y="4371840"/>
              <a:ext cx="7929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040" y="5027760"/>
              <a:ext cx="7929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7040" y="2401920"/>
              <a:ext cx="0" cy="32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41400" y="1089000"/>
              <a:ext cx="0" cy="479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0920" y="2401920"/>
              <a:ext cx="69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00320" y="5217120"/>
              <a:ext cx="68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Logíst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333720" y="4565520"/>
              <a:ext cx="76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nmue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533520" y="394056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347400" y="3221280"/>
              <a:ext cx="73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367920" y="26049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Finanz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356400" y="193932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U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227880" y="12924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Corporació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79640" y="3714840"/>
              <a:ext cx="620640" cy="393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visiones 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compensa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 person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79640" y="4108320"/>
              <a:ext cx="758520" cy="196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bjetivos de Person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09800" y="2860560"/>
              <a:ext cx="13644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85920" y="1744560"/>
              <a:ext cx="0" cy="18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85920" y="1285560"/>
              <a:ext cx="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85920" y="1285920"/>
              <a:ext cx="11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89320" y="1219320"/>
              <a:ext cx="620640" cy="263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Identificación del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ma estratégic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664160" y="1088640"/>
              <a:ext cx="0" cy="4792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26080" y="1089000"/>
              <a:ext cx="0" cy="4857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1720" y="1547640"/>
              <a:ext cx="620640" cy="196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álogo estratégic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obre el tem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8320" y="5159520"/>
              <a:ext cx="276480" cy="19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8320" y="4568760"/>
              <a:ext cx="276480" cy="19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68320" y="3255840"/>
              <a:ext cx="276480" cy="19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8320" y="2664000"/>
              <a:ext cx="276480" cy="19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182680" y="1415520"/>
              <a:ext cx="0" cy="38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044440" y="52912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044440" y="46339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044440" y="338616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044440" y="279576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82680" y="1415880"/>
              <a:ext cx="2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38160" y="2860560"/>
              <a:ext cx="13680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7040" y="2860560"/>
              <a:ext cx="13680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73520" y="2860560"/>
              <a:ext cx="13644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4320" y="2860560"/>
              <a:ext cx="13788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7880" y="2860560"/>
              <a:ext cx="13644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5440" y="2860560"/>
              <a:ext cx="13644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56080" y="2860560"/>
              <a:ext cx="13680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83360" y="2860560"/>
              <a:ext cx="13644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65760" y="2860560"/>
              <a:ext cx="13680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16920" y="2860560"/>
              <a:ext cx="13644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13680" y="2860560"/>
              <a:ext cx="13644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1720" y="2205000"/>
              <a:ext cx="136440" cy="131760"/>
            </a:xfrm>
            <a:prstGeom prst="flowChartExtra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35440" y="2205000"/>
              <a:ext cx="136440" cy="131760"/>
            </a:xfrm>
            <a:prstGeom prst="flowChartExtra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5920" y="2205000"/>
              <a:ext cx="136800" cy="131760"/>
            </a:xfrm>
            <a:prstGeom prst="flowChartExtra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89480" y="1744560"/>
              <a:ext cx="619200" cy="26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sarrollo an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l CM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78520" y="1614600"/>
              <a:ext cx="620640" cy="26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inación del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M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78000" y="2664000"/>
              <a:ext cx="20664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54640" y="2533680"/>
              <a:ext cx="1584360" cy="196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esupuesto An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54640" y="3189240"/>
              <a:ext cx="1584360" cy="196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lan de Market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54640" y="3911760"/>
              <a:ext cx="1584360" cy="196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sarrollo de la Organizació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54640" y="4633920"/>
              <a:ext cx="1584360" cy="196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lan Inmobiliari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54640" y="5224320"/>
              <a:ext cx="1584360" cy="1969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lan Logístic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078520" y="2466720"/>
              <a:ext cx="0" cy="28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78520" y="246708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286240" y="1875960"/>
              <a:ext cx="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78520" y="25988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78520" y="3254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78520" y="397656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8520" y="4699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78520" y="5356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1720" y="2335320"/>
              <a:ext cx="277920" cy="19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11720" y="3714840"/>
              <a:ext cx="277920" cy="19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78680" y="2664000"/>
              <a:ext cx="130968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8360" y="2664000"/>
              <a:ext cx="0" cy="39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26680" y="3057480"/>
              <a:ext cx="78613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53360" y="1614600"/>
              <a:ext cx="758880" cy="3934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inació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l Presupuest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870600" y="1810800"/>
              <a:ext cx="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0600" y="1811160"/>
              <a:ext cx="48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939920" y="2664000"/>
              <a:ext cx="20628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940280" y="2138400"/>
              <a:ext cx="0" cy="525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389480" y="2138400"/>
              <a:ext cx="5508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89480" y="2138400"/>
              <a:ext cx="0" cy="4604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77640" y="2598840"/>
              <a:ext cx="131148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078000" y="2138040"/>
              <a:ext cx="0" cy="4604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733840" y="2138400"/>
              <a:ext cx="3441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33840" y="2138400"/>
              <a:ext cx="0" cy="657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492200" y="1482480"/>
              <a:ext cx="0" cy="1312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941400" y="1482840"/>
              <a:ext cx="5508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16080" y="1614600"/>
              <a:ext cx="136440" cy="131760"/>
            </a:xfrm>
            <a:prstGeom prst="flowChartExtra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0920" y="6208560"/>
              <a:ext cx="136440" cy="1317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6800" y="6199200"/>
              <a:ext cx="1595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Revisión operativa mensu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5080" y="6446880"/>
              <a:ext cx="173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evisión Trimestral del CM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06720" y="6195960"/>
              <a:ext cx="220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Proceso de formulación de la estrateg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56960" y="6195960"/>
              <a:ext cx="200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Proceso de vinculación e incentiv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65480" y="6195960"/>
              <a:ext cx="1915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Feedback y proceso de formació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1600" y="6446880"/>
              <a:ext cx="258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Vinculación con las estrategias funcion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66440" y="6464160"/>
              <a:ext cx="173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evisión operativa mensu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74960" y="6210360"/>
              <a:ext cx="20628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27720" y="6208560"/>
              <a:ext cx="20628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30440" y="3714840"/>
              <a:ext cx="277560" cy="19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57880" y="1547640"/>
              <a:ext cx="276120" cy="19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95920" y="6210360"/>
              <a:ext cx="20664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0920" y="6472080"/>
              <a:ext cx="136440" cy="131760"/>
            </a:xfrm>
            <a:prstGeom prst="flowChartExtra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43080" y="6472080"/>
              <a:ext cx="276120" cy="19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3720" y="6485040"/>
              <a:ext cx="20664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560600" y="56844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182680" y="56844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424320" y="568440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043520" y="56844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286240" y="56844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905440" y="56844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147080" y="56844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7767720" y="56844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388360" y="56844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49480" y="57499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0120" y="5749920"/>
              <a:ext cx="25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42160" y="574992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12480" y="57499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82000" y="574992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01920" y="5749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73600" y="5749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43920" y="57499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64560" y="57499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3760" y="57499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55800" y="5749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26840" y="5749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613080" y="3686040"/>
              <a:ext cx="196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FUNCIONES CORPORATIV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07040" y="664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69920" y="2412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alendario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05/2006</a:t>
            </a:r>
          </a:p>
        </p:txBody>
      </p:sp>
    </p:spTree>
  </p:cSld>
  <p:transition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3:48:21Z</dcterms:created>
  <dc:creator>Roberto Miskolczi / Fernando Riedel</dc:creator>
  <dc:description/>
  <dc:language>en-US</dc:language>
  <cp:lastModifiedBy>C.P.C.E.C.A.B.A.</cp:lastModifiedBy>
  <dcterms:modified xsi:type="dcterms:W3CDTF">2006-05-04T22:36:28Z</dcterms:modified>
  <cp:revision>181</cp:revision>
  <dc:subject/>
  <dc:title>Presentación Caso de Exito Swiss Medical</dc:title>
</cp:coreProperties>
</file>