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laser.wav" ContentType="audio/x-wav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dt" idx="6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ftr" idx="6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 type="sldNum" idx="6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FC26-95ED-4336-8258-136F5E1E84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s nuevas de comercializacion, incorporacion de otros productos ajenos a la actividad, cambios estructura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409-FA4F-4538-89D8-BA2695CA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347-E1A7-422E-9DBB-D1CD0AE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7DFC-7464-45F9-8C41-1C13B62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934B-BFA1-488D-97FB-93AD69F1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030D-C345-447A-B6A7-2750393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FD061-9D7E-48C1-80C2-11BEF49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276C-3697-4053-B0B6-3C5C9FD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AD635-E1EF-48D1-8185-5F178B8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629F5-8425-4223-B689-D10E4507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6BF9-939A-4179-9D04-2863E0BD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7E7D3-6905-45EA-AB60-27692019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AF1B7-6DC7-4B52-A036-A1B7CA1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AB9-D242-475A-8BE9-15A9382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3AA6C-CCFB-4681-9D99-6E7E7291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8027-8769-4ED7-82A8-DB91CB28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1F2E-A497-4D6E-9B0D-B9D7610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6312-457D-4B4F-9526-15F2E9A0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38D42-ED31-4290-B872-1887412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8D3FF-9230-4DAC-94A2-9632C4C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FD717-3CA6-4BE5-8D95-13F15B2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3F726-79DB-468F-A17C-DCA02FB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7345A-05BE-4D4B-BC1F-5C86F94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1B5DD-B60C-4F47-BC3E-FD5D2A10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1DF-4370-483B-9859-467063B4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0C6F-4315-4CFE-AEB6-8400DD2C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CB33-C04D-4B7D-93BD-80DC3DE1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FDA8-F745-4977-9422-CE994A1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E004-9E58-4EDB-9D8C-8222C0F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467B8-4E8D-40FD-B678-1B76086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B6652-E355-4BA9-BDC4-674E750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42B14-334D-4EBB-B5C5-0544923F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572A-32E0-4009-A9EF-2FC61E9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E7F06-374D-433D-B71D-D825058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42E38-B2B3-48E7-BEFD-EF77AEA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35E-E492-45AA-8FA8-A747DE5F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BFD5-BBEB-4B48-B715-2CC0210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0D77B-44AE-4E4E-AD76-BB86B7B2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E9CE-5E7B-45FC-B120-788FEB0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FC61F-C9CD-4BFD-A7F4-C6B400FD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30E4-4B35-43F9-B165-489E9F3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5AA83-C67D-4F3A-98A0-3545010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6E045-E352-4093-90AA-687D436F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D9AF-7419-40E0-BE14-8E8A9F4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943A9-D782-41B0-AD70-404C17A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C033-3147-4B65-B9BF-02E94E43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E72E-A222-4C00-B6F3-5B1026E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39395-20B4-4B6A-9D27-542C4C4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107AB-6B55-49B2-95F4-41A47DF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5296-6930-40AE-A51A-AB20D2C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C8F05-835F-4644-8A07-1BAF6559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3B058-593A-46E8-963B-10F6545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B49A7-31FD-457B-A3DB-4F31362F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FAE43-98CA-4F59-80E1-0363AE9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C3296-2518-41CF-BFBE-156D9B18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60E65-5124-4954-8C0C-25F7F8D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8733B-0484-416A-9FC0-BADD939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3E6-A3C5-4C3F-9E5C-C0E2AA1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DB34-8BD1-46A2-ADA5-164A78C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81F76-E280-4914-8009-568425E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F3745-7A93-4537-9157-0059824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5832A-8F88-4868-88D9-B751C1B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66D0F-F2EC-40E3-BE70-7AB3B9F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4CF38-CF45-48E4-96C2-EC2C7D47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7B293-1CC0-4A6B-A7C9-B286F40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ADAD9-2B57-4F3D-B7B3-C3BA7A35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BCFBC-8ED8-4312-830D-7C16C91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8062A-0A15-4C09-9723-42020DF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D12-9286-481C-B6E2-9459FF1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257A8-595F-464F-A873-BE33433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5AA75-6A81-48CE-9EF3-6501FE5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53FCA-CDD1-46C7-B5AB-D64DFDA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95FE1-A6BA-4644-A50C-8217B8A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AF57C-3160-413B-842D-2E1EB22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3B0B0-05FA-4287-8CE9-2E1582E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B137D-5710-4EA8-89F0-625598A7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27DDD-67B5-438A-8552-12EB767A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0807F-1934-4B00-8700-FD817C9C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C46B4-316F-49EE-AEB1-BB31214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502-12C9-45EB-AFA8-0168847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3EFD6-7C95-41AB-848E-88CC244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628EE-3AAC-43FC-B9E3-923B2FA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6A463-7B07-4217-AF21-DF419F3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BDA55-C5EE-4A03-974E-ADCB319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1B5F4-3ADF-4012-A32D-7AC12F27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584B3-2353-4BCD-88F3-742B6F5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A81F0-4120-466E-99A1-3F50EA70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64407-2F58-45B3-BFA7-06B9A13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AEC4C-C6CC-4873-B5F4-1276AA7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12B35-21B0-4A0C-80A1-3F7A3BEB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7F63-2D49-41B5-B30A-BDB4F44E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96B7F-3E54-417C-8045-8DC53850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E734A-C9D0-4251-9B19-E8D94F23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2CCAE-4DFA-4266-A029-3FEA19C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3F067-FA30-45EB-AB90-C4E035E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D7BE0-DC8B-42CB-BAE7-5516E59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5808F-A492-4B5B-85F4-8352C35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0C5B1-2AFC-4671-A8F9-215EA3C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B964E-266C-499B-A906-B8DD7B3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FDE8F-1D38-45C2-AAFD-D631FD5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8A525-8FB5-4DC9-ABF1-41FE290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3D3-658A-4212-9F86-372372B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945F9-0AC5-4B38-A6C4-E0C8EA1E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72950-0D1C-4F8D-8FD7-8F395225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18FAD-47CC-4226-83AF-A9FB7AB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C7F3B-197A-4326-85F5-BE22889A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621B3-73A3-485F-9493-191C675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D286F-6D44-457E-87D5-C91F0CD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F80A7-DEE0-40A2-B86C-7522F25A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BECEC-25EC-4D57-8860-C9D0F93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938FA-6EF3-4A3D-9CB8-597940C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E8498-2DE8-46D1-B3F6-C5B1254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74B-869C-4312-BFE0-955E9E43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00ED-7720-49BE-9A9A-A9636CC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EF9A6-F17F-4B31-9554-51C71AA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E0FDD-9201-4235-80E7-CDA0FFF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5C20B-CF99-4329-83A5-38F7B06D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EC52C-3069-44AE-A8AF-641D92FB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0D3E7-2CCA-45EE-B646-7C1E56F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A5F04-7FFA-4C24-B4AE-3118EAC0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1405E-7493-4E40-A9AD-82D9C13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17910-AB27-45DA-BE4C-99BD898F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E681A-B66B-4B68-814D-ED17250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D27ED-BF81-4C9E-B1E6-60636592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39AB-DA75-450D-A3E0-93514E1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FCD53-A688-4932-985D-AF24005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326A1-97F0-44E7-B695-81184D6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DD7BF-6CB9-4445-8C06-9C83F04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96177-232A-4716-B385-931BCDB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F4AB1-9E3B-4F49-87BD-1BBD5D8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1091E-9378-447F-AC48-449D14D0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1A95C-A426-4A29-8EA6-034EF695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5D09F-B89C-4B34-9BA7-5C562BE7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4E1B9-2D54-45BC-BBBF-D6A4E95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BD579-A68C-4A90-841C-4B9851A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EC1-71AA-4609-A197-B756A96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D9DE3-09DB-470F-9D8F-83D96DC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A4730-CBC1-4898-B6F5-C687A83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EFB03-4201-4EF9-B1B5-1E366D49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95ED8-5AD1-4123-8945-CBA563E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25FE1-BDD4-44F6-865D-EF24A12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6E179-0062-453B-800E-0ED2D7F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D40C6-8C14-4AE5-B445-56A0AD2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2FFB6-C0F1-4973-9548-1853C313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D4764-B5B8-4701-8DB1-D861F717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96A4A-0E58-4373-BF7E-7E20C469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A06-B70B-4E25-9C9E-50295544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A64BA-360F-41B5-B02F-0CC26A1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ABB84-05F6-49A7-98B2-01EBCB7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B1E51-4D98-4A49-8C9D-B19AFA4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AFC39-61DF-4F8D-A0C6-E2F4ED05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DA1F1-9BFB-4424-B327-F0AFF76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B837D-B93E-411A-BDBB-DE3BC89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FC325-1CB2-4CA4-B9F3-7315DD2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88F75-CBF1-43D1-8206-E1027D1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4146F-EC79-4529-840B-C51637D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F2B6A-CA9C-4929-8F1B-4956A94F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12F2-A3C9-47C4-89AD-85E86F98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0D7C3-87F7-4F9E-B6B0-EAC68110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12ACB-154A-490C-A618-727858A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B1070-8C92-4388-8B33-92DC93A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3A1B4-9D6E-4E17-9E9D-4FC447E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7D797-6AC6-4197-9A2A-08DD53F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D7282-238C-4B7E-B95D-510C1BEF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805F9-F774-47F7-A019-D705BE7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E8A7B-412E-4668-B3C3-16D28AE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ADA19-9747-4558-B230-2BB4292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1F6EB-96F2-41C3-BEE3-101D60C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27D19-FABD-4220-9D28-C235398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574C5-9CD9-458C-8604-5C0E2884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55134-3805-430C-8715-A1FFA637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6C01B-5652-48F5-A710-9FF652FF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118C27-92FA-456B-AA13-0F73C725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6B49C-7C96-496E-B367-57012B1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355FE-7A6D-4693-8EB6-278EC7E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96D95-D556-4934-A9E8-3E0CF7C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7B188-9746-4316-B170-DFB2318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F2A45-F85E-43B9-B2DB-944E319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BC22E8-3C14-48B7-8482-9D7D05FA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F321B-AA92-4E99-A6F2-10DC5AB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C07917-4CC2-4C79-80FF-63FBFCF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5309A-6F0B-41A6-A038-6E22455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590ED-95CC-4D37-B6AD-A5F3F11F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ECF25-38CE-4737-9E89-C95D0056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E7E74-3E26-45EE-A49D-166E2471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F4A50-F7AE-492F-AC7C-8F478286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656C9-3917-4AE1-A3DB-78F96C54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7614A-1F9B-4315-BD1F-B64A451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07C-9158-4982-9BDD-AD5F4F72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ED3EF-902D-4D9C-AC53-4B7AA60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CE9B7-E394-42DE-9C21-95DE7A46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812F7-3FC3-4DE9-ADF6-DE10CA6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F9C59-C44D-4438-9551-1AF69228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CA6D4-7536-4B61-BC16-922744B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795E9-B64B-44BA-806E-4ABAFBAA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B9CDC-208D-45E9-BC5F-B61DD028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23CB-7D0C-4044-96E7-D2843BA6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5689-9186-4955-916B-34BE1E67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B44F-45EF-4CDA-947E-65431841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602-C415-4ED2-8B43-2E01A9D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7A84-6247-443F-B254-B1BF5DC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4DBE-F555-4F05-870A-9B13BFB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8B84-A5EF-4CE9-BDE4-7BCF90D1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F446-C4F8-48B9-B5E8-FE0B129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C928-F4AF-4BE1-ACA6-5BE3F3E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0D71-60BF-4E17-925A-EB4D102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A790-3332-45E2-BB72-349976F4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01FE-0DC0-46BB-B658-8ED19A91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4FD0-0DEC-4764-BDA4-1B1C65F7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4891C-2710-4715-BF93-BB7CDC67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202-63E7-4712-B34A-C251A62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92FF-D014-444F-9C91-709AD1A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5E2F-18FF-4D19-8D20-F3D24227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31903-A1A8-41A4-90B9-F69E8BCE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D509F-705C-4B9D-8F6C-8203313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44D2-9A7D-4EAD-AECA-E74F02C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3288-9B23-4E44-88D2-F0EA9D0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6BE4-76AB-425B-81CB-27B8DE8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59DF6-6422-4523-A2CA-6517530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CB06-AD22-4418-9D6C-56A40C2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2A45-5A62-48AE-8FAC-D74DF752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244-D710-49A3-8764-BECD84F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B1DC-6FEE-4F1E-A784-93656900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91D7-AC1A-4CE7-AE05-59CA143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E215-0934-4586-985F-67E15261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3362-6D5D-4D23-A2E7-0C57DD9A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9CC9-435C-4C87-94C1-FF8E4A8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1294-1479-4ABF-8CF7-69772C36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6BF03-5CFF-42AA-8478-CDF7BBE4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24785-A5B6-4336-AC23-1D721662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358F0-0E48-4A10-8D44-89B1519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C438-9276-470C-A01E-EFD14EA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5BF-6CC6-40A3-8733-6ECD273B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7FE5-63DC-4412-955D-9348E141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BF22-E684-4C65-B5E6-CD8DBE4A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E92BA-6625-4FA6-90F8-731207B5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0B4F-336A-43BE-9C7E-A07243EB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2323-ABFE-4D34-96E9-166C53A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6B3A9-99C9-4640-8F25-123400B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9195-AB27-4DDA-8FC7-845C0B2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A6E9-72E6-4B67-BD91-35A6CFE5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6BC8-65E8-4D2A-A73A-499116A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00CC4-029B-418B-B11D-1BE62D07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4A8-A70D-4E32-9919-27FC561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54B3-A77D-4A83-AB5A-8659A2E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78863-7D10-4BFF-80F4-BEF68E82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B31B-8972-46CB-8D04-BE60965F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0539-0DA1-4883-AA02-CD9D63D1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EA71-D68A-4B47-989F-3DEA563F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39F0F-2362-4217-AD24-6843987D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BA23-7024-4B60-9375-3DF2616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8434-FB5B-4F7F-986F-18F258A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85C8-74ED-4AB5-8363-E118479A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B298-B879-4487-8EAB-7C0FCB6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583-A946-46C6-8EC3-AE96984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13C2-672E-4908-899C-FFE70DD1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76613-0FEA-44DC-87FB-A60CFC0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D438-2825-4A15-9778-50DA7650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CA96B-619C-4967-B58E-DB88B54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7C82-9359-47A5-B87C-FCC799FA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C392E-0442-42E4-B54B-08606A5D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67F2-3817-4B96-80B4-D370524B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7B96-D6C4-4BE1-8735-91FF54B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6770-9602-46B1-BB14-2F5B920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FE172-229D-400D-AAF7-F41D506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134B-3480-4BFC-997A-242A771DF1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6631-755D-4A7D-AA34-1AFD904C9CB8}" type="slidenum"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6084-CB63-46D2-B2D6-08E40098D117}" type="slidenum"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5FA-EDDF-4A90-B0BC-EB8F6D6ADE4E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6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660B-EEF1-4871-BA22-DEB5C2DEE745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0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EB4-AE9E-410D-BBA4-52AECCB6DFD4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5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4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BC2D-D518-4721-9FDC-1621F30F7622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9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3D88-0F1D-4CCF-8933-A5A139D2D670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67A-F705-42B6-A296-62C8097545A9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8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440-FB27-4540-A8D1-371C4BB84E3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5E79-8D9F-477D-8EA9-ECA4CDBD3BE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BC6-FE92-4472-A9A2-65144B8E7BC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9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349B-97BE-4669-B2BE-EAC30DB1B20D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4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4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4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6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ftr" idx="6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B0B-7243-435D-8C49-CFA4527CCE45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F17B-2A26-48C9-AB83-B9EEE9E33B0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EA7-0246-40F8-A5BF-5E714DE4713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2BF-F779-42A1-B4C6-562E87336F6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16E-AA75-4462-BA43-0CA0EDEC286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B45B-44AF-48EB-BF5D-CCE21F31380E}" type="slidenum">
              <a:rPr b="1" lang="es-ES_tradn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CA4-9A85-4610-8A35-145884289713}" type="slidenum">
              <a:rPr b="1" lang="es-ES_tradn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B9A-D222-4901-9FEC-F0964FB07DD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E300-5A51-4A49-8656-48C5A03565A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484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36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957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ol Profesion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v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ol Comerci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775320" cy="388800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1619280" y="692280"/>
            <a:ext cx="612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RMAC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Composición del P.V.P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468360" y="1700280"/>
          <a:ext cx="8229600" cy="4806720"/>
        </p:xfrm>
        <a:graphic>
          <a:graphicData uri="http://schemas.openxmlformats.org/drawingml/2006/table">
            <a:tbl>
              <a:tblPr/>
              <a:tblGrid>
                <a:gridCol w="3841560"/>
                <a:gridCol w="2235240"/>
                <a:gridCol w="2152800"/>
              </a:tblGrid>
              <a:tr h="353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ida Laboratori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1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V.A. 2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21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121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árgen a Droguería 1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19,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140,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árgen a Farmacia 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35,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175,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maci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35,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oguerí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19,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V.A.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21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ida Laboratori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1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175,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 Público a Farma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494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Público abona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175,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Farmacia a Droguero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140,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8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Utilidad Bruta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  35,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2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 Farmacia a Droguerí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494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Farmacia abona: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$ 140,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10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Droguero a Industria: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$ 121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86,21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Utilidad Bruta: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$   19,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13,79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 Droguero a Industr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494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Droguero abona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121,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Industria a AFIP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  21,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17,35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Utilidad Bruta: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$ 100,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ahoma"/>
              </a:rPr>
              <a:t>82,65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00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61387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c0039"/>
                </a:solidFill>
                <a:uFillTx/>
                <a:latin typeface="Arial Black"/>
              </a:rPr>
              <a:t>RENTABILIDAD –supuesto-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627280" y="2133360"/>
            <a:ext cx="65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Una farm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Un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recio Público $ 175,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enta de co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º Margen 20 % (honor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2º Margen 15 % (pronto p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 Black"/>
              </a:rPr>
              <a:t>RESULTADO -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V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$ 175,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M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$ 35,0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M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($ 21,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o    $ 119,3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.Bruta $  56,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tilidad /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32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tilidad /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47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75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250"/>
                            </p:stCondLst>
                            <p:childTnLst>
                              <p:par>
                                <p:cTn id="3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75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15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75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50"/>
                            </p:stCondLst>
                            <p:childTnLst>
                              <p:par>
                                <p:cTn id="3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75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950"/>
                            </p:stCondLst>
                            <p:childTnLst>
                              <p:par>
                                <p:cTn id="3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75"/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925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75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975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75"/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2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75"/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25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75"/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609480"/>
            <a:ext cx="72007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8000"/>
                </a:solidFill>
                <a:uFillTx/>
                <a:latin typeface="Arial Black"/>
              </a:rPr>
              <a:t>COSTOS FIJOS /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st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quil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eldos y Car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y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sto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In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u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CIDENCIAS PORCEN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o de V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s Fi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s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estos Direc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 MEDIA =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1 %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 Black"/>
              </a:rPr>
              <a:t>Factores que reducen el MAR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ONIFICACIONES ACORD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DESCUENTOS DE MOSTRAD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ERDIDA DE CONDI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MALA ADMINISTRACION DEL STOC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 RECUPERO DE CUENTAS CORRIEN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MALA POLITICA DE COMPR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AIDA DE NIVELES DE VEN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NCREMENTO DE COSTOS FIJ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OSTOS FINANCIEROS, entre otr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0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0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0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632720" cy="39002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rmacia con bonificación a la 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e Sanitar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685440" y="3504960"/>
            <a:ext cx="80773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nsa / Venta de Medica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1835280" y="1413000"/>
            <a:ext cx="617220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ARMACEUTIC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362320" y="4941720"/>
            <a:ext cx="4572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ARMACIA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SU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) Reposición del produ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) Costos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) Costos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) Im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) FACTORES QUE REDUCEN EL MAR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RENTABILIDAD ¿ CONVENIENTE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85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385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385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385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9" dur="385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85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385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385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85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385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385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385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6500"/>
                            </p:stCondLst>
                            <p:childTnLst>
                              <p:par>
                                <p:cTn id="6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385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385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9" dur="385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500"/>
                            </p:stCondLst>
                            <p:childTnLst>
                              <p:par>
                                <p:cTn id="6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85"/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385" fill="hold"/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385" fill="hold"/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2361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 Black"/>
              </a:rPr>
              <a:t>MUCHAS GRACIAS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nstancias</a:t>
            </a:r>
            <a:endParaRPr b="0" lang="en-US" sz="3600" spc="-1" strike="noStrike">
              <a:solidFill>
                <a:srgbClr val="9999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regulación de la Profe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joras Edili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ores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o de otros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joras en formas y modelos de la estética de la Farm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gación del Profesional de su a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924360" y="1773360"/>
            <a:ext cx="48974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364000" y="2349360"/>
            <a:ext cx="331488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876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ARMAC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580000" y="4437000"/>
            <a:ext cx="2511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FARMACEUT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65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85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75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875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375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875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icipantes del Merc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71280" y="2453760"/>
            <a:ext cx="451332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 Farmacéu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b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e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4632480" y="2357280"/>
            <a:ext cx="35766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Black"/>
              </a:rPr>
              <a:t>PACIENT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E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uen 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RMACEUTIC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su calidad profesional y huma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ABITUA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resan a la FARMACIA Por comodidad, costumbre, indistinto de quien los atien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LONDRIN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curren a la FARMACIA por referencia, casualidad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Farmacia de Gran Ciuda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447920" y="1676520"/>
            <a:ext cx="5638680" cy="4267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486400" y="2514600"/>
            <a:ext cx="1727280" cy="611280"/>
          </a:xfrm>
          <a:prstGeom prst="borderCallout1">
            <a:avLst>
              <a:gd name="adj1" fmla="val -27854"/>
              <a:gd name="adj2" fmla="val -2693"/>
              <a:gd name="adj3" fmla="val 20170"/>
              <a:gd name="adj4" fmla="val -26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80880" y="3833640"/>
            <a:ext cx="1828800" cy="662040"/>
          </a:xfrm>
          <a:prstGeom prst="borderCallout1">
            <a:avLst>
              <a:gd name="adj1" fmla="val 68156"/>
              <a:gd name="adj2" fmla="val 24086"/>
              <a:gd name="adj3" fmla="val 1350"/>
              <a:gd name="adj4" fmla="val 2408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bi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0" y="4667400"/>
            <a:ext cx="1708200" cy="599760"/>
          </a:xfrm>
          <a:prstGeom prst="borderCallout1">
            <a:avLst>
              <a:gd name="adj1" fmla="val -8291"/>
              <a:gd name="adj2" fmla="val -2743"/>
              <a:gd name="adj3" fmla="val 20155"/>
              <a:gd name="adj4" fmla="val -27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lond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Farmacia de Pequeña Ciuda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1676520"/>
            <a:ext cx="5638680" cy="4267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5486400" y="2514600"/>
            <a:ext cx="1727280" cy="611280"/>
          </a:xfrm>
          <a:prstGeom prst="borderCallout1">
            <a:avLst>
              <a:gd name="adj1" fmla="val -27854"/>
              <a:gd name="adj2" fmla="val -2693"/>
              <a:gd name="adj3" fmla="val 20170"/>
              <a:gd name="adj4" fmla="val -26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lond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880" y="3833640"/>
            <a:ext cx="1828800" cy="662040"/>
          </a:xfrm>
          <a:prstGeom prst="borderCallout1">
            <a:avLst>
              <a:gd name="adj1" fmla="val 68156"/>
              <a:gd name="adj2" fmla="val 24086"/>
              <a:gd name="adj3" fmla="val 1350"/>
              <a:gd name="adj4" fmla="val 2408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bi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58000" y="4648320"/>
            <a:ext cx="1708200" cy="600120"/>
          </a:xfrm>
          <a:prstGeom prst="borderCallout1">
            <a:avLst>
              <a:gd name="adj1" fmla="val -8291"/>
              <a:gd name="adj2" fmla="val -2743"/>
              <a:gd name="adj3" fmla="val 20155"/>
              <a:gd name="adj4" fmla="val -27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0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osición del Precio de Ven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1511280" y="2001960"/>
            <a:ext cx="1922400" cy="178740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4319640" y="2001960"/>
            <a:ext cx="3311640" cy="337968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042560" y="5332320"/>
            <a:ext cx="496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 Producción $ 100 a Dispensa $ 175,4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cio de Venta a Púb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16:16Z</dcterms:created>
  <dc:creator>Cr. Romero</dc:creator>
  <dc:description/>
  <dc:language>en-US</dc:language>
  <cp:lastModifiedBy>C.P.C.E.C.A.B.A.</cp:lastModifiedBy>
  <dcterms:modified xsi:type="dcterms:W3CDTF">2006-05-05T18:02:35Z</dcterms:modified>
  <cp:revision>68</cp:revision>
  <dc:subject/>
  <dc:title>OFICINA DE FARMACIA DOBLE “ROL” DEL FARMACEUTICO</dc:title>
</cp:coreProperties>
</file>