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F199-E7D4-4ED8-8B6A-250E9FB8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2A91-E66C-4C92-BF4D-F301BEF9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F9D8-A925-49E3-AA7E-E27168B6D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9B27-DFC9-4C79-B2FF-00B9BD8D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A4E7-2F07-450F-A77B-7BB7FA69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7CD4-0D66-4C6F-A2F8-8F3CA000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AD1F-7FD0-4DDF-A838-7E61F91D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EF41-909F-4815-8D86-66EF6482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6F4C-F5B3-4B78-87BA-97DDC949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C196-049B-4BC9-89FC-0F03AB40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7411-2BDE-4DC0-821B-6466FCF9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4D2C-DA55-435E-9DCD-9A6D5169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0B47-2057-4D6E-9D86-3C9C2182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3A90-A518-4022-B300-B8B0606F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9C98-2436-4E88-A2FF-0E6334A1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D792-ECC7-4BD7-AA34-1DE3C1AB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147D-6B9E-40BE-A54E-439CA6969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BC2E-2D7D-4F01-9AD4-DC4690B5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EF0B-ED85-4E63-9A0C-A36F6D58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9893-E468-43B1-B15C-9C84E41E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E217-8A42-41ED-96D2-3DED28DB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1E4E-926D-42F5-9460-3BC06D0D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ED65-D4AD-4E1A-B72E-D05F10DE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FB33-21CE-4315-9E99-03F2735E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9AE4-853F-4440-B64E-1C0DC62707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3B0B-1286-44AC-B20A-E0BCE139A7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330033"/>
                </a:solidFill>
                <a:latin typeface="Times New Roman"/>
              </a:rPr>
              <a:t>Calidad: indicadores y casos prácticos.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of. Dr. Ricardo Durl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irector Médico del Hospital Alem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55640" y="0"/>
            <a:ext cx="8028000" cy="5950080"/>
          </a:xfrm>
          <a:prstGeom prst="rect">
            <a:avLst/>
          </a:prstGeom>
          <a:gradFill rotWithShape="0">
            <a:gsLst>
              <a:gs pos="0">
                <a:srgbClr val="ffffe1"/>
              </a:gs>
              <a:gs pos="100000">
                <a:srgbClr val="cc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Un ejemplo práctico:</a:t>
            </a:r>
            <a:br>
              <a:rPr sz="2500"/>
            </a:br>
            <a:br>
              <a:rPr sz="2500"/>
            </a:b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La infección hospitalaria es un resultado indeseable, no siempre evitable, que está asociada a factores de riesgo conocidos y que cuando están presentes ocurre con una cifra esperada. </a:t>
            </a:r>
            <a:br>
              <a:rPr sz="2500"/>
            </a:br>
            <a:br>
              <a:rPr sz="2500"/>
            </a:b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La vigilancia para su control permite tomar medidas correctivas que redundan en la seguridad de los pacientes.</a:t>
            </a:r>
            <a:br>
              <a:rPr sz="2500"/>
            </a:br>
            <a:br>
              <a:rPr sz="2500"/>
            </a:b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La infección hospitalaria es el paradigma de la calidad en el hospit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6237360"/>
            <a:ext cx="7777440" cy="396720"/>
          </a:xfrm>
          <a:prstGeom prst="rect">
            <a:avLst/>
          </a:prstGeom>
          <a:gradFill rotWithShape="0">
            <a:gsLst>
              <a:gs pos="0">
                <a:srgbClr val="ffffe1"/>
              </a:gs>
              <a:gs pos="100000">
                <a:srgbClr val="cc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000" y="277920"/>
            <a:ext cx="8002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330033"/>
                </a:solidFill>
                <a:latin typeface="Times New Roman"/>
              </a:rPr>
              <a:t>Vigilancia de la Infección Hospitalaria en 5 Unidades de Terapia Intensiva de la Ciudad de Buenos Air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0000" y="342864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Comparar las tasas de infecciones hospitalarias asociadas a procedimientos correspondientes a dos períodos y analizar las intervenciones que pudieron haber influido en los resul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18900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acteriemia asociada a catéter venoso central por 1000 día-paciente en 2 períodos de 5 años, en 5 UTI: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995-1999  vs  2000-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219320" y="2057400"/>
          <a:ext cx="7391160" cy="44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7391160" cy="44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4649400" y="2133720"/>
            <a:ext cx="28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: 0,0082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tudent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eumonía asociada a ventilación mecánica por 1000 días-pacientes en 5 Unidades de Terapia Intensiva. 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o comparativo en 2 periodos: 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995-1999  vs  2000-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219320" y="1838160"/>
          <a:ext cx="7010280" cy="501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38160"/>
                    <a:ext cx="7010280" cy="50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4496040" y="2362320"/>
            <a:ext cx="25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0033"/>
                </a:solidFill>
                <a:latin typeface="Arial"/>
              </a:rPr>
              <a:t>p</a:t>
            </a:r>
            <a:r>
              <a:rPr b="1" lang="es-MX" sz="2400" spc="-1" strike="noStrike">
                <a:solidFill>
                  <a:srgbClr val="330033"/>
                </a:solidFill>
                <a:latin typeface="Arial"/>
              </a:rPr>
              <a:t>: 0,02 </a:t>
            </a:r>
            <a:r>
              <a:rPr b="1" lang="es-MX" sz="1800" spc="-1" strike="noStrike">
                <a:solidFill>
                  <a:srgbClr val="330033"/>
                </a:solidFill>
                <a:latin typeface="Arial"/>
              </a:rPr>
              <a:t>Student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fección urinaria  asociada a catéter urinario por 1000 día-paciente en 5 Unidades de Terapia Intensiva.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o comparativo en dos períodos: 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995-1999 vs 2000-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2205000"/>
          <a:ext cx="8964720" cy="600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5000"/>
                    <a:ext cx="896472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5826960" y="2049480"/>
            <a:ext cx="25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= 0,038 Student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87280" y="476280"/>
            <a:ext cx="24386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 u="sng">
                <a:solidFill>
                  <a:srgbClr val="000000"/>
                </a:solidFill>
                <a:uFillTx/>
                <a:latin typeface="Times New Roman"/>
              </a:rPr>
              <a:t>Resultad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 hubo cambios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en las tasas de utilización de los procedimientos, cambios en la estructura, presencia del comité de control de infecciones, respaldo institucional, incentivos económicos, definiciones, número de ECI, relación enfermera/cama, guías, capacitación, aislamiento en la U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87280" y="404640"/>
            <a:ext cx="25146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42920" y="1628640"/>
            <a:ext cx="787572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bios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(No/Si): Nariz artificial (3/2), programa de cuidado de los catéteres venosos (1/4), estrategias de vigilancia (1/4), programa informatizado (1/4), política de restricción de antibióticos (2/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 los 5 centros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: (SI) devolución de los datos analizados en forma regular y periódic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) consumo de antibiótic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) microorganismos preval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) tasas de resistencia de los antibióticos a los microorganis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) tasas de utilización de los procedimien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) tasas de infección asocia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914400"/>
            <a:ext cx="3124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000000"/>
                </a:solidFill>
                <a:latin typeface="Times New Roman"/>
              </a:rPr>
              <a:t>Conclusione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1844640"/>
            <a:ext cx="8001000" cy="44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a diferencia más notable entre los dos períodos estuvo en el manejo de la información </a:t>
            </a:r>
            <a:r>
              <a:rPr b="1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tualizada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a vigilancia informatizada, permitió tener datos confiables, tasas exactas y los conocimientos actualizados necesarios para generar las intervenciones que cambian los resul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55640" y="260280"/>
            <a:ext cx="81327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990033"/>
                </a:solidFill>
                <a:latin typeface="Times New Roman"/>
              </a:rPr>
              <a:t>  </a:t>
            </a:r>
            <a:r>
              <a:rPr b="0" lang="es-ES_tradnl" sz="4200" spc="-1" strike="noStrike">
                <a:solidFill>
                  <a:srgbClr val="990033"/>
                </a:solidFill>
                <a:latin typeface="Times New Roman"/>
              </a:rPr>
              <a:t>PICAM de </a:t>
            </a:r>
            <a:r>
              <a:rPr b="1" lang="es-ES_tradnl" sz="3400" spc="-1" strike="noStrike">
                <a:solidFill>
                  <a:srgbClr val="990033"/>
                </a:solidFill>
                <a:latin typeface="Times New Roman"/>
              </a:rPr>
              <a:t>ITAES-SACAS</a:t>
            </a:r>
            <a:br>
              <a:rPr sz="4200"/>
            </a:br>
            <a:r>
              <a:rPr b="0" lang="es-ES_tradnl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Programa de Indicadores de Calidad en la Atención Médi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76360" y="2286000"/>
            <a:ext cx="6981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un programa voluntario y continu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 desarrollo permitirá tener información nacional sobre cómo son las cosas en nuestro paí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base para revalorizar las práct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 la institución participante le ofrece una oportunidad para el “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benchmarcking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990033"/>
                </a:solidFill>
                <a:latin typeface="Times New Roman"/>
              </a:rPr>
              <a:t>Indicadores PICA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58920" y="1557360"/>
            <a:ext cx="788508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azón de análisis por consul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azón de ecografías cada 1000 consul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% de consultas de guar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medio de días de estad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% de cesá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asa de mortalidad neonatal según peso al na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Índice de mortalidad/mortalidad esperada en UTI adul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% de egresos sin epicrisis a las 72 horas de al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% de turnos quirúrgicos suspendidos más de 24 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% de altas volunta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asa de accidentes de trabajo 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% de reingresos no programados dentro de las 72 hs.  por igual patolo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330033"/>
                </a:solidFill>
                <a:latin typeface="Times New Roman"/>
              </a:rPr>
              <a:t>La calidad es una dimensión multidisciplinari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os actos médicos se pueden med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os resultados se basan en evidencias, riesgos y probabilidades, por lo general conoc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unque el mismo curso de acción no siempre produce los mismos resul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ra hacer las cosas bien de entrada es necesario que concurran </a:t>
            </a:r>
            <a:r>
              <a:rPr b="1" i="1" lang="es-MX" sz="2800" spc="-1" strike="noStrike">
                <a:solidFill>
                  <a:srgbClr val="000000"/>
                </a:solidFill>
                <a:latin typeface="Arial"/>
              </a:rPr>
              <a:t>el conocimient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MX" sz="2800" spc="-1" strike="noStrike">
                <a:solidFill>
                  <a:srgbClr val="000000"/>
                </a:solidFill>
                <a:latin typeface="Arial"/>
              </a:rPr>
              <a:t>la habilidad, el método y la herramie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330033"/>
                </a:solidFill>
                <a:latin typeface="Times New Roman"/>
              </a:rPr>
              <a:t>Objetivos de calid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jorar la información para la toma de deci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uadro de Mando Integ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aber para qué la instrumentam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jorar la calidad institu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jorar los resultados económ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creditar la institución ante entidades evaluadoras: ITAES, ISO, ot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330033"/>
                </a:solidFill>
                <a:latin typeface="Times New Roman"/>
              </a:rPr>
              <a:t>Los componentes de la calid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77724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 cultura profesional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 alcanza  el acto médico y a la enferme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 información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al día y en las manos de quienes tienen la responsabilidad de la gest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s accione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para la mejorí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rganizar el equipo de trabaj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finir la audiencia y el propósito de la medi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tablecer los indicadores y los estánda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finir por escrito los criterios de la evalu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Hacer una prueba pilo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tablecer los índices de corre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330033"/>
                </a:solidFill>
                <a:latin typeface="Times New Roman"/>
              </a:rPr>
              <a:t>Dirección Médica y la informació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Equipo de trabajo interdisciplinario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Una Lic. en Admini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Una médica epidemiólo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Un médico informá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Un médico au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Una ingeniera de O y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Un Lic. en inform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s-MX" sz="4200" spc="-1" strike="noStrike">
                <a:solidFill>
                  <a:srgbClr val="330033"/>
                </a:solidFill>
                <a:latin typeface="Times New Roman"/>
              </a:rPr>
              <a:t>Cuadro de Mando Integr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ramienta escogida hace 9 meses para gestionar la estrateg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controlar un gran número de indicadores en el corto plaz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erte desvíos y errores en forma inmedi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identificar problemas d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 calid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 tomar decisiones orientadas a solucionar problema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l Cuadro de Mando Integr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l objetivo de medir el funcionamiento es: saber qué está pasando, aprender y si hace falta cambi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os números actualizados nos permiten ver la tendencia, ofrecen la oportunidad de analizar la situación y actuar rápid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os números están mensualmente en manos del Director del Hospital y de los Jefes de Servi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sultados del CMI en los primeros 6 mes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mento en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2400 días/cam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a ocupación del Hospital (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5,9% más que en 200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mento en 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10%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n la Internación  de Adultos durante el 2do semes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mento en el cumplimiento de turnos en los quirófanos en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27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jora en el horario de egreso de pacientes internados en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1 ho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minución de los rechazos de pacientes en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68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sde octubre de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jora sustantivas en la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comunicació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 los Servicios y en la incorporación de normativas emanadas por la Dirección Méd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330033"/>
                </a:solidFill>
                <a:latin typeface="Times New Roman"/>
              </a:rPr>
              <a:t>Organizació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56000" y="1844280"/>
            <a:ext cx="6130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mité de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mité de Ries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mité de Control de infe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mité de Déb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mité de Productos y tecn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mité de Ob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7T19:44:39Z</dcterms:created>
  <dc:creator>Ricardo Durlach</dc:creator>
  <dc:description/>
  <dc:language>en-US</dc:language>
  <cp:lastModifiedBy>C.P.C.E.C.A.B.A.</cp:lastModifiedBy>
  <dcterms:modified xsi:type="dcterms:W3CDTF">2006-05-04T22:37:26Z</dcterms:modified>
  <cp:revision>33</cp:revision>
  <dc:subject/>
  <dc:title>Calidad en el ámbito privado</dc:title>
</cp:coreProperties>
</file>