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D1F-3F23-44A9-BA15-9A37ECDA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0F3-3C0A-4A4F-AD00-86A8FE5F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DCB-F2C0-4DB2-BB1B-2AC7416D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B2C-DB94-45C6-88CC-259481FA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D195-FD3A-4BC7-8218-187A57B8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536F-FDE3-4E9D-B839-DF898FEA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EAEB-DAB8-49DD-B696-12BB5210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55C7-44BD-4A37-AAA1-6FE37D82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6773-B77A-431A-BEFD-3E01D835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6B8F-A841-4DE8-8690-389DC734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38D9-DF7A-4C8E-B038-58158601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F65-E578-4CA0-A38B-BAAA2184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61D3-F9D1-4B54-A3E2-4AC11C6A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0C35-4F9D-4E51-ABD7-022B2662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A0DD-8000-4596-AE5D-AD1F38B9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D0DB-D241-4061-8BDB-23EF66F5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839E-E1C2-4ADB-8DB4-3A93FB2E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E67-269E-4F47-8265-0D00B294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204-96E3-4658-BE9A-6189E3FF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1CE-C3E1-433D-B1B1-1EAD6189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EAE-34AD-439D-BE86-9973E08F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38B-6768-4F09-9DF5-663C5A3B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219-6778-47DD-8802-D0E57FE4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F4E-6632-4404-AC84-C99E00B6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42520" y="0"/>
            <a:ext cx="3636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ff3300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1160" y="4489560"/>
            <a:ext cx="623592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99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84556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90612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90612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90612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90612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90867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95936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3388-9DA2-41BD-969B-01A955AC3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542520" y="0"/>
            <a:ext cx="3636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ff3300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1160" y="4489560"/>
            <a:ext cx="623592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99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84556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90612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90612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90612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90612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90867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95936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33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CA2C-3CCB-438F-9A19-1B24074E0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10058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MX" sz="4800" spc="-1" strike="noStrike">
                <a:solidFill>
                  <a:srgbClr val="ffffcc"/>
                </a:solidFill>
                <a:latin typeface="Times New Roman"/>
              </a:rPr>
              <a:t>3ra JORNADA </a:t>
            </a:r>
            <a:br>
              <a:rPr sz="4800"/>
            </a:br>
            <a:r>
              <a:rPr b="1" lang="es-MX" sz="4800" spc="-1" strike="noStrike">
                <a:solidFill>
                  <a:srgbClr val="ffffcc"/>
                </a:solidFill>
                <a:latin typeface="Times New Roman"/>
              </a:rPr>
              <a:t>de ADMINISTRACION de SALUD </a:t>
            </a:r>
            <a:br>
              <a:rPr sz="4800"/>
            </a:br>
            <a:r>
              <a:rPr b="1" lang="es-MX" sz="4000" spc="-1" strike="noStrike">
                <a:solidFill>
                  <a:srgbClr val="ffffcc"/>
                </a:solidFill>
                <a:latin typeface="Times New Roman"/>
              </a:rPr>
              <a:t>Herramientas para una gestión </a:t>
            </a:r>
            <a:br>
              <a:rPr sz="4000"/>
            </a:br>
            <a:r>
              <a:rPr b="1" lang="es-MX" sz="4000" spc="-1" strike="noStrike">
                <a:solidFill>
                  <a:srgbClr val="ffffcc"/>
                </a:solidFill>
                <a:latin typeface="Times New Roman"/>
              </a:rPr>
              <a:t>efectiva en Salud</a:t>
            </a:r>
            <a:r>
              <a:rPr b="1" lang="es-MX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2520" y="641484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71600" y="4220280"/>
            <a:ext cx="581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Folio Md BT"/>
              </a:rPr>
              <a:t>Asignación de 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Folio Md BT"/>
              </a:rPr>
              <a:t>Gasto Prestac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351120"/>
            <a:ext cx="281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73240" y="1805040"/>
          <a:ext cx="781848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240" y="1805040"/>
                    <a:ext cx="781848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609480" y="38088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Crecimiento de la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Población Discapacita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1800" y="457200"/>
            <a:ext cx="9163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Relación Población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Tratamientos  VIH +</a:t>
            </a:r>
            <a:br>
              <a:rPr sz="4400"/>
            </a:br>
            <a:r>
              <a:rPr b="1" lang="en-US" sz="2400" spc="-1" strike="noStrike">
                <a:solidFill>
                  <a:srgbClr val="ffcc66"/>
                </a:solidFill>
                <a:latin typeface="Folio Md BT"/>
              </a:rPr>
              <a:t>(mensu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365560"/>
            <a:ext cx="9219960" cy="30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                  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    </a:t>
            </a: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Año          Población     </a:t>
            </a:r>
            <a:r>
              <a:rPr b="0" lang="es-ES_tradnl" sz="2700" spc="-1" strike="noStrike">
                <a:solidFill>
                  <a:srgbClr val="ffff66"/>
                </a:solidFill>
                <a:latin typeface="Folio Md BT"/>
              </a:rPr>
              <a:t>                        </a:t>
            </a:r>
            <a:r>
              <a:rPr b="0" lang="es-ES_tradnl" sz="2700" spc="-1" strike="noStrike">
                <a:solidFill>
                  <a:srgbClr val="ffccff"/>
                </a:solidFill>
                <a:latin typeface="Folio Md BT"/>
              </a:rPr>
              <a:t>VIH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cc66"/>
                </a:solidFill>
                <a:latin typeface="Folio Md BT"/>
              </a:rPr>
              <a:t>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Dic. 2003       359.766                              </a:t>
            </a:r>
            <a:r>
              <a:rPr b="0" lang="es-ES_tradnl" sz="2700" spc="-1" strike="noStrike">
                <a:solidFill>
                  <a:srgbClr val="ffccff"/>
                </a:solidFill>
                <a:latin typeface="Folio Md BT"/>
              </a:rPr>
              <a:t>341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Dic. 2004       376.774                             </a:t>
            </a:r>
            <a:r>
              <a:rPr b="0" lang="es-ES_tradnl" sz="2700" spc="-1" strike="noStrike">
                <a:solidFill>
                  <a:srgbClr val="99ff99"/>
                </a:solidFill>
                <a:latin typeface="Folio Md BT"/>
              </a:rPr>
              <a:t> </a:t>
            </a:r>
            <a:r>
              <a:rPr b="0" lang="es-ES_tradnl" sz="2700" spc="-1" strike="noStrike">
                <a:solidFill>
                  <a:srgbClr val="ffccff"/>
                </a:solidFill>
                <a:latin typeface="Folio Md BT"/>
              </a:rPr>
              <a:t>365 </a:t>
            </a:r>
            <a:r>
              <a:rPr b="0" lang="es-ES_tradnl" sz="2700" spc="-1" strike="noStrike">
                <a:solidFill>
                  <a:srgbClr val="99ff33"/>
                </a:solidFill>
                <a:latin typeface="Folio Md BT"/>
              </a:rPr>
              <a:t>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Dic. 2005       399.500                              </a:t>
            </a:r>
            <a:r>
              <a:rPr b="0" lang="es-ES_tradnl" sz="2700" spc="-1" strike="noStrike">
                <a:solidFill>
                  <a:srgbClr val="ffccff"/>
                </a:solidFill>
                <a:latin typeface="Folio Md BT"/>
              </a:rPr>
              <a:t>408   </a:t>
            </a:r>
            <a:r>
              <a:rPr b="0" lang="es-ES_tradnl" sz="2700" spc="-1" strike="noStrike">
                <a:solidFill>
                  <a:srgbClr val="ffff00"/>
                </a:solidFill>
                <a:latin typeface="Folio Md BT"/>
              </a:rPr>
              <a:t>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351120"/>
            <a:ext cx="281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5638680"/>
            <a:ext cx="1371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3880" y="4267080"/>
            <a:ext cx="1539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3300"/>
                </a:solidFill>
                <a:latin typeface="Folio Md BT"/>
              </a:rPr>
              <a:t>4.8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3300"/>
                </a:solidFill>
                <a:latin typeface="Folio Md BT"/>
              </a:rPr>
              <a:t>6.0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90080" y="5735520"/>
            <a:ext cx="115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85160" y="4191120"/>
            <a:ext cx="13874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ccff"/>
                </a:solidFill>
                <a:latin typeface="Folio Md BT"/>
              </a:rPr>
              <a:t> </a:t>
            </a:r>
            <a:r>
              <a:rPr b="1" lang="es-AR" sz="2700" spc="-1" strike="noStrike">
                <a:solidFill>
                  <a:srgbClr val="ffccff"/>
                </a:solidFill>
                <a:latin typeface="Folio Md BT"/>
              </a:rPr>
              <a:t>7.04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ccff"/>
                </a:solidFill>
                <a:latin typeface="Folio Md BT"/>
              </a:rPr>
              <a:t>11.78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6351120"/>
            <a:ext cx="281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73240" y="1805040"/>
          <a:ext cx="781848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240" y="1805040"/>
                    <a:ext cx="781848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09480" y="38088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Crecimiento de la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Población VIH 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1800" y="457200"/>
            <a:ext cx="9163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Relación Población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  Diabéticos en Trata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365560"/>
            <a:ext cx="9219960" cy="30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                  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    </a:t>
            </a: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Año          Población </a:t>
            </a:r>
            <a:r>
              <a:rPr b="0" lang="es-ES_tradnl" sz="2700" spc="-1" strike="noStrike">
                <a:solidFill>
                  <a:srgbClr val="ffff66"/>
                </a:solidFill>
                <a:latin typeface="Folio Md BT"/>
              </a:rPr>
              <a:t>                       </a:t>
            </a:r>
            <a:r>
              <a:rPr b="0" lang="es-ES_tradnl" sz="2700" spc="-1" strike="noStrike">
                <a:solidFill>
                  <a:srgbClr val="99ff99"/>
                </a:solidFill>
                <a:latin typeface="Folio Md BT"/>
              </a:rPr>
              <a:t> Diabétic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Dic. 2003       359.766                              </a:t>
            </a:r>
            <a:r>
              <a:rPr b="0" lang="es-ES_tradnl" sz="2700" spc="-1" strike="noStrike">
                <a:solidFill>
                  <a:srgbClr val="99ff99"/>
                </a:solidFill>
                <a:latin typeface="Folio Md BT"/>
              </a:rPr>
              <a:t>3.512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Dic. 2004       376.774                              </a:t>
            </a:r>
            <a:r>
              <a:rPr b="0" lang="es-ES_tradnl" sz="2700" spc="-1" strike="noStrike">
                <a:solidFill>
                  <a:srgbClr val="99ff99"/>
                </a:solidFill>
                <a:latin typeface="Folio Md BT"/>
              </a:rPr>
              <a:t>3.860</a:t>
            </a:r>
            <a:r>
              <a:rPr b="0" lang="es-ES_tradnl" sz="2700" spc="-1" strike="noStrike">
                <a:solidFill>
                  <a:srgbClr val="99ff33"/>
                </a:solidFill>
                <a:latin typeface="Folio Md BT"/>
              </a:rPr>
              <a:t>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Dic. 2005       399.500                            </a:t>
            </a:r>
            <a:r>
              <a:rPr b="0" lang="es-ES_tradnl" sz="2700" spc="-1" strike="noStrike">
                <a:solidFill>
                  <a:srgbClr val="99ff33"/>
                </a:solidFill>
                <a:latin typeface="Folio Md BT"/>
              </a:rPr>
              <a:t>  </a:t>
            </a:r>
            <a:r>
              <a:rPr b="0" lang="es-ES_tradnl" sz="2700" spc="-1" strike="noStrike">
                <a:solidFill>
                  <a:srgbClr val="99ff99"/>
                </a:solidFill>
                <a:latin typeface="Folio Md BT"/>
              </a:rPr>
              <a:t>4.494</a:t>
            </a:r>
            <a:r>
              <a:rPr b="0" lang="es-ES_tradnl" sz="2700" spc="-1" strike="noStrike">
                <a:solidFill>
                  <a:srgbClr val="99ff33"/>
                </a:solidFill>
                <a:latin typeface="Folio Md BT"/>
              </a:rPr>
              <a:t>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351120"/>
            <a:ext cx="281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5638680"/>
            <a:ext cx="1371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03880" y="4267080"/>
            <a:ext cx="1539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3300"/>
                </a:solidFill>
                <a:latin typeface="Folio Md BT"/>
              </a:rPr>
              <a:t>4.8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3300"/>
                </a:solidFill>
                <a:latin typeface="Folio Md BT"/>
              </a:rPr>
              <a:t>6.0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90080" y="5735520"/>
            <a:ext cx="115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85160" y="4191120"/>
            <a:ext cx="13874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99ff99"/>
                </a:solidFill>
                <a:latin typeface="Folio Md BT"/>
              </a:rPr>
              <a:t> </a:t>
            </a:r>
            <a:r>
              <a:rPr b="1" lang="es-AR" sz="2700" spc="-1" strike="noStrike">
                <a:solidFill>
                  <a:srgbClr val="99ff99"/>
                </a:solidFill>
                <a:latin typeface="Folio Md BT"/>
              </a:rPr>
              <a:t>9.9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99ff99"/>
                </a:solidFill>
                <a:latin typeface="Folio Md BT"/>
              </a:rPr>
              <a:t>16.42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6351120"/>
            <a:ext cx="281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73240" y="1805040"/>
          <a:ext cx="781848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240" y="1805040"/>
                    <a:ext cx="781848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609480" y="38088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Crecimiento de la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Población Diabét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914400"/>
            <a:ext cx="10058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SimSun"/>
              </a:rPr>
              <a:t> </a:t>
            </a:r>
            <a:r>
              <a:rPr b="1" lang="en-US" sz="5400" spc="-1" strike="noStrike">
                <a:solidFill>
                  <a:srgbClr val="ccffff"/>
                </a:solidFill>
                <a:latin typeface="SimSun"/>
              </a:rPr>
              <a:t>Las ESTRATEGIAS</a:t>
            </a:r>
            <a:br>
              <a:rPr sz="5400"/>
            </a:br>
            <a:r>
              <a:rPr b="1" lang="en-US" sz="5400" spc="-1" strike="noStrike">
                <a:solidFill>
                  <a:srgbClr val="ccffff"/>
                </a:solidFill>
                <a:latin typeface="SimSun"/>
              </a:rPr>
              <a:t>que lo trajeron</a:t>
            </a:r>
            <a:br>
              <a:rPr sz="5400"/>
            </a:br>
            <a:r>
              <a:rPr b="1" lang="en-US" sz="5400" spc="-1" strike="noStrike">
                <a:solidFill>
                  <a:srgbClr val="ccffff"/>
                </a:solidFill>
                <a:latin typeface="SimSun"/>
              </a:rPr>
              <a:t>hasta donde hoy está,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ccffff"/>
                </a:solidFill>
                <a:latin typeface="SimSun"/>
              </a:rPr>
              <a:t>No lo llevarán</a:t>
            </a:r>
            <a:br>
              <a:rPr sz="5400"/>
            </a:br>
            <a:r>
              <a:rPr b="1" lang="en-US" sz="5400" spc="-1" strike="noStrike">
                <a:solidFill>
                  <a:srgbClr val="ccffff"/>
                </a:solidFill>
                <a:latin typeface="SimSun"/>
              </a:rPr>
              <a:t>adónde quiere ir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351120"/>
            <a:ext cx="281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2520" y="641484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828800"/>
            <a:ext cx="9906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ookman Old Style"/>
              </a:rPr>
              <a:t>Desarrollo Médico Tecnológ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ookman Old Style"/>
              </a:rPr>
              <a:t>Cuidados más Inten. y Especializa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ookman Old Style"/>
              </a:rPr>
              <a:t>Medicina Defensiv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ookman Old Style"/>
              </a:rPr>
              <a:t>Nuevo Rol del Pacie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ookman Old Style"/>
              </a:rPr>
              <a:t>Accesibili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ookman Old Style"/>
              </a:rPr>
              <a:t>Costos Ocultos de la Inefici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ookman Old Style"/>
              </a:rPr>
              <a:t>Envejecimiento de la Pobl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ookman Old Style"/>
              </a:rPr>
              <a:t>Estilo de Vi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52280"/>
            <a:ext cx="9219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cc66"/>
                </a:solidFill>
                <a:latin typeface="Times New Roman"/>
              </a:rPr>
              <a:t>Algunos Determinantes d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cc66"/>
                </a:solidFill>
                <a:latin typeface="Times New Roman"/>
              </a:rPr>
              <a:t>Aumento del Gasto Prestacional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-165240" y="898560"/>
            <a:ext cx="1023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Folio Md BT"/>
              </a:rPr>
              <a:t>¿POR  QUÉ NOS ENFERMAMOS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2666880"/>
            <a:ext cx="767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Bookman Old Style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Bookman Old Style"/>
              </a:rPr>
              <a:t>Biología / Herencia          27%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8240" y="3352680"/>
            <a:ext cx="6995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Bookman Old Style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Bookman Old Style"/>
              </a:rPr>
              <a:t>El Medio Ambiente          19%  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5080" y="4038480"/>
            <a:ext cx="637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Bookman Old Style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Bookman Old Style"/>
              </a:rPr>
              <a:t>El Sistema Sanitario        11%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76960" y="1981080"/>
            <a:ext cx="6216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Bookman Old Style"/>
              </a:rPr>
              <a:t> </a:t>
            </a:r>
            <a:r>
              <a:rPr b="0" lang="en-US" sz="3400" spc="-1" strike="noStrike">
                <a:solidFill>
                  <a:srgbClr val="dddddd"/>
                </a:solidFill>
                <a:latin typeface="Bookman Old Style"/>
              </a:rPr>
              <a:t>Estilo de Vida                  43%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2520" y="641484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351120"/>
            <a:ext cx="281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22440" y="990720"/>
            <a:ext cx="6645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380880" y="714240"/>
            <a:ext cx="1074420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00"/>
                </a:solidFill>
                <a:latin typeface="Footlight MT Light"/>
              </a:rPr>
              <a:t>“</a:t>
            </a:r>
            <a:r>
              <a:rPr b="1" lang="es-AR" sz="4400" spc="-1" strike="noStrike">
                <a:solidFill>
                  <a:srgbClr val="ffff00"/>
                </a:solidFill>
                <a:latin typeface="Footlight MT Light"/>
              </a:rPr>
              <a:t>Hay dos clases de persona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00"/>
                </a:solidFill>
                <a:latin typeface="Footlight MT Light"/>
              </a:rPr>
              <a:t>Las que hacen el trabaj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00"/>
                </a:solidFill>
                <a:latin typeface="Footlight MT Light"/>
              </a:rPr>
              <a:t>y las que se adjudican el mérit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00"/>
                </a:solidFill>
                <a:latin typeface="Footlight MT Light"/>
              </a:rPr>
              <a:t>Trate de estar en el primer grup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00"/>
                </a:solidFill>
                <a:latin typeface="Footlight MT Light"/>
              </a:rPr>
              <a:t>hay menos competencia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4897440"/>
            <a:ext cx="2301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4240" y="4821120"/>
            <a:ext cx="237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37240" y="5119560"/>
            <a:ext cx="33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Folio Md BT"/>
              </a:rPr>
              <a:t>Indira Gand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2520" y="641484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0098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0" spc="-1" strike="noStrike">
                <a:solidFill>
                  <a:srgbClr val="ffcc66"/>
                </a:solidFill>
                <a:latin typeface="Folio Md BT"/>
              </a:rPr>
              <a:t>Much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0" spc="-1" strike="noStrike">
                <a:solidFill>
                  <a:srgbClr val="ffcc66"/>
                </a:solidFill>
                <a:latin typeface="Folio Md BT"/>
              </a:rPr>
              <a:t>Gracia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07920" y="2489760"/>
            <a:ext cx="87267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olio Md BT"/>
              </a:rPr>
              <a:t>POBLACIÓN        402.000 Beneficiarios</a:t>
            </a:r>
            <a:r>
              <a:rPr b="0" lang="en-US" sz="2700" spc="-1" strike="noStrike">
                <a:solidFill>
                  <a:srgbClr val="ffff00"/>
                </a:solidFill>
                <a:latin typeface="Folio Md BT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Folio Md BT"/>
              </a:rPr>
              <a:t>                                                    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Folio Md BT"/>
              </a:rPr>
              <a:t>(MARZO 2006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Folio Md BT"/>
              </a:rPr>
              <a:t>    </a:t>
            </a:r>
            <a:r>
              <a:rPr b="0" lang="en-US" sz="2700" spc="-1" strike="noStrike">
                <a:solidFill>
                  <a:srgbClr val="ffffcc"/>
                </a:solidFill>
                <a:latin typeface="Folio Md BT"/>
              </a:rPr>
              <a:t>Área Metropolitana       204.000 Beneficiarios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Folio Md BT"/>
              </a:rPr>
              <a:t>    </a:t>
            </a:r>
            <a:r>
              <a:rPr b="0" lang="en-US" sz="2700" spc="-1" strike="noStrike">
                <a:solidFill>
                  <a:srgbClr val="ffffcc"/>
                </a:solidFill>
                <a:latin typeface="Folio Md BT"/>
              </a:rPr>
              <a:t>Interior del País            198.000 Beneficiarios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65400" y="685800"/>
            <a:ext cx="600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cc66"/>
                </a:solidFill>
                <a:latin typeface="Folio Md BT"/>
              </a:rPr>
              <a:t>Unión Persona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2520" y="644472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80880"/>
            <a:ext cx="10134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Composición de la Pobl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65120" y="1846440"/>
            <a:ext cx="764568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                         </a:t>
            </a:r>
            <a:r>
              <a:rPr b="0" lang="es-ES_tradnl" sz="2700" spc="-1" strike="noStrike">
                <a:solidFill>
                  <a:srgbClr val="ffff00"/>
                </a:solidFill>
                <a:latin typeface="Folio Md BT"/>
              </a:rPr>
              <a:t>Beneficiari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Folio Md BT"/>
              </a:rPr>
              <a:t>       </a:t>
            </a:r>
            <a:r>
              <a:rPr b="0" lang="es-ES_tradnl" sz="2700" spc="-1" strike="noStrike">
                <a:solidFill>
                  <a:srgbClr val="ffff00"/>
                </a:solidFill>
                <a:latin typeface="Folio Md BT"/>
              </a:rPr>
              <a:t>Titulares                                    161.400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Folio Md BT"/>
              </a:rPr>
              <a:t>       </a:t>
            </a:r>
            <a:r>
              <a:rPr b="0" lang="es-ES_tradnl" sz="2700" spc="-1" strike="noStrike">
                <a:solidFill>
                  <a:srgbClr val="ffff00"/>
                </a:solidFill>
                <a:latin typeface="Folio Md BT"/>
              </a:rPr>
              <a:t>Familiares                                  240.600</a:t>
            </a: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   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Folio Md BT"/>
              </a:rPr>
              <a:t>Grupo Familiar Primario     2.49</a:t>
            </a:r>
            <a:r>
              <a:rPr b="0" lang="es-ES_tradnl" sz="2700" spc="-1" strike="noStrike">
                <a:solidFill>
                  <a:srgbClr val="ffff00"/>
                </a:solidFill>
                <a:latin typeface="Folio Md BT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cc"/>
                </a:solidFill>
                <a:latin typeface="Folio Md BT"/>
              </a:rPr>
              <a:t>Directos                                     165.900      41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cc"/>
                </a:solidFill>
                <a:latin typeface="Folio Md BT"/>
              </a:rPr>
              <a:t>Opción  y  Adherentes               236.100      59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2520" y="641484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38400" y="762120"/>
            <a:ext cx="7511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2520" y="641484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048040"/>
            <a:ext cx="9372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Folio Md BT"/>
              </a:rPr>
              <a:t>Clínicas, Sanatorios, Hospitales, Cent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Folio Md BT"/>
              </a:rPr>
              <a:t>Inst. Quirúrgico del Callao – Centro Méd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Folio Md BT"/>
              </a:rPr>
              <a:t>Honorarios Médicos de Carti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Folio Md BT"/>
              </a:rPr>
              <a:t>Ambulancias, Traslados, Aér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Folio Md BT"/>
              </a:rPr>
              <a:t>Farmacias, Medic. Especial, Vacuna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112680"/>
            <a:ext cx="689940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Folio Md BT"/>
              </a:rPr>
              <a:t>Gasto Prestacion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Folio Md BT"/>
              </a:rPr>
              <a:t>Área Metropolit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38400" y="762120"/>
            <a:ext cx="7511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2520" y="641484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112680"/>
            <a:ext cx="689940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Folio Md BT"/>
              </a:rPr>
              <a:t>Gasto Prestacion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Folio Md BT"/>
              </a:rPr>
              <a:t>Área Metropolit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984680"/>
            <a:ext cx="9372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Folio Md BT"/>
              </a:rPr>
              <a:t>Odontolog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Folio Md BT"/>
              </a:rPr>
              <a:t>Salud Men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Folio Md BT"/>
              </a:rPr>
              <a:t>Laboratorio, Imágenes, Radioterapia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Folio Md BT"/>
              </a:rPr>
              <a:t>Protesis, Ortesis, Marcapaso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Folio Md BT"/>
              </a:rPr>
              <a:t>Discapac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Folio Md BT"/>
              </a:rPr>
              <a:t>VI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6351120"/>
            <a:ext cx="281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1219320"/>
          <a:ext cx="9677520" cy="52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967752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828800" y="112680"/>
            <a:ext cx="689940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Folio Md BT"/>
              </a:rPr>
              <a:t>Gasto Prestacion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Folio Md BT"/>
              </a:rPr>
              <a:t>Área Metropolit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1800" y="457200"/>
            <a:ext cx="9163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Relación Población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 Tratamientos Oncológicos</a:t>
            </a:r>
            <a:br>
              <a:rPr sz="4400"/>
            </a:br>
            <a:r>
              <a:rPr b="1" lang="en-US" sz="2400" spc="-1" strike="noStrike">
                <a:solidFill>
                  <a:srgbClr val="ffcc66"/>
                </a:solidFill>
                <a:latin typeface="Folio Md BT"/>
              </a:rPr>
              <a:t>(mensu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365560"/>
            <a:ext cx="9219960" cy="30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                  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    </a:t>
            </a: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Año          Población    </a:t>
            </a:r>
            <a:r>
              <a:rPr b="0" lang="es-ES_tradnl" sz="2700" spc="-1" strike="noStrike">
                <a:solidFill>
                  <a:srgbClr val="ffff66"/>
                </a:solidFill>
                <a:latin typeface="Folio Md BT"/>
              </a:rPr>
              <a:t>                  </a:t>
            </a:r>
            <a:r>
              <a:rPr b="0" lang="es-ES_tradnl" sz="2700" spc="-1" strike="noStrike">
                <a:solidFill>
                  <a:srgbClr val="66ffff"/>
                </a:solidFill>
                <a:latin typeface="Folio Md BT"/>
              </a:rPr>
              <a:t>Oncológic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Dic. 2003       359.766                              </a:t>
            </a:r>
            <a:r>
              <a:rPr b="0" lang="es-ES_tradnl" sz="2700" spc="-1" strike="noStrike">
                <a:solidFill>
                  <a:srgbClr val="66ffff"/>
                </a:solidFill>
                <a:latin typeface="Folio Md BT"/>
              </a:rPr>
              <a:t>450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Dic. 2004       376.774                              </a:t>
            </a:r>
            <a:r>
              <a:rPr b="0" lang="es-ES_tradnl" sz="2700" spc="-1" strike="noStrike">
                <a:solidFill>
                  <a:srgbClr val="66ffff"/>
                </a:solidFill>
                <a:latin typeface="Folio Md BT"/>
              </a:rPr>
              <a:t>643</a:t>
            </a:r>
            <a:r>
              <a:rPr b="0" lang="es-ES_tradnl" sz="2700" spc="-1" strike="noStrike">
                <a:solidFill>
                  <a:srgbClr val="99ff33"/>
                </a:solidFill>
                <a:latin typeface="Folio Md BT"/>
              </a:rPr>
              <a:t>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Dic. 2005       399.500                              </a:t>
            </a:r>
            <a:r>
              <a:rPr b="0" lang="es-ES_tradnl" sz="2700" spc="-1" strike="noStrike">
                <a:solidFill>
                  <a:srgbClr val="66ffff"/>
                </a:solidFill>
                <a:latin typeface="Folio Md BT"/>
              </a:rPr>
              <a:t>898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351120"/>
            <a:ext cx="281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5638680"/>
            <a:ext cx="1371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03880" y="4267080"/>
            <a:ext cx="1539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3300"/>
                </a:solidFill>
                <a:latin typeface="Folio Md BT"/>
              </a:rPr>
              <a:t>4.8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3300"/>
                </a:solidFill>
                <a:latin typeface="Folio Md BT"/>
              </a:rPr>
              <a:t>6.0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90080" y="5735520"/>
            <a:ext cx="115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85160" y="4191120"/>
            <a:ext cx="13874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66ffff"/>
                </a:solidFill>
                <a:latin typeface="Folio Md BT"/>
              </a:rPr>
              <a:t>42.9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66ffff"/>
                </a:solidFill>
                <a:latin typeface="Folio Md BT"/>
              </a:rPr>
              <a:t>39.6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351120"/>
            <a:ext cx="281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73240" y="1805040"/>
          <a:ext cx="781848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240" y="1805040"/>
                    <a:ext cx="781848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09480" y="38088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Crecimiento de la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Población Oncológ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61800" y="457200"/>
            <a:ext cx="9163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Relación Población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Folio Md BT"/>
              </a:rPr>
              <a:t>  Discapac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365560"/>
            <a:ext cx="9219960" cy="30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                  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    </a:t>
            </a: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Año          Población     </a:t>
            </a:r>
            <a:r>
              <a:rPr b="0" lang="es-ES_tradnl" sz="2700" spc="-1" strike="noStrike">
                <a:solidFill>
                  <a:srgbClr val="ffff66"/>
                </a:solidFill>
                <a:latin typeface="Folio Md BT"/>
              </a:rPr>
              <a:t>               </a:t>
            </a:r>
            <a:r>
              <a:rPr b="0" lang="es-ES_tradnl" sz="2700" spc="-1" strike="noStrike">
                <a:solidFill>
                  <a:srgbClr val="ffff00"/>
                </a:solidFill>
                <a:latin typeface="Folio Md BT"/>
              </a:rPr>
              <a:t>Discapacitad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cc66"/>
                </a:solidFill>
                <a:latin typeface="Folio Md BT"/>
              </a:rPr>
              <a:t>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Dic. 2003       359.766                              </a:t>
            </a:r>
            <a:r>
              <a:rPr b="0" lang="es-ES_tradnl" sz="2700" spc="-1" strike="noStrike">
                <a:solidFill>
                  <a:srgbClr val="ffff00"/>
                </a:solidFill>
                <a:latin typeface="Folio Md BT"/>
              </a:rPr>
              <a:t>745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Dic. 2004       376.774                             </a:t>
            </a:r>
            <a:r>
              <a:rPr b="0" lang="es-ES_tradnl" sz="2700" spc="-1" strike="noStrike">
                <a:solidFill>
                  <a:srgbClr val="99ff99"/>
                </a:solidFill>
                <a:latin typeface="Folio Md BT"/>
              </a:rPr>
              <a:t> </a:t>
            </a:r>
            <a:r>
              <a:rPr b="0" lang="es-ES_tradnl" sz="2700" spc="-1" strike="noStrike">
                <a:solidFill>
                  <a:srgbClr val="ffff00"/>
                </a:solidFill>
                <a:latin typeface="Folio Md BT"/>
              </a:rPr>
              <a:t>914</a:t>
            </a:r>
            <a:r>
              <a:rPr b="0" lang="es-ES_tradnl" sz="2700" spc="-1" strike="noStrike">
                <a:solidFill>
                  <a:srgbClr val="99ff33"/>
                </a:solidFill>
                <a:latin typeface="Folio Md BT"/>
              </a:rPr>
              <a:t>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Folio Md BT"/>
              </a:rPr>
              <a:t>Dic. 2005       399.500                             </a:t>
            </a:r>
            <a:r>
              <a:rPr b="0" lang="es-ES_tradnl" sz="2700" spc="-1" strike="noStrike">
                <a:solidFill>
                  <a:srgbClr val="ffff00"/>
                </a:solidFill>
                <a:latin typeface="Folio Md BT"/>
              </a:rPr>
              <a:t>1029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351120"/>
            <a:ext cx="281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Folio Md BT"/>
              </a:rPr>
              <a:t>Lic. S. Cassinot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5638680"/>
            <a:ext cx="1371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03880" y="4267080"/>
            <a:ext cx="1539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3300"/>
                </a:solidFill>
                <a:latin typeface="Folio Md BT"/>
              </a:rPr>
              <a:t>4.8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3300"/>
                </a:solidFill>
                <a:latin typeface="Folio Md BT"/>
              </a:rPr>
              <a:t>6.0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90080" y="5735520"/>
            <a:ext cx="115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85160" y="4191120"/>
            <a:ext cx="13874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ff00"/>
                </a:solidFill>
                <a:latin typeface="Folio Md BT"/>
              </a:rPr>
              <a:t>22.7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ff00"/>
                </a:solidFill>
                <a:latin typeface="Folio Md BT"/>
              </a:rPr>
              <a:t>12.6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14:44:00Z</dcterms:created>
  <dc:creator>Instituto Quirurgico del Callao</dc:creator>
  <dc:description/>
  <dc:language>en-US</dc:language>
  <cp:lastModifiedBy>C.P.C.E.C.A.B.A.</cp:lastModifiedBy>
  <cp:lastPrinted>1998-05-07T18:23:22Z</cp:lastPrinted>
  <dcterms:modified xsi:type="dcterms:W3CDTF">2006-05-04T22:38:00Z</dcterms:modified>
  <cp:revision>151</cp:revision>
  <dc:subject/>
  <dc:title>Sin título de diapositiva</dc:title>
</cp:coreProperties>
</file>