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8D6-B2F7-4066-A942-352487A7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BFB-9D2F-45CA-865B-E01F041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80B-8E70-4ADE-8DE4-E35D4D91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61D-CA7E-4E92-8284-DDAF9190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56E4-E0BB-4738-946C-F0EBA673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B50F-83D1-4C4F-8431-5C9E91A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27C-4393-4F44-BAD8-F2225AB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7AA-25B0-44B8-9996-7F98306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7DCA-A84C-4D10-92B1-E6D9F54A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B223-0D71-4F29-9FCD-AD97DE4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73A2-E205-449F-A4E7-B29C145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F6C-ED84-47DE-A37D-17157AD1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92DC-4DD2-48B7-9278-10A4C65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B340-28E7-4F0D-8CA2-C5D5968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5C10-02A3-4D64-B8C4-3BE57E8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5690-05A0-4E05-84A5-89388690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11E0-688C-4426-936E-98D2BEFE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6A2-ED53-4797-AA91-E82143A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557-23DD-4084-B87E-92C03ACB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1EE-5689-4C00-ABED-CED6B1A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D05-99F1-49E7-87C2-24AEDBD4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801-6727-4BA8-9808-7E23BBE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F80-04FA-4918-BEA9-9D8C14C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CDD-B3EE-4DBE-ACE6-5C12169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87C-1506-4476-9C07-9C0334400C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498D-A507-4785-947B-54FA0D0820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III ENCUENTRO DE JOVENES PROFESIONALES EN CIENCIAS ECONOMIC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SOCIATIVIDAD Y FORMACION DE ESTUDIOS PROFES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7-05-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SENTACION DEL DR.ROBERTO SAMBUCCE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NTREPROYECTO DE HONORARIOS MINIMOS SUGERI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828440" y="220968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ADO POR LA COMISION DE PROBLEMATICA DE LOS PEQUEÑOS Y MEDIANOS ESTUDIOS PROFESIONALES Y EN ANALISISAVANZADO  POR EL CPCECA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Honorarios minimos sugerido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mínimo ,orientativo y referen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mentación en los ámbitros más frecuentes de la labor de los profesionales: ( Societario, administrativo-contable, auditoría, tributario, laboral – previsional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signacion de Modulos por cada seg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paracion en tareas de alta, mediana y baja complejida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Información para presupuestar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trevistar colaboradores de la empres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formacion detallada de todas las tareas a las que nos comprometem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uniones en la empre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alisis del tema en el estudio ( entre todos los que van a participar 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Bases de la presupuestacion ( estudio previo 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alisis de tiempos  ( horas ) en los distintos niveles ( socio-ayudantes- cadete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ado de urgencia del trabajo y su relación con el resto de tareas actuale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ortancia del asunto y la especialización requer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stos infraestructura ( ¿ tenemos que incorporar hardware o software ? 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empos de traslado a las oficinas del cliente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773400" y="6553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BASES DE LA PRESUPUESTACION ( para propuesta escrita 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se física de prestacion del servicio ( tareas en  empresa y tareas en estudio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recuencia de visitas al ciente y tiempo de las mismas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de todas las tareas a cumplir ( con el mayor grado de detall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orma de pago de nuestros servicios y su actualiz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Ejemplos de presupuestación( so-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ietaria/administrativo contable)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520" y="1752480"/>
          <a:ext cx="7848000" cy="5387760"/>
        </p:xfrm>
        <a:graphic>
          <a:graphicData uri="http://schemas.openxmlformats.org/drawingml/2006/table">
            <a:tbl>
              <a:tblPr/>
              <a:tblGrid>
                <a:gridCol w="2154240"/>
                <a:gridCol w="1769760"/>
                <a:gridCol w="1308240"/>
                <a:gridCol w="1307880"/>
                <a:gridCol w="130788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módu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alt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medi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baj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titución de socie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paración de estados contables anu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paración de estados cont 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isis / proyecc. de est. con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rtifica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Ejemplos de presupuestación( auditorí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22520"/>
          <a:ext cx="7772400" cy="52354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1295640"/>
                <a:gridCol w="1295280"/>
                <a:gridCol w="12952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módu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alt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medi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baj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 chica c/ pocas opera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 chica con  cierto volumen de opera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 chica en crecimi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d. Anterior / c sistemas desarroll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 mediana /procesos compu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Ejemplos de presupuestación( tributario- mensual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600200"/>
          <a:ext cx="7772400" cy="4211640"/>
        </p:xfrm>
        <a:graphic>
          <a:graphicData uri="http://schemas.openxmlformats.org/drawingml/2006/table">
            <a:tbl>
              <a:tblPr/>
              <a:tblGrid>
                <a:gridCol w="2133360"/>
                <a:gridCol w="1752840"/>
                <a:gridCol w="1295280"/>
                <a:gridCol w="1295280"/>
                <a:gridCol w="12956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módu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alt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medi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baj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. IIBB loc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. IIBB multila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. CO. 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 . V. A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tención y percepción loc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Ejemplos de presupuestación( tributario- anual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05120"/>
          <a:ext cx="7772400" cy="47242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1295280"/>
                <a:gridCol w="1295640"/>
                <a:gridCol w="12952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módu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alt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medi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baj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. Ganancias personas fís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. Bienes Personal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nancias personas juríd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nancia mínima presun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venio multi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Ejemplos de presupuestación( laboral y previsional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1676520"/>
          <a:ext cx="7696080" cy="5556240"/>
        </p:xfrm>
        <a:graphic>
          <a:graphicData uri="http://schemas.openxmlformats.org/drawingml/2006/table">
            <a:tbl>
              <a:tblPr/>
              <a:tblGrid>
                <a:gridCol w="2057400"/>
                <a:gridCol w="1752480"/>
                <a:gridCol w="1295640"/>
                <a:gridCol w="1295280"/>
                <a:gridCol w="12952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módu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alt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medi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ódulos baja comple- j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quidación men- sual de sueldos y cargas sociales ( hasta 10 empl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dem anterior ( de 11 a 40 empl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cripción AFIP  emplea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tas y bajas previsionales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ORGANIZACIÓN DEL ESTUDIO PROFE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nálisis individual de cada profe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aluación de cada una de las herramientas disponi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fraestructura edili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cursos human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cursos en computación y 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lientel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iclos en la relación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 Profesional / Client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iclo inicial ( seducción- “charming”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( vida intermedia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 Fin de la relación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Proyectando el estudio profe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ses estructurales de desarrollo profesional ( iniciales y planeadas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rategias de crecimiento : ( Crecimiento interno y desarrollo de la clientela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Planear Estrategias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a llegar a algún lado , debemos saber de donde  partimos y hacia dónde queremos dirigirnos : configurar  una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y tratar de aplicarl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metas a  lograr con nuestro estudio deben definirse en forma racional e irse actualizando en el tiemp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¿ Como hacer los planes 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ales son mis negocios actuales ( En qué y en dónde trabajo : cómo me encuentro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 partes o segmentos de mercado me interesan ( Estudiar el mercado a donde voy a dirigirm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al será mi estratégia para llegar a ell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ciones concretas a realizar ( Plane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BASES DE NUESTRA ACTUACIO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portar conocimientos y ENFOQUES espe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estar ayuda en el desarrollo de las empresas ( tanto en los aspectos tradicionales : contabilidad, auditoría, impuestos, como en los no tradicionales, nuestro trabajo correctamente efectuado, le sirve al empresario )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portar un punto de vista imparcial ( La técnica nos avala , nuestro buen juicio nos respalda 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Honorarios- fijacion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e los mism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A ESTABLECER LOS HONOR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t 21 Codigo de ETICA dice que se debe atender 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la naturaleza e importancia del servicio pr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el tiempo insum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la responsabilidad involuc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las disposiciones legales vigentes (a tener en cue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Monto a establecer como contraprestacion del Servic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Costo de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restación del 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Precio del mercado ( en relación con la situación de la demanda de servicios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Valorizacion personal- c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Satisfaccion del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Determinación del costo del servic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estos a considerar dentro del cos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d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udiante universit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fesional JUN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fesional Semisen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fesional SEN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itular / Asociado del EST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9:32:12Z</dcterms:created>
  <dc:creator>user</dc:creator>
  <dc:description/>
  <dc:language>en-US</dc:language>
  <cp:lastModifiedBy>Congresos y Eventos</cp:lastModifiedBy>
  <dcterms:modified xsi:type="dcterms:W3CDTF">2007-05-07T13:01:25Z</dcterms:modified>
  <cp:revision>68</cp:revision>
  <dc:subject/>
  <dc:title>Honorarios Profesionales Alternativas para su estimaciòn</dc:title>
</cp:coreProperties>
</file>