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24AB-A0E4-4441-80B3-64B3A2B4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E70-1C88-44A6-86F7-EB5AAC55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AF0-1461-4819-A6E2-A6C65B43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2DD-46AE-4B9A-8924-1E92DEB6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2BB-CAED-45D7-ADB1-52C25A31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46C2-23BF-4D0F-821E-200D1D6E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604-1F30-4390-ACA6-B3D02183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CF5A-E90A-4D5A-8057-75CB8020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FD86-E9DD-4E37-BAE3-961BE958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359-63F4-434F-AA48-37B59F6E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939-DC4F-496C-8D4B-6F950FE5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21C-F2F5-46A6-8C0D-64A3CD7C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424C-72C2-482C-978E-F1053353C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938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59920" y="0"/>
            <a:ext cx="784080" cy="9144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66680" cy="9129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Año 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6668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ff"/>
                </a:solidFill>
                <a:uFillTx/>
                <a:latin typeface="Times New Roman"/>
              </a:rPr>
              <a:t>Pro</a:t>
            </a: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grama de </a:t>
            </a:r>
            <a:r>
              <a:rPr b="1" lang="es-ES" sz="4000" spc="-1" strike="noStrike" u="sng">
                <a:solidFill>
                  <a:srgbClr val="ffffff"/>
                </a:solidFill>
                <a:uFillTx/>
                <a:latin typeface="Times New Roman"/>
              </a:rPr>
              <a:t>Di</a:t>
            </a: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fusión </a:t>
            </a:r>
            <a:r>
              <a:rPr b="1" lang="es-ES" sz="4000" spc="-1" strike="noStrike" u="sng">
                <a:solidFill>
                  <a:srgbClr val="ffffff"/>
                </a:solidFill>
                <a:uFillTx/>
                <a:latin typeface="Times New Roman"/>
              </a:rPr>
              <a:t>Bur</a:t>
            </a: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sátil  PRO.DI.B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5320" y="1447920"/>
            <a:ext cx="34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</a:rPr>
              <a:t>MERCADO DE VALORES DE BUENOS AIRES M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1000" y="144792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</a:rPr>
              <a:t>INSTITUTO ARGENTINO DE MERCADO DE CAPITALES IA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152280"/>
            <a:ext cx="1376280" cy="1181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48280" y="171360"/>
            <a:ext cx="979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16360" y="-36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.DI.B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El Programa de Difusión Bursátil (PRO.DI.BUR.) que realiza el Mercado de Valores de Buenos Aires S.A. (MERVAL), a través del Instituto Argentino de Mercado de Capitales (IAMC), consiste en una simulación bursátil vía Internet que ha sido técnicamente desarrollada y funciona bajo la responsabilidad de la Caja de Valores S.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El Programa es gratuito, los ganadores del certamen reciben premios y becas de estudio y se realiza en las siguientes versiones durante el añ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olegios secundarios (jun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Universidades (noviemb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nversores (marzo y jul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Durante la simulación, cada participante puede operar con el sistema vía Internet durante un tiempo determinado, comenzando con un monto de dinero virtual y respetando un reglamento operativo especialmente diseñado para ello. La simulación está planteada como un certamen, generándose a lo largo de la misma un ranking según el valor de la cartera de cada participa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.DI.B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99072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9144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Crecimiento del Pr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741320"/>
            <a:ext cx="830592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9144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Crecimiento del Progr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.DI.B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4515120" cy="3136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67400" y="2819520"/>
            <a:ext cx="4348080" cy="3146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2133720"/>
            <a:ext cx="358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133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.Di.Bur. Coleg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2152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.Di.Bur. Univers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.DI.B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9144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Simulaciones durante el año 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1120" y="1600200"/>
            <a:ext cx="77724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Inversores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Inscripción: 12 febrero al 5 mar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imulación: 12 al 26 marzo</a:t>
            </a:r>
            <a:r>
              <a:rPr b="1" lang="es-ES" sz="1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Colegios Secund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Inscripción: 9 al 29 abr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imulación: 28 mayo al 19 ju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Inversores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Inscripción: 10 julio al 5 ago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imulación: 21 agosto al 4 septie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Universidades y Consejos Profes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Inscripción: 17 al 30 septie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imulación: 22 octubre al 12 novie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Personal de Instituciones del Sistema Bursátil y Af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icie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1066680"/>
            <a:ext cx="8610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clarado de interés educativ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erio de Educación, Ciencia y Tecnolog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ón General de Cultura y Educación de la Provincia de Buenos Ai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ría de Educación del Gobierno de la Ciudad de Buenos Ai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erio de Educación, Cultura, Ciencia y Tecnología de la Provincia del Cha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erio de Educación Programa Planeamiento Educativo de la Provincia de Sal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ría de Estado de Educación de la Provincia de Tucumá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ción General de Escuelas del Gobierno de la Provincia de Mendo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ámara de Diputados de la Provincia de San Ju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erio de Educación de la Provincia de Santa F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.DI.B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.DI.B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99072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1523880"/>
            <a:ext cx="7993080" cy="38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CHAS GRA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a mayor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eléfono: (54 11) 4316-60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Mail: prodibur@iamc.sba.com.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Web: http://prodibur.sba.com.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Web IAMC: www.iamc.sba.com.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3:56:00Z</dcterms:created>
  <dc:creator>ppicon</dc:creator>
  <dc:description/>
  <dc:language>en-US</dc:language>
  <cp:lastModifiedBy>Congresos y Eventos</cp:lastModifiedBy>
  <cp:lastPrinted>2007-05-03T18:05:43Z</cp:lastPrinted>
  <dcterms:modified xsi:type="dcterms:W3CDTF">2007-05-03T18:06:23Z</dcterms:modified>
  <cp:revision>58</cp:revision>
  <dc:subject/>
  <dc:title>PowerPoint Presentation</dc:title>
</cp:coreProperties>
</file>