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95CE-4AD5-466B-A829-9FF904EE6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1440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160" y="7283880"/>
            <a:ext cx="1440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68B6-7ACA-422E-AA05-4636FE907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160" y="728388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720" y="728388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C3A2-F3B5-472D-BD9D-7382A6085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200" y="674352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880" y="674352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160" y="728388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200" y="728388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7880" y="728388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CE08-5713-4EDA-BE43-110AC0E7E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802-9930-4963-BCE3-BA89964E6F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160" y="6743520"/>
            <a:ext cx="1440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F7A-4B4D-4328-875F-B5E310D0A1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1440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E4C-0908-43C9-87C4-5660A675F4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851-C6CD-48C8-A09D-E414CAAE74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D2B-98E6-4523-B120-B83321A6ED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0440" y="1881000"/>
            <a:ext cx="8763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3E6-E199-414C-BD6A-B39C5933A4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160" y="728388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297-9EA9-4F73-B76F-64A53260A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160" y="6743520"/>
            <a:ext cx="1440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21A3-FFF7-41C7-BE97-186F08705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" y="728388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815-03FF-4D7B-B24F-7D533CB7D2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160" y="7283880"/>
            <a:ext cx="1440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416-E5AD-4EDD-8343-A285F28A38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1440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160" y="7283880"/>
            <a:ext cx="1440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01B-46E2-4774-B78E-20756608CB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160" y="728388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" y="728388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E3F-3A1C-4F5C-93FD-EFAF733EB1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200" y="674352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80" y="674352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160" y="728388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200" y="728388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7880" y="7283880"/>
            <a:ext cx="432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2F5-CFE4-47EC-94EE-913B286CCD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1440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1B51-108E-4B7D-B9A5-DB8F5EE8C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93D2-99A7-4ECD-817C-42D06F4FE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FD7B-5C43-4E0B-8AC6-E144857C9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0440" y="1881000"/>
            <a:ext cx="8763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7116-EE64-4B4A-A0F0-9135F1991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160" y="728388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F283-76F3-4C2C-B2B0-760CDD902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10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" y="728388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EACA-6C22-4AB7-B0A6-FB6658AE5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16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" y="6743520"/>
            <a:ext cx="684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8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160" y="7283880"/>
            <a:ext cx="14400" cy="4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124F-2C09-44D9-9C5C-264B52E06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20040" y="6499080"/>
            <a:ext cx="609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F074-6C6D-42E9-951B-DD8BD38C788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74760" y="1600200"/>
            <a:ext cx="846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858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536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66880" indent="-22392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66880" indent="-22392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66880" indent="-22392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19320" y="6527520"/>
            <a:ext cx="6705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40" y="1881000"/>
            <a:ext cx="8763120" cy="30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3"/>
          </p:nvPr>
        </p:nvSpPr>
        <p:spPr>
          <a:xfrm>
            <a:off x="8420040" y="6499080"/>
            <a:ext cx="609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B9B-219E-42E6-B3A2-36F7E1D3577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1219320" y="6527520"/>
            <a:ext cx="6705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40176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3160" algn="ctr">
              <a:spcBef>
                <a:spcPts val="624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03480" algn="ctr">
              <a:spcBef>
                <a:spcPts val="561"/>
              </a:spcBef>
              <a:buClr>
                <a:srgbClr val="ffffff"/>
              </a:buClr>
              <a:buSzPct val="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56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30720" y="5029200"/>
            <a:ext cx="3657600" cy="15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raciela C. Las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KPM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uenos Aires, Argentin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ara CPCECAB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6 de mayo de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17640" y="1270080"/>
            <a:ext cx="594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17640" y="33526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16120" y="2019240"/>
            <a:ext cx="6400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14BD-C85F-4456-8BC6-0D98791DA46F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FE - Compone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869000"/>
            <a:ext cx="4788000" cy="963720"/>
          </a:xfrm>
          <a:prstGeom prst="rect">
            <a:avLst/>
          </a:prstGeom>
          <a:solidFill>
            <a:srgbClr val="b54c6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finan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72200" y="1936800"/>
            <a:ext cx="326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os dic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i estamos tomado préstamos o repagándo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i los dueños aportan fondos o los están retira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os deja entr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la política de financiación de la ent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BEB8-823D-4E1E-A9B2-06485C343F5D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FE - Compone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844640"/>
            <a:ext cx="4788000" cy="963720"/>
          </a:xfrm>
          <a:prstGeom prst="rect">
            <a:avLst/>
          </a:prstGeom>
          <a:solidFill>
            <a:srgbClr val="b211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oper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3357720"/>
            <a:ext cx="4788000" cy="963720"/>
          </a:xfrm>
          <a:prstGeom prst="rect">
            <a:avLst/>
          </a:prstGeom>
          <a:solidFill>
            <a:srgbClr val="f06a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4869000"/>
            <a:ext cx="4788000" cy="963720"/>
          </a:xfrm>
          <a:prstGeom prst="rect">
            <a:avLst/>
          </a:prstGeom>
          <a:solidFill>
            <a:srgbClr val="b54c6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finan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3357720"/>
            <a:ext cx="432000" cy="2519280"/>
          </a:xfrm>
          <a:custGeom>
            <a:avLst/>
            <a:gdLst>
              <a:gd name="textAreaLeft" fmla="*/ 0 w 432000"/>
              <a:gd name="textAreaRight" fmla="*/ 15588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47120" y="3789360"/>
            <a:ext cx="316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e requiere la apl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l “método directo”, 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cir detallar los fluj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 fondos por cada t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 trans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2EEB-884F-419D-A253-E646FFC6951E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FE - Compone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1844640"/>
            <a:ext cx="4788000" cy="963720"/>
          </a:xfrm>
          <a:prstGeom prst="rect">
            <a:avLst/>
          </a:prstGeom>
          <a:solidFill>
            <a:srgbClr val="b211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oper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3357720"/>
            <a:ext cx="4788000" cy="963720"/>
          </a:xfrm>
          <a:prstGeom prst="rect">
            <a:avLst/>
          </a:prstGeom>
          <a:solidFill>
            <a:srgbClr val="f06a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869000"/>
            <a:ext cx="4788000" cy="963720"/>
          </a:xfrm>
          <a:prstGeom prst="rect">
            <a:avLst/>
          </a:prstGeom>
          <a:solidFill>
            <a:srgbClr val="b54c6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finan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1844640"/>
            <a:ext cx="432000" cy="1079640"/>
          </a:xfrm>
          <a:custGeom>
            <a:avLst/>
            <a:gdLst>
              <a:gd name="textAreaLeft" fmla="*/ 0 w 432000"/>
              <a:gd name="textAreaRight" fmla="*/ 155880 w 432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1413000"/>
            <a:ext cx="316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e puede utilizar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método directo”,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cir detallar los fluj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fondos por cada ti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transacc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branzas 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agos por compra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agos por sueldo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e puede utilizar el “método indirecto”, es decir determinar los flujos de fondos operativos a partir del resultado del período / ejerc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0FF6-CA40-4E7D-B71E-D9E635CBD1C6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Conciliación entre el resultado y la generación / aplicación de fondos operativ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464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AR" sz="2400" spc="-1" strike="noStrike">
                <a:solidFill>
                  <a:srgbClr val="f06a00"/>
                </a:solidFill>
                <a:latin typeface="Arial"/>
              </a:rPr>
              <a:t>actividades de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06a00"/>
                </a:solidFill>
                <a:latin typeface="Arial"/>
              </a:rPr>
              <a:t>financiación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y de </a:t>
            </a:r>
            <a:r>
              <a:rPr b="1" lang="es-AR" sz="2400" spc="-1" strike="noStrike">
                <a:solidFill>
                  <a:srgbClr val="f06a00"/>
                </a:solidFill>
                <a:latin typeface="Arial"/>
              </a:rPr>
              <a:t>inversión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implican exclusivamente movimientos patrimonia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7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AR" sz="2400" spc="-1" strike="noStrike">
                <a:solidFill>
                  <a:srgbClr val="f06a00"/>
                </a:solidFill>
                <a:latin typeface="Arial"/>
              </a:rPr>
              <a:t>actividades operativas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incluyen movimientos patrimoniales originados en movimientos patrimoniales y en resultado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cobranza de la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l pago por compras de inventarios (algunos quedan en resultados y otros fueron vend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ago de sueld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7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n consecuencia, se puede determinar el total de los flujos de fondos generados por / aplicados a actividades operativas en función del resultado y variaciones patrimoniales relacionad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CAA0-AD5A-4FD0-9A93-6A8D8899EC3E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Conciliación entre el resultado y la generación o aplicación de fondos operativ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1341000"/>
            <a:ext cx="85899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cobranza de la venta la podemos determin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aldo de inicio de créditos por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+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- Saldo de cierre de créditos por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os pagos por compras de inventarios los podemos determin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s compr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aldo de inicio de invent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+ Costo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- Saldo de cierre de inventarios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os pag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aldo de inicio de provee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+ Comp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- Saldo de cierre de proveedores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67A0-88D7-4D53-BC52-03F6DF794FD1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Conciliación entre el resultado y la generación / aplicación de fondos operativ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464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Resultado del ejercicio / perío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+ / - Conceptos que no generan o consumen fondo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Clr>
                <a:srgbClr val="ffff99"/>
              </a:buClr>
              <a:buSzPct val="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epreciación de bienes de u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Clr>
                <a:srgbClr val="ffff99"/>
              </a:buClr>
              <a:buSzPct val="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mortización de 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Clr>
                <a:srgbClr val="ffff99"/>
              </a:buClr>
              <a:buSzPct val="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argos por pre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Clr>
                <a:srgbClr val="ffff99"/>
              </a:buClr>
              <a:buSzPct val="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ultado de participaciones permanentes en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Clr>
                <a:srgbClr val="ffff99"/>
              </a:buClr>
              <a:buSzPct val="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BC8E-A249-401E-9C74-B8AE0881BDE3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rrores comu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46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Operaciones que no implican movimientos de fon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a compra de bienes de uso mediante un leasing financiero (sólo impacta fondos el pago de las cuot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condonación de una deu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refinanciación de una deu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2360" y="4221000"/>
            <a:ext cx="3816360" cy="2089440"/>
          </a:xfrm>
          <a:prstGeom prst="irregularSeal1">
            <a:avLst/>
          </a:prstGeom>
          <a:solidFill>
            <a:srgbClr val="b211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e requiere describir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 pie de es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A70B-30C0-485F-A41D-D60FF3291B00}" type="slidenum">
              <a:t>16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rrores comu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46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24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constitución o aumento de previsiones / provisiones no implican movimientos de fond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tereses devengados impagos al cier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mpuesto a las ganancias (el movimiento de fondos fueron los pagos realizados en el año, no la provisión e impuesto diferido del año actu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624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Una fusión no necesariamente genera movimientos de fond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hay aumento de fondos por el efectivo proveniente de la compañía fusion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hay consumo de fondos por el desembolso por la adquisición de la compañía fusionada si se realiza la fusión en el mismo período de la adqui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9D07-5C8B-4845-8B2A-E9A61ABCFCAB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46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l estado de flujo de efectivo es uno de los “estados básicos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yuda en la gest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rovee información importante que ayuda a evaluar la sustentabilidad del negocio y sus políticas de inversión y financiamie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140640" y="4340160"/>
            <a:ext cx="4023720" cy="1609920"/>
            <a:chOff x="3140640" y="4340160"/>
            <a:chExt cx="4023720" cy="16099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5802480" y="4340160"/>
              <a:ext cx="136188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140640" y="495936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Arial"/>
                </a:rPr>
                <a:t>Cash is king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15C4-19DC-4CC5-B0C8-BD84E8DADABD}" type="slidenum">
              <a:t>18</a:t>
            </a:fld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39880" y="6058080"/>
            <a:ext cx="56516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r" pos="735948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47840" y="1773360"/>
            <a:ext cx="46483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ciela L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PMG  Sib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54 11 4316-5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aso@kpmg.com.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kpmg.com.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B2D-AE18-489C-BCD0-D9D6DC3A4C95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5040" y="73080"/>
            <a:ext cx="859968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¿Para qué sirve el estado de flujo de efectiv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452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ra brindar información sobre el uso del efectivo durante un determinado ejercicio/perío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yuda a los inversores y acreedores a evalua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habilidad de la entidad de generar futuros flujos de fo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habilidad de la entidad para poder cumplir sus obligaciones financieras y pagar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azones por las cuales el resultado del ejercicio/período y la variación de fondos son difer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s actividades de inversión y financiación en efectivo y aquellas que no involucraron movimientos de fon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93E0-390B-476B-889E-51878DD4E6F2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¿Qué es efectiv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4760" y="1600200"/>
            <a:ext cx="846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fectivo y equivalente de efectivo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aldos de c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aldos en bancos (sin incluir présta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872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locaciones de fondos a corto plazo y altamente líquidos ya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85840"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on fácilmente convertibles en dinero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85840"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u vencimiento es cercano (vencimiento dentro de los tres me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892C-87D1-4CCB-B4AC-493AA131E929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FE - Compone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1846440"/>
            <a:ext cx="6697800" cy="963720"/>
          </a:xfrm>
          <a:prstGeom prst="rect">
            <a:avLst/>
          </a:prstGeom>
          <a:solidFill>
            <a:srgbClr val="b211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oper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4869000"/>
            <a:ext cx="6697800" cy="963720"/>
          </a:xfrm>
          <a:prstGeom prst="rect">
            <a:avLst/>
          </a:prstGeom>
          <a:solidFill>
            <a:srgbClr val="b54c6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finan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357720"/>
            <a:ext cx="6697800" cy="963720"/>
          </a:xfrm>
          <a:prstGeom prst="rect">
            <a:avLst/>
          </a:prstGeom>
          <a:solidFill>
            <a:srgbClr val="f06a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6D03-CC87-42E3-B019-D305EB75BEDB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FE - Compone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1846440"/>
            <a:ext cx="6697800" cy="963720"/>
          </a:xfrm>
          <a:prstGeom prst="rect">
            <a:avLst/>
          </a:prstGeom>
          <a:solidFill>
            <a:srgbClr val="b211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oper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560" y="3181320"/>
            <a:ext cx="66978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obro de las ventas efectuad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go por la compra de inventa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go de sueldos y cargas socia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go de impues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go de gas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7164-03E2-49EF-8E44-F971C15D12AE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FE - Compone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846440"/>
            <a:ext cx="6697800" cy="963720"/>
          </a:xfrm>
          <a:prstGeom prst="rect">
            <a:avLst/>
          </a:prstGeom>
          <a:solidFill>
            <a:srgbClr val="f06a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560" y="3181320"/>
            <a:ext cx="66978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gos por compras de bienes de u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7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gos por compras de inversiones en sociedades y/o aportes a las mism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75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obros por ventas de bienes de u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75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obros por ventas de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75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obro de dividendos (*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7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obro de intereses (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244E-A26F-4FBD-9C5F-55DFBFF090AE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FE - Compone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1846440"/>
            <a:ext cx="6697800" cy="963720"/>
          </a:xfrm>
          <a:prstGeom prst="rect">
            <a:avLst/>
          </a:prstGeom>
          <a:solidFill>
            <a:srgbClr val="b54c6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finan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8560" y="3181320"/>
            <a:ext cx="66978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Nuevos préstam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gos de préstam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portes de los propieta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Retiros de los propieta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go de dividendos (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spcBef>
                <a:spcPts val="7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ago de intereses (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3E83-11C4-459B-BF8F-868A567F3956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FE - Compone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844640"/>
            <a:ext cx="4788000" cy="963720"/>
          </a:xfrm>
          <a:prstGeom prst="rect">
            <a:avLst/>
          </a:prstGeom>
          <a:solidFill>
            <a:srgbClr val="b211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oper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72200" y="1936800"/>
            <a:ext cx="326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os dic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i el negocio como está funcionando en este momento se auto-financia o requiere asistencia financiera de sus dueños o de sus  proveedores de fon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6044-3E79-49AC-86E5-90C7E6D05238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4680" y="73080"/>
            <a:ext cx="847404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"/>
              </a:rPr>
              <a:t>EFE - Compone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357720"/>
            <a:ext cx="4787640" cy="963720"/>
          </a:xfrm>
          <a:prstGeom prst="rect">
            <a:avLst/>
          </a:prstGeom>
          <a:solidFill>
            <a:srgbClr val="f06a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72200" y="1936800"/>
            <a:ext cx="3260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os dic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i la entidad está re-invirtiendo en su negocio o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os deja entrever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iertas políticas de inversión / expansión o retracción (compra de subsidiari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6A88-66F2-4033-B9EF-786DB7E34270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5:58:20Z</dcterms:created>
  <dc:creator>Perez Rodriguez, Margarita E</dc:creator>
  <dc:description/>
  <dc:language>en-US</dc:language>
  <cp:lastModifiedBy>Congresos y Eventos</cp:lastModifiedBy>
  <dcterms:modified xsi:type="dcterms:W3CDTF">2007-05-11T15:28:40Z</dcterms:modified>
  <cp:revision>24</cp:revision>
  <dc:subject/>
  <dc:title>Slide 1</dc:title>
</cp:coreProperties>
</file>