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jpeg" ContentType="image/jpeg"/>
  <Override PartName="/ppt/media/image16.jpeg" ContentType="image/jpeg"/>
  <Override PartName="/ppt/media/image1.jpeg" ContentType="image/jpeg"/>
  <Override PartName="/ppt/media/image2.wmf" ContentType="image/x-wmf"/>
  <Override PartName="/ppt/media/image15.png" ContentType="image/png"/>
  <Override PartName="/ppt/media/image3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D49F-5A2B-48AB-964E-0B68198A35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6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6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4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7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RIO DE CONTRIBUYENTES LOCALES - FR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RIO DE CONTRIBUYENTES LOCALES - DO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F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460/J FR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460 J DO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A30-281B-456E-A56B-DA2426BE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CA0-02C3-405D-8B60-78B61B8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49D-A397-4E84-B678-2A34F677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3BB-2CC1-4314-A487-75117A9A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45B-D7A6-4AA3-AE84-8F8961CD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F08-B4D0-4FCD-A15E-34B7D5E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905-5DE0-4756-A426-762765BF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AD7-EA16-40E3-9068-7787637E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118-6692-4BE6-9943-2B87D0E1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CBD-1060-47A3-BA7F-E4ED6FEA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FA4-1BD2-455D-9A35-A91AEF2D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FEA-33E3-4F36-A390-50EEC8F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3EC2-3A6B-434E-B759-C721A3AF6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29680" cy="136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1557360"/>
            <a:ext cx="770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NSEJO PROFESIONAL DE CIENCIAS ECONO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 LA CIUDAD AUTONOM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ISION DE ACTUACION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 ENTIDADES SIN FINES 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OMISION DE ASO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VILES Y 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Dra. Clara Liliana Ganic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Contadora Pública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cc"/>
                </a:solidFill>
                <a:uFillTx/>
                <a:latin typeface="Times New Roman"/>
              </a:rPr>
              <a:t>Empadronamiento de entidades exentas en el Impuesto a las Ganancias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 -  </a:t>
            </a:r>
            <a:r>
              <a:rPr b="0" i="1" lang="en-US" sz="3600" spc="-1" strike="noStrike">
                <a:solidFill>
                  <a:srgbClr val="0000cc"/>
                </a:solidFill>
                <a:latin typeface="Times New Roman"/>
              </a:rPr>
              <a:t>RG (AFIP) 18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1922400"/>
          <a:ext cx="8399520" cy="987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22400"/>
                    <a:ext cx="8399520" cy="987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87700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cc"/>
                </a:solidFill>
                <a:uFillTx/>
                <a:latin typeface="Times New Roman"/>
              </a:rPr>
              <a:t>Empadronamiento de entidades exentas</a:t>
            </a:r>
            <a:br>
              <a:rPr sz="3600"/>
            </a:br>
            <a:r>
              <a:rPr b="1" i="1" lang="en-US" sz="3600" spc="-1" strike="noStrike" u="sng">
                <a:solidFill>
                  <a:srgbClr val="0000cc"/>
                </a:solidFill>
                <a:uFillTx/>
                <a:latin typeface="Times New Roman"/>
              </a:rPr>
              <a:t>en el Impuesto a las Ganancias</a:t>
            </a:r>
            <a:br>
              <a:rPr sz="3600"/>
            </a:br>
            <a:r>
              <a:rPr b="0" i="1" lang="en-US" sz="3600" spc="-1" strike="noStrike">
                <a:solidFill>
                  <a:srgbClr val="0000cc"/>
                </a:solidFill>
                <a:latin typeface="Times New Roman"/>
              </a:rPr>
              <a:t>RG (AFIP) 18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3716280"/>
          <a:ext cx="8226360" cy="966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716280"/>
                    <a:ext cx="8226360" cy="9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55640" y="2708280"/>
            <a:ext cx="496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Requi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80880" y="685800"/>
          <a:ext cx="8331480" cy="979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331480" cy="979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8600" y="1143000"/>
          <a:ext cx="8331120" cy="979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331120" cy="979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cc"/>
                </a:solidFill>
                <a:uFillTx/>
                <a:latin typeface="Times New Roman"/>
              </a:rPr>
              <a:t>Empadronamiento de entidades exentas</a:t>
            </a:r>
            <a:br>
              <a:rPr sz="3600"/>
            </a:br>
            <a:r>
              <a:rPr b="1" i="1" lang="en-US" sz="3600" spc="-1" strike="noStrike" u="sng">
                <a:solidFill>
                  <a:srgbClr val="0000cc"/>
                </a:solidFill>
                <a:uFillTx/>
                <a:latin typeface="Times New Roman"/>
              </a:rPr>
              <a:t>en el Impuesto a las Ganancias</a:t>
            </a:r>
            <a:br>
              <a:rPr sz="3600"/>
            </a:br>
            <a:r>
              <a:rPr b="0" i="1" lang="en-US" sz="3600" spc="-1" strike="noStrike">
                <a:solidFill>
                  <a:srgbClr val="0000cc"/>
                </a:solidFill>
                <a:latin typeface="Times New Roman"/>
              </a:rPr>
              <a:t>RG (AFIP) 18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440" y="2438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Otros requi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dad exenta por leyes nacionales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y que estableció exención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dad cooperativa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reditación de personería jurídica e inscripción en el Instituto Nacional de Asociativismo y Economía Social (INA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ociaciones civiles, fundaciones y otras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reditación de la personería jurídica, o en su caso, la autorización o el reconocimiento de la autoridad pública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ociación deportiva y de cultura física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reditación de la personería jurídica, nota con detalles de importes de inversiones y gastos destinados a las actividades sociales y deportivas, correspondiente a los 3 (tres) últimos ejerci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7621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dad religiosa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rtificado de inscripción en el registro de la Secretaria de Cul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ociaciones cooperadoras escolares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orización expedida por autoridad pública, conforme las normas del lugar de asiento de la ent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es indígenas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cripción en el Registro Nacional de Comunidades Indígenas (RENACI) o inscripción en la IGJ bajo la forma de asociación sin fines de lu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53352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cionales sin fines de lucro con sede central en Argentina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reditación de la personería jurídica, normas que regulan la constitución, funcionamiento y di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ciones internacionales sin fines de lucro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 en virtud de la cual se declara el interés nacional, documentación que pruebe su exis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56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ERTIFICADO DE EMPADRONAMIENTO  EN TRAM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990099"/>
                </a:solidFill>
                <a:latin typeface="Wingdings"/>
                <a:ea typeface="Wingdings"/>
              </a:rPr>
              <a:t></a:t>
            </a:r>
            <a:r>
              <a:rPr b="0" lang="es-MX" sz="5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</a:t>
            </a:r>
            <a:r>
              <a:rPr b="1" lang="es-MX" sz="5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F 409</a:t>
            </a:r>
            <a:r>
              <a:rPr b="0" lang="es-MX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ASOCIACIONES CIVILES</a:t>
            </a:r>
            <a:br>
              <a:rPr sz="4800"/>
            </a:b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Y FUNDACI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cripción ante la A.F.I.P. - D.G.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adronamiento y reconocimiento de la exención en el Impuesto a las Gana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cripción ante la D.G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ud tasa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gimen de fact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2131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04560" y="609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Características del F.40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de la página web: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ww.afip.gov.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dad es declarada formalmente admisi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iene que ingresar impuesto a las  gananci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rá pasible de retenciones y/o percepciones en el citado impuesto ni en IVA en caso de corresponder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econocimiento de la exención</a:t>
            </a:r>
            <a:br>
              <a:rPr sz="4000"/>
            </a:br>
            <a:r>
              <a:rPr b="1" lang="es-MX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es-MX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Impuesto a las gana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IP emite el F.709 nuevo mod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rá para el donante la deducción de las donaciones en el impuesto a las ganancias, desde la fecha a partir del que sufre efectos el recono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6768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Inscripción ante la D.G.R.</a:t>
            </a:r>
            <a:br>
              <a:rPr sz="4000"/>
            </a:b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Ingresos Brut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CONTRIBUYENTES LOC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CONVENIO MULTILAT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09588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609624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33600" y="115920"/>
            <a:ext cx="607680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Tasa 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Ley Tarifaria Art. 61 Inc.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“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ingresos provenientes de las operaciones realizadas por las 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ciones, las asociaciones, entidades o comisiones de beneficencia, de bien público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istencia social, científicas, artísticas, culturales y deportivas - todas estas sin fines de lucro- siempre que los ingresos obtenidos se destinen exclusivamente al objeto previsto en sus estatutos sociales, ... y en ningún caso se distribuyan directa y indirectamente entre los socios ... 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Tasa 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Requi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criptos en impuesto sobre los Ingresos Br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yentes deben aportar elementos requer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(DGR Bs. As. Cdad.) 235 -  7/2/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Caducidad</a:t>
            </a:r>
            <a:r>
              <a:rPr b="0" i="1" lang="es-MX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leno derecho a los 3 años de efectu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Inscripción ante la A.F.I.P. - D.G.I.</a:t>
            </a:r>
            <a:br>
              <a:rPr sz="4000"/>
            </a:br>
            <a:r>
              <a:rPr b="0" i="1" lang="en-US" sz="4000" spc="-1" strike="noStrike">
                <a:solidFill>
                  <a:srgbClr val="0000cc"/>
                </a:solidFill>
                <a:latin typeface="Times New Roman"/>
              </a:rPr>
              <a:t>R.G. (AFIP)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209680"/>
          <a:ext cx="8399520" cy="987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8399520" cy="987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Tasa 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9992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(DGR Bs. As. Cdad.) 2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La solicitud de </a:t>
            </a:r>
            <a:r>
              <a:rPr b="1" lang="es-MX" sz="4800" spc="-1" strike="noStrike" u="sng">
                <a:solidFill>
                  <a:srgbClr val="ff9933"/>
                </a:solidFill>
                <a:uFillTx/>
                <a:latin typeface="Times New Roman"/>
                <a:ea typeface="Times New Roman"/>
              </a:rPr>
              <a:t>inscripción</a:t>
            </a:r>
            <a:r>
              <a:rPr b="1" lang="es-MX" sz="4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tasa cero se realiza </a:t>
            </a:r>
            <a:r>
              <a:rPr b="1" lang="es-MX" sz="4800" spc="-1" strike="noStrike" u="sng">
                <a:solidFill>
                  <a:srgbClr val="ff9933"/>
                </a:solidFill>
                <a:uFillTx/>
                <a:latin typeface="Times New Roman"/>
                <a:ea typeface="Times New Roman"/>
              </a:rPr>
              <a:t>on line</a:t>
            </a:r>
            <a:r>
              <a:rPr b="1" lang="es-MX" sz="4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Tasa 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Inscripción por primera v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ar los datos indicados en el formul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im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ro de los 5 días hábiles el contribuyente debe concurrir a la D.G.R. a fin de completar el trámite iniciado por la web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Tasa 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Documentación a presen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rio de presentación emitido por el sistema (Anexo 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 solicitando la inscripción, con copia del instrumento que acredite personería jurídica y constitución del domicilio dentro de la jurisdi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cripción en el impuesto sobre los Ingresos Br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cripción ante la AFIP - DGI y modific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Tasa 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Documentación a presen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ificado de habilitación ante el G.C.B.A. o instrumento que lo reem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s contables de los 3 últimos ejercicios (certificados por el Consejo Profesional de Ciencias Económi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e acción trienal (solo para Fundac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Tasa 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Documentación a presen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ción que otorga la exención en el impuesto a las ganancias y constancia de reempadronamiento como ex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de estat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Tasa </a:t>
            </a:r>
            <a:r>
              <a:rPr b="1" i="1" lang="es-MX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Documentación a presen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ificado de reconocimiento de personería jurídica  expedido por la I.G.J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lle de actividades desarrolladas en cumplimiento del objeto social (en carácter de DDJ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41920" y="36385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asa 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Requisitos adi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er presentado todas las DDJJ mensuales de Iingresos Brutos por períodos no prescrip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er declarado la actividad por la que solicita inscripción a tasa cero de acuerdo al nomenclador de actividades económicas de la ciudad de Buenos A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41920" y="36385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Tasa 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Lugar de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ción General de Rent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Departamento de Ex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Esmeralda 638  - Planta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Ventanilla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Horario de 9:30 a 15:30 ho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41920" y="36385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1557000"/>
            <a:ext cx="770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NSEJO PROFESIONAL DE CIENCIAS ECONO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 LA CIUDAD AUTONOM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ISION DE ACTUACION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 ENTIDADES SIN FINES 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OMISION DE ASO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VILES Y 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Dra. Clara Liliana Ganic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Contadora Pública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2968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587700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47880" y="115920"/>
            <a:ext cx="544824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Inscripción ante la A.F.I.P. - D.G.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908000"/>
          <a:ext cx="8200800" cy="963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8000"/>
                    <a:ext cx="8200800" cy="9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Inscripción ante la 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.F.I.P</a:t>
            </a:r>
            <a:r>
              <a:rPr b="1" i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. - D.G.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31920" y="1779480"/>
          <a:ext cx="8083440" cy="949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1779480"/>
                    <a:ext cx="8083440" cy="9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Inscripción ante la A.F.I.P. - D.G.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Justificación del domicilio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i="1" lang="es-E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(mínimo 2</a:t>
            </a:r>
            <a:r>
              <a:rPr b="0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elementos</a:t>
            </a:r>
            <a:r>
              <a:rPr b="0" i="1" lang="es-E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cado de domicilio expedido por autoridad poli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a de constata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nota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copi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factura de servicio público a nombre del contribuy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2cb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Inscripción ante la A.F.I.P. - D.G.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0099"/>
                </a:solidFill>
                <a:uFillTx/>
                <a:latin typeface="Times New Roman"/>
                <a:ea typeface="Times New Roman"/>
              </a:rPr>
              <a:t>Justificación del domicilio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i="1" lang="es-E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(mínimo 2</a:t>
            </a:r>
            <a:r>
              <a:rPr b="0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elementos</a:t>
            </a:r>
            <a:r>
              <a:rPr b="0" i="1" lang="es-E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copia del título de propiedad o contrato de alquiler o lea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copia de extracto de cuenta banc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copia de habilitación municipal, en caso de ser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05:39Z</dcterms:created>
  <dc:creator>CLARA</dc:creator>
  <dc:description/>
  <dc:language>en-US</dc:language>
  <cp:lastModifiedBy>Congresos y Eventos</cp:lastModifiedBy>
  <dcterms:modified xsi:type="dcterms:W3CDTF">2007-05-16T18:53:59Z</dcterms:modified>
  <cp:revision>97</cp:revision>
  <dc:subject/>
  <dc:title>CONSEJO PROFESIONAL DE CIENCIAS ECONOMICAS DE LA CIUDAD AUTONOMA DE BUENOS AIRES</dc:title>
</cp:coreProperties>
</file>