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C4D7-813F-49E7-B246-82A0C3229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58B9-C4FD-4247-87E2-B1A0C6E7E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4EE6-840C-49E6-992B-113809CB8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E518-AB3C-4A27-A431-C0D8542E2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DE70-5CAC-4D54-8BB5-AFA0A453F9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17AB-93EF-4A18-A929-AE9CCEAA7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3EE0-7EFF-4A42-8F1C-E45068A71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9C7E-AA0D-47CE-B86F-8418BB20B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E665-43FE-4BBD-8CFE-569E81FC3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2E05A-24C2-438A-A812-04B6B0C79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6435-B9E6-4DDB-843A-D38FDD186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9BEC4-B0BF-4D69-8E06-F341F4C27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8f8f8"/>
                </a:solidFill>
                <a:latin typeface="Times New Roman"/>
              </a:rPr>
              <a:t>© Enrique Fowler New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2E7A-1FC8-47A4-A287-CA185CB0135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El método del impuesto diferido y el estado de flujo de efectivo: su aplicación en las EPM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Enrique Fowler Newton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16 de mayo de 2007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Situació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3822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IASB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Proyecto específico de NIIF para PyM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F4FD-A13C-478D-BD92-1D3CCAE187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Situació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3822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FACPCE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Hay dispensas para EPEQ (RT 17)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Presiones “políticas” para expandirla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Se creó Comisión Normas PyME.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CENCyA revisará sus conclusiones y elaborará un proyecto de RT.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854B-F3A4-40FF-881E-85EAB73142D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El caso del método del </a:t>
            </a:r>
            <a:br>
              <a:rPr sz="4000"/>
            </a:b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impuesto diferid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No ofrece mayores problemas.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CPCECABA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Se aplica desde hace año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(con una variante heterodoxa).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Que se sepa, sin mayores problemas.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72FD-21C1-4E52-91F8-7C3B92EF874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El caso del método del </a:t>
            </a:r>
            <a:br>
              <a:rPr sz="4000"/>
            </a:b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impuesto diferido (cont.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53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IASB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Proyecto NIIF para PyM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Requiere su aplicación (sección 28).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Rechazó propuestas de no aplicarlo (FC102).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4522-DDCD-4791-9BA8-5EBF6D3BA87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El caso del método del </a:t>
            </a:r>
            <a:br>
              <a:rPr sz="4000"/>
            </a:b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impuesto diferido (cont.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895120"/>
            <a:ext cx="8534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FACPCE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Hubo dispensas temporales a su obligatorieda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Comisión Normas PyMEs pide no aplicarlo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No hay ningún fundamento serio.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¿Para simplificar o con otro fin?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D5C6-C48E-48F2-98CF-3AF4E9CD83A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El caso del EF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¿Es verdaderamente útil?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Si no lo es, eliminarlo (para todos)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Si lo es, requerirlo a todo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El consenso es que es útil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B2F3-B3BF-4619-AF74-7E614FEA5E6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El caso del EFE (cont.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Problemas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El método “directo” requiere contar con información, pero es esencial en los entes sin fines de lucro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El (mal denominado) “indirecto” produce información poco entendibl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4F3A-14DB-49F2-90A5-8115F733E8C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El caso del EFE (cont.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Posible solución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Requeri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A los entes sin fines de lucro, el método directo.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Al resto, el método directo o un “método simplificado”, en el que el efectivo (y equivalentes) generado por las operaciones se informe en un único renglón.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B56A-D586-4B87-AA64-595220F7C1E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El caso del EFE (cont.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2895120"/>
            <a:ext cx="83818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IASB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Proyecto NIIF para PyME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Rechazó propuestas de no exigirlo (FC95-FC96)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8f8f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No lo considera de difícil preparación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8f8f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Lo considera útil para los prestamistas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03DA-165C-4791-A1C2-DBA0B423426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El caso del EFE (cont.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FACPCE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Comisión Normas PyMES pide eliminación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CENCyA propondría un criterio similar al nuestro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649A-26F6-4A0E-9E6C-4BFC80A3A0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r favor, mantener apagados los teléfonos celular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B3DD-F9A1-4950-A065-7B57548A8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© Enrique Fowler New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00"/>
                </a:solidFill>
                <a:latin typeface="Arial"/>
              </a:rPr>
              <a:t>http://webs.uolsinectis.com.ar/efn</a:t>
            </a:r>
            <a:br>
              <a:rPr sz="2600"/>
            </a:br>
            <a:br>
              <a:rPr sz="2600"/>
            </a:br>
            <a:r>
              <a:rPr b="1" lang="es-ES" sz="2600" spc="-1" strike="noStrike">
                <a:solidFill>
                  <a:srgbClr val="003300"/>
                </a:solidFill>
                <a:latin typeface="Arial"/>
              </a:rPr>
              <a:t>efn@uolsinectis.com.ar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Cuestiones previa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¿Pueden o deben existir juegos diferenciados de NC para EPM?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spectos clave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¿Qué necesidades informativas tienen los usuarios de los estados contables?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8f8f8"/>
                </a:solidFill>
                <a:latin typeface="Arial"/>
              </a:rPr>
              <a:t>¿Cómo se ven afectadas las comparaciones entre entes?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1821-EA09-445D-85FA-ECBA60D648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Los “usuarios tipo” y sus necesidades de informació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8763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Usuarios tipo (marco conceptual)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creedores y propietarios (actuales o potenciales)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Necesidades de información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No dependen del tamaño del emisor de los estados contabl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BDD8-14D6-4A03-B737-6545579C46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Efectos en las comparacion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8763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Sólo serían comparables los estados contables de entidades que hayan empleado las mismas normas contables.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0EFC-2BEF-41D3-95C2-EE0EDE297C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Normas contables diferenciada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77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De reconocimiento y medición contable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No deberían existir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De exposición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Podría haberlas para actividades sectoriales (financiera, aseguradora, etc.) o para entidades con cotización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0C45E-CEEA-4A59-BE77-FB356BEC16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Normas contables para EPM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83822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Son una clase de NC diferenciadas.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Por lo tanto, no deberían existir.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5558-DF30-4C68-9491-E58D18DE25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Normas contables para EPM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Argumentos esgrimidos a su favor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Los propietarios tienen acceso a la información interna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Las NC de uso general son compleja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Muchos prestamistas no usan la información de los estados contabl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8ACD-6E29-4349-8B5C-4573EF43C25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Normas contables para EPM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8534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Argumentos esgrimidos a su favor (cont.):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Las EPM obtienen préstamos gracias al aval de sus propietario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Los costos de cumplir con las NC de uso general superan a los beneficio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8f8f8"/>
                </a:solidFill>
                <a:latin typeface="Arial"/>
              </a:rPr>
              <a:t>Todos los argumentos son refutables.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Enrique Fowler Newt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276B-9C91-49BC-AC1D-1EF5BA58B8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3:44:13Z</dcterms:created>
  <dc:creator>Enrique Fowler Newton</dc:creator>
  <dc:description/>
  <dc:language>en-US</dc:language>
  <cp:lastModifiedBy>Congresos y Eventos</cp:lastModifiedBy>
  <dcterms:modified xsi:type="dcterms:W3CDTF">2007-05-07T12:56:28Z</dcterms:modified>
  <cp:revision>25</cp:revision>
  <dc:subject/>
  <dc:title>ID, EFE y normas PyMES</dc:title>
</cp:coreProperties>
</file>