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4825" cy="959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4400" cy="959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7000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"/>
          </p:nvPr>
        </p:nvSpPr>
        <p:spPr>
          <a:xfrm>
            <a:off x="3882600" y="-144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2"/>
          </p:nvPr>
        </p:nvSpPr>
        <p:spPr>
          <a:xfrm>
            <a:off x="-1440" y="9115560"/>
            <a:ext cx="297000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3"/>
          </p:nvPr>
        </p:nvSpPr>
        <p:spPr>
          <a:xfrm>
            <a:off x="3882600" y="9115560"/>
            <a:ext cx="297036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585-5E33-4681-BBED-B87DFD2AED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Img"/>
          </p:nvPr>
        </p:nvSpPr>
        <p:spPr>
          <a:xfrm>
            <a:off x="1033200" y="725400"/>
            <a:ext cx="478476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e87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body"/>
          </p:nvPr>
        </p:nvSpPr>
        <p:spPr>
          <a:xfrm>
            <a:off x="912600" y="4556160"/>
            <a:ext cx="50259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1520" y="-1440"/>
            <a:ext cx="2971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1520" y="9113760"/>
            <a:ext cx="2971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i="1" lang="en-US" sz="10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-1440" y="9113760"/>
            <a:ext cx="2971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1440" y="-1440"/>
            <a:ext cx="2971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36800" y="725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56160"/>
            <a:ext cx="5022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5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272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57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5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272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57080" y="91296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5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1272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7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85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1272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7080" y="91296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8508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2720" y="18270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757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8508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2720" y="37771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57080" y="91296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9760" y="37771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708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9760" y="18270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7080" y="377712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320" y="2857680"/>
            <a:ext cx="838188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365616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5000"/>
          </a:bodyPr>
          <a:p>
            <a:pPr marL="72720" indent="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2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3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4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5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6" marL="72720" indent="-72720" algn="ctr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5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3657600" y="1295280"/>
            <a:ext cx="1447920" cy="134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7080" y="13698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7080" y="22842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52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7080" y="1827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99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19104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743200"/>
            <a:ext cx="83059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PANORAMA INTERNAC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DE LA PROFE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</a:rPr>
              <a:t>Fermín del Valle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Consejo Profesional de Ciencias Económicas d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Ciudad Autónoma de Buenos 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Mayo de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657600" y="1066680"/>
            <a:ext cx="144792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914400" y="494352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Emisión de nor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vance de los reguladores en la emisión de n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verg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isparidad de requerimientos de información y de niveles de seguridad según el tamaño de los 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incipios vs. Reg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sistencia en la a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48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560" y="609480"/>
            <a:ext cx="1221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7080" y="762120"/>
            <a:ext cx="7772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Convergencia y los distintos tipos de norm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362320"/>
            <a:ext cx="784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o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udit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Indepen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ódigo de é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du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7080" y="533520"/>
            <a:ext cx="77724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Convergencia de las normas contables y de auditorí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133720"/>
            <a:ext cx="7843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a lógica de un conjunto ú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dopción vs. Adap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utoridad de las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Rol de los emisores locales de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Normas y legis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a cuestión de los pequeños y medianos 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IFRS para entes que no tienen interés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Una auditoría es una auditorí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e870"/>
                </a:solidFill>
                <a:latin typeface="Times New Roman"/>
              </a:rPr>
              <a:t>Tamaño vs. uso de 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905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ntidades que están obligadas emitir estados financieros para fines gen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ffffff"/>
                </a:solidFill>
                <a:latin typeface="Times New Roman"/>
              </a:rPr>
              <a:t>Entidades con interés público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ffffff"/>
                </a:solidFill>
                <a:latin typeface="Times New Roman"/>
              </a:rPr>
              <a:t>Entidades sin interés públic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ntidades que no están obligadas emitir estados financieros para fines gen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77800"/>
            <a:ext cx="3505320" cy="3373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equeños y medianos 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es-AR" sz="3200" spc="-1" strike="noStrike">
                <a:solidFill>
                  <a:srgbClr val="ffe870"/>
                </a:solidFill>
                <a:latin typeface="Times New Roman"/>
              </a:rPr>
              <a:t>ENT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989000"/>
            <a:ext cx="3313440" cy="431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989000"/>
            <a:ext cx="2160360" cy="4319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1989000"/>
            <a:ext cx="1079640" cy="4319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162864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Pequeñas</a:t>
            </a: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             Medianas            Gran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627280" y="4005000"/>
            <a:ext cx="7207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59280" y="3789360"/>
            <a:ext cx="144144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35280" y="3068280"/>
            <a:ext cx="374508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443640" y="270792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11640" y="3357720"/>
            <a:ext cx="316872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714920" y="3715920"/>
            <a:ext cx="266544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219640" y="4005360"/>
            <a:ext cx="21607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24360" y="4292280"/>
            <a:ext cx="1656000" cy="577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084720" y="4581360"/>
            <a:ext cx="129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43640" y="4941360"/>
            <a:ext cx="93492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804000" y="5229000"/>
            <a:ext cx="576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20000" y="551628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164360" y="2420640"/>
            <a:ext cx="2160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164360" y="5805000"/>
            <a:ext cx="216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3645000"/>
            <a:ext cx="2232000" cy="1008000"/>
          </a:xfrm>
          <a:prstGeom prst="rect">
            <a:avLst/>
          </a:prstGeom>
          <a:solidFill>
            <a:srgbClr val="0066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tidades 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terés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-5654520" y="-172080"/>
            <a:ext cx="12962880" cy="8639280"/>
            <a:chOff x="-5654520" y="-172080"/>
            <a:chExt cx="12962880" cy="8639280"/>
          </a:xfrm>
        </p:grpSpPr>
        <p:sp>
          <p:nvSpPr>
            <p:cNvPr id="215" name=""/>
            <p:cNvSpPr/>
            <p:nvPr/>
          </p:nvSpPr>
          <p:spPr>
            <a:xfrm flipV="1">
              <a:off x="-5654520" y="-172440"/>
              <a:ext cx="12962880" cy="432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-5654520" y="4149720"/>
              <a:ext cx="12962880" cy="431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e870"/>
                </a:solidFill>
                <a:latin typeface="Times New Roman"/>
              </a:rPr>
              <a:t>Las IFRS para entes pequeños y medi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7080" y="1827360"/>
            <a:ext cx="777240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Período de consulta hasta el 1 de octubre de 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Basadas en las “full” IF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Modificaciones basadas en las necesidades de los usuarios y en razones de costo-benefici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Organizadas por tópic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Volumen reducido en un 85%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Aplicables a entes que no califican como de interés público (o que no deben rendir cuentas al público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No se especifica tamañ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Conjunto normativo independ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7080" y="182736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Buscar la respuesta en las IFRS para entes pequeños y median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Por ana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Usando los principios generalizados incluidos en la primera sección de la n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 u="sng">
                <a:solidFill>
                  <a:srgbClr val="ffffff"/>
                </a:solidFill>
                <a:uFillTx/>
                <a:latin typeface="Times New Roman"/>
              </a:rPr>
              <a:t>Pueden</a:t>
            </a: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mirar las “full” IFR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No es obligatorio ir a las “full” IF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Enf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7080" y="182736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Algunos tópicos de las “full” IFRS no están incluidos por considerarse no relevantes para estos ent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Donde las “full” IFRS tienen opciones, se incluye sólo una op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ontienen algunas simplificaciones en materia de reconocimiento y medi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Redacción simplificad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Normas internacionales de Auditorí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43828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oyecto C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plicabilidad a la auditoría de pequeños y medianos 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na “auditoría es una auditorí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Guía para la auditoría de pequeños y medianos 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bilidad de otros niveles de segu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Times New Roman"/>
              </a:rPr>
              <a:t>Foros estratégicos sobre auditoría organizados por IFAC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Times New Roman"/>
              </a:rPr>
              <a:t>Los reguladores y la calidad de la auditorí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0948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0948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e870"/>
                </a:solidFill>
                <a:latin typeface="Times New Roman"/>
              </a:rPr>
              <a:t>2007-200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22 </a:t>
            </a:r>
            <a:r>
              <a:rPr b="0" lang="es-AR" sz="2900" spc="-1" strike="noStrike">
                <a:solidFill>
                  <a:srgbClr val="ffffff"/>
                </a:solidFill>
                <a:latin typeface="Times New Roman"/>
              </a:rPr>
              <a:t>borradores de exposición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y 32 </a:t>
            </a:r>
            <a:r>
              <a:rPr b="0" lang="es-AR" sz="2900" spc="-1" strike="noStrike">
                <a:solidFill>
                  <a:srgbClr val="ffffff"/>
                </a:solidFill>
                <a:latin typeface="Times New Roman"/>
              </a:rPr>
              <a:t>Normas final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02/2007 –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3 E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4/2007 – 5 EDs y 1 Norma fi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7/2007 – 10 ED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9/2007 – 3 EDs y 6 Normas fi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12/2007 – 1 ED y 4 Normas fi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3/2008 – 7 Normas fi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6/2008 – 8 Normas fi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09/2008 – 6 Normas fi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09480"/>
            <a:ext cx="297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yecto de Cla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0948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5280" y="609480"/>
            <a:ext cx="243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YECTO CLA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905120"/>
            <a:ext cx="822960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elebra este año su 30° aniversari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Ha crecido de 63 miembros en 1977 a 155 miembros y asociados en 118 país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Representa a 2.5 millones de contador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Trabaja para el interés público y tiene supervisión públic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143000"/>
            <a:ext cx="58294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800" spc="-1" strike="noStrike">
                <a:solidFill>
                  <a:srgbClr val="ffe870"/>
                </a:solidFill>
                <a:latin typeface="Times New Roman"/>
              </a:rPr>
              <a:t>IFAC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22440"/>
            <a:ext cx="252720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33520"/>
            <a:ext cx="349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FAC</a:t>
            </a: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609480"/>
            <a:ext cx="297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yecto de Cla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0948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280" y="609480"/>
            <a:ext cx="243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YECTO CLA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Fecha de Vig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828800"/>
            <a:ext cx="761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55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das las ISAs redactadas nuevamente tendrán la misma fecha de vige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55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visionalmente:  auditorias de estados financieros de periodos empezados el 15 de diciembre de 2008 o despu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55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 confirmar  la fecha de vigencia final, pero no será anter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55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SAs redactadas nuevamente estarán disponibles cuando estén aprobad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aducción, adopción, implement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57080" y="912960"/>
            <a:ext cx="7772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Hacia la convergencia glob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7080" y="182736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IASB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arco para el avance en la integración económica transatlán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nuncios de la S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IAASB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La situación en Argentin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Sustentabilid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redibilidad de la prof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sarrollo de la prof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isparidad alrededor d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cesidad de mejora contín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spuesta a las necesidade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Brecha en las expect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mpacto de los cambios tecn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ol de la profesión en un rango más amplio de información no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uevas formas de acceso a la inform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ivel de atracción de la carre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560" y="609480"/>
            <a:ext cx="1221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00200" y="3138480"/>
            <a:ext cx="2808360" cy="8953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Cont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581360"/>
            <a:ext cx="2733480" cy="136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AUDI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por audit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independi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1143000"/>
            <a:ext cx="2746440" cy="120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CONTABILID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p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y otr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emis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4038480"/>
            <a:ext cx="0" cy="463680"/>
          </a:xfrm>
          <a:prstGeom prst="line">
            <a:avLst/>
          </a:prstGeom>
          <a:ln w="442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971800" y="2514600"/>
            <a:ext cx="0" cy="503280"/>
          </a:xfrm>
          <a:prstGeom prst="line">
            <a:avLst/>
          </a:prstGeom>
          <a:ln w="442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860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arco para la información contable de alta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456000" y="2693880"/>
            <a:ext cx="2095560" cy="147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Contabilidad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y otros emis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05400" y="4376880"/>
            <a:ext cx="0" cy="98100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411360"/>
            <a:ext cx="3457440" cy="0"/>
          </a:xfrm>
          <a:prstGeom prst="line">
            <a:avLst/>
          </a:prstGeom>
          <a:ln w="50760">
            <a:solidFill>
              <a:srgbClr val="ffe8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3000" y="3394080"/>
            <a:ext cx="3591000" cy="0"/>
          </a:xfrm>
          <a:prstGeom prst="line">
            <a:avLst/>
          </a:prstGeom>
          <a:ln w="50760">
            <a:solidFill>
              <a:srgbClr val="ffe8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813040" y="4354200"/>
            <a:ext cx="630360" cy="84132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5546880" y="4368960"/>
            <a:ext cx="576000" cy="85536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H="1" rot="16200000">
            <a:off x="1843920" y="1564200"/>
            <a:ext cx="1162440" cy="188208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 flipH="1" flipV="1" rot="5400000">
            <a:off x="1426680" y="3469680"/>
            <a:ext cx="1650240" cy="212652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7" name=""/>
          <p:cNvCxnSpPr/>
          <p:nvPr/>
        </p:nvCxnSpPr>
        <p:spPr>
          <a:xfrm flipV="1" rot="16200000">
            <a:off x="6118560" y="3579840"/>
            <a:ext cx="1685160" cy="191520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3575160" y="2019240"/>
            <a:ext cx="587160" cy="49536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520" y="3083040"/>
            <a:ext cx="9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t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4680" y="3492360"/>
            <a:ext cx="99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t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24080" y="2006640"/>
            <a:ext cx="538200" cy="50796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560" y="907920"/>
            <a:ext cx="154152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ntabilidad 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sistema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ntrol int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8760" y="907920"/>
            <a:ext cx="154116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Política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Gobiern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rporati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6480" y="907920"/>
            <a:ext cx="154116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periencia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habil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905040"/>
            <a:ext cx="154116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2040" y="5373720"/>
            <a:ext cx="154152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Norma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ntabilida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5960" y="5383080"/>
            <a:ext cx="154116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Normas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51200" y="5396040"/>
            <a:ext cx="154152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ódigo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É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9800" y="5397480"/>
            <a:ext cx="154152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Requisitos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Gobiern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rporati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76960" y="5397480"/>
            <a:ext cx="154152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spec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terna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la prepar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de inform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n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5748480" y="3082680"/>
            <a:ext cx="1689120" cy="324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423200" y="1942920"/>
            <a:ext cx="0" cy="11617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040" y="18900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arco para la información contable de alta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2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4511520"/>
            <a:ext cx="5931000" cy="2346480"/>
          </a:xfrm>
          <a:prstGeom prst="roundRect">
            <a:avLst>
              <a:gd name="adj" fmla="val 16667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40" y="585720"/>
            <a:ext cx="5931000" cy="2346480"/>
          </a:xfrm>
          <a:prstGeom prst="roundRect">
            <a:avLst>
              <a:gd name="adj" fmla="val 16667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124080"/>
            <a:ext cx="209556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uditoría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udi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760" y="5486400"/>
            <a:ext cx="1190520" cy="83520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Norm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Audito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5181480"/>
            <a:ext cx="139680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Norma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ntrol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5181480"/>
            <a:ext cx="139680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Norm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ducativ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5181480"/>
            <a:ext cx="114300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ódig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É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446800"/>
            <a:ext cx="1590840" cy="96840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spec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tern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dependie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80" y="3753000"/>
            <a:ext cx="3276360" cy="17280"/>
          </a:xfrm>
          <a:prstGeom prst="line">
            <a:avLst/>
          </a:prstGeom>
          <a:ln w="50760">
            <a:solidFill>
              <a:srgbClr val="ffe8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6400" y="3735360"/>
            <a:ext cx="3314880" cy="0"/>
          </a:xfrm>
          <a:prstGeom prst="line">
            <a:avLst/>
          </a:prstGeom>
          <a:ln w="50760">
            <a:solidFill>
              <a:srgbClr val="ffe8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440" y="3313080"/>
            <a:ext cx="9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t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23160" y="3770280"/>
            <a:ext cx="9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t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7" idx="0"/>
          </p:cNvCxnSpPr>
          <p:nvPr/>
        </p:nvCxnSpPr>
        <p:spPr>
          <a:xfrm flipH="1" flipV="1" rot="5400000">
            <a:off x="1048320" y="3589560"/>
            <a:ext cx="1548360" cy="224532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7586640" y="5661000"/>
            <a:ext cx="123336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Requisitos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Gobiern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rporativo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Las Fir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733920" y="4419720"/>
            <a:ext cx="304560" cy="761760"/>
          </a:xfrm>
          <a:prstGeom prst="line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723920" y="4419720"/>
            <a:ext cx="304920" cy="761760"/>
          </a:xfrm>
          <a:prstGeom prst="line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8" idx="0"/>
          </p:cNvCxnSpPr>
          <p:nvPr/>
        </p:nvCxnSpPr>
        <p:spPr>
          <a:xfrm flipH="1" flipV="1" rot="5400000">
            <a:off x="2203920" y="4208760"/>
            <a:ext cx="915120" cy="103104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91" name=""/>
          <p:cNvCxnSpPr/>
          <p:nvPr/>
        </p:nvCxnSpPr>
        <p:spPr>
          <a:xfrm flipV="1" rot="16200000">
            <a:off x="5371560" y="4380840"/>
            <a:ext cx="991440" cy="915120"/>
          </a:xfrm>
          <a:prstGeom prst="bentConnector3">
            <a:avLst>
              <a:gd name="adj1" fmla="val 100617"/>
            </a:avLst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92" name=""/>
          <p:cNvCxnSpPr>
            <a:stCxn id="287" idx="0"/>
          </p:cNvCxnSpPr>
          <p:nvPr/>
        </p:nvCxnSpPr>
        <p:spPr>
          <a:xfrm flipV="1" rot="16200000">
            <a:off x="6279480" y="3736440"/>
            <a:ext cx="1510560" cy="233892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349200" y="1865160"/>
            <a:ext cx="1143000" cy="91152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Experiencia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habil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6880" y="1871640"/>
            <a:ext cx="1214280" cy="8715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Requisi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Ét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56360" y="1878120"/>
            <a:ext cx="137160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Metodolog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de Audito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96360" y="1865160"/>
            <a:ext cx="1328400" cy="87804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Política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Gobiern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orporati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476440" y="2946240"/>
            <a:ext cx="762120" cy="533520"/>
            <a:chOff x="2476440" y="2946240"/>
            <a:chExt cx="762120" cy="533520"/>
          </a:xfrm>
        </p:grpSpPr>
        <p:sp>
          <p:nvSpPr>
            <p:cNvPr id="298" name=""/>
            <p:cNvSpPr/>
            <p:nvPr/>
          </p:nvSpPr>
          <p:spPr>
            <a:xfrm>
              <a:off x="2476440" y="3465360"/>
              <a:ext cx="76212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476440" y="2946240"/>
              <a:ext cx="0" cy="5335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00" name=""/>
          <p:cNvCxnSpPr>
            <a:stCxn id="295" idx="2"/>
          </p:cNvCxnSpPr>
          <p:nvPr/>
        </p:nvCxnSpPr>
        <p:spPr>
          <a:xfrm rot="5400000">
            <a:off x="6077880" y="2638440"/>
            <a:ext cx="613440" cy="91512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01" name=""/>
          <p:cNvCxnSpPr>
            <a:stCxn id="296" idx="2"/>
          </p:cNvCxnSpPr>
          <p:nvPr/>
        </p:nvCxnSpPr>
        <p:spPr>
          <a:xfrm rot="5400000">
            <a:off x="6690600" y="1971720"/>
            <a:ext cx="799200" cy="2342160"/>
          </a:xfrm>
          <a:prstGeom prst="bentConnector2">
            <a:avLst/>
          </a:prstGeom>
          <a:ln w="4428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02" name=""/>
          <p:cNvSpPr/>
          <p:nvPr/>
        </p:nvSpPr>
        <p:spPr>
          <a:xfrm>
            <a:off x="814320" y="752400"/>
            <a:ext cx="576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Sistema de control de calidad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040" y="18900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arco para la información contable de alta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59000" y="1876320"/>
            <a:ext cx="114300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94320" y="1882800"/>
            <a:ext cx="1143000" cy="911160"/>
          </a:xfrm>
          <a:prstGeom prst="roundRect">
            <a:avLst>
              <a:gd name="adj" fmla="val 16667"/>
            </a:avLst>
          </a:prstGeom>
          <a:solidFill>
            <a:srgbClr val="0066b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spec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Inter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632448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Sistema disciplin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e870"/>
                </a:solidFill>
                <a:latin typeface="Times New Roman"/>
              </a:rPr>
              <a:t>Actores a Nivel Inter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5840" y="1370160"/>
            <a:ext cx="3189600" cy="504720"/>
          </a:xfrm>
          <a:prstGeom prst="rect">
            <a:avLst/>
          </a:prstGeom>
          <a:solidFill>
            <a:srgbClr val="00b7a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Regulador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5840" y="5259240"/>
            <a:ext cx="3189600" cy="648000"/>
          </a:xfrm>
          <a:prstGeom prst="rect">
            <a:avLst/>
          </a:prstGeom>
          <a:solidFill>
            <a:srgbClr val="00b7a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Órgano de Supervis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del Interés Públic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5840" y="3386160"/>
            <a:ext cx="3189600" cy="865080"/>
          </a:xfrm>
          <a:prstGeom prst="rect">
            <a:avLst/>
          </a:prstGeom>
          <a:solidFill>
            <a:srgbClr val="00b7a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Normas Contables Sec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Público, Normas de Auditoría,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Ética y Educ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2160" y="2809800"/>
            <a:ext cx="3400200" cy="865440"/>
          </a:xfrm>
          <a:prstGeom prst="rect">
            <a:avLst/>
          </a:prstGeom>
          <a:solidFill>
            <a:srgbClr val="00b7a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IFI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(International Forum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of Independent Audit Regulator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72160" y="1514520"/>
            <a:ext cx="3400200" cy="504720"/>
          </a:xfrm>
          <a:prstGeom prst="rect">
            <a:avLst/>
          </a:prstGeom>
          <a:solidFill>
            <a:srgbClr val="00b7a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Tahoma"/>
              </a:rPr>
              <a:t>Normas Contables Sector Priva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5840" y="1874880"/>
            <a:ext cx="3189600" cy="1152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OS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Comité de Basil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Comisión Europ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689280"/>
            <a:ext cx="1676520" cy="25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ustrali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ustri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rasi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nadá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inamarc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ranci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lemani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Irland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Itali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Japón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ahoma"/>
              </a:rPr>
              <a:t>Finland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ahoma"/>
              </a:rPr>
              <a:t>Ko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5840" y="4251240"/>
            <a:ext cx="3189600" cy="505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72160" y="2019240"/>
            <a:ext cx="340020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IAS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5907240"/>
            <a:ext cx="318960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ahoma"/>
              </a:rPr>
              <a:t>PI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46200" y="4754520"/>
            <a:ext cx="0" cy="504720"/>
          </a:xfrm>
          <a:prstGeom prst="line">
            <a:avLst/>
          </a:prstGeom>
          <a:ln cap="sq" w="12600">
            <a:solidFill>
              <a:srgbClr val="ffe8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3689280"/>
            <a:ext cx="1676160" cy="25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éxico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Holand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Norueg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ngapu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udáfric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spañ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uecia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ino Unido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CAO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ri Lan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uiza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s-AR" sz="3200" spc="-1" strike="noStrike">
                <a:solidFill>
                  <a:srgbClr val="ffe870"/>
                </a:solidFill>
                <a:latin typeface="Times New Roman"/>
              </a:rPr>
              <a:t>Rol de las organizaciones profesional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243828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uestionamiento de la auto-regul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guir trabajando por el bien de la prof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tinuar sirviendo al interés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560" y="609480"/>
            <a:ext cx="1221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000" spc="-1" strike="noStrike">
                <a:solidFill>
                  <a:srgbClr val="ffe870"/>
                </a:solidFill>
                <a:latin typeface="Times New Roman"/>
              </a:rPr>
              <a:t>Oportunidades: la otra cara de los desafío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981080"/>
            <a:ext cx="7620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onciencia de la importancia de la prof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emanda cre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Nuevos campos de act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5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609480"/>
            <a:ext cx="196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ORT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e870"/>
                </a:solidFill>
                <a:latin typeface="Times New Roman"/>
              </a:rPr>
              <a:t>Condiciones para el logro de los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23623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Nutrirse de todas las cultur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Superar las barreras del idiom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Alentar la participa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Énfasis en la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Alineamiento, colaboración y comuni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Importancia de las organizaciones regional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Vivir los val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24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5640" y="609480"/>
            <a:ext cx="1545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La </a:t>
            </a:r>
            <a:r>
              <a:rPr b="0" i="1" lang="es-AR" sz="3600" spc="-1" strike="noStrike">
                <a:solidFill>
                  <a:srgbClr val="ffe870"/>
                </a:solidFill>
                <a:latin typeface="Times New Roman"/>
              </a:rPr>
              <a:t>IFAC Representa a la Profesión Inter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Organismos de contadores de todo el mund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Grandes, medianos y pequeños estudios profesion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Países desarrollados y en desarroll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Profesionales en el ejercicio de la práctica independiente, en las empresas,  en el gobierno y en la academi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948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720" y="533520"/>
            <a:ext cx="72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2767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www.ifac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4956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1447920" cy="134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457200" y="5029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Misión de IFAC</a:t>
            </a: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7620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Servir al interés público, fortaleciendo la profesión contable mundialmente y contribuyendo al desarrollo de economías fuertes por medio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720" y="533520"/>
            <a:ext cx="72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213372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ablecer y promover la adherencia a normas profesionales de alta ca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omentar la convergencia internacional a dichas n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omover el desarrollo de las organizaciones profes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xpresar una opinión sobre temas de interés público donde la incumbencia de la profesión contable es más releva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8720" y="533520"/>
            <a:ext cx="72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Misión de IFAC</a:t>
            </a:r>
            <a:r>
              <a:rPr b="0" i="1" lang="en-US" sz="3600" spc="-1" strike="noStrike">
                <a:solidFill>
                  <a:srgbClr val="ffe87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e870"/>
                </a:solidFill>
                <a:latin typeface="Times New Roman"/>
              </a:rPr>
              <a:t>Rol del profesional de Ciencias Económ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620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En la práctica públ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En organiz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En la consultor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Administración y Finanz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Insolv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Sistemas de Inform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Otras áre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En la Academ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Rol en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8040" indent="-24804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6720" y="609480"/>
            <a:ext cx="2809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ION Y SOCIE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IFAC Establecimiento de Nor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ternational Auditing and Assurance Standards Board (IAAS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ternational Ethics Standard Board for Accountants (IESB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ternational Accounting Education Standards Board (IAES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ternational Public Sector Accounting Standards Board (IPSAS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9480"/>
            <a:ext cx="380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ructura de 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Otros Comités de la IFAC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omité de los países en desarroll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omité de las pequeñas y medianas firmas profesional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Panel Asesor de Conformidad, a cargo del Programa de Conformida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omité de los contadores que trabajan en empres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0000"/>
              </a:lnSpc>
              <a:spcBef>
                <a:spcPts val="675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ffffff"/>
                </a:solidFill>
                <a:latin typeface="Times New Roman"/>
              </a:rPr>
              <a:t>Comité de Auditoría Transnaciona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609480"/>
            <a:ext cx="388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ructura de IFA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e870"/>
                </a:solidFill>
                <a:latin typeface="Times New Roman"/>
              </a:rPr>
              <a:t> </a:t>
            </a:r>
            <a:r>
              <a:rPr b="0" i="1" lang="es-AR" sz="4000" spc="-1" strike="noStrike">
                <a:solidFill>
                  <a:srgbClr val="ffe870"/>
                </a:solidFill>
                <a:latin typeface="Times New Roman"/>
              </a:rPr>
              <a:t>Principales desafío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362320"/>
            <a:ext cx="7620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misión de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Sustentabilidad de la prof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Rol de las organizaciones profesionales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560" y="609480"/>
            <a:ext cx="1221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dc:language>en-US</dc:language>
  <cp:lastModifiedBy>Congresos y Eventos</cp:lastModifiedBy>
  <cp:lastPrinted>1997-03-19T15:56:24Z</cp:lastPrinted>
  <dcterms:modified xsi:type="dcterms:W3CDTF">2007-05-15T12:09:10Z</dcterms:modified>
  <cp:revision>432</cp:revision>
  <dc:subject/>
  <dc:title>INTERNATIONAL FEDERATION OF ACCOUNTANTS</dc:title>
</cp:coreProperties>
</file>