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5F0-83EB-4ED7-9E11-D4126482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851-B3DD-4417-ACC0-44FF013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96C-32D4-4934-B3E6-4421F12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12-3AE9-4701-A16A-587C9B2D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1696-CAC4-41D7-8F9C-F92B4F86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DBAF-A8EA-427F-9D18-36A7D901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9A37-804D-4F29-B0AE-FC3AE82C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26A-4AF5-4FEF-80F2-8A58F656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82B7-D9E7-403D-BCA2-D642902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F73F-F186-4EF5-8E90-9CE5CB1E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DB49-8230-4941-B121-C501424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8F2-CA26-4F35-9AF1-C237647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4864-889D-4739-A434-E695CC3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CF4-6B94-432A-8D60-FB988FC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BFE-BB96-4249-A452-965B2A68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3147-4AFC-4E10-AAE5-271889A9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C8BF-82FC-4309-8531-E749152E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35D-9D18-4970-B733-EA2BE481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814-1C51-40D8-8763-69618DCF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A0C-D5FC-4B28-B553-84AE2778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03D-7177-459E-976D-FE0A34FA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571-BF68-4A86-ABF2-B0FA239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E14-FE5D-483A-A9A7-0726CB3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796-75B2-4AE4-B07C-C8C046C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2D76-29E8-499A-BE14-C09B11B5F1F7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9F3-4449-400D-9CA1-194ABCA2192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007-F98C-4DDA-A73A-26A0030F928B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3AF9-C098-4BEF-B67D-B48216EE4D5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rardodesivo@hotmail.com" TargetMode="External"/><Relationship Id="rId2" Type="http://schemas.openxmlformats.org/officeDocument/2006/relationships/hyperlink" Target="mailto:Gerardodesivo@hotmail.com" TargetMode="External"/><Relationship Id="rId3" Type="http://schemas.openxmlformats.org/officeDocument/2006/relationships/hyperlink" Target="mailto:Gos@dfkarg.com.ar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31237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xposi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r. C.P. Gerardo J. Desiv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r. C.P. Gabriel O. Sambuccett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Gerardodesivo</a:t>
            </a:r>
            <a:r>
              <a:rPr b="0" lang="es-AR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@hotmail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Gos@dfkarg.com.a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656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232-AF7C-4F55-BDEF-754B21314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cción 5.19.6.3: cuando existan diferencias temporarias entr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s mediciones contables de los activos y pasivos; Y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us bases imposit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 reconocerán activos o pasivos por impuestos diferidos, excepto en la medida que tales diferencias tengan que ver co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Un valor llave que no es deducible impositivam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conocimiento inicial de un activo o de un pasivo en una transacción que no es una combinación de negocios y no afecta ni el resultado contable ni el impositiv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cción 4.8: sólo se reconocerán como contingencias favorables las derivadas de la aplicación del méto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7A4-82AD-48BE-A8BD-5697EA5F9E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uando existan quebrantos impositivos acumulados susceptibles de compensación con ganancias futuras se reconocerá un activo diferido sólo en la medida que sea probable su deducción de ganancias impositivas futur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ara ello el ente deberá evaluar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i los quebrantos impositivos fueron producidos por causas identificables cuya repetición es improbabl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imitación temporal al uso del quebrant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  probabilidad de que el ente genere utilidades impositivas futuras que permitan absorberlos considerand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i existen pasivos por impuestos diferi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i existe la posibilidad de efectuar una planificación que permita incrementar las ganancias fiscales futur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E0F-CE71-460C-B99C-202473E7A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cción 5.19.6.3.3: la medición contable de los impuestos diferidos se hará según normas de valuación de los rubros “otros pasivos en moneda”, u “otros activos en moneda”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os importes de los activos y pasivos contabilizados deben reflejar los efectos que sobre los importes de los futuros impuestos tendrán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 reversión de las diferencias temporarias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l empleo de quebrantos impositiv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A2E-382F-4C1C-93A5-1F3202C0F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ambios en la tasa: a los importes de diferencias temporarias y quebrantos impositivos no utilizados se les aplicará la tasa impositiva que se espera esté vigente a la fecha de su reversión o utilización considerando las normas conocidas hasta la fecha de los estados conta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 podrá computar una desvalorización sobre la parte de los activos diferidos que se considere irrecuperable cuand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xcedan a los pasivos diferidos compensa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a improbable que las ganancias impositivas futuras puedan absorberl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 desvalorización puede revertirse cuando vuelva a ser probable la generación futura de utilidades gravables suficientes que permitan recuperar dichos crédit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41A-9968-4703-A8A8-7791FFC1E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cción 5.19.6.4 imputación: corresponde imputar al ejercici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os impuestos determinados para el mism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s variaciones temporarias que no hayan sido originadas en  combinaciones de negocios o por escision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666-3A5E-4A12-ABB2-DBF4A65BA0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olución técnica 17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rimer ejercicio de aplicació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Sección 4.10: se efectuarán modificaciones a resultados de ejercicios anteriores en los siguientes caso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orrección de errores en la medición de resultados en ejercicios anterior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plicación de una norma de medición contable distint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 aplicación del método por primera vez implic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alcular las diferencias temporarias pendientes al cierre del ejercicio anterior y el ajuste a resultado que las mismas hubieran genera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ontabilizar dicho ajuste como un ARE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71C-3941-4A0E-9933-7A8BC56943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iferencias permanentes: conforme al texto vigente de la ley del impuesto a las ganancias podemos citar entre otra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7 3º parr. Ley: gastos vinculados con ganancias exentas o no gravad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9 LIG: quebrantos no compensables en ejercicios futu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20 LIG: ganancias exentas: por ejempl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rimas de emisión de accion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Hasta 7/4/2003: reintegros o reembolsos de exportació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37 LIG: salidas no documentad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41 f) y g) LIG: valor locativo de inmue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46  y 64 LIG: los dividen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48 LIG: intereses presunt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FCA-62F2-4E09-AD51-F6D912199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iferencias permanentes,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72 LIG: dividendos en especie: diferencia entre valor de plazo y costo impositiv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t. 73 LIG: intereses presuntos por disposiciones de fondos a favor de terce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 77 LIG: resultados generados por reorganización de sociedad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1 lig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A): intereses de deudas contraídas con personas controlantes no residen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C): donaciones que excedan el 5% de la ganancia neta del ejercici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2 e): gastos de movilidad y viáticos que excedan las sumas reconocidas por la DGI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BD6-EA5E-4287-BF6C-5766BD60D4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7 LIG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g): Gratificaciones impugnadas por la Direcció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i): gastos de representación que excedan el 1,5% de las remuneraciones pagad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j): sumas que excedan el límite deducible de honorarios a Director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4DA-EA9E-4E0D-BD68-F2A2DADC9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029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iferencia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ermanentes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8 LIG: entre las deducciones no admitidas que enumera la norma podemos citar como más comun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e) honorarios por asesoramiento técnico en los montos que excedan los límites establecidos en el art. 146 del Decreto Reglament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h) amortización de llaves marcas y activos simila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i) donaciones no deduc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l) amortizaciones y gastos de automóviles en la parte no deducib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Inc. m) retribuciones por la explotación de marcas y patentes en los montos que exceden el límite del art. 146.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l ajuste por infl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45 DR: Multas, costas causídicas, intereses punitori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A6C-727D-47C9-BF93-B15A0A055E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90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Marco conceptual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l impuesto a las ganancias grava las ganancias obtenidas en el período fiscal determinadas en base las normas establecidas en la ley del gravam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s normas impositivas sobre valuación e imputación de ganancias y pérdidas al período fiscal en algunos casos difieren de las conta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stas diferencias entre el resultado impositivo y el contable pueden obedecer a causales temporarias o permanen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 imputación contable de resultados a los distintos períodos debe hacerse siguiendo las reglas del devengamient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9F3-744C-426F-BCDF-3ED15DBA6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9534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iferencias temporarias más comun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8 LIG: devengado exigibl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8 LIG último párrafo: gastos con compañías vinculadas del exterior impagos al vencimiento de la declaración jurad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9: quebrantos compensables en ejercicios futu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52 y sig.: Diferencias en criterios de valuación de existencias de bienes de cambi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66 LIG: bienes del activo fijo en desus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67 LIG: venta y reeemplaz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74 LIG: para empresas de contrucció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1 f) LIG: amortización de bienes inmateria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3 y 84 LIG: diferencias en criterios de amortización de inmue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3B7-C0E4-431C-B645-22D1CEDBF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iferencias temporarias más comunes cont.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7 b) castigos y previsiones contra malos crédit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7 c) gastos de organizació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87 j) honorarios de directores asignados con posterioridad al vencimiento de la declaración jurad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47 DR: tratamiento de las mejor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rt. 124 DR: tratamiento de las pérdidas extraordinarias por siniest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EC1-BD18-4547-B1A5-65BED3792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as diferencias en el tratamiento de ganancias y pérdidas entre las normas contables y las impositivas pueden ser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Temporarias: originadas en transacciones cuyos resultados se imputan contablemente a distintos períodos respecto de la declaración jurada impositiv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Los efectos de estas diferencias se compensarán en el tiemp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Estas diferencias son las que dan origen al método del impuesto diferi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efinitivas: no se compensan en el tiempo y por lo tanto no dan lugar a la contabilización de activos ni pasivos diferi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1F3-5572-4901-A4D3-9AA8F1D9F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ausas de diferencias temporaria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Ganancias reconocidas contablemente cuya imputación impositiva se difiera en el tiempo o vicevers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érdidas reconocidas contablemente cuya imputación al balance fiscal se difiera en el tiempo o vicevers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Traslado de quebrantos a ejercicios futu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E8D-F2E0-4872-A37B-755D8F6CD4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Una diferencia temporaria va a dar origen a un pasivo diferido cuando implique un ajuste que disminuya la ganancia gravada del período fiscal que se liquida pero represente una ganancia gravada en algún o algunos períodos futu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Una diferencia temporaria va a dar origen a un activo diferido cuando implique un ajuste que aumente la ganancia gravada del período fiscal que se liquida pero represente una menor ganancia gravada en algún o algunos períodos fiscales futur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E1E-2B34-4DFA-BEED-DB3C9EA79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ausas de diferencias permanent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Ganancias no gravadas o exent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Pérdidas o gastos reconocidos contablemente no deducib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Ganancias presunt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Deducciones especiales impositivas que no impliquen una pérdida o gasto contablem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BFE-D6D8-4630-9656-86B5E2E00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Método tradicional de contabilización del impuesto a las ganancia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conocíamos en el período fiscal solamente la pérdida por el impuesto liquida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Más ajustado al concepto de percibid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No reconocía ningún activo o pasivo diferifido por diferencias temporarias entre el resultado contable e impositiv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onsistía 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ultado contabl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+/- Diferencias temporarias y permanen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= Base imponible * alícuot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= Impuesto a paga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1E8-C21B-48BC-A172-9971A1DF4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210672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Método del impuesto diferido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conoce en el período fiscal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ctivos y pasivos diferidos por diferencias temporari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Ajustado al concepto de deveng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Consiste 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ultado contab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+/- Diferencias permanen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* Alícuota del gravam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= Impuesto a las ganancias (pérdida del ejercicio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+/- Diferencias temporari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* Tas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= Impuesto diferi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D2F-5F4C-4F05-AD30-0278940B6B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3366"/>
                </a:solidFill>
                <a:latin typeface="Times New Roman"/>
              </a:rPr>
              <a:t>El método del impuesto diferi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Resultado contabl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+/- Diferencias temporarias y permanen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* Alícuota del impues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imes New Roman"/>
              </a:rPr>
              <a:t>= Impuesto a las ganancias a paga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404-5C35-47BE-B60D-3782886DA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01:44:53Z</dcterms:created>
  <dc:creator>Hernan</dc:creator>
  <dc:description/>
  <dc:language>en-US</dc:language>
  <cp:lastModifiedBy>Congresos y Eventos</cp:lastModifiedBy>
  <dcterms:modified xsi:type="dcterms:W3CDTF">2007-05-07T13:23:49Z</dcterms:modified>
  <cp:revision>15</cp:revision>
  <dc:subject/>
  <dc:title>El método del Impuesto Diferido</dc:title>
</cp:coreProperties>
</file>