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27B8-B647-4988-9F7B-DAFF1DFD4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AFC7-ACF2-4ACC-BCA8-35ECBBD2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1BBF-0FAA-4AB4-8B36-A7699CA87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4F89-AE8F-40C9-BD96-AE2773A01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F00F-01C9-4A0B-B53B-5821DECF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BA9A-7052-4EE3-A387-3C9265CD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B22C-2A27-4943-A5DB-933A0426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3A16-B93B-4EBF-AEB9-7047B00B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EFDE-11F0-470A-8227-F83EEA31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0F0D-950B-488E-8558-7ACA6205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BD2D-23AD-4E09-B80A-B408D9D1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4D27-842E-4706-A665-9F43C8C7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FE9A-06BF-4223-855B-AC9A06D02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31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333399"/>
                </a:solidFill>
                <a:uFillTx/>
                <a:latin typeface="Bookman Old Style"/>
              </a:rPr>
              <a:t>III Encuentro de Jóvenes Profesionales en Ciencias Económic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Bookman Old Style"/>
              </a:rPr>
              <a:t>Mark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Bookman Old Style"/>
              </a:rPr>
              <a:t>Asociativ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136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Bookman Old Style"/>
              </a:rPr>
              <a:t>Trabajo en equi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Bookman Old Style"/>
              </a:rPr>
              <a:t>Asociativ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Bookman Old Style"/>
              </a:rPr>
              <a:t>Consorcios de profesiona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Bookman Old Style"/>
              </a:rPr>
              <a:t>Estructuras flexib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Bookman Old Style"/>
              </a:rPr>
              <a:t>Redes de trabaj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Bookman Old Style"/>
              </a:rPr>
              <a:t>Estudio de profesiona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Bookman Old Style"/>
              </a:rPr>
              <a:t>Represent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333399"/>
                </a:solidFill>
                <a:uFillTx/>
                <a:latin typeface="Bookman Old Style"/>
              </a:rPr>
              <a:t>Asociativ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27640" y="4365720"/>
            <a:ext cx="32400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Asociación Par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Asociación Ple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333399"/>
                </a:solidFill>
                <a:uFillTx/>
                <a:latin typeface="Bookman Old Style"/>
              </a:rPr>
              <a:t>Trabajo en equip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306864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ookman Old Style"/>
              </a:rPr>
              <a:t>Definir en cinco pasos las acciones que desarrollarían para crecer profesionalmente tomando en cuenta captación de clientes, servicios a ofrecer y asociativ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50920" y="981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33cc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s-ES_tradnl" sz="2200" spc="-1" strike="noStrike">
                <a:solidFill>
                  <a:srgbClr val="000000"/>
                </a:solidFill>
                <a:latin typeface="Bookman Old Style"/>
              </a:rPr>
              <a:t>Servicios que los clientes demandan       </a:t>
            </a:r>
            <a:r>
              <a:rPr b="0" i="1" lang="es-ES_tradnl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s-ES_tradnl" sz="2200" spc="-1" strike="noStrike">
                <a:solidFill>
                  <a:srgbClr val="000000"/>
                </a:solidFill>
                <a:latin typeface="Bookman Old Style"/>
              </a:rPr>
              <a:t>orientados al futur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Bookman Old Styl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Bookman Old Style"/>
              </a:rPr>
              <a:t>Producto intangible que es único para cada cli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Bookman Old Styl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Bookman Old Style"/>
              </a:rPr>
              <a:t>Brindar servicios concretos y valiosos para los clien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Bookman Old Styl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Bookman Old Style"/>
              </a:rPr>
              <a:t>Transmitirl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Bookman Old Styl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Bookman Old Style"/>
              </a:rPr>
              <a:t>Comunicarl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Bookman Old Styl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Bookman Old Style"/>
              </a:rPr>
              <a:t>Innovación.                             Jorn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Bookman Old Styl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Bookman Old Style"/>
              </a:rPr>
              <a:t>Creatividad.                            Curs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Bookman Old Styl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Bookman Old Style"/>
              </a:rPr>
              <a:t>Actualización continua:           Congre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  </a:t>
            </a:r>
            <a:r>
              <a:rPr b="0" i="1" lang="es-ES_tradnl" sz="2200" spc="-1" strike="noStrike">
                <a:solidFill>
                  <a:srgbClr val="000000"/>
                </a:solidFill>
                <a:latin typeface="Bookman Old Style"/>
              </a:rPr>
              <a:t>Especializ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  </a:t>
            </a:r>
            <a:r>
              <a:rPr b="0" i="1" lang="es-ES_tradnl" sz="2200" spc="-1" strike="noStrike">
                <a:solidFill>
                  <a:srgbClr val="000000"/>
                </a:solidFill>
                <a:latin typeface="Bookman Old Style"/>
              </a:rPr>
              <a:t>Postgr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Bookman Old Styl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Bookman Old Style"/>
              </a:rPr>
              <a:t>Excelencia profesio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Bookman Old Styl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03640" y="5084640"/>
            <a:ext cx="6858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826920" y="1155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 u="sng">
                <a:solidFill>
                  <a:srgbClr val="333399"/>
                </a:solidFill>
                <a:uFillTx/>
                <a:latin typeface="Bookman Old Style"/>
              </a:rPr>
              <a:t>Claves de éxi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03640" y="5084640"/>
            <a:ext cx="685800" cy="3812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003640" y="4703760"/>
            <a:ext cx="685800" cy="380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003640" y="4322880"/>
            <a:ext cx="685800" cy="761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03640" y="5084640"/>
            <a:ext cx="685800" cy="7621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940360" y="1197000"/>
            <a:ext cx="720720" cy="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920" y="446040"/>
            <a:ext cx="86421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333399"/>
                </a:solidFill>
                <a:uFillTx/>
                <a:latin typeface="Bookman Old Style"/>
              </a:rPr>
              <a:t>Claves de éxi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Tener pleno convencimiento de   que contamos con la capacidad profesional neces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Experi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Cono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Capaci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Orientación hacia el fut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Concre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Valio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042920" y="404640"/>
            <a:ext cx="7274160" cy="61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333399"/>
                </a:solidFill>
                <a:uFillTx/>
                <a:latin typeface="Bookman Old Style"/>
              </a:rPr>
              <a:t>Claves de éxi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99ff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6699ff"/>
                </a:solidFill>
                <a:latin typeface="Bookman Old Style"/>
              </a:rPr>
              <a:t>	</a:t>
            </a:r>
            <a:r>
              <a:rPr b="0" i="1" lang="en-US" sz="2800" spc="-1" strike="noStrike" u="sng">
                <a:solidFill>
                  <a:srgbClr val="333399"/>
                </a:solidFill>
                <a:uFillTx/>
                <a:latin typeface="Bookman Old Style"/>
              </a:rPr>
              <a:t>DEFIN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Bookman Old Style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Mi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Bookman Old Style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Vi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Bookman Old Style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Bookman Old Style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Estrateg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915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s-ES_tradnl" sz="3600" spc="-1" strike="noStrike" u="sng">
                <a:solidFill>
                  <a:srgbClr val="333399"/>
                </a:solidFill>
                <a:uFillTx/>
                <a:latin typeface="Bookman Old Style"/>
              </a:rPr>
              <a:t>Análisis F.O.D.A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2491920"/>
            <a:ext cx="77724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Bookman Old Style"/>
              </a:rPr>
              <a:t>Dirigir nuestros recursos para obtener 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Bookman Old Style"/>
              </a:rPr>
              <a:t>máximo beneficio de nuestras </a:t>
            </a:r>
            <a:r>
              <a:rPr b="0" i="1" lang="es-ES_tradnl" sz="2500" spc="-1" strike="noStrike">
                <a:solidFill>
                  <a:srgbClr val="333399"/>
                </a:solidFill>
                <a:latin typeface="Bookman Old Style"/>
              </a:rPr>
              <a:t>fortalezas</a:t>
            </a:r>
            <a:r>
              <a:rPr b="0" i="1" lang="es-ES_tradnl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2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Bookman Old Style"/>
              </a:rPr>
              <a:t>aprovechando las </a:t>
            </a:r>
            <a:r>
              <a:rPr b="0" i="1" lang="es-ES_tradnl" sz="2500" spc="-1" strike="noStrike">
                <a:solidFill>
                  <a:srgbClr val="333399"/>
                </a:solidFill>
                <a:latin typeface="Bookman Old Style"/>
              </a:rPr>
              <a:t>oportunidades</a:t>
            </a:r>
            <a:r>
              <a:rPr b="0" i="1" lang="es-ES_tradnl" sz="2400" spc="-1" strike="noStrike">
                <a:solidFill>
                  <a:srgbClr val="000000"/>
                </a:solidFill>
                <a:latin typeface="Bookman Old Style"/>
              </a:rPr>
              <a:t> que se nos presentan, minimizando y superando las </a:t>
            </a:r>
            <a:r>
              <a:rPr b="0" i="1" lang="es-ES_tradnl" sz="2500" spc="-1" strike="noStrike">
                <a:solidFill>
                  <a:srgbClr val="333399"/>
                </a:solidFill>
                <a:latin typeface="Bookman Old Style"/>
              </a:rPr>
              <a:t>debilidades</a:t>
            </a:r>
            <a:r>
              <a:rPr b="0" i="1" lang="es-ES_tradnl" sz="2500" spc="-1" strike="noStrike">
                <a:solidFill>
                  <a:srgbClr val="6600cc"/>
                </a:solidFill>
                <a:latin typeface="Bookman Old Style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Bookman Old Style"/>
              </a:rPr>
              <a:t>y estando atentos a las </a:t>
            </a:r>
            <a:r>
              <a:rPr b="0" i="1" lang="es-ES_tradnl" sz="2500" spc="-1" strike="noStrike">
                <a:solidFill>
                  <a:srgbClr val="333399"/>
                </a:solidFill>
                <a:latin typeface="Bookman Old Style"/>
              </a:rPr>
              <a:t>amenazas</a:t>
            </a:r>
            <a:r>
              <a:rPr b="0" i="1" lang="es-ES_tradnl" sz="2500" spc="-1" strike="noStrike">
                <a:solidFill>
                  <a:srgbClr val="6600cc"/>
                </a:solidFill>
                <a:latin typeface="Bookman Old Style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11280" y="1341360"/>
            <a:ext cx="806436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333399"/>
                </a:solidFill>
                <a:uFillTx/>
                <a:latin typeface="Bookman Old Style"/>
              </a:rPr>
              <a:t>Honor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Adecu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Contemplar elementos objetivos y su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mprevi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Que permitan el cr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79280" y="404640"/>
            <a:ext cx="8569440" cy="61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4000" spc="-1" strike="noStrike" u="sng">
                <a:solidFill>
                  <a:srgbClr val="333399"/>
                </a:solidFill>
                <a:uFillTx/>
                <a:latin typeface="Bookman Old Style"/>
              </a:rPr>
              <a:t>Estudios que han crec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Están asociados con uno o más profes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Dedicación exclusiva a la profe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Excelente comunicación interna y ext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Organización piramidal interna y ext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Clara definición de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Filosofía de serv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Misión del estud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líticas acordes a filosofía y mi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 u="sng">
                <a:solidFill>
                  <a:srgbClr val="333399"/>
                </a:solidFill>
                <a:uFillTx/>
                <a:latin typeface="Bookman Old Style"/>
              </a:rPr>
              <a:t>TAO TE CHING (Fragmen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803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Bookman Old Style"/>
              </a:rPr>
              <a:t>Considera grande lo pequeñ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Bookman Old Style"/>
              </a:rPr>
              <a:t>mucho lo po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Bookman Old Style"/>
              </a:rPr>
              <a:t>Trata lo difícil mientras es fáci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Bookman Old Style"/>
              </a:rPr>
              <a:t>intenta lo grande mientras es peque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Bookman Old Style"/>
              </a:rPr>
              <a:t>Todas las cosas difíciles del mu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Bookman Old Style"/>
              </a:rPr>
              <a:t>comienzan siendo fác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Bookman Old Style"/>
              </a:rPr>
              <a:t>Todas las cosas grandes del mund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Bookman Old Style"/>
              </a:rPr>
              <a:t>comienzan siendo pequeñ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Bookman Old Style"/>
              </a:rPr>
              <a:t>El árbol que los brazos de un hom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Bookman Old Style"/>
              </a:rPr>
              <a:t>no puede abra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Bookman Old Style"/>
              </a:rPr>
              <a:t>se eleva a partir de un tierno bro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Bookman Old Style"/>
              </a:rPr>
              <a:t>La torre de nueve pisos tiene su b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Bookman Old Style"/>
              </a:rPr>
              <a:t>en un montículo de tierr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Bookman Old Style"/>
              </a:rPr>
              <a:t>El viaje de mil mil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Bookman Old Style"/>
              </a:rPr>
              <a:t>comienza en el sitio que está bajo tus p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LAO T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755640" y="2133720"/>
            <a:ext cx="777708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man Old Style"/>
              </a:rPr>
              <a:t>¿ Por qué crecer ?</a:t>
            </a:r>
            <a:endParaRPr b="1" i="1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man Old Style"/>
              <a:ea typeface="Bookman Old Sty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900000" y="1341360"/>
            <a:ext cx="799308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" SOLO VIVE DE VERAS , 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QUIEN JAMÁS SE DETIENE " 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76360" y="189000"/>
            <a:ext cx="6696000" cy="65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Bookman Old Style"/>
              </a:rPr>
              <a:t>Crecimiento</a:t>
            </a:r>
            <a:r>
              <a:rPr b="0" i="1" lang="en-US" sz="3200" spc="-1" strike="noStrike">
                <a:solidFill>
                  <a:srgbClr val="000000"/>
                </a:solidFill>
                <a:latin typeface="Bookman Old Style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Armó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lanifi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Organiz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Bookman Old Style"/>
              </a:rPr>
              <a:t>Para asegurarnos que s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ól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osten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Efica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Exito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333399"/>
                </a:solidFill>
                <a:uFillTx/>
                <a:latin typeface="Bookman Old Style"/>
              </a:rPr>
              <a:t>Obtención de Clie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31672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Bookman Old Style"/>
              </a:rPr>
              <a:t>Amist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Bookman Old Style"/>
              </a:rPr>
              <a:t>Par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Bookman Old Style"/>
              </a:rPr>
              <a:t>Cole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Bookman Old Style"/>
              </a:rPr>
              <a:t>Ban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Bookman Old Style"/>
              </a:rPr>
              <a:t>Profesionales de otras discipl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Bookman Old Style"/>
              </a:rPr>
              <a:t>Conferencias – Eventos – Reun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Bookman Old Style"/>
              </a:rPr>
              <a:t>Participación en asociaciones (Profesionales, comerciales, industriales, deportiva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Bookman Old Style"/>
              </a:rPr>
              <a:t>Mostrarn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Bookman Old Style"/>
              </a:rPr>
              <a:t>Darnos a cono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Bookman Old Style"/>
              </a:rPr>
              <a:t>Pres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Bookman Old Style"/>
              </a:rPr>
              <a:t>Cl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Bookman Old Style"/>
              </a:rPr>
              <a:t>Merc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Bookman Old Style"/>
              </a:rPr>
              <a:t>Institu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Bookman Old Style"/>
              </a:rPr>
              <a:t>Entidades de bien públ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Bookman Old Style"/>
              </a:rPr>
              <a:t>Univers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964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 u="sng">
                <a:solidFill>
                  <a:srgbClr val="333399"/>
                </a:solidFill>
                <a:uFillTx/>
                <a:latin typeface="Bookman Old Style"/>
              </a:rPr>
              <a:t>¿Qué esperan de nosotros nuestros clien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00000" y="1916280"/>
            <a:ext cx="6912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Bookman Old Style"/>
              </a:rPr>
              <a:t>Asesora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Bookman Old Style"/>
              </a:rPr>
              <a:t>Cumpl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Bookman Old Style"/>
              </a:rPr>
              <a:t>Seguridad.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Bookman Old Style"/>
              </a:rPr>
              <a:t>Idone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Bookman Old Style"/>
              </a:rPr>
              <a:t>Calidad de servi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Bookman Old Style"/>
              </a:rPr>
              <a:t>Acompañamiento en su activ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Bookman Old Style"/>
              </a:rPr>
              <a:t>Respuesta a sus neces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cc"/>
                </a:solidFill>
                <a:latin typeface="Bookman Old Style"/>
              </a:rPr>
              <a:t>Honor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692280"/>
            <a:ext cx="889308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25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Bookman Old Style"/>
              </a:rPr>
              <a:t>Donde queremos est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Bookman Old Style"/>
              </a:rPr>
              <a:t>A donde queremos lleg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Bookman Old Style"/>
              </a:rPr>
              <a:t>Cual es el valor de nuestro tra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 u="sng">
                <a:solidFill>
                  <a:srgbClr val="333399"/>
                </a:solidFill>
                <a:uFillTx/>
                <a:latin typeface="Bookman Old Style"/>
              </a:rPr>
              <a:t>Creativ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Bookman Old Style"/>
              </a:rPr>
              <a:t>Ser difer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Bookman Old Style"/>
              </a:rPr>
              <a:t>Mostrarnos difer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Bookman Old Style"/>
              </a:rPr>
              <a:t>Agregar nuevos servic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Bookman Old Style"/>
              </a:rPr>
              <a:t>Cambi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Bookman Old Style"/>
              </a:rPr>
              <a:t>Innov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99"/>
                </a:solidFill>
                <a:latin typeface="Bookman Old Style"/>
              </a:rPr>
              <a:t>Estar atento a las oportun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99"/>
                </a:solidFill>
                <a:latin typeface="Bookman Old Style"/>
              </a:rPr>
              <a:t>Distraer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333399"/>
                </a:solidFill>
                <a:uFillTx/>
                <a:latin typeface="Bookman Old Style"/>
              </a:rPr>
              <a:t>Pens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1461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 u="sng">
                <a:solidFill>
                  <a:srgbClr val="333399"/>
                </a:solidFill>
                <a:uFillTx/>
                <a:latin typeface="Bookman Old Style"/>
              </a:rPr>
              <a:t>Pautas a tener en cuen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0920" y="1052640"/>
            <a:ext cx="7993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Bookman Old Style"/>
              </a:rPr>
              <a:t>Estudio organiz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Bookman Old Style"/>
              </a:rPr>
              <a:t>Equipo de colabora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Bookman Old Style"/>
              </a:rPr>
              <a:t>Celeridad en las respues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Bookman Old Style"/>
              </a:rPr>
              <a:t>Comunic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Bookman Old Style"/>
              </a:rPr>
              <a:t>Perso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Bookman Old Style"/>
              </a:rPr>
              <a:t>Telefóni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Bookman Old Style"/>
              </a:rPr>
              <a:t>Vía correo electrónico</a:t>
            </a:r>
            <a:r>
              <a:rPr b="0" i="1" lang="es-ES_tradnl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Bookman Old Style"/>
              </a:rPr>
              <a:t>Recomendación a otros profesion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Bookman Old Style"/>
              </a:rPr>
              <a:t>Misma discipli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Bookman Old Style"/>
              </a:rPr>
              <a:t>Otras disciplin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Bookman Old Style"/>
              </a:rPr>
              <a:t>Preocupación por la marcha del nego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Bookman Old Style"/>
              </a:rPr>
              <a:t>Propuestas de mejorami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920" y="763560"/>
            <a:ext cx="864216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Bookman Old Style"/>
              </a:rPr>
              <a:t>Imagen profesion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Bookman Old Style"/>
              </a:rPr>
              <a:t>Pres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Bookman Old Style"/>
              </a:rPr>
              <a:t>Conocimi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Bookman Old Style"/>
              </a:rPr>
              <a:t>Natur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Bookman Old Style"/>
              </a:rPr>
              <a:t>Ser agrad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Bookman Old Style"/>
              </a:rPr>
              <a:t>Demostrar sabiduría y cultura gen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Bookman Old Style"/>
              </a:rPr>
              <a:t>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Bookman Old Style"/>
              </a:rPr>
              <a:t>Comprom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Bookman Old Style"/>
              </a:rPr>
              <a:t>Segur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Bookman Old Style"/>
              </a:rPr>
              <a:t>Respuesta a las neces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99"/>
                </a:solidFill>
                <a:latin typeface="Bookman Old Style"/>
              </a:rPr>
              <a:t>“</a:t>
            </a:r>
            <a:r>
              <a:rPr b="1" i="1" lang="es-ES_tradnl" sz="2800" spc="-1" strike="noStrike">
                <a:solidFill>
                  <a:srgbClr val="333399"/>
                </a:solidFill>
                <a:latin typeface="Bookman Old Style"/>
              </a:rPr>
              <a:t>Soy más que un profesional competent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Bookman Old Style"/>
              </a:rPr>
              <a:t>Fee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Bookman Old Style"/>
              </a:rPr>
              <a:t>Empat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Bookman Old Style"/>
              </a:rPr>
              <a:t>Diferenci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Bookman Old Style"/>
              </a:rPr>
              <a:t>Saber escuch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Bookman Old Style"/>
              </a:rPr>
              <a:t>Comprender al cl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44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 u="sng">
                <a:solidFill>
                  <a:srgbClr val="333399"/>
                </a:solidFill>
                <a:uFillTx/>
                <a:latin typeface="Bookman Old Style"/>
              </a:rPr>
              <a:t>Pautas a tener en cuen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9T19:55:28Z</dcterms:created>
  <dc:creator>Estudio</dc:creator>
  <dc:description/>
  <dc:language>en-US</dc:language>
  <cp:lastModifiedBy>Congresos y Eventos</cp:lastModifiedBy>
  <dcterms:modified xsi:type="dcterms:W3CDTF">2007-05-10T12:46:38Z</dcterms:modified>
  <cp:revision>7</cp:revision>
  <dc:subject/>
  <dc:title>Diapositiva 1</dc:title>
</cp:coreProperties>
</file>