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D94-2828-4F23-A9D2-FF9A520B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480-810D-4965-BB4A-63AF2261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5CD-9065-40B7-92AA-859DFB23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2F3-7C94-4079-A24D-DF9A5E87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94AA-8EBA-4743-A90C-2E47C7FF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075C-8375-4274-9016-B2495903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A8D8-EB96-413D-A83D-90739CD5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2893-28D3-4FE4-84D5-74C5A64C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2FD0-3ADB-417E-946B-F5986740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B73A-A9BD-464B-B8AF-7AFE2BBD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D65D-A694-49BB-A18C-05366E8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BC4-D338-4E23-B000-0D54C461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F355-2895-40C8-9905-5A458DBA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C16A-836C-4BAA-A106-3FC16D6D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E3B3-B703-44B0-B798-880567F1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4E76-1913-4B47-B8F2-B180B905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7561-5433-4CA6-97D8-A5C8D550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592-43C7-4AC7-AF1B-4EA964B7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EEC-41B9-43E1-B759-7A4F71AB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F0F-FEA1-4979-A0BE-1C0E7035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CBF-5C92-45B1-A769-8EA25C93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A4C-B626-4848-8521-008A430D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075-C74F-4F77-9367-5461ADE8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FBA-DB10-427E-AC32-CD07C974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c2c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5AED-6AA0-4B2A-AC1A-E515C8F17557}" type="slidenum">
              <a:rPr b="0" lang="en-US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85960" y="3166920"/>
            <a:ext cx="8254800" cy="3691080"/>
          </a:xfrm>
          <a:custGeom>
            <a:avLst/>
            <a:gdLst/>
            <a:ahLst/>
            <a:rect l="l" t="t" r="r" b="b"/>
            <a:pathLst>
              <a:path w="5184" h="3159">
                <a:moveTo>
                  <a:pt x="0" y="3159"/>
                </a:moveTo>
                <a:lnTo>
                  <a:pt x="5184" y="3159"/>
                </a:lnTo>
                <a:lnTo>
                  <a:pt x="5184" y="0"/>
                </a:lnTo>
                <a:lnTo>
                  <a:pt x="0" y="0"/>
                </a:lnTo>
                <a:lnTo>
                  <a:pt x="0" y="3159"/>
                </a:lnTo>
                <a:lnTo>
                  <a:pt x="0" y="3159"/>
                </a:lnTo>
                <a:close/>
              </a:path>
            </a:pathLst>
          </a:custGeom>
          <a:gradFill rotWithShape="0">
            <a:gsLst>
              <a:gs pos="0">
                <a:srgbClr val="f4f4ec"/>
              </a:gs>
              <a:gs pos="100000">
                <a:srgbClr val="c2c0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66920"/>
            <a:ext cx="885960" cy="3691080"/>
          </a:xfrm>
          <a:custGeom>
            <a:avLst/>
            <a:gdLst/>
            <a:ahLst/>
            <a:rect l="l" t="t" r="r" b="b"/>
            <a:pathLst>
              <a:path w="556" h="3159">
                <a:moveTo>
                  <a:pt x="0" y="0"/>
                </a:moveTo>
                <a:lnTo>
                  <a:pt x="0" y="3159"/>
                </a:lnTo>
                <a:lnTo>
                  <a:pt x="556" y="3159"/>
                </a:lnTo>
                <a:lnTo>
                  <a:pt x="55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2c0ba"/>
              </a:gs>
              <a:gs pos="100000">
                <a:srgbClr val="f4f4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240" y="2833560"/>
            <a:ext cx="19080" cy="666720"/>
          </a:xfrm>
          <a:custGeom>
            <a:avLst/>
            <a:gdLst/>
            <a:ahLst/>
            <a:rect l="l" t="t" r="r" b="b"/>
            <a:pathLst>
              <a:path w="12" h="420">
                <a:moveTo>
                  <a:pt x="0" y="0"/>
                </a:moveTo>
                <a:lnTo>
                  <a:pt x="0" y="420"/>
                </a:lnTo>
                <a:lnTo>
                  <a:pt x="12" y="42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a7af"/>
              </a:gs>
              <a:gs pos="50000">
                <a:srgbClr val="9c9800"/>
              </a:gs>
              <a:gs pos="100000">
                <a:srgbClr val="a5a7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17520" y="3157560"/>
            <a:ext cx="400320" cy="19080"/>
          </a:xfrm>
          <a:custGeom>
            <a:avLst/>
            <a:gdLst/>
            <a:ahLst/>
            <a:rect l="l" t="t" r="r" b="b"/>
            <a:pathLst>
              <a:path w="251" h="12">
                <a:moveTo>
                  <a:pt x="251" y="0"/>
                </a:moveTo>
                <a:lnTo>
                  <a:pt x="0" y="0"/>
                </a:lnTo>
                <a:lnTo>
                  <a:pt x="0" y="12"/>
                </a:lnTo>
                <a:lnTo>
                  <a:pt x="251" y="12"/>
                </a:lnTo>
                <a:lnTo>
                  <a:pt x="251" y="0"/>
                </a:lnTo>
                <a:lnTo>
                  <a:pt x="251" y="0"/>
                </a:lnTo>
                <a:close/>
              </a:path>
            </a:pathLst>
          </a:custGeom>
          <a:gradFill rotWithShape="0">
            <a:gsLst>
              <a:gs pos="0">
                <a:srgbClr val="f4f4ec"/>
              </a:gs>
              <a:gs pos="100000">
                <a:srgbClr val="a5a7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57560"/>
            <a:ext cx="557280" cy="19080"/>
          </a:xfrm>
          <a:custGeom>
            <a:avLst/>
            <a:gdLst/>
            <a:ahLst/>
            <a:rect l="l" t="t" r="r" b="b"/>
            <a:pathLst>
              <a:path w="251" h="12">
                <a:moveTo>
                  <a:pt x="0" y="0"/>
                </a:moveTo>
                <a:lnTo>
                  <a:pt x="0" y="12"/>
                </a:lnTo>
                <a:lnTo>
                  <a:pt x="251" y="12"/>
                </a:lnTo>
                <a:lnTo>
                  <a:pt x="25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a7af"/>
              </a:gs>
              <a:gs pos="100000">
                <a:srgbClr val="f4f4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6240" y="1330200"/>
            <a:ext cx="19080" cy="1103400"/>
          </a:xfrm>
          <a:custGeom>
            <a:avLst/>
            <a:gdLst/>
            <a:ahLst/>
            <a:rect l="l" t="t" r="r" b="b"/>
            <a:pathLst>
              <a:path w="12" h="695">
                <a:moveTo>
                  <a:pt x="12" y="0"/>
                </a:moveTo>
                <a:lnTo>
                  <a:pt x="0" y="0"/>
                </a:lnTo>
                <a:lnTo>
                  <a:pt x="0" y="695"/>
                </a:lnTo>
                <a:lnTo>
                  <a:pt x="12" y="695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gradFill rotWithShape="0">
            <a:gsLst>
              <a:gs pos="0">
                <a:srgbClr val="c2c0ba"/>
              </a:gs>
              <a:gs pos="100000">
                <a:srgbClr val="f4f4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7840" y="3157560"/>
            <a:ext cx="7522920" cy="19080"/>
          </a:xfrm>
          <a:custGeom>
            <a:avLst/>
            <a:gdLst/>
            <a:ahLst/>
            <a:rect l="l" t="t" r="r" b="b"/>
            <a:pathLst>
              <a:path w="4724" h="12">
                <a:moveTo>
                  <a:pt x="4724" y="0"/>
                </a:moveTo>
                <a:lnTo>
                  <a:pt x="0" y="0"/>
                </a:lnTo>
                <a:lnTo>
                  <a:pt x="0" y="12"/>
                </a:lnTo>
                <a:lnTo>
                  <a:pt x="4724" y="12"/>
                </a:lnTo>
                <a:lnTo>
                  <a:pt x="4724" y="0"/>
                </a:lnTo>
                <a:lnTo>
                  <a:pt x="4724" y="0"/>
                </a:lnTo>
                <a:close/>
              </a:path>
            </a:pathLst>
          </a:custGeom>
          <a:gradFill rotWithShape="0">
            <a:gsLst>
              <a:gs pos="0">
                <a:srgbClr val="c2c0ba"/>
              </a:gs>
              <a:gs pos="100000">
                <a:srgbClr val="f4f4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240" y="3500280"/>
            <a:ext cx="19080" cy="40032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252"/>
                </a:moveTo>
                <a:lnTo>
                  <a:pt x="12" y="252"/>
                </a:lnTo>
                <a:lnTo>
                  <a:pt x="12" y="0"/>
                </a:lnTo>
                <a:lnTo>
                  <a:pt x="0" y="0"/>
                </a:lnTo>
                <a:lnTo>
                  <a:pt x="0" y="252"/>
                </a:lnTo>
                <a:lnTo>
                  <a:pt x="0" y="252"/>
                </a:lnTo>
                <a:close/>
              </a:path>
            </a:pathLst>
          </a:custGeom>
          <a:gradFill rotWithShape="0">
            <a:gsLst>
              <a:gs pos="0">
                <a:srgbClr val="a5a7af"/>
              </a:gs>
              <a:gs pos="100000">
                <a:srgbClr val="f4f4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76240" y="243360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12" y="0"/>
                </a:moveTo>
                <a:lnTo>
                  <a:pt x="0" y="0"/>
                </a:lnTo>
                <a:lnTo>
                  <a:pt x="0" y="252"/>
                </a:lnTo>
                <a:lnTo>
                  <a:pt x="12" y="252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gradFill rotWithShape="0">
            <a:gsLst>
              <a:gs pos="0">
                <a:srgbClr val="f4f4ec"/>
              </a:gs>
              <a:gs pos="100000">
                <a:srgbClr val="a5a7a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3157560"/>
            <a:ext cx="664920" cy="19080"/>
          </a:xfrm>
          <a:custGeom>
            <a:avLst/>
            <a:gdLst/>
            <a:ahLst/>
            <a:rect l="l" t="t" r="r" b="b"/>
            <a:pathLst>
              <a:path w="418" h="12">
                <a:moveTo>
                  <a:pt x="0" y="0"/>
                </a:moveTo>
                <a:lnTo>
                  <a:pt x="0" y="12"/>
                </a:lnTo>
                <a:lnTo>
                  <a:pt x="418" y="12"/>
                </a:lnTo>
                <a:lnTo>
                  <a:pt x="41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5a7af"/>
              </a:gs>
              <a:gs pos="50000">
                <a:srgbClr val="9c9800"/>
              </a:gs>
              <a:gs pos="100000">
                <a:srgbClr val="a5a7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4BB2-4605-44F0-ABAA-9620291E8AC4}" type="slidenum">
              <a:rPr b="0" lang="en-US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79480" y="3898800"/>
            <a:ext cx="20520" cy="2625840"/>
          </a:xfrm>
          <a:custGeom>
            <a:avLst/>
            <a:gdLst/>
            <a:ahLst/>
            <a:rect l="l" t="t" r="r" b="b"/>
            <a:pathLst>
              <a:path w="13" h="1654">
                <a:moveTo>
                  <a:pt x="0" y="1646"/>
                </a:moveTo>
                <a:lnTo>
                  <a:pt x="13" y="1654"/>
                </a:lnTo>
                <a:lnTo>
                  <a:pt x="4" y="911"/>
                </a:lnTo>
                <a:lnTo>
                  <a:pt x="4" y="0"/>
                </a:lnTo>
                <a:lnTo>
                  <a:pt x="0" y="13"/>
                </a:lnTo>
                <a:lnTo>
                  <a:pt x="0" y="1646"/>
                </a:lnTo>
                <a:lnTo>
                  <a:pt x="0" y="1646"/>
                </a:lnTo>
                <a:close/>
              </a:path>
            </a:pathLst>
          </a:custGeom>
          <a:gradFill rotWithShape="0">
            <a:gsLst>
              <a:gs pos="0">
                <a:srgbClr val="f4f4ec"/>
              </a:gs>
              <a:gs pos="100000">
                <a:srgbClr val="c2c0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a25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252000"/>
            <a:ext cx="7848720" cy="281628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788569"/>
                </a:solidFill>
                <a:latin typeface="Bauhaus 93"/>
              </a:rPr>
              <a:t>LOS CAMBIOS A NIVEL MUNDIAL EN LA ADMINISTRACIÓN TRIBUTARIA Y SUS CONSECUENCIAS EN LA ACTIVIDAD DEL PROFESIONAL EN CIENCIAS ECONÓMICAS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7848720" cy="180000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Verdana"/>
              </a:rPr>
              <a:t>III ENCUENTRO DE JÓVENES PROFESIONALES EN CIENCIAS ECONÓMICAS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Verdana"/>
              </a:rPr>
              <a:t>“</a:t>
            </a:r>
            <a:r>
              <a:rPr b="0" lang="es-AR" sz="2400" spc="-1" strike="noStrike">
                <a:solidFill>
                  <a:srgbClr val="4a2500"/>
                </a:solidFill>
                <a:latin typeface="Verdana"/>
              </a:rPr>
              <a:t>EL ROL DEL PROFESIONAL EN CIENCIAS ECONÓMICAS”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3502080"/>
            <a:ext cx="655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Verdana"/>
              </a:rPr>
              <a:t>HUMBERTO J. BERTAZZA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252360" y="6381720"/>
            <a:ext cx="201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Verdana"/>
              </a:rPr>
              <a:t>16/5/07</a:t>
            </a:r>
            <a:endParaRPr b="0" lang="en-US" sz="24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34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4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451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788569"/>
                </a:solidFill>
                <a:latin typeface="Tahoma"/>
              </a:rPr>
              <a:t>PRINCIPIOS SUSTANCIALES DEL PROCEDIMIENTO ADMINISTRATIVO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5080" y="2017800"/>
            <a:ext cx="8244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LEGALIDAD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DEBIDO PROCESO ADJETIVO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A SER OIDO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A OFRECER Y PRODUCIR PRUEBAS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DECISIÓN FUNDADA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DERECHO DE IMPUGNACIÓN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08000" y="628560"/>
            <a:ext cx="792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9. 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451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PRINCIPIOS FORMALES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65080" y="1944720"/>
            <a:ext cx="82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OFICIALIDAD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INFORMALISMO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CELERIDAD, ECONOMÍA Y SENCILLEZ DEL TRÁMITE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PARTICIPACIÓN DE AFECTADOS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628560"/>
            <a:ext cx="1150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10. 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88569"/>
                </a:solidFill>
                <a:latin typeface="Tahoma"/>
              </a:rPr>
              <a:t>PROTECCIÓN DE LOS DATOS FISCALES DEL CONTRIBUYENTE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8460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5240" indent="-25524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PODERES DEL FISCO PARA RECABAR INFORMACIÓN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255240" indent="-25524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DERECHO A LA INTIMIDAD FISCAL DEL CONTRIBUYENTE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255240" indent="-25524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DATOS TRIBUTARIOS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255240" indent="-25524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OBLIGACIÓN DE DAR DATOS PROPIOS Y POSIBILIDADES DE RECABARLOS A TERCEROS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255240" indent="-25524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DERECHOS DE LOS TITULARES DE LOS DATOS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255240" indent="-25524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LÍMITE A LA INJERENCIA ESTATAL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255240" indent="-25524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SECRETO FISCAL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255240" indent="-25524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DIFUSIÓN DE DATOS FISCALES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255240" indent="-25524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SANCIONES POR REVELACIÓN DE DATOS FISCALES (ART 157 CP)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255240" indent="-255240"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PROTECCIÓN A LA INTIMIDAD FISCAL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-36360" y="404640"/>
            <a:ext cx="10792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11. 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9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44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8569"/>
                </a:solidFill>
                <a:latin typeface="Tahoma"/>
              </a:rPr>
              <a:t>GARANTÍAS DEL PROCEDIMIENTO TRIBUTARIO SANCIONADOR</a:t>
            </a:r>
            <a:endParaRPr b="1" lang="en-US" sz="32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89000"/>
            <a:ext cx="1079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788569"/>
                </a:solidFill>
                <a:latin typeface="Tahoma"/>
              </a:rPr>
              <a:t>12. </a:t>
            </a:r>
            <a:endParaRPr b="0" lang="en-US" sz="3600" spc="-1" strike="noStrike">
              <a:solidFill>
                <a:srgbClr val="4a25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0920" y="1390680"/>
          <a:ext cx="8713800" cy="5211720"/>
        </p:xfrm>
        <a:graphic>
          <a:graphicData uri="http://schemas.openxmlformats.org/drawingml/2006/table">
            <a:tbl>
              <a:tblPr/>
              <a:tblGrid>
                <a:gridCol w="1693800"/>
                <a:gridCol w="5554800"/>
                <a:gridCol w="1465200"/>
              </a:tblGrid>
              <a:tr h="289800"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NOMINACIÓN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IDO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A POENA SINE IUDICIO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ECHO A UN PROCESO PREVIO Y A LA IMPOSICIÓN DE LA SANCIÓN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18 C.N. Y 70 Y CDTES. LEY 11.683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ADO DE INOCENCIA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 IMPUTADO GOZA DE UNA SITUACIÓN JURÍDICA DE INOCENCIA HASTA LA DECLARACIÓN DE CULPABILIDAD. DEBIENDO PROBARSE DE PARTE DEL FISCO LA COMISIÓN DE LA INFRACCIÓN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18 C.N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ECHO A UN JUEZ NATURAL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 SUMARIO DEBE SER CONSIDERADO POR EL ÓRGANO FISCAL COMPETENTE AL MOMENTO DE OCURRIR LA PRESUNTA INFRACCIÓN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18 C.N. Y ART. 1 DEL C.P.P.N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ECHO A UN DEBIDO PROCESO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ECHO A SER INFORMADO DEBIDAMENTE DE LA IMPUTACIÓN Y PRUEBAS EN SU CONTRA, A PRESENTAR DESCARGO, A PROPONER Y PRODUCIR PRUEBAS, A UNA DECISIÓN FUNDADA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18 C.N. Y ART. 1 INC F) LEY 19.549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156852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ECHO DE DEFENSA REAL Y EFECTIVO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HALLA RELACIONADO AL DERECHO AL DEBIDO PROCESO. IMPLICA LA REAL POSIBILIDAD DE INFLUIR EN EL CURSO DEL SUMARIO. SE OPONE A LOS ACTOS MERAMENTE FORMALES QUE CARECEN DE TODA CONSIDERACIÓN POR PARTE DE LA AUTORIDAD QUE DEBE RESOLVER, Y QUE SÓLO RESULTAN UNA APLICACIÓN MECÁNICA DE LAS NORMAS QUE INFORMAN AL PROCESO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18 DE LA C.N. Y ART. 1 INC. A), B), C) Y F) DE LA LEY 19.549.</a:t>
                      </a: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-100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8569"/>
                </a:solidFill>
                <a:latin typeface="Tahoma"/>
              </a:rPr>
              <a:t>GARANTÍAS DEL PROCEDIMIENTO TRIBUTARIO SANCIONADOR </a:t>
            </a:r>
            <a:r>
              <a:rPr b="1" lang="en-US" sz="2400" spc="-1" strike="noStrike">
                <a:solidFill>
                  <a:srgbClr val="788569"/>
                </a:solidFill>
                <a:latin typeface="Tahoma"/>
              </a:rPr>
              <a:t>(Cont.)</a:t>
            </a:r>
            <a:endParaRPr b="1" lang="en-US" sz="2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89000"/>
            <a:ext cx="1079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788569"/>
                </a:solidFill>
                <a:latin typeface="Tahoma"/>
              </a:rPr>
              <a:t>12. </a:t>
            </a:r>
            <a:endParaRPr b="0" lang="en-US" sz="3600" spc="-1" strike="noStrike">
              <a:solidFill>
                <a:srgbClr val="4a25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4920" y="1268280"/>
          <a:ext cx="9036000" cy="5529240"/>
        </p:xfrm>
        <a:graphic>
          <a:graphicData uri="http://schemas.openxmlformats.org/drawingml/2006/table">
            <a:tbl>
              <a:tblPr/>
              <a:tblGrid>
                <a:gridCol w="2295360"/>
                <a:gridCol w="5480280"/>
                <a:gridCol w="1260360"/>
              </a:tblGrid>
              <a:tr h="503280"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NOMINACIÓN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IDO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129852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ECHO A NO INCRIMINARSE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PUEDE SER COMPELIDO A DECLARAR RESPECTOS DE SUPUESTOS QUE PUEDEN INCIDIRLE DE MODO NEGATIVO, NI TOMARSE SUS OMISIONES O NEGATIVAS EN TAL SENTIDO COMO PRUEBA DE CULPABILIDAD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18 DE LA C.N. Y ART. 1 INC. F) DE LA LEY 19.549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&lt;NON BIS IN IDEM&gt;&gt;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A VEZ FIRME SU SOBRESEIMIENTO, NO PUEDE INICIÁRSELE NUEVO PROCESO POR IGUAL CAUSA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18 DE LA C.N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129852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ROACTIVIDAD ÚNICAMENTE FRENTE A SUPUESTOS DE MAYOR BENIGNIDAD A LA NORMA VIGENTE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NUEVA LEGISLACIÓN APLICABLE AL HECHO, POSTERIOR A LA COMISIÓN DE LA INFRACCIÓN, ÚNICAMENTE SERÁ APLICABLE SI EN EL CASO CONCRETO ES BENEFICIOSA AL IMPUTADO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 18 DE LA C.N. Y ART. 2 DEL C.P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DUBIO PRO REO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NICAMENTE PODRÁ IMPONERSE SANCIÓN CUANDO SE HALLARE ACREDITADO EL HECHO, POR LO QUE EN SUPUESTOS DE DUDA DEBERÁ ESTARSE A LA INOCENCIA DEL IMPUTADO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3 DEL C.P.P.N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UM CRIMEN, NULLA POENA SINE PREVIA LEGE POENALE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DIE PUEDE SER SANCIONADO POR UN HECHO QUE A LA FECHA DE SU ACAECIMIENTO NO ESTABA PREVISTO COMO ILÍCITO POR LA NORMA TRIBUTARIA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19 DE LA C.N.</a:t>
                      </a:r>
                      <a:endParaRPr b="0" lang="en-US" sz="16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-100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8569"/>
                </a:solidFill>
                <a:latin typeface="Tahoma"/>
              </a:rPr>
              <a:t>GARANTÍAS DEL PROCEDIMIENTO TRIBUTARIO SANCIONADOR </a:t>
            </a:r>
            <a:r>
              <a:rPr b="1" lang="en-US" sz="2400" spc="-1" strike="noStrike">
                <a:solidFill>
                  <a:srgbClr val="788569"/>
                </a:solidFill>
                <a:latin typeface="Tahoma"/>
              </a:rPr>
              <a:t>(Cont.)</a:t>
            </a:r>
            <a:endParaRPr b="1" lang="en-US" sz="2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89000"/>
            <a:ext cx="1079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788569"/>
                </a:solidFill>
                <a:latin typeface="Tahoma"/>
              </a:rPr>
              <a:t>12. </a:t>
            </a:r>
            <a:endParaRPr b="0" lang="en-US" sz="3600" spc="-1" strike="noStrike">
              <a:solidFill>
                <a:srgbClr val="4a25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495440"/>
          <a:ext cx="8893080" cy="5278320"/>
        </p:xfrm>
        <a:graphic>
          <a:graphicData uri="http://schemas.openxmlformats.org/drawingml/2006/table">
            <a:tbl>
              <a:tblPr/>
              <a:tblGrid>
                <a:gridCol w="2376360"/>
                <a:gridCol w="4216320"/>
                <a:gridCol w="2300400"/>
              </a:tblGrid>
              <a:tr h="381600"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NOMINACIÓN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IDO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</a:t>
                      </a:r>
                      <a:endParaRPr b="0" lang="en-US" sz="20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172260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HIBICIÓN DE LA APLICACIÓN DE NORMAS POR ANALOGÍA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CONDUCTA A REPROCHAR DEBE ESTAR CONFIGURADA EXACTAMENTE EN LA NORMA, SIN PODER ADJUDICAR REPROCHE APLICANDO NORMAS QUE TIENEN UNA PLATAFORMA FÁCTICA SIMILAR PERO NO IDÉNTICA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2 DEL C.P.P.N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ECHO A RECURRIR LO RESUELTO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BE PODER SOLICITARSE UN REEXAMEN DE LO RESUELTO POR PARTE DE UN ÓRGANO DIFERENTE AL QUE RESOLVIÓ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8, AP. 2 INC. B, CONVENCIÓN AMERICANA DE DERECHOS HUMANOS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  <a:tr h="1996920"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ECHO DE ACCESO A LA JURISDICCIÓN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 POSIBILIDADES DE REEXAMEN DE LA SANCIÓN NO PUEDEN AGOTARSE EN LA ESFERA ADMINISTRATIVA, DEBIENDO TENER UNA VÍA DE ACCESO, DIRECTA O DE ÚLTIMA INSTANCIA ANTE UN ÓRGANO JUDICIAL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. 18 C.N.</a:t>
                      </a:r>
                      <a:endParaRPr b="0" lang="en-US" sz="1800" spc="-1" strike="noStrike">
                        <a:solidFill>
                          <a:srgbClr val="4a25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18720">
                      <a:solidFill>
                        <a:srgbClr val="f4f4ec"/>
                      </a:solidFill>
                    </a:lnL>
                    <a:lnR w="18720">
                      <a:solidFill>
                        <a:srgbClr val="f4f4ec"/>
                      </a:solidFill>
                    </a:lnR>
                    <a:lnT w="18720">
                      <a:solidFill>
                        <a:srgbClr val="f4f4ec"/>
                      </a:solidFill>
                    </a:lnT>
                    <a:lnB w="18720">
                      <a:solidFill>
                        <a:srgbClr val="f4f4e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848360" cy="5184720"/>
          </a:xfrm>
          <a:prstGeom prst="rect">
            <a:avLst/>
          </a:prstGeom>
          <a:noFill/>
          <a:ln w="76320">
            <a:solidFill>
              <a:srgbClr val="666633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788569"/>
                </a:solidFill>
                <a:latin typeface="Bauhaus 93"/>
              </a:rPr>
              <a:t>CONFLICTOS</a:t>
            </a:r>
            <a:br>
              <a:rPr sz="6000"/>
            </a:br>
            <a:r>
              <a:rPr b="0" lang="es-AR" sz="6000" spc="-1" strike="noStrike">
                <a:solidFill>
                  <a:srgbClr val="788569"/>
                </a:solidFill>
                <a:latin typeface="Bauhaus 93"/>
              </a:rPr>
              <a:t>ENTRE LA ADMINISTRACIÓN</a:t>
            </a:r>
            <a:br>
              <a:rPr sz="6000"/>
            </a:br>
            <a:r>
              <a:rPr b="0" lang="es-AR" sz="6000" spc="-1" strike="noStrike">
                <a:solidFill>
                  <a:srgbClr val="788569"/>
                </a:solidFill>
                <a:latin typeface="Bauhaus 93"/>
              </a:rPr>
              <a:t>Y LOS CONTRIBUYENTES</a:t>
            </a:r>
            <a:endParaRPr b="1" lang="en-US" sz="6000" spc="-1" strike="noStrike">
              <a:solidFill>
                <a:srgbClr val="788569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788569"/>
                </a:solidFill>
                <a:latin typeface="Tahoma"/>
              </a:rPr>
              <a:t>CONFLICTOS JURISDICCIONALES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AREAS DE CONFLICTOS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SITUACIONES DE HECHOS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TEMAS INTERPRETATIVOS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ASPECTOS SALIENTES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DISPENDIO PROCESAL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DURACIÓN DEL PROCESO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PROVISIÓN DE JUSTICIA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788569"/>
                </a:solidFill>
                <a:latin typeface="Tahoma"/>
              </a:rPr>
              <a:t>PREVENCIÓN DE CONFLICTOS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EXTERIORIZACIÓN DE CRITERIOS ADMINISTRATIVOS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CONSULTA VINCULANTE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ACUERDOS PREVIOS DE VALORACIÓN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ACUERDOS ANTICIPADOS DE PRECIOS (APA)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788569"/>
                </a:solidFill>
                <a:latin typeface="Tahoma"/>
              </a:rPr>
              <a:t>PROCEDIMIENTOS PARA LA RESOLUCIÓN DE CONTROVERSIAS JURÍDICAS POR MEDIOS ALTERNATIVOS</a:t>
            </a:r>
            <a:endParaRPr b="1" lang="en-US" sz="3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CONCILIACIÓN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MEDIACIÓN (LEY 24573 BO 25/10/95)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ARBITRAJE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451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RELACIÓN</a:t>
            </a:r>
            <a:br>
              <a:rPr sz="4000"/>
            </a:b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FISCO-CONTRIBUYENTE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4a2500"/>
                </a:solidFill>
                <a:latin typeface="Tahoma"/>
              </a:rPr>
              <a:t>RELACIÓN JURÍDICA Y NO RELACIÓN DE PODER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4a2500"/>
                </a:solidFill>
                <a:latin typeface="Tahoma"/>
              </a:rPr>
              <a:t>DERECHOS Y GARANTÍAS CORRELATIVAS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9360"/>
            <a:ext cx="792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1. 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788569"/>
                </a:solidFill>
                <a:latin typeface="Tahoma"/>
              </a:rPr>
              <a:t>LA TRANSACCIÓN EN NUESTRO DERECHO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TRANSACCIÓN COMO FORMA DE EXTINCIÓN DE OBLIGACIONES (ART 724 C.C.)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CONCESIONES RECÍPROCAS PARA EXTINGUIR OBLIGACIONES LITIGIOSAS O DUDOSAS (ART 832 CC)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ANTECEDENTES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MODELO CÓDIGO TRIBUTARIO PARA LA AMÉRICA LATINA OEA-BID (1967)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MODELO CÓDIGO TRIBUTARIO CIAT (1997)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a2500"/>
                </a:solidFill>
                <a:latin typeface="Tahoma"/>
              </a:rPr>
              <a:t>ELIMINADO REFERENCIA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JORNADAS LUSO HISPANO AMERICANAS DE ESTUDIOS TRIBUTARIOS (PAMPLONA, ESPAÑA, 1976)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XVIII JORNADAS ILADT (MONTEVIDEO, 1996)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788569"/>
                </a:solidFill>
                <a:latin typeface="Tahoma"/>
              </a:rPr>
              <a:t>LA TRANSACCIÓN EN NUESTRO ESTUDIO </a:t>
            </a:r>
            <a:r>
              <a:rPr b="1" lang="es-AR" sz="3600" spc="-1" strike="noStrike">
                <a:solidFill>
                  <a:srgbClr val="788569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198072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JORNADAS LUSO HISPANO AMERICANAS DE ESTUDIOS TRIBUTARIOS (PAMPLONA, ESPAÑA, 1976)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XVIII JORNADAS ILADT (MONTEVIDEO, 1996)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PROHIBICIÓN LEGAL (ART 841 inc 2º y 3º CC)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INDISPONIBILIDAD DEL CRÉDITO TRIBUTARIO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POSIBILIDAD REMOVERSE POR NORMA LEGAL (p. ej. COMPENSACIONES)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788569"/>
                </a:solidFill>
                <a:latin typeface="Tahoma"/>
              </a:rPr>
              <a:t>DERECHOS Y GARANTÍAS EN LOS PROCEDIMIENTOS DE VERIFICACIÓN Y FISCALIZACIÓN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4a2500"/>
                </a:solidFill>
                <a:latin typeface="Tahoma"/>
              </a:rPr>
              <a:t>FACULTADES AMPLIAS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4a2500"/>
                </a:solidFill>
                <a:latin typeface="Tahoma"/>
              </a:rPr>
              <a:t>LIMITES GARANTIAS CONSTITUCIONALES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4a2500"/>
                </a:solidFill>
                <a:latin typeface="Tahoma"/>
              </a:rPr>
              <a:t>TEST DE RAZONABILIDAD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4a2500"/>
                </a:solidFill>
                <a:latin typeface="Tahoma"/>
              </a:rPr>
              <a:t>COMPORTAMIENTO ÉTICO DEL ESTADO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555480"/>
            <a:ext cx="792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2. 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4516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788569"/>
                </a:solidFill>
                <a:latin typeface="Tahoma"/>
              </a:rPr>
              <a:t>EL PRINCIPIO DE BUENA FE EN LA ACTUACIÓN DE LA ADMINISTRACIÓN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PRINCIPIO DE BUENA FE (ART 16 C.C.)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INSITO EN LA TOTALIDAD DEL SISTEMA JURÍDICO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4a2500"/>
                </a:solidFill>
                <a:latin typeface="Tahoma"/>
              </a:rPr>
              <a:t>PRINCIPIOS GENERALES DEL ORDENAMIENTO JURÍDICO COMO FUENTE DEL DERECHO TRIBUTARIO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8000" y="333360"/>
            <a:ext cx="792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3. 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451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DESVIACIÓN DE PODER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65080" y="1944720"/>
            <a:ext cx="82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4a2500"/>
                </a:solidFill>
                <a:latin typeface="Tahoma"/>
              </a:rPr>
              <a:t>UTILIZACIÓN DE POTESTADES LEGALES CON UN FIN O MOTIVO DISTINTO AL PREVISTO (ANOMALÍA EN LA FUNCIONALIDAD)</a:t>
            </a:r>
            <a:endParaRPr b="0" lang="en-US" sz="30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4a2500"/>
                </a:solidFill>
                <a:latin typeface="Tahoma"/>
              </a:rPr>
              <a:t>ASIMILACIÓN AL ABUSO O FRAUDE DE LEY</a:t>
            </a:r>
            <a:endParaRPr b="0" lang="en-US" sz="30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4a2500"/>
                </a:solidFill>
                <a:latin typeface="Tahoma"/>
              </a:rPr>
              <a:t>ACOSO TRIBUTARIO</a:t>
            </a:r>
            <a:endParaRPr b="0" lang="en-US" sz="30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4a2500"/>
                </a:solidFill>
                <a:latin typeface="Tahoma"/>
              </a:rPr>
              <a:t>FISCALIZACIÓN IRRESTRICTA</a:t>
            </a:r>
            <a:endParaRPr b="0" lang="en-US" sz="26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4a2500"/>
                </a:solidFill>
                <a:latin typeface="Tahoma"/>
              </a:rPr>
              <a:t>REITERACIÓN REQUERIMIENTOS</a:t>
            </a:r>
            <a:endParaRPr b="0" lang="en-US" sz="26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4a2500"/>
                </a:solidFill>
                <a:latin typeface="Tahoma"/>
              </a:rPr>
              <a:t>SILENCIO DE LA ADMINISTRACIÓN (SOLICITUD DEVOLUCIÓN IMPUESTOS)</a:t>
            </a:r>
            <a:endParaRPr b="0" lang="en-US" sz="26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4a2500"/>
                </a:solidFill>
                <a:latin typeface="Tahoma"/>
              </a:rPr>
              <a:t>EXIGIR LO QUE NO SE DEBE</a:t>
            </a:r>
            <a:endParaRPr b="0" lang="en-US" sz="2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628560"/>
            <a:ext cx="792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4. 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451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VIAS DE HECHO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65080" y="1915920"/>
            <a:ext cx="82440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4a2500"/>
                </a:solidFill>
                <a:latin typeface="Tahoma"/>
              </a:rPr>
              <a:t>ACTUACIÓN DEL FUNCIONARIO CONTRARIANDO MATERIALMENTE NORMAS EXPLÍCITAS O IMPLÍCITAS (COMPORTAMIENTO ILÍCITO)</a:t>
            </a:r>
            <a:endParaRPr b="0" lang="en-US" sz="26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4a2500"/>
                </a:solidFill>
                <a:latin typeface="Tahoma"/>
              </a:rPr>
              <a:t>COMPORTAMIENTOS MATERIALES LESIVOS DE UN DERECHO CONSTITUCIONAL</a:t>
            </a:r>
            <a:endParaRPr b="0" lang="en-US" sz="26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4a2500"/>
                </a:solidFill>
                <a:latin typeface="Tahoma"/>
              </a:rPr>
              <a:t>PONER EN EJECUCIÓN ACTOS ESTANDO PENDIENTES RECURSOS ADMINISTRATIVOS CON EFECTOS SUSPENSIVOS</a:t>
            </a:r>
            <a:endParaRPr b="0" lang="en-US" sz="26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4a2500"/>
                </a:solidFill>
                <a:latin typeface="Tahoma"/>
              </a:rPr>
              <a:t>OBRAR CONTRA LA LEY</a:t>
            </a:r>
            <a:endParaRPr b="0" lang="en-US" sz="26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4a2500"/>
                </a:solidFill>
                <a:latin typeface="Tahoma"/>
              </a:rPr>
              <a:t>SI LA VIA DE HECHO O ABUSO FUNCIONAL, TIENE POR FIN EXIGIR UNA CONTRIBUCIÓN, UN DERECHO O DÁDIVA QUE NO CORRESPONDE</a:t>
            </a:r>
            <a:endParaRPr b="0" lang="en-US" sz="26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EXACCIÓN ILEGAL (ART 266 CP)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4a2500"/>
                </a:solidFill>
                <a:latin typeface="Tahoma"/>
              </a:rPr>
              <a:t>ABUSO FUNCIONAL (ART 248 CP)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628560"/>
            <a:ext cx="792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5. 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451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TEORÍA DE LOS ACTOS PROPIOS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65080" y="1844640"/>
            <a:ext cx="82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SE APOYA EN EL PRINCIPIO DE BUENA FE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RELACIONES JURÍDICAS BASADAS EN LA CONFIANZA Y EN EL MARCO DE LA PREVISIBILIDAD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EXTENSIVA AL ESTADO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4a2500"/>
                </a:solidFill>
                <a:latin typeface="Tahoma"/>
              </a:rPr>
              <a:t>ES OPERATIVO CUANDO SE TRATA DE CONTRADICCIÓN INCURRIDA ENTRE ACTOS DE ALCANCE GENERAL</a:t>
            </a:r>
            <a:endParaRPr b="0" lang="en-US" sz="3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260280"/>
            <a:ext cx="792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6. 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850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DEBERES DE COLABORACIÓN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08000" y="1944720"/>
            <a:ext cx="82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SATISFACCIÓN DE NECESIDADES PÚBLICAS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NECESIDAD DE UN ADECUADO EQUILIBRIO ENTRE LAS PARTES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LÍMITES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4a2500"/>
                </a:solidFill>
                <a:latin typeface="Tahoma"/>
              </a:rPr>
              <a:t>GARANTÍAS CONSTITUCIONALES</a:t>
            </a:r>
            <a:endParaRPr b="0" lang="en-US" sz="2600" spc="-1" strike="noStrike">
              <a:solidFill>
                <a:srgbClr val="4a25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4a2500"/>
                </a:solidFill>
                <a:latin typeface="Tahoma"/>
              </a:rPr>
              <a:t>RESGUARDO DE DERECHOS PERSONALES</a:t>
            </a:r>
            <a:endParaRPr b="0" lang="en-US" sz="26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TODO PRIVILEGIO A FAVOR DEL FISCO DEBE BASARSE EN UNA NORMA LEGAL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TUTELA JURISDICCIONAL EFECTIVA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4a2500"/>
                </a:solidFill>
                <a:latin typeface="Tahoma"/>
              </a:rPr>
              <a:t>LA ESFERA DE DISCRECIONALIDAD EN EL MARCO DEL CONTROL JUDICIAL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8000" y="628560"/>
            <a:ext cx="792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7. 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196560"/>
            <a:ext cx="8101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788569"/>
                </a:solidFill>
                <a:latin typeface="Tahoma"/>
              </a:rPr>
              <a:t>EL EQUILIBRIO ENTRE DERECHOS Y DEBERES FISCALES</a:t>
            </a:r>
            <a:endParaRPr b="1" lang="en-US" sz="36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31708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4a2500"/>
                </a:solidFill>
                <a:uFillTx/>
                <a:latin typeface="Tahoma"/>
              </a:rPr>
              <a:t>DERECHOS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4a2500"/>
                </a:solidFill>
                <a:latin typeface="Tahoma"/>
              </a:rPr>
              <a:t>A SER INFORMADO</a:t>
            </a:r>
            <a:endParaRPr b="0" lang="en-US" sz="25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4a2500"/>
                </a:solidFill>
                <a:latin typeface="Tahoma"/>
              </a:rPr>
              <a:t>A SER ASISTIDO POR LA ADMINISTRACIÓN</a:t>
            </a:r>
            <a:endParaRPr b="0" lang="en-US" sz="25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4a2500"/>
                </a:solidFill>
                <a:latin typeface="Tahoma"/>
              </a:rPr>
              <a:t>A OBTENER DEVOLUCIONES DE INGRESOS INDEBIDOS</a:t>
            </a:r>
            <a:endParaRPr b="0" lang="en-US" sz="25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4a2500"/>
                </a:solidFill>
                <a:latin typeface="Tahoma"/>
              </a:rPr>
              <a:t>A NO APORTAR DOCUMENTOS QUE SE ENCUENTRAN EN PODER DE LA ADMINISTRACIÓN</a:t>
            </a:r>
            <a:endParaRPr b="0" lang="en-US" sz="25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4a2500"/>
                </a:solidFill>
                <a:latin typeface="Tahoma"/>
              </a:rPr>
              <a:t>A SER INFORMADO SOBRE EL INICIO, NATURALEZA Y ALCANCE DE LA INSPECCIÓN</a:t>
            </a:r>
            <a:endParaRPr b="0" lang="en-US" sz="25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4a2500"/>
                </a:solidFill>
                <a:latin typeface="Tahoma"/>
              </a:rPr>
              <a:t>A SER INFORMADO SOBRE DERECHOS Y GARANTÍAS DEL ADMINISTRADO</a:t>
            </a:r>
            <a:endParaRPr b="0" lang="en-US" sz="25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4a2500"/>
                </a:solidFill>
                <a:latin typeface="Tahoma"/>
              </a:rPr>
              <a:t>A SER INFORMADO SOBRE CRITERIOS ADMINISTRATIVOS EXISTENTES</a:t>
            </a:r>
            <a:endParaRPr b="0" lang="en-US" sz="25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8000" y="260280"/>
            <a:ext cx="792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788569"/>
                </a:solidFill>
                <a:latin typeface="Tahoma"/>
              </a:rPr>
              <a:t>8. </a:t>
            </a:r>
            <a:endParaRPr b="0" lang="en-US" sz="4000" spc="-1" strike="noStrike">
              <a:solidFill>
                <a:srgbClr val="4a25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20:44:43Z</dcterms:created>
  <dc:creator>Nancy</dc:creator>
  <dc:description/>
  <dc:language>en-US</dc:language>
  <cp:lastModifiedBy>Congresos y Eventos</cp:lastModifiedBy>
  <dcterms:modified xsi:type="dcterms:W3CDTF">2007-05-15T21:01:09Z</dcterms:modified>
  <cp:revision>17</cp:revision>
  <dc:subject/>
  <dc:title>LOS CAMBIOS A NIVEL MUNDIAL EN LA ADMINISTRACIÓN TRIBUTARIA Y SUS CONSECUENCIAS EN LA ACTIVIDAD DEL PROFESIONAL EN CIENCIAS ECONÓMICAS</dc:title>
</cp:coreProperties>
</file>