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F510-4C1D-455B-A475-B48BA1CFD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EA07-124A-4941-AD67-CCE96ED6E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605C-0CAA-4766-9ED6-50E30BE46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A1AC-4ACA-41F2-95D7-4EEA6B242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6D8A8-9585-4705-82E2-C93C0DBA4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108C9-62C8-408F-A576-8E2533712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C7360-F4BC-4BDC-87B2-90479D1E7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42411-6661-4508-9D9B-EAC85E381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A0094-0632-4989-A207-425476695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84757-645E-41BB-A96F-E307F1904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752AD-6B38-4A21-B2B9-F5B9CEA6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5159-A180-433A-9130-A8CC2DD2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21105-4E5A-47BA-839D-E32E3FF6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0E7C3-BB31-4AB0-938E-EA1F7B16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4621F-F23D-4871-82B4-1E0A55845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9B74E-1A01-4304-83B8-D89D7AE82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F4F24-A333-45AF-9DDD-10D48F123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9F93-879C-45D1-8130-468898807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D56E-1A5D-432F-963E-8481E8E37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8E75-7339-4CBF-BE9F-38F7558B9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6C42-A337-4608-8DF3-3DC524DA9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17E8-058D-4825-ABCA-346E3957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B02A-3FCE-4308-8D80-CEFC7BE6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CC82-AC7E-4E52-A01C-3DECC52A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5BE94-3143-46FF-B234-CC41C11BE9E4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CB2BE-774B-4567-BE42-90EE482DD0B9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3366"/>
                </a:solidFill>
                <a:latin typeface="Times New Roman"/>
              </a:rPr>
              <a:t>MODIFICACIONES  A    LA LEY  24.241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LEY 26.222 Y DECRETO 313/07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371600" y="54864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18-05-07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MODIFICACIONES A LA LEY 24.241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LEY 26.222 Y DECRETO 313/07 – VIII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LA COMISIÓN DE ADMINISTRACIÓN TIENE UN MÁXIMO DE 1% SOBRE LAS REMUNERACIONES DEVENGADAS DESDE 01/04/07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RIMA DE SEGURO ACTUAL SE COBRA HASTA 31/12/07 SOBRE APORT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ESDE EL 01/01/08 SE COBRARÁ UN SEGURO MUTUAL SOBRE SALDO CCI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MODIFICACIONES A LA LEY 24.241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LEY 26.222 Y DECRETO 313/07 – IX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ORCENTAJE DE APORTE SOBRE REMUNERACIONES PARA AFILIADOS EN RELACIÓN DE DEPENDENCIA DE CAPITALIZACIÓN PASA DE 7% A 11% A PARTIR DEL 01/01/08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FILIADOS NUEVOS DADOS DE ALTA A PARTIR DEL 28/05/07 APORTARÁN EL 11% SOBRE REMUNERACION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MODIFICACIONES A LA LEY 24.241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LEY 26.222 Y DECRETO 313/07 – X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L ESTADO NACIONAL GARANTIZA EL HABER MÍNIMO FIJADO POR LEY DE PRESUPUESTO (ACTUALMENTE $530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RECURSOS DE LA SEGURIDAD SOCIAL SÓLO PUEDEN SER UTILIZADOS PARA PAGOS DE BENEFICIOS DEL SISTE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MODIFICACIONES A LA LEY 24.241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LEY 26.222 Y DECRETO 313/07 – XI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DENTRO DE 1 AÑO DE LA VIGENCIA DE LA LEY EL PODER EJECUTIVO DEBE EFECTUAR UN RELEVAMIENTO DE TAREAS RIEGOSAS E INSALUBRES, INFORMANDO AL CONGRES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ARA DETERMINACIÓN DE REGÍMENES DE TAREAS RIESGOSAS E INSALUBRES, EL PODER EJECUTIVO  DEBE CONTAR CON INFORME FUNDADO TÉCNICAMENTE POR LA SECRETARÍA DE SEGURIDAD SOCIA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68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MODIFICACIONES A LA LEY 24.241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LEY 26.222 Y DECRETO 313/07 – XII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N INVERSIONES SE INCORPORA CON CARÁCTER OBLIGATORIO LA FINAN-CIACIÓN DE PROYECTOS PRODUCTI- VOS O DE INFRAESTRUCTURA A MEDIANO Y LARGO PLAZ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EBE DESTINARSE A ESTAS INVERSIONES UN MÍNIMO DE 5% Y UN MÁXIMO DE 20% DEL FOND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 FIJA UN RÉGIMEN DE TRANSICIÓ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Times New Roman"/>
              </a:rPr>
              <a:t>MODIFICACIONES A LA LEY 24.241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LEY 26.222 Y DECRETO 313/07 - I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RESTACIÓN ADICIONAL POR PERMANENCIA PASA DE 0,85% A 1,5% POR AÑO DE SERVICIO COMPUTABLE (DESDE 01/07/94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RIGE A PARTIR DEL 01/07/07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ANTO PARA BENEFICIARIOS NUEVOS COMO ANTERIORES A LA REFOR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MODIFICACIONES A LA LEY 24.241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LEY 26.222 Y DECRETO 313/07 - II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LOS INDECISOS QUE NO OPTEN POR CAPITALIZACIÓN DENTRO DE LOS 90 DÍAS DEL INICIO DE LA RELACIÓN LABORAL SON ASIGNADOS A REPART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RIGE PARA ALTAS A PARTIR DEL 01/04/07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MODIFICACIONES A LA LEY 24.241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LEY 26.222 Y DECRETO 313/07 - III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POR ÚNICA VEZ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, LOS AFILIADOS ACTUALES A CAPITALIZACIÓN PUEDEN PASAR A REPART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UEDEN OPTAR DESDE EL 12/04/07 AL 31/12/07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LA OPCIÓN TENDRÁ EFECTO A PARTIR DEL 01/01/08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LOS FONDOS NO SON TRANSFERID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5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MODIFICACIONES A LA LEY 24.241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LEY 26.222 Y DECRETO 313/07 - IV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FILIADOS VARONES MENORES DE 55 AÑOS Y MUJERES MENORES DE 50 PUEDEN CAMBIAR DE REGIME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L CAMBIO PUEDE EFECTUARSE UNA VEZ CADA 5 AÑ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STE TRASPASO ESTÁ SUJETO A LAS CONDICIONES QUE FIJE LA REGLAMENTACIÓN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MODIFICACIONES A LA LEY 24.241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LEY 26.222 Y DECRETO 313/07 – V a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FILIADOS A CAPITALIZACIÓN QUE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EAN MAYORES DE 55 AÑOS – HOMBRES – Y 50 AÑOS – MUJER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ENGAN SALDO MENOR A 250 MOPRE ($20,000) EN SU CUENT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RÁN CONSIDERADOS AFILIADOS A REPARTO SALVO QUE MANIFIESTEN EXPRESAMENTE SU VOLUNTAD DE PERMANECER EN CAPITALIZACIÓN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MODIFICACIONES A LA LEY 24.241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LEY 26.222 Y DECRETO 313/07 – V b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LA TRANSFERENCIA DE FONDOS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 HARÁ EN ESPECI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DENTRO DE 90 DÍAS CONTADOS DESDE EL 12/04/07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AMBIÉN SE TRANSFERIRÁN LOS FONDOS DE QUIENES OBTENGAN DE REPARTO PENSIONES POR FALLECI-MIENTO O RETIROS POR INVALIDEZ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MODIFICACIONES A LA LEY 24.241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LEY 26.222 Y DECRETO 313/07 – VI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FILIADOS A CAPITALIZACIÓN TRANSFERIDOS A REPARTO (H&gt;55 Y M&gt;50) Y AFILIADOS A REPARTO QUE NO PUEDAN ACCEDER A NINGUNA PRESTACIÓN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imes New Roman"/>
              </a:rPr>
              <a:t>A LOS 70 AÑOS PUEDEN REDETERMINAR SU SITUA-CIÓN ANTE LA PRESTACIÓN POR EDAD AVANZADA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imes New Roman"/>
              </a:rPr>
              <a:t>SALDO TRANSFERIDO SE DIVIDE POR MÍNIMO APORTE PREVISIONAL A FECHA TRANSFERENCIA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imes New Roman"/>
              </a:rPr>
              <a:t>COCIENTE DETERMINA AÑOS DE APORTE COMPUTABLES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imes New Roman"/>
              </a:rPr>
              <a:t>REGLAMENTACIÓN DETERMINA FORMA DE PAGO DEL FALTANTE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MODIFICACIONES A LA LEY 24.241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LEY 26.222 Y DECRETO 313/07 – VII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ASE IMPONIBLE PREVISIONAL MÁXIMA PASA DE 60 A 75 MOPRE ($4,800 A $6,000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STE LÍMITE SE CALCULA INDEPENDIENTEMENTE PARA RELACIÓN DE DEPENDENCIA Y AUTÓNOM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EL LÍMITE DE 1 MOPRE POR AÑO PUEDE AFECTAR A LA PAP !!!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6T21:36:32Z</dcterms:created>
  <dc:creator>Roberto D Lennox</dc:creator>
  <dc:description/>
  <dc:language>en-US</dc:language>
  <cp:lastModifiedBy>Congresos y Eventos</cp:lastModifiedBy>
  <dcterms:modified xsi:type="dcterms:W3CDTF">2007-05-10T12:44:34Z</dcterms:modified>
  <cp:revision>43</cp:revision>
  <dc:subject/>
  <dc:title>MODIFICACIONES A LA LEY 24.241 LEY 26.222 Y DECRETO 313/07</dc:title>
</cp:coreProperties>
</file>