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7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6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10.wmf" ContentType="image/x-wmf"/>
  <Override PartName="/ppt/media/image2.png" ContentType="image/png"/>
  <Override PartName="/ppt/media/image25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32D4-23CC-4C48-9DEA-AC66FD33F77F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6788-5F51-4842-8A1B-866CE6CB3E1D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9806-2796-4D67-94E1-7A7D28B8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812F-2166-428E-8777-F5B3CF53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AB86-87D4-4E30-ADF0-25ECC9F8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34A9-C89D-4BD4-8FE3-A6D02C73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3311-8860-4899-B9E2-E5129B90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F71D-2D79-4592-9BEB-315198E0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E8B3-630D-4BA8-9A9E-0AFA376F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7D4B-5676-47CE-96C3-E1D86F3C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5752-65DC-431C-8F8A-E8692908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68F6-2988-4B61-BB88-E514BEDC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DFDA-20CB-437D-8BBA-E590CBDD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21D6-F729-430D-91EF-4DBAB9A6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DD9B-20B0-4DDE-9B22-53439056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2C51-CFD2-4802-B884-96D854FE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57F8-8BB0-4B0C-BAD5-5D785EE1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7C22-9A68-46EE-9ED2-B1E95C2D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3975-DC4B-4E12-B6E5-41A35A6D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E398-5A70-4462-9903-32804E4A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8310-CD6F-4307-BFCC-42658A31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3101-07EE-4C1A-B794-00190E91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F4A2-3081-41BE-8FF2-A0AF7CDD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9D6C-C9B1-4922-8F07-A4ECFDC3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0997-C0DC-413D-943C-AAD5C4C5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E326-3403-4F47-AED7-4AEF3223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E4E3-20AD-459C-84D7-BDF3075B7AD7}" type="slidenum">
              <a:rPr b="0" lang="es-A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73D6-6F4D-43E0-B3D7-449C4400D609}" type="slidenum">
              <a:rPr b="0" lang="es-A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ava.com.ar/v2/empresas/perfil.php?e=ACH" TargetMode="External"/><Relationship Id="rId2" Type="http://schemas.openxmlformats.org/officeDocument/2006/relationships/hyperlink" Target="http://www.rava.com.ar/v2/empresas/perfil.php?e=BBD" TargetMode="External"/><Relationship Id="rId3" Type="http://schemas.openxmlformats.org/officeDocument/2006/relationships/hyperlink" Target="http://www.rava.com.ar/v2/empresas/perfil.php?e=CHL" TargetMode="External"/><Relationship Id="rId4" Type="http://schemas.openxmlformats.org/officeDocument/2006/relationships/hyperlink" Target="http://www.rava.com.ar/v2/empresas/perfil.php?e=DBA" TargetMode="External"/><Relationship Id="rId5" Type="http://schemas.openxmlformats.org/officeDocument/2006/relationships/hyperlink" Target="http://www.rava.com.ar/v2/empresas/perfil.php?e=DIA" TargetMode="External"/><Relationship Id="rId6" Type="http://schemas.openxmlformats.org/officeDocument/2006/relationships/hyperlink" Target="http://www.rava.com.ar/v2/empresas/perfil.php?e=EEM" TargetMode="External"/><Relationship Id="rId7" Type="http://schemas.openxmlformats.org/officeDocument/2006/relationships/hyperlink" Target="http://www.rava.com.ar/v2/empresas/perfil.php?e=EWZ" TargetMode="External"/><Relationship Id="rId8" Type="http://schemas.openxmlformats.org/officeDocument/2006/relationships/hyperlink" Target="http://www.rava.com.ar/v2/empresas/perfil.php?e=FXI" TargetMode="External"/><Relationship Id="rId9" Type="http://schemas.openxmlformats.org/officeDocument/2006/relationships/hyperlink" Target="http://www.rava.com.ar/v2/empresas/perfil.php?e=GLD" TargetMode="External"/><Relationship Id="rId10" Type="http://schemas.openxmlformats.org/officeDocument/2006/relationships/hyperlink" Target="http://www.rava.com.ar/v2/empresas/perfil.php?e=PBR" TargetMode="Externa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rava.com.ar/v2/empresas/perfil.php?e=MERVAL" TargetMode="External"/><Relationship Id="rId2" Type="http://schemas.openxmlformats.org/officeDocument/2006/relationships/hyperlink" Target="http://www.rava.com.ar/v2/empresas/perfil.php?e=ALPA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000" spc="-1" strike="noStrike">
                <a:solidFill>
                  <a:srgbClr val="006633"/>
                </a:solidFill>
                <a:latin typeface="Garamond"/>
              </a:rPr>
              <a:t>Inversor minoritario en Argentina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¿Audacia o inconcienc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Año 2008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ACH</a:t>
            </a: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 Aluminum Corp. of China Ltd.          -81,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BBD</a:t>
            </a: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Banco Bradesco – Brasil                   -41,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CHL</a:t>
            </a: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China Mobile Limited – China           -47,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DBA</a:t>
            </a: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Maiz, Trigo, Soja, Azucar (ETF)        -19,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DIA</a:t>
            </a: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Diamonds Trust (ETF)                        -29,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EEM</a:t>
            </a: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Mercados Emergentes (ETF)            -49,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EWZ</a:t>
            </a: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Brasil (ETF)                                       -51,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FXI</a:t>
            </a: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China (ETF)25,451,21,2                      -55,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GLD</a:t>
            </a: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Oro (ETF)                                          -13,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PBR</a:t>
            </a: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Petrobras – Brasil                              -54,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7"/>
          <p:cNvGrpSpPr/>
          <p:nvPr/>
        </p:nvGrpSpPr>
        <p:grpSpPr>
          <a:xfrm>
            <a:off x="380880" y="152280"/>
            <a:ext cx="2305080" cy="1123920"/>
            <a:chOff x="380880" y="152280"/>
            <a:chExt cx="2305080" cy="1123920"/>
          </a:xfrm>
        </p:grpSpPr>
        <p:sp>
          <p:nvSpPr>
            <p:cNvPr id="119" name="AutoShape 8"/>
            <p:cNvSpPr/>
            <p:nvPr/>
          </p:nvSpPr>
          <p:spPr>
            <a:xfrm>
              <a:off x="380880" y="152280"/>
              <a:ext cx="2305080" cy="112392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9"/>
            <p:cNvSpPr/>
            <p:nvPr/>
          </p:nvSpPr>
          <p:spPr>
            <a:xfrm>
              <a:off x="741240" y="512640"/>
              <a:ext cx="1656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717480" y="4906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Century Gothic"/>
              </a:rPr>
              <a:t>Enseñan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85800" y="1143000"/>
            <a:ext cx="746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7480" indent="-87480">
              <a:lnSpc>
                <a:spcPct val="20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Tan rápido lo olvidam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20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Tan grandes son los premios para los que llegan prime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743200" y="457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b812f"/>
                </a:solidFill>
                <a:latin typeface="Arial"/>
              </a:rPr>
              <a:t>El rendimiento es directamente proporcional al 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33520" y="2438280"/>
          <a:ext cx="6723000" cy="426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38280"/>
                    <a:ext cx="672300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24000" y="549360"/>
          <a:ext cx="8496000" cy="54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549360"/>
                    <a:ext cx="849600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95280" y="333360"/>
          <a:ext cx="4105440" cy="28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33360"/>
                    <a:ext cx="41054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042920" y="3357720"/>
          <a:ext cx="6624720" cy="2808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3357720"/>
                    <a:ext cx="6624720" cy="28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788000" y="333360"/>
          <a:ext cx="4059000" cy="2808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8000" y="333360"/>
                    <a:ext cx="40590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6633"/>
                </a:solidFill>
                <a:latin typeface="Garamond"/>
              </a:rPr>
              <a:t>  </a:t>
            </a:r>
            <a:r>
              <a:rPr b="0" lang="es-AR" sz="3800" spc="-1" strike="noStrike">
                <a:solidFill>
                  <a:srgbClr val="006633"/>
                </a:solidFill>
                <a:latin typeface="Garamond"/>
              </a:rPr>
              <a:t>El pánico no dura mucho tiemp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0" y="1309680"/>
            <a:ext cx="91440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image001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000" spc="-1" strike="noStrike">
                <a:solidFill>
                  <a:srgbClr val="006633"/>
                </a:solidFill>
                <a:latin typeface="Garamond"/>
              </a:rPr>
              <a:t>Contexto Local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¿Propiedad priva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Argentina 2008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MERVAL</a:t>
            </a: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       -50,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ALPA</a:t>
            </a: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             -56,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ALUA             -44,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APBR             -44,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BMA               -59,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EDN               -78,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ERAR             -27,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FRAN             -59,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GCLA             -77,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TECO2           -68,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TS                   -43,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Grafico _0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09480" y="304920"/>
            <a:ext cx="7696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volución Tasa Interés Estados U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Imagen1"/>
          <p:cNvPicPr/>
          <p:nvPr/>
        </p:nvPicPr>
        <p:blipFill>
          <a:blip r:embed="rId1"/>
          <a:stretch/>
        </p:blipFill>
        <p:spPr>
          <a:xfrm>
            <a:off x="609480" y="1143000"/>
            <a:ext cx="815364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Tem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Elecciones. Nueva confianz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AIG. Fin del riesgo mor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Solvencia Vs. Liquide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Diferencias hipotecarias entre EEUU y Europ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Apalancamiento leg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Funcionarios Vs. Dueñ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Nuevas regul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Euro - Dóla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95280" y="1341360"/>
          <a:ext cx="806436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06436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Precios de Commod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74840" y="6308640"/>
            <a:ext cx="846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Fuente: Bloomberg, 12 de septiembre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284040" y="1628640"/>
            <a:ext cx="86392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Imagen4"/>
          <p:cNvPicPr/>
          <p:nvPr/>
        </p:nvPicPr>
        <p:blipFill>
          <a:blip r:embed="rId1"/>
          <a:stretch/>
        </p:blipFill>
        <p:spPr>
          <a:xfrm>
            <a:off x="380880" y="762120"/>
            <a:ext cx="8534520" cy="49813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2895840" y="228600"/>
            <a:ext cx="3278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volución Euro/Dó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Tenencia de las AFJ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6912000" cy="52498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1763640" y="4941720"/>
            <a:ext cx="35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2319480" y="4960800"/>
            <a:ext cx="23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7000920" y="5032440"/>
            <a:ext cx="30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708360" y="4941720"/>
            <a:ext cx="28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7360560" y="136044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7506360" y="17208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fo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7435080" y="1936800"/>
            <a:ext cx="16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fideicomis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7578000" y="2224080"/>
            <a:ext cx="114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7722000" y="34480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Bo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361800" y="252360"/>
            <a:ext cx="84204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4978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50760" y="70920"/>
            <a:ext cx="8229600" cy="621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Qué negociam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5680" y="1844640"/>
            <a:ext cx="375120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Confian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Expecta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iclos"/>
          <p:cNvPicPr/>
          <p:nvPr/>
        </p:nvPicPr>
        <p:blipFill>
          <a:blip r:embed="rId1"/>
          <a:stretch/>
        </p:blipFill>
        <p:spPr>
          <a:xfrm>
            <a:off x="250920" y="1413000"/>
            <a:ext cx="8459640" cy="4968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cc9900"/>
                </a:solidFill>
                <a:latin typeface="Garamond"/>
              </a:rPr>
              <a:t>Ciclos económ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rcRect l="8854" t="36638" r="56396" b="25556"/>
          <a:stretch/>
        </p:blipFill>
        <p:spPr>
          <a:xfrm>
            <a:off x="1476360" y="1063800"/>
            <a:ext cx="619272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Rescate en EE.UU."/>
          <p:cNvPicPr/>
          <p:nvPr/>
        </p:nvPicPr>
        <p:blipFill>
          <a:blip r:embed="rId1"/>
          <a:stretch/>
        </p:blipFill>
        <p:spPr>
          <a:xfrm>
            <a:off x="1403280" y="1844640"/>
            <a:ext cx="608508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image002"/>
          <p:cNvPicPr/>
          <p:nvPr/>
        </p:nvPicPr>
        <p:blipFill>
          <a:blip r:embed="rId1"/>
          <a:stretch/>
        </p:blipFill>
        <p:spPr>
          <a:xfrm>
            <a:off x="755640" y="836640"/>
            <a:ext cx="813744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8"/>
          <p:cNvSpPr/>
          <p:nvPr/>
        </p:nvSpPr>
        <p:spPr>
          <a:xfrm>
            <a:off x="2351160" y="304920"/>
            <a:ext cx="49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Apalanc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380880" y="19080"/>
            <a:ext cx="2305080" cy="1123920"/>
            <a:chOff x="380880" y="19080"/>
            <a:chExt cx="2305080" cy="1123920"/>
          </a:xfrm>
        </p:grpSpPr>
        <p:sp>
          <p:nvSpPr>
            <p:cNvPr id="106" name="AutoShape 8"/>
            <p:cNvSpPr/>
            <p:nvPr/>
          </p:nvSpPr>
          <p:spPr>
            <a:xfrm>
              <a:off x="380880" y="19080"/>
              <a:ext cx="2305080" cy="112392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741240" y="379440"/>
              <a:ext cx="1656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5"/>
          <p:cNvSpPr/>
          <p:nvPr/>
        </p:nvSpPr>
        <p:spPr>
          <a:xfrm>
            <a:off x="717480" y="3571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Century Gothic"/>
              </a:rPr>
              <a:t>Enseñan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Object 4" descr=""/>
          <p:cNvPicPr/>
          <p:nvPr/>
        </p:nvPicPr>
        <p:blipFill>
          <a:blip r:embed="rId1"/>
          <a:stretch/>
        </p:blipFill>
        <p:spPr>
          <a:xfrm>
            <a:off x="0" y="1257480"/>
            <a:ext cx="4629240" cy="2476440"/>
          </a:xfrm>
          <a:prstGeom prst="rect">
            <a:avLst/>
          </a:prstGeom>
          <a:ln w="0">
            <a:noFill/>
          </a:ln>
        </p:spPr>
      </p:pic>
      <p:pic>
        <p:nvPicPr>
          <p:cNvPr id="110" name="Object 5" descr=""/>
          <p:cNvPicPr/>
          <p:nvPr/>
        </p:nvPicPr>
        <p:blipFill>
          <a:blip r:embed="rId2"/>
          <a:stretch/>
        </p:blipFill>
        <p:spPr>
          <a:xfrm>
            <a:off x="4672080" y="1271520"/>
            <a:ext cx="4257720" cy="2462400"/>
          </a:xfrm>
          <a:prstGeom prst="rect">
            <a:avLst/>
          </a:prstGeom>
          <a:ln w="0">
            <a:noFill/>
          </a:ln>
        </p:spPr>
      </p:pic>
      <p:pic>
        <p:nvPicPr>
          <p:cNvPr id="111" name="Object 6" descr=""/>
          <p:cNvPicPr/>
          <p:nvPr/>
        </p:nvPicPr>
        <p:blipFill>
          <a:blip r:embed="rId3"/>
          <a:stretch/>
        </p:blipFill>
        <p:spPr>
          <a:xfrm>
            <a:off x="0" y="3871800"/>
            <a:ext cx="4711680" cy="2590920"/>
          </a:xfrm>
          <a:prstGeom prst="rect">
            <a:avLst/>
          </a:prstGeom>
          <a:ln w="0">
            <a:noFill/>
          </a:ln>
        </p:spPr>
      </p:pic>
      <p:pic>
        <p:nvPicPr>
          <p:cNvPr id="112" name="Object 7" descr=""/>
          <p:cNvPicPr/>
          <p:nvPr/>
        </p:nvPicPr>
        <p:blipFill>
          <a:blip r:embed="rId4"/>
          <a:stretch/>
        </p:blipFill>
        <p:spPr>
          <a:xfrm>
            <a:off x="4729320" y="3857760"/>
            <a:ext cx="42289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>
            <a:alphaModFix amt="40000"/>
          </a:blip>
          <a:stretch/>
        </p:blipFill>
        <p:spPr>
          <a:xfrm>
            <a:off x="395280" y="620640"/>
            <a:ext cx="8280360" cy="57484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1"/>
          <p:cNvSpPr/>
          <p:nvPr/>
        </p:nvSpPr>
        <p:spPr>
          <a:xfrm>
            <a:off x="422280" y="380880"/>
            <a:ext cx="8721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3"/>
          <p:cNvSpPr/>
          <p:nvPr/>
        </p:nvSpPr>
        <p:spPr>
          <a:xfrm>
            <a:off x="486000" y="63360"/>
            <a:ext cx="1923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Estados Un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1:17:50Z</dcterms:created>
  <dc:creator>C.ZUCHOVICKI</dc:creator>
  <dc:description/>
  <dc:language>en-US</dc:language>
  <cp:lastModifiedBy>CPCEACABA</cp:lastModifiedBy>
  <dcterms:modified xsi:type="dcterms:W3CDTF">2008-11-10T18:50:45Z</dcterms:modified>
  <cp:revision>4</cp:revision>
  <dc:subject/>
  <dc:title>Inversor minoritario en Argentina</dc:title>
</cp:coreProperties>
</file>