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2960" y="-360"/>
            <a:ext cx="295128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3400" y="636480"/>
            <a:ext cx="4522680" cy="339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091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32040" y="4240080"/>
            <a:ext cx="504792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481960"/>
            <a:ext cx="295128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2960" y="8481960"/>
            <a:ext cx="295128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46E3-81D8-47B4-AA1B-ADB06158A1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2960" y="8481960"/>
            <a:ext cx="295128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46C8-9012-4E90-80A1-5DB516FCC70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200240" y="669960"/>
            <a:ext cx="4460760" cy="3344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238280"/>
            <a:ext cx="54864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2960" y="8481960"/>
            <a:ext cx="295128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285D-2B4C-424D-85EB-D3A606ED50D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Img"/>
          </p:nvPr>
        </p:nvSpPr>
        <p:spPr>
          <a:xfrm>
            <a:off x="1200240" y="669960"/>
            <a:ext cx="4459320" cy="3344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26B2-A632-4C14-ABFF-F0ACADB1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86868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668040"/>
            <a:ext cx="86868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1483-2698-4B2F-BABF-3767D309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42390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742680"/>
            <a:ext cx="42390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668040"/>
            <a:ext cx="42390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668040"/>
            <a:ext cx="42390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74E-7078-479A-9DAD-B72B5885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279684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742680"/>
            <a:ext cx="279684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742680"/>
            <a:ext cx="279684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668040"/>
            <a:ext cx="279684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668040"/>
            <a:ext cx="279684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668040"/>
            <a:ext cx="279684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B83-BE88-4E54-80EB-F8BFCAE8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742680"/>
            <a:ext cx="8686800" cy="56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EDB-1DD7-4E8F-AEAB-80FD1F0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86868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6DD-AC56-4784-B698-0999022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42390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742680"/>
            <a:ext cx="42390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962-792C-4DA4-AAA9-923E084C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A01F-C682-444A-891F-B0094CF9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372-6D8C-4289-B722-4FB40DD0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42390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742680"/>
            <a:ext cx="42390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668040"/>
            <a:ext cx="42390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F11-97CC-478A-BC46-2B7F42A2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42390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742680"/>
            <a:ext cx="42390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668040"/>
            <a:ext cx="42390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BD2-8723-4145-8AB7-47F723A5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42390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742680"/>
            <a:ext cx="42390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668040"/>
            <a:ext cx="8686800" cy="26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39A-A2D5-43AF-899D-63439212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74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5440" y="673200"/>
            <a:ext cx="9053640" cy="6153120"/>
          </a:xfrm>
          <a:prstGeom prst="roundRect">
            <a:avLst>
              <a:gd name="adj" fmla="val 70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8600" y="742680"/>
            <a:ext cx="86868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086600" y="6476760"/>
            <a:ext cx="19051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3BF1-B921-4D57-8E89-17EE822EB6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09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64b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5473800"/>
            <a:ext cx="5829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Sérgio Y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stituto Gênesis – PUC 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Buenos Aires, noviembre de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46360"/>
            <a:ext cx="9144000" cy="2209680"/>
          </a:xfrm>
          <a:prstGeom prst="rect">
            <a:avLst/>
          </a:prstGeom>
          <a:solidFill>
            <a:srgbClr val="000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949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5f091"/>
                </a:solidFill>
                <a:latin typeface="Arial"/>
              </a:rPr>
              <a:t>3° Congreso Nacional e Internacional de Finanzas de la Empresa y Mercado de Capitales</a:t>
            </a:r>
            <a:br>
              <a:rPr sz="2400"/>
            </a:br>
            <a:r>
              <a:rPr b="0" i="1" lang="en-US" sz="2400" spc="-1" strike="noStrike">
                <a:solidFill>
                  <a:srgbClr val="f5f091"/>
                </a:solidFill>
                <a:latin typeface="Arial"/>
              </a:rPr>
              <a:t>“La inversión como camino para el crecimiento. Visión desde las Finanzas y el Mercado de Capitales”</a:t>
            </a:r>
            <a:endParaRPr b="1" lang="en-US" sz="24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C5C9-5770-42A4-B2FB-EFAE692F4F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usiness Incubator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09760" y="1077840"/>
            <a:ext cx="8076600" cy="4537080"/>
            <a:chOff x="509760" y="1077840"/>
            <a:chExt cx="8076600" cy="4537080"/>
          </a:xfrm>
        </p:grpSpPr>
        <p:grpSp>
          <p:nvGrpSpPr>
            <p:cNvPr id="127" name=""/>
            <p:cNvGrpSpPr/>
            <p:nvPr/>
          </p:nvGrpSpPr>
          <p:grpSpPr>
            <a:xfrm>
              <a:off x="509760" y="1195200"/>
              <a:ext cx="8076600" cy="4197240"/>
              <a:chOff x="509760" y="1195200"/>
              <a:chExt cx="8076600" cy="4197240"/>
            </a:xfrm>
          </p:grpSpPr>
          <p:sp>
            <p:nvSpPr>
              <p:cNvPr id="128" name=""/>
              <p:cNvSpPr/>
              <p:nvPr/>
            </p:nvSpPr>
            <p:spPr>
              <a:xfrm rot="10800000">
                <a:off x="8062560" y="1295280"/>
                <a:ext cx="523800" cy="3854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ctr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Socieda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509760" y="1195200"/>
                <a:ext cx="857160" cy="4197240"/>
                <a:chOff x="509760" y="1195200"/>
                <a:chExt cx="857160" cy="4197240"/>
              </a:xfrm>
            </p:grpSpPr>
            <p:sp>
              <p:nvSpPr>
                <p:cNvPr id="130" name=""/>
                <p:cNvSpPr/>
                <p:nvPr/>
              </p:nvSpPr>
              <p:spPr>
                <a:xfrm rot="10800000">
                  <a:off x="509760" y="1439640"/>
                  <a:ext cx="515520" cy="395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ctr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Verdana"/>
                    </a:rPr>
                    <a:t>Universida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09760" y="1195200"/>
                  <a:ext cx="857160" cy="41450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04680" y="3647880"/>
                  <a:ext cx="330120" cy="9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904680" y="2420640"/>
                  <a:ext cx="330120" cy="9349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971640" y="3763800"/>
                  <a:ext cx="263160" cy="83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b 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971640" y="2482560"/>
                  <a:ext cx="263160" cy="83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Verdana"/>
                    </a:rPr>
                    <a:t>b 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1396800" y="1077840"/>
              <a:ext cx="6665040" cy="817560"/>
              <a:chOff x="1396800" y="1077840"/>
              <a:chExt cx="6665040" cy="81756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396800" y="1485720"/>
                <a:ext cx="6659280" cy="409680"/>
                <a:chOff x="1396800" y="1485720"/>
                <a:chExt cx="6659280" cy="40968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396800" y="1485720"/>
                  <a:ext cx="6659280" cy="409680"/>
                </a:xfrm>
                <a:prstGeom prst="rightArrow">
                  <a:avLst>
                    <a:gd name="adj1" fmla="val 50000"/>
                    <a:gd name="adj2" fmla="val 406371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" name=""/>
                <p:cNvGrpSpPr/>
                <p:nvPr/>
              </p:nvGrpSpPr>
              <p:grpSpPr>
                <a:xfrm>
                  <a:off x="1402920" y="1545840"/>
                  <a:ext cx="6462000" cy="299880"/>
                  <a:chOff x="1402920" y="1545840"/>
                  <a:chExt cx="6462000" cy="29988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1402920" y="1545840"/>
                    <a:ext cx="1515960" cy="27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2280" rIns="62280" tIns="30960" bIns="30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ffff"/>
                        </a:solidFill>
                        <a:latin typeface="Verdana"/>
                      </a:rPr>
                      <a:t>Pesquisa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348960" y="1566000"/>
                    <a:ext cx="1515960" cy="27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2280" rIns="62280" tIns="30960" bIns="309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ffffff"/>
                        </a:solidFill>
                        <a:latin typeface="Verdana"/>
                      </a:rPr>
                      <a:t>Produto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1402920" y="1077840"/>
                <a:ext cx="6658920" cy="409320"/>
                <a:chOff x="1402920" y="1077840"/>
                <a:chExt cx="6658920" cy="409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402920" y="1077840"/>
                  <a:ext cx="6658920" cy="409320"/>
                </a:xfrm>
                <a:prstGeom prst="rightArrow">
                  <a:avLst>
                    <a:gd name="adj1" fmla="val 50000"/>
                    <a:gd name="adj2" fmla="val 406706"/>
                  </a:avLst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5e5e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402920" y="1155600"/>
                  <a:ext cx="2901600" cy="2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Verdana"/>
                    </a:rPr>
                    <a:t>Comunidade Acadêmic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10800" y="1136520"/>
                  <a:ext cx="2255400" cy="28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Verdana"/>
                    </a:rPr>
                    <a:t>Empreendimento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2025360" y="3647880"/>
              <a:ext cx="5405040" cy="525240"/>
              <a:chOff x="2025360" y="3647880"/>
              <a:chExt cx="5405040" cy="525240"/>
            </a:xfrm>
          </p:grpSpPr>
          <p:sp>
            <p:nvSpPr>
              <p:cNvPr id="147" name=""/>
              <p:cNvSpPr/>
              <p:nvPr/>
            </p:nvSpPr>
            <p:spPr>
              <a:xfrm>
                <a:off x="2025360" y="3647880"/>
                <a:ext cx="5405040" cy="525240"/>
              </a:xfrm>
              <a:custGeom>
                <a:avLst/>
                <a:gdLst>
                  <a:gd name="textAreaLeft" fmla="*/ 844560 w 5405040"/>
                  <a:gd name="textAreaRight" fmla="*/ 4729680 w 5405040"/>
                  <a:gd name="textAreaTop" fmla="*/ 131400 h 525240"/>
                  <a:gd name="textAreaBottom" fmla="*/ 394200 h 52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e46"/>
                  </a:gs>
                  <a:gs pos="5000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9360">
                <a:solidFill>
                  <a:srgbClr val="009999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80520" y="3771720"/>
                <a:ext cx="4120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Verdana"/>
                  </a:rPr>
                  <a:t>Sistema de Acompanhamen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1431720" y="2549160"/>
              <a:ext cx="21762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563480" y="1822320"/>
              <a:ext cx="6643440" cy="3792600"/>
              <a:chOff x="1563480" y="1822320"/>
              <a:chExt cx="6643440" cy="379260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563480" y="1855440"/>
                <a:ext cx="2538360" cy="3111480"/>
                <a:chOff x="1563480" y="1855440"/>
                <a:chExt cx="2538360" cy="31114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563480" y="1855440"/>
                  <a:ext cx="2307960" cy="303660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950840" y="4662000"/>
                  <a:ext cx="21510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66"/>
                      </a:solidFill>
                      <a:latin typeface="Verdana"/>
                    </a:rPr>
                    <a:t>Pré- Incubaçã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520960" y="1822320"/>
                <a:ext cx="2685960" cy="3072960"/>
                <a:chOff x="5520960" y="1822320"/>
                <a:chExt cx="2685960" cy="30729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520960" y="1822320"/>
                  <a:ext cx="2306520" cy="303660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979600" y="4590720"/>
                  <a:ext cx="22273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66"/>
                      </a:solidFill>
                      <a:latin typeface="Verdana"/>
                    </a:rPr>
                    <a:t>Pós- Incubaçã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3541320" y="1858680"/>
                <a:ext cx="2308320" cy="3036960"/>
                <a:chOff x="3541320" y="1858680"/>
                <a:chExt cx="2308320" cy="30369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541320" y="1858680"/>
                  <a:ext cx="2308320" cy="30369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739680" y="4555800"/>
                  <a:ext cx="197820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6666"/>
                      </a:solidFill>
                      <a:latin typeface="Verdana"/>
                    </a:rPr>
                    <a:t>Incubaçã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2877840" y="4465440"/>
                <a:ext cx="1649520" cy="1139760"/>
                <a:chOff x="2877840" y="4465440"/>
                <a:chExt cx="1649520" cy="1139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877840" y="5325840"/>
                  <a:ext cx="16495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</a:rPr>
                    <a:t>Seleçã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541320" y="4465440"/>
                  <a:ext cx="330120" cy="407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673080" y="4894200"/>
                  <a:ext cx="0" cy="40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795560" y="4465440"/>
                <a:ext cx="1646280" cy="1149480"/>
                <a:chOff x="4795560" y="4465440"/>
                <a:chExt cx="1646280" cy="11494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795560" y="5335200"/>
                  <a:ext cx="1646280" cy="27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</a:rPr>
                    <a:t>Graduaçã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" name=""/>
                <p:cNvGrpSpPr/>
                <p:nvPr/>
              </p:nvGrpSpPr>
              <p:grpSpPr>
                <a:xfrm>
                  <a:off x="5520960" y="4465440"/>
                  <a:ext cx="326880" cy="836640"/>
                  <a:chOff x="5520960" y="4465440"/>
                  <a:chExt cx="326880" cy="83664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>
                    <a:off x="5520960" y="4465440"/>
                    <a:ext cx="326880" cy="407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652720" y="4894200"/>
                    <a:ext cx="0" cy="40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69" name=""/>
            <p:cNvGrpSpPr/>
            <p:nvPr/>
          </p:nvGrpSpPr>
          <p:grpSpPr>
            <a:xfrm>
              <a:off x="975960" y="2625480"/>
              <a:ext cx="2838240" cy="1189080"/>
              <a:chOff x="975960" y="2625480"/>
              <a:chExt cx="2838240" cy="1189080"/>
            </a:xfrm>
          </p:grpSpPr>
          <p:sp>
            <p:nvSpPr>
              <p:cNvPr id="170" name=""/>
              <p:cNvSpPr/>
              <p:nvPr/>
            </p:nvSpPr>
            <p:spPr>
              <a:xfrm>
                <a:off x="975960" y="2625480"/>
                <a:ext cx="2838240" cy="1189080"/>
              </a:xfrm>
              <a:prstGeom prst="ellipse">
                <a:avLst/>
              </a:prstGeom>
              <a:noFill/>
              <a:ln w="25560">
                <a:solidFill>
                  <a:srgbClr val="00ff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93120" y="2806560"/>
                <a:ext cx="209520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2280" rIns="62280" tIns="30960" bIns="309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66"/>
                    </a:solidFill>
                    <a:latin typeface="Verdana"/>
                  </a:rPr>
                  <a:t>Prospecção Tecnológica; Orientação em PI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66"/>
                    </a:solidFill>
                    <a:latin typeface="Verdana"/>
                  </a:rPr>
                  <a:t>Pesquisa Qualitativa e Quantitativa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66"/>
                    </a:solidFill>
                    <a:latin typeface="Verdana"/>
                  </a:rPr>
                  <a:t>Plano de MKT;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66"/>
                    </a:solidFill>
                    <a:latin typeface="Verdana"/>
                  </a:rPr>
                  <a:t>Plano de Negócio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2734920" y="1736640"/>
              <a:ext cx="3024000" cy="1214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66"/>
                  </a:solidFill>
                  <a:latin typeface="Verdana"/>
                </a:rPr>
                <a:t>Jurídico, RH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66"/>
                  </a:solidFill>
                  <a:latin typeface="Verdana"/>
                </a:rPr>
                <a:t> </a:t>
              </a:r>
              <a:r>
                <a:rPr b="1" lang="en-US" sz="1000" spc="-1" strike="noStrike">
                  <a:solidFill>
                    <a:srgbClr val="006666"/>
                  </a:solidFill>
                  <a:latin typeface="Verdana"/>
                </a:rPr>
                <a:t>Comunicação,MKT,Qualidade,Captação</a:t>
              </a:r>
              <a:r>
                <a:rPr b="0" lang="en-US" sz="1800" spc="-1" strike="noStrike">
                  <a:solidFill>
                    <a:srgbClr val="006666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6666"/>
                  </a:solidFill>
                  <a:latin typeface="Verdana"/>
                </a:rPr>
                <a:t>de Recursos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6666"/>
                  </a:solidFill>
                  <a:latin typeface="Verdana"/>
                </a:rPr>
                <a:t>Infra-estrutura</a:t>
              </a:r>
              <a:r>
                <a:rPr b="0" lang="en-US" sz="1800" spc="-1" strike="noStrike">
                  <a:solidFill>
                    <a:srgbClr val="0066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662360" y="2166840"/>
              <a:ext cx="3831120" cy="1430280"/>
              <a:chOff x="4662360" y="2166840"/>
              <a:chExt cx="3831120" cy="14302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4662360" y="2877840"/>
                <a:ext cx="2176200" cy="636480"/>
                <a:chOff x="4662360" y="2877840"/>
                <a:chExt cx="2176200" cy="636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93920" y="2877840"/>
                  <a:ext cx="1699920" cy="6364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3333cc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662360" y="3093840"/>
                  <a:ext cx="2176200" cy="22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2280" rIns="62280" tIns="30960" bIns="309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6666"/>
                      </a:solidFill>
                      <a:latin typeface="Verdana"/>
                    </a:rPr>
                    <a:t>Redes Temáticas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749480" y="2166840"/>
                <a:ext cx="3744000" cy="1430280"/>
                <a:chOff x="4749480" y="2166840"/>
                <a:chExt cx="3744000" cy="1430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180840" y="3240000"/>
                  <a:ext cx="2312640" cy="357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4749480" y="2166840"/>
                  <a:ext cx="3169440" cy="1430280"/>
                  <a:chOff x="4749480" y="2166840"/>
                  <a:chExt cx="3169440" cy="14302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6863760" y="3315960"/>
                    <a:ext cx="1055160" cy="28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2280" rIns="62280" tIns="30960" bIns="309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6666"/>
                        </a:solidFill>
                        <a:latin typeface="Verdana"/>
                      </a:rPr>
                      <a:t>Associad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4749480" y="2166840"/>
                    <a:ext cx="2304720" cy="1430280"/>
                    <a:chOff x="4749480" y="2166840"/>
                    <a:chExt cx="2304720" cy="143028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4749480" y="2166840"/>
                      <a:ext cx="2304720" cy="143028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0000ff"/>
                      </a:solidFill>
                      <a:prstDash val="dash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62280" rIns="6228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4887360" y="2517480"/>
                      <a:ext cx="2094840" cy="379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62280" rIns="62280" tIns="30960" bIns="30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Rede de Empresas Gêne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4" name=""/>
                  <p:cNvSpPr/>
                  <p:nvPr/>
                </p:nvSpPr>
                <p:spPr>
                  <a:xfrm>
                    <a:off x="6180840" y="2947680"/>
                    <a:ext cx="921960" cy="29232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190560" y="2949480"/>
                    <a:ext cx="921960" cy="42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62280" rIns="62280" tIns="30960" bIns="3096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6666"/>
                        </a:solidFill>
                        <a:latin typeface="Verdana"/>
                      </a:rPr>
                      <a:t>Graduad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6" name=""/>
            <p:cNvSpPr/>
            <p:nvPr/>
          </p:nvSpPr>
          <p:spPr>
            <a:xfrm>
              <a:off x="1582560" y="4464000"/>
              <a:ext cx="329760" cy="4078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34920" y="5256000"/>
              <a:ext cx="16491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280" rIns="62280" tIns="30960" bIns="3096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</a:rPr>
                <a:t>Prospecçã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26920" y="491940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A90F-53AF-4FE4-B9E7-C7AB1339EB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echnology Incubator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27040" y="1473120"/>
            <a:ext cx="8147160" cy="46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E5F-EE09-4FBD-9FC5-7D789A8AA3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reative Industries Incubator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19040" y="1371600"/>
            <a:ext cx="8204400" cy="463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018-E790-4661-8ECE-52AEAA7BB1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overnment Investments Programs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86868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am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Subvençã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Econômic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006 – R$ 300 milhões - 20% destinados as M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007 – R$ 450 milhões - 40% destinados as M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008 – R$ 450 milhões - 40% destinados as MPE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Primeira Empres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(2009/2011) – R$ 1,3 bilhõ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mpreendimentos selecionados pelas incubadora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vestimento em 1800 empresa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$ 240 mil reais por empres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Projeto Inovar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um Brasil de Capital de Risc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ubadora de Fundo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orum Brasil de inovaçã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rtal de Capital de Risc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8E6-BECE-4E47-8E15-3621D89334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overnment Investments Programs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86868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reas foco em 2008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Tecnologia da Informação e Comunicação -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$ 80 milhõ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ftware e conteúdo inovador para: TV Digital; aparelhos celulares e dispositivos para Internet e Comunicação sem fio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stemas e antenas para sinais digitais compatíveis com SBTVD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Biotecnologia -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$ 80 milhõ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dutos com alto potencial terapéutico baseados na biodiversidade brasileira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Bioinseticidas para controle de insetos/pragas (dengue, malária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cessos biotecnológicos para aumento da produtividade e competitividada da Cadeia produtiva do agronegóci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Saúde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– R$ 80 milhõ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spositivos para diagnósticos, prognósticos e ferramentas terapéutica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envolvimento de moléculas com foco no campo sanitário e/o impacto nos gastos do Sistema Único de Saúde (SUS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EB2-EFF9-49BB-9A4A-30368EC202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overnment Investments Programs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742680"/>
            <a:ext cx="86868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Áreas foco em 2008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Programas Estratégico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– R$ 80 milhõ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stemas de posicionamento georeferenciado; Navegação; Controle e guiamento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imuladores;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Energi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– R$ 80 milhõ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quipamentos para indústria de petróleo e gá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quipamentos para produção de biodiese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Desenvolvimento Social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R$ 50 milhõ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quipamentos e dispositivos voltados a deficientes físico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dutos e processo destinados a Habitação de Interesse Socia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oluções inovadoras para acesso de baixo custo à Internet em banda larga destinados a regiões carentes e/ou remota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21C-740B-4F53-9776-A63AFA7178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466640"/>
            <a:ext cx="8686800" cy="44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ipais entraves: falta de tradição e o difícil acesso a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ontes de financiament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ra-estrutura precária e pouca disponibilidade de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ão-de-obra qualificad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mbiente político e econômico tem aumentado o nível de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risco e incertez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formulação no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istema educaciona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Mulheres empreendedor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uma das maiores taxas mundiais 38%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usines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78000" y="826920"/>
            <a:ext cx="4448160" cy="563760"/>
            <a:chOff x="378000" y="826920"/>
            <a:chExt cx="4448160" cy="563760"/>
          </a:xfrm>
        </p:grpSpPr>
        <p:sp>
          <p:nvSpPr>
            <p:cNvPr id="202" name=""/>
            <p:cNvSpPr/>
            <p:nvPr/>
          </p:nvSpPr>
          <p:spPr>
            <a:xfrm>
              <a:off x="378000" y="826920"/>
              <a:ext cx="4448160" cy="56376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9640" y="918000"/>
              <a:ext cx="415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Dificuldades e Desafi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EFCA-C5F8-4DE8-BAB1-5F5F553A5E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usiness Environment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428480"/>
            <a:ext cx="8686800" cy="56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P do Bem (Lei 11.196/2005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soneração de empresas exportadoras de bens de capital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centivo à contratação de pesquisador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uplicação do limite de enquadaramento das empresas no Simpl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largamento do prazo de pagamento de imposto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centivos à compra de imóvei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senção de PIS e COFINS para compra de computadores de baixo custo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78000" y="826920"/>
            <a:ext cx="7686000" cy="563760"/>
            <a:chOff x="378000" y="826920"/>
            <a:chExt cx="7686000" cy="563760"/>
          </a:xfrm>
        </p:grpSpPr>
        <p:sp>
          <p:nvSpPr>
            <p:cNvPr id="207" name=""/>
            <p:cNvSpPr/>
            <p:nvPr/>
          </p:nvSpPr>
          <p:spPr>
            <a:xfrm>
              <a:off x="378000" y="826920"/>
              <a:ext cx="7686000" cy="56376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1840" y="918000"/>
              <a:ext cx="718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Políticas Públicas e Programas em And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BB7-0B03-4E94-B8C9-6B5F703CA3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usiness Environment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587600"/>
            <a:ext cx="868680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dução do ICMS sobre produtos da cesta básica ou sobre micro e pequenas empresas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serção do ensino de empreendedorismo no sistema educacional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gramas da Finep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Juros Zero;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550"/>
              </a:spcBef>
              <a:buClr>
                <a:srgbClr val="274b8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ubvenção Econômica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274b8b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dos de Investimento em Capital Sement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78000" y="826920"/>
            <a:ext cx="7686000" cy="563760"/>
            <a:chOff x="378000" y="826920"/>
            <a:chExt cx="7686000" cy="563760"/>
          </a:xfrm>
        </p:grpSpPr>
        <p:sp>
          <p:nvSpPr>
            <p:cNvPr id="212" name=""/>
            <p:cNvSpPr/>
            <p:nvPr/>
          </p:nvSpPr>
          <p:spPr>
            <a:xfrm>
              <a:off x="378000" y="826920"/>
              <a:ext cx="7686000" cy="56376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1840" y="918000"/>
              <a:ext cx="718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Políticas Públicas e Programas em And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66A6-FCAB-4713-A3C3-C168D267DE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ff"/>
                </a:solidFill>
                <a:latin typeface="Arial"/>
              </a:rPr>
              <a:t>Obrigado pela sua atenção!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Sérgio Yates</a:t>
            </a:r>
            <a:br>
              <a:rPr sz="3600"/>
            </a:br>
            <a:endParaRPr b="1" lang="en-US" sz="36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4604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yates@puc-rio.b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8A8-BA9F-4340-8638-8803F5545D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3760" y="5962680"/>
            <a:ext cx="807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squisa do Sebrae – Fatores Condicionantes e taxas de Mortalidade de Empresas no Brasil 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5680" y="1511280"/>
            <a:ext cx="833112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Goth Cn B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custo sócio econômico advindo da taxa de mortalidade empresarial no Brasil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BRA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2004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resas encerradas no período 2000/2002 –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772.679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tos de trabalho extintos –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2,4 milhõ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perdícios econômicos –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R$ 19,8 bilhõe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razil - Small Business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65040" y="900360"/>
            <a:ext cx="4994280" cy="470880"/>
            <a:chOff x="365040" y="900360"/>
            <a:chExt cx="4994280" cy="470880"/>
          </a:xfrm>
        </p:grpSpPr>
        <p:sp>
          <p:nvSpPr>
            <p:cNvPr id="58" name=""/>
            <p:cNvSpPr/>
            <p:nvPr/>
          </p:nvSpPr>
          <p:spPr>
            <a:xfrm>
              <a:off x="365040" y="914400"/>
              <a:ext cx="4994280" cy="4568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040" y="900360"/>
              <a:ext cx="461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</a:rPr>
                <a:t>Empreededorismo no Bras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BE6-617A-49F0-BA81-3E18AB1E23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345600" y="1166760"/>
            <a:ext cx="8343720" cy="4998960"/>
            <a:chOff x="345600" y="1166760"/>
            <a:chExt cx="8343720" cy="4998960"/>
          </a:xfrm>
        </p:grpSpPr>
        <p:sp>
          <p:nvSpPr>
            <p:cNvPr id="61" name=""/>
            <p:cNvSpPr/>
            <p:nvPr/>
          </p:nvSpPr>
          <p:spPr>
            <a:xfrm>
              <a:off x="348480" y="1223640"/>
              <a:ext cx="1960920" cy="49420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11480" y="1873080"/>
              <a:ext cx="4853160" cy="3240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0800000">
              <a:off x="345600" y="1873080"/>
              <a:ext cx="1249560" cy="32400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Mercados /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Veículos de Investimento</a:t>
              </a: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77320" y="1901520"/>
              <a:ext cx="419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600" spc="-1" strike="noStrike">
                  <a:solidFill>
                    <a:srgbClr val="ffffff"/>
                  </a:solidFill>
                  <a:latin typeface="Arial"/>
                </a:rPr>
                <a:t>Longo Prazo; &lt; liquide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66440" y="1901520"/>
              <a:ext cx="230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400" spc="-1" strike="noStrike">
                  <a:solidFill>
                    <a:srgbClr val="000000"/>
                  </a:solidFill>
                  <a:latin typeface="Arial"/>
                </a:rPr>
                <a:t>Curto Prazo; &gt; liquide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8480" y="1166760"/>
              <a:ext cx="8339760" cy="706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egmentos de fundos de investimento de longo prazo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e os estágios de desenvolvimento corpor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34440" y="2217600"/>
              <a:ext cx="2592000" cy="60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Times New Roman"/>
                </a:rPr>
                <a:t>PIPE / Pré-merc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808080"/>
                  </a:solidFill>
                  <a:latin typeface="Times New Roman"/>
                </a:rPr>
                <a:t>(governança/liquide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37600" y="3524040"/>
              <a:ext cx="2951280" cy="58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Times New Roman"/>
                </a:rPr>
                <a:t>Private Equ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4320" y="2788920"/>
              <a:ext cx="3918600" cy="81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pt-PT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pt-PT" sz="1600" spc="-1" strike="noStrike">
                  <a:solidFill>
                    <a:srgbClr val="000000"/>
                  </a:solidFill>
                  <a:latin typeface="Times New Roman"/>
                </a:rPr>
                <a:t>Mezan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Infraestrutu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onsolidação/reestruturação financei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88600" y="3889080"/>
              <a:ext cx="1233720" cy="131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ercados de Açõe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Renda Fixa,                Derivativ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92640" y="4466880"/>
              <a:ext cx="1509120" cy="649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Times New Roman"/>
                </a:rPr>
                <a:t>Seed</a:t>
              </a:r>
              <a:br>
                <a:rPr sz="1600"/>
              </a:br>
              <a:r>
                <a:rPr b="1" i="1" lang="pt-PT" sz="1600" spc="-1" strike="noStrike">
                  <a:solidFill>
                    <a:srgbClr val="000000"/>
                  </a:solidFill>
                  <a:latin typeface="Times New Roman"/>
                </a:rPr>
                <a:t> 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09360" y="4032000"/>
              <a:ext cx="2124720" cy="64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000000"/>
                  </a:solidFill>
                  <a:latin typeface="Times New Roman"/>
                </a:rPr>
                <a:t>Venture 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PT" sz="1600" spc="-1" strike="noStrike">
                  <a:solidFill>
                    <a:srgbClr val="808080"/>
                  </a:solidFill>
                  <a:latin typeface="Times New Roman"/>
                </a:rPr>
                <a:t>(tecnologia / inovaçã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8670240" y="1873080"/>
              <a:ext cx="19080" cy="38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61360" y="4947840"/>
              <a:ext cx="759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060640" y="5099040"/>
            <a:ext cx="67626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5960" y="5099040"/>
            <a:ext cx="1231920" cy="10638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ág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pora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77880" y="5099040"/>
            <a:ext cx="1528920" cy="106380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rt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06800" y="5099040"/>
            <a:ext cx="1595520" cy="10638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senvolvimento Corpo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02320" y="5099040"/>
            <a:ext cx="1528560" cy="107172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solidação institu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83360" y="5099040"/>
            <a:ext cx="2487600" cy="1063800"/>
          </a:xfrm>
          <a:prstGeom prst="rect">
            <a:avLst/>
          </a:prstGeom>
          <a:solidFill>
            <a:srgbClr val="9933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ande porte; matu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cietária; competitiv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ortfolio Companies by Stage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76440" y="3416400"/>
            <a:ext cx="1104840" cy="2044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16F-B1D4-40C5-BA10-09C626F393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Brazil - IPO’s Statistics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8280" y="6362640"/>
            <a:ext cx="185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onte: Boves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8600" y="1035000"/>
          <a:ext cx="832464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1035000"/>
                    <a:ext cx="8324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64C-6FA1-422F-ADB7-CEBDF64D7F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unds Raised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70000" y="1363680"/>
            <a:ext cx="69516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423-3964-4DDF-877D-7F251925E3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66680" y="820800"/>
            <a:ext cx="8713800" cy="5543640"/>
            <a:chOff x="166680" y="820800"/>
            <a:chExt cx="8713800" cy="5543640"/>
          </a:xfrm>
        </p:grpSpPr>
        <p:sp>
          <p:nvSpPr>
            <p:cNvPr id="90" name=""/>
            <p:cNvSpPr/>
            <p:nvPr/>
          </p:nvSpPr>
          <p:spPr>
            <a:xfrm>
              <a:off x="4415040" y="820800"/>
              <a:ext cx="4176720" cy="892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CADO DE CAPITA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-1053720" y="4200480"/>
              <a:ext cx="3333600" cy="892440"/>
            </a:xfrm>
            <a:prstGeom prst="rect">
              <a:avLst/>
            </a:prstGeom>
            <a:solidFill>
              <a:srgbClr val="f4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 FINANCEI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95960" y="1900440"/>
              <a:ext cx="1963800" cy="4464000"/>
            </a:xfrm>
            <a:prstGeom prst="rect">
              <a:avLst/>
            </a:prstGeom>
            <a:solidFill>
              <a:srgbClr val="7c9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v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Investidores Qualifica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47040" y="1900440"/>
              <a:ext cx="1963800" cy="4464000"/>
            </a:xfrm>
            <a:prstGeom prst="rect">
              <a:avLst/>
            </a:prstGeom>
            <a:solidFill>
              <a:srgbClr val="2851a2">
                <a:alpha val="8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úbli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Varejo &amp; C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09960" y="820800"/>
              <a:ext cx="2089080" cy="892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UXÍLIOS &amp; DOAÇ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9960" y="1900440"/>
              <a:ext cx="2089080" cy="44640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Love Money &amp; Grant Mone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6200000">
              <a:off x="4199400" y="1612080"/>
              <a:ext cx="1656000" cy="7705800"/>
            </a:xfrm>
            <a:prstGeom prst="rect">
              <a:avLst/>
            </a:prstGeom>
            <a:solidFill>
              <a:srgbClr val="ffb41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F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(Bancos, Coop. Crédito..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6200000">
              <a:off x="4199760" y="-64080"/>
              <a:ext cx="1655640" cy="7705800"/>
            </a:xfrm>
            <a:prstGeom prst="rect">
              <a:avLst/>
            </a:prstGeom>
            <a:solidFill>
              <a:srgbClr val="ffcc66">
                <a:alpha val="3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form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Amigos, Parentes, Agiota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8680" y="3124440"/>
              <a:ext cx="3745080" cy="13683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vantGarde Md BT"/>
                </a:rPr>
                <a:t>Finanças para Empreendedo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99040" y="4564440"/>
              <a:ext cx="0" cy="504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15040" y="3845160"/>
              <a:ext cx="649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ources of Funds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6392160"/>
            <a:ext cx="513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Pimenta-Bueno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44C-9529-4160-B0A2-CD811192C3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dustry Structure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1960" y="812880"/>
            <a:ext cx="7883640" cy="57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72E-ECE6-4493-B33D-B0587E1BF5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8880" y="866880"/>
            <a:ext cx="8142480" cy="5352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dustry Structure</a:t>
            </a:r>
            <a:endParaRPr b="1" lang="en-US" sz="2800" spc="-1" strike="noStrike">
              <a:solidFill>
                <a:srgbClr val="f5f09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212-CFAE-4825-B622-E9AE08743F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07960" y="1619280"/>
            <a:ext cx="8463600" cy="4505760"/>
            <a:chOff x="507960" y="1619280"/>
            <a:chExt cx="8463600" cy="4505760"/>
          </a:xfrm>
        </p:grpSpPr>
        <p:grpSp>
          <p:nvGrpSpPr>
            <p:cNvPr id="108" name=""/>
            <p:cNvGrpSpPr/>
            <p:nvPr/>
          </p:nvGrpSpPr>
          <p:grpSpPr>
            <a:xfrm>
              <a:off x="507960" y="1619280"/>
              <a:ext cx="8463600" cy="4286160"/>
              <a:chOff x="507960" y="1619280"/>
              <a:chExt cx="8463600" cy="4286160"/>
            </a:xfrm>
          </p:grpSpPr>
          <p:sp>
            <p:nvSpPr>
              <p:cNvPr id="109" name=""/>
              <p:cNvSpPr/>
              <p:nvPr/>
            </p:nvSpPr>
            <p:spPr>
              <a:xfrm>
                <a:off x="507960" y="1619280"/>
                <a:ext cx="6343560" cy="42861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1535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5200" y="1695240"/>
                <a:ext cx="6343560" cy="41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FINEP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C. Pesquisa                               Endeav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                      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Sebra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           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                            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B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Empresas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  Gov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               </a:t>
                </a: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Venture Capitalists            Consultor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APL’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28080" y="1770120"/>
                <a:ext cx="2643480" cy="3682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ffff"/>
                    </a:solidFill>
                    <a:latin typeface="Arial"/>
                  </a:rPr>
                  <a:t>Ecossistema ampliad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5937120" y="2133360"/>
                <a:ext cx="1524240" cy="59076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727280" y="2552760"/>
              <a:ext cx="7099560" cy="3572280"/>
              <a:chOff x="1727280" y="2552760"/>
              <a:chExt cx="7099560" cy="357228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1727280" y="2552760"/>
                <a:ext cx="7099560" cy="2458800"/>
                <a:chOff x="1727280" y="2552760"/>
                <a:chExt cx="7099560" cy="24588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727280" y="2552760"/>
                  <a:ext cx="3579840" cy="233604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"/>
                <p:cNvGrpSpPr/>
                <p:nvPr/>
              </p:nvGrpSpPr>
              <p:grpSpPr>
                <a:xfrm>
                  <a:off x="1842840" y="2611440"/>
                  <a:ext cx="6984000" cy="2400120"/>
                  <a:chOff x="1842840" y="2611440"/>
                  <a:chExt cx="6984000" cy="24001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>
                    <a:off x="1842840" y="2611440"/>
                    <a:ext cx="3601800" cy="21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2000" spc="-1" strike="noStrike">
                        <a:solidFill>
                          <a:srgbClr val="3333cc"/>
                        </a:solidFill>
                        <a:latin typeface="Arial"/>
                      </a:rPr>
                      <a:t>                  </a:t>
                    </a:r>
                    <a:r>
                      <a:rPr b="1" lang="pt-BR" sz="2000" spc="-1" strike="noStrike">
                        <a:solidFill>
                          <a:srgbClr val="3333cc"/>
                        </a:solidFill>
                        <a:latin typeface="Arial"/>
                      </a:rPr>
                      <a:t>Labs   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2000" spc="-1" strike="noStrike">
                        <a:solidFill>
                          <a:srgbClr val="3333cc"/>
                        </a:solidFill>
                        <a:latin typeface="Arial"/>
                      </a:rPr>
                      <a:t> </a:t>
                    </a:r>
                    <a:r>
                      <a:rPr b="1" lang="pt-BR" sz="2000" spc="-1" strike="noStrike">
                        <a:solidFill>
                          <a:srgbClr val="3333cc"/>
                        </a:solidFill>
                        <a:latin typeface="Arial"/>
                      </a:rPr>
                      <a:t>ENPI</a:t>
                    </a:r>
                    <a:r>
                      <a:rPr b="1" lang="pt-BR" sz="2000" spc="-1" strike="noStrike">
                        <a:solidFill>
                          <a:srgbClr val="3333cc"/>
                        </a:solidFill>
                        <a:latin typeface="Arial"/>
                      </a:rPr>
                      <a:t>	</a:t>
                    </a:r>
                    <a:r>
                      <a:rPr b="1" lang="pt-BR" sz="2000" spc="-1" strike="noStrike">
                        <a:solidFill>
                          <a:srgbClr val="3333cc"/>
                        </a:solidFill>
                        <a:latin typeface="Arial"/>
                      </a:rPr>
                      <a:t>	</a:t>
                    </a:r>
                    <a:r>
                      <a:rPr b="1" lang="pt-BR" sz="2000" spc="-1" strike="noStrike">
                        <a:solidFill>
                          <a:srgbClr val="3333cc"/>
                        </a:solidFill>
                        <a:latin typeface="Arial"/>
                      </a:rPr>
                      <a:t>          NE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2000" spc="-1" strike="noStrike">
                        <a:solidFill>
                          <a:srgbClr val="3333cc"/>
                        </a:solidFill>
                        <a:latin typeface="Arial"/>
                      </a:rPr>
                      <a:t>Ensino                       Alumni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2000" spc="-1" strike="noStrike">
                        <a:solidFill>
                          <a:srgbClr val="3333cc"/>
                        </a:solidFill>
                        <a:latin typeface="Arial"/>
                      </a:rPr>
                      <a:t>                  </a:t>
                    </a:r>
                    <a:r>
                      <a:rPr b="1" lang="pt-BR" sz="2000" spc="-1" strike="noStrike">
                        <a:solidFill>
                          <a:srgbClr val="3333cc"/>
                        </a:solidFill>
                        <a:latin typeface="Arial"/>
                      </a:rPr>
                      <a:t>Anjo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6540120" y="4674240"/>
                    <a:ext cx="2286720" cy="3373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99"/>
                        </a:solidFill>
                        <a:latin typeface="Arial"/>
                      </a:rPr>
                      <a:t>Ecossistema PUC Ri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922280" y="4103280"/>
                    <a:ext cx="1712520" cy="588600"/>
                  </a:xfrm>
                  <a:prstGeom prst="line">
                    <a:avLst/>
                  </a:prstGeom>
                  <a:ln w="9360">
                    <a:solidFill>
                      <a:srgbClr val="ccffff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" name=""/>
              <p:cNvGrpSpPr/>
              <p:nvPr/>
            </p:nvGrpSpPr>
            <p:grpSpPr>
              <a:xfrm>
                <a:off x="2832120" y="3085920"/>
                <a:ext cx="5522760" cy="3039120"/>
                <a:chOff x="2832120" y="3085920"/>
                <a:chExt cx="5522760" cy="3039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832120" y="3085920"/>
                  <a:ext cx="1504800" cy="1352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00"/>
                      </a:solidFill>
                      <a:latin typeface="Arial"/>
                    </a:rPr>
                    <a:t>Incubador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618240" y="5421240"/>
                  <a:ext cx="1736640" cy="703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00"/>
                      </a:solidFill>
                      <a:latin typeface="Arial"/>
                    </a:rPr>
                    <a:t>Ecossistem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00"/>
                      </a:solidFill>
                      <a:latin typeface="Arial"/>
                    </a:rPr>
                    <a:t>Incubador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3612960" y="4362480"/>
                  <a:ext cx="3066840" cy="112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nnovation &amp; Entrepreneurship Eco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6BB-58FF-4943-A8D8-EC1912DEB6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3T15:12:50Z</dcterms:created>
  <dc:creator>Sérgio Yates</dc:creator>
  <dc:description/>
  <dc:language>en-US</dc:language>
  <cp:lastModifiedBy>CPCEACABA</cp:lastModifiedBy>
  <cp:lastPrinted>2001-11-09T02:32:16Z</cp:lastPrinted>
  <dcterms:modified xsi:type="dcterms:W3CDTF">2008-11-10T19:03:17Z</dcterms:modified>
  <cp:revision>557</cp:revision>
  <dc:subject>Buenos Aires</dc:subject>
  <dc:title>3 Congresso N e I de Financas</dc:title>
</cp:coreProperties>
</file>