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34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46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1"/>
          </p:nvPr>
        </p:nvSpPr>
        <p:spPr>
          <a:xfrm>
            <a:off x="3890520" y="-360"/>
            <a:ext cx="2992680" cy="446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Img"/>
          </p:nvPr>
        </p:nvSpPr>
        <p:spPr>
          <a:xfrm>
            <a:off x="1004400" y="671040"/>
            <a:ext cx="479772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2"/>
          </p:nvPr>
        </p:nvSpPr>
        <p:spPr>
          <a:xfrm>
            <a:off x="0" y="8646840"/>
            <a:ext cx="2992320" cy="446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 type="sldNum" idx="3"/>
          </p:nvPr>
        </p:nvSpPr>
        <p:spPr>
          <a:xfrm>
            <a:off x="3890520" y="8646840"/>
            <a:ext cx="2992680" cy="446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5D5EE31-4990-4BC4-8E0D-CDFB0E083D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97FB716-59AB-4CC3-87BA-C23F8827CB99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6A8B6F2-78DF-40D3-B0FF-4C82BF5A08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B62B772-2A4F-4BC8-A2EA-17AAFB557C3B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402E7E9-DA82-432A-94F6-8FD5384696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F31C5BD-5C10-4BD9-B9A8-6B9AF02CED5F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0FC70C4-7FED-4106-A0BA-5FDA8D0FE1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4AEBE-96C7-4C00-B635-28BB5C35E0A3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334C7-B6C5-405B-A9B5-744F0E2B0E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046160" y="682560"/>
            <a:ext cx="4764240" cy="34038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C4C97-79B0-4922-B9DC-F21C69F59424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E7291-936F-4D72-A53E-81B94FAA2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044720" y="68256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73272-5BC7-4D97-9E2C-B56EA697A381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E89B5-7806-4247-B966-24F44954CA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044720" y="68256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EAE3F-6DCD-423D-B9D7-4A6F0E4541F0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61F403-CA0B-4F59-B7DD-D3C0FCBFD0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044720" y="68256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03737-E2C6-43D6-AB21-206DE40C7CF9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DC4DF-9E3D-40C5-88A2-DA6F283C4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 Box 2"/>
          <p:cNvSpPr/>
          <p:nvPr/>
        </p:nvSpPr>
        <p:spPr>
          <a:xfrm>
            <a:off x="925560" y="682560"/>
            <a:ext cx="5006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1B6A166-E34D-4052-93F6-F636CE60926B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46D52BE-9365-492D-8E9F-07F502BEF7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7B90926-90D2-4BB9-999F-AFE5D92986EB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1ACBC36-6766-4ABF-9376-34F5583734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3"/>
          <p:cNvSpPr/>
          <p:nvPr/>
        </p:nvSpPr>
        <p:spPr>
          <a:xfrm>
            <a:off x="3890880" y="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9428961-1ED5-4145-8210-498A4520EAA3}" type="datetime">
              <a:rPr b="1" lang="es-ES" sz="12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1925769F-748A-4326-A1F7-A860DEAF3F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004760" y="671400"/>
            <a:ext cx="4797720" cy="34275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898200" y="4322520"/>
            <a:ext cx="50115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49417-FC7C-4772-9880-A89ECB4DF384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5C8E2-2EC8-45DF-AC63-36F30BEDD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044720" y="68256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9E70B-AF4B-463F-8F98-F719F743B240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2D91D-5C3E-4F4E-8874-7E47289EC6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044720" y="68256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9491F-FBFF-490D-8171-C6AC36F5CDCD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20E5F-50AD-40FB-B293-C7E7E704B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046160" y="682560"/>
            <a:ext cx="4764240" cy="34038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7BC5C-D8BF-4D77-9756-D47E8E9BB86C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B7DF2-F896-4A0E-81C8-DE34CB440E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046160" y="682560"/>
            <a:ext cx="4764240" cy="34038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495A4-E449-4A5B-836C-197450942753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5A7FB-807A-411A-A776-80FC53133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Text Box 2"/>
          <p:cNvSpPr/>
          <p:nvPr/>
        </p:nvSpPr>
        <p:spPr>
          <a:xfrm>
            <a:off x="925560" y="682560"/>
            <a:ext cx="5006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90880" y="8647200"/>
            <a:ext cx="299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89AC072-8E6B-4057-81E1-73B3A8F3536D}" type="slidenum">
              <a:rPr b="1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003320" y="671400"/>
            <a:ext cx="48006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898560" y="4322520"/>
            <a:ext cx="50133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3"/>
          <p:cNvSpPr/>
          <p:nvPr/>
        </p:nvSpPr>
        <p:spPr>
          <a:xfrm>
            <a:off x="388764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A145A-6DED-4290-88DA-D295E6A7E198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Rectangle 7"/>
          <p:cNvSpPr/>
          <p:nvPr/>
        </p:nvSpPr>
        <p:spPr>
          <a:xfrm>
            <a:off x="3887640" y="862632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14381-32BB-430E-A3E7-781A918B6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046160" y="682560"/>
            <a:ext cx="4764240" cy="34038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2960" y="4313160"/>
            <a:ext cx="50320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23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7973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- </a:t>
            </a:r>
            <a:fld id="{3A4B0E73-7854-496A-B67E-5DB80C1D9B61}" type="slidenum">
              <a:rPr b="1" lang="es-ES_trad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456800" y="6595920"/>
            <a:ext cx="82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ffffff"/>
                </a:solidFill>
                <a:latin typeface="Arial"/>
              </a:rPr>
              <a:t>ENDEAVOR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isologo"/>
          <p:cNvPicPr/>
          <p:nvPr/>
        </p:nvPicPr>
        <p:blipFill>
          <a:blip r:embed="rId2"/>
          <a:stretch/>
        </p:blipFill>
        <p:spPr>
          <a:xfrm>
            <a:off x="0" y="0"/>
            <a:ext cx="7524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54080" y="5989680"/>
            <a:ext cx="576000" cy="654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21480" y="658332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Prof. Silvia Torres Carbonel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8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19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1.png"/><Relationship Id="rId42" Type="http://schemas.openxmlformats.org/officeDocument/2006/relationships/image" Target="../media/image22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4.png"/><Relationship Id="rId46" Type="http://schemas.openxmlformats.org/officeDocument/2006/relationships/image" Target="../media/image25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7.png"/><Relationship Id="rId53" Type="http://schemas.openxmlformats.org/officeDocument/2006/relationships/image" Target="../media/image28.png"/><Relationship Id="rId54" Type="http://schemas.openxmlformats.org/officeDocument/2006/relationships/image" Target="../media/image29.png"/><Relationship Id="rId55" Type="http://schemas.openxmlformats.org/officeDocument/2006/relationships/image" Target="../media/image28.png"/><Relationship Id="rId56" Type="http://schemas.openxmlformats.org/officeDocument/2006/relationships/image" Target="../media/image29.png"/><Relationship Id="rId57" Type="http://schemas.openxmlformats.org/officeDocument/2006/relationships/image" Target="../media/image30.png"/><Relationship Id="rId58" Type="http://schemas.openxmlformats.org/officeDocument/2006/relationships/image" Target="../media/image31.png"/><Relationship Id="rId59" Type="http://schemas.openxmlformats.org/officeDocument/2006/relationships/image" Target="../media/image30.png"/><Relationship Id="rId60" Type="http://schemas.openxmlformats.org/officeDocument/2006/relationships/image" Target="../media/image31.png"/><Relationship Id="rId61" Type="http://schemas.openxmlformats.org/officeDocument/2006/relationships/slideLayout" Target="../slideLayouts/slideLayout97.xml"/><Relationship Id="rId6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hyperlink" Target="http://www.quehuar4x4.com.ar/images/Bandera%20Argentina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8840" y="298080"/>
            <a:ext cx="8993160" cy="4902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El desafío de crear empresas de alto potencial en América Latina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Espíritu Emprendedor: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mejor modelo que se ha inventado para generar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recimiento y prosperidad*</a:t>
            </a:r>
            <a:br>
              <a:rPr sz="2000"/>
            </a:br>
            <a:br>
              <a:rPr sz="2000"/>
            </a:b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EMPRENDEDORES -  EMPRESARIOS</a:t>
            </a:r>
            <a:br>
              <a:rPr sz="2200"/>
            </a:b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 EMPRESARIOS  -   EMPRENDEDORES</a:t>
            </a:r>
            <a:br>
              <a:rPr sz="2600"/>
            </a:br>
            <a:br>
              <a:rPr sz="2600"/>
            </a:b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80800" y="3600000"/>
            <a:ext cx="7569000" cy="3729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 algn="ctr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ctr">
              <a:lnSpc>
                <a:spcPct val="97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ctr">
              <a:lnSpc>
                <a:spcPct val="97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ctr"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f. Silvia S. de Torres Carbon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74"/>
              </a:spcBef>
              <a:buClr>
                <a:srgbClr val="ffff00"/>
              </a:buClr>
              <a:buFont typeface="Arial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rectora del Centro de Entrepreneurship – IA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rectora – Fund. Endeavor Argentin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ctr">
              <a:lnSpc>
                <a:spcPct val="97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ctr">
              <a:lnSpc>
                <a:spcPct val="97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*Farrel, Larry C., The Entrepreneurial Age, Allworth Press, Newe York, </a:t>
            </a:r>
            <a:br>
              <a:rPr sz="1200"/>
            </a:b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001.</a:t>
            </a:r>
            <a:br>
              <a:rPr sz="1200"/>
            </a:b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ctr">
              <a:lnSpc>
                <a:spcPct val="9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ctr">
              <a:lnSpc>
                <a:spcPct val="9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343080" y="934920"/>
            <a:ext cx="87915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571680" indent="-190800" algn="ctr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GEM (Global Entrepreneurship Monitor) comenzó en 1999 como una iniciativa de investigación compartida por el Babson College (USA) y London Business School (UK), con 10 países participantes, habiéndose expandido a 42 países en 2007 y convirtiéndose en el principal conocedor sobre Entrepreneurship en el mu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GEM ha desarrollado una red líder de investigación acerca de la relación entre el emprendedorismo, la actividad emprendedora y el crecimiento económic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de el año 2000 Argentina es parte de este estudio, a través del Centro de Entrepreneurship del IA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2"/>
          <p:cNvGrpSpPr/>
          <p:nvPr/>
        </p:nvGrpSpPr>
        <p:grpSpPr>
          <a:xfrm>
            <a:off x="236520" y="2038320"/>
            <a:ext cx="9363960" cy="4064760"/>
            <a:chOff x="236520" y="2038320"/>
            <a:chExt cx="9363960" cy="4064760"/>
          </a:xfrm>
        </p:grpSpPr>
        <p:sp>
          <p:nvSpPr>
            <p:cNvPr id="881" name="Freeform 3"/>
            <p:cNvSpPr/>
            <p:nvPr/>
          </p:nvSpPr>
          <p:spPr>
            <a:xfrm>
              <a:off x="4347720" y="3184200"/>
              <a:ext cx="59040" cy="270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4"/>
            <p:cNvSpPr/>
            <p:nvPr/>
          </p:nvSpPr>
          <p:spPr>
            <a:xfrm>
              <a:off x="4259520" y="3075120"/>
              <a:ext cx="59040" cy="81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5"/>
            <p:cNvSpPr/>
            <p:nvPr/>
          </p:nvSpPr>
          <p:spPr>
            <a:xfrm>
              <a:off x="4347720" y="3184200"/>
              <a:ext cx="59040" cy="27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6"/>
            <p:cNvSpPr/>
            <p:nvPr/>
          </p:nvSpPr>
          <p:spPr>
            <a:xfrm>
              <a:off x="4259520" y="3075120"/>
              <a:ext cx="59040" cy="810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7"/>
            <p:cNvSpPr/>
            <p:nvPr/>
          </p:nvSpPr>
          <p:spPr>
            <a:xfrm>
              <a:off x="9454320" y="5420880"/>
              <a:ext cx="146160" cy="2458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8"/>
            <p:cNvSpPr/>
            <p:nvPr/>
          </p:nvSpPr>
          <p:spPr>
            <a:xfrm>
              <a:off x="9454320" y="5420880"/>
              <a:ext cx="146160" cy="245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9"/>
            <p:cNvSpPr/>
            <p:nvPr/>
          </p:nvSpPr>
          <p:spPr>
            <a:xfrm>
              <a:off x="9160560" y="5612040"/>
              <a:ext cx="263520" cy="218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0"/>
            <p:cNvSpPr/>
            <p:nvPr/>
          </p:nvSpPr>
          <p:spPr>
            <a:xfrm>
              <a:off x="8661600" y="5612040"/>
              <a:ext cx="87840" cy="136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11"/>
            <p:cNvSpPr/>
            <p:nvPr/>
          </p:nvSpPr>
          <p:spPr>
            <a:xfrm>
              <a:off x="9160560" y="5612040"/>
              <a:ext cx="263520" cy="2185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Freeform 12"/>
            <p:cNvSpPr/>
            <p:nvPr/>
          </p:nvSpPr>
          <p:spPr>
            <a:xfrm>
              <a:off x="8661600" y="5612040"/>
              <a:ext cx="87840" cy="13680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Freeform 13"/>
            <p:cNvSpPr/>
            <p:nvPr/>
          </p:nvSpPr>
          <p:spPr>
            <a:xfrm>
              <a:off x="8837640" y="4438800"/>
              <a:ext cx="175320" cy="10980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Freeform 14"/>
            <p:cNvSpPr/>
            <p:nvPr/>
          </p:nvSpPr>
          <p:spPr>
            <a:xfrm>
              <a:off x="7311600" y="3729600"/>
              <a:ext cx="117000" cy="8172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15"/>
            <p:cNvSpPr/>
            <p:nvPr/>
          </p:nvSpPr>
          <p:spPr>
            <a:xfrm>
              <a:off x="8837640" y="4438800"/>
              <a:ext cx="175320" cy="1098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16"/>
            <p:cNvSpPr/>
            <p:nvPr/>
          </p:nvSpPr>
          <p:spPr>
            <a:xfrm>
              <a:off x="7311600" y="3729600"/>
              <a:ext cx="117000" cy="8172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17"/>
            <p:cNvSpPr/>
            <p:nvPr/>
          </p:nvSpPr>
          <p:spPr>
            <a:xfrm>
              <a:off x="7605000" y="3566520"/>
              <a:ext cx="87840" cy="10872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18"/>
            <p:cNvSpPr/>
            <p:nvPr/>
          </p:nvSpPr>
          <p:spPr>
            <a:xfrm>
              <a:off x="7575840" y="2938320"/>
              <a:ext cx="176040" cy="10872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19"/>
            <p:cNvSpPr/>
            <p:nvPr/>
          </p:nvSpPr>
          <p:spPr>
            <a:xfrm>
              <a:off x="7605000" y="3566520"/>
              <a:ext cx="87840" cy="10872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20"/>
            <p:cNvSpPr/>
            <p:nvPr/>
          </p:nvSpPr>
          <p:spPr>
            <a:xfrm>
              <a:off x="7575840" y="2938320"/>
              <a:ext cx="176040" cy="10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21"/>
            <p:cNvSpPr/>
            <p:nvPr/>
          </p:nvSpPr>
          <p:spPr>
            <a:xfrm>
              <a:off x="7722360" y="4711680"/>
              <a:ext cx="1261800" cy="8460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22"/>
            <p:cNvSpPr/>
            <p:nvPr/>
          </p:nvSpPr>
          <p:spPr>
            <a:xfrm>
              <a:off x="7458840" y="4548600"/>
              <a:ext cx="674280" cy="10872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23"/>
            <p:cNvSpPr/>
            <p:nvPr/>
          </p:nvSpPr>
          <p:spPr>
            <a:xfrm>
              <a:off x="7722360" y="4711680"/>
              <a:ext cx="1261800" cy="84600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24"/>
            <p:cNvSpPr/>
            <p:nvPr/>
          </p:nvSpPr>
          <p:spPr>
            <a:xfrm>
              <a:off x="7458840" y="4548600"/>
              <a:ext cx="674280" cy="1087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25"/>
            <p:cNvSpPr/>
            <p:nvPr/>
          </p:nvSpPr>
          <p:spPr>
            <a:xfrm>
              <a:off x="7810560" y="4302720"/>
              <a:ext cx="322560" cy="21780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26"/>
            <p:cNvSpPr/>
            <p:nvPr/>
          </p:nvSpPr>
          <p:spPr>
            <a:xfrm>
              <a:off x="7488000" y="4220640"/>
              <a:ext cx="351720" cy="29988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27"/>
            <p:cNvSpPr/>
            <p:nvPr/>
          </p:nvSpPr>
          <p:spPr>
            <a:xfrm>
              <a:off x="7810560" y="4302720"/>
              <a:ext cx="322560" cy="21780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28"/>
            <p:cNvSpPr/>
            <p:nvPr/>
          </p:nvSpPr>
          <p:spPr>
            <a:xfrm>
              <a:off x="7488000" y="4220640"/>
              <a:ext cx="351720" cy="29988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29"/>
            <p:cNvSpPr/>
            <p:nvPr/>
          </p:nvSpPr>
          <p:spPr>
            <a:xfrm>
              <a:off x="8221320" y="4384800"/>
              <a:ext cx="645120" cy="27288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30"/>
            <p:cNvSpPr/>
            <p:nvPr/>
          </p:nvSpPr>
          <p:spPr>
            <a:xfrm>
              <a:off x="7018560" y="4166640"/>
              <a:ext cx="380880" cy="38196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31"/>
            <p:cNvSpPr/>
            <p:nvPr/>
          </p:nvSpPr>
          <p:spPr>
            <a:xfrm>
              <a:off x="8221320" y="4384800"/>
              <a:ext cx="645120" cy="27288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32"/>
            <p:cNvSpPr/>
            <p:nvPr/>
          </p:nvSpPr>
          <p:spPr>
            <a:xfrm>
              <a:off x="7018560" y="4166640"/>
              <a:ext cx="380880" cy="3819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33"/>
            <p:cNvSpPr/>
            <p:nvPr/>
          </p:nvSpPr>
          <p:spPr>
            <a:xfrm>
              <a:off x="7722360" y="3756600"/>
              <a:ext cx="381600" cy="43668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34"/>
            <p:cNvSpPr/>
            <p:nvPr/>
          </p:nvSpPr>
          <p:spPr>
            <a:xfrm>
              <a:off x="7634160" y="3047400"/>
              <a:ext cx="264240" cy="35496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35"/>
            <p:cNvSpPr/>
            <p:nvPr/>
          </p:nvSpPr>
          <p:spPr>
            <a:xfrm>
              <a:off x="7722360" y="3756600"/>
              <a:ext cx="381600" cy="43668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36"/>
            <p:cNvSpPr/>
            <p:nvPr/>
          </p:nvSpPr>
          <p:spPr>
            <a:xfrm>
              <a:off x="7634160" y="3047400"/>
              <a:ext cx="264240" cy="35496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37"/>
            <p:cNvSpPr/>
            <p:nvPr/>
          </p:nvSpPr>
          <p:spPr>
            <a:xfrm>
              <a:off x="7311600" y="2638440"/>
              <a:ext cx="293400" cy="27288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3259080" y="3238560"/>
              <a:ext cx="2233080" cy="218232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39"/>
            <p:cNvSpPr/>
            <p:nvPr/>
          </p:nvSpPr>
          <p:spPr>
            <a:xfrm>
              <a:off x="7311600" y="2638440"/>
              <a:ext cx="293400" cy="27288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40"/>
            <p:cNvSpPr/>
            <p:nvPr/>
          </p:nvSpPr>
          <p:spPr>
            <a:xfrm>
              <a:off x="3259080" y="3238560"/>
              <a:ext cx="2233080" cy="218232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1"/>
            <p:cNvSpPr/>
            <p:nvPr/>
          </p:nvSpPr>
          <p:spPr>
            <a:xfrm>
              <a:off x="3819600" y="2611080"/>
              <a:ext cx="146880" cy="16308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42"/>
            <p:cNvSpPr/>
            <p:nvPr/>
          </p:nvSpPr>
          <p:spPr>
            <a:xfrm>
              <a:off x="3936960" y="2502360"/>
              <a:ext cx="176040" cy="2998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43"/>
            <p:cNvSpPr/>
            <p:nvPr/>
          </p:nvSpPr>
          <p:spPr>
            <a:xfrm>
              <a:off x="3819600" y="2611080"/>
              <a:ext cx="146880" cy="16308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4"/>
            <p:cNvSpPr/>
            <p:nvPr/>
          </p:nvSpPr>
          <p:spPr>
            <a:xfrm>
              <a:off x="3936960" y="2502360"/>
              <a:ext cx="176040" cy="29988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45"/>
            <p:cNvSpPr/>
            <p:nvPr/>
          </p:nvSpPr>
          <p:spPr>
            <a:xfrm>
              <a:off x="3405600" y="2038320"/>
              <a:ext cx="1001160" cy="46404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46"/>
            <p:cNvSpPr/>
            <p:nvPr/>
          </p:nvSpPr>
          <p:spPr>
            <a:xfrm>
              <a:off x="3405600" y="2038320"/>
              <a:ext cx="1001160" cy="46404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47"/>
            <p:cNvSpPr/>
            <p:nvPr/>
          </p:nvSpPr>
          <p:spPr>
            <a:xfrm>
              <a:off x="5169600" y="4739040"/>
              <a:ext cx="293400" cy="46404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48"/>
            <p:cNvSpPr/>
            <p:nvPr/>
          </p:nvSpPr>
          <p:spPr>
            <a:xfrm>
              <a:off x="3757320" y="2065320"/>
              <a:ext cx="4024080" cy="2210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49"/>
            <p:cNvSpPr/>
            <p:nvPr/>
          </p:nvSpPr>
          <p:spPr>
            <a:xfrm>
              <a:off x="5169600" y="4739040"/>
              <a:ext cx="293400" cy="46404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50"/>
            <p:cNvSpPr/>
            <p:nvPr/>
          </p:nvSpPr>
          <p:spPr>
            <a:xfrm>
              <a:off x="3757320" y="2065320"/>
              <a:ext cx="4024080" cy="2210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51"/>
            <p:cNvSpPr/>
            <p:nvPr/>
          </p:nvSpPr>
          <p:spPr>
            <a:xfrm>
              <a:off x="236520" y="2202120"/>
              <a:ext cx="2377080" cy="19094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52"/>
            <p:cNvSpPr/>
            <p:nvPr/>
          </p:nvSpPr>
          <p:spPr>
            <a:xfrm>
              <a:off x="1938240" y="2038320"/>
              <a:ext cx="792360" cy="49104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53"/>
            <p:cNvSpPr/>
            <p:nvPr/>
          </p:nvSpPr>
          <p:spPr>
            <a:xfrm>
              <a:off x="236520" y="2202120"/>
              <a:ext cx="2377080" cy="19094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54"/>
            <p:cNvSpPr/>
            <p:nvPr/>
          </p:nvSpPr>
          <p:spPr>
            <a:xfrm>
              <a:off x="1938240" y="2038320"/>
              <a:ext cx="792360" cy="49104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55"/>
            <p:cNvSpPr/>
            <p:nvPr/>
          </p:nvSpPr>
          <p:spPr>
            <a:xfrm>
              <a:off x="1761840" y="2202120"/>
              <a:ext cx="528120" cy="27216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56"/>
            <p:cNvSpPr/>
            <p:nvPr/>
          </p:nvSpPr>
          <p:spPr>
            <a:xfrm>
              <a:off x="2055600" y="3647520"/>
              <a:ext cx="381600" cy="10872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57"/>
            <p:cNvSpPr/>
            <p:nvPr/>
          </p:nvSpPr>
          <p:spPr>
            <a:xfrm>
              <a:off x="1761840" y="2202120"/>
              <a:ext cx="528120" cy="2721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58"/>
            <p:cNvSpPr/>
            <p:nvPr/>
          </p:nvSpPr>
          <p:spPr>
            <a:xfrm>
              <a:off x="2055600" y="3647520"/>
              <a:ext cx="381600" cy="10872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59"/>
            <p:cNvSpPr/>
            <p:nvPr/>
          </p:nvSpPr>
          <p:spPr>
            <a:xfrm>
              <a:off x="2378160" y="3729600"/>
              <a:ext cx="235080" cy="10872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60"/>
            <p:cNvSpPr/>
            <p:nvPr/>
          </p:nvSpPr>
          <p:spPr>
            <a:xfrm>
              <a:off x="2231640" y="4029840"/>
              <a:ext cx="1525320" cy="207324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61"/>
            <p:cNvSpPr/>
            <p:nvPr/>
          </p:nvSpPr>
          <p:spPr>
            <a:xfrm>
              <a:off x="2378160" y="3729600"/>
              <a:ext cx="235080" cy="108720"/>
            </a:xfrm>
            <a:prstGeom prst="pie">
              <a:avLst/>
            </a:prstGeom>
            <a:blipFill rotWithShape="0">
              <a:blip r:embed="rId5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62"/>
            <p:cNvSpPr/>
            <p:nvPr/>
          </p:nvSpPr>
          <p:spPr>
            <a:xfrm>
              <a:off x="2231640" y="4029840"/>
              <a:ext cx="1525320" cy="2073240"/>
            </a:xfrm>
            <a:prstGeom prst="pie">
              <a:avLst/>
            </a:prstGeom>
            <a:blipFill rotWithShape="0">
              <a:blip r:embed="rId6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1" name="Text Box 63"/>
          <p:cNvSpPr/>
          <p:nvPr/>
        </p:nvSpPr>
        <p:spPr>
          <a:xfrm>
            <a:off x="260280" y="29671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stados Unid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64"/>
          <p:cNvSpPr/>
          <p:nvPr/>
        </p:nvSpPr>
        <p:spPr>
          <a:xfrm>
            <a:off x="7767000" y="1922400"/>
            <a:ext cx="155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hin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Hong Ko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nd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Jap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Rus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miratos Árab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65"/>
          <p:cNvSpPr/>
          <p:nvPr/>
        </p:nvSpPr>
        <p:spPr>
          <a:xfrm>
            <a:off x="2620800" y="1469880"/>
            <a:ext cx="12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ustr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Grec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Bélg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roac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Dinamar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66"/>
          <p:cNvSpPr/>
          <p:nvPr/>
        </p:nvSpPr>
        <p:spPr>
          <a:xfrm>
            <a:off x="3457440" y="1413000"/>
            <a:ext cx="126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sloven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spañ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inland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ranc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67"/>
          <p:cNvSpPr/>
          <p:nvPr/>
        </p:nvSpPr>
        <p:spPr>
          <a:xfrm>
            <a:off x="4510080" y="1415880"/>
            <a:ext cx="126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Holand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Hungrí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rland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sland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68"/>
          <p:cNvSpPr/>
          <p:nvPr/>
        </p:nvSpPr>
        <p:spPr>
          <a:xfrm>
            <a:off x="4386240" y="2489040"/>
            <a:ext cx="12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uec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uiz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69"/>
          <p:cNvSpPr/>
          <p:nvPr/>
        </p:nvSpPr>
        <p:spPr>
          <a:xfrm>
            <a:off x="2631960" y="2514600"/>
            <a:ext cx="126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tal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Norueg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ortug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70"/>
          <p:cNvSpPr/>
          <p:nvPr/>
        </p:nvSpPr>
        <p:spPr>
          <a:xfrm>
            <a:off x="1056240" y="4343400"/>
            <a:ext cx="1038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rgentin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er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Urugua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nezuel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71"/>
          <p:cNvSpPr/>
          <p:nvPr/>
        </p:nvSpPr>
        <p:spPr>
          <a:xfrm>
            <a:off x="3314160" y="3706920"/>
            <a:ext cx="3242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150.000 personas encuestad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72"/>
          <p:cNvSpPr/>
          <p:nvPr/>
        </p:nvSpPr>
        <p:spPr>
          <a:xfrm>
            <a:off x="3214080" y="4302000"/>
            <a:ext cx="30459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1.300 expertos entrevist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73"/>
          <p:cNvSpPr/>
          <p:nvPr/>
        </p:nvSpPr>
        <p:spPr>
          <a:xfrm>
            <a:off x="2170800" y="4832280"/>
            <a:ext cx="38613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200 investigadores de todo el mun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74"/>
          <p:cNvSpPr/>
          <p:nvPr/>
        </p:nvSpPr>
        <p:spPr>
          <a:xfrm>
            <a:off x="449280" y="233280"/>
            <a:ext cx="41688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42 países participando en el GEM 2007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75"/>
          <p:cNvSpPr/>
          <p:nvPr/>
        </p:nvSpPr>
        <p:spPr>
          <a:xfrm>
            <a:off x="149400" y="3604680"/>
            <a:ext cx="159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Rep. Dominican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76"/>
          <p:cNvSpPr/>
          <p:nvPr/>
        </p:nvSpPr>
        <p:spPr>
          <a:xfrm>
            <a:off x="5892840" y="1201680"/>
            <a:ext cx="122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Kazajstá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eton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Ruman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erb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ailand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urquí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6"/>
          <p:cNvSpPr/>
          <p:nvPr/>
        </p:nvSpPr>
        <p:spPr>
          <a:xfrm>
            <a:off x="663480" y="577800"/>
            <a:ext cx="83361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571680" indent="-190800" algn="ctr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Objetivos del 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edir las diferencias en el nivel de actividad emprendedora entre los diferentes paí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contrar la correlación entre el nivel de actividad emprendedora y la tasa de crecimiento económico del país en cuest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cubrir los principales factores que permiten un nivel apropiado de actividad emprendedor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9044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dentificar políticas que pueden incrementar el nivel nacional de actividad emprendedor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41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 Emprendedora en Fases Tempranas   ( TEA 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153280" cy="5112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lvl="2" marL="1542960"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GEM estima el nivel total de involucramiento en la actividad emprendedora calculando 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índice de Actividad Emprendedora en Fases Tempranas (TEA)”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índice TEA es esencialmente la sumatoria 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9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mprendedores naciente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s de entre 18 y 64 años de edad, que están activamente involucradas en el establecimiento de un negocio del cual serán dueños y no han tenido personal en relación de dependencia por más de tres me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774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ueños y managers de una nueva firma,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han pagado salarios por más de tres meses y menos de 42 meses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74280" y="617400"/>
            <a:ext cx="842004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 Emprendedora en Fase Tempran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TEA prevalence) por país, 200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9" name="Object 3"/>
          <p:cNvGraphicFramePr/>
          <p:nvPr/>
        </p:nvGraphicFramePr>
        <p:xfrm>
          <a:off x="946080" y="1546200"/>
          <a:ext cx="765180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546200"/>
                    <a:ext cx="76518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1" name="Picture 4" descr="Bandera%2520Argentin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00960" y="4202280"/>
            <a:ext cx="36036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720720" y="1801440"/>
            <a:ext cx="8153280" cy="3424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nivel de actividad emprendedora varía entre los 42 países estudiados por el GEM 2007, indicando que el ratio de las personas involucradas en iniciar negocios va desde el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4%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s adultos en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ustri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1 en 42) al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6.9%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s adultos en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ailandi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1 en 4 persona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el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14.4%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1 en 7 adultos), está entre los 10 países más emprendedores de la muestr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448920"/>
            <a:ext cx="89913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 Emprendedora en Fase Temprana (TEA) para los 42 Países del GEM 2007, según Grupos de Ingre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4" name="Object 3"/>
          <p:cNvGraphicFramePr/>
          <p:nvPr/>
        </p:nvGraphicFramePr>
        <p:xfrm>
          <a:off x="390600" y="1925640"/>
          <a:ext cx="9210600" cy="43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925640"/>
                    <a:ext cx="9210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85360" y="455400"/>
            <a:ext cx="8418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 Emprendedora en Fase Temprana por Género para Diferentes Grupos de Edades, 200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7" name="Object 3"/>
          <p:cNvGraphicFramePr/>
          <p:nvPr/>
        </p:nvGraphicFramePr>
        <p:xfrm>
          <a:off x="549360" y="1790640"/>
          <a:ext cx="8632800" cy="42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790640"/>
                    <a:ext cx="863280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831960" y="1681200"/>
            <a:ext cx="8161200" cy="45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l marco del GEM, las personas participan en actividades emprendedoras fundamentalmente por dos razon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aprovechar una oportunidad percibi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que desean independenc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que quieren incrementar sus ingres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que otras opciones de trabajo les resultan ausentes o insatisfactori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que no tienen otra manera de ganarse la vi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que necesitan mantener sus ingres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title"/>
          </p:nvPr>
        </p:nvSpPr>
        <p:spPr>
          <a:xfrm>
            <a:off x="286920" y="912960"/>
            <a:ext cx="88297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ortunidad vs. Nece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1" name="Object 2"/>
          <p:cNvGraphicFramePr/>
          <p:nvPr/>
        </p:nvGraphicFramePr>
        <p:xfrm>
          <a:off x="0" y="1123920"/>
          <a:ext cx="934092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934092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Oval 3"/>
          <p:cNvSpPr/>
          <p:nvPr/>
        </p:nvSpPr>
        <p:spPr>
          <a:xfrm>
            <a:off x="4429080" y="5013360"/>
            <a:ext cx="185760" cy="787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4"/>
          <p:cNvSpPr/>
          <p:nvPr/>
        </p:nvSpPr>
        <p:spPr>
          <a:xfrm>
            <a:off x="2097000" y="4976640"/>
            <a:ext cx="185760" cy="787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5"/>
          <p:cNvSpPr/>
          <p:nvPr/>
        </p:nvSpPr>
        <p:spPr>
          <a:xfrm>
            <a:off x="1069920" y="5016600"/>
            <a:ext cx="187560" cy="515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6"/>
          <p:cNvSpPr/>
          <p:nvPr/>
        </p:nvSpPr>
        <p:spPr>
          <a:xfrm>
            <a:off x="2462040" y="5040360"/>
            <a:ext cx="185760" cy="66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987800"/>
            <a:ext cx="187200" cy="50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8"/>
          <p:cNvSpPr/>
          <p:nvPr/>
        </p:nvSpPr>
        <p:spPr>
          <a:xfrm>
            <a:off x="4656240" y="5059440"/>
            <a:ext cx="18576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9"/>
          <p:cNvSpPr/>
          <p:nvPr/>
        </p:nvSpPr>
        <p:spPr>
          <a:xfrm>
            <a:off x="3232080" y="5032440"/>
            <a:ext cx="187560" cy="6094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10"/>
          <p:cNvSpPr/>
          <p:nvPr/>
        </p:nvSpPr>
        <p:spPr>
          <a:xfrm>
            <a:off x="1336680" y="395280"/>
            <a:ext cx="770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GEM indica que Latinoamérica tiene altos índices de emprendimientos por necesidad. </a:t>
            </a:r>
            <a:br>
              <a:rPr sz="24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qué Entrepreneurship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3603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115000"/>
              </a:lnSpc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dmund S.Phelps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mio Nobel de Economía 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-51840">
              <a:lnSpc>
                <a:spcPct val="11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 un ferviente defensor de los emprendedores en s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-51840">
              <a:lnSpc>
                <a:spcPct val="11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o de desarrollo económico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-51840">
              <a:lnSpc>
                <a:spcPct val="11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 y muchos países en desarrollo están agobiando a sus emprendedores y deben detener esa práctica si pretenden incrementar su crecimiento económico y recortar el desempleo. Al mismo tiempo hacen muchas cosas que le hacen la vida difícil a los emprendedores"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157040" y="2468160"/>
            <a:ext cx="787068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ntrepreneurship y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Economía Glob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044720" y="1329840"/>
            <a:ext cx="7765920" cy="4392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 algn="just">
              <a:lnSpc>
                <a:spcPct val="97000"/>
              </a:lnSpc>
              <a:spcBef>
                <a:spcPts val="975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relación entre la actividad emprendedora el crecimiento económico es compleja, y ambos elementos se combinan en lo que llamamos “círculo virtuoso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0" algn="just">
              <a:lnSpc>
                <a:spcPct val="97000"/>
              </a:lnSpc>
              <a:spcBef>
                <a:spcPts val="975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0" algn="just">
              <a:lnSpc>
                <a:spcPct val="97000"/>
              </a:lnSpc>
              <a:spcBef>
                <a:spcPts val="975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actividad emprendedora contribuye al crecimiento económico y la riqueza de las naciones contribuye a la aparición de nuevos emprendimient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0" algn="just">
              <a:lnSpc>
                <a:spcPct val="97000"/>
              </a:lnSpc>
              <a:spcBef>
                <a:spcPts val="975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-51840" algn="just">
              <a:lnSpc>
                <a:spcPct val="97000"/>
              </a:lnSpc>
              <a:spcBef>
                <a:spcPts val="975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reporte del GEM demuestra en el 2007 y en años anteriores, que la relación entre el PBI per cápita y actividad emprendedora en fases tempranas presenta una curva en forma de 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98200" y="216000"/>
            <a:ext cx="8418600" cy="14997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Índices de Actividad Emprendedora en Fases Tempranas (TEA) y PBI per cápita, 2007</a:t>
            </a: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84" name="Object 3"/>
          <p:cNvGraphicFramePr/>
          <p:nvPr/>
        </p:nvGraphicFramePr>
        <p:xfrm>
          <a:off x="1015920" y="1639800"/>
          <a:ext cx="770580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639800"/>
                    <a:ext cx="7705800" cy="465768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9331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lación entre actividad económica y crecimiento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U Cur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47360" y="973080"/>
            <a:ext cx="8155080" cy="55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-52560" algn="just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En países con bajos niveles de ingreso, el sector emprendedor brinda oportunidades de empleo y posibilidades de creación de mercados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A medida que el ingreso per cápita se incrementa, la aparición de nuevas tecnologías, industrialización y economías de escala, favorecen la creación de empresas más grandes establecidas para satisfacer la creciente demanda de mercados en desarrollo, y así se incrementa su rol relativo en la economía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Al mismo tiempo, el número de start-ups decrece a medida que una mayor cantidad de gente encuentra empleos estables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Finalmente, cuando crece el ingreso, el rol jugado por el sector emprendedor vuelve a crecer, y más personas cuentan con los recursos para comenzar nuevos emprendimientos en un entorno económico que permite el aprovechamiento de las oportunidades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Arial"/>
              </a:rPr>
              <a:t>En economías con altos niveles de ingresos, con menores costos y un acelerado desarrollo de la tecnología, los emprendimientos disfrutan de una nueva ventaja competitiva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68040" y="153720"/>
            <a:ext cx="80931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 Emprendedora con Expectativas de Alto Crec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36600" y="687240"/>
            <a:ext cx="9004320" cy="546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estudios demuestran que relativamente pocos emprendimientos de fase temprana contribuyen en gran medida a la creación de nuevos empleo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etodología utilizada por el GEM permite la categorización de start-ups de acuerdo a sus pretensiones de crecimient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actividad emprendedora con grandes expectativas de crecimiento (HEA) representa a aquellos emprendimientos cuyos artífices esperan emplear al menos a 20 personas en los primeros 5 añ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lamente el 8% de todos los intentos de start-ups planifican crear 20 o más oportunidades de empleo, mientras que sólo el 3% espera generar 50 empleos o má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ntras el índice TEA promedio para los países participantes del GEM 2007 es 12,3%, solamente el 0,9% de la población adulta espera crear 20 o más oportunidades de empleo a través de sus emprendimient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920" y="194760"/>
            <a:ext cx="899136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aso Argentin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92280" y="1184040"/>
            <a:ext cx="8153280" cy="4964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04920" indent="-30492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gentina ha estado en el grupo de los países más emprendedores desde el inicio del GEM en el año 2000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2007, el 14,4% de la población adulta estuvo involucrada en actividades emprendedoras de fase tempran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os tercios de los emprendimientos estuvieron motivados por la oportunidad, y el tercio restante por la necesidad. Esto se ha modificado en los últimos añ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olítica de gobierno es el aspecto reconocido por los expertos como la principal debilidad, seguida por los mercados financieros. La apertura del mercado, las normas sociales y culturales y la educación son considerados las mayores fortaleza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7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acceso al capital es el aspecto más crítico según la perspectiva de los emprendedor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37760" y="631800"/>
            <a:ext cx="857268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en Argent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3" name="Object 3"/>
          <p:cNvGraphicFramePr/>
          <p:nvPr/>
        </p:nvGraphicFramePr>
        <p:xfrm>
          <a:off x="264960" y="1571760"/>
          <a:ext cx="89553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571760"/>
                    <a:ext cx="8955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Object 4"/>
          <p:cNvGraphicFramePr/>
          <p:nvPr/>
        </p:nvGraphicFramePr>
        <p:xfrm>
          <a:off x="8780400" y="196920"/>
          <a:ext cx="51444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80400" y="196920"/>
                    <a:ext cx="5144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emprende la gente en Argentina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8" name="Object 3"/>
          <p:cNvGraphicFramePr/>
          <p:nvPr/>
        </p:nvGraphicFramePr>
        <p:xfrm>
          <a:off x="1655640" y="1590840"/>
          <a:ext cx="672624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590840"/>
                    <a:ext cx="672624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4"/>
          <p:cNvGraphicFramePr/>
          <p:nvPr/>
        </p:nvGraphicFramePr>
        <p:xfrm>
          <a:off x="8793000" y="171360"/>
          <a:ext cx="514440" cy="3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93000" y="171360"/>
                    <a:ext cx="5144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920" y="3250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é pasa en los países de Latinoamérica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17560" y="963720"/>
            <a:ext cx="8153280" cy="607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reciente consenso sobre el rol crítico que la actividad emprendedora juega en el desarrollo económico y soci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a tasa de actividad emprendedora motivada por necesid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condicionamientos negativ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ceso limitado a los mercados de capi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ta percepción de riesgo. Altas tasas de interé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lta de capital de riesg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ilidad de los mercados de val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xcesivas regulaciones, cargas fiscales y sociales para l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uev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mpres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rcados de trabajo no flexib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fícil acceso a tecnologías e información adecuad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lta de reglas claras económicas estables y transparen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ilidad instituciona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rrupción endémi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306360" y="2427120"/>
            <a:ext cx="8961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Fuerte capital huma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Oportunidades para firmas jóvenes, con nuevas tecnologías para desplazar a las establecid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Conocimiento: la clave del futur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Importancia del rol del gobierno en el apoyo y la promoción de la innovación a través del entrepreneurship.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Crecimiento del respeto y aceptación del emprendedor como un modelo soci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  <a:ea typeface="Lucida Sans Unicode"/>
              </a:rPr>
              <a:t>Promoción de la transferencia tecnológ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8280" indent="-26676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368280"/>
                <a:tab algn="l" pos="825480"/>
                <a:tab algn="l" pos="1282680"/>
                <a:tab algn="l" pos="1739880"/>
                <a:tab algn="l" pos="2197080"/>
                <a:tab algn="l" pos="2654280"/>
                <a:tab algn="l" pos="3111480"/>
                <a:tab algn="l" pos="3568680"/>
                <a:tab algn="l" pos="4025880"/>
                <a:tab algn="l" pos="4483080"/>
                <a:tab algn="l" pos="4940280"/>
                <a:tab algn="l" pos="5397480"/>
                <a:tab algn="l" pos="5854680"/>
                <a:tab algn="l" pos="6311880"/>
                <a:tab algn="l" pos="6769080"/>
                <a:tab algn="l" pos="7226280"/>
                <a:tab algn="l" pos="7683480"/>
                <a:tab algn="l" pos="8140680"/>
                <a:tab algn="l" pos="8597880"/>
                <a:tab algn="l" pos="9055080"/>
                <a:tab algn="l" pos="951228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277920" y="949320"/>
            <a:ext cx="907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safío: ponerse al día con los avances tecnológicos a través del entrepreneurship en Latinoaméric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43080" y="5932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qué Entrepreneurship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63120" y="1446120"/>
            <a:ext cx="8153640" cy="822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que la actividad emprendedora juega un rol vital en el desarrollo económico y social de los paí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85800" y="3321000"/>
            <a:ext cx="8305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00"/>
                </a:solidFill>
                <a:latin typeface="Arial"/>
              </a:rPr>
              <a:t>"White Paper" del gobierno de Inglaterra.- Nuestro futuro competitivo: Construir la economía dirigida por el conocimiento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"El ESPÍRITU EMPRENDEDOR y la innovación son centrales para el proceso creativo en la economía y para la promoción del crecimiento, incrementando la productividad y creando empleo. Los emprendedores perciben las oportunidades y toman riesgos al enfrentar la incertidumbre para abrir nuevos mercados, diseñar productos y desarrollar procesos innovadore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AutoShape 5"/>
          <p:cNvSpPr/>
          <p:nvPr/>
        </p:nvSpPr>
        <p:spPr>
          <a:xfrm flipV="1">
            <a:off x="3962520" y="2609280"/>
            <a:ext cx="1562040" cy="36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1920" y="318960"/>
            <a:ext cx="9277560" cy="78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RA PROSPERAR, LA ACTIVIDAD EMPRENDEDORA DEBE VENCER BARRERAS EN PAÍSES EN VÍA DE DESARROLL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Rectangle 3"/>
          <p:cNvSpPr/>
          <p:nvPr/>
        </p:nvSpPr>
        <p:spPr>
          <a:xfrm>
            <a:off x="7746840" y="2657520"/>
            <a:ext cx="755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4"/>
          <p:cNvSpPr/>
          <p:nvPr/>
        </p:nvSpPr>
        <p:spPr>
          <a:xfrm>
            <a:off x="74520" y="2722680"/>
            <a:ext cx="1536840" cy="1006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PORTUNIDA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5"/>
          <p:cNvSpPr/>
          <p:nvPr/>
        </p:nvSpPr>
        <p:spPr>
          <a:xfrm>
            <a:off x="7767720" y="2709720"/>
            <a:ext cx="1725480" cy="100656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ÉXITO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NDE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6"/>
          <p:cNvSpPr/>
          <p:nvPr/>
        </p:nvSpPr>
        <p:spPr>
          <a:xfrm>
            <a:off x="1690560" y="3046320"/>
            <a:ext cx="6048360" cy="328680"/>
          </a:xfrm>
          <a:prstGeom prst="rightArrow">
            <a:avLst>
              <a:gd name="adj1" fmla="val 61352"/>
              <a:gd name="adj2" fmla="val 32407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7"/>
          <p:cNvSpPr/>
          <p:nvPr/>
        </p:nvSpPr>
        <p:spPr>
          <a:xfrm>
            <a:off x="1650960" y="4791240"/>
            <a:ext cx="13716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alta </a:t>
            </a:r>
            <a:br>
              <a:rPr sz="1400"/>
            </a:b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e redes </a:t>
            </a:r>
            <a:br>
              <a:rPr sz="1400"/>
            </a:b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e contact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8"/>
          <p:cNvGrpSpPr/>
          <p:nvPr/>
        </p:nvGrpSpPr>
        <p:grpSpPr>
          <a:xfrm>
            <a:off x="1739880" y="1895400"/>
            <a:ext cx="942840" cy="549360"/>
            <a:chOff x="1739880" y="1895400"/>
            <a:chExt cx="942840" cy="549360"/>
          </a:xfrm>
        </p:grpSpPr>
        <p:sp>
          <p:nvSpPr>
            <p:cNvPr id="1013" name="Freeform 9"/>
            <p:cNvSpPr/>
            <p:nvPr/>
          </p:nvSpPr>
          <p:spPr>
            <a:xfrm>
              <a:off x="1739880" y="1895400"/>
              <a:ext cx="942840" cy="324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10"/>
            <p:cNvSpPr/>
            <p:nvPr/>
          </p:nvSpPr>
          <p:spPr>
            <a:xfrm>
              <a:off x="1741320" y="2197080"/>
              <a:ext cx="366840" cy="247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1"/>
            <p:cNvSpPr/>
            <p:nvPr/>
          </p:nvSpPr>
          <p:spPr>
            <a:xfrm>
              <a:off x="2095560" y="1895400"/>
              <a:ext cx="582480" cy="54756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6" name="Group 12"/>
          <p:cNvGrpSpPr/>
          <p:nvPr/>
        </p:nvGrpSpPr>
        <p:grpSpPr>
          <a:xfrm>
            <a:off x="1817640" y="1971720"/>
            <a:ext cx="772920" cy="2660400"/>
            <a:chOff x="1817640" y="1971720"/>
            <a:chExt cx="772920" cy="2660400"/>
          </a:xfrm>
        </p:grpSpPr>
        <p:sp>
          <p:nvSpPr>
            <p:cNvPr id="1017" name="Rectangle 13"/>
            <p:cNvSpPr/>
            <p:nvPr/>
          </p:nvSpPr>
          <p:spPr>
            <a:xfrm flipH="1">
              <a:off x="1827720" y="2271600"/>
              <a:ext cx="284760" cy="2360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4"/>
            <p:cNvSpPr/>
            <p:nvPr/>
          </p:nvSpPr>
          <p:spPr>
            <a:xfrm>
              <a:off x="2113560" y="1971720"/>
              <a:ext cx="467280" cy="26604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5"/>
            <p:cNvSpPr/>
            <p:nvPr/>
          </p:nvSpPr>
          <p:spPr>
            <a:xfrm>
              <a:off x="1833120" y="2271600"/>
              <a:ext cx="286560" cy="268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Rectangle 16"/>
            <p:cNvSpPr/>
            <p:nvPr/>
          </p:nvSpPr>
          <p:spPr>
            <a:xfrm flipH="1">
              <a:off x="1976040" y="2617560"/>
              <a:ext cx="13752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17"/>
            <p:cNvSpPr/>
            <p:nvPr/>
          </p:nvSpPr>
          <p:spPr>
            <a:xfrm flipH="1">
              <a:off x="1820520" y="2612880"/>
              <a:ext cx="144000" cy="141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18"/>
            <p:cNvSpPr/>
            <p:nvPr/>
          </p:nvSpPr>
          <p:spPr>
            <a:xfrm flipH="1">
              <a:off x="1895760" y="2458800"/>
              <a:ext cx="14436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19"/>
            <p:cNvSpPr/>
            <p:nvPr/>
          </p:nvSpPr>
          <p:spPr>
            <a:xfrm flipH="1">
              <a:off x="1818720" y="2455560"/>
              <a:ext cx="7272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0"/>
            <p:cNvSpPr/>
            <p:nvPr/>
          </p:nvSpPr>
          <p:spPr>
            <a:xfrm flipH="1">
              <a:off x="2048040" y="2455560"/>
              <a:ext cx="7236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21"/>
            <p:cNvSpPr/>
            <p:nvPr/>
          </p:nvSpPr>
          <p:spPr>
            <a:xfrm flipH="1">
              <a:off x="1970640" y="2295360"/>
              <a:ext cx="142200" cy="141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22"/>
            <p:cNvSpPr/>
            <p:nvPr/>
          </p:nvSpPr>
          <p:spPr>
            <a:xfrm flipH="1">
              <a:off x="1817640" y="2298600"/>
              <a:ext cx="14400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23"/>
            <p:cNvSpPr/>
            <p:nvPr/>
          </p:nvSpPr>
          <p:spPr>
            <a:xfrm flipH="1">
              <a:off x="1976040" y="2930400"/>
              <a:ext cx="13752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24"/>
            <p:cNvSpPr/>
            <p:nvPr/>
          </p:nvSpPr>
          <p:spPr>
            <a:xfrm flipH="1">
              <a:off x="1820520" y="2928960"/>
              <a:ext cx="145440" cy="13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25"/>
            <p:cNvSpPr/>
            <p:nvPr/>
          </p:nvSpPr>
          <p:spPr>
            <a:xfrm flipH="1">
              <a:off x="1898280" y="2773080"/>
              <a:ext cx="14400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Rectangle 26"/>
            <p:cNvSpPr/>
            <p:nvPr/>
          </p:nvSpPr>
          <p:spPr>
            <a:xfrm flipH="1">
              <a:off x="1819800" y="2771640"/>
              <a:ext cx="72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Rectangle 27"/>
            <p:cNvSpPr/>
            <p:nvPr/>
          </p:nvSpPr>
          <p:spPr>
            <a:xfrm flipH="1">
              <a:off x="2049480" y="2771640"/>
              <a:ext cx="6300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Rectangle 28"/>
            <p:cNvSpPr/>
            <p:nvPr/>
          </p:nvSpPr>
          <p:spPr>
            <a:xfrm flipH="1">
              <a:off x="1975320" y="3238200"/>
              <a:ext cx="13932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Rectangle 29"/>
            <p:cNvSpPr/>
            <p:nvPr/>
          </p:nvSpPr>
          <p:spPr>
            <a:xfrm flipH="1">
              <a:off x="1820520" y="3235320"/>
              <a:ext cx="14544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0"/>
            <p:cNvSpPr/>
            <p:nvPr/>
          </p:nvSpPr>
          <p:spPr>
            <a:xfrm flipH="1">
              <a:off x="1898280" y="3079800"/>
              <a:ext cx="14400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Rectangle 31"/>
            <p:cNvSpPr/>
            <p:nvPr/>
          </p:nvSpPr>
          <p:spPr>
            <a:xfrm flipH="1">
              <a:off x="1819800" y="3078000"/>
              <a:ext cx="7236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Rectangle 32"/>
            <p:cNvSpPr/>
            <p:nvPr/>
          </p:nvSpPr>
          <p:spPr>
            <a:xfrm flipH="1">
              <a:off x="2050200" y="3078000"/>
              <a:ext cx="6480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Rectangle 33"/>
            <p:cNvSpPr/>
            <p:nvPr/>
          </p:nvSpPr>
          <p:spPr>
            <a:xfrm flipH="1">
              <a:off x="1977480" y="3554280"/>
              <a:ext cx="13608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34"/>
            <p:cNvSpPr/>
            <p:nvPr/>
          </p:nvSpPr>
          <p:spPr>
            <a:xfrm flipH="1">
              <a:off x="1822680" y="354960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5"/>
            <p:cNvSpPr/>
            <p:nvPr/>
          </p:nvSpPr>
          <p:spPr>
            <a:xfrm flipH="1">
              <a:off x="1899720" y="3395520"/>
              <a:ext cx="14400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36"/>
            <p:cNvSpPr/>
            <p:nvPr/>
          </p:nvSpPr>
          <p:spPr>
            <a:xfrm flipH="1">
              <a:off x="1820520" y="3394080"/>
              <a:ext cx="741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ectangle 37"/>
            <p:cNvSpPr/>
            <p:nvPr/>
          </p:nvSpPr>
          <p:spPr>
            <a:xfrm flipH="1">
              <a:off x="2053440" y="3394080"/>
              <a:ext cx="597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Rectangle 38"/>
            <p:cNvSpPr/>
            <p:nvPr/>
          </p:nvSpPr>
          <p:spPr>
            <a:xfrm flipH="1">
              <a:off x="1975320" y="3863880"/>
              <a:ext cx="13932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39"/>
            <p:cNvSpPr/>
            <p:nvPr/>
          </p:nvSpPr>
          <p:spPr>
            <a:xfrm flipH="1">
              <a:off x="1820520" y="3860640"/>
              <a:ext cx="14400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40"/>
            <p:cNvSpPr/>
            <p:nvPr/>
          </p:nvSpPr>
          <p:spPr>
            <a:xfrm flipH="1">
              <a:off x="1895760" y="3705120"/>
              <a:ext cx="144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41"/>
            <p:cNvSpPr/>
            <p:nvPr/>
          </p:nvSpPr>
          <p:spPr>
            <a:xfrm flipH="1">
              <a:off x="1818720" y="3703680"/>
              <a:ext cx="7272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42"/>
            <p:cNvSpPr/>
            <p:nvPr/>
          </p:nvSpPr>
          <p:spPr>
            <a:xfrm flipH="1">
              <a:off x="1975320" y="4178160"/>
              <a:ext cx="13932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43"/>
            <p:cNvSpPr/>
            <p:nvPr/>
          </p:nvSpPr>
          <p:spPr>
            <a:xfrm flipH="1">
              <a:off x="1820520" y="4174920"/>
              <a:ext cx="14544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44"/>
            <p:cNvSpPr/>
            <p:nvPr/>
          </p:nvSpPr>
          <p:spPr>
            <a:xfrm flipH="1">
              <a:off x="1898280" y="4019400"/>
              <a:ext cx="14400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45"/>
            <p:cNvSpPr/>
            <p:nvPr/>
          </p:nvSpPr>
          <p:spPr>
            <a:xfrm flipH="1">
              <a:off x="1819800" y="4016160"/>
              <a:ext cx="723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46"/>
            <p:cNvSpPr/>
            <p:nvPr/>
          </p:nvSpPr>
          <p:spPr>
            <a:xfrm flipH="1">
              <a:off x="2049480" y="4016160"/>
              <a:ext cx="6300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47"/>
            <p:cNvSpPr/>
            <p:nvPr/>
          </p:nvSpPr>
          <p:spPr>
            <a:xfrm flipH="1">
              <a:off x="1976040" y="4486320"/>
              <a:ext cx="13752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48"/>
            <p:cNvSpPr/>
            <p:nvPr/>
          </p:nvSpPr>
          <p:spPr>
            <a:xfrm flipH="1">
              <a:off x="1820520" y="4481280"/>
              <a:ext cx="145440" cy="13824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49"/>
            <p:cNvSpPr/>
            <p:nvPr/>
          </p:nvSpPr>
          <p:spPr>
            <a:xfrm flipH="1">
              <a:off x="1898280" y="4325760"/>
              <a:ext cx="14400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50"/>
            <p:cNvSpPr/>
            <p:nvPr/>
          </p:nvSpPr>
          <p:spPr>
            <a:xfrm flipH="1">
              <a:off x="1819800" y="4324320"/>
              <a:ext cx="72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51"/>
            <p:cNvSpPr/>
            <p:nvPr/>
          </p:nvSpPr>
          <p:spPr>
            <a:xfrm flipH="1">
              <a:off x="2050200" y="4324320"/>
              <a:ext cx="6480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52"/>
            <p:cNvSpPr/>
            <p:nvPr/>
          </p:nvSpPr>
          <p:spPr>
            <a:xfrm>
              <a:off x="2113560" y="4441680"/>
              <a:ext cx="3960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53"/>
            <p:cNvSpPr/>
            <p:nvPr/>
          </p:nvSpPr>
          <p:spPr>
            <a:xfrm>
              <a:off x="2159640" y="4263840"/>
              <a:ext cx="118800" cy="2937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54"/>
            <p:cNvSpPr/>
            <p:nvPr/>
          </p:nvSpPr>
          <p:spPr>
            <a:xfrm>
              <a:off x="2283120" y="4101840"/>
              <a:ext cx="120240" cy="28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55"/>
            <p:cNvSpPr/>
            <p:nvPr/>
          </p:nvSpPr>
          <p:spPr>
            <a:xfrm>
              <a:off x="2408400" y="3936960"/>
              <a:ext cx="118440" cy="2746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56"/>
            <p:cNvSpPr/>
            <p:nvPr/>
          </p:nvSpPr>
          <p:spPr>
            <a:xfrm>
              <a:off x="2530440" y="3849480"/>
              <a:ext cx="60120" cy="195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57"/>
            <p:cNvSpPr/>
            <p:nvPr/>
          </p:nvSpPr>
          <p:spPr>
            <a:xfrm>
              <a:off x="2113560" y="2279520"/>
              <a:ext cx="39600" cy="150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58"/>
            <p:cNvSpPr/>
            <p:nvPr/>
          </p:nvSpPr>
          <p:spPr>
            <a:xfrm>
              <a:off x="2159640" y="2192040"/>
              <a:ext cx="118800" cy="204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59"/>
            <p:cNvSpPr/>
            <p:nvPr/>
          </p:nvSpPr>
          <p:spPr>
            <a:xfrm>
              <a:off x="2283120" y="2109600"/>
              <a:ext cx="120240" cy="20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60"/>
            <p:cNvSpPr/>
            <p:nvPr/>
          </p:nvSpPr>
          <p:spPr>
            <a:xfrm>
              <a:off x="2408400" y="2025360"/>
              <a:ext cx="118440" cy="196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61"/>
            <p:cNvSpPr/>
            <p:nvPr/>
          </p:nvSpPr>
          <p:spPr>
            <a:xfrm>
              <a:off x="2530440" y="1987560"/>
              <a:ext cx="60120" cy="15228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62"/>
            <p:cNvSpPr/>
            <p:nvPr/>
          </p:nvSpPr>
          <p:spPr>
            <a:xfrm>
              <a:off x="2159640" y="2485800"/>
              <a:ext cx="118800" cy="220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63"/>
            <p:cNvSpPr/>
            <p:nvPr/>
          </p:nvSpPr>
          <p:spPr>
            <a:xfrm>
              <a:off x="2283120" y="2395440"/>
              <a:ext cx="120240" cy="2109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64"/>
            <p:cNvSpPr/>
            <p:nvPr/>
          </p:nvSpPr>
          <p:spPr>
            <a:xfrm>
              <a:off x="2408400" y="2298600"/>
              <a:ext cx="118440" cy="2095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65"/>
            <p:cNvSpPr/>
            <p:nvPr/>
          </p:nvSpPr>
          <p:spPr>
            <a:xfrm>
              <a:off x="2530440" y="2255760"/>
              <a:ext cx="60120" cy="156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66"/>
            <p:cNvSpPr/>
            <p:nvPr/>
          </p:nvSpPr>
          <p:spPr>
            <a:xfrm>
              <a:off x="2113560" y="2896920"/>
              <a:ext cx="396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67"/>
            <p:cNvSpPr/>
            <p:nvPr/>
          </p:nvSpPr>
          <p:spPr>
            <a:xfrm>
              <a:off x="2159640" y="2784240"/>
              <a:ext cx="118800" cy="23040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68"/>
            <p:cNvSpPr/>
            <p:nvPr/>
          </p:nvSpPr>
          <p:spPr>
            <a:xfrm>
              <a:off x="2283120" y="2674800"/>
              <a:ext cx="120240" cy="227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69"/>
            <p:cNvSpPr/>
            <p:nvPr/>
          </p:nvSpPr>
          <p:spPr>
            <a:xfrm>
              <a:off x="2408400" y="2571480"/>
              <a:ext cx="118440" cy="2224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70"/>
            <p:cNvSpPr/>
            <p:nvPr/>
          </p:nvSpPr>
          <p:spPr>
            <a:xfrm>
              <a:off x="2530440" y="2519280"/>
              <a:ext cx="60120" cy="164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71"/>
            <p:cNvSpPr/>
            <p:nvPr/>
          </p:nvSpPr>
          <p:spPr>
            <a:xfrm>
              <a:off x="2115360" y="3200400"/>
              <a:ext cx="37800" cy="16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72"/>
            <p:cNvSpPr/>
            <p:nvPr/>
          </p:nvSpPr>
          <p:spPr>
            <a:xfrm>
              <a:off x="2159640" y="3081240"/>
              <a:ext cx="118800" cy="239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73"/>
            <p:cNvSpPr/>
            <p:nvPr/>
          </p:nvSpPr>
          <p:spPr>
            <a:xfrm>
              <a:off x="2283120" y="2963880"/>
              <a:ext cx="12024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74"/>
            <p:cNvSpPr/>
            <p:nvPr/>
          </p:nvSpPr>
          <p:spPr>
            <a:xfrm>
              <a:off x="2408400" y="2842920"/>
              <a:ext cx="118440" cy="23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75"/>
            <p:cNvSpPr/>
            <p:nvPr/>
          </p:nvSpPr>
          <p:spPr>
            <a:xfrm>
              <a:off x="2530440" y="2784240"/>
              <a:ext cx="60120" cy="1699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76"/>
            <p:cNvSpPr/>
            <p:nvPr/>
          </p:nvSpPr>
          <p:spPr>
            <a:xfrm>
              <a:off x="2113560" y="3511440"/>
              <a:ext cx="3960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77"/>
            <p:cNvSpPr/>
            <p:nvPr/>
          </p:nvSpPr>
          <p:spPr>
            <a:xfrm>
              <a:off x="2159640" y="3378240"/>
              <a:ext cx="11880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78"/>
            <p:cNvSpPr/>
            <p:nvPr/>
          </p:nvSpPr>
          <p:spPr>
            <a:xfrm>
              <a:off x="2283120" y="3247920"/>
              <a:ext cx="12024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79"/>
            <p:cNvSpPr/>
            <p:nvPr/>
          </p:nvSpPr>
          <p:spPr>
            <a:xfrm>
              <a:off x="2408400" y="3116160"/>
              <a:ext cx="118440" cy="244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80"/>
            <p:cNvSpPr/>
            <p:nvPr/>
          </p:nvSpPr>
          <p:spPr>
            <a:xfrm>
              <a:off x="2530440" y="3051000"/>
              <a:ext cx="60120" cy="17640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81"/>
            <p:cNvSpPr/>
            <p:nvPr/>
          </p:nvSpPr>
          <p:spPr>
            <a:xfrm>
              <a:off x="2115360" y="3825720"/>
              <a:ext cx="3924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82"/>
            <p:cNvSpPr/>
            <p:nvPr/>
          </p:nvSpPr>
          <p:spPr>
            <a:xfrm>
              <a:off x="2159640" y="3673440"/>
              <a:ext cx="118800" cy="264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83"/>
            <p:cNvSpPr/>
            <p:nvPr/>
          </p:nvSpPr>
          <p:spPr>
            <a:xfrm>
              <a:off x="2283120" y="3531960"/>
              <a:ext cx="120240" cy="257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84"/>
            <p:cNvSpPr/>
            <p:nvPr/>
          </p:nvSpPr>
          <p:spPr>
            <a:xfrm>
              <a:off x="2408400" y="3386160"/>
              <a:ext cx="120240" cy="258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85"/>
            <p:cNvSpPr/>
            <p:nvPr/>
          </p:nvSpPr>
          <p:spPr>
            <a:xfrm>
              <a:off x="2530440" y="3319200"/>
              <a:ext cx="60120" cy="177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86"/>
            <p:cNvSpPr/>
            <p:nvPr/>
          </p:nvSpPr>
          <p:spPr>
            <a:xfrm>
              <a:off x="2115360" y="4125960"/>
              <a:ext cx="37800" cy="183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159640" y="3970080"/>
              <a:ext cx="118800" cy="276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88"/>
            <p:cNvSpPr/>
            <p:nvPr/>
          </p:nvSpPr>
          <p:spPr>
            <a:xfrm>
              <a:off x="2283120" y="3817800"/>
              <a:ext cx="120240" cy="268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89"/>
            <p:cNvSpPr/>
            <p:nvPr/>
          </p:nvSpPr>
          <p:spPr>
            <a:xfrm>
              <a:off x="2408400" y="3665520"/>
              <a:ext cx="118440" cy="26172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90"/>
            <p:cNvSpPr/>
            <p:nvPr/>
          </p:nvSpPr>
          <p:spPr>
            <a:xfrm>
              <a:off x="2530440" y="3590640"/>
              <a:ext cx="6012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91"/>
            <p:cNvSpPr/>
            <p:nvPr/>
          </p:nvSpPr>
          <p:spPr>
            <a:xfrm>
              <a:off x="2492280" y="3720960"/>
              <a:ext cx="9828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92"/>
            <p:cNvSpPr/>
            <p:nvPr/>
          </p:nvSpPr>
          <p:spPr>
            <a:xfrm>
              <a:off x="2115360" y="4152600"/>
              <a:ext cx="132840" cy="300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93"/>
            <p:cNvSpPr/>
            <p:nvPr/>
          </p:nvSpPr>
          <p:spPr>
            <a:xfrm>
              <a:off x="2252880" y="4006800"/>
              <a:ext cx="110880" cy="266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94"/>
            <p:cNvSpPr/>
            <p:nvPr/>
          </p:nvSpPr>
          <p:spPr>
            <a:xfrm>
              <a:off x="2370600" y="3854160"/>
              <a:ext cx="117000" cy="2620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95"/>
            <p:cNvSpPr/>
            <p:nvPr/>
          </p:nvSpPr>
          <p:spPr>
            <a:xfrm>
              <a:off x="2487600" y="2120760"/>
              <a:ext cx="10296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96"/>
            <p:cNvSpPr/>
            <p:nvPr/>
          </p:nvSpPr>
          <p:spPr>
            <a:xfrm>
              <a:off x="2248200" y="2280960"/>
              <a:ext cx="110880" cy="20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97"/>
            <p:cNvSpPr/>
            <p:nvPr/>
          </p:nvSpPr>
          <p:spPr>
            <a:xfrm>
              <a:off x="2364120" y="2195280"/>
              <a:ext cx="118800" cy="201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98"/>
            <p:cNvSpPr/>
            <p:nvPr/>
          </p:nvSpPr>
          <p:spPr>
            <a:xfrm>
              <a:off x="2487600" y="2384280"/>
              <a:ext cx="102960" cy="20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99"/>
            <p:cNvSpPr/>
            <p:nvPr/>
          </p:nvSpPr>
          <p:spPr>
            <a:xfrm>
              <a:off x="2113560" y="2666880"/>
              <a:ext cx="13140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00"/>
            <p:cNvSpPr/>
            <p:nvPr/>
          </p:nvSpPr>
          <p:spPr>
            <a:xfrm>
              <a:off x="2248200" y="2573280"/>
              <a:ext cx="110880" cy="214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01"/>
            <p:cNvSpPr/>
            <p:nvPr/>
          </p:nvSpPr>
          <p:spPr>
            <a:xfrm>
              <a:off x="2364120" y="2474640"/>
              <a:ext cx="118800" cy="214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02"/>
            <p:cNvSpPr/>
            <p:nvPr/>
          </p:nvSpPr>
          <p:spPr>
            <a:xfrm>
              <a:off x="2487600" y="2651040"/>
              <a:ext cx="10296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103"/>
            <p:cNvSpPr/>
            <p:nvPr/>
          </p:nvSpPr>
          <p:spPr>
            <a:xfrm>
              <a:off x="2248200" y="2860560"/>
              <a:ext cx="110880" cy="227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104"/>
            <p:cNvSpPr/>
            <p:nvPr/>
          </p:nvSpPr>
          <p:spPr>
            <a:xfrm>
              <a:off x="2364120" y="2749320"/>
              <a:ext cx="11880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05"/>
            <p:cNvSpPr/>
            <p:nvPr/>
          </p:nvSpPr>
          <p:spPr>
            <a:xfrm>
              <a:off x="2492280" y="2919240"/>
              <a:ext cx="9828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06"/>
            <p:cNvSpPr/>
            <p:nvPr/>
          </p:nvSpPr>
          <p:spPr>
            <a:xfrm>
              <a:off x="2113560" y="3259080"/>
              <a:ext cx="134640" cy="261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07"/>
            <p:cNvSpPr/>
            <p:nvPr/>
          </p:nvSpPr>
          <p:spPr>
            <a:xfrm>
              <a:off x="2252880" y="3144600"/>
              <a:ext cx="110880" cy="238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08"/>
            <p:cNvSpPr/>
            <p:nvPr/>
          </p:nvSpPr>
          <p:spPr>
            <a:xfrm>
              <a:off x="2370600" y="3020760"/>
              <a:ext cx="117000" cy="2350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09"/>
            <p:cNvSpPr/>
            <p:nvPr/>
          </p:nvSpPr>
          <p:spPr>
            <a:xfrm>
              <a:off x="2492280" y="3184560"/>
              <a:ext cx="98280" cy="218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10"/>
            <p:cNvSpPr/>
            <p:nvPr/>
          </p:nvSpPr>
          <p:spPr>
            <a:xfrm>
              <a:off x="2113560" y="3555720"/>
              <a:ext cx="134640" cy="273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11"/>
            <p:cNvSpPr/>
            <p:nvPr/>
          </p:nvSpPr>
          <p:spPr>
            <a:xfrm>
              <a:off x="2252880" y="3429000"/>
              <a:ext cx="110880" cy="2523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12"/>
            <p:cNvSpPr/>
            <p:nvPr/>
          </p:nvSpPr>
          <p:spPr>
            <a:xfrm>
              <a:off x="2370600" y="3297240"/>
              <a:ext cx="117000" cy="249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13"/>
            <p:cNvSpPr/>
            <p:nvPr/>
          </p:nvSpPr>
          <p:spPr>
            <a:xfrm>
              <a:off x="2492280" y="3449520"/>
              <a:ext cx="98280" cy="239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14"/>
            <p:cNvSpPr/>
            <p:nvPr/>
          </p:nvSpPr>
          <p:spPr>
            <a:xfrm>
              <a:off x="2113560" y="3855960"/>
              <a:ext cx="134640" cy="290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15"/>
            <p:cNvSpPr/>
            <p:nvPr/>
          </p:nvSpPr>
          <p:spPr>
            <a:xfrm>
              <a:off x="2252880" y="3720960"/>
              <a:ext cx="110880" cy="258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16"/>
            <p:cNvSpPr/>
            <p:nvPr/>
          </p:nvSpPr>
          <p:spPr>
            <a:xfrm>
              <a:off x="2370600" y="3578040"/>
              <a:ext cx="11700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17"/>
            <p:cNvSpPr/>
            <p:nvPr/>
          </p:nvSpPr>
          <p:spPr>
            <a:xfrm>
              <a:off x="2115360" y="2363760"/>
              <a:ext cx="12816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18"/>
            <p:cNvSpPr/>
            <p:nvPr/>
          </p:nvSpPr>
          <p:spPr>
            <a:xfrm>
              <a:off x="2113560" y="2582640"/>
              <a:ext cx="4104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19"/>
            <p:cNvSpPr/>
            <p:nvPr/>
          </p:nvSpPr>
          <p:spPr>
            <a:xfrm>
              <a:off x="2115360" y="2963880"/>
              <a:ext cx="12816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Rectangle 120"/>
            <p:cNvSpPr/>
            <p:nvPr/>
          </p:nvSpPr>
          <p:spPr>
            <a:xfrm flipH="1">
              <a:off x="2050200" y="3703680"/>
              <a:ext cx="6480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5" name="Rectangle 121"/>
          <p:cNvSpPr/>
          <p:nvPr/>
        </p:nvSpPr>
        <p:spPr>
          <a:xfrm>
            <a:off x="3022560" y="4791240"/>
            <a:ext cx="121932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cceso limitad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 capit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6" name="Group 122"/>
          <p:cNvGrpSpPr/>
          <p:nvPr/>
        </p:nvGrpSpPr>
        <p:grpSpPr>
          <a:xfrm>
            <a:off x="3060720" y="1895400"/>
            <a:ext cx="942840" cy="2737080"/>
            <a:chOff x="3060720" y="1895400"/>
            <a:chExt cx="942840" cy="2737080"/>
          </a:xfrm>
        </p:grpSpPr>
        <p:grpSp>
          <p:nvGrpSpPr>
            <p:cNvPr id="1127" name="Group 123"/>
            <p:cNvGrpSpPr/>
            <p:nvPr/>
          </p:nvGrpSpPr>
          <p:grpSpPr>
            <a:xfrm>
              <a:off x="3060720" y="1895400"/>
              <a:ext cx="942840" cy="549360"/>
              <a:chOff x="3060720" y="1895400"/>
              <a:chExt cx="942840" cy="549360"/>
            </a:xfrm>
          </p:grpSpPr>
          <p:sp>
            <p:nvSpPr>
              <p:cNvPr id="1128" name="Freeform 124"/>
              <p:cNvSpPr/>
              <p:nvPr/>
            </p:nvSpPr>
            <p:spPr>
              <a:xfrm>
                <a:off x="3060720" y="1895400"/>
                <a:ext cx="942840" cy="32400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25"/>
              <p:cNvSpPr/>
              <p:nvPr/>
            </p:nvSpPr>
            <p:spPr>
              <a:xfrm>
                <a:off x="3062160" y="2197080"/>
                <a:ext cx="366840" cy="2476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26"/>
              <p:cNvSpPr/>
              <p:nvPr/>
            </p:nvSpPr>
            <p:spPr>
              <a:xfrm>
                <a:off x="3416040" y="1895400"/>
                <a:ext cx="582840" cy="5479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127"/>
            <p:cNvGrpSpPr/>
            <p:nvPr/>
          </p:nvGrpSpPr>
          <p:grpSpPr>
            <a:xfrm>
              <a:off x="3136680" y="1971720"/>
              <a:ext cx="775080" cy="2660760"/>
              <a:chOff x="3136680" y="1971720"/>
              <a:chExt cx="775080" cy="2660760"/>
            </a:xfrm>
          </p:grpSpPr>
          <p:sp>
            <p:nvSpPr>
              <p:cNvPr id="1132" name="Rectangle 128"/>
              <p:cNvSpPr/>
              <p:nvPr/>
            </p:nvSpPr>
            <p:spPr>
              <a:xfrm flipH="1">
                <a:off x="3147480" y="2271960"/>
                <a:ext cx="285480" cy="236052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29"/>
              <p:cNvSpPr/>
              <p:nvPr/>
            </p:nvSpPr>
            <p:spPr>
              <a:xfrm>
                <a:off x="3433680" y="1971720"/>
                <a:ext cx="468360" cy="26607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30"/>
              <p:cNvSpPr/>
              <p:nvPr/>
            </p:nvSpPr>
            <p:spPr>
              <a:xfrm>
                <a:off x="3152880" y="2271960"/>
                <a:ext cx="287280" cy="268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Rectangle 131"/>
              <p:cNvSpPr/>
              <p:nvPr/>
            </p:nvSpPr>
            <p:spPr>
              <a:xfrm flipH="1">
                <a:off x="3295080" y="2617920"/>
                <a:ext cx="13788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Rectangle 132"/>
              <p:cNvSpPr/>
              <p:nvPr/>
            </p:nvSpPr>
            <p:spPr>
              <a:xfrm flipH="1">
                <a:off x="3139560" y="2613240"/>
                <a:ext cx="144360" cy="14112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Rectangle 133"/>
              <p:cNvSpPr/>
              <p:nvPr/>
            </p:nvSpPr>
            <p:spPr>
              <a:xfrm flipH="1">
                <a:off x="3215520" y="2459160"/>
                <a:ext cx="144360" cy="13320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Rectangle 134"/>
              <p:cNvSpPr/>
              <p:nvPr/>
            </p:nvSpPr>
            <p:spPr>
              <a:xfrm flipH="1">
                <a:off x="3137760" y="2455920"/>
                <a:ext cx="7308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35"/>
              <p:cNvSpPr/>
              <p:nvPr/>
            </p:nvSpPr>
            <p:spPr>
              <a:xfrm flipH="1">
                <a:off x="3368880" y="2455920"/>
                <a:ext cx="7272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136"/>
              <p:cNvSpPr/>
              <p:nvPr/>
            </p:nvSpPr>
            <p:spPr>
              <a:xfrm flipH="1">
                <a:off x="3290040" y="2295720"/>
                <a:ext cx="142920" cy="14112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137"/>
              <p:cNvSpPr/>
              <p:nvPr/>
            </p:nvSpPr>
            <p:spPr>
              <a:xfrm flipH="1">
                <a:off x="3136320" y="2298960"/>
                <a:ext cx="144360" cy="13968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138"/>
              <p:cNvSpPr/>
              <p:nvPr/>
            </p:nvSpPr>
            <p:spPr>
              <a:xfrm flipH="1">
                <a:off x="3295080" y="2930760"/>
                <a:ext cx="137880" cy="1346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139"/>
              <p:cNvSpPr/>
              <p:nvPr/>
            </p:nvSpPr>
            <p:spPr>
              <a:xfrm flipH="1">
                <a:off x="3139560" y="2928960"/>
                <a:ext cx="145800" cy="1382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Rectangle 140"/>
              <p:cNvSpPr/>
              <p:nvPr/>
            </p:nvSpPr>
            <p:spPr>
              <a:xfrm flipH="1">
                <a:off x="3217320" y="2773440"/>
                <a:ext cx="144360" cy="13320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141"/>
              <p:cNvSpPr/>
              <p:nvPr/>
            </p:nvSpPr>
            <p:spPr>
              <a:xfrm flipH="1">
                <a:off x="3140280" y="2772000"/>
                <a:ext cx="72720" cy="1346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142"/>
              <p:cNvSpPr/>
              <p:nvPr/>
            </p:nvSpPr>
            <p:spPr>
              <a:xfrm flipH="1">
                <a:off x="3370320" y="2772000"/>
                <a:ext cx="63360" cy="1346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Rectangle 143"/>
              <p:cNvSpPr/>
              <p:nvPr/>
            </p:nvSpPr>
            <p:spPr>
              <a:xfrm flipH="1">
                <a:off x="3295800" y="3238560"/>
                <a:ext cx="139680" cy="1350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Rectangle 144"/>
              <p:cNvSpPr/>
              <p:nvPr/>
            </p:nvSpPr>
            <p:spPr>
              <a:xfrm flipH="1">
                <a:off x="3139560" y="3235320"/>
                <a:ext cx="145800" cy="13968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145"/>
              <p:cNvSpPr/>
              <p:nvPr/>
            </p:nvSpPr>
            <p:spPr>
              <a:xfrm flipH="1">
                <a:off x="3217320" y="3079800"/>
                <a:ext cx="144360" cy="1350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146"/>
              <p:cNvSpPr/>
              <p:nvPr/>
            </p:nvSpPr>
            <p:spPr>
              <a:xfrm flipH="1">
                <a:off x="3140280" y="3078360"/>
                <a:ext cx="72720" cy="13644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147"/>
              <p:cNvSpPr/>
              <p:nvPr/>
            </p:nvSpPr>
            <p:spPr>
              <a:xfrm flipH="1">
                <a:off x="3369600" y="3078360"/>
                <a:ext cx="6516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48"/>
              <p:cNvSpPr/>
              <p:nvPr/>
            </p:nvSpPr>
            <p:spPr>
              <a:xfrm flipH="1">
                <a:off x="3296520" y="3554640"/>
                <a:ext cx="136440" cy="1332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49"/>
              <p:cNvSpPr/>
              <p:nvPr/>
            </p:nvSpPr>
            <p:spPr>
              <a:xfrm flipH="1">
                <a:off x="3143160" y="3549600"/>
                <a:ext cx="144720" cy="13968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50"/>
              <p:cNvSpPr/>
              <p:nvPr/>
            </p:nvSpPr>
            <p:spPr>
              <a:xfrm flipH="1">
                <a:off x="3218760" y="3395880"/>
                <a:ext cx="144360" cy="13464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51"/>
              <p:cNvSpPr/>
              <p:nvPr/>
            </p:nvSpPr>
            <p:spPr>
              <a:xfrm flipH="1">
                <a:off x="3139560" y="3394080"/>
                <a:ext cx="7452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52"/>
              <p:cNvSpPr/>
              <p:nvPr/>
            </p:nvSpPr>
            <p:spPr>
              <a:xfrm flipH="1">
                <a:off x="3372840" y="3394080"/>
                <a:ext cx="6012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3"/>
              <p:cNvSpPr/>
              <p:nvPr/>
            </p:nvSpPr>
            <p:spPr>
              <a:xfrm flipH="1">
                <a:off x="3295800" y="3864240"/>
                <a:ext cx="139680" cy="1332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154"/>
              <p:cNvSpPr/>
              <p:nvPr/>
            </p:nvSpPr>
            <p:spPr>
              <a:xfrm flipH="1">
                <a:off x="3139560" y="3861000"/>
                <a:ext cx="144360" cy="13968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155"/>
              <p:cNvSpPr/>
              <p:nvPr/>
            </p:nvSpPr>
            <p:spPr>
              <a:xfrm flipH="1">
                <a:off x="3215520" y="3705480"/>
                <a:ext cx="144360" cy="1346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156"/>
              <p:cNvSpPr/>
              <p:nvPr/>
            </p:nvSpPr>
            <p:spPr>
              <a:xfrm flipH="1">
                <a:off x="3137760" y="3703680"/>
                <a:ext cx="7308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157"/>
              <p:cNvSpPr/>
              <p:nvPr/>
            </p:nvSpPr>
            <p:spPr>
              <a:xfrm flipH="1">
                <a:off x="3295800" y="4178520"/>
                <a:ext cx="139680" cy="13464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Rectangle 158"/>
              <p:cNvSpPr/>
              <p:nvPr/>
            </p:nvSpPr>
            <p:spPr>
              <a:xfrm flipH="1">
                <a:off x="3139560" y="4175280"/>
                <a:ext cx="145800" cy="13968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Rectangle 159"/>
              <p:cNvSpPr/>
              <p:nvPr/>
            </p:nvSpPr>
            <p:spPr>
              <a:xfrm flipH="1">
                <a:off x="3217320" y="4019760"/>
                <a:ext cx="144360" cy="13320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160"/>
              <p:cNvSpPr/>
              <p:nvPr/>
            </p:nvSpPr>
            <p:spPr>
              <a:xfrm flipH="1">
                <a:off x="3140280" y="4016520"/>
                <a:ext cx="7272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161"/>
              <p:cNvSpPr/>
              <p:nvPr/>
            </p:nvSpPr>
            <p:spPr>
              <a:xfrm flipH="1">
                <a:off x="3370320" y="4016520"/>
                <a:ext cx="63360" cy="13644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Rectangle 162"/>
              <p:cNvSpPr/>
              <p:nvPr/>
            </p:nvSpPr>
            <p:spPr>
              <a:xfrm flipH="1">
                <a:off x="3295080" y="4486320"/>
                <a:ext cx="137880" cy="13356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163"/>
              <p:cNvSpPr/>
              <p:nvPr/>
            </p:nvSpPr>
            <p:spPr>
              <a:xfrm flipH="1">
                <a:off x="3139560" y="4481640"/>
                <a:ext cx="145800" cy="138240"/>
              </a:xfrm>
              <a:prstGeom prst="rect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Rectangle 164"/>
              <p:cNvSpPr/>
              <p:nvPr/>
            </p:nvSpPr>
            <p:spPr>
              <a:xfrm flipH="1">
                <a:off x="3217320" y="4326120"/>
                <a:ext cx="144360" cy="13320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Rectangle 165"/>
              <p:cNvSpPr/>
              <p:nvPr/>
            </p:nvSpPr>
            <p:spPr>
              <a:xfrm flipH="1">
                <a:off x="3140280" y="4324320"/>
                <a:ext cx="72720" cy="1350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Rectangle 166"/>
              <p:cNvSpPr/>
              <p:nvPr/>
            </p:nvSpPr>
            <p:spPr>
              <a:xfrm flipH="1">
                <a:off x="3369600" y="4324320"/>
                <a:ext cx="65160" cy="135000"/>
              </a:xfrm>
              <a:prstGeom prst="rect">
                <a:avLst/>
              </a:pr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7"/>
              <p:cNvSpPr/>
              <p:nvPr/>
            </p:nvSpPr>
            <p:spPr>
              <a:xfrm>
                <a:off x="3433680" y="4442040"/>
                <a:ext cx="39960" cy="1695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68"/>
              <p:cNvSpPr/>
              <p:nvPr/>
            </p:nvSpPr>
            <p:spPr>
              <a:xfrm>
                <a:off x="3479760" y="4264200"/>
                <a:ext cx="119160" cy="293760"/>
              </a:xfrm>
              <a:prstGeom prst="pie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169"/>
              <p:cNvSpPr/>
              <p:nvPr/>
            </p:nvSpPr>
            <p:spPr>
              <a:xfrm>
                <a:off x="3603600" y="4102200"/>
                <a:ext cx="120600" cy="2808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"/>
              <p:cNvSpPr/>
              <p:nvPr/>
            </p:nvSpPr>
            <p:spPr>
              <a:xfrm>
                <a:off x="3729240" y="3936960"/>
                <a:ext cx="118800" cy="27468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71"/>
              <p:cNvSpPr/>
              <p:nvPr/>
            </p:nvSpPr>
            <p:spPr>
              <a:xfrm>
                <a:off x="3851280" y="3849840"/>
                <a:ext cx="60480" cy="1951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72"/>
              <p:cNvSpPr/>
              <p:nvPr/>
            </p:nvSpPr>
            <p:spPr>
              <a:xfrm>
                <a:off x="3433680" y="2279880"/>
                <a:ext cx="39960" cy="1508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73"/>
              <p:cNvSpPr/>
              <p:nvPr/>
            </p:nvSpPr>
            <p:spPr>
              <a:xfrm>
                <a:off x="3479760" y="2192400"/>
                <a:ext cx="119160" cy="20484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4"/>
              <p:cNvSpPr/>
              <p:nvPr/>
            </p:nvSpPr>
            <p:spPr>
              <a:xfrm>
                <a:off x="3603600" y="2109960"/>
                <a:ext cx="120600" cy="1998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75"/>
              <p:cNvSpPr/>
              <p:nvPr/>
            </p:nvSpPr>
            <p:spPr>
              <a:xfrm>
                <a:off x="3729240" y="2025720"/>
                <a:ext cx="118800" cy="1969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176"/>
              <p:cNvSpPr/>
              <p:nvPr/>
            </p:nvSpPr>
            <p:spPr>
              <a:xfrm>
                <a:off x="3851280" y="1987560"/>
                <a:ext cx="60480" cy="152640"/>
              </a:xfrm>
              <a:prstGeom prst="pie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7"/>
              <p:cNvSpPr/>
              <p:nvPr/>
            </p:nvSpPr>
            <p:spPr>
              <a:xfrm>
                <a:off x="3479760" y="2486160"/>
                <a:ext cx="119160" cy="220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78"/>
              <p:cNvSpPr/>
              <p:nvPr/>
            </p:nvSpPr>
            <p:spPr>
              <a:xfrm>
                <a:off x="3603600" y="2395800"/>
                <a:ext cx="120600" cy="21096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179"/>
              <p:cNvSpPr/>
              <p:nvPr/>
            </p:nvSpPr>
            <p:spPr>
              <a:xfrm>
                <a:off x="3729240" y="2298960"/>
                <a:ext cx="118800" cy="209520"/>
              </a:xfrm>
              <a:prstGeom prst="pie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80"/>
              <p:cNvSpPr/>
              <p:nvPr/>
            </p:nvSpPr>
            <p:spPr>
              <a:xfrm>
                <a:off x="3851280" y="2255760"/>
                <a:ext cx="60480" cy="1573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81"/>
              <p:cNvSpPr/>
              <p:nvPr/>
            </p:nvSpPr>
            <p:spPr>
              <a:xfrm>
                <a:off x="3433680" y="2897280"/>
                <a:ext cx="39960" cy="1620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82"/>
              <p:cNvSpPr/>
              <p:nvPr/>
            </p:nvSpPr>
            <p:spPr>
              <a:xfrm>
                <a:off x="3479760" y="2784600"/>
                <a:ext cx="119160" cy="23004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83"/>
              <p:cNvSpPr/>
              <p:nvPr/>
            </p:nvSpPr>
            <p:spPr>
              <a:xfrm>
                <a:off x="3603600" y="2675160"/>
                <a:ext cx="120600" cy="2268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Freeform 184"/>
              <p:cNvSpPr/>
              <p:nvPr/>
            </p:nvSpPr>
            <p:spPr>
              <a:xfrm>
                <a:off x="3729240" y="2571840"/>
                <a:ext cx="118800" cy="22212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85"/>
              <p:cNvSpPr/>
              <p:nvPr/>
            </p:nvSpPr>
            <p:spPr>
              <a:xfrm>
                <a:off x="3851280" y="2519280"/>
                <a:ext cx="60480" cy="1652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86"/>
              <p:cNvSpPr/>
              <p:nvPr/>
            </p:nvSpPr>
            <p:spPr>
              <a:xfrm>
                <a:off x="3435480" y="3200400"/>
                <a:ext cx="38160" cy="166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187"/>
              <p:cNvSpPr/>
              <p:nvPr/>
            </p:nvSpPr>
            <p:spPr>
              <a:xfrm>
                <a:off x="3479760" y="3081600"/>
                <a:ext cx="119160" cy="239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88"/>
              <p:cNvSpPr/>
              <p:nvPr/>
            </p:nvSpPr>
            <p:spPr>
              <a:xfrm>
                <a:off x="3603600" y="2963880"/>
                <a:ext cx="120600" cy="233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89"/>
              <p:cNvSpPr/>
              <p:nvPr/>
            </p:nvSpPr>
            <p:spPr>
              <a:xfrm>
                <a:off x="3729240" y="2843280"/>
                <a:ext cx="118800" cy="233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90"/>
              <p:cNvSpPr/>
              <p:nvPr/>
            </p:nvSpPr>
            <p:spPr>
              <a:xfrm>
                <a:off x="3851280" y="2784600"/>
                <a:ext cx="60480" cy="169920"/>
              </a:xfrm>
              <a:prstGeom prst="pie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191"/>
              <p:cNvSpPr/>
              <p:nvPr/>
            </p:nvSpPr>
            <p:spPr>
              <a:xfrm>
                <a:off x="3433680" y="3511800"/>
                <a:ext cx="39960" cy="1695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92"/>
              <p:cNvSpPr/>
              <p:nvPr/>
            </p:nvSpPr>
            <p:spPr>
              <a:xfrm>
                <a:off x="3479760" y="3378240"/>
                <a:ext cx="119160" cy="2462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93"/>
              <p:cNvSpPr/>
              <p:nvPr/>
            </p:nvSpPr>
            <p:spPr>
              <a:xfrm>
                <a:off x="3603600" y="3248280"/>
                <a:ext cx="120600" cy="2458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194"/>
              <p:cNvSpPr/>
              <p:nvPr/>
            </p:nvSpPr>
            <p:spPr>
              <a:xfrm>
                <a:off x="3729240" y="3116520"/>
                <a:ext cx="118800" cy="244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Freeform 195"/>
              <p:cNvSpPr/>
              <p:nvPr/>
            </p:nvSpPr>
            <p:spPr>
              <a:xfrm>
                <a:off x="3851280" y="3051360"/>
                <a:ext cx="60480" cy="17604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96"/>
              <p:cNvSpPr/>
              <p:nvPr/>
            </p:nvSpPr>
            <p:spPr>
              <a:xfrm>
                <a:off x="3435480" y="3826080"/>
                <a:ext cx="39600" cy="1616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97"/>
              <p:cNvSpPr/>
              <p:nvPr/>
            </p:nvSpPr>
            <p:spPr>
              <a:xfrm>
                <a:off x="3479760" y="3673440"/>
                <a:ext cx="119160" cy="2653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98"/>
              <p:cNvSpPr/>
              <p:nvPr/>
            </p:nvSpPr>
            <p:spPr>
              <a:xfrm>
                <a:off x="3603600" y="3532320"/>
                <a:ext cx="120600" cy="2570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99"/>
              <p:cNvSpPr/>
              <p:nvPr/>
            </p:nvSpPr>
            <p:spPr>
              <a:xfrm>
                <a:off x="3729240" y="3386160"/>
                <a:ext cx="120600" cy="2588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200"/>
              <p:cNvSpPr/>
              <p:nvPr/>
            </p:nvSpPr>
            <p:spPr>
              <a:xfrm>
                <a:off x="3851280" y="3319560"/>
                <a:ext cx="60480" cy="1778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201"/>
              <p:cNvSpPr/>
              <p:nvPr/>
            </p:nvSpPr>
            <p:spPr>
              <a:xfrm>
                <a:off x="3435480" y="4125960"/>
                <a:ext cx="38160" cy="1843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202"/>
              <p:cNvSpPr/>
              <p:nvPr/>
            </p:nvSpPr>
            <p:spPr>
              <a:xfrm>
                <a:off x="3479760" y="3970440"/>
                <a:ext cx="119160" cy="2761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203"/>
              <p:cNvSpPr/>
              <p:nvPr/>
            </p:nvSpPr>
            <p:spPr>
              <a:xfrm>
                <a:off x="3603600" y="3818160"/>
                <a:ext cx="120600" cy="268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204"/>
              <p:cNvSpPr/>
              <p:nvPr/>
            </p:nvSpPr>
            <p:spPr>
              <a:xfrm>
                <a:off x="3729240" y="3665520"/>
                <a:ext cx="118800" cy="262080"/>
              </a:xfrm>
              <a:prstGeom prst="pie">
                <a:avLst/>
              </a:pr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205"/>
              <p:cNvSpPr/>
              <p:nvPr/>
            </p:nvSpPr>
            <p:spPr>
              <a:xfrm>
                <a:off x="3851280" y="3591000"/>
                <a:ext cx="60480" cy="1857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206"/>
              <p:cNvSpPr/>
              <p:nvPr/>
            </p:nvSpPr>
            <p:spPr>
              <a:xfrm>
                <a:off x="3813120" y="3721320"/>
                <a:ext cx="98640" cy="233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207"/>
              <p:cNvSpPr/>
              <p:nvPr/>
            </p:nvSpPr>
            <p:spPr>
              <a:xfrm>
                <a:off x="3435480" y="4152960"/>
                <a:ext cx="133200" cy="3002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208"/>
              <p:cNvSpPr/>
              <p:nvPr/>
            </p:nvSpPr>
            <p:spPr>
              <a:xfrm>
                <a:off x="3573360" y="4006800"/>
                <a:ext cx="111240" cy="2667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Freeform 209"/>
              <p:cNvSpPr/>
              <p:nvPr/>
            </p:nvSpPr>
            <p:spPr>
              <a:xfrm>
                <a:off x="3691080" y="3854520"/>
                <a:ext cx="117360" cy="262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210"/>
              <p:cNvSpPr/>
              <p:nvPr/>
            </p:nvSpPr>
            <p:spPr>
              <a:xfrm>
                <a:off x="3808440" y="2121120"/>
                <a:ext cx="103320" cy="1857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211"/>
              <p:cNvSpPr/>
              <p:nvPr/>
            </p:nvSpPr>
            <p:spPr>
              <a:xfrm>
                <a:off x="3568680" y="2281320"/>
                <a:ext cx="111240" cy="2095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212"/>
              <p:cNvSpPr/>
              <p:nvPr/>
            </p:nvSpPr>
            <p:spPr>
              <a:xfrm>
                <a:off x="3684600" y="2195640"/>
                <a:ext cx="119160" cy="2016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213"/>
              <p:cNvSpPr/>
              <p:nvPr/>
            </p:nvSpPr>
            <p:spPr>
              <a:xfrm>
                <a:off x="3808440" y="2384640"/>
                <a:ext cx="103320" cy="1998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214"/>
              <p:cNvSpPr/>
              <p:nvPr/>
            </p:nvSpPr>
            <p:spPr>
              <a:xfrm>
                <a:off x="3433680" y="2667240"/>
                <a:ext cx="131760" cy="23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215"/>
              <p:cNvSpPr/>
              <p:nvPr/>
            </p:nvSpPr>
            <p:spPr>
              <a:xfrm>
                <a:off x="3568680" y="2573280"/>
                <a:ext cx="111240" cy="2145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216"/>
              <p:cNvSpPr/>
              <p:nvPr/>
            </p:nvSpPr>
            <p:spPr>
              <a:xfrm>
                <a:off x="3684600" y="2475000"/>
                <a:ext cx="119160" cy="214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217"/>
              <p:cNvSpPr/>
              <p:nvPr/>
            </p:nvSpPr>
            <p:spPr>
              <a:xfrm>
                <a:off x="3808440" y="2651040"/>
                <a:ext cx="103320" cy="2098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218"/>
              <p:cNvSpPr/>
              <p:nvPr/>
            </p:nvSpPr>
            <p:spPr>
              <a:xfrm>
                <a:off x="3568680" y="2860920"/>
                <a:ext cx="111240" cy="2268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219"/>
              <p:cNvSpPr/>
              <p:nvPr/>
            </p:nvSpPr>
            <p:spPr>
              <a:xfrm>
                <a:off x="3684600" y="2749680"/>
                <a:ext cx="119160" cy="225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220"/>
              <p:cNvSpPr/>
              <p:nvPr/>
            </p:nvSpPr>
            <p:spPr>
              <a:xfrm>
                <a:off x="3813120" y="2919600"/>
                <a:ext cx="98640" cy="2095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221"/>
              <p:cNvSpPr/>
              <p:nvPr/>
            </p:nvSpPr>
            <p:spPr>
              <a:xfrm>
                <a:off x="3433680" y="3259080"/>
                <a:ext cx="135000" cy="262080"/>
              </a:xfrm>
              <a:prstGeom prst="pie">
                <a:avLst/>
              </a:pr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222"/>
              <p:cNvSpPr/>
              <p:nvPr/>
            </p:nvSpPr>
            <p:spPr>
              <a:xfrm>
                <a:off x="3573360" y="3144960"/>
                <a:ext cx="111240" cy="23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Freeform 223"/>
              <p:cNvSpPr/>
              <p:nvPr/>
            </p:nvSpPr>
            <p:spPr>
              <a:xfrm>
                <a:off x="3691080" y="3021120"/>
                <a:ext cx="117360" cy="23508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Freeform 224"/>
              <p:cNvSpPr/>
              <p:nvPr/>
            </p:nvSpPr>
            <p:spPr>
              <a:xfrm>
                <a:off x="3813120" y="3184560"/>
                <a:ext cx="98640" cy="2192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225"/>
              <p:cNvSpPr/>
              <p:nvPr/>
            </p:nvSpPr>
            <p:spPr>
              <a:xfrm>
                <a:off x="3433680" y="3556080"/>
                <a:ext cx="135000" cy="2728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226"/>
              <p:cNvSpPr/>
              <p:nvPr/>
            </p:nvSpPr>
            <p:spPr>
              <a:xfrm>
                <a:off x="3573360" y="3429000"/>
                <a:ext cx="111240" cy="25236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Freeform 227"/>
              <p:cNvSpPr/>
              <p:nvPr/>
            </p:nvSpPr>
            <p:spPr>
              <a:xfrm>
                <a:off x="3691080" y="3297240"/>
                <a:ext cx="117360" cy="249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Freeform 228"/>
              <p:cNvSpPr/>
              <p:nvPr/>
            </p:nvSpPr>
            <p:spPr>
              <a:xfrm>
                <a:off x="3813120" y="3449880"/>
                <a:ext cx="98640" cy="239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229"/>
              <p:cNvSpPr/>
              <p:nvPr/>
            </p:nvSpPr>
            <p:spPr>
              <a:xfrm>
                <a:off x="3433680" y="3855960"/>
                <a:ext cx="135000" cy="2905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Freeform 230"/>
              <p:cNvSpPr/>
              <p:nvPr/>
            </p:nvSpPr>
            <p:spPr>
              <a:xfrm>
                <a:off x="3573360" y="3721320"/>
                <a:ext cx="111240" cy="258480"/>
              </a:xfrm>
              <a:prstGeom prst="pie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Freeform 231"/>
              <p:cNvSpPr/>
              <p:nvPr/>
            </p:nvSpPr>
            <p:spPr>
              <a:xfrm>
                <a:off x="3691080" y="3578400"/>
                <a:ext cx="117360" cy="2588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232"/>
              <p:cNvSpPr/>
              <p:nvPr/>
            </p:nvSpPr>
            <p:spPr>
              <a:xfrm>
                <a:off x="3435480" y="2363760"/>
                <a:ext cx="128520" cy="225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Freeform 233"/>
              <p:cNvSpPr/>
              <p:nvPr/>
            </p:nvSpPr>
            <p:spPr>
              <a:xfrm>
                <a:off x="3433680" y="2583000"/>
                <a:ext cx="41400" cy="1620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Freeform 234"/>
              <p:cNvSpPr/>
              <p:nvPr/>
            </p:nvSpPr>
            <p:spPr>
              <a:xfrm>
                <a:off x="3435480" y="2963880"/>
                <a:ext cx="128520" cy="2462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Rectangle 235"/>
              <p:cNvSpPr/>
              <p:nvPr/>
            </p:nvSpPr>
            <p:spPr>
              <a:xfrm flipH="1">
                <a:off x="3369600" y="3703680"/>
                <a:ext cx="65160" cy="136440"/>
              </a:xfrm>
              <a:prstGeom prst="rect">
                <a:avLst/>
              </a:pr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40" name="Group 236"/>
          <p:cNvGrpSpPr/>
          <p:nvPr/>
        </p:nvGrpSpPr>
        <p:grpSpPr>
          <a:xfrm>
            <a:off x="4330800" y="1895400"/>
            <a:ext cx="942840" cy="549360"/>
            <a:chOff x="4330800" y="1895400"/>
            <a:chExt cx="942840" cy="549360"/>
          </a:xfrm>
        </p:grpSpPr>
        <p:sp>
          <p:nvSpPr>
            <p:cNvPr id="1241" name="Freeform 237"/>
            <p:cNvSpPr/>
            <p:nvPr/>
          </p:nvSpPr>
          <p:spPr>
            <a:xfrm>
              <a:off x="4330800" y="1895400"/>
              <a:ext cx="942840" cy="323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238"/>
            <p:cNvSpPr/>
            <p:nvPr/>
          </p:nvSpPr>
          <p:spPr>
            <a:xfrm>
              <a:off x="4332240" y="2197080"/>
              <a:ext cx="366840" cy="247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239"/>
            <p:cNvSpPr/>
            <p:nvPr/>
          </p:nvSpPr>
          <p:spPr>
            <a:xfrm>
              <a:off x="4686120" y="1895400"/>
              <a:ext cx="582840" cy="54756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4" name="Rectangle 240"/>
          <p:cNvSpPr/>
          <p:nvPr/>
        </p:nvSpPr>
        <p:spPr>
          <a:xfrm>
            <a:off x="4229280" y="4791240"/>
            <a:ext cx="132696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Falt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e apoy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el marco legal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 impositiv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5" name="Group 241"/>
          <p:cNvGrpSpPr/>
          <p:nvPr/>
        </p:nvGrpSpPr>
        <p:grpSpPr>
          <a:xfrm>
            <a:off x="4406760" y="1971720"/>
            <a:ext cx="774720" cy="2660400"/>
            <a:chOff x="4406760" y="1971720"/>
            <a:chExt cx="774720" cy="2660400"/>
          </a:xfrm>
        </p:grpSpPr>
        <p:sp>
          <p:nvSpPr>
            <p:cNvPr id="1246" name="Rectangle 242"/>
            <p:cNvSpPr/>
            <p:nvPr/>
          </p:nvSpPr>
          <p:spPr>
            <a:xfrm flipH="1">
              <a:off x="4417920" y="2271600"/>
              <a:ext cx="285840" cy="2360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Freeform 243"/>
            <p:cNvSpPr/>
            <p:nvPr/>
          </p:nvSpPr>
          <p:spPr>
            <a:xfrm>
              <a:off x="4703760" y="1971720"/>
              <a:ext cx="468360" cy="26604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Freeform 244"/>
            <p:cNvSpPr/>
            <p:nvPr/>
          </p:nvSpPr>
          <p:spPr>
            <a:xfrm>
              <a:off x="4422600" y="2271600"/>
              <a:ext cx="287640" cy="268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5"/>
            <p:cNvSpPr/>
            <p:nvPr/>
          </p:nvSpPr>
          <p:spPr>
            <a:xfrm flipH="1">
              <a:off x="4565520" y="2617560"/>
              <a:ext cx="13824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46"/>
            <p:cNvSpPr/>
            <p:nvPr/>
          </p:nvSpPr>
          <p:spPr>
            <a:xfrm flipH="1">
              <a:off x="4409280" y="2612880"/>
              <a:ext cx="144360" cy="141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47"/>
            <p:cNvSpPr/>
            <p:nvPr/>
          </p:nvSpPr>
          <p:spPr>
            <a:xfrm flipH="1">
              <a:off x="4485600" y="2458800"/>
              <a:ext cx="14436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48"/>
            <p:cNvSpPr/>
            <p:nvPr/>
          </p:nvSpPr>
          <p:spPr>
            <a:xfrm flipH="1">
              <a:off x="4407840" y="2455560"/>
              <a:ext cx="7308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49"/>
            <p:cNvSpPr/>
            <p:nvPr/>
          </p:nvSpPr>
          <p:spPr>
            <a:xfrm flipH="1">
              <a:off x="4637880" y="2455560"/>
              <a:ext cx="7308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50"/>
            <p:cNvSpPr/>
            <p:nvPr/>
          </p:nvSpPr>
          <p:spPr>
            <a:xfrm flipH="1">
              <a:off x="4560120" y="2295360"/>
              <a:ext cx="142920" cy="141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251"/>
            <p:cNvSpPr/>
            <p:nvPr/>
          </p:nvSpPr>
          <p:spPr>
            <a:xfrm flipH="1">
              <a:off x="4406760" y="2298600"/>
              <a:ext cx="14472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252"/>
            <p:cNvSpPr/>
            <p:nvPr/>
          </p:nvSpPr>
          <p:spPr>
            <a:xfrm flipH="1">
              <a:off x="4565520" y="2930400"/>
              <a:ext cx="13824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253"/>
            <p:cNvSpPr/>
            <p:nvPr/>
          </p:nvSpPr>
          <p:spPr>
            <a:xfrm flipH="1">
              <a:off x="4410000" y="2928960"/>
              <a:ext cx="146160" cy="13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254"/>
            <p:cNvSpPr/>
            <p:nvPr/>
          </p:nvSpPr>
          <p:spPr>
            <a:xfrm flipH="1">
              <a:off x="4487760" y="2773080"/>
              <a:ext cx="14472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255"/>
            <p:cNvSpPr/>
            <p:nvPr/>
          </p:nvSpPr>
          <p:spPr>
            <a:xfrm flipH="1">
              <a:off x="4409280" y="2771640"/>
              <a:ext cx="730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Rectangle 256"/>
            <p:cNvSpPr/>
            <p:nvPr/>
          </p:nvSpPr>
          <p:spPr>
            <a:xfrm flipH="1">
              <a:off x="4640400" y="2771640"/>
              <a:ext cx="63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Rectangle 257"/>
            <p:cNvSpPr/>
            <p:nvPr/>
          </p:nvSpPr>
          <p:spPr>
            <a:xfrm flipH="1">
              <a:off x="4565520" y="3238200"/>
              <a:ext cx="1396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Rectangle 258"/>
            <p:cNvSpPr/>
            <p:nvPr/>
          </p:nvSpPr>
          <p:spPr>
            <a:xfrm flipH="1">
              <a:off x="4410000" y="3235320"/>
              <a:ext cx="1461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Rectangle 259"/>
            <p:cNvSpPr/>
            <p:nvPr/>
          </p:nvSpPr>
          <p:spPr>
            <a:xfrm flipH="1">
              <a:off x="4487760" y="3079800"/>
              <a:ext cx="14472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Rectangle 260"/>
            <p:cNvSpPr/>
            <p:nvPr/>
          </p:nvSpPr>
          <p:spPr>
            <a:xfrm flipH="1">
              <a:off x="4409280" y="3078000"/>
              <a:ext cx="7308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Rectangle 261"/>
            <p:cNvSpPr/>
            <p:nvPr/>
          </p:nvSpPr>
          <p:spPr>
            <a:xfrm flipH="1">
              <a:off x="4640400" y="3078000"/>
              <a:ext cx="6480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Rectangle 262"/>
            <p:cNvSpPr/>
            <p:nvPr/>
          </p:nvSpPr>
          <p:spPr>
            <a:xfrm flipH="1">
              <a:off x="4566600" y="3554280"/>
              <a:ext cx="13644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Rectangle 263"/>
            <p:cNvSpPr/>
            <p:nvPr/>
          </p:nvSpPr>
          <p:spPr>
            <a:xfrm flipH="1">
              <a:off x="4412520" y="354960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Rectangle 264"/>
            <p:cNvSpPr/>
            <p:nvPr/>
          </p:nvSpPr>
          <p:spPr>
            <a:xfrm flipH="1">
              <a:off x="4488840" y="3395520"/>
              <a:ext cx="14436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Rectangle 265"/>
            <p:cNvSpPr/>
            <p:nvPr/>
          </p:nvSpPr>
          <p:spPr>
            <a:xfrm flipH="1">
              <a:off x="4409280" y="3394080"/>
              <a:ext cx="7452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Rectangle 266"/>
            <p:cNvSpPr/>
            <p:nvPr/>
          </p:nvSpPr>
          <p:spPr>
            <a:xfrm flipH="1">
              <a:off x="4643280" y="3394080"/>
              <a:ext cx="604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Rectangle 267"/>
            <p:cNvSpPr/>
            <p:nvPr/>
          </p:nvSpPr>
          <p:spPr>
            <a:xfrm flipH="1">
              <a:off x="4565520" y="3863880"/>
              <a:ext cx="13968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Rectangle 268"/>
            <p:cNvSpPr/>
            <p:nvPr/>
          </p:nvSpPr>
          <p:spPr>
            <a:xfrm flipH="1">
              <a:off x="4409280" y="386064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269"/>
            <p:cNvSpPr/>
            <p:nvPr/>
          </p:nvSpPr>
          <p:spPr>
            <a:xfrm flipH="1">
              <a:off x="4485600" y="3705120"/>
              <a:ext cx="144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270"/>
            <p:cNvSpPr/>
            <p:nvPr/>
          </p:nvSpPr>
          <p:spPr>
            <a:xfrm flipH="1">
              <a:off x="4407840" y="370368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271"/>
            <p:cNvSpPr/>
            <p:nvPr/>
          </p:nvSpPr>
          <p:spPr>
            <a:xfrm flipH="1">
              <a:off x="4565520" y="4178160"/>
              <a:ext cx="13968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272"/>
            <p:cNvSpPr/>
            <p:nvPr/>
          </p:nvSpPr>
          <p:spPr>
            <a:xfrm flipH="1">
              <a:off x="4410000" y="4174920"/>
              <a:ext cx="1461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273"/>
            <p:cNvSpPr/>
            <p:nvPr/>
          </p:nvSpPr>
          <p:spPr>
            <a:xfrm flipH="1">
              <a:off x="4487760" y="4019400"/>
              <a:ext cx="14472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Rectangle 274"/>
            <p:cNvSpPr/>
            <p:nvPr/>
          </p:nvSpPr>
          <p:spPr>
            <a:xfrm flipH="1">
              <a:off x="4409280" y="401616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Rectangle 275"/>
            <p:cNvSpPr/>
            <p:nvPr/>
          </p:nvSpPr>
          <p:spPr>
            <a:xfrm flipH="1">
              <a:off x="4640400" y="4016160"/>
              <a:ext cx="633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Rectangle 276"/>
            <p:cNvSpPr/>
            <p:nvPr/>
          </p:nvSpPr>
          <p:spPr>
            <a:xfrm flipH="1">
              <a:off x="4565520" y="4486320"/>
              <a:ext cx="13824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Rectangle 277"/>
            <p:cNvSpPr/>
            <p:nvPr/>
          </p:nvSpPr>
          <p:spPr>
            <a:xfrm flipH="1">
              <a:off x="4410000" y="4481280"/>
              <a:ext cx="146160" cy="13824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Rectangle 278"/>
            <p:cNvSpPr/>
            <p:nvPr/>
          </p:nvSpPr>
          <p:spPr>
            <a:xfrm flipH="1">
              <a:off x="4487760" y="4325760"/>
              <a:ext cx="14472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Rectangle 279"/>
            <p:cNvSpPr/>
            <p:nvPr/>
          </p:nvSpPr>
          <p:spPr>
            <a:xfrm flipH="1">
              <a:off x="4409280" y="4324320"/>
              <a:ext cx="730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Rectangle 280"/>
            <p:cNvSpPr/>
            <p:nvPr/>
          </p:nvSpPr>
          <p:spPr>
            <a:xfrm flipH="1">
              <a:off x="4640400" y="4324320"/>
              <a:ext cx="6480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Freeform 281"/>
            <p:cNvSpPr/>
            <p:nvPr/>
          </p:nvSpPr>
          <p:spPr>
            <a:xfrm>
              <a:off x="4703760" y="4441680"/>
              <a:ext cx="3960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Freeform 282"/>
            <p:cNvSpPr/>
            <p:nvPr/>
          </p:nvSpPr>
          <p:spPr>
            <a:xfrm>
              <a:off x="4749840" y="4263840"/>
              <a:ext cx="119160" cy="2937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Freeform 283"/>
            <p:cNvSpPr/>
            <p:nvPr/>
          </p:nvSpPr>
          <p:spPr>
            <a:xfrm>
              <a:off x="4873680" y="4101840"/>
              <a:ext cx="120600" cy="28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Freeform 284"/>
            <p:cNvSpPr/>
            <p:nvPr/>
          </p:nvSpPr>
          <p:spPr>
            <a:xfrm>
              <a:off x="4998960" y="3936960"/>
              <a:ext cx="119160" cy="2746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Freeform 285"/>
            <p:cNvSpPr/>
            <p:nvPr/>
          </p:nvSpPr>
          <p:spPr>
            <a:xfrm>
              <a:off x="5121360" y="3849480"/>
              <a:ext cx="60120" cy="195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Freeform 286"/>
            <p:cNvSpPr/>
            <p:nvPr/>
          </p:nvSpPr>
          <p:spPr>
            <a:xfrm>
              <a:off x="4703760" y="2279520"/>
              <a:ext cx="39600" cy="150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Freeform 287"/>
            <p:cNvSpPr/>
            <p:nvPr/>
          </p:nvSpPr>
          <p:spPr>
            <a:xfrm>
              <a:off x="4749840" y="2192040"/>
              <a:ext cx="119160" cy="204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Freeform 288"/>
            <p:cNvSpPr/>
            <p:nvPr/>
          </p:nvSpPr>
          <p:spPr>
            <a:xfrm>
              <a:off x="4873680" y="2109600"/>
              <a:ext cx="120600" cy="20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Freeform 289"/>
            <p:cNvSpPr/>
            <p:nvPr/>
          </p:nvSpPr>
          <p:spPr>
            <a:xfrm>
              <a:off x="4998960" y="2025360"/>
              <a:ext cx="119160" cy="196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290"/>
            <p:cNvSpPr/>
            <p:nvPr/>
          </p:nvSpPr>
          <p:spPr>
            <a:xfrm>
              <a:off x="5121360" y="1987560"/>
              <a:ext cx="60120" cy="15228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291"/>
            <p:cNvSpPr/>
            <p:nvPr/>
          </p:nvSpPr>
          <p:spPr>
            <a:xfrm>
              <a:off x="4749840" y="2485800"/>
              <a:ext cx="119160" cy="220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292"/>
            <p:cNvSpPr/>
            <p:nvPr/>
          </p:nvSpPr>
          <p:spPr>
            <a:xfrm>
              <a:off x="4873680" y="2395440"/>
              <a:ext cx="120600" cy="2109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293"/>
            <p:cNvSpPr/>
            <p:nvPr/>
          </p:nvSpPr>
          <p:spPr>
            <a:xfrm>
              <a:off x="4998960" y="2298600"/>
              <a:ext cx="119160" cy="2095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294"/>
            <p:cNvSpPr/>
            <p:nvPr/>
          </p:nvSpPr>
          <p:spPr>
            <a:xfrm>
              <a:off x="5121360" y="2255760"/>
              <a:ext cx="60120" cy="156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295"/>
            <p:cNvSpPr/>
            <p:nvPr/>
          </p:nvSpPr>
          <p:spPr>
            <a:xfrm>
              <a:off x="4703760" y="2896920"/>
              <a:ext cx="396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296"/>
            <p:cNvSpPr/>
            <p:nvPr/>
          </p:nvSpPr>
          <p:spPr>
            <a:xfrm>
              <a:off x="4749840" y="2784240"/>
              <a:ext cx="119160" cy="23040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Freeform 297"/>
            <p:cNvSpPr/>
            <p:nvPr/>
          </p:nvSpPr>
          <p:spPr>
            <a:xfrm>
              <a:off x="4873680" y="2674800"/>
              <a:ext cx="120600" cy="227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298"/>
            <p:cNvSpPr/>
            <p:nvPr/>
          </p:nvSpPr>
          <p:spPr>
            <a:xfrm>
              <a:off x="4998960" y="2571480"/>
              <a:ext cx="119160" cy="2224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Freeform 299"/>
            <p:cNvSpPr/>
            <p:nvPr/>
          </p:nvSpPr>
          <p:spPr>
            <a:xfrm>
              <a:off x="5121360" y="2519280"/>
              <a:ext cx="60120" cy="164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Freeform 300"/>
            <p:cNvSpPr/>
            <p:nvPr/>
          </p:nvSpPr>
          <p:spPr>
            <a:xfrm>
              <a:off x="4705200" y="3200400"/>
              <a:ext cx="38160" cy="16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301"/>
            <p:cNvSpPr/>
            <p:nvPr/>
          </p:nvSpPr>
          <p:spPr>
            <a:xfrm>
              <a:off x="4749840" y="3081240"/>
              <a:ext cx="119160" cy="239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302"/>
            <p:cNvSpPr/>
            <p:nvPr/>
          </p:nvSpPr>
          <p:spPr>
            <a:xfrm>
              <a:off x="4873680" y="2963880"/>
              <a:ext cx="12060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Freeform 303"/>
            <p:cNvSpPr/>
            <p:nvPr/>
          </p:nvSpPr>
          <p:spPr>
            <a:xfrm>
              <a:off x="4998960" y="2842920"/>
              <a:ext cx="119160" cy="23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304"/>
            <p:cNvSpPr/>
            <p:nvPr/>
          </p:nvSpPr>
          <p:spPr>
            <a:xfrm>
              <a:off x="5121360" y="2784240"/>
              <a:ext cx="60120" cy="1699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Freeform 305"/>
            <p:cNvSpPr/>
            <p:nvPr/>
          </p:nvSpPr>
          <p:spPr>
            <a:xfrm>
              <a:off x="4703760" y="3511440"/>
              <a:ext cx="3960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Freeform 306"/>
            <p:cNvSpPr/>
            <p:nvPr/>
          </p:nvSpPr>
          <p:spPr>
            <a:xfrm>
              <a:off x="4749840" y="3378240"/>
              <a:ext cx="11916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307"/>
            <p:cNvSpPr/>
            <p:nvPr/>
          </p:nvSpPr>
          <p:spPr>
            <a:xfrm>
              <a:off x="4873680" y="3247920"/>
              <a:ext cx="12060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308"/>
            <p:cNvSpPr/>
            <p:nvPr/>
          </p:nvSpPr>
          <p:spPr>
            <a:xfrm>
              <a:off x="4998960" y="3116160"/>
              <a:ext cx="119160" cy="244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309"/>
            <p:cNvSpPr/>
            <p:nvPr/>
          </p:nvSpPr>
          <p:spPr>
            <a:xfrm>
              <a:off x="5121360" y="3051000"/>
              <a:ext cx="60120" cy="17640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310"/>
            <p:cNvSpPr/>
            <p:nvPr/>
          </p:nvSpPr>
          <p:spPr>
            <a:xfrm>
              <a:off x="4705200" y="3825720"/>
              <a:ext cx="3996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311"/>
            <p:cNvSpPr/>
            <p:nvPr/>
          </p:nvSpPr>
          <p:spPr>
            <a:xfrm>
              <a:off x="4749840" y="3673440"/>
              <a:ext cx="119160" cy="264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312"/>
            <p:cNvSpPr/>
            <p:nvPr/>
          </p:nvSpPr>
          <p:spPr>
            <a:xfrm>
              <a:off x="4873680" y="3531960"/>
              <a:ext cx="120600" cy="257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313"/>
            <p:cNvSpPr/>
            <p:nvPr/>
          </p:nvSpPr>
          <p:spPr>
            <a:xfrm>
              <a:off x="4998960" y="3386160"/>
              <a:ext cx="120600" cy="258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314"/>
            <p:cNvSpPr/>
            <p:nvPr/>
          </p:nvSpPr>
          <p:spPr>
            <a:xfrm>
              <a:off x="5121360" y="3319200"/>
              <a:ext cx="60120" cy="177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315"/>
            <p:cNvSpPr/>
            <p:nvPr/>
          </p:nvSpPr>
          <p:spPr>
            <a:xfrm>
              <a:off x="4705200" y="4125960"/>
              <a:ext cx="38160" cy="183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316"/>
            <p:cNvSpPr/>
            <p:nvPr/>
          </p:nvSpPr>
          <p:spPr>
            <a:xfrm>
              <a:off x="4749840" y="3970080"/>
              <a:ext cx="119160" cy="276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317"/>
            <p:cNvSpPr/>
            <p:nvPr/>
          </p:nvSpPr>
          <p:spPr>
            <a:xfrm>
              <a:off x="4873680" y="3817800"/>
              <a:ext cx="120600" cy="268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318"/>
            <p:cNvSpPr/>
            <p:nvPr/>
          </p:nvSpPr>
          <p:spPr>
            <a:xfrm>
              <a:off x="4998960" y="3665520"/>
              <a:ext cx="119160" cy="26172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19"/>
            <p:cNvSpPr/>
            <p:nvPr/>
          </p:nvSpPr>
          <p:spPr>
            <a:xfrm>
              <a:off x="5121360" y="3590640"/>
              <a:ext cx="6012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Freeform 320"/>
            <p:cNvSpPr/>
            <p:nvPr/>
          </p:nvSpPr>
          <p:spPr>
            <a:xfrm>
              <a:off x="5083200" y="3720960"/>
              <a:ext cx="9828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321"/>
            <p:cNvSpPr/>
            <p:nvPr/>
          </p:nvSpPr>
          <p:spPr>
            <a:xfrm>
              <a:off x="4705200" y="4152600"/>
              <a:ext cx="133560" cy="300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Freeform 322"/>
            <p:cNvSpPr/>
            <p:nvPr/>
          </p:nvSpPr>
          <p:spPr>
            <a:xfrm>
              <a:off x="4843440" y="4006800"/>
              <a:ext cx="111240" cy="266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Freeform 323"/>
            <p:cNvSpPr/>
            <p:nvPr/>
          </p:nvSpPr>
          <p:spPr>
            <a:xfrm>
              <a:off x="4960800" y="3854160"/>
              <a:ext cx="117720" cy="2620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Freeform 324"/>
            <p:cNvSpPr/>
            <p:nvPr/>
          </p:nvSpPr>
          <p:spPr>
            <a:xfrm>
              <a:off x="5078520" y="2120760"/>
              <a:ext cx="10296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325"/>
            <p:cNvSpPr/>
            <p:nvPr/>
          </p:nvSpPr>
          <p:spPr>
            <a:xfrm>
              <a:off x="4838760" y="2280960"/>
              <a:ext cx="111240" cy="20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326"/>
            <p:cNvSpPr/>
            <p:nvPr/>
          </p:nvSpPr>
          <p:spPr>
            <a:xfrm>
              <a:off x="4954680" y="2195280"/>
              <a:ext cx="118800" cy="201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Freeform 327"/>
            <p:cNvSpPr/>
            <p:nvPr/>
          </p:nvSpPr>
          <p:spPr>
            <a:xfrm>
              <a:off x="5078520" y="2384280"/>
              <a:ext cx="102960" cy="20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Freeform 328"/>
            <p:cNvSpPr/>
            <p:nvPr/>
          </p:nvSpPr>
          <p:spPr>
            <a:xfrm>
              <a:off x="4703760" y="2666880"/>
              <a:ext cx="13176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Freeform 329"/>
            <p:cNvSpPr/>
            <p:nvPr/>
          </p:nvSpPr>
          <p:spPr>
            <a:xfrm>
              <a:off x="4838760" y="2573280"/>
              <a:ext cx="111240" cy="214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Freeform 330"/>
            <p:cNvSpPr/>
            <p:nvPr/>
          </p:nvSpPr>
          <p:spPr>
            <a:xfrm>
              <a:off x="4954680" y="2474640"/>
              <a:ext cx="118800" cy="214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Freeform 331"/>
            <p:cNvSpPr/>
            <p:nvPr/>
          </p:nvSpPr>
          <p:spPr>
            <a:xfrm>
              <a:off x="5078520" y="2651040"/>
              <a:ext cx="10296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Freeform 332"/>
            <p:cNvSpPr/>
            <p:nvPr/>
          </p:nvSpPr>
          <p:spPr>
            <a:xfrm>
              <a:off x="4838760" y="2860560"/>
              <a:ext cx="111240" cy="227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Freeform 333"/>
            <p:cNvSpPr/>
            <p:nvPr/>
          </p:nvSpPr>
          <p:spPr>
            <a:xfrm>
              <a:off x="4954680" y="2749320"/>
              <a:ext cx="11880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Freeform 334"/>
            <p:cNvSpPr/>
            <p:nvPr/>
          </p:nvSpPr>
          <p:spPr>
            <a:xfrm>
              <a:off x="5083200" y="2919240"/>
              <a:ext cx="9828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Freeform 335"/>
            <p:cNvSpPr/>
            <p:nvPr/>
          </p:nvSpPr>
          <p:spPr>
            <a:xfrm>
              <a:off x="4703760" y="3259080"/>
              <a:ext cx="135000" cy="261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336"/>
            <p:cNvSpPr/>
            <p:nvPr/>
          </p:nvSpPr>
          <p:spPr>
            <a:xfrm>
              <a:off x="4843440" y="3144600"/>
              <a:ext cx="111240" cy="238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Freeform 337"/>
            <p:cNvSpPr/>
            <p:nvPr/>
          </p:nvSpPr>
          <p:spPr>
            <a:xfrm>
              <a:off x="4960800" y="3020760"/>
              <a:ext cx="117720" cy="2350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338"/>
            <p:cNvSpPr/>
            <p:nvPr/>
          </p:nvSpPr>
          <p:spPr>
            <a:xfrm>
              <a:off x="5083200" y="3184560"/>
              <a:ext cx="98280" cy="218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339"/>
            <p:cNvSpPr/>
            <p:nvPr/>
          </p:nvSpPr>
          <p:spPr>
            <a:xfrm>
              <a:off x="4703760" y="3555720"/>
              <a:ext cx="135000" cy="273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340"/>
            <p:cNvSpPr/>
            <p:nvPr/>
          </p:nvSpPr>
          <p:spPr>
            <a:xfrm>
              <a:off x="4843440" y="3429000"/>
              <a:ext cx="111240" cy="2523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Freeform 341"/>
            <p:cNvSpPr/>
            <p:nvPr/>
          </p:nvSpPr>
          <p:spPr>
            <a:xfrm>
              <a:off x="4960800" y="3297240"/>
              <a:ext cx="117720" cy="249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Freeform 342"/>
            <p:cNvSpPr/>
            <p:nvPr/>
          </p:nvSpPr>
          <p:spPr>
            <a:xfrm>
              <a:off x="5083200" y="3449520"/>
              <a:ext cx="98280" cy="239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Freeform 343"/>
            <p:cNvSpPr/>
            <p:nvPr/>
          </p:nvSpPr>
          <p:spPr>
            <a:xfrm>
              <a:off x="4703760" y="3855960"/>
              <a:ext cx="135000" cy="290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Freeform 344"/>
            <p:cNvSpPr/>
            <p:nvPr/>
          </p:nvSpPr>
          <p:spPr>
            <a:xfrm>
              <a:off x="4843440" y="3720960"/>
              <a:ext cx="111240" cy="258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Freeform 345"/>
            <p:cNvSpPr/>
            <p:nvPr/>
          </p:nvSpPr>
          <p:spPr>
            <a:xfrm>
              <a:off x="4960800" y="3578040"/>
              <a:ext cx="11772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Freeform 346"/>
            <p:cNvSpPr/>
            <p:nvPr/>
          </p:nvSpPr>
          <p:spPr>
            <a:xfrm>
              <a:off x="4705200" y="2363760"/>
              <a:ext cx="12888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Freeform 347"/>
            <p:cNvSpPr/>
            <p:nvPr/>
          </p:nvSpPr>
          <p:spPr>
            <a:xfrm>
              <a:off x="4703760" y="2582640"/>
              <a:ext cx="414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Freeform 348"/>
            <p:cNvSpPr/>
            <p:nvPr/>
          </p:nvSpPr>
          <p:spPr>
            <a:xfrm>
              <a:off x="4705200" y="2963880"/>
              <a:ext cx="12888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Rectangle 349"/>
            <p:cNvSpPr/>
            <p:nvPr/>
          </p:nvSpPr>
          <p:spPr>
            <a:xfrm flipH="1">
              <a:off x="4640400" y="3703680"/>
              <a:ext cx="6480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4" name="Group 350"/>
          <p:cNvGrpSpPr/>
          <p:nvPr/>
        </p:nvGrpSpPr>
        <p:grpSpPr>
          <a:xfrm>
            <a:off x="5613480" y="1895400"/>
            <a:ext cx="942840" cy="549360"/>
            <a:chOff x="5613480" y="1895400"/>
            <a:chExt cx="942840" cy="549360"/>
          </a:xfrm>
        </p:grpSpPr>
        <p:sp>
          <p:nvSpPr>
            <p:cNvPr id="1355" name="Freeform 351"/>
            <p:cNvSpPr/>
            <p:nvPr/>
          </p:nvSpPr>
          <p:spPr>
            <a:xfrm>
              <a:off x="5613480" y="1895400"/>
              <a:ext cx="942840" cy="324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Freeform 352"/>
            <p:cNvSpPr/>
            <p:nvPr/>
          </p:nvSpPr>
          <p:spPr>
            <a:xfrm>
              <a:off x="5615280" y="2197080"/>
              <a:ext cx="366480" cy="247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Freeform 353"/>
            <p:cNvSpPr/>
            <p:nvPr/>
          </p:nvSpPr>
          <p:spPr>
            <a:xfrm>
              <a:off x="5969160" y="1895400"/>
              <a:ext cx="582480" cy="5479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Rectangle 354"/>
          <p:cNvSpPr/>
          <p:nvPr/>
        </p:nvSpPr>
        <p:spPr>
          <a:xfrm>
            <a:off x="5452920" y="4791240"/>
            <a:ext cx="137808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Poco acceso a información relevant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355"/>
          <p:cNvGrpSpPr/>
          <p:nvPr/>
        </p:nvGrpSpPr>
        <p:grpSpPr>
          <a:xfrm>
            <a:off x="5689440" y="1971720"/>
            <a:ext cx="774720" cy="2660760"/>
            <a:chOff x="5689440" y="1971720"/>
            <a:chExt cx="774720" cy="2660760"/>
          </a:xfrm>
        </p:grpSpPr>
        <p:sp>
          <p:nvSpPr>
            <p:cNvPr id="1360" name="Rectangle 356"/>
            <p:cNvSpPr/>
            <p:nvPr/>
          </p:nvSpPr>
          <p:spPr>
            <a:xfrm flipH="1">
              <a:off x="5700600" y="2271960"/>
              <a:ext cx="285840" cy="2360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Freeform 357"/>
            <p:cNvSpPr/>
            <p:nvPr/>
          </p:nvSpPr>
          <p:spPr>
            <a:xfrm>
              <a:off x="5986440" y="1971720"/>
              <a:ext cx="468360" cy="26607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Freeform 358"/>
            <p:cNvSpPr/>
            <p:nvPr/>
          </p:nvSpPr>
          <p:spPr>
            <a:xfrm>
              <a:off x="5705280" y="2271960"/>
              <a:ext cx="287640" cy="268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359"/>
            <p:cNvSpPr/>
            <p:nvPr/>
          </p:nvSpPr>
          <p:spPr>
            <a:xfrm flipH="1">
              <a:off x="5848200" y="2617920"/>
              <a:ext cx="13824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360"/>
            <p:cNvSpPr/>
            <p:nvPr/>
          </p:nvSpPr>
          <p:spPr>
            <a:xfrm flipH="1">
              <a:off x="5691960" y="2613240"/>
              <a:ext cx="144360" cy="14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361"/>
            <p:cNvSpPr/>
            <p:nvPr/>
          </p:nvSpPr>
          <p:spPr>
            <a:xfrm flipH="1">
              <a:off x="5768280" y="245916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362"/>
            <p:cNvSpPr/>
            <p:nvPr/>
          </p:nvSpPr>
          <p:spPr>
            <a:xfrm flipH="1">
              <a:off x="5690520" y="24559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363"/>
            <p:cNvSpPr/>
            <p:nvPr/>
          </p:nvSpPr>
          <p:spPr>
            <a:xfrm flipH="1">
              <a:off x="5920560" y="24559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364"/>
            <p:cNvSpPr/>
            <p:nvPr/>
          </p:nvSpPr>
          <p:spPr>
            <a:xfrm flipH="1">
              <a:off x="5842800" y="2295720"/>
              <a:ext cx="142920" cy="14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365"/>
            <p:cNvSpPr/>
            <p:nvPr/>
          </p:nvSpPr>
          <p:spPr>
            <a:xfrm flipH="1">
              <a:off x="5689440" y="2298960"/>
              <a:ext cx="14472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366"/>
            <p:cNvSpPr/>
            <p:nvPr/>
          </p:nvSpPr>
          <p:spPr>
            <a:xfrm flipH="1">
              <a:off x="5848200" y="2930760"/>
              <a:ext cx="13824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367"/>
            <p:cNvSpPr/>
            <p:nvPr/>
          </p:nvSpPr>
          <p:spPr>
            <a:xfrm flipH="1">
              <a:off x="5692680" y="2928960"/>
              <a:ext cx="146160" cy="1382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368"/>
            <p:cNvSpPr/>
            <p:nvPr/>
          </p:nvSpPr>
          <p:spPr>
            <a:xfrm flipH="1">
              <a:off x="5769720" y="277344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369"/>
            <p:cNvSpPr/>
            <p:nvPr/>
          </p:nvSpPr>
          <p:spPr>
            <a:xfrm flipH="1">
              <a:off x="5691960" y="2772000"/>
              <a:ext cx="7308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370"/>
            <p:cNvSpPr/>
            <p:nvPr/>
          </p:nvSpPr>
          <p:spPr>
            <a:xfrm flipH="1">
              <a:off x="5922000" y="2772000"/>
              <a:ext cx="6372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371"/>
            <p:cNvSpPr/>
            <p:nvPr/>
          </p:nvSpPr>
          <p:spPr>
            <a:xfrm flipH="1">
              <a:off x="5848200" y="3238560"/>
              <a:ext cx="1396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372"/>
            <p:cNvSpPr/>
            <p:nvPr/>
          </p:nvSpPr>
          <p:spPr>
            <a:xfrm flipH="1">
              <a:off x="5692680" y="3235320"/>
              <a:ext cx="1461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373"/>
            <p:cNvSpPr/>
            <p:nvPr/>
          </p:nvSpPr>
          <p:spPr>
            <a:xfrm flipH="1">
              <a:off x="5769720" y="3079800"/>
              <a:ext cx="144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374"/>
            <p:cNvSpPr/>
            <p:nvPr/>
          </p:nvSpPr>
          <p:spPr>
            <a:xfrm flipH="1">
              <a:off x="5691960" y="3078360"/>
              <a:ext cx="7308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375"/>
            <p:cNvSpPr/>
            <p:nvPr/>
          </p:nvSpPr>
          <p:spPr>
            <a:xfrm flipH="1">
              <a:off x="5922000" y="3078360"/>
              <a:ext cx="651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376"/>
            <p:cNvSpPr/>
            <p:nvPr/>
          </p:nvSpPr>
          <p:spPr>
            <a:xfrm flipH="1">
              <a:off x="5849280" y="3554640"/>
              <a:ext cx="13644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377"/>
            <p:cNvSpPr/>
            <p:nvPr/>
          </p:nvSpPr>
          <p:spPr>
            <a:xfrm flipH="1">
              <a:off x="5695200" y="354960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Rectangle 378"/>
            <p:cNvSpPr/>
            <p:nvPr/>
          </p:nvSpPr>
          <p:spPr>
            <a:xfrm flipH="1">
              <a:off x="5771520" y="3395880"/>
              <a:ext cx="144360" cy="1346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Rectangle 379"/>
            <p:cNvSpPr/>
            <p:nvPr/>
          </p:nvSpPr>
          <p:spPr>
            <a:xfrm flipH="1">
              <a:off x="5691960" y="3394080"/>
              <a:ext cx="7452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Rectangle 380"/>
            <p:cNvSpPr/>
            <p:nvPr/>
          </p:nvSpPr>
          <p:spPr>
            <a:xfrm flipH="1">
              <a:off x="5925960" y="3394080"/>
              <a:ext cx="604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Rectangle 381"/>
            <p:cNvSpPr/>
            <p:nvPr/>
          </p:nvSpPr>
          <p:spPr>
            <a:xfrm flipH="1">
              <a:off x="5848200" y="3864240"/>
              <a:ext cx="13968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Rectangle 382"/>
            <p:cNvSpPr/>
            <p:nvPr/>
          </p:nvSpPr>
          <p:spPr>
            <a:xfrm flipH="1">
              <a:off x="5691960" y="386100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Rectangle 383"/>
            <p:cNvSpPr/>
            <p:nvPr/>
          </p:nvSpPr>
          <p:spPr>
            <a:xfrm flipH="1">
              <a:off x="5768280" y="3705480"/>
              <a:ext cx="14436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Rectangle 384"/>
            <p:cNvSpPr/>
            <p:nvPr/>
          </p:nvSpPr>
          <p:spPr>
            <a:xfrm flipH="1">
              <a:off x="5690520" y="370368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Rectangle 385"/>
            <p:cNvSpPr/>
            <p:nvPr/>
          </p:nvSpPr>
          <p:spPr>
            <a:xfrm flipH="1">
              <a:off x="5848200" y="4178520"/>
              <a:ext cx="139680" cy="1346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Rectangle 386"/>
            <p:cNvSpPr/>
            <p:nvPr/>
          </p:nvSpPr>
          <p:spPr>
            <a:xfrm flipH="1">
              <a:off x="5692680" y="4175280"/>
              <a:ext cx="1461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Rectangle 387"/>
            <p:cNvSpPr/>
            <p:nvPr/>
          </p:nvSpPr>
          <p:spPr>
            <a:xfrm flipH="1">
              <a:off x="5769720" y="401976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Rectangle 388"/>
            <p:cNvSpPr/>
            <p:nvPr/>
          </p:nvSpPr>
          <p:spPr>
            <a:xfrm flipH="1">
              <a:off x="5691960" y="40165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Rectangle 389"/>
            <p:cNvSpPr/>
            <p:nvPr/>
          </p:nvSpPr>
          <p:spPr>
            <a:xfrm flipH="1">
              <a:off x="5922000" y="4016520"/>
              <a:ext cx="6372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Rectangle 390"/>
            <p:cNvSpPr/>
            <p:nvPr/>
          </p:nvSpPr>
          <p:spPr>
            <a:xfrm flipH="1">
              <a:off x="5848200" y="4486320"/>
              <a:ext cx="138240" cy="133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Rectangle 391"/>
            <p:cNvSpPr/>
            <p:nvPr/>
          </p:nvSpPr>
          <p:spPr>
            <a:xfrm flipH="1">
              <a:off x="5692680" y="4481640"/>
              <a:ext cx="146160" cy="13824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Rectangle 392"/>
            <p:cNvSpPr/>
            <p:nvPr/>
          </p:nvSpPr>
          <p:spPr>
            <a:xfrm flipH="1">
              <a:off x="5769720" y="432612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Rectangle 393"/>
            <p:cNvSpPr/>
            <p:nvPr/>
          </p:nvSpPr>
          <p:spPr>
            <a:xfrm flipH="1">
              <a:off x="5691960" y="4324320"/>
              <a:ext cx="730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Rectangle 394"/>
            <p:cNvSpPr/>
            <p:nvPr/>
          </p:nvSpPr>
          <p:spPr>
            <a:xfrm flipH="1">
              <a:off x="5922000" y="4324320"/>
              <a:ext cx="651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395"/>
            <p:cNvSpPr/>
            <p:nvPr/>
          </p:nvSpPr>
          <p:spPr>
            <a:xfrm>
              <a:off x="5986440" y="4442040"/>
              <a:ext cx="3960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396"/>
            <p:cNvSpPr/>
            <p:nvPr/>
          </p:nvSpPr>
          <p:spPr>
            <a:xfrm>
              <a:off x="6032520" y="4264200"/>
              <a:ext cx="118800" cy="2937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Freeform 397"/>
            <p:cNvSpPr/>
            <p:nvPr/>
          </p:nvSpPr>
          <p:spPr>
            <a:xfrm>
              <a:off x="6156360" y="4102200"/>
              <a:ext cx="120600" cy="28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Freeform 398"/>
            <p:cNvSpPr/>
            <p:nvPr/>
          </p:nvSpPr>
          <p:spPr>
            <a:xfrm>
              <a:off x="6281640" y="3936960"/>
              <a:ext cx="119160" cy="2746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Freeform 399"/>
            <p:cNvSpPr/>
            <p:nvPr/>
          </p:nvSpPr>
          <p:spPr>
            <a:xfrm>
              <a:off x="6404040" y="3849840"/>
              <a:ext cx="60120" cy="195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Freeform 400"/>
            <p:cNvSpPr/>
            <p:nvPr/>
          </p:nvSpPr>
          <p:spPr>
            <a:xfrm>
              <a:off x="5986440" y="2279880"/>
              <a:ext cx="39600" cy="150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Freeform 401"/>
            <p:cNvSpPr/>
            <p:nvPr/>
          </p:nvSpPr>
          <p:spPr>
            <a:xfrm>
              <a:off x="6032520" y="2192400"/>
              <a:ext cx="118800" cy="204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Freeform 402"/>
            <p:cNvSpPr/>
            <p:nvPr/>
          </p:nvSpPr>
          <p:spPr>
            <a:xfrm>
              <a:off x="6156360" y="2109960"/>
              <a:ext cx="120600" cy="199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Freeform 403"/>
            <p:cNvSpPr/>
            <p:nvPr/>
          </p:nvSpPr>
          <p:spPr>
            <a:xfrm>
              <a:off x="6281640" y="2025720"/>
              <a:ext cx="119160" cy="196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404"/>
            <p:cNvSpPr/>
            <p:nvPr/>
          </p:nvSpPr>
          <p:spPr>
            <a:xfrm>
              <a:off x="6404040" y="1987560"/>
              <a:ext cx="60120" cy="15264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405"/>
            <p:cNvSpPr/>
            <p:nvPr/>
          </p:nvSpPr>
          <p:spPr>
            <a:xfrm>
              <a:off x="6032520" y="2486160"/>
              <a:ext cx="118800" cy="220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Freeform 406"/>
            <p:cNvSpPr/>
            <p:nvPr/>
          </p:nvSpPr>
          <p:spPr>
            <a:xfrm>
              <a:off x="6156360" y="2395800"/>
              <a:ext cx="120600" cy="2109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Freeform 407"/>
            <p:cNvSpPr/>
            <p:nvPr/>
          </p:nvSpPr>
          <p:spPr>
            <a:xfrm>
              <a:off x="6281640" y="2298960"/>
              <a:ext cx="119160" cy="2095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Freeform 408"/>
            <p:cNvSpPr/>
            <p:nvPr/>
          </p:nvSpPr>
          <p:spPr>
            <a:xfrm>
              <a:off x="6404040" y="2255760"/>
              <a:ext cx="60120" cy="15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Freeform 409"/>
            <p:cNvSpPr/>
            <p:nvPr/>
          </p:nvSpPr>
          <p:spPr>
            <a:xfrm>
              <a:off x="5986440" y="2897280"/>
              <a:ext cx="396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0"/>
            <p:cNvSpPr/>
            <p:nvPr/>
          </p:nvSpPr>
          <p:spPr>
            <a:xfrm>
              <a:off x="6032520" y="2784600"/>
              <a:ext cx="118800" cy="2300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Freeform 411"/>
            <p:cNvSpPr/>
            <p:nvPr/>
          </p:nvSpPr>
          <p:spPr>
            <a:xfrm>
              <a:off x="6156360" y="2675160"/>
              <a:ext cx="120600" cy="226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Freeform 412"/>
            <p:cNvSpPr/>
            <p:nvPr/>
          </p:nvSpPr>
          <p:spPr>
            <a:xfrm>
              <a:off x="6281640" y="2571840"/>
              <a:ext cx="119160" cy="2221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Freeform 413"/>
            <p:cNvSpPr/>
            <p:nvPr/>
          </p:nvSpPr>
          <p:spPr>
            <a:xfrm>
              <a:off x="6404040" y="2519640"/>
              <a:ext cx="60120" cy="164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Freeform 414"/>
            <p:cNvSpPr/>
            <p:nvPr/>
          </p:nvSpPr>
          <p:spPr>
            <a:xfrm>
              <a:off x="5987880" y="3200400"/>
              <a:ext cx="38160" cy="16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Freeform 415"/>
            <p:cNvSpPr/>
            <p:nvPr/>
          </p:nvSpPr>
          <p:spPr>
            <a:xfrm>
              <a:off x="6032520" y="3081600"/>
              <a:ext cx="118800" cy="239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Freeform 416"/>
            <p:cNvSpPr/>
            <p:nvPr/>
          </p:nvSpPr>
          <p:spPr>
            <a:xfrm>
              <a:off x="6156360" y="2963880"/>
              <a:ext cx="12060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Freeform 417"/>
            <p:cNvSpPr/>
            <p:nvPr/>
          </p:nvSpPr>
          <p:spPr>
            <a:xfrm>
              <a:off x="6281640" y="2843280"/>
              <a:ext cx="11916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418"/>
            <p:cNvSpPr/>
            <p:nvPr/>
          </p:nvSpPr>
          <p:spPr>
            <a:xfrm>
              <a:off x="6404040" y="2784600"/>
              <a:ext cx="60120" cy="1699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419"/>
            <p:cNvSpPr/>
            <p:nvPr/>
          </p:nvSpPr>
          <p:spPr>
            <a:xfrm>
              <a:off x="5986440" y="3511800"/>
              <a:ext cx="39600" cy="169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Freeform 420"/>
            <p:cNvSpPr/>
            <p:nvPr/>
          </p:nvSpPr>
          <p:spPr>
            <a:xfrm>
              <a:off x="6032520" y="3378240"/>
              <a:ext cx="118800" cy="246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Freeform 421"/>
            <p:cNvSpPr/>
            <p:nvPr/>
          </p:nvSpPr>
          <p:spPr>
            <a:xfrm>
              <a:off x="6156360" y="3248280"/>
              <a:ext cx="12060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Freeform 422"/>
            <p:cNvSpPr/>
            <p:nvPr/>
          </p:nvSpPr>
          <p:spPr>
            <a:xfrm>
              <a:off x="6281640" y="3116520"/>
              <a:ext cx="119160" cy="244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Freeform 423"/>
            <p:cNvSpPr/>
            <p:nvPr/>
          </p:nvSpPr>
          <p:spPr>
            <a:xfrm>
              <a:off x="6404040" y="3051360"/>
              <a:ext cx="60120" cy="1760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Freeform 424"/>
            <p:cNvSpPr/>
            <p:nvPr/>
          </p:nvSpPr>
          <p:spPr>
            <a:xfrm>
              <a:off x="5987880" y="3826080"/>
              <a:ext cx="39960" cy="161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Freeform 425"/>
            <p:cNvSpPr/>
            <p:nvPr/>
          </p:nvSpPr>
          <p:spPr>
            <a:xfrm>
              <a:off x="6032520" y="3673440"/>
              <a:ext cx="118800" cy="265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Freeform 426"/>
            <p:cNvSpPr/>
            <p:nvPr/>
          </p:nvSpPr>
          <p:spPr>
            <a:xfrm>
              <a:off x="6156360" y="3532320"/>
              <a:ext cx="120600" cy="2570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Freeform 427"/>
            <p:cNvSpPr/>
            <p:nvPr/>
          </p:nvSpPr>
          <p:spPr>
            <a:xfrm>
              <a:off x="6281640" y="3386160"/>
              <a:ext cx="12060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Freeform 428"/>
            <p:cNvSpPr/>
            <p:nvPr/>
          </p:nvSpPr>
          <p:spPr>
            <a:xfrm>
              <a:off x="6404040" y="3319560"/>
              <a:ext cx="60120" cy="177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Freeform 429"/>
            <p:cNvSpPr/>
            <p:nvPr/>
          </p:nvSpPr>
          <p:spPr>
            <a:xfrm>
              <a:off x="5987880" y="4125960"/>
              <a:ext cx="38160" cy="18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Freeform 430"/>
            <p:cNvSpPr/>
            <p:nvPr/>
          </p:nvSpPr>
          <p:spPr>
            <a:xfrm>
              <a:off x="6032520" y="3970440"/>
              <a:ext cx="118800" cy="276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Freeform 431"/>
            <p:cNvSpPr/>
            <p:nvPr/>
          </p:nvSpPr>
          <p:spPr>
            <a:xfrm>
              <a:off x="6156360" y="3818160"/>
              <a:ext cx="120600" cy="268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Freeform 432"/>
            <p:cNvSpPr/>
            <p:nvPr/>
          </p:nvSpPr>
          <p:spPr>
            <a:xfrm>
              <a:off x="6281640" y="3665520"/>
              <a:ext cx="119160" cy="26208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Freeform 433"/>
            <p:cNvSpPr/>
            <p:nvPr/>
          </p:nvSpPr>
          <p:spPr>
            <a:xfrm>
              <a:off x="6404040" y="3591000"/>
              <a:ext cx="6012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Freeform 434"/>
            <p:cNvSpPr/>
            <p:nvPr/>
          </p:nvSpPr>
          <p:spPr>
            <a:xfrm>
              <a:off x="6365880" y="3721320"/>
              <a:ext cx="9828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Freeform 435"/>
            <p:cNvSpPr/>
            <p:nvPr/>
          </p:nvSpPr>
          <p:spPr>
            <a:xfrm>
              <a:off x="5987880" y="4152960"/>
              <a:ext cx="133560" cy="300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Freeform 436"/>
            <p:cNvSpPr/>
            <p:nvPr/>
          </p:nvSpPr>
          <p:spPr>
            <a:xfrm>
              <a:off x="6126120" y="4006800"/>
              <a:ext cx="111240" cy="266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Freeform 437"/>
            <p:cNvSpPr/>
            <p:nvPr/>
          </p:nvSpPr>
          <p:spPr>
            <a:xfrm>
              <a:off x="6243480" y="3854520"/>
              <a:ext cx="117720" cy="2620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Freeform 438"/>
            <p:cNvSpPr/>
            <p:nvPr/>
          </p:nvSpPr>
          <p:spPr>
            <a:xfrm>
              <a:off x="6361200" y="2121120"/>
              <a:ext cx="10296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Freeform 439"/>
            <p:cNvSpPr/>
            <p:nvPr/>
          </p:nvSpPr>
          <p:spPr>
            <a:xfrm>
              <a:off x="6121440" y="2281320"/>
              <a:ext cx="11088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Freeform 440"/>
            <p:cNvSpPr/>
            <p:nvPr/>
          </p:nvSpPr>
          <p:spPr>
            <a:xfrm>
              <a:off x="6237360" y="2195640"/>
              <a:ext cx="118800" cy="201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Freeform 441"/>
            <p:cNvSpPr/>
            <p:nvPr/>
          </p:nvSpPr>
          <p:spPr>
            <a:xfrm>
              <a:off x="6361200" y="2384640"/>
              <a:ext cx="102960" cy="199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Freeform 442"/>
            <p:cNvSpPr/>
            <p:nvPr/>
          </p:nvSpPr>
          <p:spPr>
            <a:xfrm>
              <a:off x="5986440" y="2667240"/>
              <a:ext cx="13176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Freeform 443"/>
            <p:cNvSpPr/>
            <p:nvPr/>
          </p:nvSpPr>
          <p:spPr>
            <a:xfrm>
              <a:off x="6121440" y="2573280"/>
              <a:ext cx="110880" cy="214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Freeform 444"/>
            <p:cNvSpPr/>
            <p:nvPr/>
          </p:nvSpPr>
          <p:spPr>
            <a:xfrm>
              <a:off x="6237360" y="2475000"/>
              <a:ext cx="118800" cy="214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Freeform 445"/>
            <p:cNvSpPr/>
            <p:nvPr/>
          </p:nvSpPr>
          <p:spPr>
            <a:xfrm>
              <a:off x="6361200" y="2651400"/>
              <a:ext cx="10296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Freeform 446"/>
            <p:cNvSpPr/>
            <p:nvPr/>
          </p:nvSpPr>
          <p:spPr>
            <a:xfrm>
              <a:off x="6121440" y="2860920"/>
              <a:ext cx="110880" cy="226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Freeform 447"/>
            <p:cNvSpPr/>
            <p:nvPr/>
          </p:nvSpPr>
          <p:spPr>
            <a:xfrm>
              <a:off x="6237360" y="2749680"/>
              <a:ext cx="11880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Freeform 448"/>
            <p:cNvSpPr/>
            <p:nvPr/>
          </p:nvSpPr>
          <p:spPr>
            <a:xfrm>
              <a:off x="6365880" y="2919600"/>
              <a:ext cx="9828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Freeform 449"/>
            <p:cNvSpPr/>
            <p:nvPr/>
          </p:nvSpPr>
          <p:spPr>
            <a:xfrm>
              <a:off x="5986440" y="3259080"/>
              <a:ext cx="135000" cy="26208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Freeform 450"/>
            <p:cNvSpPr/>
            <p:nvPr/>
          </p:nvSpPr>
          <p:spPr>
            <a:xfrm>
              <a:off x="6126120" y="3144960"/>
              <a:ext cx="11124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51"/>
            <p:cNvSpPr/>
            <p:nvPr/>
          </p:nvSpPr>
          <p:spPr>
            <a:xfrm>
              <a:off x="6243480" y="3021120"/>
              <a:ext cx="117720" cy="2350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Freeform 452"/>
            <p:cNvSpPr/>
            <p:nvPr/>
          </p:nvSpPr>
          <p:spPr>
            <a:xfrm>
              <a:off x="6365880" y="3184560"/>
              <a:ext cx="98280" cy="21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Freeform 453"/>
            <p:cNvSpPr/>
            <p:nvPr/>
          </p:nvSpPr>
          <p:spPr>
            <a:xfrm>
              <a:off x="5986440" y="3556080"/>
              <a:ext cx="135000" cy="273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Freeform 454"/>
            <p:cNvSpPr/>
            <p:nvPr/>
          </p:nvSpPr>
          <p:spPr>
            <a:xfrm>
              <a:off x="6126120" y="3429000"/>
              <a:ext cx="111240" cy="2523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Freeform 455"/>
            <p:cNvSpPr/>
            <p:nvPr/>
          </p:nvSpPr>
          <p:spPr>
            <a:xfrm>
              <a:off x="6243480" y="3297240"/>
              <a:ext cx="117720" cy="249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Freeform 456"/>
            <p:cNvSpPr/>
            <p:nvPr/>
          </p:nvSpPr>
          <p:spPr>
            <a:xfrm>
              <a:off x="6365880" y="3449880"/>
              <a:ext cx="98280" cy="239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Freeform 457"/>
            <p:cNvSpPr/>
            <p:nvPr/>
          </p:nvSpPr>
          <p:spPr>
            <a:xfrm>
              <a:off x="5986440" y="3855960"/>
              <a:ext cx="135000" cy="290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Freeform 458"/>
            <p:cNvSpPr/>
            <p:nvPr/>
          </p:nvSpPr>
          <p:spPr>
            <a:xfrm>
              <a:off x="6126120" y="3721320"/>
              <a:ext cx="111240" cy="2584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Freeform 459"/>
            <p:cNvSpPr/>
            <p:nvPr/>
          </p:nvSpPr>
          <p:spPr>
            <a:xfrm>
              <a:off x="6243480" y="3578400"/>
              <a:ext cx="11772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Freeform 460"/>
            <p:cNvSpPr/>
            <p:nvPr/>
          </p:nvSpPr>
          <p:spPr>
            <a:xfrm>
              <a:off x="5987880" y="2363760"/>
              <a:ext cx="128520" cy="225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Freeform 461"/>
            <p:cNvSpPr/>
            <p:nvPr/>
          </p:nvSpPr>
          <p:spPr>
            <a:xfrm>
              <a:off x="5986440" y="2583000"/>
              <a:ext cx="414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Freeform 462"/>
            <p:cNvSpPr/>
            <p:nvPr/>
          </p:nvSpPr>
          <p:spPr>
            <a:xfrm>
              <a:off x="5987880" y="2963880"/>
              <a:ext cx="128520" cy="246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Rectangle 463"/>
            <p:cNvSpPr/>
            <p:nvPr/>
          </p:nvSpPr>
          <p:spPr>
            <a:xfrm flipH="1">
              <a:off x="5922000" y="3703680"/>
              <a:ext cx="6516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Rectangle 464"/>
          <p:cNvSpPr/>
          <p:nvPr/>
        </p:nvSpPr>
        <p:spPr>
          <a:xfrm>
            <a:off x="6807240" y="4791240"/>
            <a:ext cx="18082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2600" indent="-1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Falta </a:t>
            </a:r>
            <a:br>
              <a:rPr sz="1400"/>
            </a:b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e reconocimiento social de los emprendedor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465"/>
          <p:cNvGrpSpPr/>
          <p:nvPr/>
        </p:nvGrpSpPr>
        <p:grpSpPr>
          <a:xfrm>
            <a:off x="6746760" y="1895400"/>
            <a:ext cx="942840" cy="549360"/>
            <a:chOff x="6746760" y="1895400"/>
            <a:chExt cx="942840" cy="549360"/>
          </a:xfrm>
        </p:grpSpPr>
        <p:sp>
          <p:nvSpPr>
            <p:cNvPr id="1470" name="Freeform 466"/>
            <p:cNvSpPr/>
            <p:nvPr/>
          </p:nvSpPr>
          <p:spPr>
            <a:xfrm>
              <a:off x="6746760" y="1895400"/>
              <a:ext cx="942840" cy="324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Freeform 467"/>
            <p:cNvSpPr/>
            <p:nvPr/>
          </p:nvSpPr>
          <p:spPr>
            <a:xfrm>
              <a:off x="6748200" y="2197080"/>
              <a:ext cx="366840" cy="247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Freeform 468"/>
            <p:cNvSpPr/>
            <p:nvPr/>
          </p:nvSpPr>
          <p:spPr>
            <a:xfrm>
              <a:off x="7102080" y="1895400"/>
              <a:ext cx="582840" cy="5479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Group 469"/>
          <p:cNvGrpSpPr/>
          <p:nvPr/>
        </p:nvGrpSpPr>
        <p:grpSpPr>
          <a:xfrm>
            <a:off x="6822720" y="1971720"/>
            <a:ext cx="775080" cy="2660760"/>
            <a:chOff x="6822720" y="1971720"/>
            <a:chExt cx="775080" cy="2660760"/>
          </a:xfrm>
        </p:grpSpPr>
        <p:sp>
          <p:nvSpPr>
            <p:cNvPr id="1474" name="Rectangle 470"/>
            <p:cNvSpPr/>
            <p:nvPr/>
          </p:nvSpPr>
          <p:spPr>
            <a:xfrm flipH="1">
              <a:off x="6833520" y="2271960"/>
              <a:ext cx="285480" cy="2360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Freeform 471"/>
            <p:cNvSpPr/>
            <p:nvPr/>
          </p:nvSpPr>
          <p:spPr>
            <a:xfrm>
              <a:off x="7119720" y="1971720"/>
              <a:ext cx="468360" cy="26607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Freeform 472"/>
            <p:cNvSpPr/>
            <p:nvPr/>
          </p:nvSpPr>
          <p:spPr>
            <a:xfrm>
              <a:off x="6838920" y="2271960"/>
              <a:ext cx="287280" cy="268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Rectangle 473"/>
            <p:cNvSpPr/>
            <p:nvPr/>
          </p:nvSpPr>
          <p:spPr>
            <a:xfrm flipH="1">
              <a:off x="6981120" y="2617920"/>
              <a:ext cx="1378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Rectangle 474"/>
            <p:cNvSpPr/>
            <p:nvPr/>
          </p:nvSpPr>
          <p:spPr>
            <a:xfrm flipH="1">
              <a:off x="6825600" y="2613240"/>
              <a:ext cx="144360" cy="14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Rectangle 475"/>
            <p:cNvSpPr/>
            <p:nvPr/>
          </p:nvSpPr>
          <p:spPr>
            <a:xfrm flipH="1">
              <a:off x="6902280" y="2459160"/>
              <a:ext cx="14472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Rectangle 476"/>
            <p:cNvSpPr/>
            <p:nvPr/>
          </p:nvSpPr>
          <p:spPr>
            <a:xfrm flipH="1">
              <a:off x="6823800" y="24559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Rectangle 477"/>
            <p:cNvSpPr/>
            <p:nvPr/>
          </p:nvSpPr>
          <p:spPr>
            <a:xfrm flipH="1">
              <a:off x="7054200" y="24559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Rectangle 478"/>
            <p:cNvSpPr/>
            <p:nvPr/>
          </p:nvSpPr>
          <p:spPr>
            <a:xfrm flipH="1">
              <a:off x="6977160" y="2295720"/>
              <a:ext cx="142560" cy="14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Rectangle 479"/>
            <p:cNvSpPr/>
            <p:nvPr/>
          </p:nvSpPr>
          <p:spPr>
            <a:xfrm flipH="1">
              <a:off x="6822360" y="229896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Rectangle 480"/>
            <p:cNvSpPr/>
            <p:nvPr/>
          </p:nvSpPr>
          <p:spPr>
            <a:xfrm flipH="1">
              <a:off x="6981120" y="2930760"/>
              <a:ext cx="1378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Rectangle 481"/>
            <p:cNvSpPr/>
            <p:nvPr/>
          </p:nvSpPr>
          <p:spPr>
            <a:xfrm flipH="1">
              <a:off x="6825600" y="2928960"/>
              <a:ext cx="145800" cy="1382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Rectangle 482"/>
            <p:cNvSpPr/>
            <p:nvPr/>
          </p:nvSpPr>
          <p:spPr>
            <a:xfrm flipH="1">
              <a:off x="6903360" y="2773440"/>
              <a:ext cx="144360" cy="1335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Rectangle 483"/>
            <p:cNvSpPr/>
            <p:nvPr/>
          </p:nvSpPr>
          <p:spPr>
            <a:xfrm flipH="1">
              <a:off x="6825600" y="2772000"/>
              <a:ext cx="730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Rectangle 484"/>
            <p:cNvSpPr/>
            <p:nvPr/>
          </p:nvSpPr>
          <p:spPr>
            <a:xfrm flipH="1">
              <a:off x="7056360" y="2772000"/>
              <a:ext cx="63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Rectangle 485"/>
            <p:cNvSpPr/>
            <p:nvPr/>
          </p:nvSpPr>
          <p:spPr>
            <a:xfrm flipH="1">
              <a:off x="6981840" y="3238560"/>
              <a:ext cx="1396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Rectangle 486"/>
            <p:cNvSpPr/>
            <p:nvPr/>
          </p:nvSpPr>
          <p:spPr>
            <a:xfrm flipH="1">
              <a:off x="6825600" y="3235320"/>
              <a:ext cx="14580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Rectangle 487"/>
            <p:cNvSpPr/>
            <p:nvPr/>
          </p:nvSpPr>
          <p:spPr>
            <a:xfrm flipH="1">
              <a:off x="6903360" y="3079800"/>
              <a:ext cx="1443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488"/>
            <p:cNvSpPr/>
            <p:nvPr/>
          </p:nvSpPr>
          <p:spPr>
            <a:xfrm flipH="1">
              <a:off x="6825600" y="3078360"/>
              <a:ext cx="7308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489"/>
            <p:cNvSpPr/>
            <p:nvPr/>
          </p:nvSpPr>
          <p:spPr>
            <a:xfrm flipH="1">
              <a:off x="7055640" y="3078360"/>
              <a:ext cx="651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490"/>
            <p:cNvSpPr/>
            <p:nvPr/>
          </p:nvSpPr>
          <p:spPr>
            <a:xfrm flipH="1">
              <a:off x="6982560" y="3554640"/>
              <a:ext cx="13644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Rectangle 491"/>
            <p:cNvSpPr/>
            <p:nvPr/>
          </p:nvSpPr>
          <p:spPr>
            <a:xfrm flipH="1">
              <a:off x="6829200" y="3549600"/>
              <a:ext cx="144720" cy="140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Rectangle 492"/>
            <p:cNvSpPr/>
            <p:nvPr/>
          </p:nvSpPr>
          <p:spPr>
            <a:xfrm flipH="1">
              <a:off x="6904800" y="3395880"/>
              <a:ext cx="14436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Rectangle 493"/>
            <p:cNvSpPr/>
            <p:nvPr/>
          </p:nvSpPr>
          <p:spPr>
            <a:xfrm flipH="1">
              <a:off x="6825600" y="3394080"/>
              <a:ext cx="7452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Rectangle 494"/>
            <p:cNvSpPr/>
            <p:nvPr/>
          </p:nvSpPr>
          <p:spPr>
            <a:xfrm flipH="1">
              <a:off x="7058880" y="3394080"/>
              <a:ext cx="60120" cy="1368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Rectangle 495"/>
            <p:cNvSpPr/>
            <p:nvPr/>
          </p:nvSpPr>
          <p:spPr>
            <a:xfrm flipH="1">
              <a:off x="6981840" y="3864240"/>
              <a:ext cx="139680" cy="133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Rectangle 496"/>
            <p:cNvSpPr/>
            <p:nvPr/>
          </p:nvSpPr>
          <p:spPr>
            <a:xfrm flipH="1">
              <a:off x="6825600" y="3861000"/>
              <a:ext cx="14436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Rectangle 497"/>
            <p:cNvSpPr/>
            <p:nvPr/>
          </p:nvSpPr>
          <p:spPr>
            <a:xfrm flipH="1">
              <a:off x="6902280" y="3705480"/>
              <a:ext cx="144720" cy="134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Rectangle 498"/>
            <p:cNvSpPr/>
            <p:nvPr/>
          </p:nvSpPr>
          <p:spPr>
            <a:xfrm flipH="1">
              <a:off x="6823800" y="370368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Rectangle 499"/>
            <p:cNvSpPr/>
            <p:nvPr/>
          </p:nvSpPr>
          <p:spPr>
            <a:xfrm flipH="1">
              <a:off x="6981840" y="4178520"/>
              <a:ext cx="139680" cy="1350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Rectangle 500"/>
            <p:cNvSpPr/>
            <p:nvPr/>
          </p:nvSpPr>
          <p:spPr>
            <a:xfrm flipH="1">
              <a:off x="6825600" y="4175280"/>
              <a:ext cx="145800" cy="139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Rectangle 501"/>
            <p:cNvSpPr/>
            <p:nvPr/>
          </p:nvSpPr>
          <p:spPr>
            <a:xfrm flipH="1">
              <a:off x="6903360" y="401976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Rectangle 502"/>
            <p:cNvSpPr/>
            <p:nvPr/>
          </p:nvSpPr>
          <p:spPr>
            <a:xfrm flipH="1">
              <a:off x="6825600" y="4016520"/>
              <a:ext cx="7308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Rectangle 503"/>
            <p:cNvSpPr/>
            <p:nvPr/>
          </p:nvSpPr>
          <p:spPr>
            <a:xfrm flipH="1">
              <a:off x="7056360" y="4016520"/>
              <a:ext cx="63360" cy="1364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Rectangle 504"/>
            <p:cNvSpPr/>
            <p:nvPr/>
          </p:nvSpPr>
          <p:spPr>
            <a:xfrm flipH="1">
              <a:off x="6981120" y="4486320"/>
              <a:ext cx="137880" cy="133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Rectangle 505"/>
            <p:cNvSpPr/>
            <p:nvPr/>
          </p:nvSpPr>
          <p:spPr>
            <a:xfrm flipH="1">
              <a:off x="6825600" y="4481640"/>
              <a:ext cx="145800" cy="13824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Rectangle 506"/>
            <p:cNvSpPr/>
            <p:nvPr/>
          </p:nvSpPr>
          <p:spPr>
            <a:xfrm flipH="1">
              <a:off x="6903360" y="4326120"/>
              <a:ext cx="144360" cy="133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Rectangle 507"/>
            <p:cNvSpPr/>
            <p:nvPr/>
          </p:nvSpPr>
          <p:spPr>
            <a:xfrm flipH="1">
              <a:off x="6825600" y="4324320"/>
              <a:ext cx="7308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Rectangle 508"/>
            <p:cNvSpPr/>
            <p:nvPr/>
          </p:nvSpPr>
          <p:spPr>
            <a:xfrm flipH="1">
              <a:off x="7055640" y="4324320"/>
              <a:ext cx="65160" cy="135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Freeform 509"/>
            <p:cNvSpPr/>
            <p:nvPr/>
          </p:nvSpPr>
          <p:spPr>
            <a:xfrm>
              <a:off x="7119720" y="4442040"/>
              <a:ext cx="3996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Freeform 510"/>
            <p:cNvSpPr/>
            <p:nvPr/>
          </p:nvSpPr>
          <p:spPr>
            <a:xfrm>
              <a:off x="7165800" y="4264200"/>
              <a:ext cx="119160" cy="2937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Freeform 511"/>
            <p:cNvSpPr/>
            <p:nvPr/>
          </p:nvSpPr>
          <p:spPr>
            <a:xfrm>
              <a:off x="7289640" y="4102200"/>
              <a:ext cx="120600" cy="28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Freeform 512"/>
            <p:cNvSpPr/>
            <p:nvPr/>
          </p:nvSpPr>
          <p:spPr>
            <a:xfrm>
              <a:off x="7415280" y="3936960"/>
              <a:ext cx="118800" cy="2746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Freeform 513"/>
            <p:cNvSpPr/>
            <p:nvPr/>
          </p:nvSpPr>
          <p:spPr>
            <a:xfrm>
              <a:off x="7537320" y="3849840"/>
              <a:ext cx="60480" cy="195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Freeform 514"/>
            <p:cNvSpPr/>
            <p:nvPr/>
          </p:nvSpPr>
          <p:spPr>
            <a:xfrm>
              <a:off x="7119720" y="2279880"/>
              <a:ext cx="39960" cy="150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Freeform 515"/>
            <p:cNvSpPr/>
            <p:nvPr/>
          </p:nvSpPr>
          <p:spPr>
            <a:xfrm>
              <a:off x="7165800" y="2192400"/>
              <a:ext cx="119160" cy="204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Freeform 516"/>
            <p:cNvSpPr/>
            <p:nvPr/>
          </p:nvSpPr>
          <p:spPr>
            <a:xfrm>
              <a:off x="7289640" y="2109960"/>
              <a:ext cx="120600" cy="20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Freeform 517"/>
            <p:cNvSpPr/>
            <p:nvPr/>
          </p:nvSpPr>
          <p:spPr>
            <a:xfrm>
              <a:off x="7415280" y="2025720"/>
              <a:ext cx="118800" cy="196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Freeform 518"/>
            <p:cNvSpPr/>
            <p:nvPr/>
          </p:nvSpPr>
          <p:spPr>
            <a:xfrm>
              <a:off x="7537320" y="1987560"/>
              <a:ext cx="60480" cy="15264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Freeform 519"/>
            <p:cNvSpPr/>
            <p:nvPr/>
          </p:nvSpPr>
          <p:spPr>
            <a:xfrm>
              <a:off x="7165800" y="2486160"/>
              <a:ext cx="119160" cy="220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Freeform 520"/>
            <p:cNvSpPr/>
            <p:nvPr/>
          </p:nvSpPr>
          <p:spPr>
            <a:xfrm>
              <a:off x="7289640" y="2395800"/>
              <a:ext cx="120600" cy="2109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Freeform 521"/>
            <p:cNvSpPr/>
            <p:nvPr/>
          </p:nvSpPr>
          <p:spPr>
            <a:xfrm>
              <a:off x="7415280" y="2298960"/>
              <a:ext cx="118800" cy="2095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Freeform 522"/>
            <p:cNvSpPr/>
            <p:nvPr/>
          </p:nvSpPr>
          <p:spPr>
            <a:xfrm>
              <a:off x="7537320" y="2256120"/>
              <a:ext cx="60480" cy="156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Freeform 523"/>
            <p:cNvSpPr/>
            <p:nvPr/>
          </p:nvSpPr>
          <p:spPr>
            <a:xfrm>
              <a:off x="7119720" y="2897280"/>
              <a:ext cx="3996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Freeform 524"/>
            <p:cNvSpPr/>
            <p:nvPr/>
          </p:nvSpPr>
          <p:spPr>
            <a:xfrm>
              <a:off x="7165800" y="2784600"/>
              <a:ext cx="119160" cy="2300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Freeform 525"/>
            <p:cNvSpPr/>
            <p:nvPr/>
          </p:nvSpPr>
          <p:spPr>
            <a:xfrm>
              <a:off x="7289640" y="2675160"/>
              <a:ext cx="120600" cy="226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Freeform 526"/>
            <p:cNvSpPr/>
            <p:nvPr/>
          </p:nvSpPr>
          <p:spPr>
            <a:xfrm>
              <a:off x="7415280" y="2571840"/>
              <a:ext cx="118800" cy="2221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Freeform 527"/>
            <p:cNvSpPr/>
            <p:nvPr/>
          </p:nvSpPr>
          <p:spPr>
            <a:xfrm>
              <a:off x="7537320" y="2519640"/>
              <a:ext cx="60480" cy="164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Freeform 528"/>
            <p:cNvSpPr/>
            <p:nvPr/>
          </p:nvSpPr>
          <p:spPr>
            <a:xfrm>
              <a:off x="7121520" y="3200400"/>
              <a:ext cx="38160" cy="16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Freeform 529"/>
            <p:cNvSpPr/>
            <p:nvPr/>
          </p:nvSpPr>
          <p:spPr>
            <a:xfrm>
              <a:off x="7165800" y="3081600"/>
              <a:ext cx="119160" cy="239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Freeform 530"/>
            <p:cNvSpPr/>
            <p:nvPr/>
          </p:nvSpPr>
          <p:spPr>
            <a:xfrm>
              <a:off x="7289640" y="2963880"/>
              <a:ext cx="120600" cy="23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531"/>
            <p:cNvSpPr/>
            <p:nvPr/>
          </p:nvSpPr>
          <p:spPr>
            <a:xfrm>
              <a:off x="7415280" y="2843280"/>
              <a:ext cx="11880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532"/>
            <p:cNvSpPr/>
            <p:nvPr/>
          </p:nvSpPr>
          <p:spPr>
            <a:xfrm>
              <a:off x="7537320" y="2784600"/>
              <a:ext cx="60480" cy="1699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533"/>
            <p:cNvSpPr/>
            <p:nvPr/>
          </p:nvSpPr>
          <p:spPr>
            <a:xfrm>
              <a:off x="7119720" y="3511800"/>
              <a:ext cx="39960" cy="169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534"/>
            <p:cNvSpPr/>
            <p:nvPr/>
          </p:nvSpPr>
          <p:spPr>
            <a:xfrm>
              <a:off x="7165800" y="3378240"/>
              <a:ext cx="119160" cy="246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535"/>
            <p:cNvSpPr/>
            <p:nvPr/>
          </p:nvSpPr>
          <p:spPr>
            <a:xfrm>
              <a:off x="7289640" y="3248280"/>
              <a:ext cx="120600" cy="245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536"/>
            <p:cNvSpPr/>
            <p:nvPr/>
          </p:nvSpPr>
          <p:spPr>
            <a:xfrm>
              <a:off x="7415280" y="3116520"/>
              <a:ext cx="118800" cy="244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537"/>
            <p:cNvSpPr/>
            <p:nvPr/>
          </p:nvSpPr>
          <p:spPr>
            <a:xfrm>
              <a:off x="7537320" y="3051360"/>
              <a:ext cx="60480" cy="1760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Freeform 538"/>
            <p:cNvSpPr/>
            <p:nvPr/>
          </p:nvSpPr>
          <p:spPr>
            <a:xfrm>
              <a:off x="7121520" y="3826080"/>
              <a:ext cx="396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Freeform 539"/>
            <p:cNvSpPr/>
            <p:nvPr/>
          </p:nvSpPr>
          <p:spPr>
            <a:xfrm>
              <a:off x="7165800" y="3673440"/>
              <a:ext cx="119160" cy="265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Freeform 540"/>
            <p:cNvSpPr/>
            <p:nvPr/>
          </p:nvSpPr>
          <p:spPr>
            <a:xfrm>
              <a:off x="7289640" y="3532320"/>
              <a:ext cx="120600" cy="2570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Freeform 541"/>
            <p:cNvSpPr/>
            <p:nvPr/>
          </p:nvSpPr>
          <p:spPr>
            <a:xfrm>
              <a:off x="7415280" y="3386160"/>
              <a:ext cx="12060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Freeform 542"/>
            <p:cNvSpPr/>
            <p:nvPr/>
          </p:nvSpPr>
          <p:spPr>
            <a:xfrm>
              <a:off x="7537320" y="3319560"/>
              <a:ext cx="60480" cy="177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Freeform 543"/>
            <p:cNvSpPr/>
            <p:nvPr/>
          </p:nvSpPr>
          <p:spPr>
            <a:xfrm>
              <a:off x="7121520" y="4125960"/>
              <a:ext cx="38160" cy="18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Freeform 544"/>
            <p:cNvSpPr/>
            <p:nvPr/>
          </p:nvSpPr>
          <p:spPr>
            <a:xfrm>
              <a:off x="7165800" y="3970440"/>
              <a:ext cx="119160" cy="276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Freeform 545"/>
            <p:cNvSpPr/>
            <p:nvPr/>
          </p:nvSpPr>
          <p:spPr>
            <a:xfrm>
              <a:off x="7289640" y="3818160"/>
              <a:ext cx="120600" cy="268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Freeform 546"/>
            <p:cNvSpPr/>
            <p:nvPr/>
          </p:nvSpPr>
          <p:spPr>
            <a:xfrm>
              <a:off x="7415280" y="3665520"/>
              <a:ext cx="118800" cy="26208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Freeform 547"/>
            <p:cNvSpPr/>
            <p:nvPr/>
          </p:nvSpPr>
          <p:spPr>
            <a:xfrm>
              <a:off x="7537320" y="3591000"/>
              <a:ext cx="6048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Freeform 548"/>
            <p:cNvSpPr/>
            <p:nvPr/>
          </p:nvSpPr>
          <p:spPr>
            <a:xfrm>
              <a:off x="7499160" y="3721320"/>
              <a:ext cx="98640" cy="233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Freeform 549"/>
            <p:cNvSpPr/>
            <p:nvPr/>
          </p:nvSpPr>
          <p:spPr>
            <a:xfrm>
              <a:off x="7121520" y="4152960"/>
              <a:ext cx="133200" cy="300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Freeform 550"/>
            <p:cNvSpPr/>
            <p:nvPr/>
          </p:nvSpPr>
          <p:spPr>
            <a:xfrm>
              <a:off x="7259760" y="4006800"/>
              <a:ext cx="110880" cy="266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Freeform 551"/>
            <p:cNvSpPr/>
            <p:nvPr/>
          </p:nvSpPr>
          <p:spPr>
            <a:xfrm>
              <a:off x="7377120" y="3854520"/>
              <a:ext cx="117360" cy="2620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Freeform 552"/>
            <p:cNvSpPr/>
            <p:nvPr/>
          </p:nvSpPr>
          <p:spPr>
            <a:xfrm>
              <a:off x="7494480" y="2121120"/>
              <a:ext cx="103320" cy="18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Freeform 553"/>
            <p:cNvSpPr/>
            <p:nvPr/>
          </p:nvSpPr>
          <p:spPr>
            <a:xfrm>
              <a:off x="7254720" y="2281320"/>
              <a:ext cx="11124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Freeform 554"/>
            <p:cNvSpPr/>
            <p:nvPr/>
          </p:nvSpPr>
          <p:spPr>
            <a:xfrm>
              <a:off x="7370640" y="2195640"/>
              <a:ext cx="119160" cy="201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Freeform 555"/>
            <p:cNvSpPr/>
            <p:nvPr/>
          </p:nvSpPr>
          <p:spPr>
            <a:xfrm>
              <a:off x="7494480" y="2384640"/>
              <a:ext cx="103320" cy="199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Freeform 556"/>
            <p:cNvSpPr/>
            <p:nvPr/>
          </p:nvSpPr>
          <p:spPr>
            <a:xfrm>
              <a:off x="7119720" y="2667240"/>
              <a:ext cx="13176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Freeform 557"/>
            <p:cNvSpPr/>
            <p:nvPr/>
          </p:nvSpPr>
          <p:spPr>
            <a:xfrm>
              <a:off x="7254720" y="2573640"/>
              <a:ext cx="111240" cy="214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Freeform 558"/>
            <p:cNvSpPr/>
            <p:nvPr/>
          </p:nvSpPr>
          <p:spPr>
            <a:xfrm>
              <a:off x="7370640" y="2475000"/>
              <a:ext cx="119160" cy="214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Freeform 559"/>
            <p:cNvSpPr/>
            <p:nvPr/>
          </p:nvSpPr>
          <p:spPr>
            <a:xfrm>
              <a:off x="7494480" y="2651400"/>
              <a:ext cx="10332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Freeform 560"/>
            <p:cNvSpPr/>
            <p:nvPr/>
          </p:nvSpPr>
          <p:spPr>
            <a:xfrm>
              <a:off x="7254720" y="2860920"/>
              <a:ext cx="111240" cy="226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Freeform 561"/>
            <p:cNvSpPr/>
            <p:nvPr/>
          </p:nvSpPr>
          <p:spPr>
            <a:xfrm>
              <a:off x="7370640" y="2749680"/>
              <a:ext cx="119160" cy="22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Freeform 562"/>
            <p:cNvSpPr/>
            <p:nvPr/>
          </p:nvSpPr>
          <p:spPr>
            <a:xfrm>
              <a:off x="7499160" y="2919600"/>
              <a:ext cx="98640" cy="20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Freeform 563"/>
            <p:cNvSpPr/>
            <p:nvPr/>
          </p:nvSpPr>
          <p:spPr>
            <a:xfrm>
              <a:off x="7119720" y="3259440"/>
              <a:ext cx="135000" cy="261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Freeform 564"/>
            <p:cNvSpPr/>
            <p:nvPr/>
          </p:nvSpPr>
          <p:spPr>
            <a:xfrm>
              <a:off x="7259760" y="3144960"/>
              <a:ext cx="110880" cy="237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Freeform 565"/>
            <p:cNvSpPr/>
            <p:nvPr/>
          </p:nvSpPr>
          <p:spPr>
            <a:xfrm>
              <a:off x="7377120" y="3021120"/>
              <a:ext cx="117360" cy="23508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Freeform 566"/>
            <p:cNvSpPr/>
            <p:nvPr/>
          </p:nvSpPr>
          <p:spPr>
            <a:xfrm>
              <a:off x="7499160" y="3184560"/>
              <a:ext cx="98640" cy="21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Freeform 567"/>
            <p:cNvSpPr/>
            <p:nvPr/>
          </p:nvSpPr>
          <p:spPr>
            <a:xfrm>
              <a:off x="7119720" y="3556080"/>
              <a:ext cx="135000" cy="273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Freeform 568"/>
            <p:cNvSpPr/>
            <p:nvPr/>
          </p:nvSpPr>
          <p:spPr>
            <a:xfrm>
              <a:off x="7259760" y="3429000"/>
              <a:ext cx="110880" cy="2527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Freeform 569"/>
            <p:cNvSpPr/>
            <p:nvPr/>
          </p:nvSpPr>
          <p:spPr>
            <a:xfrm>
              <a:off x="7377120" y="3297240"/>
              <a:ext cx="117360" cy="249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Freeform 570"/>
            <p:cNvSpPr/>
            <p:nvPr/>
          </p:nvSpPr>
          <p:spPr>
            <a:xfrm>
              <a:off x="7499160" y="3449880"/>
              <a:ext cx="98640" cy="239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Freeform 571"/>
            <p:cNvSpPr/>
            <p:nvPr/>
          </p:nvSpPr>
          <p:spPr>
            <a:xfrm>
              <a:off x="7119720" y="3856320"/>
              <a:ext cx="135000" cy="290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Freeform 572"/>
            <p:cNvSpPr/>
            <p:nvPr/>
          </p:nvSpPr>
          <p:spPr>
            <a:xfrm>
              <a:off x="7259760" y="3721320"/>
              <a:ext cx="110880" cy="25884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Freeform 573"/>
            <p:cNvSpPr/>
            <p:nvPr/>
          </p:nvSpPr>
          <p:spPr>
            <a:xfrm>
              <a:off x="7377120" y="3578400"/>
              <a:ext cx="117360" cy="2588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Freeform 574"/>
            <p:cNvSpPr/>
            <p:nvPr/>
          </p:nvSpPr>
          <p:spPr>
            <a:xfrm>
              <a:off x="7121520" y="2363760"/>
              <a:ext cx="128520" cy="225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Freeform 575"/>
            <p:cNvSpPr/>
            <p:nvPr/>
          </p:nvSpPr>
          <p:spPr>
            <a:xfrm>
              <a:off x="7119720" y="2583000"/>
              <a:ext cx="41400" cy="162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576"/>
            <p:cNvSpPr/>
            <p:nvPr/>
          </p:nvSpPr>
          <p:spPr>
            <a:xfrm>
              <a:off x="7121520" y="2963880"/>
              <a:ext cx="128520" cy="246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577"/>
            <p:cNvSpPr/>
            <p:nvPr/>
          </p:nvSpPr>
          <p:spPr>
            <a:xfrm flipH="1">
              <a:off x="7055640" y="3703680"/>
              <a:ext cx="65160" cy="1364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/>
          </p:nvPr>
        </p:nvSpPr>
        <p:spPr>
          <a:xfrm>
            <a:off x="720720" y="1789200"/>
            <a:ext cx="8153280" cy="3178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 algn="ctr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evas oportunidades para emprender en América Latina mirando al mundo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 algn="ctr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aprovechar las ventajas competitivas del "talento regional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-360" y="200160"/>
            <a:ext cx="8991720" cy="498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vas desafíos para los emprendedo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837720" y="1222200"/>
            <a:ext cx="7975800" cy="592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emprender en Latinoamérica mirando al mund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potenciar el “ talento regional”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crear “ emerging giants” 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construir empresas “world class” en una región en desarroll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uperar los obstáculos locales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aprovechar las oportunidades de la globalizació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descubrir las nuevas tendencias (outsourcing- offshoring)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usar las nuevas tecnologías como aliadas del crecimient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1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4920" y="227160"/>
            <a:ext cx="8991360" cy="498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vas desafíos para los emprendedo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004760" y="738000"/>
            <a:ext cx="8002800" cy="589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 algn="just">
              <a:lnSpc>
                <a:spcPct val="97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penetrar los mercados global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descubrir los nicho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bucear en el “mar azul” de las oportunidades y no en el “mar rojo” de los competidores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identificar y explotar las ventajas competitivas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e organiza el “governance”en una empresa glob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debe ser la ejecución en una empresa global y competitiv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e consiguen los recursos humanos para ser world cla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 Box 5"/>
          <p:cNvSpPr/>
          <p:nvPr/>
        </p:nvSpPr>
        <p:spPr>
          <a:xfrm>
            <a:off x="6589800" y="6445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68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68" fill="hold"/>
                                        <p:tgtEl>
                                          <p:spTgt spid="1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68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04920" y="227160"/>
            <a:ext cx="8991360" cy="498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vas desafíos para los emprendedo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798120" y="1233000"/>
            <a:ext cx="7975800" cy="707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e financia el start up, la puesta en marcha y el crecimient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uál debe ser la política de I+D para mantener el posicionamiento en el mercado glob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e integra la innovación en el proceso de nego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se buscan ventajas competitivas más allá de menores costos ( ventaja temporal )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aprovechar el knowledge como fuente de competitivida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actuar “globally” y pensar “locally”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ómo aprovechar la experiencia y flexibilidad adquirida en el manejo de crisis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 Box 5"/>
          <p:cNvSpPr/>
          <p:nvPr/>
        </p:nvSpPr>
        <p:spPr>
          <a:xfrm>
            <a:off x="6589800" y="6445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1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/>
          </p:nvPr>
        </p:nvSpPr>
        <p:spPr>
          <a:xfrm>
            <a:off x="411120" y="2452680"/>
            <a:ext cx="8153280" cy="6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lvl="4" marL="205740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desafío futuro…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1120680" y="6324480"/>
            <a:ext cx="76010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239760" y="379800"/>
            <a:ext cx="9201240" cy="112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120680" y="1676520"/>
            <a:ext cx="735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y mas que nunca las empresas necesitan “repensarse” y tomar la iniciativa frente a la incertidumbre que nos rodea. Contar con directivos emprendedores y con un entorno organizacional que los estimule, pasa a ser una ventaja competitiva y un necesario factor crítico del éxit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39840" y="15984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o Desafí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860400" y="698040"/>
            <a:ext cx="8161200" cy="5797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l espíritu emprendedor puede y debe estar presente en los tres principales niveles de la economía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Logros individuales                                    Personas emprendedo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Éxito organizacional                                   Empresas emprendedo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sarrollo económico social                     Países emprended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lo IX:                La er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lo XX:               La era del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iglo XXI:              La era emprendedo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Line 5"/>
          <p:cNvSpPr/>
          <p:nvPr/>
        </p:nvSpPr>
        <p:spPr>
          <a:xfrm>
            <a:off x="3803760" y="1947960"/>
            <a:ext cx="14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Line 6"/>
          <p:cNvSpPr/>
          <p:nvPr/>
        </p:nvSpPr>
        <p:spPr>
          <a:xfrm>
            <a:off x="3884760" y="2398680"/>
            <a:ext cx="1363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Line 7"/>
          <p:cNvSpPr/>
          <p:nvPr/>
        </p:nvSpPr>
        <p:spPr>
          <a:xfrm>
            <a:off x="4836960" y="2795760"/>
            <a:ext cx="344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84320" y="358920"/>
            <a:ext cx="8991360" cy="498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798120" y="1670040"/>
            <a:ext cx="7975800" cy="385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algn="just">
              <a:lnSpc>
                <a:spcPct val="9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mundo de hoy está lleno de oportunidades, las crisis son oportunidad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penderá de la visión y la pasión de los    emprendedores y empresarios percibirlas y aprovecharl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s desafíos son grandes, los riesgos son altos pero  las recompensas valen la pe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68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68" fill="hold"/>
                                        <p:tgtEl>
                                          <p:spTgt spid="16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68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qué Entrepreneurship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63120" y="1445760"/>
            <a:ext cx="8153640" cy="1308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que la actividad emprendedora juega un rol vital en el desarrollo económico y social de los paí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685800" y="3321000"/>
            <a:ext cx="830592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00"/>
                </a:solidFill>
                <a:latin typeface="Arial"/>
              </a:rPr>
              <a:t>El caso Irland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El futuro desarrollo de Irlanda a través de la innovación y la internacionalización es una prioridad para el Gobierno irlandés. La industria irlandesa y el </a:t>
            </a:r>
            <a:r>
              <a:rPr b="1" i="1" lang="es-AR" sz="1800" spc="-1" strike="noStrike">
                <a:solidFill>
                  <a:srgbClr val="ffff00"/>
                </a:solidFill>
                <a:latin typeface="Arial"/>
              </a:rPr>
              <a:t>entrepreneurship </a:t>
            </a: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son de vital importancia para la economía de Irlanda y para la sociedad en su conjunto. Motivar y apoyar las empresas emprendedoras y los nuevos negocios en sus procesos de desarrollo es la misión del Gobierno de Irlanda para asegurar prosperidad a la nación entera.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5"/>
          <p:cNvSpPr/>
          <p:nvPr/>
        </p:nvSpPr>
        <p:spPr>
          <a:xfrm flipV="1">
            <a:off x="3962520" y="2609280"/>
            <a:ext cx="1562040" cy="36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" y="566280"/>
            <a:ext cx="899172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qué Entrepreneurship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63120" y="1445760"/>
            <a:ext cx="8153640" cy="1308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que la actividad emprendedora juega un rol vital en el desarrollo económico y social de los paí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774720" y="3016080"/>
            <a:ext cx="83059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00"/>
                </a:solidFill>
                <a:latin typeface="Arial"/>
              </a:rPr>
              <a:t>El caso Japó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En 2006 Japón experimentó una revitalización de su economía, después de una década de deflación, quiebras y pérdida de rentabilidad. Este renacimiento se debe en gran medida a las empresas nacientes en “knowledge intensive industries” lideradas por jóvenes emprendedor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Este nuevo “ entrepreneurial Japan” tan distinto del “old Japan” caracterizado por empresas de capital intensivo, con ejecutivos que creían en el “ lifetime employment”  contribuirá a subir el nuevo escalón de prosperidad del paí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AutoShape 5"/>
          <p:cNvSpPr/>
          <p:nvPr/>
        </p:nvSpPr>
        <p:spPr>
          <a:xfrm flipV="1">
            <a:off x="3962520" y="2609280"/>
            <a:ext cx="1562040" cy="36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qué Entrepreneurship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63120" y="1445760"/>
            <a:ext cx="8153640" cy="1308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que la actividad emprendedora juega un rol vital en el desarrollo económico y social de los paí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774720" y="3016080"/>
            <a:ext cx="830592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00"/>
                </a:solidFill>
                <a:latin typeface="Arial"/>
              </a:rPr>
              <a:t>El caso  Chi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The Global Brand Dream:  El desafío de los nuevos emprendedores en Chi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Su desafío es quebrar este status de China como proveedor barato y anónimo y unirse a la elite global de creadores de marcas que innovan y desarrollan tecnologías rentable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Arial"/>
              </a:rPr>
              <a:t>Son la nueva imagen de emprresarios chinos: creativos, eficientes, high tech, internaciona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AutoShape 5"/>
          <p:cNvSpPr/>
          <p:nvPr/>
        </p:nvSpPr>
        <p:spPr>
          <a:xfrm flipV="1">
            <a:off x="3962520" y="2609280"/>
            <a:ext cx="1562040" cy="36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1996920" y="1512720"/>
            <a:ext cx="1800360" cy="144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diciones Gener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l Contexto Nacion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4302000" y="2325600"/>
            <a:ext cx="251964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presas Medianas y Pequeñ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2" name="AutoShape 4"/>
          <p:cNvCxnSpPr>
            <a:stCxn id="830" idx="0"/>
            <a:endCxn id="833" idx="1"/>
          </p:cNvCxnSpPr>
          <p:nvPr/>
        </p:nvCxnSpPr>
        <p:spPr>
          <a:xfrm flipH="1" rot="16200000">
            <a:off x="3523320" y="886320"/>
            <a:ext cx="153360" cy="1405440"/>
          </a:xfrm>
          <a:prstGeom prst="bentConnector4">
            <a:avLst>
              <a:gd name="adj1" fmla="val -149882"/>
              <a:gd name="adj2" fmla="val 82013"/>
            </a:avLst>
          </a:prstGeom>
          <a:ln w="0">
            <a:noFill/>
          </a:ln>
        </p:spPr>
      </p:cxn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3920" y="193680"/>
            <a:ext cx="8991360" cy="905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ECIMIENTO ECONOMICO y PROSPERIDAD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Nuevo enfoque: perspectivas complementari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1996920" y="4621320"/>
            <a:ext cx="1800360" cy="143964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diciones d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tex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95400" y="3165480"/>
            <a:ext cx="1800000" cy="1312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texto Político, Cultural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Line 8"/>
          <p:cNvSpPr/>
          <p:nvPr/>
        </p:nvSpPr>
        <p:spPr>
          <a:xfrm flipH="1" flipV="1">
            <a:off x="6235560" y="3206520"/>
            <a:ext cx="1433520" cy="1431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8053560" y="1208160"/>
            <a:ext cx="130140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Nuevos negoci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4657680" y="3913200"/>
            <a:ext cx="1800360" cy="12589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portunidad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l Emprende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1"/>
          <p:cNvSpPr/>
          <p:nvPr/>
        </p:nvSpPr>
        <p:spPr>
          <a:xfrm>
            <a:off x="4681440" y="5454720"/>
            <a:ext cx="1800360" cy="12589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apacidad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prendedor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12"/>
          <p:cNvSpPr/>
          <p:nvPr/>
        </p:nvSpPr>
        <p:spPr>
          <a:xfrm>
            <a:off x="7800840" y="4684680"/>
            <a:ext cx="1800360" cy="12589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námica d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os Negocio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3"/>
          <p:cNvSpPr/>
          <p:nvPr/>
        </p:nvSpPr>
        <p:spPr>
          <a:xfrm>
            <a:off x="7800840" y="2841480"/>
            <a:ext cx="1800360" cy="131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acional</a:t>
            </a:r>
            <a:br>
              <a:rPr sz="16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BI, Empleo, Innovación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4"/>
          <p:cNvCxnSpPr>
            <a:stCxn id="836" idx="0"/>
            <a:endCxn id="830" idx="1"/>
          </p:cNvCxnSpPr>
          <p:nvPr/>
        </p:nvCxnSpPr>
        <p:spPr>
          <a:xfrm flipH="1" flipV="1" rot="5400000">
            <a:off x="1029960" y="2198160"/>
            <a:ext cx="932760" cy="10022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4" name="AutoShape 15"/>
          <p:cNvCxnSpPr>
            <a:stCxn id="836" idx="2"/>
            <a:endCxn id="835" idx="1"/>
          </p:cNvCxnSpPr>
          <p:nvPr/>
        </p:nvCxnSpPr>
        <p:spPr>
          <a:xfrm flipH="1" rot="16200000">
            <a:off x="1064160" y="4408920"/>
            <a:ext cx="864360" cy="10022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5" name="AutoShape 16"/>
          <p:cNvCxnSpPr>
            <a:stCxn id="830" idx="2"/>
            <a:endCxn id="835" idx="0"/>
          </p:cNvCxnSpPr>
          <p:nvPr/>
        </p:nvCxnSpPr>
        <p:spPr>
          <a:xfrm>
            <a:off x="2896920" y="2952360"/>
            <a:ext cx="1080" cy="1669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6" name="AutoShape 17"/>
          <p:cNvCxnSpPr>
            <a:stCxn id="830" idx="3"/>
            <a:endCxn id="833" idx="1"/>
          </p:cNvCxnSpPr>
          <p:nvPr/>
        </p:nvCxnSpPr>
        <p:spPr>
          <a:xfrm flipV="1">
            <a:off x="3797280" y="1665000"/>
            <a:ext cx="505440" cy="568800"/>
          </a:xfrm>
          <a:prstGeom prst="bentConnector3">
            <a:avLst>
              <a:gd name="adj1" fmla="val 4996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7" name="AutoShape 18"/>
          <p:cNvCxnSpPr>
            <a:stCxn id="830" idx="3"/>
            <a:endCxn id="831" idx="1"/>
          </p:cNvCxnSpPr>
          <p:nvPr/>
        </p:nvCxnSpPr>
        <p:spPr>
          <a:xfrm>
            <a:off x="3797280" y="2233080"/>
            <a:ext cx="505440" cy="453240"/>
          </a:xfrm>
          <a:prstGeom prst="bentConnector3">
            <a:avLst>
              <a:gd name="adj1" fmla="val 4996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8" name="AutoShape 19"/>
          <p:cNvCxnSpPr>
            <a:stCxn id="833" idx="2"/>
            <a:endCxn id="831" idx="0"/>
          </p:cNvCxnSpPr>
          <p:nvPr/>
        </p:nvCxnSpPr>
        <p:spPr>
          <a:xfrm>
            <a:off x="5562360" y="2023920"/>
            <a:ext cx="1080" cy="302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49" name="AutoShape 20"/>
          <p:cNvCxnSpPr>
            <a:stCxn id="831" idx="2"/>
            <a:endCxn id="839" idx="0"/>
          </p:cNvCxnSpPr>
          <p:nvPr/>
        </p:nvCxnSpPr>
        <p:spPr>
          <a:xfrm rot="5400000">
            <a:off x="5125320" y="3476520"/>
            <a:ext cx="869040" cy="576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50" name="AutoShape 21"/>
          <p:cNvCxnSpPr>
            <a:stCxn id="835" idx="3"/>
            <a:endCxn id="839" idx="1"/>
          </p:cNvCxnSpPr>
          <p:nvPr/>
        </p:nvCxnSpPr>
        <p:spPr>
          <a:xfrm flipV="1">
            <a:off x="3797280" y="4543200"/>
            <a:ext cx="861120" cy="799200"/>
          </a:xfrm>
          <a:prstGeom prst="bentConnector3">
            <a:avLst>
              <a:gd name="adj1" fmla="val 49979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1" name="AutoShape 22"/>
          <p:cNvCxnSpPr/>
          <p:nvPr/>
        </p:nvCxnSpPr>
        <p:spPr>
          <a:xfrm>
            <a:off x="3778200" y="5341680"/>
            <a:ext cx="884880" cy="743400"/>
          </a:xfrm>
          <a:prstGeom prst="bentConnector3">
            <a:avLst>
              <a:gd name="adj1" fmla="val 4989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2" name="AutoShape 23"/>
          <p:cNvCxnSpPr>
            <a:stCxn id="839" idx="3"/>
            <a:endCxn id="841" idx="1"/>
          </p:cNvCxnSpPr>
          <p:nvPr/>
        </p:nvCxnSpPr>
        <p:spPr>
          <a:xfrm>
            <a:off x="6458040" y="4543200"/>
            <a:ext cx="1343520" cy="772200"/>
          </a:xfrm>
          <a:prstGeom prst="bentConnector3">
            <a:avLst>
              <a:gd name="adj1" fmla="val 4998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3" name="AutoShape 24"/>
          <p:cNvCxnSpPr/>
          <p:nvPr/>
        </p:nvCxnSpPr>
        <p:spPr>
          <a:xfrm flipV="1">
            <a:off x="6462720" y="5314680"/>
            <a:ext cx="1319760" cy="770400"/>
          </a:xfrm>
          <a:prstGeom prst="bentConnector3">
            <a:avLst>
              <a:gd name="adj1" fmla="val 4993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4" name="AutoShape 25"/>
          <p:cNvCxnSpPr>
            <a:stCxn id="841" idx="0"/>
            <a:endCxn id="842" idx="2"/>
          </p:cNvCxnSpPr>
          <p:nvPr/>
        </p:nvCxnSpPr>
        <p:spPr>
          <a:xfrm flipV="1">
            <a:off x="8700840" y="4155840"/>
            <a:ext cx="1080" cy="529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5" name="AutoShape 26"/>
          <p:cNvCxnSpPr>
            <a:stCxn id="831" idx="3"/>
            <a:endCxn id="842" idx="1"/>
          </p:cNvCxnSpPr>
          <p:nvPr/>
        </p:nvCxnSpPr>
        <p:spPr>
          <a:xfrm>
            <a:off x="6821640" y="2685960"/>
            <a:ext cx="979920" cy="813600"/>
          </a:xfrm>
          <a:prstGeom prst="bentConnector3">
            <a:avLst>
              <a:gd name="adj1" fmla="val 4990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6" name="AutoShape 27"/>
          <p:cNvCxnSpPr/>
          <p:nvPr/>
        </p:nvCxnSpPr>
        <p:spPr>
          <a:xfrm>
            <a:off x="6040080" y="1665000"/>
            <a:ext cx="1880280" cy="11768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33" name="Rectangle 28"/>
          <p:cNvSpPr/>
          <p:nvPr/>
        </p:nvSpPr>
        <p:spPr>
          <a:xfrm>
            <a:off x="4302000" y="1305000"/>
            <a:ext cx="251964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presas Grandes ya Establecid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ine 29"/>
          <p:cNvSpPr/>
          <p:nvPr/>
        </p:nvSpPr>
        <p:spPr>
          <a:xfrm flipV="1">
            <a:off x="6858000" y="1352520"/>
            <a:ext cx="12193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8" name="AutoShape 30"/>
          <p:cNvCxnSpPr>
            <a:stCxn id="838" idx="2"/>
            <a:endCxn id="842" idx="0"/>
          </p:cNvCxnSpPr>
          <p:nvPr/>
        </p:nvCxnSpPr>
        <p:spPr>
          <a:xfrm rot="5400000">
            <a:off x="8178120" y="2315880"/>
            <a:ext cx="1048320" cy="3960"/>
          </a:xfrm>
          <a:prstGeom prst="bentConnector3">
            <a:avLst>
              <a:gd name="adj1" fmla="val 49982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4986360" y="4505400"/>
            <a:ext cx="1914480" cy="12510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apacidad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prendedor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otivac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Habilidad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981680" y="960480"/>
            <a:ext cx="1914480" cy="12510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portunidad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l Emprende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xistenci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1635120" y="1539720"/>
            <a:ext cx="2739960" cy="363888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diciones d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text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rcado de capita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olítica del Gobiern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gramas del Gobiern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ducación y Capacitac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Transferencia de I&amp;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Infraestructura Comercial y Leg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pertura del mercado intern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cceso a la infraestructura fís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ormas culturales/socia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7705800" y="2489040"/>
            <a:ext cx="1800000" cy="158436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námica d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os Negoci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acimient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xpans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ducc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uer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3" name="AutoShape 6"/>
          <p:cNvCxnSpPr/>
          <p:nvPr/>
        </p:nvCxnSpPr>
        <p:spPr>
          <a:xfrm flipH="1" rot="16200000">
            <a:off x="2909160" y="555120"/>
            <a:ext cx="564120" cy="1581840"/>
          </a:xfrm>
          <a:prstGeom prst="bentConnector4">
            <a:avLst>
              <a:gd name="adj1" fmla="val -40549"/>
              <a:gd name="adj2" fmla="val 84930"/>
            </a:avLst>
          </a:prstGeom>
          <a:ln w="0">
            <a:noFill/>
          </a:ln>
        </p:spPr>
      </p:cxnSp>
      <p:cxnSp>
        <p:nvCxnSpPr>
          <p:cNvPr id="864" name="AutoShape 7"/>
          <p:cNvCxnSpPr>
            <a:stCxn id="859" idx="3"/>
            <a:endCxn id="862" idx="2"/>
          </p:cNvCxnSpPr>
          <p:nvPr/>
        </p:nvCxnSpPr>
        <p:spPr>
          <a:xfrm flipV="1">
            <a:off x="6900840" y="4072680"/>
            <a:ext cx="1705680" cy="10580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65" name="AutoShape 8"/>
          <p:cNvCxnSpPr>
            <a:stCxn id="861" idx="3"/>
            <a:endCxn id="859" idx="1"/>
          </p:cNvCxnSpPr>
          <p:nvPr/>
        </p:nvCxnSpPr>
        <p:spPr>
          <a:xfrm>
            <a:off x="4375080" y="3358800"/>
            <a:ext cx="612000" cy="1772280"/>
          </a:xfrm>
          <a:prstGeom prst="bentConnector3">
            <a:avLst>
              <a:gd name="adj1" fmla="val 4985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66" name="AutoShape 9"/>
          <p:cNvCxnSpPr>
            <a:stCxn id="861" idx="3"/>
            <a:endCxn id="860" idx="1"/>
          </p:cNvCxnSpPr>
          <p:nvPr/>
        </p:nvCxnSpPr>
        <p:spPr>
          <a:xfrm flipV="1">
            <a:off x="4374720" y="1585440"/>
            <a:ext cx="607320" cy="177408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07440"/>
            <a:ext cx="8991360" cy="498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PROCESO EMPRENDE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8" name="Rectangle 11"/>
          <p:cNvSpPr/>
          <p:nvPr/>
        </p:nvSpPr>
        <p:spPr>
          <a:xfrm>
            <a:off x="231840" y="960480"/>
            <a:ext cx="1190520" cy="1069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texto Político, Cultural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2"/>
          <p:cNvSpPr/>
          <p:nvPr/>
        </p:nvSpPr>
        <p:spPr>
          <a:xfrm>
            <a:off x="7705800" y="5299200"/>
            <a:ext cx="1800000" cy="131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acional</a:t>
            </a:r>
            <a:br>
              <a:rPr sz="16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BI, Empleo, Innovación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0" name="AutoShape 13"/>
          <p:cNvCxnSpPr>
            <a:stCxn id="860" idx="3"/>
            <a:endCxn id="862" idx="0"/>
          </p:cNvCxnSpPr>
          <p:nvPr/>
        </p:nvCxnSpPr>
        <p:spPr>
          <a:xfrm>
            <a:off x="6895800" y="1585440"/>
            <a:ext cx="1710360" cy="9039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71" name="AutoShape 14"/>
          <p:cNvCxnSpPr>
            <a:stCxn id="868" idx="2"/>
            <a:endCxn id="861" idx="1"/>
          </p:cNvCxnSpPr>
          <p:nvPr/>
        </p:nvCxnSpPr>
        <p:spPr>
          <a:xfrm flipH="1" rot="16200000">
            <a:off x="565560" y="2290320"/>
            <a:ext cx="1329480" cy="808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2" name="Rectangle 15"/>
          <p:cNvSpPr/>
          <p:nvPr/>
        </p:nvSpPr>
        <p:spPr>
          <a:xfrm>
            <a:off x="723960" y="6372360"/>
            <a:ext cx="472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Global Entrepreneurship Moni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3" name="AutoShape 16"/>
          <p:cNvCxnSpPr>
            <a:stCxn id="859" idx="0"/>
            <a:endCxn id="860" idx="2"/>
          </p:cNvCxnSpPr>
          <p:nvPr/>
        </p:nvCxnSpPr>
        <p:spPr>
          <a:xfrm flipV="1" rot="16200000">
            <a:off x="4793760" y="3355560"/>
            <a:ext cx="2294640" cy="5400"/>
          </a:xfrm>
          <a:prstGeom prst="bentConnector3">
            <a:avLst>
              <a:gd name="adj1" fmla="val 49960"/>
            </a:avLst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4" name="AutoShape 17"/>
          <p:cNvCxnSpPr/>
          <p:nvPr/>
        </p:nvCxnSpPr>
        <p:spPr>
          <a:xfrm flipH="1">
            <a:off x="8985960" y="4073040"/>
            <a:ext cx="1080" cy="1226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85760" y="819720"/>
            <a:ext cx="9144000" cy="21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EM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lobal Entrepreneurship Monitor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yecto de Investigación Global sobre Entrepreneurship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Oval 3"/>
          <p:cNvSpPr/>
          <p:nvPr/>
        </p:nvSpPr>
        <p:spPr>
          <a:xfrm>
            <a:off x="204840" y="2654280"/>
            <a:ext cx="4032360" cy="3105000"/>
          </a:xfrm>
          <a:prstGeom prst="ellipse">
            <a:avLst/>
          </a:prstGeom>
          <a:gradFill rotWithShape="0">
            <a:gsLst>
              <a:gs pos="0">
                <a:srgbClr val="c7dbf4"/>
              </a:gs>
              <a:gs pos="100000">
                <a:srgbClr val="7face7"/>
              </a:gs>
            </a:gsLst>
            <a:lin ang="5400000"/>
          </a:gradFill>
          <a:ln w="63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Arial"/>
              </a:rPr>
              <a:t>Activida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Arial"/>
              </a:rPr>
              <a:t>Emprendedo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4"/>
          <p:cNvSpPr/>
          <p:nvPr/>
        </p:nvSpPr>
        <p:spPr>
          <a:xfrm>
            <a:off x="5289480" y="2563920"/>
            <a:ext cx="4005360" cy="3124080"/>
          </a:xfrm>
          <a:prstGeom prst="ellipse">
            <a:avLst/>
          </a:prstGeom>
          <a:gradFill rotWithShape="0">
            <a:gsLst>
              <a:gs pos="0">
                <a:srgbClr val="c7dbf4"/>
              </a:gs>
              <a:gs pos="100000">
                <a:srgbClr val="7face7"/>
              </a:gs>
            </a:gsLst>
            <a:lin ang="5400000"/>
          </a:gradFill>
          <a:ln w="63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Arial"/>
              </a:rPr>
              <a:t>Crecimi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99"/>
                </a:solidFill>
                <a:latin typeface="Arial"/>
              </a:rPr>
              <a:t>Económ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AutoShape 5"/>
          <p:cNvSpPr/>
          <p:nvPr/>
        </p:nvSpPr>
        <p:spPr>
          <a:xfrm>
            <a:off x="4287960" y="3774960"/>
            <a:ext cx="958680" cy="646200"/>
          </a:xfrm>
          <a:prstGeom prst="leftRightArrow">
            <a:avLst>
              <a:gd name="adj1" fmla="val 50000"/>
              <a:gd name="adj2" fmla="val 2953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?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1:20:51Z</dcterms:created>
  <dc:creator>Garbulsky Gerardo</dc:creator>
  <dc:description/>
  <dc:language>en-US</dc:language>
  <cp:lastModifiedBy>CPCEACABA</cp:lastModifiedBy>
  <dcterms:modified xsi:type="dcterms:W3CDTF">2008-11-10T18:59:29Z</dcterms:modified>
  <cp:revision>6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1/PP2000/USEng/Nov2000</vt:lpwstr>
  </property>
</Properties>
</file>