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753225" cy="98425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3B892-6AEF-4829-A1AE-6899166A7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F8BA2-9E8C-4861-A34B-DCC7E0383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F313E-E17B-4EAE-B8AD-B18513884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B7A70-7110-492C-B66C-2BDFAF78A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C3014-04C2-42FE-A57A-678D72552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6182B-40F1-47A6-ADC1-11AC3BCA7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661A5-44BA-40E5-873F-0928CFAA4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0FD41-E7B3-4C0C-A06D-46C86FD30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4F16B-E9FD-4AAA-A82F-9FF7DAC4F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F863C-6EC7-48BF-AAFE-B14E9A010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9E421-CB01-4C34-9FEF-A7AD3FD3F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4A893-73B3-49E7-B17B-9654581F0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BA098-64D0-4FE0-855C-7690ECDCA22E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87280" y="2205000"/>
            <a:ext cx="76946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800" spc="-1" strike="noStrike">
                <a:solidFill>
                  <a:srgbClr val="000000"/>
                </a:solidFill>
                <a:latin typeface="English111 Vivace BT"/>
              </a:rPr>
              <a:t>El sistema financiero y el financiamiento a las PyME</a:t>
            </a:r>
            <a:r>
              <a:rPr b="0" lang="es-ES" sz="4800" spc="-1" strike="noStrike">
                <a:solidFill>
                  <a:srgbClr val="000000"/>
                </a:solidFill>
                <a:latin typeface="English111 Vivace BT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707880" y="5516640"/>
            <a:ext cx="207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. Aníbal J. Stell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badi MT Condensed Light"/>
              </a:rPr>
              <a:t>Noviembre de 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4920" y="0"/>
            <a:ext cx="10191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2195640" y="1676520"/>
            <a:ext cx="6408720" cy="349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5400" spc="-1" strike="noStrike">
                <a:solidFill>
                  <a:srgbClr val="000000"/>
                </a:solidFill>
                <a:latin typeface="Arial"/>
              </a:rPr>
              <a:t>Garantizar S.G.R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800" spc="-1" strike="noStrike">
                <a:solidFill>
                  <a:srgbClr val="000000"/>
                </a:solidFill>
                <a:latin typeface="Arial"/>
              </a:rPr>
              <a:t>Portal de acceso PyME a los servicios financiero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195640" y="1676520"/>
            <a:ext cx="6408720" cy="396216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34920" y="0"/>
            <a:ext cx="101916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1908000" y="2133720"/>
            <a:ext cx="705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Arial"/>
              </a:rPr>
              <a:t>Muchas gracias por su aten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64000" y="3070080"/>
            <a:ext cx="2879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 algn="ctr">
              <a:lnSpc>
                <a:spcPct val="100000"/>
              </a:lnSpc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Dr. Aníbal J. Stel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3520" indent="-263520" algn="ctr">
              <a:lnSpc>
                <a:spcPct val="100000"/>
              </a:lnSpc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Presid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3520" indent="-263520" algn="ctr">
              <a:lnSpc>
                <a:spcPct val="100000"/>
              </a:lnSpc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T.E. 011 401228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34920" y="0"/>
            <a:ext cx="101916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676520" y="287280"/>
            <a:ext cx="693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ciedades de Garantía Recíproca (S.G.R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744480"/>
            <a:ext cx="7407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gentes especializados del mercado financiero que facilitan el acceso al crédito de las PyME a través del otorgamiento de garantías para el cumplimiento de compromisos u obligaciones susceptibles de apreciación dinerari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676520" y="2147760"/>
            <a:ext cx="7407000" cy="1314000"/>
            <a:chOff x="1676520" y="2147760"/>
            <a:chExt cx="7407000" cy="1314000"/>
          </a:xfrm>
        </p:grpSpPr>
        <p:sp>
          <p:nvSpPr>
            <p:cNvPr id="47" name=""/>
            <p:cNvSpPr/>
            <p:nvPr/>
          </p:nvSpPr>
          <p:spPr>
            <a:xfrm>
              <a:off x="1676520" y="2147760"/>
              <a:ext cx="1023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Orige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676520" y="2544840"/>
              <a:ext cx="7407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unque existen organizaciones funcionalmente similares en Italia, Alemania, etc., el esquema S.G.R. de la Argentina se basó en el modelo organizativo de España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1676520" y="3703680"/>
            <a:ext cx="7407000" cy="2685240"/>
            <a:chOff x="1676520" y="3703680"/>
            <a:chExt cx="7407000" cy="2685240"/>
          </a:xfrm>
        </p:grpSpPr>
        <p:sp>
          <p:nvSpPr>
            <p:cNvPr id="50" name=""/>
            <p:cNvSpPr/>
            <p:nvPr/>
          </p:nvSpPr>
          <p:spPr>
            <a:xfrm>
              <a:off x="1676520" y="3703680"/>
              <a:ext cx="3327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Marco normativo básic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676520" y="4100400"/>
              <a:ext cx="740700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Ley 24.467 (1995), Título I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Ley 11.560 de la Pcia. de Bs. As (1995), FoGaB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Ley 25.300 (2000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Decreto 1076/200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Disposición SSePyMEyDR 209/2007 (Autorización para funcionar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Resolución SePyMEyDR 204/2002 (Estatuto tip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Resolución SePyMEyDR 205/2002 (Régimen informativ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Resolución SePyMEyDR 24/2001 y modif. (Definición de PyME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4920" y="0"/>
            <a:ext cx="10191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981080" y="312840"/>
            <a:ext cx="6248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Las S.G.R. como nexo público - privad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03280" y="835200"/>
            <a:ext cx="266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sión instituc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403280" y="1231920"/>
            <a:ext cx="7407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gociar en representación de un conjunto de PyMES mejores condiciones crediticias en cuanto a costo y plazo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ar más cerca del empresario y tener mayor certidumbre sobre las posibilidades de éxito de sus proyecto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esorar en la formulación y presentación de proyecto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81080" y="3068640"/>
            <a:ext cx="6248520" cy="2040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Las SGR surgieron como respuesta a los problemas que deben afrontar las PyMES en sus relaciones de negocios con sectores de mayor tamaño o envergadura, entre los que pueden mencionars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•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Evaluación crediticia sobre la base de patrimonio neto y no de factibilidad de proyecto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•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Limitaciones para financiar el capital de trabaj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•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Financiamiento a largo plazo casi inexistent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•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Requerimiento de garantías con alto margen de cobertur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34920" y="0"/>
            <a:ext cx="101916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54320" y="114480"/>
            <a:ext cx="6248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Esquema funcional de una S.G.R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182000" y="5950080"/>
            <a:ext cx="1777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nte: Elaboración propia basado en la normativa vig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1374840" y="853920"/>
            <a:ext cx="7127640" cy="4961160"/>
            <a:chOff x="1374840" y="853920"/>
            <a:chExt cx="7127640" cy="4961160"/>
          </a:xfrm>
        </p:grpSpPr>
        <p:sp>
          <p:nvSpPr>
            <p:cNvPr id="61" name=""/>
            <p:cNvSpPr/>
            <p:nvPr/>
          </p:nvSpPr>
          <p:spPr>
            <a:xfrm>
              <a:off x="3597120" y="853920"/>
              <a:ext cx="2671920" cy="337320"/>
            </a:xfrm>
            <a:prstGeom prst="rect">
              <a:avLst/>
            </a:prstGeom>
            <a:solidFill>
              <a:srgbClr val="ffff99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</a:rPr>
                <a:t>S.G.R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374840" y="1928880"/>
              <a:ext cx="2222280" cy="276480"/>
            </a:xfrm>
            <a:prstGeom prst="rect">
              <a:avLst/>
            </a:prstGeom>
            <a:solidFill>
              <a:srgbClr val="b9cb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Socios Partícip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4840" y="2211480"/>
              <a:ext cx="2222280" cy="641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 Narrow"/>
                </a:rPr>
                <a:t>Compra</a:t>
              </a:r>
              <a:r>
                <a:rPr b="0" lang="es-ES" sz="1200" spc="-1" strike="noStrike">
                  <a:solidFill>
                    <a:srgbClr val="000000"/>
                  </a:solidFill>
                  <a:latin typeface="Arial Narrow"/>
                </a:rPr>
                <a:t> acciones de la S.G.R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 Narrow"/>
                </a:rPr>
                <a:t>Mejora </a:t>
              </a:r>
              <a:r>
                <a:rPr b="0" lang="es-ES" sz="1200" spc="-1" strike="noStrike">
                  <a:solidFill>
                    <a:srgbClr val="000000"/>
                  </a:solidFill>
                  <a:latin typeface="Arial Narrow"/>
                </a:rPr>
                <a:t>su acceso al crédit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 Narrow"/>
                </a:rPr>
                <a:t>Mejora</a:t>
              </a:r>
              <a:r>
                <a:rPr b="0" lang="es-ES_tradnl" sz="1200" spc="-1" strike="noStrike">
                  <a:solidFill>
                    <a:srgbClr val="000000"/>
                  </a:solidFill>
                  <a:latin typeface="Arial Narrow"/>
                </a:rPr>
                <a:t> su desempeñ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4" name=""/>
            <p:cNvGrpSpPr/>
            <p:nvPr/>
          </p:nvGrpSpPr>
          <p:grpSpPr>
            <a:xfrm>
              <a:off x="3814920" y="2143080"/>
              <a:ext cx="2233440" cy="709920"/>
              <a:chOff x="3814920" y="2143080"/>
              <a:chExt cx="2233440" cy="709920"/>
            </a:xfrm>
          </p:grpSpPr>
          <p:sp>
            <p:nvSpPr>
              <p:cNvPr id="65" name=""/>
              <p:cNvSpPr/>
              <p:nvPr/>
            </p:nvSpPr>
            <p:spPr>
              <a:xfrm>
                <a:off x="3817800" y="2394000"/>
                <a:ext cx="2230560" cy="4590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200" spc="-1" strike="noStrike">
                    <a:solidFill>
                      <a:srgbClr val="000000"/>
                    </a:solidFill>
                    <a:latin typeface="Arial Narrow"/>
                  </a:rPr>
                  <a:t>Respalda </a:t>
                </a:r>
                <a:r>
                  <a:rPr b="0" lang="es-ES" sz="1200" spc="-1" strike="noStrike">
                    <a:solidFill>
                      <a:srgbClr val="000000"/>
                    </a:solidFill>
                    <a:latin typeface="Arial Narrow"/>
                  </a:rPr>
                  <a:t>el cumplimiento de las garantías ortorgadas por la S.G.R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3814920" y="2143080"/>
                <a:ext cx="2233440" cy="276480"/>
              </a:xfrm>
              <a:prstGeom prst="rect">
                <a:avLst/>
              </a:prstGeom>
              <a:solidFill>
                <a:srgbClr val="ccec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 Narrow"/>
                  </a:rPr>
                  <a:t>Fondo de Riesg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67" name=""/>
            <p:cNvCxnSpPr>
              <a:stCxn id="61" idx="3"/>
            </p:cNvCxnSpPr>
            <p:nvPr/>
          </p:nvCxnSpPr>
          <p:spPr>
            <a:xfrm>
              <a:off x="6268680" y="1025640"/>
              <a:ext cx="1143720" cy="908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61" idx="2"/>
              <a:endCxn id="66" idx="0"/>
            </p:cNvCxnSpPr>
            <p:nvPr/>
          </p:nvCxnSpPr>
          <p:spPr>
            <a:xfrm flipH="1">
              <a:off x="4932000" y="1197000"/>
              <a:ext cx="2160" cy="946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9" name=""/>
            <p:cNvSpPr/>
            <p:nvPr/>
          </p:nvSpPr>
          <p:spPr>
            <a:xfrm>
              <a:off x="3597120" y="1133640"/>
              <a:ext cx="2671920" cy="641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Avala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 Narrow"/>
                </a:rPr>
                <a:t> obligaciones de socios partícip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Administra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 Narrow"/>
                </a:rPr>
                <a:t> el fondo de riesgo y los fideicomisos de afectación específic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0" name=""/>
            <p:cNvCxnSpPr>
              <a:stCxn id="61" idx="1"/>
              <a:endCxn id="62" idx="0"/>
            </p:cNvCxnSpPr>
            <p:nvPr/>
          </p:nvCxnSpPr>
          <p:spPr>
            <a:xfrm flipV="1" rot="10800000">
              <a:off x="2485440" y="1024560"/>
              <a:ext cx="1111680" cy="903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1" name=""/>
            <p:cNvSpPr/>
            <p:nvPr/>
          </p:nvSpPr>
          <p:spPr>
            <a:xfrm>
              <a:off x="3597120" y="2654280"/>
              <a:ext cx="21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H="1">
              <a:off x="6048000" y="2654280"/>
              <a:ext cx="219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280200" y="1928880"/>
              <a:ext cx="2222280" cy="276480"/>
            </a:xfrm>
            <a:prstGeom prst="rect">
              <a:avLst/>
            </a:prstGeom>
            <a:solidFill>
              <a:srgbClr val="b9cb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Socios Protector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280200" y="2212920"/>
              <a:ext cx="2222280" cy="824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 Narrow"/>
                </a:rPr>
                <a:t>Aportan </a:t>
              </a:r>
              <a:r>
                <a:rPr b="0" lang="es-ES" sz="1200" spc="-1" strike="noStrike">
                  <a:solidFill>
                    <a:srgbClr val="000000"/>
                  </a:solidFill>
                  <a:latin typeface="Arial Narrow"/>
                </a:rPr>
                <a:t>al capital social de la SG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 Narrow"/>
                </a:rPr>
                <a:t>Aportan </a:t>
              </a:r>
              <a:r>
                <a:rPr b="0" lang="es-ES" sz="1200" spc="-1" strike="noStrike">
                  <a:solidFill>
                    <a:srgbClr val="000000"/>
                  </a:solidFill>
                  <a:latin typeface="Arial Narrow"/>
                </a:rPr>
                <a:t>al fondo de riesg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 Narrow"/>
                </a:rPr>
                <a:t>Obtienen</a:t>
              </a:r>
              <a:r>
                <a:rPr b="0" lang="es-ES_tradnl" sz="1200" spc="-1" strike="noStrike">
                  <a:solidFill>
                    <a:srgbClr val="000000"/>
                  </a:solidFill>
                  <a:latin typeface="Arial Narrow"/>
                </a:rPr>
                <a:t> beneficios impositiv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 Narrow"/>
                </a:rPr>
                <a:t>Mejoran</a:t>
              </a:r>
              <a:r>
                <a:rPr b="0" lang="es-ES_tradnl" sz="1200" spc="-1" strike="noStrike">
                  <a:solidFill>
                    <a:srgbClr val="000000"/>
                  </a:solidFill>
                  <a:latin typeface="Arial Narrow"/>
                </a:rPr>
                <a:t> sus PyMEs vinculad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220840" y="3086280"/>
              <a:ext cx="215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Narrow"/>
                </a:rPr>
                <a:t>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016600" y="4618080"/>
              <a:ext cx="979560" cy="824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Fideicomiso de Afectación Específic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280200" y="4311720"/>
              <a:ext cx="2222280" cy="307080"/>
            </a:xfrm>
            <a:prstGeom prst="rect">
              <a:avLst/>
            </a:prstGeom>
            <a:solidFill>
              <a:srgbClr val="b9cb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 Narrow"/>
                </a:rPr>
                <a:t>Socio Aportant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280200" y="4626000"/>
              <a:ext cx="2222280" cy="11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 Narrow"/>
                </a:rPr>
                <a:t>Constituye</a:t>
              </a:r>
              <a:r>
                <a:rPr b="0" lang="es-ES" sz="1200" spc="-1" strike="noStrike">
                  <a:solidFill>
                    <a:srgbClr val="000000"/>
                  </a:solidFill>
                  <a:latin typeface="Arial Narrow"/>
                </a:rPr>
                <a:t> un fideicomiso de afectación específica que opera como fondo de riesgo especializad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 Narrow"/>
                </a:rPr>
                <a:t>Obtiene </a:t>
              </a:r>
              <a:r>
                <a:rPr b="0" lang="es-ES_tradnl" sz="1200" spc="-1" strike="noStrike">
                  <a:solidFill>
                    <a:srgbClr val="000000"/>
                  </a:solidFill>
                  <a:latin typeface="Arial Narrow"/>
                </a:rPr>
                <a:t>2/3 partes de los beneficios impositiv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 Narrow"/>
                </a:rPr>
                <a:t>Mejoran</a:t>
              </a:r>
              <a:r>
                <a:rPr b="0" lang="es-ES_tradnl" sz="1200" spc="-1" strike="noStrike">
                  <a:solidFill>
                    <a:srgbClr val="000000"/>
                  </a:solidFill>
                  <a:latin typeface="Arial Narrow"/>
                </a:rPr>
                <a:t> sus PyMEs vinculad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>
              <a:off x="5996160" y="5033880"/>
              <a:ext cx="272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421400" y="3076560"/>
              <a:ext cx="1800" cy="1235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448360" y="3441600"/>
              <a:ext cx="1878840" cy="289800"/>
            </a:xfrm>
            <a:prstGeom prst="rect">
              <a:avLst/>
            </a:prstGeom>
            <a:noFill/>
            <a:ln w="1260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6320" rIns="76320" tIns="38160" bIns="3816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400" spc="-1" strike="noStrike">
                  <a:solidFill>
                    <a:srgbClr val="000000"/>
                  </a:solidFill>
                  <a:latin typeface="Arial Narrow"/>
                </a:rPr>
                <a:t>Contragarantí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endCxn id="81" idx="1"/>
            </p:cNvCxnSpPr>
            <p:nvPr/>
          </p:nvCxnSpPr>
          <p:spPr>
            <a:xfrm flipH="1" rot="16200000">
              <a:off x="2249280" y="3056400"/>
              <a:ext cx="741960" cy="330840"/>
            </a:xfrm>
            <a:prstGeom prst="bentConnector2">
              <a:avLst/>
            </a:prstGeom>
            <a:ln w="12600">
              <a:solidFill>
                <a:srgbClr val="003300"/>
              </a:solidFill>
              <a:miter/>
              <a:tailEnd len="med" type="triangle" w="med"/>
            </a:ln>
          </p:spPr>
        </p:cxnSp>
        <p:cxnSp>
          <p:nvCxnSpPr>
            <p:cNvPr id="83" name=""/>
            <p:cNvCxnSpPr/>
            <p:nvPr/>
          </p:nvCxnSpPr>
          <p:spPr>
            <a:xfrm flipV="1">
              <a:off x="3989160" y="2850480"/>
              <a:ext cx="945000" cy="732600"/>
            </a:xfrm>
            <a:prstGeom prst="bentConnector2">
              <a:avLst/>
            </a:prstGeom>
            <a:ln w="12600">
              <a:solidFill>
                <a:srgbClr val="003300"/>
              </a:solidFill>
              <a:miter/>
              <a:tailEnd len="med" type="triangle" w="med"/>
            </a:ln>
          </p:spPr>
        </p:cxnSp>
        <p:sp>
          <p:nvSpPr>
            <p:cNvPr id="84" name=""/>
            <p:cNvSpPr/>
            <p:nvPr/>
          </p:nvSpPr>
          <p:spPr>
            <a:xfrm>
              <a:off x="1734840" y="3941640"/>
              <a:ext cx="3317400" cy="643680"/>
            </a:xfrm>
            <a:prstGeom prst="rect">
              <a:avLst/>
            </a:prstGeom>
            <a:noFill/>
            <a:ln w="1260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6320" rIns="76320" tIns="38160" bIns="38160" anchor="t">
              <a:spAutoFit/>
            </a:bodyPr>
            <a:p>
              <a:pPr marL="343080" indent="-343080">
                <a:lnSpc>
                  <a:spcPct val="7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Narrow"/>
                </a:rPr>
                <a:t>Posiciones Financieras líquid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7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Narrow"/>
                </a:rPr>
                <a:t>Cesión de inmuebles en propiedad fiduciari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7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Narrow"/>
                </a:rPr>
                <a:t>Fideicomiso de facturació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7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Narrow"/>
                </a:rPr>
                <a:t>Otr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394080" y="3743280"/>
              <a:ext cx="0" cy="198360"/>
            </a:xfrm>
            <a:prstGeom prst="line">
              <a:avLst/>
            </a:prstGeom>
            <a:ln w="1260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5960" rIns="75960" tIns="37800" bIns="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34920" y="0"/>
            <a:ext cx="1019160" cy="685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34920" y="0"/>
            <a:ext cx="101916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981080" y="312840"/>
            <a:ext cx="6248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El rol de Garantizar S.G.R. dentro del sistem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187280" y="907920"/>
            <a:ext cx="7956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rantizar es la decana y la mayor de las S.G.R. del sistema argentino, tanto por volumen de garantías como por cantidad de socios partícip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diferencia de otras S.G.R. constituidas para potenciar el negocio del socio protector mayoritario (S.G.R. ‘cerradas’), Garantizar (S.G.R. ‘abierta’), con espíritu federal e integrada a la estrategia nacional de desarrollo,  capta e incorpora al sistema financiero a PyMEs con potencial productiv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4027320" y="3789360"/>
            <a:ext cx="1636920" cy="5428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3951360" y="2921040"/>
            <a:ext cx="374400" cy="3888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4"/>
          <a:srcRect l="0" t="0" r="-3564" b="0"/>
          <a:stretch/>
        </p:blipFill>
        <p:spPr>
          <a:xfrm>
            <a:off x="4433760" y="2925720"/>
            <a:ext cx="1040040" cy="35244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5"/>
          <a:srcRect l="0" t="10504" r="0" b="10504"/>
          <a:stretch/>
        </p:blipFill>
        <p:spPr>
          <a:xfrm>
            <a:off x="5464080" y="2921040"/>
            <a:ext cx="371520" cy="3128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6"/>
          <a:stretch/>
        </p:blipFill>
        <p:spPr>
          <a:xfrm>
            <a:off x="3657600" y="5189400"/>
            <a:ext cx="1335240" cy="12240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7"/>
          <a:stretch/>
        </p:blipFill>
        <p:spPr>
          <a:xfrm>
            <a:off x="5159520" y="4869000"/>
            <a:ext cx="1008000" cy="184932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936880" y="5664240"/>
            <a:ext cx="801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as de val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012000" y="5573880"/>
            <a:ext cx="93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arrollo fede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987640" y="4148280"/>
            <a:ext cx="750960" cy="1657080"/>
          </a:xfrm>
          <a:custGeom>
            <a:avLst/>
            <a:gdLst>
              <a:gd name="textAreaLeft" fmla="*/ 100440 w 750960"/>
              <a:gd name="textAreaRight" fmla="*/ 650520 w 750960"/>
              <a:gd name="textAreaTop" fmla="*/ 337680 h 1657080"/>
              <a:gd name="textAreaBottom" fmla="*/ 1182960 h 1657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804" stAng="-5400000" swAng="-5400000"/>
                <a:lnTo>
                  <a:pt x="0" y="11018"/>
                </a:lnTo>
                <a:arcTo wR="21600" hR="8804" stAng="10800000" swAng="-3013165"/>
                <a:lnTo>
                  <a:pt x="14659" y="21133"/>
                </a:lnTo>
                <a:lnTo>
                  <a:pt x="21600" y="18714"/>
                </a:lnTo>
                <a:lnTo>
                  <a:pt x="14659" y="15361"/>
                </a:lnTo>
                <a:lnTo>
                  <a:pt x="14659" y="17140"/>
                </a:lnTo>
                <a:arcTo wR="21600" hR="8804" stAng="7786835" swAng="2835728"/>
                <a:lnTo>
                  <a:pt x="171" y="9911"/>
                </a:lnTo>
                <a:arcTo wR="21600" hR="8804" stAng="-10622564" swAng="5222564"/>
                <a:close/>
              </a:path>
              <a:path fill="darkenLess" w="21600" h="21600">
                <a:moveTo>
                  <a:pt x="21600" y="0"/>
                </a:moveTo>
                <a:arcTo wR="21600" hR="8804" stAng="-5400000" swAng="-5400000"/>
                <a:lnTo>
                  <a:pt x="0" y="8804"/>
                </a:lnTo>
                <a:arcTo wR="21600" hR="8804" stAng="10800000" swAng="-177436"/>
                <a:lnTo>
                  <a:pt x="171" y="9911"/>
                </a:lnTo>
                <a:arcTo wR="21600" hR="8804" stAng="-10622564" swAng="5222564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 rot="10800000">
            <a:off x="5851440" y="4076640"/>
            <a:ext cx="750960" cy="1728720"/>
          </a:xfrm>
          <a:custGeom>
            <a:avLst/>
            <a:gdLst>
              <a:gd name="textAreaLeft" fmla="*/ 100440 w 750960"/>
              <a:gd name="textAreaRight" fmla="*/ 650520 w 750960"/>
              <a:gd name="textAreaTop" fmla="*/ 349920 h 1728720"/>
              <a:gd name="textAreaBottom" fmla="*/ 1202400 h 1728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747" stAng="-5400000" swAng="-5400000"/>
                <a:lnTo>
                  <a:pt x="0" y="10651"/>
                </a:lnTo>
                <a:arcTo wR="21600" hR="8747" stAng="10800000" swAng="-3103028"/>
                <a:lnTo>
                  <a:pt x="15024" y="21185"/>
                </a:lnTo>
                <a:lnTo>
                  <a:pt x="21600" y="18446"/>
                </a:lnTo>
                <a:lnTo>
                  <a:pt x="15024" y="14877"/>
                </a:lnTo>
                <a:lnTo>
                  <a:pt x="15024" y="17079"/>
                </a:lnTo>
                <a:arcTo wR="21600" hR="8747" stAng="7696972" swAng="2950707"/>
                <a:lnTo>
                  <a:pt x="128" y="9699"/>
                </a:lnTo>
                <a:arcTo wR="21600" hR="8747" stAng="-10647679" swAng="5247679"/>
                <a:close/>
              </a:path>
              <a:path fill="darkenLess" w="21600" h="21600">
                <a:moveTo>
                  <a:pt x="21600" y="0"/>
                </a:moveTo>
                <a:arcTo wR="21600" hR="8747" stAng="-5400000" swAng="-5400000"/>
                <a:lnTo>
                  <a:pt x="0" y="8747"/>
                </a:lnTo>
                <a:arcTo wR="21600" hR="8747" stAng="10800000" swAng="-152321"/>
                <a:lnTo>
                  <a:pt x="128" y="9699"/>
                </a:lnTo>
                <a:arcTo wR="21600" hR="8747" stAng="-10647679" swAng="5247679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105440" y="4573440"/>
            <a:ext cx="153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ergia productiv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059280" y="3068640"/>
            <a:ext cx="750600" cy="1081080"/>
          </a:xfrm>
          <a:custGeom>
            <a:avLst/>
            <a:gdLst>
              <a:gd name="textAreaLeft" fmla="*/ 100440 w 750600"/>
              <a:gd name="textAreaRight" fmla="*/ 650160 w 750600"/>
              <a:gd name="textAreaTop" fmla="*/ 211680 h 1081080"/>
              <a:gd name="textAreaBottom" fmla="*/ 760320 h 10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469" stAng="-5400000" swAng="-5400000"/>
                <a:lnTo>
                  <a:pt x="0" y="10952"/>
                </a:lnTo>
                <a:arcTo wR="21600" hR="8469" stAng="10800000" swAng="-2947469"/>
                <a:lnTo>
                  <a:pt x="14659" y="21151"/>
                </a:lnTo>
                <a:lnTo>
                  <a:pt x="21600" y="18180"/>
                </a:lnTo>
                <a:lnTo>
                  <a:pt x="14659" y="14310"/>
                </a:lnTo>
                <a:lnTo>
                  <a:pt x="14659" y="16489"/>
                </a:lnTo>
                <a:arcTo wR="21600" hR="8469" stAng="7852531" swAng="2747944"/>
                <a:lnTo>
                  <a:pt x="233" y="9711"/>
                </a:lnTo>
                <a:arcTo wR="21600" hR="8469" stAng="-10600476" swAng="5200476"/>
                <a:close/>
              </a:path>
              <a:path fill="darkenLess" w="21600" h="21600">
                <a:moveTo>
                  <a:pt x="21600" y="0"/>
                </a:moveTo>
                <a:arcTo wR="21600" hR="8469" stAng="-5400000" swAng="-5400000"/>
                <a:lnTo>
                  <a:pt x="0" y="8469"/>
                </a:lnTo>
                <a:arcTo wR="21600" hR="8469" stAng="10800000" swAng="-199524"/>
                <a:lnTo>
                  <a:pt x="233" y="9711"/>
                </a:lnTo>
                <a:arcTo wR="21600" hR="8469" stAng="-10600476" swAng="5200476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rot="10800000">
            <a:off x="5851440" y="2925360"/>
            <a:ext cx="750960" cy="1081080"/>
          </a:xfrm>
          <a:custGeom>
            <a:avLst/>
            <a:gdLst>
              <a:gd name="textAreaLeft" fmla="*/ 100440 w 750960"/>
              <a:gd name="textAreaRight" fmla="*/ 650520 w 750960"/>
              <a:gd name="textAreaTop" fmla="*/ 213120 h 1081080"/>
              <a:gd name="textAreaBottom" fmla="*/ 785520 h 10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517" stAng="-5400000" swAng="-5400000"/>
                <a:lnTo>
                  <a:pt x="0" y="11434"/>
                </a:lnTo>
                <a:arcTo wR="21600" hR="8517" stAng="10800000" swAng="-3007074"/>
                <a:lnTo>
                  <a:pt x="14841" y="21172"/>
                </a:lnTo>
                <a:lnTo>
                  <a:pt x="21600" y="18492"/>
                </a:lnTo>
                <a:lnTo>
                  <a:pt x="14841" y="14955"/>
                </a:lnTo>
                <a:lnTo>
                  <a:pt x="14841" y="16605"/>
                </a:lnTo>
                <a:arcTo wR="21600" hR="8517" stAng="7792926" swAng="2771833"/>
                <a:lnTo>
                  <a:pt x="319" y="9975"/>
                </a:lnTo>
                <a:arcTo wR="21600" hR="8517" stAng="-10564760" swAng="5164760"/>
                <a:close/>
              </a:path>
              <a:path fill="darkenLess" w="21600" h="21600">
                <a:moveTo>
                  <a:pt x="21600" y="0"/>
                </a:moveTo>
                <a:arcTo wR="21600" hR="8517" stAng="-5400000" swAng="-5400000"/>
                <a:lnTo>
                  <a:pt x="0" y="8517"/>
                </a:lnTo>
                <a:arcTo wR="21600" hR="8517" stAng="10800000" swAng="-235240"/>
                <a:lnTo>
                  <a:pt x="319" y="9975"/>
                </a:lnTo>
                <a:arcTo wR="21600" hR="8517" stAng="-10564760" swAng="5164760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135320" y="3395520"/>
            <a:ext cx="150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ergia financie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211640" y="6392880"/>
            <a:ext cx="1138320" cy="289080"/>
          </a:xfrm>
          <a:custGeom>
            <a:avLst/>
            <a:gdLst>
              <a:gd name="textAreaLeft" fmla="*/ 213120 w 1138320"/>
              <a:gd name="textAreaRight" fmla="*/ 811080 w 1138320"/>
              <a:gd name="textAreaTop" fmla="*/ 38520 h 289080"/>
              <a:gd name="textAreaBottom" fmla="*/ 250560 h 28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8099" hR="21600" stAng="10800000" swAng="-5400000"/>
                <a:lnTo>
                  <a:pt x="11341" y="21600"/>
                </a:lnTo>
                <a:arcTo wR="8099" hR="21600" stAng="5400000" swAng="-2790253"/>
                <a:lnTo>
                  <a:pt x="21131" y="7240"/>
                </a:lnTo>
                <a:lnTo>
                  <a:pt x="17819" y="0"/>
                </a:lnTo>
                <a:lnTo>
                  <a:pt x="13569" y="7240"/>
                </a:lnTo>
                <a:lnTo>
                  <a:pt x="15729" y="7240"/>
                </a:lnTo>
                <a:arcTo wR="8099" hR="21600" stAng="2609747" swAng="2527448"/>
                <a:lnTo>
                  <a:pt x="9720" y="21163"/>
                </a:lnTo>
                <a:arcTo wR="8099" hR="21600" stAng="5662805" swAng="5137195"/>
                <a:close/>
              </a:path>
              <a:path fill="darkenLess" w="21600" h="21600">
                <a:moveTo>
                  <a:pt x="0" y="0"/>
                </a:moveTo>
                <a:arcTo wR="8099" hR="21600" stAng="10800000" swAng="-5400000"/>
                <a:lnTo>
                  <a:pt x="11341" y="21600"/>
                </a:lnTo>
                <a:arcTo wR="8099" hR="21600" stAng="5400000" swAng="262805"/>
                <a:lnTo>
                  <a:pt x="9720" y="21163"/>
                </a:lnTo>
                <a:arcTo wR="8099" hR="21600" stAng="5662805" swAng="513719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 flipV="1">
            <a:off x="4135320" y="4900680"/>
            <a:ext cx="1138320" cy="288720"/>
          </a:xfrm>
          <a:custGeom>
            <a:avLst/>
            <a:gdLst>
              <a:gd name="textAreaLeft" fmla="*/ 213480 w 1138320"/>
              <a:gd name="textAreaRight" fmla="*/ 811440 w 1138320"/>
              <a:gd name="textAreaTop" fmla="*/ 38520 h 288720"/>
              <a:gd name="textAreaBottom" fmla="*/ 25020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8099" hR="21600" stAng="10800000" swAng="-5400000"/>
                <a:lnTo>
                  <a:pt x="11341" y="21600"/>
                </a:lnTo>
                <a:arcTo wR="8099" hR="21600" stAng="5400000" swAng="-2790253"/>
                <a:lnTo>
                  <a:pt x="21131" y="7240"/>
                </a:lnTo>
                <a:lnTo>
                  <a:pt x="17819" y="0"/>
                </a:lnTo>
                <a:lnTo>
                  <a:pt x="13569" y="7240"/>
                </a:lnTo>
                <a:lnTo>
                  <a:pt x="15729" y="7240"/>
                </a:lnTo>
                <a:arcTo wR="8099" hR="21600" stAng="2609747" swAng="2527448"/>
                <a:lnTo>
                  <a:pt x="9720" y="21163"/>
                </a:lnTo>
                <a:arcTo wR="8099" hR="21600" stAng="5662805" swAng="5137195"/>
                <a:close/>
              </a:path>
              <a:path fill="darkenLess" w="21600" h="21600">
                <a:moveTo>
                  <a:pt x="0" y="0"/>
                </a:moveTo>
                <a:arcTo wR="8099" hR="21600" stAng="10800000" swAng="-5400000"/>
                <a:lnTo>
                  <a:pt x="11341" y="21600"/>
                </a:lnTo>
                <a:arcTo wR="8099" hR="21600" stAng="5400000" swAng="262805"/>
                <a:lnTo>
                  <a:pt x="9720" y="21163"/>
                </a:lnTo>
                <a:arcTo wR="8099" hR="21600" stAng="5662805" swAng="513719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2263680" y="228600"/>
            <a:ext cx="624852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La reducción del costo financiero para la PyM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Ejemplo: cheque aval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949400" y="4457880"/>
            <a:ext cx="4162320" cy="5284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110280" y="4457880"/>
            <a:ext cx="590400" cy="528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699240" y="4457880"/>
            <a:ext cx="1822320" cy="5284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949400" y="4983120"/>
            <a:ext cx="6572160" cy="266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949400" y="5383080"/>
            <a:ext cx="4162320" cy="28116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10280" y="5137200"/>
            <a:ext cx="590400" cy="527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699240" y="5383080"/>
            <a:ext cx="1822320" cy="28116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986840" y="1068480"/>
            <a:ext cx="1427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300" spc="-1" strike="noStrike">
                <a:solidFill>
                  <a:srgbClr val="000000"/>
                </a:solidFill>
                <a:latin typeface="Arial"/>
              </a:rPr>
              <a:t>Monto del Chequ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421400" y="1068480"/>
            <a:ext cx="1087560" cy="198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300" spc="-1" strike="noStrike">
                <a:solidFill>
                  <a:srgbClr val="000000"/>
                </a:solidFill>
                <a:latin typeface="Arial"/>
              </a:rPr>
              <a:t>$ 100.000,0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984680" y="1366920"/>
            <a:ext cx="1226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300" spc="-1" strike="noStrike">
                <a:solidFill>
                  <a:srgbClr val="000000"/>
                </a:solidFill>
                <a:latin typeface="Arial"/>
              </a:rPr>
              <a:t>Fecha operació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630560" y="1366920"/>
            <a:ext cx="8236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300" spc="-1" strike="noStrike">
                <a:solidFill>
                  <a:srgbClr val="000000"/>
                </a:solidFill>
                <a:latin typeface="Arial"/>
              </a:rPr>
              <a:t>26/06/2008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987560" y="1616040"/>
            <a:ext cx="2277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300" spc="-1" strike="noStrike">
                <a:solidFill>
                  <a:srgbClr val="000000"/>
                </a:solidFill>
                <a:latin typeface="Arial"/>
              </a:rPr>
              <a:t>Fecha vencimiento del  chequ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630560" y="1616040"/>
            <a:ext cx="8236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300" spc="-1" strike="noStrike">
                <a:solidFill>
                  <a:srgbClr val="000000"/>
                </a:solidFill>
                <a:latin typeface="Arial"/>
              </a:rPr>
              <a:t>26/07/2008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984320" y="1928880"/>
            <a:ext cx="14364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300" spc="-1" strike="noStrike">
                <a:solidFill>
                  <a:srgbClr val="000000"/>
                </a:solidFill>
                <a:latin typeface="Arial"/>
              </a:rPr>
              <a:t>Días al vencimient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421400" y="1928880"/>
            <a:ext cx="1071720" cy="198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300" spc="-1" strike="noStrike">
                <a:solidFill>
                  <a:srgbClr val="000000"/>
                </a:solidFill>
                <a:latin typeface="Arial"/>
              </a:rPr>
              <a:t>30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85400" y="2359080"/>
            <a:ext cx="1472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300" spc="-1" strike="noStrike">
                <a:solidFill>
                  <a:srgbClr val="000000"/>
                </a:solidFill>
                <a:latin typeface="Arial"/>
              </a:rPr>
              <a:t>Descuento Operad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43120" y="2359080"/>
            <a:ext cx="6498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300" spc="-1" strike="noStrike">
                <a:solidFill>
                  <a:srgbClr val="000000"/>
                </a:solidFill>
                <a:latin typeface="Arial"/>
              </a:rPr>
              <a:t>13,00  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743960" y="2359080"/>
            <a:ext cx="6408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300" spc="-1" strike="noStrike">
                <a:solidFill>
                  <a:srgbClr val="000000"/>
                </a:solidFill>
                <a:latin typeface="Arial"/>
              </a:rPr>
              <a:t>1.057,2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788160" y="2359080"/>
            <a:ext cx="10522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300" spc="-1" strike="noStrike">
                <a:solidFill>
                  <a:srgbClr val="000000"/>
                </a:solidFill>
                <a:latin typeface="Arial"/>
              </a:rPr>
              <a:t>$           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982880" y="2611440"/>
            <a:ext cx="1134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300" spc="-1" strike="noStrike">
                <a:solidFill>
                  <a:srgbClr val="000000"/>
                </a:solidFill>
                <a:latin typeface="Arial"/>
              </a:rPr>
              <a:t>Percepción IV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346360" y="2611440"/>
            <a:ext cx="6498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300" spc="-1" strike="noStrike">
                <a:solidFill>
                  <a:srgbClr val="000000"/>
                </a:solidFill>
                <a:latin typeface="Arial"/>
              </a:rPr>
              <a:t>21,00  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878600" y="2611440"/>
            <a:ext cx="5036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300" spc="-1" strike="noStrike">
                <a:solidFill>
                  <a:srgbClr val="000000"/>
                </a:solidFill>
                <a:latin typeface="Arial"/>
              </a:rPr>
              <a:t>222,0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788520" y="2611440"/>
            <a:ext cx="1189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300" spc="-1" strike="noStrike">
                <a:solidFill>
                  <a:srgbClr val="000000"/>
                </a:solidFill>
                <a:latin typeface="Arial"/>
              </a:rPr>
              <a:t>$              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985040" y="2862360"/>
            <a:ext cx="16923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300" spc="-1" strike="noStrike">
                <a:solidFill>
                  <a:srgbClr val="000000"/>
                </a:solidFill>
                <a:latin typeface="Arial"/>
              </a:rPr>
              <a:t>Aval SGR (como t.n.a.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434920" y="2862360"/>
            <a:ext cx="5583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300" spc="-1" strike="noStrike">
                <a:solidFill>
                  <a:srgbClr val="000000"/>
                </a:solidFill>
                <a:latin typeface="Arial"/>
              </a:rPr>
              <a:t>3,00  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878600" y="2862360"/>
            <a:ext cx="5036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300" spc="-1" strike="noStrike">
                <a:solidFill>
                  <a:srgbClr val="000000"/>
                </a:solidFill>
                <a:latin typeface="Arial"/>
              </a:rPr>
              <a:t>246,58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788520" y="2862360"/>
            <a:ext cx="1189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300" spc="-1" strike="noStrike">
                <a:solidFill>
                  <a:srgbClr val="000000"/>
                </a:solidFill>
                <a:latin typeface="Arial"/>
              </a:rPr>
              <a:t>$              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39080" y="286236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985040" y="3112920"/>
            <a:ext cx="16650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300" spc="-1" strike="noStrike">
                <a:solidFill>
                  <a:srgbClr val="000000"/>
                </a:solidFill>
                <a:latin typeface="Arial"/>
              </a:rPr>
              <a:t>Derecho de Cotizació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434560" y="3112920"/>
            <a:ext cx="5126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300" spc="-1" strike="noStrike">
                <a:solidFill>
                  <a:srgbClr val="000000"/>
                </a:solidFill>
                <a:latin typeface="Arial"/>
              </a:rPr>
              <a:t>0,12 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965720" y="3112920"/>
            <a:ext cx="4122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300" spc="-1" strike="noStrike">
                <a:solidFill>
                  <a:srgbClr val="000000"/>
                </a:solidFill>
                <a:latin typeface="Arial"/>
              </a:rPr>
              <a:t>29,26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788880" y="3112920"/>
            <a:ext cx="1280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300" spc="-1" strike="noStrike">
                <a:solidFill>
                  <a:srgbClr val="000000"/>
                </a:solidFill>
                <a:latin typeface="Arial"/>
              </a:rPr>
              <a:t>$                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985400" y="3365640"/>
            <a:ext cx="19756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300" spc="-1" strike="noStrike">
                <a:solidFill>
                  <a:srgbClr val="000000"/>
                </a:solidFill>
                <a:latin typeface="Arial"/>
              </a:rPr>
              <a:t>Arancel Sociedad de Bols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434920" y="3365640"/>
            <a:ext cx="5583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300" spc="-1" strike="noStrike">
                <a:solidFill>
                  <a:srgbClr val="000000"/>
                </a:solidFill>
                <a:latin typeface="Arial"/>
              </a:rPr>
              <a:t>1,20  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965720" y="3365640"/>
            <a:ext cx="4122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300" spc="-1" strike="noStrike">
                <a:solidFill>
                  <a:srgbClr val="000000"/>
                </a:solidFill>
                <a:latin typeface="Arial"/>
              </a:rPr>
              <a:t>98,63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788520" y="3365640"/>
            <a:ext cx="1189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300" spc="-1" strike="noStrike">
                <a:solidFill>
                  <a:srgbClr val="000000"/>
                </a:solidFill>
                <a:latin typeface="Arial"/>
              </a:rPr>
              <a:t>$              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939080" y="336564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987200" y="3618000"/>
            <a:ext cx="2378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300" spc="-1" strike="noStrike">
                <a:solidFill>
                  <a:srgbClr val="000000"/>
                </a:solidFill>
                <a:latin typeface="Arial"/>
              </a:rPr>
              <a:t>Costo Caja de Valores (variable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434920" y="3618000"/>
            <a:ext cx="5583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300" spc="-1" strike="noStrike">
                <a:solidFill>
                  <a:srgbClr val="000000"/>
                </a:solidFill>
                <a:latin typeface="Arial"/>
              </a:rPr>
              <a:t>0,03  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965720" y="3618000"/>
            <a:ext cx="4122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300" spc="-1" strike="noStrike">
                <a:solidFill>
                  <a:srgbClr val="000000"/>
                </a:solidFill>
                <a:latin typeface="Arial"/>
              </a:rPr>
              <a:t>80,0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788880" y="3618000"/>
            <a:ext cx="1280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300" spc="-1" strike="noStrike">
                <a:solidFill>
                  <a:srgbClr val="000000"/>
                </a:solidFill>
                <a:latin typeface="Arial"/>
              </a:rPr>
              <a:t>$                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8026200" y="361800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980720" y="3868560"/>
            <a:ext cx="266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300" spc="-1" strike="noStrike">
                <a:solidFill>
                  <a:srgbClr val="000000"/>
                </a:solidFill>
                <a:latin typeface="Arial"/>
              </a:rPr>
              <a:t>IV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47800" y="3868560"/>
            <a:ext cx="6498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300" spc="-1" strike="noStrike">
                <a:solidFill>
                  <a:srgbClr val="000000"/>
                </a:solidFill>
                <a:latin typeface="Arial"/>
              </a:rPr>
              <a:t>21,00  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965720" y="3868560"/>
            <a:ext cx="4122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300" spc="-1" strike="noStrike">
                <a:solidFill>
                  <a:srgbClr val="000000"/>
                </a:solidFill>
                <a:latin typeface="Arial"/>
              </a:rPr>
              <a:t>20,7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788880" y="3868560"/>
            <a:ext cx="1280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300" spc="-1" strike="noStrike">
                <a:solidFill>
                  <a:srgbClr val="000000"/>
                </a:solidFill>
                <a:latin typeface="Arial"/>
              </a:rPr>
              <a:t>$                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984680" y="4116240"/>
            <a:ext cx="9975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300" spc="-1" strike="noStrike">
                <a:solidFill>
                  <a:srgbClr val="000000"/>
                </a:solidFill>
                <a:latin typeface="Arial"/>
              </a:rPr>
              <a:t>Total Costo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743960" y="4116240"/>
            <a:ext cx="6408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300" spc="-1" strike="noStrike">
                <a:solidFill>
                  <a:srgbClr val="000000"/>
                </a:solidFill>
                <a:latin typeface="Arial"/>
              </a:rPr>
              <a:t>1.754,39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788160" y="4116240"/>
            <a:ext cx="10522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300" spc="-1" strike="noStrike">
                <a:solidFill>
                  <a:srgbClr val="000000"/>
                </a:solidFill>
                <a:latin typeface="Arial"/>
              </a:rPr>
              <a:t>$           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985040" y="4476600"/>
            <a:ext cx="9241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300" spc="-1" strike="noStrike">
                <a:solidFill>
                  <a:srgbClr val="000000"/>
                </a:solidFill>
                <a:latin typeface="Arial"/>
              </a:rPr>
              <a:t>Monto Fin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688880" y="4476600"/>
            <a:ext cx="732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300" spc="-1" strike="noStrike">
                <a:solidFill>
                  <a:srgbClr val="000000"/>
                </a:solidFill>
                <a:latin typeface="Arial"/>
              </a:rPr>
              <a:t>98.245,6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787800" y="4476600"/>
            <a:ext cx="9608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300" spc="-1" strike="noStrike">
                <a:solidFill>
                  <a:srgbClr val="000000"/>
                </a:solidFill>
                <a:latin typeface="Arial"/>
              </a:rPr>
              <a:t>$         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0440" y="4740120"/>
            <a:ext cx="24879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300" spc="-1" strike="noStrike">
                <a:solidFill>
                  <a:srgbClr val="000000"/>
                </a:solidFill>
                <a:latin typeface="Arial"/>
              </a:rPr>
              <a:t>Monto Final (excluyendo el IVA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688880" y="4740120"/>
            <a:ext cx="732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300" spc="-1" strike="noStrike">
                <a:solidFill>
                  <a:srgbClr val="000000"/>
                </a:solidFill>
                <a:latin typeface="Arial"/>
              </a:rPr>
              <a:t>98.488,34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787800" y="4740120"/>
            <a:ext cx="9608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300" spc="-1" strike="noStrike">
                <a:solidFill>
                  <a:srgbClr val="000000"/>
                </a:solidFill>
                <a:latin typeface="Arial"/>
              </a:rPr>
              <a:t>$         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993680" y="5416560"/>
            <a:ext cx="37864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300" spc="-1" strike="noStrike">
                <a:solidFill>
                  <a:srgbClr val="ffffff"/>
                </a:solidFill>
                <a:latin typeface="Arial"/>
              </a:rPr>
              <a:t>Descuento final (sin IVA), con aval de Garantiza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902000" y="5416560"/>
            <a:ext cx="5583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300" spc="-1" strike="noStrike">
                <a:solidFill>
                  <a:srgbClr val="ffffff"/>
                </a:solidFill>
                <a:latin typeface="Arial"/>
              </a:rPr>
              <a:t>20,03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65240" y="2322360"/>
            <a:ext cx="4162680" cy="28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965240" y="4346640"/>
            <a:ext cx="4162680" cy="30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932120" y="2322360"/>
            <a:ext cx="33120" cy="2054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093000" y="2351160"/>
            <a:ext cx="34920" cy="2025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965240" y="4443480"/>
            <a:ext cx="4162680" cy="30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683400" y="2322360"/>
            <a:ext cx="33480" cy="2054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8502480" y="2351160"/>
            <a:ext cx="33480" cy="2025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965240" y="4707000"/>
            <a:ext cx="4162680" cy="30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965240" y="4968720"/>
            <a:ext cx="4162680" cy="30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932120" y="4443480"/>
            <a:ext cx="33120" cy="555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093000" y="4473720"/>
            <a:ext cx="34920" cy="525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683400" y="4443480"/>
            <a:ext cx="33480" cy="555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8502480" y="4473720"/>
            <a:ext cx="33480" cy="525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716880" y="2322360"/>
            <a:ext cx="1819080" cy="28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716880" y="4346640"/>
            <a:ext cx="1819080" cy="30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716880" y="4443480"/>
            <a:ext cx="1819080" cy="30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716880" y="4707000"/>
            <a:ext cx="1819080" cy="30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716880" y="4968720"/>
            <a:ext cx="1819080" cy="30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4920" y="0"/>
            <a:ext cx="1019160" cy="685800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6699240" y="5383080"/>
            <a:ext cx="1822320" cy="281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949400" y="5383080"/>
            <a:ext cx="4160880" cy="281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949400" y="5665680"/>
            <a:ext cx="416232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699240" y="5665680"/>
            <a:ext cx="1822320" cy="28116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987560" y="5699160"/>
            <a:ext cx="23140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300" spc="-1" strike="noStrike">
                <a:solidFill>
                  <a:srgbClr val="000000"/>
                </a:solidFill>
                <a:latin typeface="Arial"/>
              </a:rPr>
              <a:t>Ídem sin el aval de Garantiza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814160" y="5665680"/>
            <a:ext cx="687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49,58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699240" y="5665680"/>
            <a:ext cx="1822320" cy="281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949400" y="5665680"/>
            <a:ext cx="4160880" cy="281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sh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1619280" y="334800"/>
            <a:ext cx="7099200" cy="9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Cambio cuanti y cualitativo de la cartera de avales d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Garantizar S.G.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843200" y="4566240"/>
            <a:ext cx="719280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Garantías Financier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Garantizan el pago de un mutu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Garantías Comercial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Emitidas para garantizar el pago de una transacción comercial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Garantías Técnicas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Garantizan el cumplimiento de una obligación de hacer de carácter técnico o profesional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000000"/>
                </a:solidFill>
                <a:latin typeface="Arial"/>
              </a:rPr>
              <a:t>Sobre instrumentos negociables en el Mercado de Capita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gociación de Cheques de Pago Diferido en la Bolsa de Comerc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deicomisos con o sin Oferta Públi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34920" y="0"/>
            <a:ext cx="1019160" cy="68580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rcRect l="1890" t="2333" r="1890" b="2333"/>
          <a:stretch/>
        </p:blipFill>
        <p:spPr>
          <a:xfrm>
            <a:off x="2050920" y="1484280"/>
            <a:ext cx="3667320" cy="294336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rcRect l="1890" t="2333" r="1890" b="2333"/>
          <a:stretch/>
        </p:blipFill>
        <p:spPr>
          <a:xfrm>
            <a:off x="5148360" y="1484280"/>
            <a:ext cx="3666960" cy="294336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34920" y="0"/>
            <a:ext cx="1019160" cy="685800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2050920" y="228600"/>
            <a:ext cx="6248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Garantizar frente a los nuevos desafíos del financiamiento Py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34920" y="0"/>
            <a:ext cx="1019160" cy="685800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5148360" y="1539720"/>
            <a:ext cx="3887640" cy="412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Aumentar los plazos de financia-miento y reducir el costo financiero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Colaborar en el desarrollo de las cadenas de valor regional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Profundizar la federalización del sistema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Innovar en el desarrollo de instru-mentos de financiamient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Ayudar a desarrollar la demanda de productos de financiamiento PyME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Lograr el acceso de nuevos actores al sistema S.G.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Colaborar con la incorporación cre-ciente de las PyME a la economía formal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3"/>
          <a:stretch/>
        </p:blipFill>
        <p:spPr>
          <a:xfrm>
            <a:off x="1332000" y="1539720"/>
            <a:ext cx="3670200" cy="376884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1187280" y="1173240"/>
            <a:ext cx="30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En un mundo que cambió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364000" y="1173240"/>
            <a:ext cx="36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Por eso, Garantizar se plante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239840" y="5308560"/>
            <a:ext cx="376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dar las mismas respuestas nos hará socios del fracas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1619280" y="2565360"/>
            <a:ext cx="1450800" cy="171288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6516720" y="2565360"/>
            <a:ext cx="1593720" cy="161784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3"/>
          <a:stretch/>
        </p:blipFill>
        <p:spPr>
          <a:xfrm>
            <a:off x="34920" y="0"/>
            <a:ext cx="1019160" cy="68580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2050920" y="228600"/>
            <a:ext cx="6248520" cy="84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El mercado del crédito en nuestro paí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(una prospectiv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054080" y="1143000"/>
            <a:ext cx="798192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Para sostener en el largo plazo el crédito al consumo, los bancos públicos y el mercado de capitales deberán financiar a la inversión y el sistema productiv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Un mercado de capitales que se desarrolla y viabiliza proyectos de inversión con impacto local permitirá canalizar ahorro local hacia inversiones “visibles” para el inverso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Proyectos PyME viables reportarán al inversor el resultado financiero, pero también el que resulte del aumento del nivel de actividad y de emple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Se trata de una oportunidad de oro para construir un mercado de capitales de alcance nacional, unificado, y con demanda para activos financieros PyM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La unificación de las Bolsas locales en un único mercado nacional se impondrá como opción relevante. De otro modo, condenarán a la ineficiencia e insignifi-cancia al mercado de capitales argentin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El proyecto de reforma del régimen previsional convertirá a la ANSES en el gran actor del mercado de capitales local, y así se podrá transformar en realidad operativa el inciso q) del Art. 74 de la Ley 24.241 y canalizar recursos hacia proyectos productivos PyM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Un mercado que crece es negocio en todo sentido, PARA TOD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8T01:07:56Z</dcterms:created>
  <dc:creator>Néstor</dc:creator>
  <dc:description/>
  <dc:language>en-US</dc:language>
  <cp:lastModifiedBy>CPCEACABA</cp:lastModifiedBy>
  <dcterms:modified xsi:type="dcterms:W3CDTF">2008-11-10T19:01:16Z</dcterms:modified>
  <cp:revision>78</cp:revision>
  <dc:subject/>
  <dc:title>Presentación de PowerPoint</dc:title>
</cp:coreProperties>
</file>