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10A3-32F2-43FA-9EDE-98296649C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65C4-1F6A-4019-ADD4-6F7C8A3CA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3287-FC8C-4640-88E5-349EBD21B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8A35-C0B2-4C0C-A321-403B95206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BD2B-8942-4FE9-B1DB-59BFE1420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DC1E-5A07-474A-A6EA-4E114B05B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7C43-41A7-4FD5-BF47-CEE344834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4620-47A8-49C3-A76D-1EE42325C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1EFB-CB5F-4A35-BF8F-B72404B18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2C6B-D227-4018-A5D5-2986530D9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B5F2-87C7-4A26-8761-658CF8C05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29B7-95FA-4B97-91EF-A9634E944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16120"/>
          </a:xfrm>
          <a:prstGeom prst="rect">
            <a:avLst/>
          </a:prstGeom>
          <a:solidFill>
            <a:srgbClr val="efdb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894360" y="6305040"/>
            <a:ext cx="1943280" cy="466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s-E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6F2214-2467-4589-9BEF-83279C66BC0A}" type="slidenum"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520560" cy="68580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29520"/>
            <a:ext cx="507960" cy="50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7600" indent="-146160">
              <a:buClr>
                <a:srgbClr val="000000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152280"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441360" indent="-138240">
              <a:buClr>
                <a:srgbClr val="000000"/>
              </a:buClr>
              <a:buSzPct val="89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93640" indent="-150840">
              <a:buClr>
                <a:srgbClr val="000000"/>
              </a:buClr>
              <a:buSzPct val="90000"/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593640" indent="-150840"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593640" indent="-150840"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25280" y="1736280"/>
            <a:ext cx="57913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8402760" y="36360"/>
            <a:ext cx="5126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ancodevalores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41600" y="1598760"/>
            <a:ext cx="627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3° Congreso Nacional e Internacional de Finanz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 la Empresa y Mercado de Capitale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22800" y="6111720"/>
            <a:ext cx="42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y 6 de Noviembre de 2008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85280" y="6365880"/>
            <a:ext cx="209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56480" y="3186000"/>
            <a:ext cx="5068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Arial"/>
              </a:rPr>
              <a:t>El Mercado de Capitales como impul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Arial"/>
              </a:rPr>
              <a:t>del desarrollo económico y social</a:t>
            </a:r>
            <a:r>
              <a:rPr b="1" lang="es-AR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0134-AD2B-4593-825B-7DCF0E5B91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816200" y="10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9960" y="101916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Emisiones por 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63800" y="1330200"/>
            <a:ext cx="181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Porcentaje de particip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7320" y="299880"/>
            <a:ext cx="52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acilitó el desarrollo de determinados se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5010120"/>
            <a:ext cx="760716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sus comienzos el mercado fue desarrollado por las cadenas de electrodomésticos, entidades financieras, emisoras de tarjetas de crédito y py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osteriormente se incorporaron nuevos originantes (mutuales, créditos comerciales, empresas de leasing, entre otro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7320" y="4746600"/>
            <a:ext cx="108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00000"/>
                </a:solidFill>
                <a:latin typeface="Arial"/>
              </a:rPr>
              <a:t>Datos a sep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01800" y="1733400"/>
            <a:ext cx="8051760" cy="300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A2267-DF98-478D-A8F4-0BC40BB22A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16200" y="10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55440" y="1057320"/>
            <a:ext cx="19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Emisiones por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38240" y="1355760"/>
            <a:ext cx="181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Porcentaje de particip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64960" y="274680"/>
            <a:ext cx="44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acilitó el alargamiento de los plaz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2440" y="1895400"/>
            <a:ext cx="5761080" cy="2435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22480" y="4686480"/>
            <a:ext cx="72468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Se promovió el financiamiento de corto, mediano y largo plaz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n el total de emisiones entre enero y septiembre de 2008, las emisiones de corto plazo (hasta 1 año) representaron el 54% del total, mientras que las de mediano plazo (entre 1 y 5 años) representaron el 4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Las emisiones de largo plazo (más de 5 años) representaron el 1% del total emitido.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46360" y="4302000"/>
            <a:ext cx="108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00000"/>
                </a:solidFill>
                <a:latin typeface="Arial"/>
              </a:rPr>
              <a:t>Datos a sep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C139-5F76-4B6C-9264-2264784122E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816200" y="10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90000" y="105732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Perfil de Inversor (año 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38240" y="1355760"/>
            <a:ext cx="181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Porcentaje de particip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4200" y="287280"/>
            <a:ext cx="57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Quiénes contribuyeron al desarrollo del merca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22480" y="4686480"/>
            <a:ext cx="72468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La demanda de Fideicomisos Financieros se encuentra divida en variedad de invers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Los esfuerzos de oferta pública permitieron acercar al mercado inversores minoristas que representaron el 10% de la dema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28800" y="1746360"/>
          <a:ext cx="5562720" cy="247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46360"/>
                    <a:ext cx="556272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827000" y="4162320"/>
            <a:ext cx="3429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00000"/>
                </a:solidFill>
                <a:latin typeface="Arial"/>
              </a:rPr>
              <a:t>Información elaborada por Banco de Valores. Datos a sep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619B-A6EB-4658-83D9-D168F62A871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92240" y="1236600"/>
            <a:ext cx="74930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Recientemente, el Poder Ejecutivo promovió un proyecto de Ley que elimina el régimen de capitalización transfiriendo los fondos de las cuentas de AFJP a un Fondo de Garantía de Sustentabilidad del Régimen Previs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Las AFJP  mantienen en  cartera  un  total  de  $ 5.600  Millones en </a:t>
            </a:r>
            <a:r>
              <a:rPr b="0" i="1" lang="es-AR" sz="1400" spc="-1" strike="noStrike">
                <a:solidFill>
                  <a:srgbClr val="000000"/>
                </a:solidFill>
                <a:latin typeface="Arial"/>
              </a:rPr>
              <a:t>Fideicomisos  Financieros (equivalente al 6% de su carter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Durante el año 2008 han suscripto en promedio el 20% de las emisiones de Fideicomisos Financieros, en una participación creciente en  los últimos 30 días alcanzando el 32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4200" y="287280"/>
            <a:ext cx="57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Quiénes contribuyeron al desarrollo del merca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55760" y="2703600"/>
            <a:ext cx="5000760" cy="2844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315520" y="5508720"/>
            <a:ext cx="192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00000"/>
                </a:solidFill>
                <a:latin typeface="Arial"/>
              </a:rPr>
              <a:t>Fuente: SAFJP. Datos a sep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A9F1-3172-49B0-86DB-DD159100491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28240" y="27468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2879640"/>
            <a:ext cx="77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parencia + Seguridad jurídica + Buenos ren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95D5-DF57-4909-9C9A-07978AB520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24360" y="274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Desafí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7440" y="1355760"/>
            <a:ext cx="741708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41292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servar los principios que permitieron su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1292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1292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ercar al mercado nuevos emisores y nuevos inver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1292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1292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rear estructuras para el financiamiento de nuevos sectores econó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1292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1292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nimiento de inversores institucionales bajo la figura jurídica que se acu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1292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8AE5-538D-470E-ADD0-4AACC4F1A3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759040" y="2236680"/>
            <a:ext cx="40449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UCHAS 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ANCO DE VALORES S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www.bancodevalor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36040" y="6365880"/>
            <a:ext cx="15876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BDF6-B94C-4164-96CF-27C60A120D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11120" y="1936800"/>
            <a:ext cx="64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55600" y="134316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volución del financiamiento a través del Mercado de Cap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volución del mercado de Fideicomisos Financi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onfianza = Crédito + Desarrollo + Pla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¿Quiénes contribuyeron al desarrollo del mercad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28600" y="311040"/>
            <a:ext cx="675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OBJETIVOS DE LA PRESENT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C75D-B0D2-44B5-83DA-1CEFE98542C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16200" y="10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55600" y="1428840"/>
            <a:ext cx="339084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cenario año 2001-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o riesgo paí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ce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aparición del crédito banc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credulidad de los invers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bandono de la convertibi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1428840"/>
            <a:ext cx="417816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ctual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umento de riesgo paí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acele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tracción y encarecimiento del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concierto de los invers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ipo de cambio volát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uevo ingrediente: crisis inter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55600" y="4784760"/>
            <a:ext cx="6861240" cy="63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 que parecía una crisis de difícil solució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a el mercado de capitales se transformo en una oportun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4F33-984B-4A64-8B4B-E9769D32C1B2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283360" y="2814120"/>
            <a:ext cx="366840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n el período 2003-2008, el financiamiento genuino a empresas a través del mercado de capitales totalizó a U$S 17.856 mill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De este total, el 50% correspondieron a emisiones de Fideicomisos Financier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n el transcurso del año 2008, el financiamiento a empresas alcanzó los  U$S 3.180 millon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l 69% corresponden a Fideicomisos Financie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08080" y="31284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volución del financiamiento a través del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04840" y="1182600"/>
            <a:ext cx="7427880" cy="1316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6080" y="5586480"/>
            <a:ext cx="3876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Arial"/>
              </a:rPr>
              <a:t>Fuente: IAMC con información de BCBA (*) con información al  30-Septiembre-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1560" y="2852640"/>
            <a:ext cx="3673440" cy="2490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96080" y="1054080"/>
            <a:ext cx="87660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1752480"/>
            <a:ext cx="1955880" cy="1778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936F-07ED-47B7-BBC5-F410B091C095}" type="slidenum">
              <a:t>4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11120" y="1936800"/>
            <a:ext cx="64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7440" y="1359000"/>
            <a:ext cx="708660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Financiamiento off 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cceso al mercado de capitales con menos exigencias respecto de otras altern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Rating de los títulos superior al rating corpo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Seguridad jurídica, transparencia y confi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ntes: ventajas impositivas (Dto. 1207/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9600" y="29988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Por qué el Fideicomiso Financie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8E32-C88C-4828-B5EF-730A08D7212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16200" y="10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58640" y="173052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Emisiones totales de Fideicomisos Financi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32600" y="1978200"/>
            <a:ext cx="1681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cifras en millones de pes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58120" y="249120"/>
            <a:ext cx="58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volución del mercado de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88840" y="2171880"/>
          <a:ext cx="49406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2171880"/>
                    <a:ext cx="49406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990720" y="5041800"/>
            <a:ext cx="44575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Verdana"/>
              </a:rPr>
              <a:t>Q </a:t>
            </a:r>
            <a:r>
              <a:rPr b="0" lang="es-AR" sz="1000" spc="-1" strike="noStrike">
                <a:solidFill>
                  <a:srgbClr val="000000"/>
                </a:solidFill>
                <a:latin typeface="Verdana"/>
              </a:rPr>
              <a:t>      25           77            142            205          248        1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64240" y="2330280"/>
            <a:ext cx="3238560" cy="33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Desde el año 2003 y hasta septiembre de 2008, se emitieron 869 fideicomisos financieros con oferta pública (FF), de los cuales cerca de 800 fueron emisiones genuinas (no se consideran los fideicomisos de títulos públicos y privado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l monto de emisiones del año 2007 fue 29 veces superior a lo emitido en el 2003, mientras que el volumen de emisiones fue casi 10 veces superi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n lo que va del 2008, se emitieron 172 fideicomisos por $6809 millones (35% superior a igual periodo 2007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96760" y="5394240"/>
            <a:ext cx="13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00000"/>
                </a:solidFill>
                <a:latin typeface="Arial"/>
              </a:rPr>
              <a:t>Datos a sep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0AD0-E9ED-4E5E-A7EA-B29C64A5C1E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16200" y="10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58640" y="173052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Emisiones totales de Fideicomisos Financi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32600" y="1978200"/>
            <a:ext cx="1681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cifras en millones de pes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1480" y="249120"/>
            <a:ext cx="58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volución del mercado de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88840" y="2171880"/>
          <a:ext cx="49406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2171880"/>
                    <a:ext cx="49406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231920" y="5041800"/>
            <a:ext cx="44575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Verdana"/>
              </a:rPr>
              <a:t>Q </a:t>
            </a:r>
            <a:r>
              <a:rPr b="0" lang="es-AR" sz="1000" spc="-1" strike="noStrike">
                <a:solidFill>
                  <a:srgbClr val="000000"/>
                </a:solidFill>
                <a:latin typeface="Verdana"/>
              </a:rPr>
              <a:t>      77              142               205             248              1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Verdana"/>
              </a:rPr>
              <a:t>BV     </a:t>
            </a:r>
            <a:r>
              <a:rPr b="0" lang="es-AR" sz="1000" spc="-1" strike="noStrike">
                <a:solidFill>
                  <a:srgbClr val="000000"/>
                </a:solidFill>
                <a:latin typeface="Verdana"/>
              </a:rPr>
              <a:t>43</a:t>
            </a:r>
            <a:r>
              <a:rPr b="0" lang="es-A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1000" spc="-1" strike="noStrike">
                <a:solidFill>
                  <a:srgbClr val="000000"/>
                </a:solidFill>
                <a:latin typeface="Verdana"/>
              </a:rPr>
              <a:t>        70</a:t>
            </a:r>
            <a:r>
              <a:rPr b="0" lang="es-A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1000" spc="-1" strike="noStrike">
                <a:solidFill>
                  <a:srgbClr val="000000"/>
                </a:solidFill>
                <a:latin typeface="Verdana"/>
              </a:rPr>
              <a:t>        97              109              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64240" y="2330280"/>
            <a:ext cx="32385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Banco de Valores S.A. ha mantenido a lo largo de estos años una posición de liderazgo en el merc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urante el año 2008 su participación alcanza el 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4280" y="5673600"/>
            <a:ext cx="13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00000"/>
                </a:solidFill>
                <a:latin typeface="Arial"/>
              </a:rPr>
              <a:t>Datos a sep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4038480"/>
            <a:ext cx="228600" cy="190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4406760"/>
            <a:ext cx="228600" cy="190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63560" y="438948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Banco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8160" y="4033800"/>
            <a:ext cx="98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otal Merc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AA95-BF8E-46AE-8846-5A72B8E5BAC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816200" y="10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32920" y="287280"/>
            <a:ext cx="58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volución del mercado de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92240" y="2984400"/>
            <a:ext cx="72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¿PORQUE EL MERCADO SE CONVIRTIO EN UN VERDADERO IMPULSOR DEL DESARROL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91BF-7350-4A08-8EF9-2A70D3B730F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816200" y="10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14480" y="1044720"/>
            <a:ext cx="26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Emisiones por tipo de a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17600" y="1330200"/>
            <a:ext cx="181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Porcentaje de particip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33640" y="31284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acilitó el crecimiento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5010120"/>
            <a:ext cx="760716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Durante el período 2003-2008</a:t>
            </a:r>
            <a:r>
              <a:rPr b="0" lang="es-AR" sz="1400" spc="-1" strike="noStrike" baseline="30000">
                <a:solidFill>
                  <a:srgbClr val="000000"/>
                </a:solidFill>
                <a:latin typeface="Arial"/>
              </a:rPr>
              <a:t>(*)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l 57% del total de las emisiones correspondió a fideicomisos conformados por créditos personales y de consum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os individuos fueron los mas beneficiados por el desarrollo del mercado de capit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n segundo lugar (17% del total) se encuentran los fideicomisos de tarjetas de crédi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Los FF Estructurados cuyo activo subyacente son títulos públicos y privados. representaron el 10% durante el perío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5000" y="1760400"/>
            <a:ext cx="8315640" cy="2619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78360" y="4495680"/>
            <a:ext cx="43365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00000"/>
                </a:solidFill>
                <a:latin typeface="Arial"/>
              </a:rPr>
              <a:t>Fuente: IAMC con información de BCBA (*) con información al  30-Septiembre-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54E2-E586-4DD7-98AE-D72CC6F2E25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4T14:46:53Z</dcterms:created>
  <dc:creator>cynthia sileo</dc:creator>
  <dc:description/>
  <dc:language>en-US</dc:language>
  <cp:lastModifiedBy>CPCEACABA</cp:lastModifiedBy>
  <cp:lastPrinted>2003-03-27T15:55:02Z</cp:lastPrinted>
  <dcterms:modified xsi:type="dcterms:W3CDTF">2008-11-10T18:47:08Z</dcterms:modified>
  <cp:revision>1143</cp:revision>
  <dc:subject/>
  <dc:title>Título del documento</dc:title>
</cp:coreProperties>
</file>