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B23-7F84-458E-9966-D23721DC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D12-5354-4B83-B401-A9FF2E6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509-E387-4441-8B9C-CFF8CE65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947-41C0-409C-8C51-533829A2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C17-A6D2-4F9D-BF1C-633ACC4B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0B4-F991-4CC8-B800-D3639E8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D10-C902-4441-8E04-74F8715E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588-AE08-4FAB-8552-25E69526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FB7-1FD1-4DC7-A412-ACE5554F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E93-9BC7-4D7C-9F38-8F8B5574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3B4-78BC-4BFB-BA4E-6489ED0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CF0-A57B-407F-B08D-316F4E84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209C-D0B1-4C8D-870B-CC825848DD4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7050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43760" y="573408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Verdana"/>
              </a:rPr>
              <a:t>NOVI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1125360"/>
            <a:ext cx="896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Verdana"/>
              </a:rPr>
              <a:t>RJ DELTA FU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66"/>
                </a:solidFill>
                <a:latin typeface="Verdana"/>
              </a:rPr>
              <a:t>Miembro del Grupo RAYMOND J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35804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08000" y="4654440"/>
            <a:ext cx="9325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Verdana"/>
              </a:rPr>
              <a:t>FONDOS COMUNES DE INVERSION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3° Congreso Nacional e Internacional de Finanzas de la Empr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4680" y="2336760"/>
            <a:ext cx="227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808080"/>
                </a:solidFill>
                <a:latin typeface="Verdana"/>
              </a:rPr>
              <a:t>Casa Matriz de Raymond James en U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8480" y="390600"/>
            <a:ext cx="30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Rescate de Cuota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7940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formación Anticipada de 10 días a la presentación de la solicitud de rescate si ésta representa más del 10% del Fo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lazo de pago de rescate de 7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 caso de imposibilidad de pago del rescate en tiempo y forma se solicitará la suspensión de los rescates por 30 días a la CNV, entidad que está facultada para otorgar esta excep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analizará la posibilidad de establecer una comisión de rescate de hasta el 5% para los inversores que permanezcan menos de dos años en el Fondo. Esta comisión será reintegrada al haber del fondo en forma de utilidad para los inversores reman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6160" y="3906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Rendimiento IGBC vs M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5445000"/>
            <a:ext cx="395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Verdana"/>
              </a:rPr>
              <a:t>Desde Fin de la Convert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GBC= 1.4 x Retorno del M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332000" y="909720"/>
            <a:ext cx="61912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896760"/>
            <a:ext cx="6264360" cy="5186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36828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Universo de Compañías Eleg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68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Universo de Compañías Elegibles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264360" cy="518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3080" y="36828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Muestra de Compañías Argentinas del IGBC por Sect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48960" y="1125360"/>
            <a:ext cx="728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mpresas Nacionales de menos de AR$500 M de Capit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1677960"/>
          <a:ext cx="77040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77960"/>
                    <a:ext cx="77040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7050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59280" y="6181560"/>
            <a:ext cx="2736720" cy="627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000" y="385920"/>
            <a:ext cx="515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ias. Libradoras / Avalistas de Che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4392720" cy="5185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4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7050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132000" y="6181560"/>
            <a:ext cx="2737080" cy="627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6280" y="3859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G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017960" cy="504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43360" y="907920"/>
            <a:ext cx="4005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5800" y="3906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197000"/>
            <a:ext cx="82087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hículo eficiente para invertir en Compañías Argentinas de Pequeña y Mediana capit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jor performance histórica de acciones de Empresas Medianas vs Grandes en Argentina y otros 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álisis profundo de Valuaciones y Estrategia de Negocios + Evaluación de la Calidad del Management + Buenas Prácticas de Gobierno Corporativo = Adecuada Selección de Cartera = Retorno de Largo Pl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oyo para la difusión y la implementación de prácticas de Gobierno Corporativo en las empresas del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ramienta para promover la llegada de nuevas compañías Argentinas a la Bolsa de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primer instrumento de estas características lanzado en el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" y="39060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iscla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652040"/>
            <a:ext cx="8280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Esta presentación ha sido elaborada por RJ Delta Fund Management S.A quien considera que la información aquí contenida proviene de fuentes confiables. Todas las opiniones y estimaciones expresadas en este documento están sujetas a cambios sin previo aviso.  Las inversiones en Fondos Comunes de Inversión están sujetas a riesgo de inversión soberanos, comerciales, de tipo de cambio y a otros riesgos, incluyendo la posible pérdida de la inversión. Rendimientos pasados no garantizan rendimientos futu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960" y="404640"/>
            <a:ext cx="59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El Nuevo Marco regulatorio de la RG 534 de C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9079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ientemente la CNV ha emitido esta RG que establece condiciones operativas especiales para Fondos que inviertan en PY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s condiciones estan especialmente orientadas a generar mayores restricciones a los rescates entendiendo que es un fondo de baja liqui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mbién tiene el espíritu de generar incentivo para que los inversores posean horizontes de largo pl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 innovador en el sentido de introducir plazos prolongados para la constitución de la cartera dando al Fondo un poder de negociación especial y una mayor capacidad de análi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cates deberán ser preanunciados con 10 días hábiles de anticipación y se pueden pagar en siete días hábiles posteriores al la solic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fondo posee 180 días desde cada suscripción para la inversión de los mismos en el plan de inver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 menos un 75% debe estar invertido en empresas medianas (Cap de Mercado &lt; $ 500mm) y pequeñas y de ese porcentaje , un 30% absoluto debe estar invertido en PYMEs según RG 506 de CN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9560" y="404640"/>
            <a:ext cx="51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Qué son PYMEs para la RG 506 de la CN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12536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3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16000" y="2349360"/>
          <a:ext cx="6877080" cy="1190520"/>
        </p:xfrm>
        <a:graphic>
          <a:graphicData uri="http://schemas.openxmlformats.org/drawingml/2006/table">
            <a:tbl>
              <a:tblPr/>
              <a:tblGrid>
                <a:gridCol w="1008000"/>
                <a:gridCol w="1335240"/>
                <a:gridCol w="1133280"/>
                <a:gridCol w="1067040"/>
                <a:gridCol w="954000"/>
                <a:gridCol w="1379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T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OPECU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 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QUE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0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3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MPRE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4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.0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.6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.88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.0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1620720" y="1341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resas con Facturación Promedio últimos años inferior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4005360"/>
            <a:ext cx="66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compañías con Facturaciones mayores que por algún motivo cuenten con autorización de CNV para no poseer comité de Audito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9840" y="404640"/>
            <a:ext cx="44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Objetivo de Inversión de los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12536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Objetivo del Fondo es invertir al menos un 75% del portafolio de inversiones en compañías argentinas de mediana y baja capitalización bursátil, incluidas las denominadas PYMEs según la definición establecida por CNV (Resolución Gral. 506/07) y hasta un 25% en Otras Empresas Argentinas de mayor tam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 buscará invertir de manera diversificada en empresas argentinas con sólidos modelos de negocios, que estén operando en segmentos rentables de la economía, que coticen a valuaciones atractivas para un horizonte de largo plazo y que posean prácticas de gobierno corporativo que protejan los intereses de los accionistas minoritar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s Fondos pueden invertir en cualquier instrumento autorizado que permita dar financiamiento corto, mediano y largo plazo al segmento de Empresas Argentinas medianas y PY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 pautas de Buen Gobierno Corporativo, deberían ser un Objetivo perseguido por el Fondo en las empresas en las que invier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3160" y="40464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Instrumentos Autor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052640"/>
            <a:ext cx="83534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Como norma general: Instrumentos destinados al Financiamiento de P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iones de Sociedades Anóni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eques de Pago Dife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ligaciones Negoc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ligaciones Negociables Convertibles en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lores de deuda de Corto Pla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ítulos de Deuda de Fideicomisos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ítulos de Deuda del Estado Nacional y del Banco Central y depósitos bancarios, hasta que se complete el plan de inver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rechos cotizables sobre instrumentos representativos de capital y/o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480" y="390600"/>
            <a:ext cx="35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iversificación de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25360"/>
            <a:ext cx="87138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l menos un 75% del Portafolio podrá invertir en instrumentos autorizados emitidos por Empresas Argentinas Medianas y PYMEs según el siguiente criteri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 menos un 75% del portafolio será invertido en instrumentos autorizados del punto anterior emitidos por Empresas Argentinas con una capitalización de mercado inferior a los AR$500 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Fondo deberá tener un 30% de su portafolio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omo mínim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nvertido en instrumentos de emisores considerados PYMEs por la regulación local dictada por CNV (Resolución Gral. 506/0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Fondo no tendrá una posición de liquidez superior al 10% del portafolio una vez conformada la cartera de inversiones in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Fondo no podrá tener una posición superior a un 5% del derecho a voto de una compañ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404640"/>
            <a:ext cx="9144000" cy="36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200" y="981000"/>
            <a:ext cx="8642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 siguiente es solo un ejemplo sobre una posible cartera diversificada de instrumentos de financiación estratificada por tamaño de empresa en base a un supuesto de capitalización de mercado de las mis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645000"/>
            <a:ext cx="44654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3333ff"/>
                </a:solidFill>
                <a:uFillTx/>
                <a:latin typeface="Verdana"/>
              </a:rPr>
              <a:t>Cartera Modelo (Ejemp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orcentajes de alocación por niveles de Capitalización Bursátil (Cifras en AR$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En el segmento de 0-100 puede haber empresas sin cotización de acciones pero con programas de Cheques de Pago Diferid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958920" cy="3917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480" y="368280"/>
            <a:ext cx="53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Verdana"/>
              </a:rPr>
              <a:t>Diversificación del Portafolio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390600"/>
            <a:ext cx="9178920" cy="398880"/>
            <a:chOff x="0" y="390600"/>
            <a:chExt cx="9178920" cy="398880"/>
          </a:xfrm>
        </p:grpSpPr>
        <p:sp>
          <p:nvSpPr>
            <p:cNvPr id="102" name=""/>
            <p:cNvSpPr/>
            <p:nvPr/>
          </p:nvSpPr>
          <p:spPr>
            <a:xfrm>
              <a:off x="0" y="765000"/>
              <a:ext cx="9144000" cy="0"/>
            </a:xfrm>
            <a:prstGeom prst="line">
              <a:avLst/>
            </a:prstGeom>
            <a:ln w="88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04640"/>
              <a:ext cx="9144000" cy="360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920" y="404640"/>
              <a:ext cx="9144000" cy="360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6800" y="390600"/>
              <a:ext cx="278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Verdana"/>
                </a:rPr>
                <a:t>Gobierno Corpor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50920" y="206064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 menos el 25% de las inversiones del Fondo deberán ser realizadas, al final del primer año, en activos cuyos emisores estén adheridos a la Resolución Gral. 516/07 de Buenas Prácticas de Gobierno Societario de la Comisión Nacional de Valores (CNV), o cuyo directorio establezca un plazo no mayor a un año para para adherir a dicha nor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e porcentaje se incrementará al 50% para el segundo año y al 75% para el tercer a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15092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de posibles requisitos para mejorar prácticas Corpor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6165720"/>
            <a:ext cx="784872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390600"/>
            <a:ext cx="9178920" cy="398880"/>
            <a:chOff x="0" y="390600"/>
            <a:chExt cx="9178920" cy="398880"/>
          </a:xfrm>
        </p:grpSpPr>
        <p:sp>
          <p:nvSpPr>
            <p:cNvPr id="111" name=""/>
            <p:cNvSpPr/>
            <p:nvPr/>
          </p:nvSpPr>
          <p:spPr>
            <a:xfrm>
              <a:off x="0" y="765000"/>
              <a:ext cx="9144000" cy="0"/>
            </a:xfrm>
            <a:prstGeom prst="line">
              <a:avLst/>
            </a:prstGeom>
            <a:ln w="889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404640"/>
              <a:ext cx="9144000" cy="360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920" y="404640"/>
              <a:ext cx="9144000" cy="36036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800" y="390600"/>
              <a:ext cx="278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ff"/>
                  </a:solidFill>
                  <a:latin typeface="Verdana"/>
                </a:rPr>
                <a:t>Gobierno Corpor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50920" y="126828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Qué dice la RG 516 de Buen Gobierno Corpora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ece la necesidad de exteriorizar las responsabilidades del Directorio y su alc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ector Indepe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ece parámetros de Información a los accionist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ece la creación interna de Comités de Auditoría y de seguimiento de políticas de Gobierno corpo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riorización de políticas de Dividen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3640" y="6186600"/>
            <a:ext cx="273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21:02:46Z</dcterms:created>
  <dc:creator>Gabriel Ruiz</dc:creator>
  <dc:description/>
  <dc:language>en-US</dc:language>
  <cp:lastModifiedBy>CPCEACABA</cp:lastModifiedBy>
  <dcterms:modified xsi:type="dcterms:W3CDTF">2008-11-10T18:54:48Z</dcterms:modified>
  <cp:revision>191</cp:revision>
  <dc:subject/>
  <dc:title>RJ Delta Fund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