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77F-0D79-4957-9EDB-8848F14B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2F4-015F-4124-813D-74CEF16B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07B-D01F-46C8-A5C9-DB1941E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4D3-A08D-4811-913B-9B92BE9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490-F34B-47F0-9415-25CB53CB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D6F8-CAB1-491E-BDE3-FEFFBB1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AB9-D49E-40B7-B9FB-6F98044D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55C1-B56E-43A9-95CD-E882977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B648-CC2E-4C28-A834-5D5434C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3C7-F0C1-4E18-BC0B-F869779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B16-A18C-468A-B583-FE6FBFB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9FF-2594-4903-A568-5FED3284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350-BAE7-4D7B-9510-6DE5260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CDA6-8C68-41CE-821B-DB893CC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2346-74A3-469F-ACD8-1F13DB0A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D66-0244-409B-B6CF-F46F8E78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78D7-5293-45B6-BE97-3C0F4AB7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E27-6A60-4335-BADC-0380BC54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122-FCD3-41A8-8AB5-886EB20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444-9CC8-4351-A3B7-5B0BA6EF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9F7-51EF-4B3E-A898-AF21CC6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6C0-6A5D-4695-887C-7541EE3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6CE-F441-4D71-BB88-C8773B7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9F8-C19A-4233-A4D1-367271C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BF0C-E550-418F-8057-5614C7F3B0F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8361-5922-4509-B9CA-56AD45E080D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oliviericarlos@yahoo.com" TargetMode="External"/><Relationship Id="rId2" Type="http://schemas.openxmlformats.org/officeDocument/2006/relationships/hyperlink" Target="http://us.mc631.mail.yahoo.com/mc/compose?to=carlos.iglesias@raymondjames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VALUACION DE EMPRESAS INGRESANTES AL MERCADO DE CAPITA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Carlos Olivier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Aspectos relevantes que debe contar una empresa al ingresar al mercado de capitales (5/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Adecuado gobierno corporativo, ideal “one share one vote”, comités de directorios, directores realmente independientes, política de compensación de directivos adecuada (no excesiva) y transparencia en la información. Tag along right que proteja al menoritari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41A-B5A5-41F3-B532-D1E702050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Elección del instrumento y del med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Colocación pública o restrictiva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Colocación como capital de riesgo o empresa consolidada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Target de colocación claramente definid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Mercado donde se hará la coloca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286-2155-4218-9729-269697EA9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Elección del momentun – Impacto de la crisis en los mercad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Price Earning actual vs promedio 25añ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USA Actual: 13 (Normal 1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Europa Actual: 10 (Normal 1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Argentina Actual: 7 (Normal 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3366"/>
                </a:solidFill>
                <a:latin typeface="Arial"/>
              </a:rPr>
              <a:t>Hoy no es momento para salir al mercado pero a mediano plazo puede ser oportuno y es conveniente preparar la compañía para la sali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312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27C-1271-402A-BDF2-4D03A671DE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Elección del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Bolsa de Comercio de Buenos Aires, restricción por encaje a inversores extranjer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Bolsas extranjeras en forma paralel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D04-97A8-4C5B-B930-6CC572870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Bolsas extranjeras donde cotizan compañías argentinas (1/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NYSE</a:t>
            </a: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, la mayor, exige alto capital de colocación y control de la SEC. Cotizan 3200 cías. Alternativa de menor capitalización: ARC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NASDAQ</a:t>
            </a: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, mercado electrónico en general con empresas de menor nivel de capitalización. Fuerte desarrollo de empresas tecnológic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TORONTO STOCK EXCHANGE Y TORONTO</a:t>
            </a: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VENTURE CAPITAL</a:t>
            </a: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, Ideal para compañías mineras y energéticas. Cotizan unas 4000 empresas. Alta participación del spons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483-8554-4407-B7D5-514B107D4E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Bolsas extranjeras donde cotizan compañías argentinas (2/2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LONDON STOCK EXCHANGE</a:t>
            </a: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 – Main Market (grandes compañías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AIM London</a:t>
            </a: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 (pequeñas compañías con alta participación de experto británico – NOM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BOVESPA / SAN PABLO</a:t>
            </a: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 (Menor foco hacia Argenti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MADRID</a:t>
            </a: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 (Escaso movimiento de acciones argentin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A01-06BD-4B63-9EA4-3A6DF1E02B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CONSIDERACIONES SOBRE UNA OFERTA PÚBLICA DE ACCIONES DE SOCIEDADES INGRESANTES AL MERCAD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340000" y="4076280"/>
            <a:ext cx="619128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Referencias para solicitar mayor información sobre los temas trata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Carlos Olivieri – </a:t>
            </a:r>
            <a:r>
              <a:rPr b="0" lang="es-A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oliviericarlos@yahoo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arlos.iglesias@raymondjames.co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60C-B88C-4F9F-A478-CABC9DF02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Objetivos, Ventajas y Desventaj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Equi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Aspectos relev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Elección del instrumento y del 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Elección del merc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F4B-92DB-41B3-AB61-D297AA29E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Etap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66"/>
                </a:solidFill>
                <a:latin typeface="Arial"/>
              </a:rPr>
              <a:t>El proceso de oferta pública de acciones puede dividirse en cuatro etapas interrelaciona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365720"/>
            <a:ext cx="1871640" cy="129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3366"/>
                </a:solidFill>
                <a:latin typeface="Arial"/>
              </a:rPr>
              <a:t>Oferta Pública de Accion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84200" y="3212640"/>
            <a:ext cx="45561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Arial"/>
              </a:rPr>
              <a:t>Análisis del caso y contratación de ases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4200" y="4365000"/>
            <a:ext cx="45561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Arial"/>
              </a:rPr>
              <a:t>Estructuración de la transac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4200" y="5299920"/>
            <a:ext cx="45561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Arial"/>
              </a:rPr>
              <a:t>Colocación en el merc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4200" y="6165000"/>
            <a:ext cx="45561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Arial"/>
              </a:rPr>
              <a:t>After mark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3440" y="3213000"/>
            <a:ext cx="142920" cy="3384720"/>
          </a:xfrm>
          <a:custGeom>
            <a:avLst/>
            <a:gdLst>
              <a:gd name="textAreaLeft" fmla="*/ 0 w 142920"/>
              <a:gd name="textAreaRight" fmla="*/ 51480 w 142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4160" y="3933720"/>
            <a:ext cx="422280" cy="360360"/>
          </a:xfrm>
          <a:prstGeom prst="downArrow">
            <a:avLst>
              <a:gd name="adj1" fmla="val 43611"/>
              <a:gd name="adj2" fmla="val 39852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869000"/>
            <a:ext cx="422280" cy="360360"/>
          </a:xfrm>
          <a:prstGeom prst="downArrow">
            <a:avLst>
              <a:gd name="adj1" fmla="val 43611"/>
              <a:gd name="adj2" fmla="val 39852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732640"/>
            <a:ext cx="422280" cy="360360"/>
          </a:xfrm>
          <a:prstGeom prst="downArrow">
            <a:avLst>
              <a:gd name="adj1" fmla="val 43611"/>
              <a:gd name="adj2" fmla="val 39852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F1A-5321-4BC1-938E-47EE3019F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Objetivos, Ventajas y Desventaj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3142440"/>
            <a:ext cx="3384720" cy="31525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Potenciar el crecimiento de la compañía: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965160" indent="-34272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nuevas inversione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965160" indent="-34272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adquisiciones, etc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Mejorar la capitalización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Salida de parte de la inversión por parte de accionista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Dar liquidez a la acción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2984400"/>
            <a:ext cx="3384720" cy="3603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61080" y="2492280"/>
            <a:ext cx="3814560" cy="1728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Ventaja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Liquide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Transparenc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Acceso al Mercado de Capita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7840" indent="-17784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Nuevas fuentes de financiamien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4294080"/>
            <a:ext cx="3814560" cy="2448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Desventaja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Mayor regulación por parte de terceros (pérdida de contro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Deberes de inform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Cumplimiento con normas de otros países (si se lista en el exterio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Arial"/>
              </a:rPr>
              <a:t>Costo (de la transacción y de los nuevos recurso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FD7-E50F-47EF-BEB9-AA0B11DEE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Equipo habitual para salir al mercado internacional de capit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Asesor financiero confiable, internacional, con experiencia en deals simila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Abogado y auditor con conocimiento de mercados de capit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Banco Underwriter o Agente con llegada a posibles inversores. Puede o no coincidir con el asesor financiero. Lider argentino con proyección internacional: Raymond James; Líderes internacionales: Goldman Sachs &amp; Morgan Stanle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Management que hará las presentaciones (road show) con conocimiento del mercado y de la compañ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315-9378-4834-BCF3-BB5A319002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66"/>
                </a:solidFill>
                <a:latin typeface="Arial"/>
              </a:rPr>
              <a:t>Aspectos relevantes que debe contar una empresa al ingresar al mercado de capitales (1/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Track record / Historial positivo de ganancias, incremento de ventas y de resultados. Las tendencias son cla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Estrategia atractiva, convincente, capaz de “encantar” al invers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Claro uso de fon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Demostrar capacidad de lograr el objetivo que está “vendiendo” al mercado. Capacidad física, tecnológica y humana (manage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278-301A-4FB9-9F4F-9A1A24624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Aspectos relevantes que debe contar una empresa al ingresar al mercado de capitales (2/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Adecuados fundam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Enterprise Value (Valor de mercado + deuda financiera neta) / EBITDA (Earning before interest, tax, depreciation &amp; amortization) no menor que la media del mercado y el sector al cual pertene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Price Earning (valor de mercado / Ganancias normalizadas) no menor que el sector o peer grou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C81-4BF3-4606-8EB5-34AFEE4BB3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Aspectos relevantes que debe contar una empresa al ingresar al mercado de capitales (3/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Nivel de endeudamiento no excesivo, es decir, Deuda financiera neta / Deuda financiera neta+Patrimonio, menor a 3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Arial"/>
              </a:rPr>
              <a:t>EBITDA supere al costo financiero en no menos de 5 veces y que el pasivo financiero no sea excesivo con relación al EBIT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3AD-7EE4-4E3C-AEF4-5AF345116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66"/>
                </a:solidFill>
                <a:latin typeface="Arial"/>
              </a:rPr>
              <a:t>Aspectos relevantes que debe contar una empresa al ingresar al mercado de capitales (4/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Consideración de la coyuntura del mercado de capitales y su potencial demanda por el sec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Política de dividendos clara, dividend yield similar o superior a la del “peer” gro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Activos off balance sheet atractivos, en épocas normales representan el 70 % del valor de una compañí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66"/>
                </a:solidFill>
                <a:latin typeface="Arial"/>
              </a:rPr>
              <a:t>% y valor absoluto del floating lo más alto po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271-9C37-4E89-B30B-1884AFCE5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56:39Z</dcterms:created>
  <dc:creator>Ris WXP </dc:creator>
  <dc:description/>
  <dc:language>en-US</dc:language>
  <cp:lastModifiedBy>CPCEACABA</cp:lastModifiedBy>
  <dcterms:modified xsi:type="dcterms:W3CDTF">2008-11-10T18:59:02Z</dcterms:modified>
  <cp:revision>19</cp:revision>
  <dc:subject/>
  <dc:title>VALUACION DE EMPRESAS INGRESANTES AL MERCADO DE CAPITALES</dc:title>
</cp:coreProperties>
</file>