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4A05-B66A-4C9B-95F3-3B64C5E1C4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8752-B424-4985-AD4D-34C42B8A66E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7B01-4EAD-4B63-B115-29E01FEE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91F97-84BA-4245-BBCB-DDB59B93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11B8-45DD-4C1E-855E-3CD00A2C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B0C2-E5B3-475D-9E6B-CFE12ECA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DA44-FE36-4029-9994-8B90AFDB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8FD8-FD41-416B-A8D3-0E903BDD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1720-E135-4886-85D7-BA330CC7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6343-B769-4002-8EB0-288A4E04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6EE6-5D2D-46C1-B8A4-34F75794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DC48-BF94-4E04-B4E9-19CE6742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CCBF-ED40-4CB3-BD9B-D74074B8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05D7E-01A6-4D85-BC20-890776B7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4B40-38AB-4C87-9C53-63FEFA55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8CCD-BB60-4C10-A948-77959E8A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84FD-B9F5-4515-8680-01C725AF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46A7-CB8E-4E3E-8FBE-FE0BD4F3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50BF-9BB0-40D8-B6BE-4B89EB1E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F11B3-ECD2-4A38-96B7-1B83823F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25BF0-9B77-49C9-AFC2-7A359E84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FF03-EBEF-4188-B5F1-13E8C15C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F135-794E-4295-9842-71DD5775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52869-88A8-41D6-8085-20627EF4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FED6A-C487-4968-B88F-C42496E4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6E04-9E5D-4136-A416-F5934589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ecilia Lanús Oca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D65F-31BA-4900-848F-2BD2AFCD6C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Mercado de Capita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Mercado de Capita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ecilia Lanús Oca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6A10-2C27-47C0-B364-F295C9562C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cado de Capit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ecilia Lanús Ocamp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3° Congreso Nacional e Internacional de Finanzas de la Empresa </a:t>
            </a:r>
            <a:br>
              <a:rPr sz="3600"/>
            </a:br>
            <a:r>
              <a:rPr b="1" lang="es-E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y Mercado de Capitales</a:t>
            </a:r>
            <a:br>
              <a:rPr sz="4100"/>
            </a:br>
            <a:br>
              <a:rPr sz="41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066680" y="4723920"/>
            <a:ext cx="7467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udad Autónoma de Buenos Aires, 5 y 6 de noviembre de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Rectangle 6" descr=""/>
          <p:cNvPicPr/>
          <p:nvPr/>
        </p:nvPicPr>
        <p:blipFill>
          <a:blip r:embed="rId1"/>
          <a:stretch/>
        </p:blipFill>
        <p:spPr>
          <a:xfrm>
            <a:off x="835200" y="3956040"/>
            <a:ext cx="7473600" cy="1384200"/>
          </a:xfrm>
          <a:prstGeom prst="rect">
            <a:avLst/>
          </a:prstGeom>
          <a:ln w="0">
            <a:noFill/>
          </a:ln>
        </p:spPr>
      </p:pic>
      <p:sp>
        <p:nvSpPr>
          <p:cNvPr id="126" name="Marcador de número de diapositiva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C5D5-EDA4-477E-9B10-F2C3ECDD71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 Marcador de fech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CADO DE CAPIT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2 Marcador de pie de págin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ra. Lanus Ocamp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4428-2074-4A5C-9C81-EAC36091A04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Text Box 2" descr=""/>
          <p:cNvPicPr/>
          <p:nvPr/>
        </p:nvPicPr>
        <p:blipFill>
          <a:blip r:embed="rId1"/>
          <a:stretch/>
        </p:blipFill>
        <p:spPr>
          <a:xfrm>
            <a:off x="469800" y="1957320"/>
            <a:ext cx="4168800" cy="4095720"/>
          </a:xfrm>
          <a:prstGeom prst="rect">
            <a:avLst/>
          </a:prstGeom>
          <a:ln w="0">
            <a:noFill/>
          </a:ln>
        </p:spPr>
      </p:pic>
      <p:pic>
        <p:nvPicPr>
          <p:cNvPr id="182" name="Text Box 3" descr=""/>
          <p:cNvPicPr/>
          <p:nvPr/>
        </p:nvPicPr>
        <p:blipFill>
          <a:blip r:embed="rId2"/>
          <a:stretch/>
        </p:blipFill>
        <p:spPr>
          <a:xfrm>
            <a:off x="4718160" y="1957320"/>
            <a:ext cx="4140000" cy="4095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1676520" y="309240"/>
            <a:ext cx="68929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40d26"/>
                </a:solidFill>
                <a:latin typeface="Arial"/>
                <a:ea typeface="Times New Roman"/>
              </a:rPr>
              <a:t>DOS DECISIONES IMPORT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40d26"/>
                </a:solidFill>
                <a:latin typeface="Arial"/>
              </a:rPr>
              <a:t>PARA LA CREACIÓN DE VA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752480" y="822960"/>
            <a:ext cx="73915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0a205e"/>
                </a:solidFill>
                <a:latin typeface="Arial"/>
                <a:ea typeface="Times New Roman"/>
              </a:rPr>
              <a:t>En qué  invierto y cómo financio la inver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Marcador de pie de págin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ecilia Lanús Ocamp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Marcador de fecha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cado de Capit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1444680" y="463680"/>
            <a:ext cx="7016760" cy="1066680"/>
          </a:xfrm>
          <a:prstGeom prst="rect">
            <a:avLst/>
          </a:prstGeom>
          <a:ln w="0">
            <a:noFill/>
          </a:ln>
        </p:spPr>
      </p:pic>
      <p:pic>
        <p:nvPicPr>
          <p:cNvPr id="188" name="Rectangle 3" descr=""/>
          <p:cNvPicPr/>
          <p:nvPr/>
        </p:nvPicPr>
        <p:blipFill>
          <a:blip r:embed="rId2"/>
          <a:stretch/>
        </p:blipFill>
        <p:spPr>
          <a:xfrm>
            <a:off x="298440" y="1365120"/>
            <a:ext cx="8242200" cy="4962600"/>
          </a:xfrm>
          <a:prstGeom prst="rect">
            <a:avLst/>
          </a:prstGeom>
          <a:ln w="0">
            <a:noFill/>
          </a:ln>
        </p:spPr>
      </p:pic>
      <p:sp>
        <p:nvSpPr>
          <p:cNvPr id="189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91FA-EAF6-46E5-B2EE-622429178E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Imagen 6" descr=""/>
          <p:cNvPicPr/>
          <p:nvPr/>
        </p:nvPicPr>
        <p:blipFill>
          <a:blip r:embed="rId3"/>
          <a:stretch/>
        </p:blipFill>
        <p:spPr>
          <a:xfrm>
            <a:off x="7238880" y="1447920"/>
            <a:ext cx="1219320" cy="1511280"/>
          </a:xfrm>
          <a:prstGeom prst="rect">
            <a:avLst/>
          </a:prstGeom>
          <a:ln w="0">
            <a:noFill/>
          </a:ln>
        </p:spPr>
      </p:pic>
      <p:pic>
        <p:nvPicPr>
          <p:cNvPr id="191" name="Imagen 8" descr="0000110774.jpg"/>
          <p:cNvPicPr/>
          <p:nvPr/>
        </p:nvPicPr>
        <p:blipFill>
          <a:blip r:embed="rId4"/>
          <a:stretch/>
        </p:blipFill>
        <p:spPr>
          <a:xfrm>
            <a:off x="762120" y="4267080"/>
            <a:ext cx="2508120" cy="16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Marcador de pie de págin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ecilia Lanús Ocamp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Marcador de fecha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cado de Capit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s-AR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El Inversor Institucional, el Desarrollo del </a:t>
            </a:r>
            <a:br>
              <a:rPr sz="2200"/>
            </a:br>
            <a:r>
              <a:rPr b="0" i="1" lang="es-AR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Mercado de Capitales y la Creación de Valor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s-A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A MODO DE CONCLUSIÓN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3636"/>
                </a:solidFill>
                <a:latin typeface="Arial"/>
              </a:rPr>
              <a:t>Subyace una falta de atención a la contribución de los mercados de capitales modernos al crecimiento de la empresa y en consecuencia de la econom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3636"/>
                </a:solidFill>
                <a:latin typeface="Arial"/>
              </a:rPr>
              <a:t>El efecto singular que evidencia un MC poco desarrollado, es sencillamente, no poder llevar adelante proyectos de inversión que generen valor para la empresa y la sociedad tod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C969-EC87-49AE-B353-659B1B039C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Marcador de pie de págin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ecilia Lanús Ocamp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Marcador de fecha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cado de Capit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s-AR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El Inversor Institucional, el Desarrollo del </a:t>
            </a:r>
            <a:br>
              <a:rPr sz="2000"/>
            </a:br>
            <a:r>
              <a:rPr b="0" i="1" lang="es-AR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Mercado de Capitales y la Creación de Valor.</a:t>
            </a:r>
            <a:br>
              <a:rPr sz="2000"/>
            </a:br>
            <a:br>
              <a:rPr sz="2000"/>
            </a:br>
            <a:r>
              <a:rPr b="1" i="1" lang="es-A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A MODO DE CONCLUSIÓN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3636"/>
                </a:solidFill>
                <a:latin typeface="Arial"/>
              </a:rPr>
              <a:t>Cuando un M</a:t>
            </a:r>
            <a:r>
              <a:rPr b="0" lang="es-ES_tradnl" sz="2800" spc="-1" strike="noStrike">
                <a:solidFill>
                  <a:srgbClr val="363636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363636"/>
                </a:solidFill>
                <a:latin typeface="Arial"/>
              </a:rPr>
              <a:t> no funciona, las empresas reciben incentivos a generar valor por el lado de las decisiones de financiamiento, ej: búsqueda permanente de tasas subvencionadas o ventajas derivadas de las distorsiones del merca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3636"/>
                </a:solidFill>
                <a:latin typeface="Arial"/>
              </a:rPr>
              <a:t>Conducta que evidencia un juego de suma cero, pues lo que gana la empresa alguien en la economía lo está perdie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0142-A990-4104-AF4D-EE58EB0BEC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Marcador de pie de págin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ecilia Lanús Ocamp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Marcador de fecha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cado de Capit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s-AR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El Inversor Institucional, el Desarrollo del </a:t>
            </a:r>
            <a:br>
              <a:rPr sz="2000"/>
            </a:br>
            <a:r>
              <a:rPr b="0" i="1" lang="es-AR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Mercado de Capitales y la Creación de Valor.</a:t>
            </a:r>
            <a:br>
              <a:rPr sz="2000"/>
            </a:br>
            <a:br>
              <a:rPr sz="2000"/>
            </a:br>
            <a:r>
              <a:rPr b="1" i="1" lang="es-A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A MODO DE CONCLUSIÓN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3636"/>
                </a:solidFill>
                <a:latin typeface="Arial"/>
              </a:rPr>
              <a:t>Ahora, si un M</a:t>
            </a:r>
            <a:r>
              <a:rPr b="0" lang="es-ES_tradnl" sz="2800" spc="-1" strike="noStrike">
                <a:solidFill>
                  <a:srgbClr val="363636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363636"/>
                </a:solidFill>
                <a:latin typeface="Arial"/>
              </a:rPr>
              <a:t> funciona razonablemente bien  las empresas reciben incentivos a tomar todos aquellos proyectos de inversión con valor presente neto positiv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3636"/>
                </a:solidFill>
                <a:latin typeface="Arial"/>
              </a:rPr>
              <a:t>Esto, deja de ser un juego de suma cero pues crea valor para toda la economía en su conjun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803F-6F2B-4174-9F39-D65CACE435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cado de Capit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ecilia Lanús Ocamp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584440" y="4035600"/>
            <a:ext cx="6261120" cy="229212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4" descr=""/>
          <p:cNvPicPr/>
          <p:nvPr/>
        </p:nvPicPr>
        <p:blipFill>
          <a:blip r:embed="rId2"/>
          <a:stretch/>
        </p:blipFill>
        <p:spPr>
          <a:xfrm>
            <a:off x="2511360" y="2279520"/>
            <a:ext cx="6407280" cy="1689120"/>
          </a:xfrm>
          <a:prstGeom prst="rect">
            <a:avLst/>
          </a:prstGeom>
          <a:ln w="0">
            <a:noFill/>
          </a:ln>
        </p:spPr>
      </p:pic>
      <p:sp>
        <p:nvSpPr>
          <p:cNvPr id="211" name="Marcador de número de diapositiva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606D-3CC5-4271-920C-BF2A7C4F6E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cado de Capit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ecilia Lanús Ocamp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7400" y="373392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Rectangle 4" descr=""/>
          <p:cNvPicPr/>
          <p:nvPr/>
        </p:nvPicPr>
        <p:blipFill>
          <a:blip r:embed="rId1"/>
          <a:stretch/>
        </p:blipFill>
        <p:spPr>
          <a:xfrm>
            <a:off x="2584440" y="1517760"/>
            <a:ext cx="6566040" cy="3060720"/>
          </a:xfrm>
          <a:prstGeom prst="rect">
            <a:avLst/>
          </a:prstGeom>
          <a:ln w="0">
            <a:noFill/>
          </a:ln>
        </p:spPr>
      </p:pic>
      <p:sp>
        <p:nvSpPr>
          <p:cNvPr id="131" name="Rectángulo 5"/>
          <p:cNvSpPr/>
          <p:nvPr/>
        </p:nvSpPr>
        <p:spPr>
          <a:xfrm>
            <a:off x="380880" y="5105520"/>
            <a:ext cx="830592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La opinión vertida es responsabilidad del autor y  no representa al BCRA ni a la UCE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No part of this presentation may be reproduced, stored in a retrieval system, or transmitted in any form or by any means – electronic, mechanical, photocopying, recording, or otherwise – without the permission of Dra. </a:t>
            </a:r>
            <a:r>
              <a:rPr b="0" i="1" lang="es-ES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Cecilia Lanús Ocampo.</a:t>
            </a:r>
            <a:br>
              <a:rPr sz="1200"/>
            </a:br>
            <a:r>
              <a:rPr b="0" i="1" lang="en-US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This document provides an outline of a presentation and is incomplete without the accompanying oral commentary and discussion.</a:t>
            </a:r>
            <a:br>
              <a:rPr sz="1200"/>
            </a:br>
            <a:br>
              <a:rPr sz="18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Marcador de número de diapositiva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54F5-F302-4B3A-B3B9-4159D0F4E8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Marcador de pie de págin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ecilia Lanús Ocamp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Marcador de fecha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cado de Capit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1670040" y="450720"/>
            <a:ext cx="7023240" cy="1305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66"/>
                </a:solidFill>
                <a:uFillTx/>
                <a:latin typeface="Arial"/>
              </a:rPr>
              <a:t>Inv. </a:t>
            </a:r>
            <a:r>
              <a:rPr b="0" lang="es-ES_tradnl" sz="2400" spc="-1" strike="noStrike" u="sng">
                <a:solidFill>
                  <a:srgbClr val="000066"/>
                </a:solidFill>
                <a:uFillTx/>
                <a:latin typeface="Arial"/>
              </a:rPr>
              <a:t>P</a:t>
            </a:r>
            <a:r>
              <a:rPr b="0" lang="es-AR" sz="2400" spc="-1" strike="noStrike" u="sng">
                <a:solidFill>
                  <a:srgbClr val="000066"/>
                </a:solidFill>
                <a:uFillTx/>
                <a:latin typeface="Arial"/>
              </a:rPr>
              <a:t>ública</a:t>
            </a:r>
            <a:r>
              <a:rPr b="0" lang="es-AR" sz="2400" spc="-1" strike="noStrike">
                <a:solidFill>
                  <a:srgbClr val="000066"/>
                </a:solidFill>
                <a:latin typeface="Arial"/>
              </a:rPr>
              <a:t>:  Estado en su rol procura la busqueda y ejecución de P.I. con objetivo social y de largo plazo. La rentabilidad e mido con otros paráme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66"/>
                </a:solidFill>
                <a:uFillTx/>
                <a:latin typeface="Arial"/>
              </a:rPr>
              <a:t>Inv. Privada</a:t>
            </a:r>
            <a:r>
              <a:rPr b="0" lang="es-AR" sz="2400" spc="-1" strike="noStrike">
                <a:solidFill>
                  <a:srgbClr val="000066"/>
                </a:solidFill>
                <a:latin typeface="Arial"/>
              </a:rPr>
              <a:t>: Políticas más inportantes a promover la inversión privad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s-AR" sz="2400" spc="-1" strike="noStrike">
                <a:solidFill>
                  <a:srgbClr val="000066"/>
                </a:solidFill>
                <a:latin typeface="Arial"/>
              </a:rPr>
              <a:t>ajar el riesgo sistemico, hace una baja de Ti e incentiva la inversión al hacer viables proyectos que no lo er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66"/>
                </a:solidFill>
                <a:latin typeface="Arial"/>
              </a:rPr>
              <a:t>El MC, aspecto conocido: como motor d asignación ahorro/inversión. Aspecto menos difundido: co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66"/>
                </a:solidFill>
                <a:latin typeface="Arial"/>
              </a:rPr>
              <a:t>      “</a:t>
            </a:r>
            <a:r>
              <a:rPr b="0" lang="es-AR" sz="2400" spc="-1" strike="noStrike">
                <a:solidFill>
                  <a:srgbClr val="000066"/>
                </a:solidFill>
                <a:latin typeface="Arial"/>
              </a:rPr>
              <a:t>Incentivo hacia la creación de valor en las empresa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69BA-CBEE-4C4B-8304-A776D9E13B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Marcador de fech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cado de Capit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Marcador de pie de página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ecilia Lanús Ocamp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Marcador de número de diapositiva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7CF7-DF99-4609-AF87-A3AE47FBCBF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76960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66"/>
                </a:solidFill>
                <a:latin typeface="Arial"/>
              </a:rPr>
              <a:t>Inversores Institucionales</a:t>
            </a:r>
            <a:r>
              <a:rPr b="0" lang="es-ES_tradnl" sz="4200" spc="-1" strike="noStrike">
                <a:solidFill>
                  <a:srgbClr val="3399ff"/>
                </a:solidFill>
                <a:latin typeface="Arial"/>
              </a:rPr>
              <a:t>.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Arial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ol estratégico para el desarrollo del mercado de capit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Arial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or el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volumen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  y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plazos mayores de tenencia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de los activos financi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Flujo de fondos 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(recursos)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constantes y crecientes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El ahorro captado y administrado por estos actores profesionales, se ha constituido en un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factor que dinamiza el funcionamiento de los M.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Marcador de fech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cado de Capit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Marcador de pie de página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ecilia Lanús Ocamp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Marcador de número de diapositiva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95CD-363F-4020-99A1-9B3F6489B2E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66"/>
                </a:solidFill>
                <a:latin typeface="Arial"/>
              </a:rPr>
              <a:t>Inversores Institucion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a0aff"/>
                </a:solidFill>
                <a:latin typeface="Garamond"/>
                <a:ea typeface="Times New Roman"/>
              </a:rPr>
              <a:t>Fondos Comunes de Inver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Cronología  na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cen en 1962 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Arial"/>
              </a:rPr>
              <a:t>(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Ley 15.885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Arial"/>
              </a:rPr>
              <a:t>), auge en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1992 Ley 24.083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Arial"/>
              </a:rPr>
              <a:t>, casi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 extinguidos luego de le Ley 25.561(Emergencia Pública) y Decreto 214/02 y concordantes.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Arial"/>
              </a:rPr>
              <a:t>Una alternativa de inversión. El marco legal: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Ley 24.083 y modif. 24.441 (LFCI)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Arial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 normas reglamentarias CNV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Arial"/>
              </a:rPr>
              <a:t> y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Arial"/>
              </a:rPr>
              <a:t>reglamento de gest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SzPct val="8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Los FCI son parte fundamental del mercado de capitales y están sujetos al control de la CNV (art. 32 LFCI).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Marcador de fech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cado de Capit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Marcador de pie de página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ecilia Lanús Ocamp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Marcador de número de diapositiva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6594-8BE2-4C67-90D0-E108F3819CA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5335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66"/>
                </a:solidFill>
                <a:latin typeface="Arial"/>
              </a:rPr>
              <a:t>Inversores Institucion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a0aff"/>
                </a:solidFill>
                <a:latin typeface="Garamond"/>
                <a:ea typeface="Times New Roman"/>
              </a:rPr>
              <a:t>Fondos de Pen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SzPct val="8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ronología: Sistema de las AFJPs creado por ley 24.241, sancionada el 23/9/9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SzPct val="8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aracterísticas del Sistema: Privado-Competitivo -de Capitalización vs. Estatal de Reparto o Distribu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SzPct val="8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¿Qué es una administradora de Fondos de Jubilaciones y Pension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na empresa con objeto únic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Clr>
                <a:srgbClr val="ff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vertir los fondos recaudados (aportados) de sus afiliados y adquirir  activos financieros.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Clr>
                <a:srgbClr val="ff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  <a:ea typeface="Arial"/>
              </a:rPr>
              <a:t>La ley determina los montos máximos a invertir entre los instrumentos elegibles como forma de diversificar el ries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Marcador de fech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cado de Capit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Marcador de pie de página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ecilia Lanús Ocamp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Marcador de número de diapositiva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15CE-536F-43C6-8803-9FE4F8E5BB3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52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66"/>
                </a:solidFill>
                <a:latin typeface="Arial"/>
              </a:rPr>
              <a:t>Inversores Institucion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a0aff"/>
                </a:solidFill>
                <a:latin typeface="Garamond"/>
                <a:ea typeface="Times New Roman"/>
              </a:rPr>
              <a:t>Otros actores importante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a0aff"/>
                </a:solidFill>
                <a:latin typeface="Garamond"/>
                <a:ea typeface="Times New Roman"/>
              </a:rPr>
              <a:t>Compañías de Seg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a0aff"/>
                </a:solidFill>
                <a:latin typeface="Garamond"/>
                <a:ea typeface="Times New Roman"/>
              </a:rPr>
              <a:t>Fondos de Capital a Riesgo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Marcador de fech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cado de Capit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Marcador de pie de página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ecilia Lanús Ocamp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Marcador de número de diapositiva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F07B-AEE6-42CC-88F3-9AA6941DA13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10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lang="es-ES_tradnl" sz="3200" spc="-1" strike="noStrike">
                <a:solidFill>
                  <a:srgbClr val="000066"/>
                </a:solidFill>
                <a:latin typeface="Arial"/>
              </a:rPr>
              <a:t>Rol de los Inversores Institucionale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10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1125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28600" y="1523880"/>
            <a:ext cx="3505320" cy="1219320"/>
          </a:xfrm>
          <a:prstGeom prst="ellipse">
            <a:avLst/>
          </a:prstGeom>
          <a:solidFill>
            <a:srgbClr val="b4fafa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a0aff"/>
                </a:solidFill>
                <a:latin typeface="Book Antiqua"/>
              </a:rPr>
              <a:t>ACUMULACIÓN DE CAPI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Book Antiqua"/>
              </a:rPr>
              <a:t>Aumenta el ahorro intern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3505320" y="4800600"/>
            <a:ext cx="5638680" cy="1371600"/>
          </a:xfrm>
          <a:prstGeom prst="ellipse">
            <a:avLst/>
          </a:prstGeom>
          <a:solidFill>
            <a:srgbClr val="b4fafa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Aumenta la tasa de ahorro en la economí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e induce a la baja de tasa de interés p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mayor oferta de capi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5943600" y="1447920"/>
            <a:ext cx="3200400" cy="1447560"/>
          </a:xfrm>
          <a:prstGeom prst="ellipse">
            <a:avLst/>
          </a:prstGeom>
          <a:solidFill>
            <a:srgbClr val="b4fafa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Planes de invers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de mediano y largo pla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a empres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"/>
          <p:cNvSpPr/>
          <p:nvPr/>
        </p:nvSpPr>
        <p:spPr>
          <a:xfrm>
            <a:off x="838080" y="2590920"/>
            <a:ext cx="7239240" cy="1523880"/>
          </a:xfrm>
          <a:prstGeom prst="ellipse">
            <a:avLst/>
          </a:prstGeom>
          <a:solidFill>
            <a:srgbClr val="b4fafa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Independiza a empresas locales de los mercados foráneos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9"/>
          <p:cNvSpPr/>
          <p:nvPr/>
        </p:nvSpPr>
        <p:spPr>
          <a:xfrm>
            <a:off x="304920" y="4038480"/>
            <a:ext cx="4343400" cy="1295640"/>
          </a:xfrm>
          <a:prstGeom prst="ellipse">
            <a:avLst/>
          </a:prstGeom>
          <a:solidFill>
            <a:srgbClr val="b4fafa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Estímulo a las nuevas emi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y diseño de instru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Marcador de fech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cado de Capit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Marcador de pie de página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ecilia Lanús Ocamp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Marcador de número de diapositiva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04F4-5DC6-484B-8383-5FD82E85C51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10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49"/>
                </a:solidFill>
                <a:latin typeface="Arial"/>
                <a:ea typeface="Times New Roman"/>
              </a:rPr>
              <a:t>           </a:t>
            </a:r>
            <a:r>
              <a:rPr b="0" lang="es-AR" sz="2800" spc="-1" strike="noStrike">
                <a:solidFill>
                  <a:srgbClr val="000049"/>
                </a:solidFill>
                <a:latin typeface="Arial"/>
                <a:ea typeface="Times New Roman"/>
              </a:rPr>
              <a:t>Mercado de Capitales y la Creación de Valor.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10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1125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685800" y="3200400"/>
            <a:ext cx="8001000" cy="1143000"/>
          </a:xfrm>
          <a:prstGeom prst="ellipse">
            <a:avLst/>
          </a:prstGeom>
          <a:solidFill>
            <a:srgbClr val="b4fafa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706d8"/>
                </a:solidFill>
                <a:latin typeface="Arial"/>
              </a:rPr>
              <a:t>¿Cóm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706d8"/>
                </a:solidFill>
                <a:latin typeface="Arial"/>
              </a:rPr>
              <a:t>interactua una empresa en 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706d8"/>
                </a:solidFill>
                <a:latin typeface="Arial"/>
              </a:rPr>
              <a:t>mercado de capita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Imagen 10" descr=""/>
          <p:cNvPicPr/>
          <p:nvPr/>
        </p:nvPicPr>
        <p:blipFill>
          <a:blip r:embed="rId1"/>
          <a:stretch/>
        </p:blipFill>
        <p:spPr>
          <a:xfrm>
            <a:off x="3733920" y="457200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73" name="Imagen 11" descr=""/>
          <p:cNvPicPr/>
          <p:nvPr/>
        </p:nvPicPr>
        <p:blipFill>
          <a:blip r:embed="rId2"/>
          <a:stretch/>
        </p:blipFill>
        <p:spPr>
          <a:xfrm>
            <a:off x="7238880" y="4648320"/>
            <a:ext cx="1636920" cy="1309680"/>
          </a:xfrm>
          <a:prstGeom prst="rect">
            <a:avLst/>
          </a:prstGeom>
          <a:ln w="0">
            <a:noFill/>
          </a:ln>
        </p:spPr>
      </p:pic>
      <p:pic>
        <p:nvPicPr>
          <p:cNvPr id="174" name="Imagen 12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1828800" cy="1295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IMG_0822"/>
          <p:cNvPicPr/>
          <p:nvPr/>
        </p:nvPicPr>
        <p:blipFill>
          <a:blip r:embed="rId4"/>
          <a:stretch/>
        </p:blipFill>
        <p:spPr>
          <a:xfrm>
            <a:off x="5791320" y="1981080"/>
            <a:ext cx="2971800" cy="914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IMG_0818"/>
          <p:cNvPicPr/>
          <p:nvPr/>
        </p:nvPicPr>
        <p:blipFill>
          <a:blip r:embed="rId5"/>
          <a:stretch/>
        </p:blipFill>
        <p:spPr>
          <a:xfrm>
            <a:off x="3124080" y="1981080"/>
            <a:ext cx="2648160" cy="914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IMG_0821"/>
          <p:cNvPicPr/>
          <p:nvPr/>
        </p:nvPicPr>
        <p:blipFill>
          <a:blip r:embed="rId6"/>
          <a:stretch/>
        </p:blipFill>
        <p:spPr>
          <a:xfrm>
            <a:off x="685800" y="1981080"/>
            <a:ext cx="24382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0:11:06Z</dcterms:created>
  <dc:creator>Ariel G. Dasso</dc:creator>
  <dc:description/>
  <dc:language>en-US</dc:language>
  <cp:lastModifiedBy>CPCEACABA</cp:lastModifiedBy>
  <dcterms:modified xsi:type="dcterms:W3CDTF">2008-11-10T18:46:04Z</dcterms:modified>
  <cp:revision>23</cp:revision>
  <dc:subject/>
  <dc:title>Aspectos legales de  las Finanzas Corporativas</dc:title>
</cp:coreProperties>
</file>