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7B2-2D1B-4F66-90D5-1CC1BAC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600-9540-47E5-BE4E-75AC317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421B-2AF6-46DE-AC59-E2D96501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196-5BB6-48A1-AF84-FEEA4768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114-BB73-431B-B75D-79372501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BBF3-A190-48B2-A657-839C057E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BE68-DFEF-4A35-8BC0-59E31C18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08F8-418C-41DC-9E5D-0A7C60BC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8096-90A1-423E-9D1D-68AA5B47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E394-36B4-4163-BF39-41B0B444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0192-300F-4298-8B8A-43064A97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9173-6473-4EDC-AE1A-6944ADD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AD4-2298-4B2D-8057-6F806372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A1FA-168F-4845-9C2F-5C9EB5F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6F52-05CE-49D6-A6D9-12EED77D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D1A-E9CA-4831-B4C7-BD1F8E6A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ADFB-02EC-4EF3-AC98-6AD9F922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5BA-3E6C-460F-BE40-3C6EDB7B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9E3-058F-4D06-98DD-272E0DBE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DE3-E6A2-43DA-807F-D95FA60B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6FA0-3ED3-468F-A68C-7C914C40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CAC-F870-49BD-BEC8-DC2FC312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8A7-318C-4ECE-A4E8-46D44812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F15C-4AF4-4DEB-9675-F0192FE3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54EC-82E2-428F-81EA-52D1A197D89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1B32-C711-44CD-A17F-C8A35913B2EF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El financiamiento de la inversión de las PyMEs argentina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Arial"/>
              </a:rPr>
              <a:t>Matías Kulfa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66"/>
                </a:solidFill>
                <a:latin typeface="Arial"/>
              </a:rPr>
              <a:t>Consejo Profesional de Ciencias Económicas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6666"/>
                </a:solidFill>
                <a:latin typeface="Arial"/>
              </a:rPr>
              <a:t>Buenos Aires, 6 de noviembre de 2008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Política del Banco Nación para el financiamiento de las PyM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incipal objetivo: masificación del crédito para inversión de las PyMEs: $ 5.000 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xtensión de plaz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ertidumbre (tasa fij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stos compet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l contracíclic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ínea 400. Financiamiento de inversiones productiv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lazo: hasta 10 a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imeros 5 años tasa fija al 1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Línea 400: financiamiento para inversión productiva de las PyM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zo-octubre de 2008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.800 créditos monetizad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200 millones de pesos desembols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000 millones de pesos comprometi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bertura regional en todo el paí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70% Inversión / 30% capital de trabaj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pliación del crédito a nuevos clientes (cerca del 20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os problemas de accesibilidad. El caso del sistema de garantías recíprocas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cesibilidad: el caso del sistema de garantías recíproc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ternativa para favorecer el acceso al crédito por parte de las Py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eneficios vinculados al acceso a la información y garant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ncionamiento: socios protectores y partícip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tecedentes: el caso españ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24 SGR con fuerte inserción regional y participación de gobierno locales y asociaciones gremiales PyM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erte cobertura territorial y aceptación por parte del sistema banc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fianzamiento subsidiado a través de CERSA (política pública de estímulo con fuertes controles por parte del Banco de Españ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evado apalancamiento: entre 8 y 12 ve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ementación del sistema de SGR en Argentin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erte incentivo fiscal otorgado como paso previo al otorgamiento de garantí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 SGR con débil inserción regional. Fuerte peso de las SGR cerradas o de cad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ébil aceptación por parte del sistema banc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ducido nivel de apalanc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ulación en torno a los beneficios impositiv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edidas tendientes a profundizar el sistema de SGR, 2006-20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igencias de apalanc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égimen de aprobación previa de nuevas SGR y requisitos para incremento del fondo de ri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l del BC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ción del stock de garantías otorgadas por SGR, 2002-2007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8640" y="2362320"/>
            <a:ext cx="8236080" cy="4411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62920" y="6381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Sepy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ivel de apalancamiento del sistema de SG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5640" y="2362320"/>
          <a:ext cx="8305920" cy="4091040"/>
        </p:xfrm>
        <a:graphic>
          <a:graphicData uri="http://schemas.openxmlformats.org/drawingml/2006/table">
            <a:tbl>
              <a:tblPr/>
              <a:tblGrid>
                <a:gridCol w="1231920"/>
                <a:gridCol w="2643120"/>
                <a:gridCol w="2235240"/>
                <a:gridCol w="219564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tock de garantías vigent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ondo de riesgo disponib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Apalancamient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r-0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50,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31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2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Jun-0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68,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591,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13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ep-0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42,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21,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2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c-06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862,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55,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32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Mar-0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931,4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47,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44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c-07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.096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645,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170%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403280" y="654840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Sepy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ecesidad de profundizar el financiamiento de la inversión produ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ol contracíclico del Banco Nación y dinamizador de la inversión producti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as SGR pueden jugar un papel central en mejorar la accesibilidad, pero es necesario redefinir el marco normativ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. Características del financiamiento de la inversión de las PyMEs argentinas, 2003-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2. Política del Banco Nación para el financiamiento de la inversión de las PyMEs, 2008-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3. Los problemas de accesibilidad. El caso del sistema de garantías recípro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aracterísticas del financiamiento de la inversión de las PyMEs argentinas, 2003-2007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66"/>
                </a:solidFill>
                <a:latin typeface="Arial"/>
              </a:rPr>
              <a:t>Dinámica de la inversión PyME, 2003-2007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si el 50% de las PyMEs realizó inversiones en el período 2003-200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l 44% de las inversiones se destinaron a la incorporación de maquinaria y equip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dominó el autofinanciamient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apareció el crédito bancario pero muy orientado al corto plazo y capital de trabaj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uevas opciones de financiamiento: mercado de capitales (fuerte expansión pero de escaso peso en el agregad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El financiamiento bancari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0000" y="2867040"/>
            <a:ext cx="7632720" cy="351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5120" y="2275560"/>
            <a:ext cx="674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66"/>
                </a:solidFill>
                <a:latin typeface="Times New Roman"/>
              </a:rPr>
              <a:t>Empresas con acceso al financiamiento bancario como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3366"/>
                </a:solidFill>
                <a:latin typeface="Times New Roman"/>
              </a:rPr>
              <a:t>proporción del total de empresas formales de la Argentin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630864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elaborado en base a datos de BCRA y Bleger (2007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66"/>
                </a:solidFill>
                <a:latin typeface="Arial"/>
              </a:rPr>
              <a:t>Cartera PyME del sistema bancario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2318400"/>
            <a:ext cx="761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3366"/>
                </a:solidFill>
                <a:latin typeface="Times New Roman"/>
              </a:rPr>
              <a:t>Evolución de la cartera bancaria de préstamos a micro, pequeñas y medianas empresas</a:t>
            </a:r>
            <a:r>
              <a:rPr b="0" i="1" lang="es-ES" sz="2000" spc="-1" strike="noStrike">
                <a:solidFill>
                  <a:srgbClr val="003366"/>
                </a:solidFill>
                <a:latin typeface="Times New Roman"/>
              </a:rPr>
              <a:t>. Millones de pesos corrien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3019320"/>
            <a:ext cx="7632720" cy="3514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2200" y="6477120"/>
            <a:ext cx="66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elaborado en base a datos de BCRA y Bleger (2007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6666"/>
                </a:solidFill>
                <a:latin typeface="Arial"/>
              </a:rPr>
              <a:t>Fuentes de financiamiento de las PyMEs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2000" y="2492280"/>
            <a:ext cx="8317080" cy="417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403280" y="647712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Mapa PYME / Sepy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Acceso al crédito bancario: un comportamiento dual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272360" cy="44085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186680" y="2421000"/>
            <a:ext cx="985680" cy="601200"/>
            <a:chOff x="7186680" y="2421000"/>
            <a:chExt cx="985680" cy="601200"/>
          </a:xfrm>
        </p:grpSpPr>
        <p:sp>
          <p:nvSpPr>
            <p:cNvPr id="116" name=""/>
            <p:cNvSpPr/>
            <p:nvPr/>
          </p:nvSpPr>
          <p:spPr>
            <a:xfrm>
              <a:off x="7186680" y="2488680"/>
              <a:ext cx="109800" cy="133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99ffcc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86680" y="2822040"/>
              <a:ext cx="109800" cy="133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99ffcc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920" y="2421000"/>
              <a:ext cx="820440" cy="28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olicitó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0480" y="2739600"/>
              <a:ext cx="82044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btuv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403280" y="6477120"/>
            <a:ext cx="66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FUENTE: Mapa PYME / Sepy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45000" y="1384200"/>
            <a:ext cx="77112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Política del Banco Nación para el financiamiento de la inversión de las PyMEs, 2008-2009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5:16:35Z</dcterms:created>
  <dc:creator>matias kulfas</dc:creator>
  <dc:description/>
  <dc:language>en-US</dc:language>
  <cp:lastModifiedBy>CPCEACABA</cp:lastModifiedBy>
  <dcterms:modified xsi:type="dcterms:W3CDTF">2008-11-10T19:00:28Z</dcterms:modified>
  <cp:revision>18</cp:revision>
  <dc:subject/>
  <dc:title>El financiamiento de la inversión de las PyMEs argentinas</dc:title>
</cp:coreProperties>
</file>