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928225" cy="6670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6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2600" y="-1440"/>
            <a:ext cx="4316400" cy="325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6080" y="-1440"/>
            <a:ext cx="4309920" cy="325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i="1" lang="es-ES_tradnl" sz="10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324240" y="507600"/>
            <a:ext cx="3308400" cy="248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Sans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327320" y="3165480"/>
            <a:ext cx="7269120" cy="30052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12600" y="6342120"/>
            <a:ext cx="4316400" cy="326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i="1" lang="es-ES_tradnl" sz="10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6080" y="6342120"/>
            <a:ext cx="4309920" cy="326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i="1" lang="es-ES_tradnl" sz="10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4CBE53A-79FD-428A-A6ED-23B02C724443}" type="slidenum"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5626080" y="6342120"/>
            <a:ext cx="4309920" cy="326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DC57310-BBF7-4959-887F-3326A451B5FD}" type="slidenum"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-12600" y="6342120"/>
            <a:ext cx="4316400" cy="326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-12600" y="-1440"/>
            <a:ext cx="4316400" cy="325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5626080" y="-1440"/>
            <a:ext cx="4309920" cy="325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3303720" y="498600"/>
            <a:ext cx="3335040" cy="25016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1323720" y="3168360"/>
            <a:ext cx="7280280" cy="301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5626080" y="6342120"/>
            <a:ext cx="4309920" cy="326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E579366-CA22-4F0D-9853-290DD693367A}" type="slidenum"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12600" y="6342120"/>
            <a:ext cx="4316400" cy="326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12600" y="-1440"/>
            <a:ext cx="4316400" cy="325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5626080" y="-1440"/>
            <a:ext cx="4309920" cy="325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3303720" y="498600"/>
            <a:ext cx="3335040" cy="25016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1323720" y="3168360"/>
            <a:ext cx="7280280" cy="30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5626080" y="6342120"/>
            <a:ext cx="4309920" cy="326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A3256ED-893D-4991-AB04-617486FDC8EF}" type="slidenum"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12600" y="6342120"/>
            <a:ext cx="4316400" cy="326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12600" y="-1440"/>
            <a:ext cx="4316400" cy="325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626080" y="-1440"/>
            <a:ext cx="4309920" cy="325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3303720" y="498600"/>
            <a:ext cx="3335040" cy="25016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1323720" y="3168360"/>
            <a:ext cx="7280280" cy="301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5626080" y="6342120"/>
            <a:ext cx="4309920" cy="326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B15FF33-EE48-4ED6-8198-CD79FC408A5E}" type="slidenum"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12600" y="6342120"/>
            <a:ext cx="4316400" cy="326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12600" y="-1440"/>
            <a:ext cx="4316400" cy="325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5626080" y="-1440"/>
            <a:ext cx="4309920" cy="325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3303720" y="498600"/>
            <a:ext cx="3335040" cy="25016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323720" y="3168360"/>
            <a:ext cx="7280280" cy="30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5626080" y="6342120"/>
            <a:ext cx="4309920" cy="326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2284224-612E-4A79-9C2B-0B0AA77653F3}" type="slidenum"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-12600" y="6342120"/>
            <a:ext cx="4316400" cy="326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-12600" y="-1440"/>
            <a:ext cx="4316400" cy="325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626080" y="-1440"/>
            <a:ext cx="4309920" cy="325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3303720" y="498600"/>
            <a:ext cx="3335040" cy="25016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323720" y="3168360"/>
            <a:ext cx="7280280" cy="30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5626080" y="6342120"/>
            <a:ext cx="4309920" cy="326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B40CE55-9E6B-4BF8-8634-031C71FCB9C0}" type="slidenum"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-12600" y="6342120"/>
            <a:ext cx="4316400" cy="326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-12600" y="-1440"/>
            <a:ext cx="4316400" cy="325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626080" y="-1440"/>
            <a:ext cx="4309920" cy="325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3303720" y="498600"/>
            <a:ext cx="3335040" cy="25016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1323720" y="3168360"/>
            <a:ext cx="7280280" cy="30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5626080" y="6342120"/>
            <a:ext cx="4309920" cy="326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DA4AA82-F1B9-4B12-8089-2671A98091C0}" type="slidenum"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-12600" y="6342120"/>
            <a:ext cx="4316400" cy="326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-12600" y="-1440"/>
            <a:ext cx="4316400" cy="325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5626080" y="-1440"/>
            <a:ext cx="4309920" cy="325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3303720" y="498600"/>
            <a:ext cx="3335040" cy="25016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1323720" y="3168360"/>
            <a:ext cx="7280280" cy="30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5626080" y="6342120"/>
            <a:ext cx="4309920" cy="326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00972E3-0FF4-4044-A5AC-3DDB8408626F}" type="slidenum"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-12600" y="6342120"/>
            <a:ext cx="4316400" cy="326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-12600" y="-1440"/>
            <a:ext cx="4316400" cy="325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626080" y="-1440"/>
            <a:ext cx="4309920" cy="325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3303720" y="498600"/>
            <a:ext cx="3335040" cy="25016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1323720" y="3168360"/>
            <a:ext cx="7280280" cy="30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626080" y="6342120"/>
            <a:ext cx="4309920" cy="326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F0338FD-774B-419E-B5E2-B31EB97DFA5A}" type="slidenum"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12600" y="6342120"/>
            <a:ext cx="4316400" cy="326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12600" y="-1440"/>
            <a:ext cx="4316400" cy="325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626080" y="-1440"/>
            <a:ext cx="4309920" cy="325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3303720" y="498600"/>
            <a:ext cx="3335040" cy="25016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3720" y="3168360"/>
            <a:ext cx="7280280" cy="301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626080" y="6342120"/>
            <a:ext cx="4309920" cy="326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2BB772D-7060-4FDE-A9FF-01E3F7724D06}" type="slidenum"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12600" y="6342120"/>
            <a:ext cx="4316400" cy="326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12600" y="-1440"/>
            <a:ext cx="4316400" cy="325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5626080" y="-1440"/>
            <a:ext cx="4309920" cy="325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3303720" y="498600"/>
            <a:ext cx="3335040" cy="25016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1323720" y="3168360"/>
            <a:ext cx="7280280" cy="30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5626080" y="6342120"/>
            <a:ext cx="4309920" cy="326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76AB58A-009E-4EEF-9668-509B5485951D}" type="slidenum"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12600" y="6342120"/>
            <a:ext cx="4316400" cy="326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12600" y="-1440"/>
            <a:ext cx="4316400" cy="325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626080" y="-1440"/>
            <a:ext cx="4309920" cy="325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3303720" y="498600"/>
            <a:ext cx="3335040" cy="25016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323720" y="3168360"/>
            <a:ext cx="7280280" cy="30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5626080" y="6342120"/>
            <a:ext cx="4309920" cy="326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7F6B321-892D-4FD7-8A8F-91FCD1CF07B0}" type="slidenum"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12600" y="6342120"/>
            <a:ext cx="4316400" cy="326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12600" y="-1440"/>
            <a:ext cx="4316400" cy="325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626080" y="-1440"/>
            <a:ext cx="4309920" cy="325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3303720" y="498600"/>
            <a:ext cx="3335040" cy="25016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1323720" y="3168360"/>
            <a:ext cx="7280280" cy="30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5626080" y="6342120"/>
            <a:ext cx="4309920" cy="326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A415D70-1806-4124-B357-8A4D6CB7E231}" type="slidenum"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12600" y="6342120"/>
            <a:ext cx="4316400" cy="326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12600" y="-1440"/>
            <a:ext cx="4316400" cy="325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626080" y="-1440"/>
            <a:ext cx="4309920" cy="325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3303720" y="498600"/>
            <a:ext cx="3335040" cy="25016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323720" y="3168360"/>
            <a:ext cx="7280280" cy="301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5626080" y="6342120"/>
            <a:ext cx="4309920" cy="326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6186F99-A218-46A9-812E-218C42F59B67}" type="slidenum"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12600" y="6342120"/>
            <a:ext cx="4316400" cy="326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12600" y="-1440"/>
            <a:ext cx="4316400" cy="325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5626080" y="-1440"/>
            <a:ext cx="4309920" cy="325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3303720" y="498600"/>
            <a:ext cx="3335040" cy="25016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1323720" y="3168360"/>
            <a:ext cx="7280280" cy="301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5626080" y="6342120"/>
            <a:ext cx="4309920" cy="326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E07E423-14A0-425E-8543-FCADCF6B4A58}" type="slidenum"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-12600" y="6342120"/>
            <a:ext cx="4316400" cy="326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12600" y="-1440"/>
            <a:ext cx="4316400" cy="325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626080" y="-1440"/>
            <a:ext cx="4309920" cy="325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3303720" y="498600"/>
            <a:ext cx="3335040" cy="25016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1323720" y="3168360"/>
            <a:ext cx="7280280" cy="301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5626080" y="6342120"/>
            <a:ext cx="4309920" cy="326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B461462-548B-4081-A37E-576578F8D296}" type="slidenum"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-12600" y="6342120"/>
            <a:ext cx="4316400" cy="326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12600" y="-1440"/>
            <a:ext cx="4316400" cy="325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626080" y="-1440"/>
            <a:ext cx="4309920" cy="325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Gill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3303720" y="498600"/>
            <a:ext cx="3335040" cy="25016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1323720" y="3168360"/>
            <a:ext cx="7280280" cy="301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endParaRPr b="0" lang="en-US" sz="1200" spc="-1" strike="noStrike">
              <a:solidFill>
                <a:srgbClr val="000000"/>
              </a:solidFill>
              <a:latin typeface="Gill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AAD0-84B5-4ECF-A396-C49BE771B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D872-892D-451D-AF1C-9377B3D9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ABFB-38C5-4A64-BEA2-EFEE12E20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F5BD-D778-41FB-939B-00C8B2EA5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B761-ED7E-4D5E-AE4F-4D2097C9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BC5B-231D-4BC8-8085-0F5595C7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FAB8-2823-42BB-8C5D-5AE1EDD6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A94B-22D2-4783-A4F1-B898E475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E603-8934-46C6-8078-A1A97AE4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0491-0094-4544-B0D4-D116B743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4CF7-1BDB-427C-82C6-04F7805A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4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endParaRPr b="0" lang="en-US" sz="31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8209-1BA9-4FE7-8694-4FEABA74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Sans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rmAutofit/>
          </a:bodyPr>
          <a:p>
            <a:pPr marL="326880" indent="-326880">
              <a:spcBef>
                <a:spcPts val="774"/>
              </a:spcBef>
              <a:buClr>
                <a:srgbClr val="000000"/>
              </a:buClr>
              <a:buFont typeface="GillSans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illSans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GillSans"/>
            </a:endParaRPr>
          </a:p>
          <a:p>
            <a:pPr lvl="1" marL="709560" indent="-272880">
              <a:spcBef>
                <a:spcPts val="774"/>
              </a:spcBef>
              <a:buClr>
                <a:srgbClr val="000000"/>
              </a:buClr>
              <a:buFont typeface="GillSans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illSans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GillSans"/>
            </a:endParaRPr>
          </a:p>
          <a:p>
            <a:pPr lvl="2" marL="1090440" indent="-217440">
              <a:spcBef>
                <a:spcPts val="774"/>
              </a:spcBef>
              <a:buClr>
                <a:srgbClr val="000000"/>
              </a:buClr>
              <a:buFont typeface="GillSans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illSans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GillSans"/>
            </a:endParaRPr>
          </a:p>
          <a:p>
            <a:pPr lvl="3" marL="1527120" indent="-217440">
              <a:spcBef>
                <a:spcPts val="774"/>
              </a:spcBef>
              <a:buClr>
                <a:srgbClr val="000000"/>
              </a:buClr>
              <a:buFont typeface="GillSans"/>
              <a:buChar char="–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illSans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GillSans"/>
            </a:endParaRPr>
          </a:p>
          <a:p>
            <a:pPr lvl="4" marL="1963800" indent="-217440">
              <a:spcBef>
                <a:spcPts val="774"/>
              </a:spcBef>
              <a:buClr>
                <a:srgbClr val="000000"/>
              </a:buClr>
              <a:buFont typeface="GillSans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illSans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GillSans"/>
            </a:endParaRPr>
          </a:p>
          <a:p>
            <a:pPr lvl="5" marL="1963800" indent="-217440">
              <a:spcBef>
                <a:spcPts val="774"/>
              </a:spcBef>
              <a:buClr>
                <a:srgbClr val="000000"/>
              </a:buClr>
              <a:buFont typeface="GillSans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illSans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GillSans"/>
            </a:endParaRPr>
          </a:p>
          <a:p>
            <a:pPr lvl="6" marL="1963800" indent="-217440">
              <a:spcBef>
                <a:spcPts val="774"/>
              </a:spcBef>
              <a:buClr>
                <a:srgbClr val="000000"/>
              </a:buClr>
              <a:buFont typeface="GillSans"/>
              <a:buChar char="•"/>
              <a:tabLst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GillSans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Gill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3320" cy="4572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s-ES_tradnl" sz="14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ill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s-ES_tradnl" sz="14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ill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520" y="6248520"/>
            <a:ext cx="1903320" cy="4572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s-ES_tradnl" sz="14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B8250DB-BB8E-4099-9D29-F6D8EA45903B}" type="slidenum">
              <a:rPr b="0" lang="es-ES_tradnl" sz="14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124080" y="5562720"/>
            <a:ext cx="5334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14"/>
                </a:solidFill>
                <a:latin typeface="Arial"/>
              </a:rPr>
              <a:t>6 de Noviembre de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1905120"/>
            <a:ext cx="6629400" cy="37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000000"/>
                </a:solidFill>
                <a:latin typeface="Arial"/>
              </a:rPr>
              <a:t>3º Congreso de Finanzas y Mercado de Capitales CP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000000"/>
                </a:solidFill>
                <a:latin typeface="Arial"/>
              </a:rPr>
              <a:t>Allaria Ledesma &amp; Cía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000000"/>
                </a:solidFill>
                <a:latin typeface="Arial"/>
              </a:rPr>
              <a:t>Lic. Liliana Fu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480440" y="324000"/>
            <a:ext cx="13586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305080" y="1889280"/>
            <a:ext cx="1440" cy="3303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03160" y="2989440"/>
            <a:ext cx="25131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03160" y="3440160"/>
            <a:ext cx="25131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32320" y="2540160"/>
            <a:ext cx="47606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32320" y="2989440"/>
            <a:ext cx="47606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266760"/>
            <a:ext cx="8686800" cy="6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GillSans"/>
              </a:rPr>
              <a:t>Telecomunicaciones y Medios: P/V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6172200"/>
            <a:ext cx="861048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7676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8404200" y="324000"/>
            <a:ext cx="434880" cy="4572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04920" y="6338880"/>
            <a:ext cx="2286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14"/>
                </a:solidFill>
                <a:latin typeface="GillSans"/>
              </a:rPr>
              <a:t>Allaria Ledesma &amp; Cí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9560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85800" y="1066680"/>
            <a:ext cx="7705800" cy="5027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E3D1-157D-45EC-B80E-DCF2EC2882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305080" y="1889280"/>
            <a:ext cx="1440" cy="3303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03160" y="2989440"/>
            <a:ext cx="25131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03160" y="3440160"/>
            <a:ext cx="25131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32320" y="2540160"/>
            <a:ext cx="47606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32320" y="2989440"/>
            <a:ext cx="47606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266760"/>
            <a:ext cx="8686800" cy="6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GillSans"/>
              </a:rPr>
              <a:t>Equity Argentina: Banc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6172200"/>
            <a:ext cx="861048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7676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404200" y="324000"/>
            <a:ext cx="434880" cy="4572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04920" y="6338880"/>
            <a:ext cx="2286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14"/>
                </a:solidFill>
                <a:latin typeface="GillSans"/>
              </a:rPr>
              <a:t>Allaria Ledesma &amp; Cí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1219320"/>
            <a:ext cx="8534160" cy="24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Sans"/>
              </a:rPr>
              <a:t>Los Bancos cayeron a valores similares a los de la crisis. Sin embargo, hoy no existe el descalce de monedas entre depósitos y préstamos que había en 2002, y la exposición al riesgo soberano (bonos públicos) es significativamente meno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Sans"/>
              </a:rPr>
              <a:t>Por otro lado, la liquidez de los bancos  (disponibilidades más Letras y Notas del BCRA) alcanza para cubrir los Depósitos a Plazo Fij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Sans"/>
              </a:rPr>
              <a:t>Las ganancias de los bancos han sido crecientes en los últimos trimestres y el margen de intermediación financiera sigue mejorand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4876920"/>
            <a:ext cx="78487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GillSans"/>
              </a:rPr>
              <a:t>En el 2q02 la exposición al sector público era superior al 50% de los Activos y en el 2q03 del 40%. Hoy es entre 7% y 15%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09480" y="3962520"/>
            <a:ext cx="8028000" cy="78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D730-77F2-4E66-AF5B-C9F4E33A94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305080" y="1889280"/>
            <a:ext cx="1440" cy="3303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3160" y="2989440"/>
            <a:ext cx="25131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03160" y="3440160"/>
            <a:ext cx="25131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32320" y="2540160"/>
            <a:ext cx="47606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32320" y="2989440"/>
            <a:ext cx="47606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" y="266760"/>
            <a:ext cx="8686800" cy="6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GillSans"/>
              </a:rPr>
              <a:t>Bancos: P/V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6172200"/>
            <a:ext cx="861048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7676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8404200" y="324000"/>
            <a:ext cx="434880" cy="457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04920" y="6338880"/>
            <a:ext cx="2286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14"/>
                </a:solidFill>
                <a:latin typeface="GillSans"/>
              </a:rPr>
              <a:t>Allaria Ledesma &amp; Cí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9560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8229600" cy="5056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608C-6AB3-413F-BD9C-A89D25807E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305080" y="1889280"/>
            <a:ext cx="1440" cy="3303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03160" y="2989440"/>
            <a:ext cx="25131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03160" y="3440160"/>
            <a:ext cx="25131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32320" y="2540160"/>
            <a:ext cx="47606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32320" y="2989440"/>
            <a:ext cx="47606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" y="266760"/>
            <a:ext cx="8686800" cy="6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GillSans"/>
              </a:rPr>
              <a:t>Bancos Arg vs Brasil: P/V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6172200"/>
            <a:ext cx="861048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7676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8404200" y="324000"/>
            <a:ext cx="434880" cy="4572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04920" y="6338880"/>
            <a:ext cx="2286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14"/>
                </a:solidFill>
                <a:latin typeface="GillSans"/>
              </a:rPr>
              <a:t>Allaria Ledesma &amp; Cí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9560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rcRect l="31172" t="0" r="0" b="0"/>
          <a:stretch/>
        </p:blipFill>
        <p:spPr>
          <a:xfrm>
            <a:off x="565200" y="1066680"/>
            <a:ext cx="8273880" cy="49644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 flipH="1">
            <a:off x="6477120" y="4343400"/>
            <a:ext cx="121896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429000" y="5029200"/>
            <a:ext cx="3581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GillSans"/>
              </a:rPr>
              <a:t>UBB fue adquirido por ITU a 2,0x VL. Hoy, los bancos argentinos cotizan con un 70% de descuento vs los brasiler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15000" y="1905120"/>
            <a:ext cx="762120" cy="1904760"/>
          </a:xfrm>
          <a:prstGeom prst="ellipse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429000" y="220968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8080" y="1905120"/>
            <a:ext cx="2590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GillSans"/>
              </a:rPr>
              <a:t>A inicios de 2007, el descuento de ratios con los brasileros se achicó a 20%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2FB2-933D-4BFE-9B06-8CE6FFB0D5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305080" y="1889280"/>
            <a:ext cx="1440" cy="3303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03160" y="2989440"/>
            <a:ext cx="25131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03160" y="3440160"/>
            <a:ext cx="25131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32320" y="2540160"/>
            <a:ext cx="47606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32320" y="2989440"/>
            <a:ext cx="47606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266760"/>
            <a:ext cx="8686800" cy="6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GillSans"/>
              </a:rPr>
              <a:t>Recomendacion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" y="6172200"/>
            <a:ext cx="861048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7676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8404200" y="324000"/>
            <a:ext cx="434880" cy="4572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304920" y="6338880"/>
            <a:ext cx="2286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14"/>
                </a:solidFill>
                <a:latin typeface="GillSans"/>
              </a:rPr>
              <a:t>Allaria Ledesma &amp; Cí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0920" y="1052640"/>
            <a:ext cx="853416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 u="sng">
                <a:solidFill>
                  <a:srgbClr val="000000"/>
                </a:solidFill>
                <a:uFillTx/>
                <a:latin typeface="GillSans"/>
                <a:ea typeface="Times New Roman"/>
              </a:rPr>
              <a:t>Tesorerí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GillSans"/>
                <a:ea typeface="Times New Roman"/>
              </a:rPr>
              <a:t>Colocaciones a corto plazo, para poder aprovechar la suba de tasas: Caución bursátil, cheques de pago diferido, Nobac ajustadas por Badlar, fondos de ahorro de liquidez inmedia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GillSans"/>
                <a:ea typeface="Times New Roman"/>
              </a:rPr>
              <a:t>En la medida de lo posible, dolarizar parte de la cartera dada la elevada incertidum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 u="sng">
                <a:solidFill>
                  <a:srgbClr val="000000"/>
                </a:solidFill>
                <a:uFillTx/>
                <a:latin typeface="GillSans"/>
                <a:ea typeface="Times New Roman"/>
              </a:rPr>
              <a:t>Invers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GillSans"/>
                <a:ea typeface="Times New Roman"/>
              </a:rPr>
              <a:t>Incrementar gradualmente la exposición al equity, principalmente mercado norteamericano. El sistema financiero global muestra signos de normalización, los Bancos Centrales reducen fuertemente sus tasas de interés, y los gobiernos se preparan para políticas fiscales activ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GillSans"/>
                <a:ea typeface="Times New Roman"/>
              </a:rPr>
              <a:t>Se puede hacer alguna inversión puntual al mercado argentino, basados en las bajas valuacio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GillSans"/>
                <a:ea typeface="Times New Roman"/>
              </a:rPr>
              <a:t>En renta fija, similar recomendación que para Tesorerías. También vemos atractivo las inversiones especulativas en aquellos bonos de baja paridad, que descuentan un inmediato default del país: a la reestructuración de la deuda anunciada a fines de 2004 le asignábamos un valor presente de US$ 31,5 (que incorporaba un valor muy bajo de US$ 2,6 para el cupón de PBI). Actualmente, títulos como el PAR cotizan a menos de 20% de Par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7B55-CF15-404D-A742-B8E375D152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305080" y="1889280"/>
            <a:ext cx="1440" cy="3303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3160" y="2989440"/>
            <a:ext cx="25131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03160" y="3440160"/>
            <a:ext cx="25131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32320" y="2540160"/>
            <a:ext cx="47606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32320" y="2989440"/>
            <a:ext cx="47606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" y="266760"/>
            <a:ext cx="8686800" cy="6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GillSans"/>
              </a:rPr>
              <a:t>Recomendacion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6172200"/>
            <a:ext cx="861048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7676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8404200" y="324000"/>
            <a:ext cx="434880" cy="4572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304920" y="6338880"/>
            <a:ext cx="2286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14"/>
                </a:solidFill>
                <a:latin typeface="GillSans"/>
              </a:rPr>
              <a:t>Allaria Ledesma &amp; Cí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0920" y="1052640"/>
            <a:ext cx="8534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828960" y="2895480"/>
          <a:ext cx="148608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8960" y="2895480"/>
                    <a:ext cx="14860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ABC8-91DE-4E79-85DB-195DD7B83D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305080" y="1889280"/>
            <a:ext cx="1440" cy="3303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03160" y="2989440"/>
            <a:ext cx="25131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03160" y="3440160"/>
            <a:ext cx="25131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32320" y="2540160"/>
            <a:ext cx="47606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532320" y="2989440"/>
            <a:ext cx="47606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" y="266760"/>
            <a:ext cx="8686800" cy="6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GillSans"/>
              </a:rPr>
              <a:t>Recomendacion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920" y="6172200"/>
            <a:ext cx="861048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7676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8404200" y="324000"/>
            <a:ext cx="434880" cy="457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04920" y="6338880"/>
            <a:ext cx="2286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14"/>
                </a:solidFill>
                <a:latin typeface="GillSans"/>
              </a:rPr>
              <a:t>Allaria Ledesma &amp; Cí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0920" y="1052640"/>
            <a:ext cx="8534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1042920" y="1052640"/>
            <a:ext cx="7010640" cy="5019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7199-6180-427E-8894-6BC8C9712B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305080" y="1889280"/>
            <a:ext cx="1440" cy="3303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03160" y="2989440"/>
            <a:ext cx="25131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03160" y="3440160"/>
            <a:ext cx="25131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32320" y="2540160"/>
            <a:ext cx="47606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32320" y="2989440"/>
            <a:ext cx="47606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" y="266760"/>
            <a:ext cx="8686800" cy="6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GillSans"/>
              </a:rPr>
              <a:t>Recomendacion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6172200"/>
            <a:ext cx="861048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7676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8404200" y="324000"/>
            <a:ext cx="434880" cy="4572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04920" y="6338880"/>
            <a:ext cx="2286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14"/>
                </a:solidFill>
                <a:latin typeface="GillSans"/>
              </a:rPr>
              <a:t>Allaria Ledesma &amp; Cí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0920" y="1052640"/>
            <a:ext cx="8534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971640" y="1125360"/>
            <a:ext cx="7010280" cy="501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3DBE-483D-46BF-9D96-44A9192C71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305080" y="1889280"/>
            <a:ext cx="1440" cy="3303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3160" y="2989440"/>
            <a:ext cx="25131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3160" y="3440160"/>
            <a:ext cx="25131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03160" y="3879720"/>
            <a:ext cx="251316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3879720"/>
            <a:ext cx="14292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32320" y="2540160"/>
            <a:ext cx="47606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32320" y="2989440"/>
            <a:ext cx="47606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53000" y="114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81600" y="137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266760"/>
            <a:ext cx="8686800" cy="6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GillSans"/>
              </a:rPr>
              <a:t>Stress financiero glob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6172200"/>
            <a:ext cx="861048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7676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404200" y="324000"/>
            <a:ext cx="434880" cy="457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4920" y="6338880"/>
            <a:ext cx="2286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14"/>
                </a:solidFill>
                <a:latin typeface="GillSans"/>
              </a:rPr>
              <a:t>Allaria Ledesma &amp; Cí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8862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1009800"/>
            <a:ext cx="8534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560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21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4724280"/>
            <a:ext cx="655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Garamond"/>
                <a:ea typeface="Times New Roman"/>
              </a:rPr>
              <a:t>Fuente: Elaboración propia, en base a datos de Reuters.</a:t>
            </a:r>
            <a:r>
              <a:rPr b="0" lang="es-AR" sz="22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6400800" cy="3392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1600" y="1219320"/>
            <a:ext cx="65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 u="sng">
                <a:solidFill>
                  <a:srgbClr val="000000"/>
                </a:solidFill>
                <a:uFillTx/>
                <a:latin typeface="GillSans"/>
                <a:ea typeface="Times New Roman"/>
              </a:rPr>
              <a:t>iTRAXX Crossover (Europa) y Spread Libor (USD) vs. Tasa Fed Fund</a:t>
            </a:r>
            <a:r>
              <a:rPr b="0" lang="es-AR" sz="1400" spc="-1" strike="noStrike" u="sng">
                <a:solidFill>
                  <a:srgbClr val="000000"/>
                </a:solidFill>
                <a:uFillTx/>
                <a:latin typeface="GillSans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5181480"/>
            <a:ext cx="830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GillSans"/>
              </a:rPr>
              <a:t>El stress financiero se normaliza en los préstamos interbancarios. Deuda corporativa continúa con elevados spreads, pero los mismos se están reducien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6E68-B0A2-4DFA-A068-65A21657C1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305080" y="1889280"/>
            <a:ext cx="1440" cy="3303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03160" y="2989440"/>
            <a:ext cx="25131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03160" y="3440160"/>
            <a:ext cx="25131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03160" y="3879720"/>
            <a:ext cx="251316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52680" y="3879720"/>
            <a:ext cx="14292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32320" y="2540160"/>
            <a:ext cx="47606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32320" y="2989440"/>
            <a:ext cx="47606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53000" y="114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81600" y="137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266760"/>
            <a:ext cx="8686800" cy="6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GillSans"/>
              </a:rPr>
              <a:t>Proyecciones Argentin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6172200"/>
            <a:ext cx="861048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7676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404200" y="324000"/>
            <a:ext cx="434880" cy="457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04920" y="6338880"/>
            <a:ext cx="2286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14"/>
                </a:solidFill>
                <a:latin typeface="GillSans"/>
              </a:rPr>
              <a:t>Allaria Ledesma &amp; Cí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38862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88B3-69BF-4590-B28E-C322AFE058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305080" y="1889280"/>
            <a:ext cx="1440" cy="3303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03160" y="2989440"/>
            <a:ext cx="25131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3160" y="3440160"/>
            <a:ext cx="25131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3160" y="3879720"/>
            <a:ext cx="251316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3879720"/>
            <a:ext cx="14292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32320" y="2540160"/>
            <a:ext cx="47606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32320" y="2989440"/>
            <a:ext cx="47606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53000" y="114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81600" y="137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266760"/>
            <a:ext cx="8686800" cy="6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GillSans"/>
              </a:rPr>
              <a:t>Proyecciones Argentin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6172200"/>
            <a:ext cx="861048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7676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404200" y="324000"/>
            <a:ext cx="434880" cy="457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04920" y="6338880"/>
            <a:ext cx="2286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14"/>
                </a:solidFill>
                <a:latin typeface="GillSans"/>
              </a:rPr>
              <a:t>Allaria Ledesma &amp; Cí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38862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952560"/>
            <a:ext cx="8534160" cy="48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GillSans"/>
                <a:ea typeface="Times New Roman"/>
              </a:rPr>
              <a:t>Esperamos una desaceleración en los niveles de actividad del orden del 2% - 3%. El consumo crecería en línea con el PBI, mientras que la inversión se desaceleraría respecto al 2008 (impulsada principalmente por el equipo durable importado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GillSans"/>
                <a:ea typeface="Times New Roman"/>
              </a:rPr>
              <a:t>Respecto a los precios, esperamos una leve desaceleración congruente con un menor nivel de actividad y una contracción de los precios de los Commodities (entre 20% y 30% respecto al promedio del 2008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GillSans"/>
                <a:ea typeface="Times New Roman"/>
              </a:rPr>
              <a:t>A pesar de la elevada presión tributaria y la coyuntura inflacionaria, la desaceleracion en los niveles de actividad, la caída en los precios de las materia primas y un gasto público sostenido, reducirían el resultado primario en torno al 2% del PBI (sin tener en cuenta la reforma previsional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GillSans"/>
                <a:ea typeface="Times New Roman"/>
              </a:rPr>
              <a:t>En este contexto, las necesidades de financiamiento (asumiendo un canje exitoso de los Prestamos Garantizados) se ubicarían en torno al 1,5% del PBI para 200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7B06-866D-48E7-8621-7EB559BBF0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305080" y="1889280"/>
            <a:ext cx="1440" cy="3303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3160" y="2989440"/>
            <a:ext cx="25131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03160" y="3440160"/>
            <a:ext cx="25131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03160" y="3879720"/>
            <a:ext cx="251316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52680" y="3879720"/>
            <a:ext cx="14292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32320" y="2540160"/>
            <a:ext cx="47606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32320" y="2989440"/>
            <a:ext cx="47606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53000" y="114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81600" y="137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152280"/>
            <a:ext cx="8686800" cy="6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GillSans"/>
              </a:rPr>
              <a:t>Fundamentos: Nec. De Financiamient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6172200"/>
            <a:ext cx="861048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7676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404200" y="324000"/>
            <a:ext cx="434880" cy="457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04920" y="6338880"/>
            <a:ext cx="2286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14"/>
                </a:solidFill>
                <a:latin typeface="GillSans"/>
              </a:rPr>
              <a:t>Allaria Ledesma &amp; Cí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1009800"/>
            <a:ext cx="8534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9560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14600" y="21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4941720"/>
            <a:ext cx="853416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Cifras en millones de U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Garamond"/>
                <a:ea typeface="Times New Roman"/>
              </a:rPr>
              <a:t>*Incluye Cupones del PBI. **Incluye Letras del Tesoro y Recompras (U$S 1700 mln en 2009 y U$S 2000 mln en 2010). No incluye emisiones netas de Adelantos Transitorios. *** Se asume que las recompras de deuda  en 2009 (U$S 1700 mln en 2009) se realizan con colocaciones intra sector Público Nacional. Para el 2008 las recompras se cancelan con colocaciones ya realizadas (Emisiones: Letras, Boden 15 y Bonar 13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116000" y="981000"/>
            <a:ext cx="6781680" cy="395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56D9-B39D-4366-A8E0-6142A3328D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305080" y="1889280"/>
            <a:ext cx="1440" cy="3303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03160" y="2989440"/>
            <a:ext cx="25131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3160" y="3440160"/>
            <a:ext cx="25131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03160" y="3879720"/>
            <a:ext cx="251316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3879720"/>
            <a:ext cx="14292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32320" y="2540160"/>
            <a:ext cx="47606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32320" y="2989440"/>
            <a:ext cx="47606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53000" y="114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81600" y="137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266760"/>
            <a:ext cx="8686800" cy="6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GillSans"/>
              </a:rPr>
              <a:t>Argentina: Curvas de Rendimient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6172200"/>
            <a:ext cx="861048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7676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404200" y="324000"/>
            <a:ext cx="434880" cy="457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04920" y="6338880"/>
            <a:ext cx="2286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14"/>
                </a:solidFill>
                <a:latin typeface="GillSans"/>
              </a:rPr>
              <a:t>Allaria Ledesma &amp; Cí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38862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1009800"/>
            <a:ext cx="8534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9560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21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5715000"/>
            <a:ext cx="65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Fuente: Elaboración propia, en base a datos de Reuters.</a:t>
            </a:r>
            <a:r>
              <a:rPr b="0" lang="es-AR" sz="22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71600" y="121932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Curvas en Pesos (Real Rates) y en Dól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14400" y="1600200"/>
          <a:ext cx="7162920" cy="3959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600200"/>
                    <a:ext cx="716292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B4AB-AC8E-4E17-8E5A-5982051073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305080" y="1889280"/>
            <a:ext cx="1440" cy="3303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03160" y="2989440"/>
            <a:ext cx="25131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03160" y="3440160"/>
            <a:ext cx="25131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3160" y="3879720"/>
            <a:ext cx="251316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3879720"/>
            <a:ext cx="14292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32320" y="2540160"/>
            <a:ext cx="47606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32320" y="2989440"/>
            <a:ext cx="47606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53000" y="1143000"/>
            <a:ext cx="121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81600" y="137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266760"/>
            <a:ext cx="8686800" cy="6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GillSans"/>
              </a:rPr>
              <a:t>Argentina: Paridad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6172200"/>
            <a:ext cx="861048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7676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404200" y="324000"/>
            <a:ext cx="434880" cy="4572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04920" y="6338880"/>
            <a:ext cx="2286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14"/>
                </a:solidFill>
                <a:latin typeface="GillSans"/>
              </a:rPr>
              <a:t>Allaria Ledesma &amp; Cí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3886200"/>
            <a:ext cx="106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009800"/>
            <a:ext cx="8534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9560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14600" y="21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5791320"/>
            <a:ext cx="655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Garamond"/>
                <a:ea typeface="Times New Roman"/>
              </a:rPr>
              <a:t>Fuente: Elaboración propia, en base a datos de Reuters.</a:t>
            </a:r>
            <a:r>
              <a:rPr b="0" lang="es-AR" sz="22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1143000"/>
            <a:ext cx="1600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Bonos en 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2971800"/>
            <a:ext cx="1600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aramond"/>
              </a:rPr>
              <a:t>Bonos en US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419720" y="3124080"/>
          <a:ext cx="4410000" cy="2971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9720" y="3124080"/>
                    <a:ext cx="44100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0" y="1295280"/>
          <a:ext cx="4724280" cy="3402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1295280"/>
                    <a:ext cx="4724280" cy="34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B7BE-F184-45F6-A980-A60EAC8924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305080" y="1889280"/>
            <a:ext cx="1440" cy="3303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03160" y="2989440"/>
            <a:ext cx="25131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03160" y="3440160"/>
            <a:ext cx="25131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32320" y="2540160"/>
            <a:ext cx="47606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32320" y="2989440"/>
            <a:ext cx="47606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266760"/>
            <a:ext cx="8686800" cy="6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GillSans"/>
              </a:rPr>
              <a:t>Equity Argentina: Servicios Públic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6172200"/>
            <a:ext cx="861048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7676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8404200" y="324000"/>
            <a:ext cx="434880" cy="4572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04920" y="6338880"/>
            <a:ext cx="2286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14"/>
                </a:solidFill>
                <a:latin typeface="GillSans"/>
              </a:rPr>
              <a:t>Allaria Ledesma &amp; Cí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676520" y="3124080"/>
            <a:ext cx="6019560" cy="26002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04920" y="1219320"/>
            <a:ext cx="853416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Sans"/>
              </a:rPr>
              <a:t>Las utilities cayeron más de 50% en lo que va del año, arrojando precios y ratios similares a los de 2002. En aquel momento los ingresos se pesificaron y congelaron, lo que llevó al default de las deudas privadas. En los años siguientes se reestructuraron las deudas con quitas y cupones acordes a los ingresos, y se otorgaron aumentos tarifario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Sans"/>
              </a:rPr>
              <a:t>En la actualidad las compañías tienen mejores fundamentals que en 2002, pero cotizan a los mismos ratio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47920" y="5791320"/>
            <a:ext cx="655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GillSans"/>
              </a:rPr>
              <a:t>En el caso de Pampa y Edn la comparación es al 4q07 porque no cotizaban en 2002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12E5-7012-4984-BC3E-EEE8820379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305080" y="1889280"/>
            <a:ext cx="1440" cy="3303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03160" y="2989440"/>
            <a:ext cx="25131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03160" y="3440160"/>
            <a:ext cx="251316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32320" y="2540160"/>
            <a:ext cx="47606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32320" y="2989440"/>
            <a:ext cx="47606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" y="266760"/>
            <a:ext cx="8686800" cy="6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lang="en-US" sz="2700" spc="-1" strike="noStrike">
                <a:solidFill>
                  <a:srgbClr val="000099"/>
                </a:solidFill>
                <a:latin typeface="GillSans"/>
              </a:rPr>
              <a:t>Servicios Públicos: P/V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6172200"/>
            <a:ext cx="861048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7676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8404200" y="324000"/>
            <a:ext cx="434880" cy="4572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04920" y="6338880"/>
            <a:ext cx="2286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14"/>
                </a:solidFill>
                <a:latin typeface="GillSans"/>
              </a:rPr>
              <a:t>Allaria Ledesma &amp; Cí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9560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rcRect l="32813" t="0" r="0" b="0"/>
          <a:stretch/>
        </p:blipFill>
        <p:spPr>
          <a:xfrm>
            <a:off x="533520" y="990720"/>
            <a:ext cx="8229600" cy="5029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5C0F-EF76-4612-BBCB-92A87554EA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1T12:13:46Z</dcterms:created>
  <dc:creator>federicop</dc:creator>
  <dc:description/>
  <dc:language>en-US</dc:language>
  <cp:lastModifiedBy>CPCEACABA</cp:lastModifiedBy>
  <cp:lastPrinted>2003-07-03T20:40:18Z</cp:lastPrinted>
  <dcterms:modified xsi:type="dcterms:W3CDTF">2008-11-10T19:02:26Z</dcterms:modified>
  <cp:revision>1353</cp:revision>
  <dc:subject/>
  <dc:title>Sin título de diapositiva</dc:title>
</cp:coreProperties>
</file>