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822E-6269-4431-98E9-0F7E709F0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FE62-C854-4322-BBB1-479D785B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83EC-44A9-4029-9003-BC97E5319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10B5-6DCB-4CB7-A84C-E08A316D4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FF60-A258-4D73-B9F5-0A869047A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8B2D-17E2-43E6-A133-151B212E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1A47-9F8E-4433-A156-30128F53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5CB2-58AD-4E18-A8BC-491D38CB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994E-7FBF-4696-AC69-12D7DA2C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3FFA-169F-4FC4-B3AD-067AA9FB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A858-C4B5-4E67-A6F7-6459B648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BA53-BD8B-4B77-90D1-839F9906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A171-3EF0-40BF-9DD1-36F5798D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0D3D-54EB-4E26-9C1B-C9267D30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637E5-67EC-46CD-A1EC-7F0CB2C1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510C-8650-41A9-886E-8C4B22E65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7DAE-55D1-434B-AFA5-FBAABD15F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ED85-2B6F-4977-A103-E39FA68B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A5E0-1413-4012-9C4C-21A5B825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8CB3-3755-4D38-9CE5-6377F3CF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1E93-321B-4568-9148-A7349106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8620-84BE-4E0D-8CCF-61D2CE15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4853-FDC5-49D0-8222-766B4999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133E-AC27-4783-9713-C4814C61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539640" y="9079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5AC6-99F0-43B2-9FDD-A1D5CDA247C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57DC-6E25-4603-9513-B95D55B390F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ovespasocial.org.br/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8820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Garamond"/>
              </a:rPr>
              <a:t>Responsabilidad Social Empresaria y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Garamond"/>
              </a:rPr>
              <a:t>Mercado de capita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09480" y="3657240"/>
            <a:ext cx="79250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c. Mónica Erp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ora Ejecuti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tituto Argentino de Mercado de Capitales (IAMC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rcado 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ores de Buenos Ai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.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6940-4D1B-48A8-BE95-FFD3261025D5}" type="slidenum">
              <a:t>1</a:t>
            </a:fld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06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Experiencia en Brasil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veles 1 y 2 de Prácticas Diferenciadas de Gobierno Corporativo, y Novo Mercado y (lanzamiento diciembre de 2000; mejoras en la regulación en junio de 2006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e Bursátil ISE: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El Indice de Sostenibilid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s el primero en Latinoamérica.  Se basa en el modelo de las bolsas de Nueva York y de Londres, incorporando criterios de gobierno corporativo y  TBL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 ISE nació en 2005, a partir de reuniones y audiencias públicas coordinadas por el Comité Deliberativo integrado por actores del mercado brasileño y presidido por Bovespa, el Comité de Mercado de Capitales y asociaciones civiles. Apoyaron la iniciativa la CFI y la Fundación Getulio Vargas. Esta participación colectiva le ha otorgado gran legitimidad al proces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539280" y="404280"/>
            <a:ext cx="8001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Vehículo para Diferenciar </a:t>
            </a:r>
            <a:r>
              <a:rPr b="1" lang="es-ES" sz="2800" spc="-1" strike="noStrike">
                <a:solidFill>
                  <a:srgbClr val="000000"/>
                </a:solidFill>
                <a:latin typeface="Garamond"/>
              </a:rPr>
              <a:t>(I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1" lang="es-ES" sz="2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A8B8-ACAC-4395-A5DF-F99B67C49889}" type="slidenum">
              <a:t>10</a:t>
            </a:fld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28036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riencia en mercados desarrollados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0000"/>
                </a:solidFill>
                <a:uFillTx/>
                <a:latin typeface="Times New Roman"/>
              </a:rPr>
              <a:t>Indices Selectiv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 Jones Sustainability World Index. DJSI World (septiembre 1999). Incluye al 10% de las 2500 empresas más importantes del Dow Jones. Bolsa de Nueva York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TSE 4 Good, Bolsa de Londres. Elaborado por Financial Times en 200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hares KLD, Select Social Index Fund. Desarrollodo en 2005 por Barclays. Bolsa de Nueva York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SE SRI Index, Bolsa de Johannesburgo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 Sustainability Index, Suiza. Elaborado por la agencia de ratings Sustainability Asset Manageme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0000"/>
                </a:solidFill>
                <a:uFillTx/>
                <a:latin typeface="Times New Roman"/>
              </a:rPr>
              <a:t>Legislació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n normas que deben cumplir los fondos de pensión y las empresas con cotización pública de accione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n Francia desde 2001 las empresas cotizantes deben presentar sus informes sociales y medioambiental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n Sudáfrica: las empresas deben respetar el Código King (transparencia informativa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ara los fondos de pensiones: en Bélgica, Alemania, Suecia, Reino Unido y Francia deben informar anualmente las consideraciones tenidas en cuenta en sus políticas de inversión y en el ejercicio de los derechos vinculados a dichas inversion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Vehículo para Diferenciar </a:t>
            </a:r>
            <a:r>
              <a:rPr b="1" lang="es-ES" sz="2800" spc="-1" strike="noStrike">
                <a:solidFill>
                  <a:srgbClr val="000000"/>
                </a:solidFill>
                <a:latin typeface="Garamond"/>
              </a:rPr>
              <a:t>(I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I</a:t>
            </a:r>
            <a:r>
              <a:rPr b="1" lang="es-ES" sz="2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51DE-9BF1-4893-865B-7B9D6753476C}" type="slidenum">
              <a:t>11</a:t>
            </a:fld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10920" y="1483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rategias de inversión socialmente responsable (SRI, Socially Responsible Investments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Times New Roman"/>
              </a:rPr>
              <a:t>Screen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incluyen o excluyen de su portafolio a empresas según sean consideradas o no SR (descartando a las consideradas “sin stocks”: tabaco, armas, energía nuclear, alcohol, jueg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Times New Roman"/>
              </a:rPr>
              <a:t>Shareholder Advocac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ccionista responsable): En su carácter de accionista/dueño, intenta introducir criterios de responsabilidad social en las políticas y prácticas de la empres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Times New Roman"/>
              </a:rPr>
              <a:t>Community Invest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Invierten directamente en individuos, grupos y comunidades que normalmente no aplican a los servicios financieros tradiciona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287280" y="333000"/>
            <a:ext cx="885672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Vehículo para canalizar Preferencias de los inversores </a:t>
            </a:r>
            <a:r>
              <a:rPr b="1" lang="es-ES" sz="2800" spc="-1" strike="noStrike">
                <a:solidFill>
                  <a:srgbClr val="000000"/>
                </a:solidFill>
                <a:latin typeface="Garamond"/>
              </a:rPr>
              <a:t>(I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DF6D-15EE-41D1-A9C7-CED59E04DFF5}" type="slidenum">
              <a:t>12</a:t>
            </a:fld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89308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Vehículo para canalizar Preferencias de los inversores </a:t>
            </a:r>
            <a:r>
              <a:rPr b="1" lang="es-ES" sz="2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I</a:t>
            </a:r>
            <a:r>
              <a:rPr b="1" lang="es-ES" sz="2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064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 EEUU la promoción de la RSE responde a iniciativas del sector privado canalizándose especialmente a través de diferentes estrategias de inversió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 de cada 9 dólares bajo administración profesional está relacionado con inversiones socialmente responsable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Screened Mutual Funds: más de 260 fondo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Shareholder Advocacy: 367 resoluciones sociales y ambientales. El total de fondos administrados asciende a U$S 739 billone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ommunity Investing: U$S 26 billone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 Europa más de 250 fondos de inversión incorporan criterios de RSE en sus políticas de decisiones de inversione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 Reino Unido el 5% de los activos invertidos en instituciones de inversión colectiva consideran la RS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B134-F0AA-4244-8B3E-D40C080310FB}" type="slidenum">
              <a:t>13</a:t>
            </a:fld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Algunas reflexio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3534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-432000" algn="just">
              <a:lnSpc>
                <a:spcPct val="100000"/>
              </a:lnSpc>
              <a:spcBef>
                <a:spcPts val="561"/>
              </a:spcBef>
              <a:buClr>
                <a:srgbClr val="cc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Los fondos institucionales administran globalmente cerca de U$S 45 trillones: pero solo U$S 27 billones son destinados a mercados emergentes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100000"/>
              </a:lnSpc>
              <a:spcBef>
                <a:spcPts val="561"/>
              </a:spcBef>
              <a:buClr>
                <a:srgbClr val="cc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Los fondos administrados por “SRI” suman U$S 2,7 trillones: pero solo 0,1% de ese valor se dirige a inversiones en mercados emergentes (U$S 2.29 trillones en 2005)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100000"/>
              </a:lnSpc>
              <a:spcBef>
                <a:spcPts val="561"/>
              </a:spcBef>
              <a:buClr>
                <a:srgbClr val="cc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Existe una gran oportunidad y un desafío para atraer más inversiones a la región. Pero la consigna para lograrlo parace indicar que el camino es: “hacerlo bien”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100000"/>
              </a:lnSpc>
              <a:spcBef>
                <a:spcPts val="561"/>
              </a:spcBef>
              <a:buClr>
                <a:srgbClr val="cc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Los especialistas en valuaciones corporativas estiman que actualmente entre el 40 a 60% del valor de mercado de las empresas en mercados desarrollados corresponden a activos intangibles: el prestigio y la reputación de las firmas llegan a ser el principal elemento de diferenciación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100000"/>
              </a:lnSpc>
              <a:spcBef>
                <a:spcPts val="561"/>
              </a:spcBef>
              <a:buClr>
                <a:srgbClr val="cc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En la región, empiezan a aparecer evidencias de que existe mayor conciencia de las empresas sobre el “valor” de crear valor pero no solo para los accionista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100000"/>
              </a:lnSpc>
              <a:spcBef>
                <a:spcPts val="561"/>
              </a:spcBef>
              <a:buClr>
                <a:srgbClr val="cc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En Argentina convergen varios desafíos: generar estímulos para formalizar la economía y las prácticas corporativas alentando mejores y más transparentes conductas empresariale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100000"/>
              </a:lnSpc>
              <a:spcBef>
                <a:spcPts val="561"/>
              </a:spcBef>
              <a:buClr>
                <a:srgbClr val="cc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El mayor compromiso de las empresas con su entorno requiere de un cambio cultural abarcativo. Hay que difundir y educar confiando en los recambios generacionales. Las conductas socialmente responsables deben adoptarse por consenso y voluntariamente para que sean sostenibles y creen el valor que se espera de ellas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100000"/>
              </a:lnSpc>
              <a:spcBef>
                <a:spcPts val="561"/>
              </a:spcBef>
              <a:buClr>
                <a:srgbClr val="cc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Las bolsas y mercados tienen un rol central en todo este proceso, que puede ser impulsado y acelerado a través de políticas de mediano y largo plazo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100000"/>
              </a:lnSpc>
              <a:spcBef>
                <a:spcPts val="561"/>
              </a:spcBef>
              <a:buClr>
                <a:srgbClr val="cc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Está todo por hacerse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2CDB-0473-4795-AFF7-35F1F448245D}" type="slidenum">
              <a:t>14</a:t>
            </a:fld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195640" y="1773360"/>
            <a:ext cx="489096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“……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a función de los dirigentes empresariales no se agota en “agregar valor al accionista”, sino que se perfecciona en el tenaz esfuerzo de “</a:t>
            </a:r>
            <a:r>
              <a:rPr b="1" i="1" lang="en-US" sz="1800" spc="-1" strike="noStrike">
                <a:solidFill>
                  <a:srgbClr val="cc0000"/>
                </a:solidFill>
                <a:latin typeface="Times New Roman"/>
              </a:rPr>
              <a:t>construir valor social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”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Natalio Botana: Prólogo de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La Comunicación Incomunicada,VV.AA, Buenos Aires,Temas,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8400" y="404640"/>
            <a:ext cx="301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Para finali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0AC2-FC9F-4F75-A2D7-4F9BDCFE44D3}" type="slidenum">
              <a:t>15</a:t>
            </a:fld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Muchas Gracia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68000" y="2666880"/>
            <a:ext cx="8064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Informes y artículos consultado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Hacia una Cultura de la Responsabilidad Social Empresaria en Argentin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Adolfo Sturzenegger; Mariano Flores Vidal, German Sturzenegger, 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UNIDAR.ORG.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Let The Future Happen: Sustainable Investment in Emerging Market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por Rachel Kyte, Londres, diciembre 2005.Mime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2005 Report on Socially Responsible Investing Trends in the United Stat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por Social Investment Forum. Mime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oundtable de América Latina sobre Gobierno Corporativo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AB. Mime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evista Datos y Notas de Bovesp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enero-junio de 2006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La Responsabilidad Social Empresaria y los Mercados de Valor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por Izalco Sardenberg, Bovespa, septiembre 2006. Mime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SE: La cara humana de la empres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en Revista el Inversor Global, Noviembre 200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AR" sz="1400" spc="-1" strike="noStrike">
                <a:solidFill>
                  <a:srgbClr val="000000"/>
                </a:solidFill>
                <a:latin typeface="Times New Roman"/>
              </a:rPr>
              <a:t>Responsabilidad Social Empresaria, una visión financiera”,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 Adrián Zicari Buenos Aires, 2007, Edicon, Consejo de Ciencias Económica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AR" sz="1400" spc="-1" strike="noStrike">
                <a:solidFill>
                  <a:srgbClr val="000000"/>
                </a:solidFill>
                <a:latin typeface="Times New Roman"/>
              </a:rPr>
              <a:t>Fondos Eticos: factores sociales y ambientales en carteras de inversión”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, Adrián Zicari, Buenos Aires, 2008, Edicon, Consejo de Ciencias Económicas.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27B39-BCB7-4890-AA50-9668E6F3F5AF}" type="slidenum">
              <a:t>16</a:t>
            </a:fld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60436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El desafío de un nuevo paradigma de gestión </a:t>
            </a:r>
            <a:r>
              <a:rPr b="1" lang="es-ES" sz="26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mpresari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81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tivo de la empresa socialmente responsable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triple creación de valo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ustentabilidad </a:t>
            </a:r>
            <a:r>
              <a:rPr b="0" lang="es-ES" sz="2800" spc="-1" strike="noStrike">
                <a:solidFill>
                  <a:srgbClr val="cc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conóm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ustentabilidad </a:t>
            </a:r>
            <a:r>
              <a:rPr b="0" lang="es-ES" sz="28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mbienta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cc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ustentabilidad </a:t>
            </a:r>
            <a:r>
              <a:rPr b="0" lang="es-ES" sz="2800" spc="-1" strike="noStrike">
                <a:solidFill>
                  <a:srgbClr val="cc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oci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C6EB-370E-4127-B9B0-1C23717B4C71}" type="slidenum">
              <a:t>2</a:t>
            </a:fld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674712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El mercado de capitales y la R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52240" y="1628640"/>
            <a:ext cx="8591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encias internacionales sobre la relación entre MC y RSE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mercado de capitales como vehículo par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Concientiz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Producir información y compartir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Diferenciar empres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Canalizar preferencias de los inverso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8AF0-BF76-4B50-B286-1DD4D30DE546}" type="slidenum">
              <a:t>3</a:t>
            </a:fld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Vehículo para Concientizar (I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99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1001"/>
              </a:spcBef>
              <a:buClr>
                <a:srgbClr val="cc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dores de opinión: para que se incremente la oferta de RSE debe aumentar la demanda de RSE. Por eso es fundamental la difusión y comunicación dirigida a todo tipo de públic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1001"/>
              </a:spcBef>
              <a:buClr>
                <a:srgbClr val="cc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en instituciones especializadas en el tem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ue dictan principios generales sobre el comportamiento deseable de las empresas en su relación con la sociedad y el entorno ambiental 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lobal Compact; OCDE Guidelin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ue elaboran guías de gestión y de seguimiento de resultados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Global Reporting Initiative-GRI; Accountability 1000-AA1000); Social Accountability 8000-SA8000); Normas ISO 14000 y 14063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1001"/>
              </a:spcBef>
              <a:buClr>
                <a:srgbClr val="cc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 rol que cumplen estas instituciones especializadas comienza a  sumarse el accionar de las bolsas y mercados, tanto de países desarrollados como emergentes: congresos, seminarios, secciones especiales de cotización, Indices Especia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F6A0-118F-48D6-BF36-D11F4DF8C1E8}" type="slidenum">
              <a:t>4</a:t>
            </a:fld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9280" y="14842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jemplo de acciones creativas para incentivar la responsabilidad social en Brasi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ía de la Responsabilidad Social BOVESPA: se celebra los días 12 de junio, desde 200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e a “inversores sociales” con proyectos de ONG listados en la BVS (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Times New Roman"/>
                <a:hlinkClick r:id="rId2"/>
              </a:rPr>
              <a:t>www.bovespasocial.org.b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 fondos recaudados se destinan a proyectos relacionados con medio ambiente, capacitación profesional, ciudadanía, competencia en lectura y escritura, cultura, educación para la salu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gresos y Seminarios: FIAB, Presentación sobre RSE en la Asamblea General, Panamá, septiembre de 2006, ante la presencia de los presidentes de bolsas y mercados iberoamerican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ros ejemplos que siguen a Brasil: Bolsa de Inversiones Sociales, SASIX, creada en Sudáfrica por la ONG Greater Good, con el apoyo de la Bolsa de Johannesburgo. Objeto: captación de recursos para programas del área de educació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Vehículo para Concientizar (</a:t>
            </a:r>
            <a:r>
              <a:rPr b="1" lang="es-ES" sz="32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I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C5EB-920D-4EF4-8E31-A1DE2AF31F50}" type="slidenum">
              <a:t>5</a:t>
            </a:fld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60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Vehículo para Producir y Compartir Información (I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640" y="1523520"/>
            <a:ext cx="7966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mente en lo relacionado con la sustentabilidad económica y las prácticas de buen gobierno corporativo. Tendencia mundial a partir de la Ley Sarbanes-Oxley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ódigos de conducta, de gestión, de contabilidad e información: entendiendo que los datos financieros no son suficientes para satisfacer las necesidades de conocimiento sobre el desempeño global de la empres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gún una reciente encuesta realizada por la FIAB (Federación Iberoamericana de Bolsas), está comenzando a evidenciarse una mayor apreciación del valor de impulsar la aplicación de buenas prácticas de gobierno corporativo entre las bolsas y mercados de la regió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22A3-1B4F-4D67-824B-CD5A73E2D667}" type="slidenum">
              <a:t>6</a:t>
            </a:fld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uesta FIAB: bolsas y mercados de 15 países de la reg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Indice de Adhesión al Gobierno Corporativo: IAC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es estables del IACG: leyes de protección a los intereses de los inversores minoritarios; existencia de legislación o normas del regulador del mercado bursátil sobre gobierno corporativo; existencia de regulación específica sobre OP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es alcistas del IACG: Existencia de Código de buenas prácticas empresariales; habilitación de Cámaras de Arbitraje; exhistencia de ente encargado de recopilar e informar sobre el grado de adhesión a prácticas de gobierno corporativo; existencia en el país o bolsa de otro código de ética o empresa transparen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óxima inclusión en el IACG: evaluación, desde la perspectiva de las bolsas, de los costos y beneficios que se asigna a las prácticas de gobierno corporativo (¿mejora la liquidez, o la atracción de inversores extranjeros?¿ provoca el deslistamiento de empresas?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868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Vehículo para Producir y Compartir Información (I</a:t>
            </a:r>
            <a:r>
              <a:rPr b="1" lang="es-ES" sz="2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EE28-9269-4D3A-8A73-BE66BB6C720A}" type="slidenum">
              <a:t>7</a:t>
            </a:fld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4000" y="1341360"/>
            <a:ext cx="7848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-4320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pos de reportes: incluyen tres aspectos bien diferenciado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riple Botton Line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ortes económic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ortes sociale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ortes de medio ambien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gen en Europa y se adoptan posteriormente en Estados Unidos, mostrando un rápido creci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952880" y="2114640"/>
          <a:ext cx="3086280" cy="2628720"/>
        </p:xfrm>
        <a:graphic>
          <a:graphicData uri="http://schemas.openxmlformats.org/drawingml/2006/table">
            <a:tbl>
              <a:tblPr/>
              <a:tblGrid>
                <a:gridCol w="1246320"/>
                <a:gridCol w="906480"/>
                <a:gridCol w="933480"/>
              </a:tblGrid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Estados Uni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Euro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Reportes económ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Reportes soci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Reportes ambient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555480" y="6172200"/>
            <a:ext cx="8055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te: PriceWaterHouseCoopers, “Management Barometer”, citado en Hacia una Cultura de la Responsabilidad Social Empresa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Argentina, Adolfo Sturzenegger; Mariano Flores Vidal, German Sturzenegger, en Comunidar.org.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539640" y="404280"/>
            <a:ext cx="84312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Vehículo para Producir y Compartir Información (I</a:t>
            </a:r>
            <a:r>
              <a:rPr b="1" lang="es-ES" sz="2800" spc="-1" strike="noStrike">
                <a:solidFill>
                  <a:srgbClr val="000000"/>
                </a:solidFill>
                <a:latin typeface="Garamond"/>
              </a:rPr>
              <a:t>II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C6CD-81F8-4EB3-BB92-E59457519805}" type="slidenum">
              <a:t>8</a:t>
            </a:fld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Vehículo para Diferenciar </a:t>
            </a:r>
            <a:r>
              <a:rPr b="1" lang="es-ES" sz="2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1" lang="es-ES" sz="2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7999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300"/>
              </a:spcBef>
              <a:buClr>
                <a:srgbClr val="cc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ivel mundial existen instituciones especializadas que otorgan premios, certificaciones o etiquet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as acciones de esas instituciones especializadas, empiezan a sumarse  las experiencias de las bolsas que, a través de la elaboración de índices y/o secciones especiales de cotización, diferencian y distinguen a las empresas que incluyen en su gestión prácticas de RS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127080" y="5029200"/>
            <a:ext cx="8076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En Europa: Fair Trade Labels(Francia, Italia, Holanda, Reino Unido, Suiza, entre otros); Social Label (Bèlgica); Det Sociale Indeks (Dinamarca); Excellence through people standard (Irlanda);Certificazione di Responsabilita Sociale (Italia); SME Kitemark (Reino Unido); Premios a la responsabilidad social: Environmental and Social Reports Awards; Preis Freiheit&amp;Verantwortung (Alemania); Premio y ranking Empresa y Sociedad (España), entre ot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Estados Unidos: Transfair USA; SA8000 Corporate Involvement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7B90-D45F-40FB-A61F-AF414568301A}" type="slidenum">
              <a:t>9</a:t>
            </a:fld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1T13:28:57Z</dcterms:created>
  <dc:creator>Teacher</dc:creator>
  <dc:description/>
  <dc:language>en-US</dc:language>
  <cp:lastModifiedBy>CPCEACABA</cp:lastModifiedBy>
  <dcterms:modified xsi:type="dcterms:W3CDTF">2008-11-10T18:54:31Z</dcterms:modified>
  <cp:revision>118</cp:revision>
  <dc:subject/>
  <dc:title>Encuentro en Asunción, 2006</dc:title>
</cp:coreProperties>
</file>