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759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1080" y="3864240"/>
            <a:ext cx="759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26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1080" y="386424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2680" y="386424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960" y="150012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480" y="150012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1080" y="386424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960" y="386424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480" y="3864240"/>
            <a:ext cx="244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1080" y="1500120"/>
            <a:ext cx="7594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759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37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2680" y="1500120"/>
            <a:ext cx="37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5200" y="68040"/>
            <a:ext cx="62928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2680" y="1500120"/>
            <a:ext cx="37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1080" y="386424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37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26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2680" y="386424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10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2680" y="1500120"/>
            <a:ext cx="370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1080" y="3864240"/>
            <a:ext cx="759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5200" y="68040"/>
            <a:ext cx="62928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e"/>
                </a:solidFill>
                <a:latin typeface="Trebuchet MS"/>
              </a:rPr>
              <a:t>Click to edit the title text format</a:t>
            </a:r>
            <a:endParaRPr b="0" lang="en-US" sz="20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1080" y="1500120"/>
            <a:ext cx="759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600" y="6308280"/>
            <a:ext cx="866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0559b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559b3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7632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68360" y="-1108080"/>
            <a:ext cx="82072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e"/>
                </a:solidFill>
                <a:latin typeface="Trebuchet MS"/>
              </a:rPr>
              <a:t>3er Congreso Nacional e Internacional </a:t>
            </a:r>
            <a:br>
              <a:rPr sz="3200"/>
            </a:br>
            <a:r>
              <a:rPr b="1" lang="en-US" sz="3200" spc="-1" strike="noStrike">
                <a:solidFill>
                  <a:srgbClr val="005dae"/>
                </a:solidFill>
                <a:latin typeface="Trebuchet MS"/>
              </a:rPr>
              <a:t>de Finanzas de la Empresa </a:t>
            </a:r>
            <a:br>
              <a:rPr sz="3200"/>
            </a:br>
            <a:r>
              <a:rPr b="1" lang="en-US" sz="3200" spc="-1" strike="noStrike">
                <a:solidFill>
                  <a:srgbClr val="005dae"/>
                </a:solidFill>
                <a:latin typeface="Trebuchet MS"/>
              </a:rPr>
              <a:t>y Mercado de Capitales</a:t>
            </a:r>
            <a:br>
              <a:rPr sz="2000"/>
            </a:br>
            <a:br>
              <a:rPr sz="2000"/>
            </a:br>
            <a:r>
              <a:rPr b="1" lang="en-US" sz="3200" spc="-1" strike="noStrike">
                <a:solidFill>
                  <a:srgbClr val="005dae"/>
                </a:solidFill>
                <a:latin typeface="Trebuchet MS"/>
              </a:rPr>
              <a:t>“La inversión como camino para el crecimiento. Visión desde las Finanzas y el Mercado de Capita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2565360"/>
            <a:ext cx="50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PCEC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5013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ENCIA P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Resultado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39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Mercado con fuertes imperfeccion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lazos cortos (relacionado con los depósitos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Que impacta sobre las tasas de interé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ovocando una selección advers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lta exigencia de contragarantía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Resultado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6360" cy="41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o que deriva en una fuerte discriminación hacia las pymes que terminan teniendo un acceso restringido al crédit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Que hace que se financien con fondos propios, créditos de proveedores, y sobre moras impositivas y previsional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o que significa sacrificar el crecimiento oportuno, seguro, necesari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Algunas alternativa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lexibilización inteligente de las normas por parte del Banco Centr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de los bancos cambio de óptica en el análisis de riesgo. Ver el negocio, la realidad del patrimoni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de la empresa: profesionalizarse, invertir en formación, abrirse a nuevas tecnologías, reorganizarse financieramente, capitalizars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Algunas alternativa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41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de la empresa, competir individualmente con estrategias de focalización y especialización; o integrarse como proveedores en cadenas productivas con estrategia que aseguren continuidad de entrega, calidad y retribución justa; o colaborar con otras pequeñas empresas para resolver los inconvenientes de ser pequeño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Algunas alternativa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642160" cy="41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de muchos profesionales de Ciencias Económicas, dejar de pensar que su tarea es evitar pago de impuestos, lo que deriva en un fuerte daño a la empresa (relación costo-beneficio desfavorable para la empresa en el largo plazo), al frenar el crecimiento y el apalancamiento de ganancia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currir al apoyo de Sociedades de Garantía Recíproc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La oferta crediticia del Banco Ciudad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713800" cy="38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lianzas con la SS de Desarrollo Económico del Gobierno de la Ciudad para ecualizar tasas para compras de equipamient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Similar historia con la Subsecretaría PyME y DR del Ministerio de Economía y Producción de la Nació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lianzas con el sistema de Garantía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569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dae"/>
                </a:solidFill>
                <a:latin typeface="Trebuchet MS"/>
              </a:rPr>
              <a:t>Oferta crediticia PyME Banco Ciudad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delantos en cta./cte. especial con cesión de facturas y/o certificados del GCBA, Gobierno Nacional y Organismos descentralizados, Y DEL RESTO DEL Sector Público o de empresas privadas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delantos en cta./cte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para financiación de exportacion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Crédito documentario de importación y/o financiación de importaciones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Descuento de cheques de pago diferid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569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dae"/>
                </a:solidFill>
                <a:latin typeface="Trebuchet MS"/>
              </a:rPr>
              <a:t>Oferta crediticia PyME Banco Ciudad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amortizables para Capital de Trabajo, régimen general y para micro, pequeñas y medianas empresas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amortizables para proyectos de inversión en infraestructura o maquinaria destinada a reducir la contaminación ambiental con subsidio de tasa de SEPYMEYDR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amortizables para capital de trabajo con aval de Garantizar SGR /Garantías de Valores SGR y FOGABA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569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dae"/>
                </a:solidFill>
                <a:latin typeface="Trebuchet MS"/>
              </a:rPr>
              <a:t>Oferta crediticia PyME Banco Ciudad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amortizables para Agencias de Viaje a Tasa Fija y a Tasa Variable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peraciones Garantizadas con cobranza de tarjetas de crédito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Hipotecario PYME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para adquisición de Bienes de Capital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éstamos para adquisición de vehículos nuevos de transporte público de pasajeros de corta distancia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569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dae"/>
                </a:solidFill>
                <a:latin typeface="Trebuchet MS"/>
              </a:rPr>
              <a:t>Oferta crediticia PyME Banco Ciudad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con tasa subsidiada por GCBA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para reconversión tecno-industrial de procedimientos y adecuación e implementación Normas ISO/certificación Kosher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para adquisición de máquinas seguras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intermedios a empresas constructoras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para Hoteles y Hospedajes en la Ciudad de Buenos Ai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réstamos para Escuelas Privadas Subsidiadas por el GCBA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sistema bancario es uno de los más regulados y normado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sistema se sostiene en la ponderación de la calificación del tomador y de las contra-garantías que ofrec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a obsesiva visión microprudencial imperante provoca un sesgo antipyme y procíclico cuyas consecuencias dramáticas estamos viviend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94920" y="764640"/>
            <a:ext cx="7993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5dae"/>
                </a:solidFill>
                <a:uFillTx/>
                <a:latin typeface="Trebuchet MS"/>
              </a:rPr>
              <a:t>El marco microprudencial de Basilea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1114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5dae"/>
                </a:solidFill>
                <a:latin typeface="Trebuchet MS"/>
              </a:rPr>
              <a:t>Muchas Gracias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5dae"/>
                </a:solidFill>
                <a:latin typeface="Trebuchet MS"/>
              </a:rPr>
              <a:t>Gerencia PyME</a:t>
            </a:r>
            <a:r>
              <a:rPr b="1" lang="es-ES" sz="2000" spc="-1" strike="noStrike">
                <a:solidFill>
                  <a:srgbClr val="005dae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2514600" y="2514600"/>
            <a:ext cx="2514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 DE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5dae"/>
                </a:solidFill>
                <a:uFillTx/>
                <a:latin typeface="Trebuchet MS"/>
              </a:rPr>
              <a:t>Limitaciones para atender a las PyME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nsación de Riesg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lta sensibilidad a los entornos negativo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olátil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chas desaparecen jóvenes (momento de la verda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 problemas de volume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ja productivida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rasadas tecnológicament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5dae"/>
                </a:solidFill>
                <a:uFillTx/>
                <a:latin typeface="Trebuchet MS"/>
              </a:rPr>
              <a:t>Limitaciones para atender a las PyME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71380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ébiles financierament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estión poco profesion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esivamente jerárquicas. Autoritaria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arentes de estrategias y de Plan de Negocio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fectadas por crecimiento desmedid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veces, poco focalizada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 inversiones no orientadas estratégicament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5dae"/>
                </a:solidFill>
                <a:uFillTx/>
                <a:latin typeface="Trebuchet MS"/>
              </a:rPr>
              <a:t>Limitaciones para atender a las PyME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13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mitado manejo de informació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capaces de transformar la información en conocimiento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oca comunicación intern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endencia al aislamient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ja demanda de servicios de apoy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mitaciones de localizació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arentes de mentalidad competitiva de orden internacion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El financiamiento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débil acceso a financiamiento surge como el principal problema de las PyM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cepto su importancia aunque algunos de los aspectos anteriores tienen tanta o mayor importanci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o cierto es que el financiamiento oportuno y razonable es un aspecto vital para el crecimiento sostenido del segment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Algunas premisa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642160" cy="41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débil acceso a financiamiento surge como el principal problema de las PyM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cepto su importancia aunque algunos de los aspectos anteriores tienen tanta o mayor importanci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o cierto es que el financiamiento oportuno y razonable es un aspecto vital para el crecimiento sostenido del segment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Algunas premisas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41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ero muchas veces las PyMEs no necesitan créditos sino capit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crédito sólo sirve cuando la tasa de interés es notoriamente inferior a la de ganancia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 capital de terceros debe ser usado como palanca del desempeño y siempre tomado sobre una sólida prospectiva económico-comerci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dae"/>
                </a:solidFill>
                <a:uFillTx/>
                <a:latin typeface="Trebuchet MS"/>
              </a:rPr>
              <a:t>Las limitaciones desde el prestamista</a:t>
            </a:r>
            <a:endParaRPr b="0" lang="en-US" sz="3200" spc="-1" strike="noStrike">
              <a:solidFill>
                <a:srgbClr val="005da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713800" cy="41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Las PyMEs tienen limitada historia crediticia, información poco veraz (patrimonio, ventas y ganancias) y pocas garantías reales que ofrecer (y además están absorbidas por los créditos de corto plazo)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Alto riesgo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Percepción de riesgo mora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MBRE GERENCIA / ÁREA (Tipografìa predeterminada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20:44:06Z</dcterms:created>
  <dc:creator>Gerencia de Promoción y Publicidad</dc:creator>
  <dc:description/>
  <dc:language>en-US</dc:language>
  <cp:lastModifiedBy>CPCEACABA</cp:lastModifiedBy>
  <dcterms:modified xsi:type="dcterms:W3CDTF">2008-11-10T18:58:25Z</dcterms:modified>
  <cp:revision>30</cp:revision>
  <dc:subject/>
  <dc:title>Diapositiva 1</dc:title>
</cp:coreProperties>
</file>