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B6A-38E8-4BD9-A218-16A65F49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5D2-D889-49D1-9DF5-537E9014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4042-9656-47F6-88EC-81F3CD0F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7C2-734E-4F3B-88B6-96C4A5C9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48C-77B2-4F7F-AF98-5BB26FA0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8E53-9F30-4AC9-AB3A-EC0200B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CB7-FF7E-4745-ACAF-F83E5C09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5F7-12AA-4DE3-B5D0-56EB9714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F98-4173-4141-8FD8-54425054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966-C987-4F16-93AB-5006F18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E2C-DB03-49F3-891B-8DFEA46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5BB-9452-4AB8-8CC6-E3BE927E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EF39-7B26-4A11-BF60-B60190F9AE2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5589720"/>
            <a:ext cx="55450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Verdana"/>
              </a:rPr>
              <a:t>Los activos que acturaron como el principal refugio de valor en el pico de la crisis fueron los Treasury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87480" y="2395440"/>
            <a:ext cx="5205600" cy="31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56040" y="2863800"/>
            <a:ext cx="47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Georgia"/>
              </a:rPr>
              <a:t>Opciones d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Georgia"/>
              </a:rPr>
              <a:t>Invers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831680" y="2678040"/>
            <a:ext cx="559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Verdana"/>
              </a:rPr>
              <a:t>Signos de distensión del “Stress Financier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Verdana"/>
              </a:rPr>
              <a:t>Signos de profundización del “Stress Económic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Verdana"/>
              </a:rPr>
              <a:t>Pronóstico de fuerte recesión mund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184464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Opciones de inversión en el mercad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908000" y="2392200"/>
            <a:ext cx="5256360" cy="3197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Verdana"/>
              </a:rPr>
              <a:t>La historia del S&amp;P 5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58920" y="184464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Opciones de inversión en el mercad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La historia de la crisis de 192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97200" y="2378160"/>
            <a:ext cx="5267160" cy="31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58920" y="184464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Opciones de inversión en el mercad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860480" y="2031480"/>
            <a:ext cx="56642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46440" y="2678040"/>
            <a:ext cx="51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La clave es el </a:t>
            </a:r>
            <a:r>
              <a:rPr b="1" i="1" lang="es-ES" sz="1600" spc="-1" strike="noStrike">
                <a:solidFill>
                  <a:srgbClr val="000066"/>
                </a:solidFill>
                <a:latin typeface="Verdana"/>
              </a:rPr>
              <a:t>Asset 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1844640"/>
            <a:ext cx="57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Opciones de inversión en el mercado inter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4727520" y="3286080"/>
            <a:ext cx="1800360" cy="223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2670120" y="3284640"/>
            <a:ext cx="1800360" cy="2232000"/>
          </a:xfrm>
          <a:prstGeom prst="rect">
            <a:avLst/>
          </a:prstGeom>
          <a:gradFill rotWithShape="0">
            <a:gsLst>
              <a:gs pos="0">
                <a:srgbClr val="f6fafa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2"/>
          <p:cNvSpPr/>
          <p:nvPr/>
        </p:nvSpPr>
        <p:spPr>
          <a:xfrm>
            <a:off x="604800" y="3284640"/>
            <a:ext cx="1800360" cy="223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7"/>
          <p:cNvSpPr/>
          <p:nvPr/>
        </p:nvSpPr>
        <p:spPr>
          <a:xfrm>
            <a:off x="6784920" y="3279600"/>
            <a:ext cx="1800360" cy="2232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808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7920" y="335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4200" y="40291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100% Treasuries</a:t>
            </a:r>
            <a:r>
              <a:rPr b="1" i="1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90640" y="33051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66"/>
                </a:solidFill>
                <a:latin typeface="Arial"/>
              </a:rPr>
              <a:t>Default Contro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92520" y="4091040"/>
            <a:ext cx="192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50% Treasu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50% Corp. B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5776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urante Rec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5400" y="328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Mercado E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9800" y="4097160"/>
            <a:ext cx="192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30% Treasu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50% Corp. B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20% Pfd. St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96160" y="4076640"/>
            <a:ext cx="192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20% Treasu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30% Corp. B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30% Pfd. St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20% St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91040" y="3133800"/>
            <a:ext cx="632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Georgia"/>
              </a:rPr>
              <a:t>Cohen Renta Fij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860480" y="2651040"/>
            <a:ext cx="566424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66"/>
                </a:solidFill>
                <a:latin typeface="Verdana"/>
              </a:rPr>
              <a:t>Sociedad Gerente:</a:t>
            </a:r>
            <a:r>
              <a:rPr b="0" lang="es-AR" sz="1600" spc="-1" strike="noStrike">
                <a:solidFill>
                  <a:srgbClr val="000066"/>
                </a:solidFill>
                <a:latin typeface="Verdana"/>
              </a:rPr>
              <a:t> Cohen SGFCI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Sociedad Depositaria:</a:t>
            </a: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 Deutsche Bank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Calificadora:</a:t>
            </a: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 Fitch Ratings Argentina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Agente Colocador:</a:t>
            </a: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 Cohen S.A. Sociedad de Bol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59640" y="184464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Estructura 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73080" y="2657520"/>
            <a:ext cx="5599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66"/>
                </a:solidFill>
                <a:uFillTx/>
                <a:latin typeface="Verdana"/>
              </a:rPr>
              <a:t>Inversión apropiada para esta coyun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Verdana"/>
              </a:rPr>
              <a:t>Horizonte de Inversión de Corto Plaz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2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Verdana"/>
              </a:rPr>
              <a:t>Liquidez en 72 h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2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Verdana"/>
              </a:rPr>
              <a:t>Bajo riesgo crediti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000" y="184464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Ventajas de l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66960" y="2520000"/>
            <a:ext cx="54007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Gestión de Activos Financieros en el actual ento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Opciones de Inversión en el Mercado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Opciones de Inversión en el Mercado Local: FCI Cohen Renta Fi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440" y="18302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66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865160" y="2695680"/>
            <a:ext cx="670752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Verdana"/>
              </a:rPr>
              <a:t>Aplicación de principios relev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¿Qué pasó en la cris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Asset 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Verdana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4572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Verdana"/>
              </a:rPr>
              <a:t>El rol de las correlaciones entre ac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Los principales índices bursátiles del mundo, emergentes y desarrollados cayeron al unís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8000" y="2386080"/>
            <a:ext cx="5545440" cy="321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La volatilidad del mercado trepo a valores rec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2390760"/>
            <a:ext cx="5328000" cy="324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La tasa interbancaria de corto plazo se disparó reflejando la profundidad de la desconfianza rein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6560" y="2405160"/>
            <a:ext cx="5329440" cy="326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El diferencial entre la tasa de los Bonos del Tesoro y la LIBOR, se disparó a valores rec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08000" y="2409840"/>
            <a:ext cx="5256360" cy="319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66"/>
                </a:solidFill>
                <a:latin typeface="Verdana"/>
              </a:rPr>
              <a:t>Los commodities también caye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887480" y="2397240"/>
            <a:ext cx="5256360" cy="31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63640" y="566100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Verdana"/>
              </a:rPr>
              <a:t>Las monedas tambié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560" y="1844640"/>
            <a:ext cx="58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Gestión de Activos Financieros en el actual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87480" y="2400480"/>
            <a:ext cx="5421240" cy="313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2:03:38Z</dcterms:created>
  <dc:creator>CGM</dc:creator>
  <dc:description/>
  <dc:language>en-US</dc:language>
  <cp:lastModifiedBy>CPCEACABA</cp:lastModifiedBy>
  <dcterms:modified xsi:type="dcterms:W3CDTF">2008-11-10T19:01:59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jmaubre@fondoscohen.com.ar</vt:lpwstr>
  </property>
  <property fmtid="{D5CDD505-2E9C-101B-9397-08002B2CF9AE}" pid="3" name="_AuthorEmailDisplayName">
    <vt:lpwstr>Jaqueline Maubre</vt:lpwstr>
  </property>
  <property fmtid="{D5CDD505-2E9C-101B-9397-08002B2CF9AE}" pid="4" name="_EmailEntryID">
    <vt:lpwstr>000000001A58CC50D3683D499F4F777AC56CCAF90700171CEA136D9CE44D8FC8E8053F5EA2960000030736460000171CEA136D9CE44D8FC8E8053F5EA296000012FC6D6A0000</vt:lpwstr>
  </property>
  <property fmtid="{D5CDD505-2E9C-101B-9397-08002B2CF9AE}" pid="5" name="_EmailSubject">
    <vt:lpwstr>Revise "Presentación Camara Española"</vt:lpwstr>
  </property>
  <property fmtid="{D5CDD505-2E9C-101B-9397-08002B2CF9AE}" pid="6" name="_NewReviewCycle">
    <vt:lpwstr/>
  </property>
  <property fmtid="{D5CDD505-2E9C-101B-9397-08002B2CF9AE}" pid="7" name="_ReviewCycleID">
    <vt:r8>166567600</vt:r8>
  </property>
  <property fmtid="{D5CDD505-2E9C-101B-9397-08002B2CF9AE}" pid="8" name="_ReviewingToolsShownOnce">
    <vt:lpwstr/>
  </property>
  <property fmtid="{D5CDD505-2E9C-101B-9397-08002B2CF9AE}" pid="9" name="_TentativeReviewCycleID">
    <vt:r8>166567600</vt:r8>
  </property>
</Properties>
</file>