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2825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661680" y="204840"/>
            <a:ext cx="5484600" cy="379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1"/>
          </p:nvPr>
        </p:nvSpPr>
        <p:spPr>
          <a:xfrm>
            <a:off x="6586200" y="8740440"/>
            <a:ext cx="228600" cy="1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CFF4DB1B-2339-4057-B14F-B185A29010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C14B3BB-71D4-4FFA-AA9E-9C8EBE147D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671400" y="204840"/>
            <a:ext cx="5473800" cy="37926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98320" y="4230360"/>
            <a:ext cx="5610240" cy="4408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EF40DB37-3780-4741-A2A9-5545859C7C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D727F1B8-D73B-4BE4-9624-B4A61FA9F5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0C7F8B1E-5781-4565-8A73-16B9EECCED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63480" y="206280"/>
            <a:ext cx="5484960" cy="37990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97960" y="4235040"/>
            <a:ext cx="561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3FB6C210-E49B-4C02-B496-DBC5424726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4760" y="84646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09209FB-CCDB-4708-B48C-34524F4ABF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17720" y="669960"/>
            <a:ext cx="4821120" cy="33400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2960" y="4231800"/>
            <a:ext cx="50320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iana: 1- Se puede agrandar el Gràfico para que se lea un poco mejor… 2- Pls Agregar abajo…Fuente: GEM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97CC89C-7663-4BFC-9E84-E88CFF94E6E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63480" y="204840"/>
            <a:ext cx="5483160" cy="37987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4EDE5AB2-30FC-45FB-86E5-491CBBEFA29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663480" y="206280"/>
            <a:ext cx="5484960" cy="37990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97960" y="4235040"/>
            <a:ext cx="561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5DFB32D-6808-44DF-9076-64B2358C42F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8251E868-4FBB-4EED-BF1C-3E7244FD434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017720" y="669960"/>
            <a:ext cx="4821120" cy="33400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2960" y="4231800"/>
            <a:ext cx="503208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1A90B35-14E3-4899-BB3A-6424A80FD87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017720" y="668160"/>
            <a:ext cx="4824360" cy="3341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ACDB4288-218B-488C-A1FD-F595FA26B8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663480" y="206280"/>
            <a:ext cx="5484960" cy="37990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97960" y="4235040"/>
            <a:ext cx="561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A773F2AE-C16B-4CAB-8283-E03CE324BC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F87D4492-CACC-419C-8B68-D5A4088D17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663480" y="206280"/>
            <a:ext cx="5484960" cy="37990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97960" y="4235040"/>
            <a:ext cx="561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E81E49EC-96A5-45AE-870F-7D66A64A08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5B1833A6-927D-4B6C-B15B-4E1522C81F5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1006621-F257-42E1-8F61-B2D1F4F8304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B8F466D-8DC7-4000-B778-8CF9534A0C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8005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97960" y="4237200"/>
            <a:ext cx="561348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1927C4AE-2622-4641-820E-1C60A897D1A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63480" y="204840"/>
            <a:ext cx="5483160" cy="37987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79D54992-EF35-4302-B35A-FD027F4D79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C33F17A6-1EAB-4C69-927E-113901D7A0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-2863800" y="149400"/>
            <a:ext cx="12652200" cy="876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6089CC4-62A6-46C0-8384-D4EC234BC4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663480" y="204840"/>
            <a:ext cx="5483160" cy="37987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47DE6302-485C-400A-90AF-9AEE9C54E4F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B3B4C4B-5248-467C-AF94-19392277C1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B23721B5-C0F2-4B81-978E-83BB728FB70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58B8095D-0807-4CE4-89EA-F2B1BA3E15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036D241F-F353-4BA4-A28F-977C4DD4F9F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63480" y="204840"/>
            <a:ext cx="5483160" cy="37987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6727BB6-BA62-4D30-BF44-81247F2A20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663480" y="204840"/>
            <a:ext cx="5483160" cy="37987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6586560" y="8740800"/>
            <a:ext cx="2286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F8FB86D8-1440-41C2-8D31-18B78CCC18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662040" y="204840"/>
            <a:ext cx="5484600" cy="37987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8320" y="4237200"/>
            <a:ext cx="56102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28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28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 indent="-1031760">
              <a:spcBef>
                <a:spcPts val="200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4"/>
          <p:cNvSpPr/>
          <p:nvPr/>
        </p:nvSpPr>
        <p:spPr>
          <a:xfrm>
            <a:off x="91634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996A-7AFD-49C5-8C93-4ABEF1874E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69"/>
          <p:cNvSpPr/>
          <p:nvPr/>
        </p:nvSpPr>
        <p:spPr>
          <a:xfrm>
            <a:off x="91634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60E2-861D-4430-B947-F3994494B8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Line 1037"/>
          <p:cNvSpPr/>
          <p:nvPr/>
        </p:nvSpPr>
        <p:spPr>
          <a:xfrm>
            <a:off x="1587600" y="2527200"/>
            <a:ext cx="6718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 indent="-1031760">
              <a:spcBef>
                <a:spcPts val="200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 indent="-6890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holdinves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4041720"/>
            <a:ext cx="99028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isandro Bri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lbril@holdinves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76240" y="756720"/>
            <a:ext cx="8425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Buenos Aires, 6 de Noviembre de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1492200" y="313920"/>
            <a:ext cx="7183440" cy="775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Consejo Profesional de Ciencias Econ</a:t>
            </a:r>
            <a:r>
              <a:rPr b="1" lang="es-ES" sz="2400" spc="-1" strike="noStrike">
                <a:solidFill>
                  <a:srgbClr val="99ccff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m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3295800" y="2565360"/>
            <a:ext cx="3352320" cy="1512720"/>
            <a:chOff x="3295800" y="2565360"/>
            <a:chExt cx="3352320" cy="1512720"/>
          </a:xfrm>
        </p:grpSpPr>
        <p:sp>
          <p:nvSpPr>
            <p:cNvPr id="87" name="Rectangle 9"/>
            <p:cNvSpPr/>
            <p:nvPr/>
          </p:nvSpPr>
          <p:spPr>
            <a:xfrm>
              <a:off x="3764880" y="2565360"/>
              <a:ext cx="2417040" cy="1512720"/>
            </a:xfrm>
            <a:prstGeom prst="rect">
              <a:avLst/>
            </a:prstGeom>
            <a:solidFill>
              <a:srgbClr val="4d4d4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10"/>
            <p:cNvGrpSpPr/>
            <p:nvPr/>
          </p:nvGrpSpPr>
          <p:grpSpPr>
            <a:xfrm>
              <a:off x="3904200" y="2565360"/>
              <a:ext cx="1552320" cy="1503360"/>
              <a:chOff x="3904200" y="2565360"/>
              <a:chExt cx="1552320" cy="1503360"/>
            </a:xfrm>
          </p:grpSpPr>
          <p:sp>
            <p:nvSpPr>
              <p:cNvPr id="89" name="Freeform 11"/>
              <p:cNvSpPr/>
              <p:nvPr/>
            </p:nvSpPr>
            <p:spPr>
              <a:xfrm>
                <a:off x="4692600" y="2958840"/>
                <a:ext cx="763920" cy="679680"/>
              </a:xfrm>
              <a:prstGeom prst="pie">
                <a:avLst/>
              </a:prstGeom>
              <a:solidFill>
                <a:srgbClr val="e2e1c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4576680" y="2835000"/>
                <a:ext cx="248400" cy="287280"/>
              </a:xfrm>
              <a:prstGeom prst="pie">
                <a:avLst/>
              </a:prstGeom>
              <a:solidFill>
                <a:srgbClr val="e2e1c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4697640" y="2847600"/>
                <a:ext cx="273960" cy="18324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4938120" y="2896920"/>
                <a:ext cx="103680" cy="13248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5"/>
              <p:cNvSpPr/>
              <p:nvPr/>
            </p:nvSpPr>
            <p:spPr>
              <a:xfrm>
                <a:off x="4544640" y="3035520"/>
                <a:ext cx="110880" cy="11268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6"/>
              <p:cNvSpPr/>
              <p:nvPr/>
            </p:nvSpPr>
            <p:spPr>
              <a:xfrm>
                <a:off x="4549680" y="3053160"/>
                <a:ext cx="253080" cy="325080"/>
              </a:xfrm>
              <a:prstGeom prst="pie">
                <a:avLst/>
              </a:prstGeom>
              <a:solidFill>
                <a:srgbClr val="e2e1c0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4774320" y="3215520"/>
                <a:ext cx="236880" cy="238680"/>
              </a:xfrm>
              <a:prstGeom prst="pie">
                <a:avLst/>
              </a:prstGeom>
              <a:solidFill>
                <a:srgbClr val="e2e1c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4922280" y="3391560"/>
                <a:ext cx="158040" cy="15048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4996800" y="3591360"/>
                <a:ext cx="98280" cy="9108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4755240" y="3357000"/>
                <a:ext cx="137880" cy="704880"/>
              </a:xfrm>
              <a:prstGeom prst="pie">
                <a:avLst/>
              </a:prstGeom>
              <a:solidFill>
                <a:srgbClr val="e2e1c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5008680" y="2938680"/>
                <a:ext cx="79920" cy="7704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5074920" y="2939040"/>
                <a:ext cx="58680" cy="7452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4258800" y="2751120"/>
                <a:ext cx="125640" cy="10188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4344480" y="2752560"/>
                <a:ext cx="21960" cy="5112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4343760" y="2786040"/>
                <a:ext cx="150480" cy="7344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4390560" y="2825280"/>
                <a:ext cx="98640" cy="6840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4421880" y="2886840"/>
                <a:ext cx="87120" cy="5904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4507200" y="2904120"/>
                <a:ext cx="120960" cy="5112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4333680" y="2836440"/>
                <a:ext cx="58320" cy="2916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4728240" y="2722320"/>
                <a:ext cx="10440" cy="756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4435920" y="2698200"/>
                <a:ext cx="169560" cy="3600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4556880" y="2753640"/>
                <a:ext cx="31320" cy="1260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4625640" y="2711520"/>
                <a:ext cx="84600" cy="3960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4625640" y="2716200"/>
                <a:ext cx="37800" cy="34560"/>
              </a:xfrm>
              <a:prstGeom prst="pie">
                <a:avLst/>
              </a:prstGeom>
              <a:solidFill>
                <a:srgbClr val="e2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3904200" y="2565360"/>
                <a:ext cx="456840" cy="270720"/>
              </a:xfrm>
              <a:prstGeom prst="pie">
                <a:avLst/>
              </a:prstGeom>
              <a:solidFill>
                <a:srgbClr val="e2e1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" name="Group 36"/>
              <p:cNvGrpSpPr/>
              <p:nvPr/>
            </p:nvGrpSpPr>
            <p:grpSpPr>
              <a:xfrm>
                <a:off x="4794840" y="3437640"/>
                <a:ext cx="292320" cy="619560"/>
                <a:chOff x="4794840" y="3437640"/>
                <a:chExt cx="292320" cy="619560"/>
              </a:xfrm>
            </p:grpSpPr>
            <p:sp>
              <p:nvSpPr>
                <p:cNvPr id="115" name="Freeform 37"/>
                <p:cNvSpPr/>
                <p:nvPr/>
              </p:nvSpPr>
              <p:spPr>
                <a:xfrm>
                  <a:off x="4794840" y="3437640"/>
                  <a:ext cx="292320" cy="599040"/>
                </a:xfrm>
                <a:prstGeom prst="pie">
                  <a:avLst/>
                </a:prstGeom>
                <a:solidFill>
                  <a:srgbClr val="e2e1c0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8"/>
                <p:cNvSpPr/>
                <p:nvPr/>
              </p:nvSpPr>
              <p:spPr>
                <a:xfrm>
                  <a:off x="4877640" y="4018680"/>
                  <a:ext cx="61920" cy="38520"/>
                </a:xfrm>
                <a:prstGeom prst="pie">
                  <a:avLst/>
                </a:prstGeom>
                <a:solidFill>
                  <a:srgbClr val="e2e1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9"/>
              <p:cNvGrpSpPr/>
              <p:nvPr/>
            </p:nvGrpSpPr>
            <p:grpSpPr>
              <a:xfrm>
                <a:off x="4969800" y="4019400"/>
                <a:ext cx="49680" cy="49320"/>
                <a:chOff x="4969800" y="4019400"/>
                <a:chExt cx="49680" cy="49320"/>
              </a:xfrm>
            </p:grpSpPr>
            <p:sp>
              <p:nvSpPr>
                <p:cNvPr id="118" name="Freeform 40"/>
                <p:cNvSpPr/>
                <p:nvPr/>
              </p:nvSpPr>
              <p:spPr>
                <a:xfrm>
                  <a:off x="4969800" y="4030200"/>
                  <a:ext cx="20880" cy="38520"/>
                </a:xfrm>
                <a:prstGeom prst="pie">
                  <a:avLst/>
                </a:prstGeom>
                <a:solidFill>
                  <a:srgbClr val="e2e1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41"/>
                <p:cNvSpPr/>
                <p:nvPr/>
              </p:nvSpPr>
              <p:spPr>
                <a:xfrm>
                  <a:off x="5001480" y="4019400"/>
                  <a:ext cx="18000" cy="48600"/>
                </a:xfrm>
                <a:prstGeom prst="pie">
                  <a:avLst/>
                </a:prstGeom>
                <a:solidFill>
                  <a:srgbClr val="e2e1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" name="Text Box 42"/>
            <p:cNvSpPr/>
            <p:nvPr/>
          </p:nvSpPr>
          <p:spPr>
            <a:xfrm>
              <a:off x="3295800" y="364644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PYMAR / HoldInves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Line 45"/>
          <p:cNvSpPr/>
          <p:nvPr/>
        </p:nvSpPr>
        <p:spPr>
          <a:xfrm>
            <a:off x="287280" y="6165720"/>
            <a:ext cx="9328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271440" y="2492280"/>
            <a:ext cx="9328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9"/>
          <p:cNvSpPr/>
          <p:nvPr/>
        </p:nvSpPr>
        <p:spPr>
          <a:xfrm>
            <a:off x="4102200" y="6230880"/>
            <a:ext cx="9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441440" y="1238400"/>
            <a:ext cx="6800760" cy="88884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Venture Capital como Herramienta de Desarrollo Económ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apital Emprendedor es un catalizador del desarrollo econó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ermite el crecimiento de las empresas invert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Genera foco en actividades innovadoras (“Schumpeteriana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mueve la generación de emp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ace que las PYMES tengan que operar en el sistema for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89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umplimiento de normas legales e impos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89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ortalece las industrias de mayor competitividad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mueve el desarrollo de los mercado de cap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mueve la innovación, la investigación y el desarrollo y la creación de nuevas empre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2147760" y="1868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marL="627120" indent="-627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II. </a:t>
            </a:r>
            <a:r>
              <a:rPr b="1" lang="es-ES" sz="2200" spc="-1" strike="noStrike">
                <a:solidFill>
                  <a:srgbClr val="002060"/>
                </a:solidFill>
                <a:latin typeface="Arial"/>
              </a:rPr>
              <a:t>El Venture Capital en la Argentin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2151000" y="3059280"/>
            <a:ext cx="5686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YMES argentinas enfrentan escasez de capital. Esto les impide capturar oportunidades de alto potencial de crecimiento – Las compañías están financiadas por sus due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6"/>
          <p:cNvSpPr/>
          <p:nvPr/>
        </p:nvSpPr>
        <p:spPr>
          <a:xfrm>
            <a:off x="596880" y="1749600"/>
            <a:ext cx="41623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644400" y="1806480"/>
            <a:ext cx="4048200" cy="3598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39"/>
          <p:cNvSpPr/>
          <p:nvPr/>
        </p:nvSpPr>
        <p:spPr>
          <a:xfrm>
            <a:off x="2711520" y="2982960"/>
            <a:ext cx="609480" cy="685800"/>
          </a:xfrm>
          <a:prstGeom prst="pie">
            <a:avLst/>
          </a:prstGeom>
          <a:solidFill>
            <a:srgbClr val="00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40"/>
          <p:cNvSpPr/>
          <p:nvPr/>
        </p:nvSpPr>
        <p:spPr>
          <a:xfrm>
            <a:off x="2711520" y="2925720"/>
            <a:ext cx="619200" cy="353880"/>
          </a:xfrm>
          <a:prstGeom prst="pi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41"/>
          <p:cNvSpPr/>
          <p:nvPr/>
        </p:nvSpPr>
        <p:spPr>
          <a:xfrm>
            <a:off x="2882880" y="3143160"/>
            <a:ext cx="1009800" cy="560520"/>
          </a:xfrm>
          <a:prstGeom prst="pie">
            <a:avLst/>
          </a:pr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42"/>
          <p:cNvSpPr/>
          <p:nvPr/>
        </p:nvSpPr>
        <p:spPr>
          <a:xfrm>
            <a:off x="2882880" y="3017880"/>
            <a:ext cx="1019160" cy="297000"/>
          </a:xfrm>
          <a:prstGeom prst="pie">
            <a:avLst/>
          </a:pr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43"/>
          <p:cNvSpPr/>
          <p:nvPr/>
        </p:nvSpPr>
        <p:spPr>
          <a:xfrm>
            <a:off x="1263600" y="3497400"/>
            <a:ext cx="2314800" cy="753840"/>
          </a:xfrm>
          <a:prstGeom prst="pie">
            <a:avLst/>
          </a:prstGeom>
          <a:solidFill>
            <a:srgbClr val="808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44"/>
          <p:cNvSpPr/>
          <p:nvPr/>
        </p:nvSpPr>
        <p:spPr>
          <a:xfrm>
            <a:off x="1263600" y="3143160"/>
            <a:ext cx="2314800" cy="719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892080" y="1969920"/>
            <a:ext cx="364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 las PYM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2711520" y="216072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2711520" y="216072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2937600" y="2514600"/>
            <a:ext cx="1052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ros Recurso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9"/>
          <p:cNvSpPr/>
          <p:nvPr/>
        </p:nvSpPr>
        <p:spPr>
          <a:xfrm>
            <a:off x="3309120" y="269712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1033560" y="4303800"/>
            <a:ext cx="1198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ursos Propio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2"/>
          <p:cNvSpPr/>
          <p:nvPr/>
        </p:nvSpPr>
        <p:spPr>
          <a:xfrm>
            <a:off x="1526400" y="451656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3844800" y="267480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3956760" y="285768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644400" y="1806480"/>
            <a:ext cx="4048200" cy="3598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56"/>
          <p:cNvSpPr/>
          <p:nvPr/>
        </p:nvSpPr>
        <p:spPr>
          <a:xfrm>
            <a:off x="649440" y="2311560"/>
            <a:ext cx="404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57"/>
          <p:cNvSpPr/>
          <p:nvPr/>
        </p:nvSpPr>
        <p:spPr>
          <a:xfrm>
            <a:off x="5070600" y="1741320"/>
            <a:ext cx="417168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5118120" y="1798560"/>
            <a:ext cx="4057560" cy="3610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60"/>
          <p:cNvSpPr/>
          <p:nvPr/>
        </p:nvSpPr>
        <p:spPr>
          <a:xfrm>
            <a:off x="6356520" y="3067200"/>
            <a:ext cx="714240" cy="639720"/>
          </a:xfrm>
          <a:prstGeom prst="pie">
            <a:avLst/>
          </a:pr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61"/>
          <p:cNvSpPr/>
          <p:nvPr/>
        </p:nvSpPr>
        <p:spPr>
          <a:xfrm>
            <a:off x="7070760" y="3021120"/>
            <a:ext cx="523800" cy="685800"/>
          </a:xfrm>
          <a:prstGeom prst="pie">
            <a:avLst/>
          </a:prstGeom>
          <a:solidFill>
            <a:srgbClr val="4d1a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62"/>
          <p:cNvSpPr/>
          <p:nvPr/>
        </p:nvSpPr>
        <p:spPr>
          <a:xfrm>
            <a:off x="6356520" y="2986200"/>
            <a:ext cx="1238040" cy="342720"/>
          </a:xfrm>
          <a:prstGeom prst="pie">
            <a:avLst/>
          </a:pr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63"/>
          <p:cNvSpPr/>
          <p:nvPr/>
        </p:nvSpPr>
        <p:spPr>
          <a:xfrm>
            <a:off x="7346880" y="3317760"/>
            <a:ext cx="1104840" cy="422280"/>
          </a:xfrm>
          <a:prstGeom prst="pie">
            <a:avLst/>
          </a:prstGeom>
          <a:solidFill>
            <a:srgbClr val="808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64"/>
          <p:cNvSpPr/>
          <p:nvPr/>
        </p:nvSpPr>
        <p:spPr>
          <a:xfrm>
            <a:off x="7346880" y="3056040"/>
            <a:ext cx="1104840" cy="307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65"/>
          <p:cNvSpPr/>
          <p:nvPr/>
        </p:nvSpPr>
        <p:spPr>
          <a:xfrm>
            <a:off x="8261280" y="3443400"/>
            <a:ext cx="247680" cy="593640"/>
          </a:xfrm>
          <a:prstGeom prst="pie">
            <a:avLst/>
          </a:prstGeom>
          <a:solidFill>
            <a:srgbClr val="1a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66"/>
          <p:cNvSpPr/>
          <p:nvPr/>
        </p:nvSpPr>
        <p:spPr>
          <a:xfrm>
            <a:off x="7394400" y="3443400"/>
            <a:ext cx="866880" cy="593640"/>
          </a:xfrm>
          <a:prstGeom prst="pie">
            <a:avLst/>
          </a:prstGeom>
          <a:solidFill>
            <a:srgbClr val="1a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67"/>
          <p:cNvSpPr/>
          <p:nvPr/>
        </p:nvSpPr>
        <p:spPr>
          <a:xfrm>
            <a:off x="7394400" y="3397320"/>
            <a:ext cx="1114560" cy="2635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68"/>
          <p:cNvSpPr/>
          <p:nvPr/>
        </p:nvSpPr>
        <p:spPr>
          <a:xfrm>
            <a:off x="7775640" y="3706920"/>
            <a:ext cx="380880" cy="479160"/>
          </a:xfrm>
          <a:prstGeom prst="pie">
            <a:avLst/>
          </a:prstGeom>
          <a:solidFill>
            <a:srgbClr val="3300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Freeform 69"/>
          <p:cNvSpPr/>
          <p:nvPr/>
        </p:nvSpPr>
        <p:spPr>
          <a:xfrm>
            <a:off x="7289640" y="3489480"/>
            <a:ext cx="486000" cy="685800"/>
          </a:xfrm>
          <a:prstGeom prst="pie">
            <a:avLst/>
          </a:prstGeom>
          <a:solidFill>
            <a:srgbClr val="3300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70"/>
          <p:cNvSpPr/>
          <p:nvPr/>
        </p:nvSpPr>
        <p:spPr>
          <a:xfrm>
            <a:off x="7289640" y="3489480"/>
            <a:ext cx="866880" cy="318960"/>
          </a:xfrm>
          <a:prstGeom prst="pie">
            <a:avLst/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71"/>
          <p:cNvSpPr/>
          <p:nvPr/>
        </p:nvSpPr>
        <p:spPr>
          <a:xfrm>
            <a:off x="7994520" y="4129200"/>
            <a:ext cx="354240" cy="91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72"/>
          <p:cNvSpPr/>
          <p:nvPr/>
        </p:nvSpPr>
        <p:spPr>
          <a:xfrm>
            <a:off x="7489800" y="3821040"/>
            <a:ext cx="200160" cy="398520"/>
          </a:xfrm>
          <a:prstGeom prst="pie">
            <a:avLst/>
          </a:prstGeom>
          <a:solidFill>
            <a:srgbClr val="80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73"/>
          <p:cNvSpPr/>
          <p:nvPr/>
        </p:nvSpPr>
        <p:spPr>
          <a:xfrm>
            <a:off x="7203960" y="3500280"/>
            <a:ext cx="285840" cy="708120"/>
          </a:xfrm>
          <a:prstGeom prst="pie">
            <a:avLst/>
          </a:prstGeom>
          <a:solidFill>
            <a:srgbClr val="80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74"/>
          <p:cNvSpPr/>
          <p:nvPr/>
        </p:nvSpPr>
        <p:spPr>
          <a:xfrm>
            <a:off x="7203960" y="3500280"/>
            <a:ext cx="486000" cy="34308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75"/>
          <p:cNvSpPr/>
          <p:nvPr/>
        </p:nvSpPr>
        <p:spPr>
          <a:xfrm>
            <a:off x="7604280" y="4197240"/>
            <a:ext cx="129960" cy="4510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76"/>
          <p:cNvSpPr/>
          <p:nvPr/>
        </p:nvSpPr>
        <p:spPr>
          <a:xfrm>
            <a:off x="5689440" y="3443400"/>
            <a:ext cx="914400" cy="718920"/>
          </a:xfrm>
          <a:prstGeom prst="pie">
            <a:avLst/>
          </a:prstGeom>
          <a:solidFill>
            <a:srgbClr val="00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77"/>
          <p:cNvSpPr/>
          <p:nvPr/>
        </p:nvSpPr>
        <p:spPr>
          <a:xfrm>
            <a:off x="6613560" y="3443400"/>
            <a:ext cx="190440" cy="718920"/>
          </a:xfrm>
          <a:prstGeom prst="pie">
            <a:avLst/>
          </a:prstGeom>
          <a:solidFill>
            <a:srgbClr val="00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78"/>
          <p:cNvSpPr/>
          <p:nvPr/>
        </p:nvSpPr>
        <p:spPr>
          <a:xfrm>
            <a:off x="5689440" y="3181320"/>
            <a:ext cx="1114560" cy="604800"/>
          </a:xfrm>
          <a:prstGeom prst="pie">
            <a:avLst/>
          </a:pr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79"/>
          <p:cNvSpPr/>
          <p:nvPr/>
        </p:nvSpPr>
        <p:spPr>
          <a:xfrm>
            <a:off x="6918480" y="3854520"/>
            <a:ext cx="485640" cy="388800"/>
          </a:xfrm>
          <a:prstGeom prst="pie">
            <a:avLst/>
          </a:pr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80"/>
          <p:cNvSpPr/>
          <p:nvPr/>
        </p:nvSpPr>
        <p:spPr>
          <a:xfrm>
            <a:off x="6918480" y="3511440"/>
            <a:ext cx="485640" cy="354240"/>
          </a:xfrm>
          <a:prstGeom prst="pie">
            <a:avLst/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81"/>
          <p:cNvSpPr/>
          <p:nvPr/>
        </p:nvSpPr>
        <p:spPr>
          <a:xfrm>
            <a:off x="6994440" y="4232160"/>
            <a:ext cx="181080" cy="1256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2"/>
          <p:cNvSpPr/>
          <p:nvPr/>
        </p:nvSpPr>
        <p:spPr>
          <a:xfrm>
            <a:off x="6092280" y="1978200"/>
            <a:ext cx="249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licación de las inversion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4"/>
          <p:cNvSpPr/>
          <p:nvPr/>
        </p:nvSpPr>
        <p:spPr>
          <a:xfrm>
            <a:off x="6310800" y="2584440"/>
            <a:ext cx="111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uevos Producto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85"/>
          <p:cNvSpPr/>
          <p:nvPr/>
        </p:nvSpPr>
        <p:spPr>
          <a:xfrm>
            <a:off x="6776280" y="2781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86"/>
          <p:cNvSpPr/>
          <p:nvPr/>
        </p:nvSpPr>
        <p:spPr>
          <a:xfrm>
            <a:off x="7300800" y="4657680"/>
            <a:ext cx="80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88"/>
          <p:cNvSpPr/>
          <p:nvPr/>
        </p:nvSpPr>
        <p:spPr>
          <a:xfrm>
            <a:off x="7586640" y="497376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9"/>
          <p:cNvSpPr/>
          <p:nvPr/>
        </p:nvSpPr>
        <p:spPr>
          <a:xfrm>
            <a:off x="6813000" y="43909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0"/>
          <p:cNvSpPr/>
          <p:nvPr/>
        </p:nvSpPr>
        <p:spPr>
          <a:xfrm>
            <a:off x="6935400" y="4562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91"/>
          <p:cNvSpPr/>
          <p:nvPr/>
        </p:nvSpPr>
        <p:spPr>
          <a:xfrm>
            <a:off x="8020080" y="4307040"/>
            <a:ext cx="857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8240400" y="46497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5145120" y="409716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cremento de la Capacidad Productiva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7"/>
          <p:cNvSpPr/>
          <p:nvPr/>
        </p:nvSpPr>
        <p:spPr>
          <a:xfrm>
            <a:off x="5487480" y="46116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9"/>
          <p:cNvSpPr/>
          <p:nvPr/>
        </p:nvSpPr>
        <p:spPr>
          <a:xfrm>
            <a:off x="8155080" y="2705040"/>
            <a:ext cx="96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Desarrollo Comerci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0"/>
          <p:cNvSpPr/>
          <p:nvPr/>
        </p:nvSpPr>
        <p:spPr>
          <a:xfrm>
            <a:off x="8535240" y="311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1"/>
          <p:cNvSpPr/>
          <p:nvPr/>
        </p:nvSpPr>
        <p:spPr>
          <a:xfrm>
            <a:off x="8262360" y="3978360"/>
            <a:ext cx="94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3"/>
          <p:cNvSpPr/>
          <p:nvPr/>
        </p:nvSpPr>
        <p:spPr>
          <a:xfrm>
            <a:off x="8738640" y="3825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04"/>
          <p:cNvSpPr/>
          <p:nvPr/>
        </p:nvSpPr>
        <p:spPr>
          <a:xfrm>
            <a:off x="5118120" y="1798560"/>
            <a:ext cx="4057560" cy="3610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5"/>
          <p:cNvSpPr/>
          <p:nvPr/>
        </p:nvSpPr>
        <p:spPr>
          <a:xfrm>
            <a:off x="5118120" y="2311560"/>
            <a:ext cx="406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06"/>
          <p:cNvSpPr/>
          <p:nvPr/>
        </p:nvSpPr>
        <p:spPr>
          <a:xfrm>
            <a:off x="685800" y="5695920"/>
            <a:ext cx="5635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8"/>
          <p:cNvSpPr/>
          <p:nvPr/>
        </p:nvSpPr>
        <p:spPr>
          <a:xfrm>
            <a:off x="685800" y="5695920"/>
            <a:ext cx="5635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9"/>
          <p:cNvSpPr/>
          <p:nvPr/>
        </p:nvSpPr>
        <p:spPr>
          <a:xfrm>
            <a:off x="684000" y="5708520"/>
            <a:ext cx="50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10"/>
          <p:cNvSpPr/>
          <p:nvPr/>
        </p:nvSpPr>
        <p:spPr>
          <a:xfrm>
            <a:off x="1253160" y="5708520"/>
            <a:ext cx="4664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cuesta Estructural a PyMEs Industriales, 2005- Observatorio PyME- UIA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271440" y="549360"/>
            <a:ext cx="936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el GEM (Global Entrepreneurship Monitor), los emprendedores consideran que el capital es la principal restricción para su desarroll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-297000" y="4456080"/>
            <a:ext cx="307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69404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153120" y="1852560"/>
            <a:ext cx="374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684000" y="6483240"/>
            <a:ext cx="50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1284120" y="6483240"/>
            <a:ext cx="67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Object 2" descr=""/>
          <p:cNvPicPr/>
          <p:nvPr/>
        </p:nvPicPr>
        <p:blipFill>
          <a:blip r:embed="rId1"/>
          <a:stretch/>
        </p:blipFill>
        <p:spPr>
          <a:xfrm>
            <a:off x="506520" y="1639800"/>
            <a:ext cx="90471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/>
          <p:cNvSpPr/>
          <p:nvPr/>
        </p:nvSpPr>
        <p:spPr>
          <a:xfrm rot="3262800">
            <a:off x="2778120" y="4693680"/>
            <a:ext cx="800280" cy="2152800"/>
          </a:xfrm>
          <a:custGeom>
            <a:avLst/>
            <a:gdLst>
              <a:gd name="textAreaLeft" fmla="*/ 117000 w 800280"/>
              <a:gd name="textAreaRight" fmla="*/ 683280 w 800280"/>
              <a:gd name="textAreaTop" fmla="*/ 117000 h 2152800"/>
              <a:gd name="textAreaBottom" fmla="*/ 2035800 h 2152800"/>
            </a:gdLst>
            <a:ahLst/>
            <a:rect l="textAreaLeft" t="textAreaTop" r="textAreaRight" b="textAreaBottom"/>
            <a:pathLst>
              <a:path w="21600" h="58089">
                <a:moveTo>
                  <a:pt x="10800" y="0"/>
                </a:moveTo>
                <a:arcTo wR="10800" hR="10800" stAng="16200000" swAng="-5400000"/>
                <a:lnTo>
                  <a:pt x="0" y="47289"/>
                </a:lnTo>
                <a:arcTo wR="10800" hR="10800" stAng="10800000" swAng="-5400000"/>
                <a:lnTo>
                  <a:pt x="10800" y="580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2e1c0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necesario cubrir la “Brecha de Capital” que existe actualmente para que las PYMES de Alto Potencial puedan convertirse en Empresas Globales en sectores nich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594240" y="3378240"/>
            <a:ext cx="183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958160" y="61070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83d6c"/>
                </a:solidFill>
                <a:latin typeface="Arial"/>
              </a:rPr>
              <a:t>Añ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847800" y="1521000"/>
            <a:ext cx="4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d6c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1560" y="6086520"/>
            <a:ext cx="58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968480" y="608652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00440" y="608652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632040" y="6086520"/>
            <a:ext cx="94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822920" y="6086520"/>
            <a:ext cx="58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5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1434960" y="5911920"/>
            <a:ext cx="0" cy="6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2327400" y="5911920"/>
            <a:ext cx="0" cy="6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3218040" y="5911920"/>
            <a:ext cx="0" cy="6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4106880" y="5900760"/>
            <a:ext cx="0" cy="60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4997520" y="5900760"/>
            <a:ext cx="0" cy="60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6777000" y="5900760"/>
            <a:ext cx="0" cy="60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5884920" y="5900760"/>
            <a:ext cx="0" cy="60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5649840" y="608652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6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6478560" y="608652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reeform 21"/>
          <p:cNvSpPr/>
          <p:nvPr/>
        </p:nvSpPr>
        <p:spPr>
          <a:xfrm>
            <a:off x="717480" y="1539720"/>
            <a:ext cx="8215560" cy="4359600"/>
          </a:xfrm>
          <a:prstGeom prst="pie">
            <a:avLst/>
          </a:prstGeom>
          <a:noFill/>
          <a:ln w="12600">
            <a:solidFill>
              <a:srgbClr val="0033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7672320" y="5900760"/>
            <a:ext cx="0" cy="60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7373880" y="608652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3d6c"/>
                </a:solidFill>
                <a:latin typeface="Arial"/>
              </a:rPr>
              <a:t>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reeform 24"/>
          <p:cNvSpPr/>
          <p:nvPr/>
        </p:nvSpPr>
        <p:spPr>
          <a:xfrm>
            <a:off x="1063800" y="2413080"/>
            <a:ext cx="6983280" cy="4019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6789600" y="1587600"/>
            <a:ext cx="2225880" cy="1946160"/>
          </a:xfrm>
          <a:prstGeom prst="ellipse">
            <a:avLst/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ortunidad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USD 15-30MM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ichos en Mercado Global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6993000" y="2622600"/>
            <a:ext cx="112680" cy="11412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34200" bIns="34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27"/>
          <p:cNvSpPr/>
          <p:nvPr/>
        </p:nvSpPr>
        <p:spPr>
          <a:xfrm>
            <a:off x="7308720" y="2749680"/>
            <a:ext cx="114480" cy="11412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34200" bIns="34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8"/>
          <p:cNvSpPr/>
          <p:nvPr/>
        </p:nvSpPr>
        <p:spPr>
          <a:xfrm>
            <a:off x="7461360" y="3198960"/>
            <a:ext cx="179280" cy="17928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943760" y="2670120"/>
            <a:ext cx="114480" cy="11448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34560" bIns="345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8286840" y="2787480"/>
            <a:ext cx="112680" cy="11448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34560" bIns="345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31"/>
          <p:cNvSpPr/>
          <p:nvPr/>
        </p:nvSpPr>
        <p:spPr>
          <a:xfrm>
            <a:off x="7010280" y="2819520"/>
            <a:ext cx="179640" cy="17928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32"/>
          <p:cNvSpPr/>
          <p:nvPr/>
        </p:nvSpPr>
        <p:spPr>
          <a:xfrm>
            <a:off x="6993000" y="2333520"/>
            <a:ext cx="216000" cy="21600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33"/>
          <p:cNvSpPr/>
          <p:nvPr/>
        </p:nvSpPr>
        <p:spPr>
          <a:xfrm>
            <a:off x="7791480" y="3333600"/>
            <a:ext cx="114120" cy="11448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34560" bIns="345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34"/>
          <p:cNvSpPr/>
          <p:nvPr/>
        </p:nvSpPr>
        <p:spPr>
          <a:xfrm>
            <a:off x="8026560" y="3213000"/>
            <a:ext cx="179280" cy="17964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8597880" y="2746440"/>
            <a:ext cx="216000" cy="216000"/>
          </a:xfrm>
          <a:prstGeom prst="ellipse">
            <a:avLst/>
          </a:prstGeom>
          <a:solidFill>
            <a:srgbClr val="b7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36"/>
          <p:cNvSpPr/>
          <p:nvPr/>
        </p:nvSpPr>
        <p:spPr>
          <a:xfrm>
            <a:off x="2479680" y="5194440"/>
            <a:ext cx="406440" cy="266400"/>
          </a:xfrm>
          <a:prstGeom prst="pie">
            <a:avLst/>
          </a:prstGeom>
          <a:noFill/>
          <a:ln w="19080">
            <a:solidFill>
              <a:srgbClr val="01787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37"/>
          <p:cNvSpPr/>
          <p:nvPr/>
        </p:nvSpPr>
        <p:spPr>
          <a:xfrm>
            <a:off x="1785960" y="3970440"/>
            <a:ext cx="1395360" cy="1218960"/>
          </a:xfrm>
          <a:prstGeom prst="ellipse">
            <a:avLst/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ital Ga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8"/>
          <p:cNvSpPr/>
          <p:nvPr/>
        </p:nvSpPr>
        <p:spPr>
          <a:xfrm rot="3238800">
            <a:off x="6680160" y="2669760"/>
            <a:ext cx="16848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2160" bIns="21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39"/>
          <p:cNvSpPr/>
          <p:nvPr/>
        </p:nvSpPr>
        <p:spPr>
          <a:xfrm>
            <a:off x="3260880" y="5513400"/>
            <a:ext cx="5594040" cy="38088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748040" y="4299120"/>
            <a:ext cx="486000" cy="1234800"/>
          </a:xfrm>
          <a:prstGeom prst="upArrow">
            <a:avLst>
              <a:gd name="adj1" fmla="val 61435"/>
              <a:gd name="adj2" fmla="val 5552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1"/>
          <p:cNvSpPr/>
          <p:nvPr/>
        </p:nvSpPr>
        <p:spPr>
          <a:xfrm>
            <a:off x="5234040" y="4208400"/>
            <a:ext cx="36432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siones de Primera Ronda necesarias para: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arrollo Internacional/Glob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lutamiento de Altos profesional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2"/>
          <p:cNvSpPr/>
          <p:nvPr/>
        </p:nvSpPr>
        <p:spPr>
          <a:xfrm>
            <a:off x="1566720" y="3754440"/>
            <a:ext cx="183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D 500K a 1-3 M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5823000" y="5365800"/>
            <a:ext cx="191124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283d6c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50840" indent="-150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 mantienen pequeñ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Capital Emprendedor en la Argentina se encuentra en etapa embrionaria para inversiones de Capital Semilla e Inversiones de Primera Ronda - Etapa de expans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65160" y="1389240"/>
            <a:ext cx="6699240" cy="399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ndos de Capital Emprended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865160" y="188928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oncagua Venture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865160" y="220176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 Angels Club IA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865160" y="251460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p Venture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865160" y="282744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rysalis Argentina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865160" y="313992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S Ventures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852560" y="345276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LEX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878120" y="376380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kn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1865160" y="407664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rk Ventures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65160" y="564048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ldinvest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852560" y="438948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xo Emprendedor – Banco Santander-Rio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1852560" y="470232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mbú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865160" y="501480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P &amp;  Inversores Argentino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839960" y="5327640"/>
            <a:ext cx="6694560" cy="22860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7200" tIns="7200" bIns="7200" anchor="ctr">
            <a:noAutofit/>
          </a:bodyPr>
          <a:p>
            <a:pPr marL="236520" indent="-23652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d de Inversores Angeles del IECyT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2147760" y="1868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marL="627120" indent="-627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V. </a:t>
            </a:r>
            <a:r>
              <a:rPr b="1" lang="es-ES" sz="2200" spc="-1" strike="noStrike">
                <a:solidFill>
                  <a:srgbClr val="002060"/>
                </a:solidFill>
                <a:latin typeface="Arial"/>
              </a:rPr>
              <a:t>Oportunida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151000" y="3059280"/>
            <a:ext cx="5686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3"/>
          <p:cNvGraphicFramePr/>
          <p:nvPr/>
        </p:nvGraphicFramePr>
        <p:xfrm>
          <a:off x="343080" y="1104840"/>
          <a:ext cx="87930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104840"/>
                    <a:ext cx="87930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2"/>
          <p:cNvGraphicFramePr/>
          <p:nvPr/>
        </p:nvGraphicFramePr>
        <p:xfrm>
          <a:off x="6294600" y="3633840"/>
          <a:ext cx="52848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94600" y="3633840"/>
                    <a:ext cx="52848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91090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rgentina presenta una oportunidad por su activa realidad emprendedora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03440" y="6356520"/>
            <a:ext cx="27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000000"/>
                </a:solidFill>
                <a:latin typeface="Arial"/>
              </a:rPr>
              <a:t>Fuente: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GEM 2007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43080" y="6388200"/>
            <a:ext cx="4292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Fuen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gencia Nacional de Desarrollo de Inversione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8640" y="380520"/>
            <a:ext cx="9205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13284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ee una oferta productiva, actual y potencial, de gran complementariedad con las tendencias de demanda glo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9301320" y="6446880"/>
            <a:ext cx="247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700AAEA-13DC-46AD-A76D-C25FAFCE632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7"/>
          <p:cNvGrpSpPr/>
          <p:nvPr/>
        </p:nvGrpSpPr>
        <p:grpSpPr>
          <a:xfrm>
            <a:off x="231840" y="1301760"/>
            <a:ext cx="1644480" cy="4509720"/>
            <a:chOff x="231840" y="1301760"/>
            <a:chExt cx="1644480" cy="4509720"/>
          </a:xfrm>
        </p:grpSpPr>
        <p:pic>
          <p:nvPicPr>
            <p:cNvPr id="350" name="Picture 8" descr=""/>
            <p:cNvPicPr/>
            <p:nvPr/>
          </p:nvPicPr>
          <p:blipFill>
            <a:blip r:embed="rId1"/>
            <a:stretch/>
          </p:blipFill>
          <p:spPr>
            <a:xfrm>
              <a:off x="232920" y="2410560"/>
              <a:ext cx="1560600" cy="14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9"/>
            <p:cNvSpPr/>
            <p:nvPr/>
          </p:nvSpPr>
          <p:spPr>
            <a:xfrm>
              <a:off x="231840" y="1301760"/>
              <a:ext cx="1644480" cy="11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Productos Naturales, Materias Primas de Calidad</a:t>
              </a:r>
              <a:br>
                <a:rPr sz="1200"/>
              </a:b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y Bioenergí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0"/>
            <p:cNvSpPr/>
            <p:nvPr/>
          </p:nvSpPr>
          <p:spPr>
            <a:xfrm>
              <a:off x="232920" y="4085280"/>
              <a:ext cx="1560600" cy="17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Creciente demanda global de: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Soja y Grano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Fruta Fin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Biocombustibl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11"/>
          <p:cNvGrpSpPr/>
          <p:nvPr/>
        </p:nvGrpSpPr>
        <p:grpSpPr>
          <a:xfrm>
            <a:off x="1671480" y="1301760"/>
            <a:ext cx="2276640" cy="4881240"/>
            <a:chOff x="1671480" y="1301760"/>
            <a:chExt cx="2276640" cy="4881240"/>
          </a:xfrm>
        </p:grpSpPr>
        <p:sp>
          <p:nvSpPr>
            <p:cNvPr id="354" name="Rectangle 12"/>
            <p:cNvSpPr/>
            <p:nvPr/>
          </p:nvSpPr>
          <p:spPr>
            <a:xfrm>
              <a:off x="1875600" y="1301760"/>
              <a:ext cx="1537200" cy="11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Alimentos 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Alta Calidad, Ecológicos y con trazabilida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5" name="Picture 13" descr=""/>
            <p:cNvPicPr/>
            <p:nvPr/>
          </p:nvPicPr>
          <p:blipFill>
            <a:blip r:embed="rId2"/>
            <a:stretch/>
          </p:blipFill>
          <p:spPr>
            <a:xfrm>
              <a:off x="1671480" y="2444400"/>
              <a:ext cx="2276640" cy="14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Line 14"/>
            <p:cNvSpPr/>
            <p:nvPr/>
          </p:nvSpPr>
          <p:spPr>
            <a:xfrm>
              <a:off x="1793520" y="1425960"/>
              <a:ext cx="0" cy="4757040"/>
            </a:xfrm>
            <a:prstGeom prst="line">
              <a:avLst/>
            </a:prstGeom>
            <a:ln w="1260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1807560" y="4090320"/>
              <a:ext cx="15588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ciente demanda global de: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no premium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ne Vacuna y carnes especiales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eite de Oliva y otros aceites vegetales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os orgánico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16"/>
          <p:cNvGrpSpPr/>
          <p:nvPr/>
        </p:nvGrpSpPr>
        <p:grpSpPr>
          <a:xfrm>
            <a:off x="2340000" y="1424160"/>
            <a:ext cx="2609640" cy="4758840"/>
            <a:chOff x="2340000" y="1424160"/>
            <a:chExt cx="2609640" cy="4758840"/>
          </a:xfrm>
        </p:grpSpPr>
        <p:sp>
          <p:nvSpPr>
            <p:cNvPr id="359" name="Rectangle 17"/>
            <p:cNvSpPr/>
            <p:nvPr/>
          </p:nvSpPr>
          <p:spPr>
            <a:xfrm>
              <a:off x="3342600" y="1424160"/>
              <a:ext cx="16070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ustrias Diferenciada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 Tecnológica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0" name="Picture 18" descr=""/>
            <p:cNvPicPr/>
            <p:nvPr/>
          </p:nvPicPr>
          <p:blipFill>
            <a:blip r:embed="rId3"/>
            <a:stretch/>
          </p:blipFill>
          <p:spPr>
            <a:xfrm>
              <a:off x="2340000" y="2284200"/>
              <a:ext cx="2586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Line 19"/>
            <p:cNvSpPr/>
            <p:nvPr/>
          </p:nvSpPr>
          <p:spPr>
            <a:xfrm>
              <a:off x="3342600" y="1425240"/>
              <a:ext cx="0" cy="4757760"/>
            </a:xfrm>
            <a:prstGeom prst="line">
              <a:avLst/>
            </a:prstGeom>
            <a:ln w="1260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0"/>
            <p:cNvSpPr/>
            <p:nvPr/>
          </p:nvSpPr>
          <p:spPr>
            <a:xfrm>
              <a:off x="3354840" y="4084200"/>
              <a:ext cx="1565280" cy="20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lmecánica de Precisió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barcaciones Liviana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otecnologí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umentaria con Diseño y Marc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21"/>
          <p:cNvGrpSpPr/>
          <p:nvPr/>
        </p:nvGrpSpPr>
        <p:grpSpPr>
          <a:xfrm>
            <a:off x="4716360" y="1370160"/>
            <a:ext cx="2401920" cy="4812840"/>
            <a:chOff x="4716360" y="1370160"/>
            <a:chExt cx="2401920" cy="4812840"/>
          </a:xfrm>
        </p:grpSpPr>
        <p:sp>
          <p:nvSpPr>
            <p:cNvPr id="364" name="Rectangle 22"/>
            <p:cNvSpPr/>
            <p:nvPr/>
          </p:nvSpPr>
          <p:spPr>
            <a:xfrm>
              <a:off x="4953240" y="1370160"/>
              <a:ext cx="1609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ios Profesionales de alto Valor Agregad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5" name="Picture 23" descr=""/>
            <p:cNvPicPr/>
            <p:nvPr/>
          </p:nvPicPr>
          <p:blipFill>
            <a:blip r:embed="rId4"/>
            <a:stretch/>
          </p:blipFill>
          <p:spPr>
            <a:xfrm>
              <a:off x="4716360" y="2409840"/>
              <a:ext cx="2401920" cy="14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Line 24"/>
            <p:cNvSpPr/>
            <p:nvPr/>
          </p:nvSpPr>
          <p:spPr>
            <a:xfrm>
              <a:off x="4900320" y="1425600"/>
              <a:ext cx="0" cy="4757400"/>
            </a:xfrm>
            <a:prstGeom prst="line">
              <a:avLst/>
            </a:prstGeom>
            <a:ln w="1260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5"/>
            <p:cNvSpPr/>
            <p:nvPr/>
          </p:nvSpPr>
          <p:spPr>
            <a:xfrm>
              <a:off x="4926600" y="4091760"/>
              <a:ext cx="1553400" cy="16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ciente volumen de negocio de: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ios profesionales con valor agregado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ios de salud y educación de alta calida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26"/>
          <p:cNvGrpSpPr/>
          <p:nvPr/>
        </p:nvGrpSpPr>
        <p:grpSpPr>
          <a:xfrm>
            <a:off x="6419880" y="1424160"/>
            <a:ext cx="1698120" cy="4758840"/>
            <a:chOff x="6419880" y="1424160"/>
            <a:chExt cx="1698120" cy="4758840"/>
          </a:xfrm>
        </p:grpSpPr>
        <p:sp>
          <p:nvSpPr>
            <p:cNvPr id="369" name="Rectangle 27"/>
            <p:cNvSpPr/>
            <p:nvPr/>
          </p:nvSpPr>
          <p:spPr>
            <a:xfrm>
              <a:off x="6419880" y="1424160"/>
              <a:ext cx="16084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al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0" name="Picture 28" descr=""/>
            <p:cNvPicPr/>
            <p:nvPr/>
          </p:nvPicPr>
          <p:blipFill>
            <a:blip r:embed="rId5"/>
            <a:stretch/>
          </p:blipFill>
          <p:spPr>
            <a:xfrm>
              <a:off x="6422760" y="1884240"/>
              <a:ext cx="1695240" cy="19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Line 29"/>
            <p:cNvSpPr/>
            <p:nvPr/>
          </p:nvSpPr>
          <p:spPr>
            <a:xfrm>
              <a:off x="6484680" y="1425240"/>
              <a:ext cx="0" cy="4757760"/>
            </a:xfrm>
            <a:prstGeom prst="line">
              <a:avLst/>
            </a:prstGeom>
            <a:ln w="1260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30"/>
            <p:cNvSpPr/>
            <p:nvPr/>
          </p:nvSpPr>
          <p:spPr>
            <a:xfrm>
              <a:off x="6496920" y="4084200"/>
              <a:ext cx="15220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manda internacional de bienes culturales y servicios educativos de calidad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manda por obras y espectáculos culturales con identidad naciona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Group 36"/>
          <p:cNvGrpSpPr/>
          <p:nvPr/>
        </p:nvGrpSpPr>
        <p:grpSpPr>
          <a:xfrm>
            <a:off x="8021520" y="1424160"/>
            <a:ext cx="1695600" cy="4759200"/>
            <a:chOff x="8021520" y="1424160"/>
            <a:chExt cx="1695600" cy="4759200"/>
          </a:xfrm>
        </p:grpSpPr>
        <p:sp>
          <p:nvSpPr>
            <p:cNvPr id="374" name="Rectangle 32"/>
            <p:cNvSpPr/>
            <p:nvPr/>
          </p:nvSpPr>
          <p:spPr>
            <a:xfrm>
              <a:off x="8055000" y="1424160"/>
              <a:ext cx="16095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ctr">
              <a:noAutofit/>
            </a:bodyPr>
            <a:p>
              <a:pPr marL="38160" algn="ctr">
                <a:lnSpc>
                  <a:spcPct val="95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ismos y Tiempo Libre y en Lugares Único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5" name="Picture 33" descr=""/>
            <p:cNvPicPr/>
            <p:nvPr/>
          </p:nvPicPr>
          <p:blipFill>
            <a:blip r:embed="rId6"/>
            <a:stretch/>
          </p:blipFill>
          <p:spPr>
            <a:xfrm>
              <a:off x="8021520" y="1838160"/>
              <a:ext cx="169560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Line 34"/>
            <p:cNvSpPr/>
            <p:nvPr/>
          </p:nvSpPr>
          <p:spPr>
            <a:xfrm>
              <a:off x="8070840" y="1425600"/>
              <a:ext cx="0" cy="4757760"/>
            </a:xfrm>
            <a:prstGeom prst="line">
              <a:avLst/>
            </a:prstGeom>
            <a:ln w="1260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35"/>
            <p:cNvSpPr/>
            <p:nvPr/>
          </p:nvSpPr>
          <p:spPr>
            <a:xfrm>
              <a:off x="8109000" y="4084560"/>
              <a:ext cx="15588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8160" tIns="0" bIns="0" anchor="t">
              <a:noAutofit/>
            </a:bodyPr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ujo de Turismo internacional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38160">
                <a:spcBef>
                  <a:spcPts val="663"/>
                </a:spcBef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uropeos y americanos con segunda vivienda fuera de su paí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679320" y="267012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679320" y="3693960"/>
            <a:ext cx="997200" cy="927360"/>
          </a:xfrm>
          <a:prstGeom prst="rightArrow">
            <a:avLst>
              <a:gd name="adj1" fmla="val 68056"/>
              <a:gd name="adj2" fmla="val 32548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79320" y="471816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679320" y="574200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 capacidades que le permiten promover un crecimiento sostenido basado en la competitividad de sus recursos natur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tle"/>
          <p:cNvSpPr/>
          <p:nvPr/>
        </p:nvSpPr>
        <p:spPr>
          <a:xfrm>
            <a:off x="2662200" y="133524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uesta de Val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1587600" y="154764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itle"/>
          <p:cNvSpPr/>
          <p:nvPr/>
        </p:nvSpPr>
        <p:spPr>
          <a:xfrm>
            <a:off x="6173640" y="1335240"/>
            <a:ext cx="157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os Asociad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5334120" y="154764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1892160" y="178452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Naturales de Alta Calidad. Ecológicos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5638680" y="1660680"/>
            <a:ext cx="30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ne Vacu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nes especia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sc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>
            <a:off x="679320" y="1647720"/>
            <a:ext cx="997200" cy="927360"/>
          </a:xfrm>
          <a:prstGeom prst="rightArrow">
            <a:avLst>
              <a:gd name="adj1" fmla="val 68056"/>
              <a:gd name="adj2" fmla="val 32548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1135080" y="1932120"/>
            <a:ext cx="35892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1892160" y="2859120"/>
            <a:ext cx="3062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alimenticios de alta calidad para consumidores del segmento gourmet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638680" y="2768760"/>
            <a:ext cx="30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ítricos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in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utas especia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7"/>
          <p:cNvSpPr/>
          <p:nvPr/>
        </p:nvSpPr>
        <p:spPr>
          <a:xfrm>
            <a:off x="1135080" y="2954160"/>
            <a:ext cx="3589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1892160" y="397512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teria Prima de Calidad para transformación industrial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5638680" y="3701880"/>
            <a:ext cx="306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ran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er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restac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0"/>
          <p:cNvSpPr/>
          <p:nvPr/>
        </p:nvSpPr>
        <p:spPr>
          <a:xfrm>
            <a:off x="1135080" y="3978360"/>
            <a:ext cx="35892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1892160" y="499896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de Alto Valor Agregado– Basados en Biotecnología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5638680" y="4816440"/>
            <a:ext cx="30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Orgánic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smétic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farmacéutic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otecnologí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135080" y="5002200"/>
            <a:ext cx="3589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1892160" y="5931000"/>
            <a:ext cx="30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ustrias de diseño intensivo que necesitan de personal altamente calificado para producciones de pequeña escal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5638680" y="5786280"/>
            <a:ext cx="3861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eño texti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Mecánicos para Industria Automotor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enes de Capit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umos industria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26"/>
          <p:cNvSpPr/>
          <p:nvPr/>
        </p:nvSpPr>
        <p:spPr>
          <a:xfrm>
            <a:off x="1135080" y="6026040"/>
            <a:ext cx="3589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674640" y="2622600"/>
            <a:ext cx="8697960" cy="3070080"/>
            <a:chOff x="674640" y="2622600"/>
            <a:chExt cx="8697960" cy="3070080"/>
          </a:xfrm>
        </p:grpSpPr>
        <p:sp>
          <p:nvSpPr>
            <p:cNvPr id="404" name="Line 28"/>
            <p:cNvSpPr/>
            <p:nvPr/>
          </p:nvSpPr>
          <p:spPr>
            <a:xfrm>
              <a:off x="674640" y="2622600"/>
              <a:ext cx="8697960" cy="0"/>
            </a:xfrm>
            <a:prstGeom prst="line">
              <a:avLst/>
            </a:prstGeom>
            <a:ln w="64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9"/>
            <p:cNvSpPr/>
            <p:nvPr/>
          </p:nvSpPr>
          <p:spPr>
            <a:xfrm>
              <a:off x="674640" y="3646440"/>
              <a:ext cx="8697960" cy="0"/>
            </a:xfrm>
            <a:prstGeom prst="line">
              <a:avLst/>
            </a:prstGeom>
            <a:ln w="64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0"/>
            <p:cNvSpPr/>
            <p:nvPr/>
          </p:nvSpPr>
          <p:spPr>
            <a:xfrm>
              <a:off x="674640" y="4668840"/>
              <a:ext cx="8697960" cy="0"/>
            </a:xfrm>
            <a:prstGeom prst="line">
              <a:avLst/>
            </a:prstGeom>
            <a:ln w="64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1"/>
            <p:cNvSpPr/>
            <p:nvPr/>
          </p:nvSpPr>
          <p:spPr>
            <a:xfrm>
              <a:off x="674640" y="5692680"/>
              <a:ext cx="8697960" cy="0"/>
            </a:xfrm>
            <a:prstGeom prst="line">
              <a:avLst/>
            </a:prstGeom>
            <a:ln w="64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Text Box 32"/>
          <p:cNvSpPr/>
          <p:nvPr/>
        </p:nvSpPr>
        <p:spPr>
          <a:xfrm>
            <a:off x="109440" y="6624720"/>
            <a:ext cx="41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Jorge Forteza, University of San Andrés presentation, May 2006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27280" y="1574640"/>
            <a:ext cx="6222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L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¿Que es el Venture Capit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l Venture Capital en l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¿Por qué PYM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2500"/>
              </a:spcBef>
              <a:buClr>
                <a:srgbClr val="0b1f65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679320" y="177336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como productos y servicios que permiten capitalizar las capacidades de innovación y talento de los emprendedores argenti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tle"/>
          <p:cNvSpPr/>
          <p:nvPr/>
        </p:nvSpPr>
        <p:spPr>
          <a:xfrm>
            <a:off x="2738520" y="151452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uesta de Val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1663560" y="17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itle"/>
          <p:cNvSpPr/>
          <p:nvPr/>
        </p:nvSpPr>
        <p:spPr>
          <a:xfrm>
            <a:off x="6249600" y="1514520"/>
            <a:ext cx="157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os Asociad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5410080" y="17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1967040" y="2006640"/>
            <a:ext cx="306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icios corporativos. Productos intensivos en mano de obra altamente calificada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700600" y="1914480"/>
            <a:ext cx="306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eño/Arquitectur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icios de Consultorí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967040" y="3149640"/>
            <a:ext cx="306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icios que combinen la ubicación, la infraestructura y las ventajas a nivel profesional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5700600" y="3040200"/>
            <a:ext cx="3519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ducación, salu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icios compartidos para negocios/ Servicios de atención al consumid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967040" y="4443480"/>
            <a:ext cx="306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país atractivo para visitar y/o vivi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5700600" y="444348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urismo de Alta calid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vicios para expatriad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1967040" y="5591160"/>
            <a:ext cx="306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spcBef>
                <a:spcPts val="1500"/>
              </a:spcBef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enos Aires, una cultura dinámica y atractiva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5700600" y="559116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urismo Cultural/ Buenos Air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buClr>
                <a:srgbClr val="0c044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ustrias con contenido cultur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679320" y="2957400"/>
            <a:ext cx="997200" cy="927360"/>
          </a:xfrm>
          <a:prstGeom prst="rightArrow">
            <a:avLst>
              <a:gd name="adj1" fmla="val 68056"/>
              <a:gd name="adj2" fmla="val 32548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679320" y="414180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679320" y="5326200"/>
            <a:ext cx="997200" cy="927000"/>
          </a:xfrm>
          <a:prstGeom prst="rightArrow">
            <a:avLst>
              <a:gd name="adj1" fmla="val 68056"/>
              <a:gd name="adj2" fmla="val 32560"/>
            </a:avLst>
          </a:prstGeom>
          <a:solidFill>
            <a:srgbClr val="017875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19"/>
          <p:cNvSpPr/>
          <p:nvPr/>
        </p:nvSpPr>
        <p:spPr>
          <a:xfrm>
            <a:off x="1135080" y="2057400"/>
            <a:ext cx="3589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1135080" y="3241800"/>
            <a:ext cx="35892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21"/>
          <p:cNvSpPr/>
          <p:nvPr/>
        </p:nvSpPr>
        <p:spPr>
          <a:xfrm>
            <a:off x="1135080" y="4425840"/>
            <a:ext cx="3589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22"/>
          <p:cNvSpPr/>
          <p:nvPr/>
        </p:nvSpPr>
        <p:spPr>
          <a:xfrm>
            <a:off x="1135080" y="5594400"/>
            <a:ext cx="35892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674640" y="2828880"/>
            <a:ext cx="869796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4"/>
          <p:cNvSpPr/>
          <p:nvPr/>
        </p:nvSpPr>
        <p:spPr>
          <a:xfrm>
            <a:off x="674640" y="4013280"/>
            <a:ext cx="869796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674640" y="5197320"/>
            <a:ext cx="869796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616680" y="6396120"/>
            <a:ext cx="462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Fue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Jorge Forteza, University of San Andrés presentation, May 2006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VC aporta “Dinero con Valor Agregado” adicionando capacidades de management y estrategia además del capital invertido, logrando con esto beneficios para los inversores, las empresas invertidas y el paí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R proyectado de 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YMES invert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recimiento y realización de su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mento de la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sarrollo 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reación de emp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tenciación de las ventajas competitivas del 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8280" y="235080"/>
            <a:ext cx="89852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o de Capital Emprendedor, Rosario, Argentina, 15/10/2008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do por Holdinvest-Fondo PYM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800" t="10998" r="1739" b="4682"/>
          <a:stretch/>
        </p:blipFill>
        <p:spPr>
          <a:xfrm>
            <a:off x="425520" y="1246320"/>
            <a:ext cx="9161280" cy="49654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6"/>
          <p:cNvSpPr/>
          <p:nvPr/>
        </p:nvSpPr>
        <p:spPr>
          <a:xfrm>
            <a:off x="616680" y="6396120"/>
            <a:ext cx="474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odas  las presentaciones están disponibles en </a:t>
            </a:r>
            <a:r>
              <a:rPr b="1" lang="en-US" sz="1100" spc="-1" strike="noStrike" u="sng">
                <a:solidFill>
                  <a:srgbClr val="3d97af"/>
                </a:solidFill>
                <a:uFillTx/>
                <a:latin typeface="Arial"/>
                <a:hlinkClick r:id="rId2"/>
              </a:rPr>
              <a:t>www.holdinvest.com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2147760" y="1868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marL="627120" indent="-627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. ¿Por qu</a:t>
            </a:r>
            <a:r>
              <a:rPr b="1" lang="es-ES_tradnl" sz="2200" spc="-1" strike="noStrike">
                <a:solidFill>
                  <a:srgbClr val="00007f"/>
                </a:solidFill>
                <a:latin typeface="Arial"/>
              </a:rPr>
              <a:t>é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002060"/>
                </a:solidFill>
                <a:latin typeface="Arial"/>
              </a:rPr>
              <a:t>PYMAR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2151000" y="3059280"/>
            <a:ext cx="5686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8640" y="380520"/>
            <a:ext cx="90806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Fundación Empresa y Crecimiento promueve el Fondo Pymar con el objetivo de impulsar el desarrollo de Pymes de alto poten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1355760" y="1814400"/>
            <a:ext cx="2990880" cy="587520"/>
          </a:xfrm>
          <a:prstGeom prst="rect">
            <a:avLst/>
          </a:prstGeom>
          <a:solidFill>
            <a:srgbClr val="3d97af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Fondo Multilateral de Inversore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FOMIN/BID- CAF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7M US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4"/>
          <p:cNvSpPr/>
          <p:nvPr/>
        </p:nvSpPr>
        <p:spPr>
          <a:xfrm rot="10800000">
            <a:off x="2457360" y="2525760"/>
            <a:ext cx="812880" cy="210960"/>
          </a:xfrm>
          <a:prstGeom prst="triangle">
            <a:avLst>
              <a:gd name="adj" fmla="val 50000"/>
            </a:avLst>
          </a:prstGeom>
          <a:solidFill>
            <a:srgbClr val="017875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3760" bIns="237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5556240" y="1814400"/>
            <a:ext cx="2990880" cy="587520"/>
          </a:xfrm>
          <a:prstGeom prst="rect">
            <a:avLst/>
          </a:prstGeom>
          <a:solidFill>
            <a:srgbClr val="3d97af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dministración Español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FIEX- COFID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5M US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2906640" y="2860560"/>
            <a:ext cx="4143600" cy="587520"/>
          </a:xfrm>
          <a:prstGeom prst="rect">
            <a:avLst/>
          </a:prstGeom>
          <a:solidFill>
            <a:srgbClr val="b72c00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NDO PYMAR - USD 22 M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USD 17 MM 1er Cierre- USD 22M 2do Cierr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1355760" y="3908520"/>
            <a:ext cx="2990880" cy="587160"/>
          </a:xfrm>
          <a:prstGeom prst="rect">
            <a:avLst/>
          </a:prstGeom>
          <a:solidFill>
            <a:srgbClr val="3d97af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5M US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5556240" y="3908520"/>
            <a:ext cx="2990880" cy="587160"/>
          </a:xfrm>
          <a:prstGeom prst="rect">
            <a:avLst/>
          </a:prstGeom>
          <a:solidFill>
            <a:srgbClr val="3d97af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versores Privados Argentin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2M US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32"/>
          <p:cNvSpPr/>
          <p:nvPr/>
        </p:nvSpPr>
        <p:spPr>
          <a:xfrm rot="10800000">
            <a:off x="6632640" y="2525760"/>
            <a:ext cx="812880" cy="210960"/>
          </a:xfrm>
          <a:prstGeom prst="triangle">
            <a:avLst>
              <a:gd name="adj" fmla="val 50000"/>
            </a:avLst>
          </a:prstGeom>
          <a:solidFill>
            <a:srgbClr val="017875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3760" bIns="237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33"/>
          <p:cNvSpPr/>
          <p:nvPr/>
        </p:nvSpPr>
        <p:spPr>
          <a:xfrm flipV="1" rot="10800000">
            <a:off x="2457360" y="3571920"/>
            <a:ext cx="812880" cy="210960"/>
          </a:xfrm>
          <a:prstGeom prst="triangle">
            <a:avLst>
              <a:gd name="adj" fmla="val 50000"/>
            </a:avLst>
          </a:prstGeom>
          <a:solidFill>
            <a:srgbClr val="017875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3760" bIns="237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34"/>
          <p:cNvSpPr/>
          <p:nvPr/>
        </p:nvSpPr>
        <p:spPr>
          <a:xfrm flipV="1" rot="10800000">
            <a:off x="6632640" y="3571920"/>
            <a:ext cx="812880" cy="210960"/>
          </a:xfrm>
          <a:prstGeom prst="triangle">
            <a:avLst>
              <a:gd name="adj" fmla="val 50000"/>
            </a:avLst>
          </a:prstGeom>
          <a:solidFill>
            <a:srgbClr val="017875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3760" bIns="237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6"/>
          <p:cNvSpPr/>
          <p:nvPr/>
        </p:nvSpPr>
        <p:spPr>
          <a:xfrm>
            <a:off x="458640" y="5734080"/>
            <a:ext cx="908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Fondo es resultado de una efectiva colaboración Público-Privada con aportes del Fomin y Cofides – Operativo a partir de IVQ-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3456000" y="5165640"/>
            <a:ext cx="2990880" cy="587520"/>
          </a:xfrm>
          <a:prstGeom prst="rect">
            <a:avLst/>
          </a:prstGeom>
          <a:solidFill>
            <a:srgbClr val="3d97af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ofides - CAF - Fundación Empresa y Crecimiento - Inversores Privad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5M USD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39"/>
          <p:cNvSpPr/>
          <p:nvPr/>
        </p:nvSpPr>
        <p:spPr>
          <a:xfrm flipV="1" rot="10800000">
            <a:off x="4603680" y="4930920"/>
            <a:ext cx="812880" cy="210960"/>
          </a:xfrm>
          <a:prstGeom prst="triangle">
            <a:avLst>
              <a:gd name="adj" fmla="val 50000"/>
            </a:avLst>
          </a:prstGeom>
          <a:solidFill>
            <a:srgbClr val="017875"/>
          </a:solidFill>
          <a:ln w="0">
            <a:noFill/>
          </a:ln>
          <a:effectLst>
            <a:outerShdw dist="53966" dir="2700000" blurRad="0" rotWithShape="0">
              <a:srgbClr val="e2e1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3760" bIns="2376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5186520" y="2075040"/>
            <a:ext cx="3346200" cy="1653840"/>
          </a:xfrm>
          <a:prstGeom prst="rect">
            <a:avLst/>
          </a:prstGeom>
          <a:solidFill>
            <a:srgbClr val="e2e1c0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licaciones de Softwar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otecnología – Salud, Animal y Vegetal, Energías Alternativa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y Servicios Médic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ustrias Creativas– Contenido Multimedia para TV, Internet y Teléfonos Celular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a , Diseño, Arquitectura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bjetivo es invertir en negocios globalmente competitivos basados en ventajas  de “talento” y recursos naturales local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498680" y="2075040"/>
            <a:ext cx="3348000" cy="1653840"/>
          </a:xfrm>
          <a:prstGeom prst="rect">
            <a:avLst/>
          </a:prstGeom>
          <a:solidFill>
            <a:srgbClr val="e2e1c0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272880" indent="-272880">
              <a:spcBef>
                <a:spcPts val="1500"/>
              </a:spcBef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urismo (e.g. Patagonia y Buenos Aire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imentos Orgánicos orientados a Sectores Nich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tos Alimenticios con Valor Agregado (ej. Productos Congelados) – “Branded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1498680" y="3803760"/>
            <a:ext cx="3348000" cy="1654200"/>
          </a:xfrm>
          <a:prstGeom prst="rect">
            <a:avLst/>
          </a:prstGeom>
          <a:solidFill>
            <a:srgbClr val="e2e1c0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5186520" y="3803760"/>
            <a:ext cx="3346200" cy="1654200"/>
          </a:xfrm>
          <a:prstGeom prst="rect">
            <a:avLst/>
          </a:prstGeom>
          <a:solidFill>
            <a:srgbClr val="e2e1c0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272880" indent="-272880">
              <a:buClr>
                <a:srgbClr val="00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2514600" y="4379760"/>
            <a:ext cx="1463760" cy="501840"/>
          </a:xfrm>
          <a:prstGeom prst="rect">
            <a:avLst/>
          </a:prstGeom>
          <a:solidFill>
            <a:srgbClr val="cdcc93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6129360" y="4379760"/>
            <a:ext cx="1460520" cy="501840"/>
          </a:xfrm>
          <a:prstGeom prst="rect">
            <a:avLst/>
          </a:prstGeom>
          <a:solidFill>
            <a:srgbClr val="cdcc93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sultorí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8560" y="3803760"/>
            <a:ext cx="536400" cy="1655640"/>
          </a:xfrm>
          <a:custGeom>
            <a:avLst/>
            <a:gdLst>
              <a:gd name="textAreaLeft" fmla="*/ 0 w 536400"/>
              <a:gd name="textAreaRight" fmla="*/ 536400 w 536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898560" y="2089080"/>
            <a:ext cx="536400" cy="1656000"/>
          </a:xfrm>
          <a:custGeom>
            <a:avLst/>
            <a:gdLst>
              <a:gd name="textAreaLeft" fmla="*/ 0 w 536400"/>
              <a:gd name="textAreaRight" fmla="*/ 536400 w 5364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1498680" y="5460840"/>
            <a:ext cx="3438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rsos Naturales o Competitividad Geográf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5138640" y="5460840"/>
            <a:ext cx="3438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ent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458640" y="1535040"/>
            <a:ext cx="90201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rtfolio y Oportunidades Económica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2514600" y="3033720"/>
            <a:ext cx="1463760" cy="501480"/>
          </a:xfrm>
          <a:prstGeom prst="rect">
            <a:avLst/>
          </a:prstGeom>
          <a:solidFill>
            <a:srgbClr val="cdcc93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ecializad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5016600" y="1976400"/>
            <a:ext cx="0" cy="3971880"/>
          </a:xfrm>
          <a:prstGeom prst="line">
            <a:avLst/>
          </a:prstGeom>
          <a:ln w="19080">
            <a:solidFill>
              <a:srgbClr val="01787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8567640" y="2092320"/>
            <a:ext cx="1051200" cy="3336840"/>
          </a:xfrm>
          <a:prstGeom prst="upArrow">
            <a:avLst>
              <a:gd name="adj1" fmla="val 66537"/>
              <a:gd name="adj2" fmla="val 33257"/>
            </a:avLst>
          </a:pr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8651880" y="3481560"/>
            <a:ext cx="952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calable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invertirá en negocios con claras opciones de salida – y Pymes lideradas por emprendedores de “clase mundial” (“Endeavor ADN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ida por Ventas Estraté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ferta Pública – BC Rosario y AIMs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ndos de Capital Privado may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BOs en Enabl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prendedores que conformen el embrión de un liderazgo empresarial PYME de clase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0440" y="380520"/>
            <a:ext cx="8982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Deal Flow Screening funciona como un embudo donde criterios como el atractivo del negocio y el equipo de Fundadores y Management son clave para el éxi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6360" y="6602040"/>
            <a:ext cx="8809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66640" indent="-566640">
              <a:spcBef>
                <a:spcPts val="1250"/>
              </a:spcBef>
              <a:buClr>
                <a:srgbClr val="000000"/>
              </a:buClr>
              <a:buFont typeface="Webdings" charset="2"/>
              <a:buChar char=""/>
              <a:tabLst>
                <a:tab algn="r" pos="4856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817800" y="1801800"/>
            <a:ext cx="304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3817800" y="1489680"/>
            <a:ext cx="30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apa de Análisi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7156440" y="1801800"/>
            <a:ext cx="25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7156440" y="1489680"/>
            <a:ext cx="254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726000" y="2274840"/>
            <a:ext cx="310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dentificad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988920" y="5921280"/>
            <a:ext cx="8029800" cy="514440"/>
          </a:xfrm>
          <a:prstGeom prst="roundRect">
            <a:avLst>
              <a:gd name="adj" fmla="val 16231"/>
            </a:avLst>
          </a:pr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Actualmente, PYMAR tiene 5 empresas en etapa de Evaluación y Estructurac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3726000" y="2733840"/>
            <a:ext cx="310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heck Atractivo/Oportunida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3726000" y="319392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heck Fundadores y Manag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3726000" y="3754440"/>
            <a:ext cx="310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heck Portfolio Fi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3726000" y="456732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ue Dilligence legal e imposotiv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3726000" y="526716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entación al investment comité loc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7097760" y="226044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7097760" y="277020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7097760" y="326700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7097760" y="371304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7097760" y="465444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0"/>
          <p:cNvSpPr/>
          <p:nvPr/>
        </p:nvSpPr>
        <p:spPr>
          <a:xfrm>
            <a:off x="7097760" y="525456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21"/>
          <p:cNvSpPr/>
          <p:nvPr/>
        </p:nvSpPr>
        <p:spPr>
          <a:xfrm>
            <a:off x="393840" y="2138400"/>
            <a:ext cx="3016080" cy="3614760"/>
          </a:xfrm>
          <a:prstGeom prst="flowChartMerge">
            <a:avLst/>
          </a:prstGeom>
          <a:solidFill>
            <a:srgbClr val="e2e1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22"/>
          <p:cNvSpPr/>
          <p:nvPr/>
        </p:nvSpPr>
        <p:spPr>
          <a:xfrm flipH="1">
            <a:off x="609480" y="2652840"/>
            <a:ext cx="257832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3"/>
          <p:cNvSpPr/>
          <p:nvPr/>
        </p:nvSpPr>
        <p:spPr>
          <a:xfrm flipH="1">
            <a:off x="826920" y="3144960"/>
            <a:ext cx="215928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4"/>
          <p:cNvSpPr/>
          <p:nvPr/>
        </p:nvSpPr>
        <p:spPr>
          <a:xfrm flipH="1">
            <a:off x="1027080" y="3637080"/>
            <a:ext cx="173376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25"/>
          <p:cNvSpPr/>
          <p:nvPr/>
        </p:nvSpPr>
        <p:spPr>
          <a:xfrm flipH="1">
            <a:off x="1444320" y="4622760"/>
            <a:ext cx="90468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6"/>
          <p:cNvSpPr/>
          <p:nvPr/>
        </p:nvSpPr>
        <p:spPr>
          <a:xfrm flipH="1">
            <a:off x="1635120" y="5116680"/>
            <a:ext cx="53352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27"/>
          <p:cNvSpPr/>
          <p:nvPr/>
        </p:nvSpPr>
        <p:spPr>
          <a:xfrm flipH="1">
            <a:off x="1230120" y="4130640"/>
            <a:ext cx="1339560" cy="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8"/>
          <p:cNvSpPr/>
          <p:nvPr/>
        </p:nvSpPr>
        <p:spPr>
          <a:xfrm>
            <a:off x="3738600" y="4138560"/>
            <a:ext cx="3503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4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valuación y estructuració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(BioScience, Launquen, FQCode, GeoAgro, Tramando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097760" y="4183200"/>
            <a:ext cx="26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tfolio de inversiones de PYMAR en función de la etapa del negocio y de su rentabilidad proyect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458640" y="1535040"/>
            <a:ext cx="90201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 rot="16200000">
            <a:off x="5348880" y="5615640"/>
            <a:ext cx="689040" cy="1109880"/>
          </a:xfrm>
          <a:custGeom>
            <a:avLst/>
            <a:gdLst>
              <a:gd name="textAreaLeft" fmla="*/ 0 w 689040"/>
              <a:gd name="textAreaRight" fmla="*/ 689400 w 689040"/>
              <a:gd name="textAreaTop" fmla="*/ 0 h 1109880"/>
              <a:gd name="textAreaBottom" fmla="*/ 1110240 h 11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174840" y="5499000"/>
            <a:ext cx="138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041800" y="5524560"/>
            <a:ext cx="138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7061040" y="5524560"/>
            <a:ext cx="138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565360" y="1803240"/>
          <a:ext cx="5994360" cy="3556080"/>
        </p:xfrm>
        <a:graphic>
          <a:graphicData uri="http://schemas.openxmlformats.org/drawingml/2006/table">
            <a:tbl>
              <a:tblPr/>
              <a:tblGrid>
                <a:gridCol w="1998720"/>
                <a:gridCol w="1996920"/>
                <a:gridCol w="1998720"/>
              </a:tblGrid>
              <a:tr h="118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cbca8f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13680">
                      <a:solidFill>
                        <a:srgbClr val="cbca8f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13680">
                      <a:solidFill>
                        <a:srgbClr val="cbca8f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13680">
                      <a:solidFill>
                        <a:srgbClr val="cbca8f"/>
                      </a:solidFill>
                    </a:lnR>
                    <a:lnT w="13680">
                      <a:solidFill>
                        <a:srgbClr val="cbca8f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</a:tr>
              <a:tr h="11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cbca8f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13680">
                      <a:solidFill>
                        <a:srgbClr val="cbca8f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5760">
                      <a:solidFill>
                        <a:srgbClr val="cdcc93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</a:tr>
              <a:tr h="118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cbca8f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13680">
                      <a:solidFill>
                        <a:srgbClr val="cbca8f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5760">
                      <a:solidFill>
                        <a:srgbClr val="cdcc93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13680">
                      <a:solidFill>
                        <a:srgbClr val="cbca8f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dcc93"/>
                      </a:solidFill>
                    </a:lnL>
                    <a:lnR w="13680">
                      <a:solidFill>
                        <a:srgbClr val="cbca8f"/>
                      </a:solidFill>
                    </a:lnR>
                    <a:lnT w="5760">
                      <a:solidFill>
                        <a:srgbClr val="cdcc93"/>
                      </a:solidFill>
                    </a:lnT>
                    <a:lnB w="13680">
                      <a:solidFill>
                        <a:srgbClr val="cbca8f"/>
                      </a:solidFill>
                    </a:lnB>
                    <a:solidFill>
                      <a:srgbClr val="e2e1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7" name="Oval 26"/>
          <p:cNvSpPr/>
          <p:nvPr/>
        </p:nvSpPr>
        <p:spPr>
          <a:xfrm>
            <a:off x="1193760" y="2070000"/>
            <a:ext cx="1244520" cy="762120"/>
          </a:xfrm>
          <a:prstGeom prst="ellipse">
            <a:avLst/>
          </a:prstGeom>
          <a:solidFill>
            <a:srgbClr val="b7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xpansió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27"/>
          <p:cNvSpPr/>
          <p:nvPr/>
        </p:nvSpPr>
        <p:spPr>
          <a:xfrm>
            <a:off x="1193760" y="4406760"/>
            <a:ext cx="1244520" cy="762120"/>
          </a:xfrm>
          <a:prstGeom prst="ellipse">
            <a:avLst/>
          </a:prstGeom>
          <a:solidFill>
            <a:srgbClr val="b7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mill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8"/>
          <p:cNvSpPr/>
          <p:nvPr/>
        </p:nvSpPr>
        <p:spPr>
          <a:xfrm>
            <a:off x="378000" y="3092400"/>
            <a:ext cx="968040" cy="868320"/>
          </a:xfrm>
          <a:custGeom>
            <a:avLst/>
            <a:gdLst>
              <a:gd name="textAreaLeft" fmla="*/ 0 w 968040"/>
              <a:gd name="textAreaRight" fmla="*/ 968400 w 9680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d97af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ap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29"/>
          <p:cNvSpPr/>
          <p:nvPr/>
        </p:nvSpPr>
        <p:spPr>
          <a:xfrm>
            <a:off x="7404120" y="1917720"/>
            <a:ext cx="1003320" cy="9144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groscienc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30">
            <a:hlinkClick r:id="" action="ppaction://hlinkshowjump?jump=nextslide"/>
          </p:cNvPr>
          <p:cNvSpPr/>
          <p:nvPr/>
        </p:nvSpPr>
        <p:spPr>
          <a:xfrm>
            <a:off x="5410080" y="1917720"/>
            <a:ext cx="1005120" cy="91440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dic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31"/>
          <p:cNvSpPr/>
          <p:nvPr/>
        </p:nvSpPr>
        <p:spPr>
          <a:xfrm>
            <a:off x="7442280" y="4343400"/>
            <a:ext cx="1003320" cy="9144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za - Co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32"/>
          <p:cNvSpPr/>
          <p:nvPr/>
        </p:nvSpPr>
        <p:spPr>
          <a:xfrm>
            <a:off x="5969160" y="2565360"/>
            <a:ext cx="100332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-Fash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33"/>
          <p:cNvSpPr/>
          <p:nvPr/>
        </p:nvSpPr>
        <p:spPr>
          <a:xfrm>
            <a:off x="6756480" y="3111480"/>
            <a:ext cx="1003320" cy="914400"/>
          </a:xfrm>
          <a:prstGeom prst="ellipse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ter Bra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8280" y="20268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n resum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7631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novación = Oport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Oportunidad = Desarrollo del Capital Emprende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ilares fundament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ctit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isponibilidad de bienes básicos (físicos y servi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ar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ayor emp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ctividades de mayor valor 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reciente competi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sarrollo del mercado de cap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ayor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147760" y="1868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marL="627120" indent="-627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. </a:t>
            </a:r>
            <a:r>
              <a:rPr b="1" lang="es-ES" sz="2200" spc="-1" strike="noStrike">
                <a:solidFill>
                  <a:srgbClr val="002060"/>
                </a:solidFill>
                <a:latin typeface="Arial"/>
              </a:rPr>
              <a:t>La Situació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2151000" y="3059280"/>
            <a:ext cx="5686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8280" y="32976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mérica Latina se observa escasez de financiamiento al Sector Priv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CuadroTexto"/>
          <p:cNvSpPr/>
          <p:nvPr/>
        </p:nvSpPr>
        <p:spPr>
          <a:xfrm>
            <a:off x="965160" y="6006960"/>
            <a:ext cx="783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100" spc="-1" strike="noStrike">
                <a:solidFill>
                  <a:srgbClr val="000000"/>
                </a:solidFill>
                <a:latin typeface="Arial"/>
              </a:rPr>
              <a:t>Fuente</a:t>
            </a: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: 5ta Conferencia Anual de la Fundación Observatorio PyME, Banco Central de la República Argentina. Abril 2008 Buenos Aires.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855800" y="1370160"/>
            <a:ext cx="647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280" y="228600"/>
            <a:ext cx="898524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versos factores limitan el acceso a financiamiento a las PY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2440" y="1066320"/>
            <a:ext cx="8788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23200" indent="-223200"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actores Macroeconóm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alta de políticas públicas de desarrollo a larg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estabilidad económica impide la planificación a larg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lta volatilidad financiera y Monedas ines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recientes regulaciones administrativo-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0" indent="-223200"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actores Jurídicos – Marco 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allas en los sistemas de garant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entitud y dificultad en la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0" indent="-223200"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Planes de Negocios Inadecuados/ Incompl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anagement muchas veces poco profesional no desarrolla los planes de negocio adecuados que les permitan conseguir financiamiento de crédito e inver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0" indent="-223200"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interés e Ineficiencia banc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formación asimét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ctivos intangibles y cash-flow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Regul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usencia de especi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0952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s tasas de interés para las PYMES debido a los costos fijos asociados a la intermediación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147760" y="18684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marL="627120" indent="-62712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Arial"/>
              </a:rPr>
              <a:t>II. </a:t>
            </a:r>
            <a:r>
              <a:rPr b="1" lang="es-ES_tradnl" sz="2200" spc="-1" strike="noStrike">
                <a:solidFill>
                  <a:srgbClr val="00007f"/>
                </a:solidFill>
                <a:latin typeface="Arial"/>
              </a:rPr>
              <a:t>¿Qué es el Venture Capital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2151000" y="3059280"/>
            <a:ext cx="5686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852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Modelo de negocio de Capital Emprendedor y Estructura de Organización – Financiamiento de Capital/Equ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726000" y="3267000"/>
            <a:ext cx="5240160" cy="1528560"/>
            <a:chOff x="3726000" y="3267000"/>
            <a:chExt cx="5240160" cy="1528560"/>
          </a:xfrm>
        </p:grpSpPr>
        <p:sp>
          <p:nvSpPr>
            <p:cNvPr id="138" name="Rectangle 4"/>
            <p:cNvSpPr/>
            <p:nvPr/>
          </p:nvSpPr>
          <p:spPr>
            <a:xfrm>
              <a:off x="3726000" y="3274920"/>
              <a:ext cx="1593720" cy="909720"/>
            </a:xfrm>
            <a:prstGeom prst="rect">
              <a:avLst/>
            </a:prstGeom>
            <a:solidFill>
              <a:srgbClr val="0166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1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024600" y="3267000"/>
              <a:ext cx="2941560" cy="15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ol de la Administració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spcBef>
                  <a:spcPts val="74"/>
                </a:spcBef>
                <a:buClr>
                  <a:srgbClr val="b72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luar modelos de negocios y equipos profesional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spcBef>
                  <a:spcPts val="74"/>
                </a:spcBef>
                <a:buClr>
                  <a:srgbClr val="b72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dentificar Oportunidad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spcBef>
                  <a:spcPts val="74"/>
                </a:spcBef>
                <a:buClr>
                  <a:srgbClr val="b72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onitorear y agregar valor a las inversion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spcBef>
                  <a:spcPts val="74"/>
                </a:spcBef>
                <a:buClr>
                  <a:srgbClr val="b72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Venta por Salida Estratégica u Oferta Públic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Rectangle 6"/>
          <p:cNvSpPr/>
          <p:nvPr/>
        </p:nvSpPr>
        <p:spPr>
          <a:xfrm>
            <a:off x="3726000" y="1827360"/>
            <a:ext cx="1592280" cy="911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Inversore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19280" y="1892160"/>
            <a:ext cx="203040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po de Inverso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74"/>
              </a:spcBef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ersores privados calificados “Family Offices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74"/>
              </a:spcBef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ersores Instituciona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74"/>
              </a:spcBef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ancos de Inversió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74"/>
              </a:spcBef>
              <a:buClr>
                <a:srgbClr val="b72c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rporacio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354560" y="2894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4665600" y="2893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701880" y="28940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622760" y="2935440"/>
            <a:ext cx="142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1879560" y="4276440"/>
            <a:ext cx="5961240" cy="1676520"/>
            <a:chOff x="1879560" y="4276440"/>
            <a:chExt cx="5961240" cy="1676520"/>
          </a:xfrm>
        </p:grpSpPr>
        <p:grpSp>
          <p:nvGrpSpPr>
            <p:cNvPr id="147" name="Group 13"/>
            <p:cNvGrpSpPr/>
            <p:nvPr/>
          </p:nvGrpSpPr>
          <p:grpSpPr>
            <a:xfrm>
              <a:off x="1879560" y="4276800"/>
              <a:ext cx="5961240" cy="1676160"/>
              <a:chOff x="1879560" y="4276800"/>
              <a:chExt cx="5961240" cy="1676160"/>
            </a:xfrm>
          </p:grpSpPr>
          <p:sp>
            <p:nvSpPr>
              <p:cNvPr id="148" name="Rectangle 14"/>
              <p:cNvSpPr/>
              <p:nvPr/>
            </p:nvSpPr>
            <p:spPr>
              <a:xfrm>
                <a:off x="1879560" y="5346720"/>
                <a:ext cx="1605240" cy="606240"/>
              </a:xfrm>
              <a:prstGeom prst="rect">
                <a:avLst/>
              </a:prstGeom>
              <a:solidFill>
                <a:srgbClr val="0166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ffffff"/>
                    </a:solidFill>
                    <a:latin typeface="Arial"/>
                  </a:rPr>
                  <a:t>Compañía 1</a:t>
                </a:r>
                <a:endParaRPr b="1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15"/>
              <p:cNvSpPr/>
              <p:nvPr/>
            </p:nvSpPr>
            <p:spPr>
              <a:xfrm>
                <a:off x="4025880" y="5332320"/>
                <a:ext cx="1603440" cy="606600"/>
              </a:xfrm>
              <a:prstGeom prst="rect">
                <a:avLst/>
              </a:prstGeom>
              <a:solidFill>
                <a:srgbClr val="0166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ffffff"/>
                    </a:solidFill>
                    <a:latin typeface="Arial"/>
                  </a:rPr>
                  <a:t>Compañía 2</a:t>
                </a:r>
                <a:endParaRPr b="1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6"/>
              <p:cNvSpPr/>
              <p:nvPr/>
            </p:nvSpPr>
            <p:spPr>
              <a:xfrm>
                <a:off x="6235920" y="5332320"/>
                <a:ext cx="1604880" cy="606600"/>
              </a:xfrm>
              <a:prstGeom prst="rect">
                <a:avLst/>
              </a:prstGeom>
              <a:solidFill>
                <a:srgbClr val="0166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ffffff"/>
                    </a:solidFill>
                    <a:latin typeface="Arial"/>
                  </a:rPr>
                  <a:t>Compañía 3</a:t>
                </a:r>
                <a:endParaRPr b="1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7"/>
              <p:cNvSpPr/>
              <p:nvPr/>
            </p:nvSpPr>
            <p:spPr>
              <a:xfrm>
                <a:off x="4024080" y="4646520"/>
                <a:ext cx="851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one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Text Box 18"/>
              <p:cNvSpPr/>
              <p:nvPr/>
            </p:nvSpPr>
            <p:spPr>
              <a:xfrm>
                <a:off x="5262480" y="4646520"/>
                <a:ext cx="50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entas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9"/>
              <p:cNvSpPr/>
              <p:nvPr/>
            </p:nvSpPr>
            <p:spPr>
              <a:xfrm>
                <a:off x="2658960" y="4965840"/>
                <a:ext cx="426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-46800" bIns="-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>
                <a:off x="2658960" y="4962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21"/>
              <p:cNvSpPr/>
              <p:nvPr/>
            </p:nvSpPr>
            <p:spPr>
              <a:xfrm>
                <a:off x="4792680" y="4962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22"/>
              <p:cNvSpPr/>
              <p:nvPr/>
            </p:nvSpPr>
            <p:spPr>
              <a:xfrm>
                <a:off x="6926400" y="49626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23"/>
              <p:cNvSpPr/>
              <p:nvPr/>
            </p:nvSpPr>
            <p:spPr>
              <a:xfrm>
                <a:off x="3954600" y="4276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Line 24"/>
            <p:cNvSpPr/>
            <p:nvPr/>
          </p:nvSpPr>
          <p:spPr>
            <a:xfrm flipV="1">
              <a:off x="5072040" y="4276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9320" y="2060640"/>
            <a:ext cx="9767880" cy="4674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41200" y="2755800"/>
            <a:ext cx="1128960" cy="554040"/>
          </a:xfrm>
          <a:prstGeom prst="roundRect">
            <a:avLst>
              <a:gd name="adj" fmla="val 16667"/>
            </a:avLst>
          </a:prstGeom>
          <a:solidFill>
            <a:srgbClr val="01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tadio d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1473120" y="2637000"/>
            <a:ext cx="988920" cy="792000"/>
          </a:xfrm>
          <a:custGeom>
            <a:avLst/>
            <a:gdLst>
              <a:gd name="textAreaLeft" fmla="*/ 0 w 988920"/>
              <a:gd name="textAreaRight" fmla="*/ 988920 w 988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undador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2338560" y="2637000"/>
            <a:ext cx="985680" cy="792000"/>
          </a:xfrm>
          <a:custGeom>
            <a:avLst/>
            <a:gdLst>
              <a:gd name="textAreaLeft" fmla="*/ 0 w 985680"/>
              <a:gd name="textAreaRight" fmla="*/ 986040 w 9856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16" y="0"/>
                </a:lnTo>
                <a:lnTo>
                  <a:pt x="21600" y="10800"/>
                </a:lnTo>
                <a:lnTo>
                  <a:pt x="18116" y="21600"/>
                </a:lnTo>
                <a:lnTo>
                  <a:pt x="0" y="21600"/>
                </a:lnTo>
                <a:lnTo>
                  <a:pt x="3484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migos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ffffff"/>
                </a:solidFill>
                <a:latin typeface="Arial"/>
              </a:rPr>
              <a:t>Familia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200400" y="2637000"/>
            <a:ext cx="988920" cy="792000"/>
          </a:xfrm>
          <a:custGeom>
            <a:avLst/>
            <a:gdLst>
              <a:gd name="textAreaLeft" fmla="*/ 0 w 988920"/>
              <a:gd name="textAreaRight" fmla="*/ 988920 w 988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21" y="0"/>
                </a:lnTo>
                <a:lnTo>
                  <a:pt x="21600" y="10800"/>
                </a:lnTo>
                <a:lnTo>
                  <a:pt x="18121" y="21600"/>
                </a:lnTo>
                <a:lnTo>
                  <a:pt x="0" y="21600"/>
                </a:lnTo>
                <a:lnTo>
                  <a:pt x="3479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Ángeles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065480" y="2637000"/>
            <a:ext cx="986040" cy="792000"/>
          </a:xfrm>
          <a:custGeom>
            <a:avLst/>
            <a:gdLst>
              <a:gd name="textAreaLeft" fmla="*/ 0 w 986040"/>
              <a:gd name="textAreaRight" fmla="*/ 986400 w 9860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16" y="0"/>
                </a:lnTo>
                <a:lnTo>
                  <a:pt x="21600" y="10800"/>
                </a:lnTo>
                <a:lnTo>
                  <a:pt x="18116" y="21600"/>
                </a:lnTo>
                <a:lnTo>
                  <a:pt x="0" y="21600"/>
                </a:lnTo>
                <a:lnTo>
                  <a:pt x="3484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imer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m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925880" y="2637000"/>
            <a:ext cx="1038240" cy="792000"/>
          </a:xfrm>
          <a:custGeom>
            <a:avLst/>
            <a:gdLst>
              <a:gd name="textAreaLeft" fmla="*/ 0 w 1038240"/>
              <a:gd name="textAreaRight" fmla="*/ 1038240 w 10382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86" y="0"/>
                </a:lnTo>
                <a:lnTo>
                  <a:pt x="21600" y="10800"/>
                </a:lnTo>
                <a:lnTo>
                  <a:pt x="18286" y="21600"/>
                </a:lnTo>
                <a:lnTo>
                  <a:pt x="0" y="21600"/>
                </a:lnTo>
                <a:lnTo>
                  <a:pt x="3314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egundo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mo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854680" y="2637000"/>
            <a:ext cx="1082520" cy="79200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3" y="0"/>
                </a:lnTo>
                <a:lnTo>
                  <a:pt x="21600" y="10800"/>
                </a:lnTo>
                <a:lnTo>
                  <a:pt x="18433" y="21600"/>
                </a:lnTo>
                <a:lnTo>
                  <a:pt x="0" y="21600"/>
                </a:lnTo>
                <a:lnTo>
                  <a:pt x="3167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pansión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6829560" y="2637000"/>
            <a:ext cx="1087200" cy="79200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6" y="0"/>
                </a:lnTo>
                <a:lnTo>
                  <a:pt x="21600" y="10800"/>
                </a:lnTo>
                <a:lnTo>
                  <a:pt x="18436" y="21600"/>
                </a:lnTo>
                <a:lnTo>
                  <a:pt x="0" y="21600"/>
                </a:lnTo>
                <a:lnTo>
                  <a:pt x="3164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7781760" y="2637000"/>
            <a:ext cx="986040" cy="792000"/>
          </a:xfrm>
          <a:custGeom>
            <a:avLst/>
            <a:gdLst>
              <a:gd name="textAreaLeft" fmla="*/ 0 w 986040"/>
              <a:gd name="textAreaRight" fmla="*/ 986400 w 9860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16" y="0"/>
                </a:lnTo>
                <a:lnTo>
                  <a:pt x="21600" y="10800"/>
                </a:lnTo>
                <a:lnTo>
                  <a:pt x="18116" y="21600"/>
                </a:lnTo>
                <a:lnTo>
                  <a:pt x="0" y="21600"/>
                </a:lnTo>
                <a:lnTo>
                  <a:pt x="3484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473120" y="3570120"/>
            <a:ext cx="855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que</a:t>
            </a: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ña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cantidad de dinero provista por el Fundador para iniciar un negocio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411280" y="3570120"/>
            <a:ext cx="8575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Aportes de capital de amigos, familia para la puesta en marcha de la empresa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298680" y="3570120"/>
            <a:ext cx="8575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ortes de capital para el lanzamiento del primer producto-servicio en el mercado, construir canales de distribución y comenzar la venta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4206960" y="3570120"/>
            <a:ext cx="8557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esionali-zar la gestión. Desarrollar el potencial de Mercado. La compañía debe estar en producción, aunque todavía no muestre ganancias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099040" y="3570120"/>
            <a:ext cx="855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ndos provistos para crecer en ventas, desarrollar nuevos mercados, alcanzando el punto de equilibrio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994360" y="35701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licar el negocio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6885000" y="3570120"/>
            <a:ext cx="8557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ción continua para crecimiento con un claro objetivo en cosechar éxito para la salida o venta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781760" y="3570120"/>
            <a:ext cx="8557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ndos provistos para permitir que el management operativo amplíe las fronteras de la empresa, en nuevos negocios, productos o cambios en la distribución accionaria.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21"/>
          <p:cNvSpPr/>
          <p:nvPr/>
        </p:nvSpPr>
        <p:spPr>
          <a:xfrm>
            <a:off x="241200" y="3444840"/>
            <a:ext cx="1128960" cy="1978200"/>
          </a:xfrm>
          <a:custGeom>
            <a:avLst/>
            <a:gdLst>
              <a:gd name="textAreaLeft" fmla="*/ 55080 w 1128960"/>
              <a:gd name="textAreaRight" fmla="*/ 1073880 w 1128960"/>
              <a:gd name="textAreaTop" fmla="*/ 55080 h 1978200"/>
              <a:gd name="textAreaBottom" fmla="*/ 1923120 h 1978200"/>
            </a:gdLst>
            <a:ahLst/>
            <a:rect l="textAreaLeft" t="textAreaTop" r="textAreaRight" b="textAreaBottom"/>
            <a:pathLst>
              <a:path w="21600" h="37843">
                <a:moveTo>
                  <a:pt x="3600" y="0"/>
                </a:moveTo>
                <a:arcTo wR="3600" hR="3600" stAng="16200000" swAng="-5400000"/>
                <a:lnTo>
                  <a:pt x="0" y="34243"/>
                </a:lnTo>
                <a:arcTo wR="3600" hR="3600" stAng="10800000" swAng="-5400000"/>
                <a:lnTo>
                  <a:pt x="18000" y="378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as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Objetivos,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2"/>
          <p:cNvGrpSpPr/>
          <p:nvPr/>
        </p:nvGrpSpPr>
        <p:grpSpPr>
          <a:xfrm>
            <a:off x="1468440" y="2240640"/>
            <a:ext cx="2597040" cy="330480"/>
            <a:chOff x="1468440" y="2240640"/>
            <a:chExt cx="2597040" cy="330480"/>
          </a:xfrm>
        </p:grpSpPr>
        <p:sp>
          <p:nvSpPr>
            <p:cNvPr id="179" name="AutoShape 23"/>
            <p:cNvSpPr/>
            <p:nvPr/>
          </p:nvSpPr>
          <p:spPr>
            <a:xfrm flipV="1" rot="5400000">
              <a:off x="2695320" y="1200600"/>
              <a:ext cx="142920" cy="259704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67680 h 2597040"/>
                <a:gd name="textAreaBottom" fmla="*/ 2529360 h 25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4"/>
            <p:cNvSpPr/>
            <p:nvPr/>
          </p:nvSpPr>
          <p:spPr>
            <a:xfrm>
              <a:off x="2486520" y="224064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mill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4179960" y="2240640"/>
            <a:ext cx="1670040" cy="330480"/>
            <a:chOff x="4179960" y="2240640"/>
            <a:chExt cx="1670040" cy="330480"/>
          </a:xfrm>
        </p:grpSpPr>
        <p:sp>
          <p:nvSpPr>
            <p:cNvPr id="182" name="Rectangle 26"/>
            <p:cNvSpPr/>
            <p:nvPr/>
          </p:nvSpPr>
          <p:spPr>
            <a:xfrm>
              <a:off x="4560120" y="2240640"/>
              <a:ext cx="100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rimer Roun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27"/>
            <p:cNvSpPr/>
            <p:nvPr/>
          </p:nvSpPr>
          <p:spPr>
            <a:xfrm flipV="1" rot="5400000">
              <a:off x="4943520" y="1664280"/>
              <a:ext cx="142920" cy="167004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43560 h 1670040"/>
                <a:gd name="textAreaBottom" fmla="*/ 1626480 h 16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7799760" y="2240640"/>
            <a:ext cx="796320" cy="347040"/>
            <a:chOff x="7799760" y="2240640"/>
            <a:chExt cx="796320" cy="347040"/>
          </a:xfrm>
        </p:grpSpPr>
        <p:sp>
          <p:nvSpPr>
            <p:cNvPr id="185" name="AutoShape 29"/>
            <p:cNvSpPr/>
            <p:nvPr/>
          </p:nvSpPr>
          <p:spPr>
            <a:xfrm flipV="1" rot="5400000">
              <a:off x="8126280" y="2136600"/>
              <a:ext cx="155520" cy="74628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19440 h 746280"/>
                <a:gd name="textAreaBottom" fmla="*/ 7268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7799760" y="224064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Buy-out/ i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1468440" y="1642680"/>
            <a:ext cx="4351320" cy="541080"/>
            <a:chOff x="1468440" y="1642680"/>
            <a:chExt cx="4351320" cy="541080"/>
          </a:xfrm>
        </p:grpSpPr>
        <p:sp>
          <p:nvSpPr>
            <p:cNvPr id="188" name="AutoShape 32"/>
            <p:cNvSpPr/>
            <p:nvPr/>
          </p:nvSpPr>
          <p:spPr>
            <a:xfrm flipV="1" rot="5400000">
              <a:off x="3522600" y="-113760"/>
              <a:ext cx="243000" cy="4351320"/>
            </a:xfrm>
            <a:custGeom>
              <a:avLst/>
              <a:gdLst>
                <a:gd name="textAreaLeft" fmla="*/ 155160 w 243000"/>
                <a:gd name="textAreaRight" fmla="*/ 243360 w 243000"/>
                <a:gd name="textAreaTop" fmla="*/ 113400 h 4351320"/>
                <a:gd name="textAreaBottom" fmla="*/ 4237920 h 435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3"/>
            <p:cNvSpPr/>
            <p:nvPr/>
          </p:nvSpPr>
          <p:spPr>
            <a:xfrm>
              <a:off x="2761920" y="1642680"/>
              <a:ext cx="175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stadios Temprano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34"/>
          <p:cNvGrpSpPr/>
          <p:nvPr/>
        </p:nvGrpSpPr>
        <p:grpSpPr>
          <a:xfrm>
            <a:off x="6027840" y="1629720"/>
            <a:ext cx="1595160" cy="554040"/>
            <a:chOff x="6027840" y="1629720"/>
            <a:chExt cx="1595160" cy="554040"/>
          </a:xfrm>
        </p:grpSpPr>
        <p:sp>
          <p:nvSpPr>
            <p:cNvPr id="191" name="AutoShape 35"/>
            <p:cNvSpPr/>
            <p:nvPr/>
          </p:nvSpPr>
          <p:spPr>
            <a:xfrm flipV="1" rot="5400000">
              <a:off x="6703920" y="1264320"/>
              <a:ext cx="243000" cy="1595160"/>
            </a:xfrm>
            <a:custGeom>
              <a:avLst/>
              <a:gdLst>
                <a:gd name="textAreaLeft" fmla="*/ 155160 w 243000"/>
                <a:gd name="textAreaRight" fmla="*/ 243360 w 243000"/>
                <a:gd name="textAreaTop" fmla="*/ 41400 h 1595160"/>
                <a:gd name="textAreaBottom" fmla="*/ 1553760 h 15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6"/>
            <p:cNvSpPr/>
            <p:nvPr/>
          </p:nvSpPr>
          <p:spPr>
            <a:xfrm>
              <a:off x="6179760" y="1629720"/>
              <a:ext cx="137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egundo Roun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37"/>
          <p:cNvGrpSpPr/>
          <p:nvPr/>
        </p:nvGrpSpPr>
        <p:grpSpPr>
          <a:xfrm>
            <a:off x="7792920" y="1617120"/>
            <a:ext cx="1658880" cy="528480"/>
            <a:chOff x="7792920" y="1617120"/>
            <a:chExt cx="1658880" cy="528480"/>
          </a:xfrm>
        </p:grpSpPr>
        <p:sp>
          <p:nvSpPr>
            <p:cNvPr id="194" name="AutoShape 38"/>
            <p:cNvSpPr/>
            <p:nvPr/>
          </p:nvSpPr>
          <p:spPr>
            <a:xfrm flipV="1" rot="5400000">
              <a:off x="8507160" y="1200600"/>
              <a:ext cx="230040" cy="165888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43200 h 1658880"/>
                <a:gd name="textAreaBottom" fmla="*/ 1615680 h 165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9"/>
            <p:cNvSpPr/>
            <p:nvPr/>
          </p:nvSpPr>
          <p:spPr>
            <a:xfrm>
              <a:off x="7999200" y="1617120"/>
              <a:ext cx="118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alida (Venta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AutoShape 48"/>
          <p:cNvSpPr/>
          <p:nvPr/>
        </p:nvSpPr>
        <p:spPr>
          <a:xfrm>
            <a:off x="241200" y="5502240"/>
            <a:ext cx="1128960" cy="447840"/>
          </a:xfrm>
          <a:prstGeom prst="roundRect">
            <a:avLst>
              <a:gd name="adj" fmla="val 16667"/>
            </a:avLst>
          </a:prstGeom>
          <a:solidFill>
            <a:srgbClr val="017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Reestructura-ció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9"/>
          <p:cNvSpPr/>
          <p:nvPr/>
        </p:nvSpPr>
        <p:spPr>
          <a:xfrm>
            <a:off x="8631360" y="2649600"/>
            <a:ext cx="1135080" cy="7920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4" y="0"/>
                </a:lnTo>
                <a:lnTo>
                  <a:pt x="21600" y="10800"/>
                </a:lnTo>
                <a:lnTo>
                  <a:pt x="18574" y="21600"/>
                </a:lnTo>
                <a:lnTo>
                  <a:pt x="0" y="21600"/>
                </a:lnTo>
                <a:lnTo>
                  <a:pt x="3026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lianza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stratégica u </a:t>
            </a:r>
            <a:r>
              <a:rPr b="1" lang="es-AR" sz="900" spc="-1" strike="noStrike">
                <a:solidFill>
                  <a:srgbClr val="ffffff"/>
                </a:solidFill>
                <a:latin typeface="Arial"/>
              </a:rPr>
              <a:t>Oferta Pública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458640" y="380880"/>
            <a:ext cx="908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apas del Capital Emprended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8637480" y="3583080"/>
            <a:ext cx="855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spcBef>
                <a:spcPts val="1125"/>
              </a:spcBef>
              <a:buClr>
                <a:srgbClr val="b72c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lsa de Comercio de Rosario, AIMS  London Stock Exchange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828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a del Venture Capital en América Lat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C:\Users\Denise Hillel\Desktop\Potencial Basura\Latin_America_very_large.png"/>
          <p:cNvPicPr/>
          <p:nvPr/>
        </p:nvPicPr>
        <p:blipFill>
          <a:blip r:embed="rId1"/>
          <a:stretch/>
        </p:blipFill>
        <p:spPr>
          <a:xfrm>
            <a:off x="3308400" y="1844640"/>
            <a:ext cx="3530520" cy="4191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7068960" y="1832040"/>
            <a:ext cx="2194200" cy="285444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marL="235080" indent="-235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BRASI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Banco Nacional de Desenvolvimiento Económic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Programa Innovar del Ministerio de Ciencia y Tecnologí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40 Fondos de VC y PEs operativo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Asociación Brasileña de V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1201680" y="2060640"/>
            <a:ext cx="1846440" cy="135576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Autofit/>
          </a:bodyPr>
          <a:p>
            <a:pPr marL="235080" indent="-235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MEXIC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NAFINSA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Asociación Mexicana de V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252440" y="4562640"/>
            <a:ext cx="1846440" cy="59364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Autofit/>
          </a:bodyPr>
          <a:p>
            <a:pPr marL="235080" indent="-235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CH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CORF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7068960" y="4765680"/>
            <a:ext cx="2194200" cy="1241280"/>
          </a:xfrm>
          <a:prstGeom prst="rect">
            <a:avLst/>
          </a:prstGeom>
          <a:solidFill>
            <a:srgbClr val="e2e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ctr">
            <a:noAutofit/>
          </a:bodyPr>
          <a:p>
            <a:pPr marL="235080" indent="-235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ARGENT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b1f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95959"/>
                </a:solidFill>
                <a:latin typeface="Arial"/>
              </a:rPr>
              <a:t>Se están creando incipientes Políticas Públicas de Apoy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59:45Z</dcterms:created>
  <dc:creator>Lisandro</dc:creator>
  <dc:description/>
  <dc:language>en-US</dc:language>
  <cp:lastModifiedBy>CPCEACABA</cp:lastModifiedBy>
  <cp:lastPrinted>2006-06-13T22:46:46Z</cp:lastPrinted>
  <dcterms:modified xsi:type="dcterms:W3CDTF">2008-11-10T19:00:43Z</dcterms:modified>
  <cp:revision>652</cp:revision>
  <dc:subject/>
  <dc:title>Diapositiva 0</dc:title>
</cp:coreProperties>
</file>