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04840"/>
            <a:ext cx="497844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D3A9F5B-FC2F-4877-A9D9-1FD2A0F998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059802F-044A-4627-8FA1-980F863021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Rectangle 7"/>
          <p:cNvSpPr/>
          <p:nvPr/>
        </p:nvSpPr>
        <p:spPr>
          <a:xfrm>
            <a:off x="3848040" y="9410760"/>
            <a:ext cx="2946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8FE9416-8AF8-46C7-BD8E-DC3CED227B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6C86702-F66D-4477-AB49-B8C883551F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CB59F9F-44F3-402D-97B3-D7B3C5C23E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1E3E4A2-E959-4213-B3CB-43BD59D33A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Rectangle 7"/>
          <p:cNvSpPr/>
          <p:nvPr/>
        </p:nvSpPr>
        <p:spPr>
          <a:xfrm>
            <a:off x="3848040" y="9410760"/>
            <a:ext cx="2946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05A1-CBBB-42B9-B776-BB033164F9C3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8456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7"/>
          <p:cNvSpPr/>
          <p:nvPr/>
        </p:nvSpPr>
        <p:spPr>
          <a:xfrm>
            <a:off x="3848040" y="9410760"/>
            <a:ext cx="2946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6957-0EB5-4C16-BD46-0DE848D221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8456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EC348D4-92BF-41AE-83CF-7A02988D72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4071326-143E-4B42-B577-EB2C671755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5728131-CE39-44CC-B5C9-14980C62B8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0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B4292CD-9A37-44F1-A21F-0FCF79941D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FB7-F306-486A-8305-5C7FBFBD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E98-D2E2-4B08-9D66-31CBFA03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35B-1B43-40A7-8935-C37078F1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EE9-6B61-4509-B948-EC7A8624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672-3337-4B68-AEE1-C944958E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458-617D-413C-8297-052251EE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D86-7E84-4518-A58C-FB15DF9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459-2BCA-4174-8142-AADDB690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893-AE38-4175-B818-3E57EDF0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108-FE26-4C0A-B153-7D27ECE3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99B-E089-41D0-952D-506A0DC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C11-FE48-4E91-946C-B1F2D9D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" name="Rectangle 8"/>
            <p:cNvSpPr/>
            <p:nvPr/>
          </p:nvSpPr>
          <p:spPr>
            <a:xfrm>
              <a:off x="4572000" y="0"/>
              <a:ext cx="4572000" cy="836640"/>
            </a:xfrm>
            <a:prstGeom prst="rect">
              <a:avLst/>
            </a:prstGeom>
            <a:solidFill>
              <a:srgbClr val="082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0"/>
              <a:ext cx="4572000" cy="83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10" descr="Logo_BCRA_Final_marginado_izquierda_blanco"/>
            <p:cNvPicPr/>
            <p:nvPr/>
          </p:nvPicPr>
          <p:blipFill>
            <a:blip r:embed="rId2"/>
            <a:stretch/>
          </p:blipFill>
          <p:spPr>
            <a:xfrm>
              <a:off x="360360" y="115920"/>
              <a:ext cx="28432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0C24-3DEC-4F41-8709-97BCFD2EF776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77C7-4F12-4358-B6B2-8CA311ACD034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Logo BCRA 16-05-07 final gris20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438280" y="18288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304920" y="1681200"/>
            <a:ext cx="8610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215c"/>
                </a:solidFill>
                <a:latin typeface="Times New Roman"/>
              </a:rPr>
              <a:t>Panorama Monetario y Financier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215c"/>
                </a:solidFill>
                <a:latin typeface="Times New Roman"/>
              </a:rPr>
              <a:t>Una visión desde la Argen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14400" y="4191120"/>
            <a:ext cx="6400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8215c"/>
                </a:solidFill>
                <a:latin typeface="Times New Roman"/>
              </a:rPr>
              <a:t>Arnaldo M. Boc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8215c"/>
                </a:solidFill>
                <a:latin typeface="Times New Roman"/>
              </a:rPr>
              <a:t>Director, Banco Central de la Repúblic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8215c"/>
                </a:solidFill>
                <a:latin typeface="Times New Roman"/>
              </a:rPr>
              <a:t>5 y 6 de Noviembre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8215c"/>
                </a:solidFill>
                <a:latin typeface="Times New Roman"/>
              </a:rPr>
              <a:t>Consejo Profesional de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8215c"/>
                </a:solidFill>
                <a:latin typeface="Times New Roman"/>
              </a:rPr>
              <a:t>Ciudad Autónoma de Buenos 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6BE1-A81B-430D-A5ED-78F5251E21C4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051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lítica prudencial de acumulación de reserva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5240" y="1919160"/>
            <a:ext cx="6859440" cy="4862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73080" y="1268280"/>
            <a:ext cx="6895800" cy="4590360"/>
            <a:chOff x="973080" y="1268280"/>
            <a:chExt cx="6895800" cy="4590360"/>
          </a:xfrm>
        </p:grpSpPr>
        <p:sp>
          <p:nvSpPr>
            <p:cNvPr id="100" name=""/>
            <p:cNvSpPr/>
            <p:nvPr/>
          </p:nvSpPr>
          <p:spPr>
            <a:xfrm>
              <a:off x="1646640" y="1713240"/>
              <a:ext cx="213120" cy="3269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80520" y="2286360"/>
              <a:ext cx="213480" cy="2696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14760" y="2668320"/>
              <a:ext cx="213120" cy="2314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49000" y="3022200"/>
              <a:ext cx="214560" cy="1960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3240" y="3096720"/>
              <a:ext cx="213120" cy="18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89760" y="3467520"/>
              <a:ext cx="213120" cy="1515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23640" y="3491280"/>
              <a:ext cx="213480" cy="1491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56800" y="3695040"/>
              <a:ext cx="213120" cy="1287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90680" y="3874680"/>
              <a:ext cx="214560" cy="1107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6360" y="4003920"/>
              <a:ext cx="213120" cy="9788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60600" y="4277520"/>
              <a:ext cx="213120" cy="704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93040" y="4314240"/>
              <a:ext cx="213120" cy="66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6800" y="1455120"/>
              <a:ext cx="1440" cy="38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5040" y="5302800"/>
              <a:ext cx="4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5040" y="4662720"/>
              <a:ext cx="4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45040" y="4020840"/>
              <a:ext cx="4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5040" y="3380400"/>
              <a:ext cx="4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5040" y="2737080"/>
              <a:ext cx="4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5040" y="2096640"/>
              <a:ext cx="4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5040" y="1455120"/>
              <a:ext cx="4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486800" y="4975560"/>
              <a:ext cx="638208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486800" y="498240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021040" y="498240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555280" y="4982400"/>
              <a:ext cx="108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87720" y="498240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623760" y="4982400"/>
              <a:ext cx="108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128480" y="498240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662720" y="4982400"/>
              <a:ext cx="108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196960" y="4982400"/>
              <a:ext cx="108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730840" y="498240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265080" y="498240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99320" y="4982400"/>
              <a:ext cx="108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333560" y="4982400"/>
              <a:ext cx="108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867800" y="4982400"/>
              <a:ext cx="108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67520" y="1268280"/>
              <a:ext cx="156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AR" sz="1500" spc="-1" strike="noStrike">
                  <a:solidFill>
                    <a:srgbClr val="000000"/>
                  </a:solidFill>
                  <a:latin typeface="Arial"/>
                </a:rPr>
                <a:t>Reservas / M3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8040" y="522864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-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92680" y="45867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92680" y="39463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680" y="3304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92680" y="2661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92680" y="20210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92680" y="1380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900000">
              <a:off x="1428480" y="515664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900000">
              <a:off x="1865160" y="51915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8900000">
              <a:off x="2241000" y="5247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8900000">
              <a:off x="2835720" y="52268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8900000">
              <a:off x="3265920" y="52884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ti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8900000">
              <a:off x="3822480" y="524340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8900000">
              <a:off x="4296240" y="526428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8900000">
              <a:off x="4599720" y="5346000"/>
              <a:ext cx="100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Chile (más F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8900000">
              <a:off x="5551560" y="52016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8900000">
              <a:off x="5838120" y="535608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10 paí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8900000">
              <a:off x="6696000" y="517644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8900000">
              <a:off x="7258680" y="516600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89280" y="3766680"/>
              <a:ext cx="195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(Reservas / M3*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32040" y="6576840"/>
            <a:ext cx="7748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3480" y="5870520"/>
            <a:ext cx="390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(*) Reservas, datos a junio de 2008. M3*, datos a diciembre de 2007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4560" y="6099120"/>
            <a:ext cx="18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Fuente: Bancos Centrales y FM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7080" y="634536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 el caso de Argentina el M3 Privado representa el 77% del M3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884160"/>
            <a:ext cx="83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nemos una flotación administrada del tipo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14760" y="1476360"/>
            <a:ext cx="7079040" cy="4907880"/>
            <a:chOff x="914760" y="1476360"/>
            <a:chExt cx="7079040" cy="4907880"/>
          </a:xfrm>
        </p:grpSpPr>
        <p:sp>
          <p:nvSpPr>
            <p:cNvPr id="163" name=""/>
            <p:cNvSpPr/>
            <p:nvPr/>
          </p:nvSpPr>
          <p:spPr>
            <a:xfrm>
              <a:off x="1338120" y="3114720"/>
              <a:ext cx="3434040" cy="1071360"/>
            </a:xfrm>
            <a:custGeom>
              <a:avLst/>
              <a:gdLst/>
              <a:ahLst/>
              <a:rect l="l" t="t" r="r" b="b"/>
              <a:pathLst>
                <a:path w="2163" h="675">
                  <a:moveTo>
                    <a:pt x="0" y="675"/>
                  </a:moveTo>
                  <a:lnTo>
                    <a:pt x="0" y="238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9" y="246"/>
                  </a:lnTo>
                  <a:lnTo>
                    <a:pt x="13" y="242"/>
                  </a:lnTo>
                  <a:lnTo>
                    <a:pt x="21" y="246"/>
                  </a:lnTo>
                  <a:lnTo>
                    <a:pt x="25" y="250"/>
                  </a:lnTo>
                  <a:lnTo>
                    <a:pt x="29" y="255"/>
                  </a:lnTo>
                  <a:lnTo>
                    <a:pt x="29" y="250"/>
                  </a:lnTo>
                  <a:lnTo>
                    <a:pt x="33" y="250"/>
                  </a:lnTo>
                  <a:lnTo>
                    <a:pt x="41" y="255"/>
                  </a:lnTo>
                  <a:lnTo>
                    <a:pt x="45" y="259"/>
                  </a:lnTo>
                  <a:lnTo>
                    <a:pt x="49" y="263"/>
                  </a:lnTo>
                  <a:lnTo>
                    <a:pt x="53" y="267"/>
                  </a:lnTo>
                  <a:lnTo>
                    <a:pt x="53" y="275"/>
                  </a:lnTo>
                  <a:lnTo>
                    <a:pt x="65" y="275"/>
                  </a:lnTo>
                  <a:lnTo>
                    <a:pt x="65" y="271"/>
                  </a:lnTo>
                  <a:lnTo>
                    <a:pt x="69" y="275"/>
                  </a:lnTo>
                  <a:lnTo>
                    <a:pt x="73" y="279"/>
                  </a:lnTo>
                  <a:lnTo>
                    <a:pt x="73" y="279"/>
                  </a:lnTo>
                  <a:lnTo>
                    <a:pt x="85" y="283"/>
                  </a:lnTo>
                  <a:lnTo>
                    <a:pt x="85" y="279"/>
                  </a:lnTo>
                  <a:lnTo>
                    <a:pt x="89" y="279"/>
                  </a:lnTo>
                  <a:lnTo>
                    <a:pt x="94" y="279"/>
                  </a:lnTo>
                  <a:lnTo>
                    <a:pt x="98" y="279"/>
                  </a:lnTo>
                  <a:lnTo>
                    <a:pt x="106" y="283"/>
                  </a:lnTo>
                  <a:lnTo>
                    <a:pt x="110" y="287"/>
                  </a:lnTo>
                  <a:lnTo>
                    <a:pt x="110" y="287"/>
                  </a:lnTo>
                  <a:lnTo>
                    <a:pt x="114" y="287"/>
                  </a:lnTo>
                  <a:lnTo>
                    <a:pt x="118" y="291"/>
                  </a:lnTo>
                  <a:lnTo>
                    <a:pt x="126" y="295"/>
                  </a:lnTo>
                  <a:lnTo>
                    <a:pt x="130" y="299"/>
                  </a:lnTo>
                  <a:lnTo>
                    <a:pt x="130" y="299"/>
                  </a:lnTo>
                  <a:lnTo>
                    <a:pt x="134" y="303"/>
                  </a:lnTo>
                  <a:lnTo>
                    <a:pt x="138" y="307"/>
                  </a:lnTo>
                  <a:lnTo>
                    <a:pt x="146" y="311"/>
                  </a:lnTo>
                  <a:lnTo>
                    <a:pt x="150" y="319"/>
                  </a:lnTo>
                  <a:lnTo>
                    <a:pt x="154" y="319"/>
                  </a:lnTo>
                  <a:lnTo>
                    <a:pt x="154" y="323"/>
                  </a:lnTo>
                  <a:lnTo>
                    <a:pt x="158" y="331"/>
                  </a:lnTo>
                  <a:lnTo>
                    <a:pt x="166" y="340"/>
                  </a:lnTo>
                  <a:lnTo>
                    <a:pt x="170" y="348"/>
                  </a:lnTo>
                  <a:lnTo>
                    <a:pt x="175" y="360"/>
                  </a:lnTo>
                  <a:lnTo>
                    <a:pt x="179" y="368"/>
                  </a:lnTo>
                  <a:lnTo>
                    <a:pt x="179" y="380"/>
                  </a:lnTo>
                  <a:lnTo>
                    <a:pt x="191" y="388"/>
                  </a:lnTo>
                  <a:lnTo>
                    <a:pt x="191" y="396"/>
                  </a:lnTo>
                  <a:lnTo>
                    <a:pt x="195" y="408"/>
                  </a:lnTo>
                  <a:lnTo>
                    <a:pt x="199" y="420"/>
                  </a:lnTo>
                  <a:lnTo>
                    <a:pt x="199" y="433"/>
                  </a:lnTo>
                  <a:lnTo>
                    <a:pt x="211" y="441"/>
                  </a:lnTo>
                  <a:lnTo>
                    <a:pt x="211" y="453"/>
                  </a:lnTo>
                  <a:lnTo>
                    <a:pt x="215" y="465"/>
                  </a:lnTo>
                  <a:lnTo>
                    <a:pt x="219" y="473"/>
                  </a:lnTo>
                  <a:lnTo>
                    <a:pt x="223" y="481"/>
                  </a:lnTo>
                  <a:lnTo>
                    <a:pt x="231" y="489"/>
                  </a:lnTo>
                  <a:lnTo>
                    <a:pt x="235" y="497"/>
                  </a:lnTo>
                  <a:lnTo>
                    <a:pt x="235" y="493"/>
                  </a:lnTo>
                  <a:lnTo>
                    <a:pt x="251" y="505"/>
                  </a:lnTo>
                  <a:lnTo>
                    <a:pt x="255" y="509"/>
                  </a:lnTo>
                  <a:lnTo>
                    <a:pt x="260" y="526"/>
                  </a:lnTo>
                  <a:lnTo>
                    <a:pt x="260" y="542"/>
                  </a:lnTo>
                  <a:lnTo>
                    <a:pt x="264" y="538"/>
                  </a:lnTo>
                  <a:lnTo>
                    <a:pt x="272" y="538"/>
                  </a:lnTo>
                  <a:lnTo>
                    <a:pt x="276" y="538"/>
                  </a:lnTo>
                  <a:lnTo>
                    <a:pt x="280" y="538"/>
                  </a:lnTo>
                  <a:lnTo>
                    <a:pt x="280" y="538"/>
                  </a:lnTo>
                  <a:lnTo>
                    <a:pt x="284" y="542"/>
                  </a:lnTo>
                  <a:lnTo>
                    <a:pt x="292" y="538"/>
                  </a:lnTo>
                  <a:lnTo>
                    <a:pt x="296" y="538"/>
                  </a:lnTo>
                  <a:lnTo>
                    <a:pt x="300" y="534"/>
                  </a:lnTo>
                  <a:lnTo>
                    <a:pt x="304" y="534"/>
                  </a:lnTo>
                  <a:lnTo>
                    <a:pt x="304" y="534"/>
                  </a:lnTo>
                  <a:lnTo>
                    <a:pt x="316" y="530"/>
                  </a:lnTo>
                  <a:lnTo>
                    <a:pt x="316" y="526"/>
                  </a:lnTo>
                  <a:lnTo>
                    <a:pt x="320" y="522"/>
                  </a:lnTo>
                  <a:lnTo>
                    <a:pt x="324" y="518"/>
                  </a:lnTo>
                  <a:lnTo>
                    <a:pt x="324" y="509"/>
                  </a:lnTo>
                  <a:lnTo>
                    <a:pt x="336" y="514"/>
                  </a:lnTo>
                  <a:lnTo>
                    <a:pt x="336" y="518"/>
                  </a:lnTo>
                  <a:lnTo>
                    <a:pt x="341" y="514"/>
                  </a:lnTo>
                  <a:lnTo>
                    <a:pt x="345" y="518"/>
                  </a:lnTo>
                  <a:lnTo>
                    <a:pt x="349" y="514"/>
                  </a:lnTo>
                  <a:lnTo>
                    <a:pt x="357" y="514"/>
                  </a:lnTo>
                  <a:lnTo>
                    <a:pt x="361" y="509"/>
                  </a:lnTo>
                  <a:lnTo>
                    <a:pt x="361" y="509"/>
                  </a:lnTo>
                  <a:lnTo>
                    <a:pt x="365" y="501"/>
                  </a:lnTo>
                  <a:lnTo>
                    <a:pt x="369" y="493"/>
                  </a:lnTo>
                  <a:lnTo>
                    <a:pt x="377" y="477"/>
                  </a:lnTo>
                  <a:lnTo>
                    <a:pt x="381" y="469"/>
                  </a:lnTo>
                  <a:lnTo>
                    <a:pt x="385" y="461"/>
                  </a:lnTo>
                  <a:lnTo>
                    <a:pt x="385" y="453"/>
                  </a:lnTo>
                  <a:lnTo>
                    <a:pt x="389" y="445"/>
                  </a:lnTo>
                  <a:lnTo>
                    <a:pt x="397" y="433"/>
                  </a:lnTo>
                  <a:lnTo>
                    <a:pt x="401" y="425"/>
                  </a:lnTo>
                  <a:lnTo>
                    <a:pt x="405" y="412"/>
                  </a:lnTo>
                  <a:lnTo>
                    <a:pt x="405" y="412"/>
                  </a:lnTo>
                  <a:lnTo>
                    <a:pt x="409" y="408"/>
                  </a:lnTo>
                  <a:lnTo>
                    <a:pt x="417" y="396"/>
                  </a:lnTo>
                  <a:lnTo>
                    <a:pt x="422" y="380"/>
                  </a:lnTo>
                  <a:lnTo>
                    <a:pt x="430" y="364"/>
                  </a:lnTo>
                  <a:lnTo>
                    <a:pt x="430" y="352"/>
                  </a:lnTo>
                  <a:lnTo>
                    <a:pt x="442" y="356"/>
                  </a:lnTo>
                  <a:lnTo>
                    <a:pt x="442" y="348"/>
                  </a:lnTo>
                  <a:lnTo>
                    <a:pt x="446" y="335"/>
                  </a:lnTo>
                  <a:lnTo>
                    <a:pt x="450" y="323"/>
                  </a:lnTo>
                  <a:lnTo>
                    <a:pt x="454" y="299"/>
                  </a:lnTo>
                  <a:lnTo>
                    <a:pt x="462" y="295"/>
                  </a:lnTo>
                  <a:lnTo>
                    <a:pt x="462" y="291"/>
                  </a:lnTo>
                  <a:lnTo>
                    <a:pt x="466" y="287"/>
                  </a:lnTo>
                  <a:lnTo>
                    <a:pt x="470" y="283"/>
                  </a:lnTo>
                  <a:lnTo>
                    <a:pt x="474" y="275"/>
                  </a:lnTo>
                  <a:lnTo>
                    <a:pt x="482" y="267"/>
                  </a:lnTo>
                  <a:lnTo>
                    <a:pt x="486" y="259"/>
                  </a:lnTo>
                  <a:lnTo>
                    <a:pt x="486" y="242"/>
                  </a:lnTo>
                  <a:lnTo>
                    <a:pt x="490" y="226"/>
                  </a:lnTo>
                  <a:lnTo>
                    <a:pt x="494" y="210"/>
                  </a:lnTo>
                  <a:lnTo>
                    <a:pt x="507" y="198"/>
                  </a:lnTo>
                  <a:lnTo>
                    <a:pt x="511" y="174"/>
                  </a:lnTo>
                  <a:lnTo>
                    <a:pt x="511" y="166"/>
                  </a:lnTo>
                  <a:lnTo>
                    <a:pt x="515" y="153"/>
                  </a:lnTo>
                  <a:lnTo>
                    <a:pt x="523" y="141"/>
                  </a:lnTo>
                  <a:lnTo>
                    <a:pt x="527" y="133"/>
                  </a:lnTo>
                  <a:lnTo>
                    <a:pt x="531" y="125"/>
                  </a:lnTo>
                  <a:lnTo>
                    <a:pt x="531" y="113"/>
                  </a:lnTo>
                  <a:lnTo>
                    <a:pt x="535" y="105"/>
                  </a:lnTo>
                  <a:lnTo>
                    <a:pt x="543" y="105"/>
                  </a:lnTo>
                  <a:lnTo>
                    <a:pt x="547" y="105"/>
                  </a:lnTo>
                  <a:lnTo>
                    <a:pt x="551" y="97"/>
                  </a:lnTo>
                  <a:lnTo>
                    <a:pt x="555" y="81"/>
                  </a:lnTo>
                  <a:lnTo>
                    <a:pt x="555" y="72"/>
                  </a:lnTo>
                  <a:lnTo>
                    <a:pt x="567" y="72"/>
                  </a:lnTo>
                  <a:lnTo>
                    <a:pt x="567" y="76"/>
                  </a:lnTo>
                  <a:lnTo>
                    <a:pt x="571" y="76"/>
                  </a:lnTo>
                  <a:lnTo>
                    <a:pt x="575" y="89"/>
                  </a:lnTo>
                  <a:lnTo>
                    <a:pt x="579" y="89"/>
                  </a:lnTo>
                  <a:lnTo>
                    <a:pt x="588" y="85"/>
                  </a:lnTo>
                  <a:lnTo>
                    <a:pt x="588" y="76"/>
                  </a:lnTo>
                  <a:lnTo>
                    <a:pt x="592" y="68"/>
                  </a:lnTo>
                  <a:lnTo>
                    <a:pt x="596" y="52"/>
                  </a:lnTo>
                  <a:lnTo>
                    <a:pt x="600" y="56"/>
                  </a:lnTo>
                  <a:lnTo>
                    <a:pt x="608" y="52"/>
                  </a:lnTo>
                  <a:lnTo>
                    <a:pt x="612" y="44"/>
                  </a:lnTo>
                  <a:lnTo>
                    <a:pt x="612" y="48"/>
                  </a:lnTo>
                  <a:lnTo>
                    <a:pt x="616" y="48"/>
                  </a:lnTo>
                  <a:lnTo>
                    <a:pt x="620" y="56"/>
                  </a:lnTo>
                  <a:lnTo>
                    <a:pt x="628" y="60"/>
                  </a:lnTo>
                  <a:lnTo>
                    <a:pt x="632" y="52"/>
                  </a:lnTo>
                  <a:lnTo>
                    <a:pt x="636" y="32"/>
                  </a:lnTo>
                  <a:lnTo>
                    <a:pt x="636" y="32"/>
                  </a:lnTo>
                  <a:lnTo>
                    <a:pt x="640" y="24"/>
                  </a:lnTo>
                  <a:lnTo>
                    <a:pt x="648" y="28"/>
                  </a:lnTo>
                  <a:lnTo>
                    <a:pt x="652" y="32"/>
                  </a:lnTo>
                  <a:lnTo>
                    <a:pt x="656" y="24"/>
                  </a:lnTo>
                  <a:lnTo>
                    <a:pt x="656" y="20"/>
                  </a:lnTo>
                  <a:lnTo>
                    <a:pt x="660" y="24"/>
                  </a:lnTo>
                  <a:lnTo>
                    <a:pt x="673" y="32"/>
                  </a:lnTo>
                  <a:lnTo>
                    <a:pt x="677" y="28"/>
                  </a:lnTo>
                  <a:lnTo>
                    <a:pt x="681" y="36"/>
                  </a:lnTo>
                  <a:lnTo>
                    <a:pt x="681" y="44"/>
                  </a:lnTo>
                  <a:lnTo>
                    <a:pt x="693" y="40"/>
                  </a:lnTo>
                  <a:lnTo>
                    <a:pt x="693" y="56"/>
                  </a:lnTo>
                  <a:lnTo>
                    <a:pt x="697" y="72"/>
                  </a:lnTo>
                  <a:lnTo>
                    <a:pt x="701" y="81"/>
                  </a:lnTo>
                  <a:lnTo>
                    <a:pt x="705" y="89"/>
                  </a:lnTo>
                  <a:lnTo>
                    <a:pt x="713" y="85"/>
                  </a:lnTo>
                  <a:lnTo>
                    <a:pt x="713" y="76"/>
                  </a:lnTo>
                  <a:lnTo>
                    <a:pt x="717" y="76"/>
                  </a:lnTo>
                  <a:lnTo>
                    <a:pt x="721" y="85"/>
                  </a:lnTo>
                  <a:lnTo>
                    <a:pt x="725" y="93"/>
                  </a:lnTo>
                  <a:lnTo>
                    <a:pt x="733" y="101"/>
                  </a:lnTo>
                  <a:lnTo>
                    <a:pt x="737" y="85"/>
                  </a:lnTo>
                  <a:lnTo>
                    <a:pt x="737" y="64"/>
                  </a:lnTo>
                  <a:lnTo>
                    <a:pt x="741" y="60"/>
                  </a:lnTo>
                  <a:lnTo>
                    <a:pt x="745" y="64"/>
                  </a:lnTo>
                  <a:lnTo>
                    <a:pt x="754" y="68"/>
                  </a:lnTo>
                  <a:lnTo>
                    <a:pt x="758" y="72"/>
                  </a:lnTo>
                  <a:lnTo>
                    <a:pt x="762" y="89"/>
                  </a:lnTo>
                  <a:lnTo>
                    <a:pt x="762" y="101"/>
                  </a:lnTo>
                  <a:lnTo>
                    <a:pt x="766" y="109"/>
                  </a:lnTo>
                  <a:lnTo>
                    <a:pt x="774" y="117"/>
                  </a:lnTo>
                  <a:lnTo>
                    <a:pt x="778" y="137"/>
                  </a:lnTo>
                  <a:lnTo>
                    <a:pt x="782" y="145"/>
                  </a:lnTo>
                  <a:lnTo>
                    <a:pt x="782" y="149"/>
                  </a:lnTo>
                  <a:lnTo>
                    <a:pt x="786" y="157"/>
                  </a:lnTo>
                  <a:lnTo>
                    <a:pt x="794" y="166"/>
                  </a:lnTo>
                  <a:lnTo>
                    <a:pt x="798" y="166"/>
                  </a:lnTo>
                  <a:lnTo>
                    <a:pt x="802" y="170"/>
                  </a:lnTo>
                  <a:lnTo>
                    <a:pt x="806" y="182"/>
                  </a:lnTo>
                  <a:lnTo>
                    <a:pt x="806" y="174"/>
                  </a:lnTo>
                  <a:lnTo>
                    <a:pt x="818" y="161"/>
                  </a:lnTo>
                  <a:lnTo>
                    <a:pt x="818" y="157"/>
                  </a:lnTo>
                  <a:lnTo>
                    <a:pt x="822" y="161"/>
                  </a:lnTo>
                  <a:lnTo>
                    <a:pt x="826" y="166"/>
                  </a:lnTo>
                  <a:lnTo>
                    <a:pt x="830" y="149"/>
                  </a:lnTo>
                  <a:lnTo>
                    <a:pt x="843" y="145"/>
                  </a:lnTo>
                  <a:lnTo>
                    <a:pt x="843" y="133"/>
                  </a:lnTo>
                  <a:lnTo>
                    <a:pt x="847" y="133"/>
                  </a:lnTo>
                  <a:lnTo>
                    <a:pt x="851" y="133"/>
                  </a:lnTo>
                  <a:lnTo>
                    <a:pt x="859" y="129"/>
                  </a:lnTo>
                  <a:lnTo>
                    <a:pt x="863" y="125"/>
                  </a:lnTo>
                  <a:lnTo>
                    <a:pt x="863" y="137"/>
                  </a:lnTo>
                  <a:lnTo>
                    <a:pt x="867" y="157"/>
                  </a:lnTo>
                  <a:lnTo>
                    <a:pt x="871" y="161"/>
                  </a:lnTo>
                  <a:lnTo>
                    <a:pt x="879" y="166"/>
                  </a:lnTo>
                  <a:lnTo>
                    <a:pt x="883" y="178"/>
                  </a:lnTo>
                  <a:lnTo>
                    <a:pt x="887" y="178"/>
                  </a:lnTo>
                  <a:lnTo>
                    <a:pt x="887" y="178"/>
                  </a:lnTo>
                  <a:lnTo>
                    <a:pt x="891" y="178"/>
                  </a:lnTo>
                  <a:lnTo>
                    <a:pt x="899" y="182"/>
                  </a:lnTo>
                  <a:lnTo>
                    <a:pt x="903" y="202"/>
                  </a:lnTo>
                  <a:lnTo>
                    <a:pt x="907" y="226"/>
                  </a:lnTo>
                  <a:lnTo>
                    <a:pt x="907" y="242"/>
                  </a:lnTo>
                  <a:lnTo>
                    <a:pt x="911" y="259"/>
                  </a:lnTo>
                  <a:lnTo>
                    <a:pt x="920" y="267"/>
                  </a:lnTo>
                  <a:lnTo>
                    <a:pt x="924" y="267"/>
                  </a:lnTo>
                  <a:lnTo>
                    <a:pt x="928" y="279"/>
                  </a:lnTo>
                  <a:lnTo>
                    <a:pt x="932" y="291"/>
                  </a:lnTo>
                  <a:lnTo>
                    <a:pt x="932" y="299"/>
                  </a:lnTo>
                  <a:lnTo>
                    <a:pt x="944" y="307"/>
                  </a:lnTo>
                  <a:lnTo>
                    <a:pt x="944" y="307"/>
                  </a:lnTo>
                  <a:lnTo>
                    <a:pt x="948" y="303"/>
                  </a:lnTo>
                  <a:lnTo>
                    <a:pt x="952" y="299"/>
                  </a:lnTo>
                  <a:lnTo>
                    <a:pt x="956" y="303"/>
                  </a:lnTo>
                  <a:lnTo>
                    <a:pt x="964" y="295"/>
                  </a:lnTo>
                  <a:lnTo>
                    <a:pt x="968" y="295"/>
                  </a:lnTo>
                  <a:lnTo>
                    <a:pt x="968" y="299"/>
                  </a:lnTo>
                  <a:lnTo>
                    <a:pt x="972" y="307"/>
                  </a:lnTo>
                  <a:lnTo>
                    <a:pt x="976" y="311"/>
                  </a:lnTo>
                  <a:lnTo>
                    <a:pt x="984" y="327"/>
                  </a:lnTo>
                  <a:lnTo>
                    <a:pt x="988" y="340"/>
                  </a:lnTo>
                  <a:lnTo>
                    <a:pt x="988" y="348"/>
                  </a:lnTo>
                  <a:lnTo>
                    <a:pt x="992" y="352"/>
                  </a:lnTo>
                  <a:lnTo>
                    <a:pt x="996" y="344"/>
                  </a:lnTo>
                  <a:lnTo>
                    <a:pt x="1005" y="352"/>
                  </a:lnTo>
                  <a:lnTo>
                    <a:pt x="1009" y="376"/>
                  </a:lnTo>
                  <a:lnTo>
                    <a:pt x="1013" y="376"/>
                  </a:lnTo>
                  <a:lnTo>
                    <a:pt x="1017" y="376"/>
                  </a:lnTo>
                  <a:lnTo>
                    <a:pt x="1025" y="376"/>
                  </a:lnTo>
                  <a:lnTo>
                    <a:pt x="1029" y="380"/>
                  </a:lnTo>
                  <a:lnTo>
                    <a:pt x="1033" y="364"/>
                  </a:lnTo>
                  <a:lnTo>
                    <a:pt x="1037" y="356"/>
                  </a:lnTo>
                  <a:lnTo>
                    <a:pt x="1037" y="364"/>
                  </a:lnTo>
                  <a:lnTo>
                    <a:pt x="1045" y="368"/>
                  </a:lnTo>
                  <a:lnTo>
                    <a:pt x="1049" y="368"/>
                  </a:lnTo>
                  <a:lnTo>
                    <a:pt x="1053" y="368"/>
                  </a:lnTo>
                  <a:lnTo>
                    <a:pt x="1057" y="368"/>
                  </a:lnTo>
                  <a:lnTo>
                    <a:pt x="1057" y="372"/>
                  </a:lnTo>
                  <a:lnTo>
                    <a:pt x="1069" y="380"/>
                  </a:lnTo>
                  <a:lnTo>
                    <a:pt x="1069" y="376"/>
                  </a:lnTo>
                  <a:lnTo>
                    <a:pt x="1073" y="380"/>
                  </a:lnTo>
                  <a:lnTo>
                    <a:pt x="1077" y="372"/>
                  </a:lnTo>
                  <a:lnTo>
                    <a:pt x="1081" y="376"/>
                  </a:lnTo>
                  <a:lnTo>
                    <a:pt x="1090" y="392"/>
                  </a:lnTo>
                  <a:lnTo>
                    <a:pt x="1094" y="400"/>
                  </a:lnTo>
                  <a:lnTo>
                    <a:pt x="1094" y="408"/>
                  </a:lnTo>
                  <a:lnTo>
                    <a:pt x="1098" y="408"/>
                  </a:lnTo>
                  <a:lnTo>
                    <a:pt x="1102" y="408"/>
                  </a:lnTo>
                  <a:lnTo>
                    <a:pt x="1110" y="412"/>
                  </a:lnTo>
                  <a:lnTo>
                    <a:pt x="1114" y="416"/>
                  </a:lnTo>
                  <a:lnTo>
                    <a:pt x="1114" y="412"/>
                  </a:lnTo>
                  <a:lnTo>
                    <a:pt x="1118" y="416"/>
                  </a:lnTo>
                  <a:lnTo>
                    <a:pt x="1122" y="425"/>
                  </a:lnTo>
                  <a:lnTo>
                    <a:pt x="1130" y="441"/>
                  </a:lnTo>
                  <a:lnTo>
                    <a:pt x="1134" y="437"/>
                  </a:lnTo>
                  <a:lnTo>
                    <a:pt x="1138" y="433"/>
                  </a:lnTo>
                  <a:lnTo>
                    <a:pt x="1138" y="420"/>
                  </a:lnTo>
                  <a:lnTo>
                    <a:pt x="1142" y="416"/>
                  </a:lnTo>
                  <a:lnTo>
                    <a:pt x="1150" y="404"/>
                  </a:lnTo>
                  <a:lnTo>
                    <a:pt x="1154" y="396"/>
                  </a:lnTo>
                  <a:lnTo>
                    <a:pt x="1158" y="388"/>
                  </a:lnTo>
                  <a:lnTo>
                    <a:pt x="1162" y="376"/>
                  </a:lnTo>
                  <a:lnTo>
                    <a:pt x="1162" y="364"/>
                  </a:lnTo>
                  <a:lnTo>
                    <a:pt x="1171" y="352"/>
                  </a:lnTo>
                  <a:lnTo>
                    <a:pt x="1175" y="344"/>
                  </a:lnTo>
                  <a:lnTo>
                    <a:pt x="1179" y="340"/>
                  </a:lnTo>
                  <a:lnTo>
                    <a:pt x="1183" y="335"/>
                  </a:lnTo>
                  <a:lnTo>
                    <a:pt x="1183" y="327"/>
                  </a:lnTo>
                  <a:lnTo>
                    <a:pt x="1195" y="331"/>
                  </a:lnTo>
                  <a:lnTo>
                    <a:pt x="1195" y="327"/>
                  </a:lnTo>
                  <a:lnTo>
                    <a:pt x="1199" y="327"/>
                  </a:lnTo>
                  <a:lnTo>
                    <a:pt x="1203" y="327"/>
                  </a:lnTo>
                  <a:lnTo>
                    <a:pt x="1207" y="323"/>
                  </a:lnTo>
                  <a:lnTo>
                    <a:pt x="1215" y="323"/>
                  </a:lnTo>
                  <a:lnTo>
                    <a:pt x="1219" y="327"/>
                  </a:lnTo>
                  <a:lnTo>
                    <a:pt x="1219" y="319"/>
                  </a:lnTo>
                  <a:lnTo>
                    <a:pt x="1223" y="311"/>
                  </a:lnTo>
                  <a:lnTo>
                    <a:pt x="1227" y="307"/>
                  </a:lnTo>
                  <a:lnTo>
                    <a:pt x="1235" y="307"/>
                  </a:lnTo>
                  <a:lnTo>
                    <a:pt x="1239" y="303"/>
                  </a:lnTo>
                  <a:lnTo>
                    <a:pt x="1239" y="291"/>
                  </a:lnTo>
                  <a:lnTo>
                    <a:pt x="1243" y="287"/>
                  </a:lnTo>
                  <a:lnTo>
                    <a:pt x="1248" y="279"/>
                  </a:lnTo>
                  <a:lnTo>
                    <a:pt x="1256" y="275"/>
                  </a:lnTo>
                  <a:lnTo>
                    <a:pt x="1260" y="271"/>
                  </a:lnTo>
                  <a:lnTo>
                    <a:pt x="1264" y="267"/>
                  </a:lnTo>
                  <a:lnTo>
                    <a:pt x="1264" y="263"/>
                  </a:lnTo>
                  <a:lnTo>
                    <a:pt x="1268" y="263"/>
                  </a:lnTo>
                  <a:lnTo>
                    <a:pt x="1276" y="259"/>
                  </a:lnTo>
                  <a:lnTo>
                    <a:pt x="1280" y="255"/>
                  </a:lnTo>
                  <a:lnTo>
                    <a:pt x="1284" y="263"/>
                  </a:lnTo>
                  <a:lnTo>
                    <a:pt x="1288" y="255"/>
                  </a:lnTo>
                  <a:lnTo>
                    <a:pt x="1288" y="246"/>
                  </a:lnTo>
                  <a:lnTo>
                    <a:pt x="1296" y="263"/>
                  </a:lnTo>
                  <a:lnTo>
                    <a:pt x="1300" y="279"/>
                  </a:lnTo>
                  <a:lnTo>
                    <a:pt x="1304" y="275"/>
                  </a:lnTo>
                  <a:lnTo>
                    <a:pt x="1308" y="259"/>
                  </a:lnTo>
                  <a:lnTo>
                    <a:pt x="1308" y="246"/>
                  </a:lnTo>
                  <a:lnTo>
                    <a:pt x="1320" y="242"/>
                  </a:lnTo>
                  <a:lnTo>
                    <a:pt x="1320" y="246"/>
                  </a:lnTo>
                  <a:lnTo>
                    <a:pt x="1324" y="246"/>
                  </a:lnTo>
                  <a:lnTo>
                    <a:pt x="1328" y="242"/>
                  </a:lnTo>
                  <a:lnTo>
                    <a:pt x="1341" y="250"/>
                  </a:lnTo>
                  <a:lnTo>
                    <a:pt x="1345" y="250"/>
                  </a:lnTo>
                  <a:lnTo>
                    <a:pt x="1345" y="250"/>
                  </a:lnTo>
                  <a:lnTo>
                    <a:pt x="1349" y="250"/>
                  </a:lnTo>
                  <a:lnTo>
                    <a:pt x="1353" y="250"/>
                  </a:lnTo>
                  <a:lnTo>
                    <a:pt x="1361" y="259"/>
                  </a:lnTo>
                  <a:lnTo>
                    <a:pt x="1365" y="250"/>
                  </a:lnTo>
                  <a:lnTo>
                    <a:pt x="1365" y="255"/>
                  </a:lnTo>
                  <a:lnTo>
                    <a:pt x="1369" y="259"/>
                  </a:lnTo>
                  <a:lnTo>
                    <a:pt x="1373" y="255"/>
                  </a:lnTo>
                  <a:lnTo>
                    <a:pt x="1381" y="255"/>
                  </a:lnTo>
                  <a:lnTo>
                    <a:pt x="1385" y="250"/>
                  </a:lnTo>
                  <a:lnTo>
                    <a:pt x="1389" y="238"/>
                  </a:lnTo>
                  <a:lnTo>
                    <a:pt x="1401" y="222"/>
                  </a:lnTo>
                  <a:lnTo>
                    <a:pt x="1405" y="210"/>
                  </a:lnTo>
                  <a:lnTo>
                    <a:pt x="1409" y="206"/>
                  </a:lnTo>
                  <a:lnTo>
                    <a:pt x="1414" y="198"/>
                  </a:lnTo>
                  <a:lnTo>
                    <a:pt x="1414" y="194"/>
                  </a:lnTo>
                  <a:lnTo>
                    <a:pt x="1426" y="186"/>
                  </a:lnTo>
                  <a:lnTo>
                    <a:pt x="1426" y="178"/>
                  </a:lnTo>
                  <a:lnTo>
                    <a:pt x="1430" y="174"/>
                  </a:lnTo>
                  <a:lnTo>
                    <a:pt x="1434" y="166"/>
                  </a:lnTo>
                  <a:lnTo>
                    <a:pt x="1434" y="161"/>
                  </a:lnTo>
                  <a:lnTo>
                    <a:pt x="1446" y="153"/>
                  </a:lnTo>
                  <a:lnTo>
                    <a:pt x="1450" y="149"/>
                  </a:lnTo>
                  <a:lnTo>
                    <a:pt x="1454" y="141"/>
                  </a:lnTo>
                  <a:lnTo>
                    <a:pt x="1458" y="129"/>
                  </a:lnTo>
                  <a:lnTo>
                    <a:pt x="1466" y="121"/>
                  </a:lnTo>
                  <a:lnTo>
                    <a:pt x="1470" y="117"/>
                  </a:lnTo>
                  <a:lnTo>
                    <a:pt x="1470" y="113"/>
                  </a:lnTo>
                  <a:lnTo>
                    <a:pt x="1474" y="105"/>
                  </a:lnTo>
                  <a:lnTo>
                    <a:pt x="1478" y="101"/>
                  </a:lnTo>
                  <a:lnTo>
                    <a:pt x="1486" y="85"/>
                  </a:lnTo>
                  <a:lnTo>
                    <a:pt x="1490" y="76"/>
                  </a:lnTo>
                  <a:lnTo>
                    <a:pt x="1490" y="72"/>
                  </a:lnTo>
                  <a:lnTo>
                    <a:pt x="1495" y="76"/>
                  </a:lnTo>
                  <a:lnTo>
                    <a:pt x="1499" y="76"/>
                  </a:lnTo>
                  <a:lnTo>
                    <a:pt x="1507" y="81"/>
                  </a:lnTo>
                  <a:lnTo>
                    <a:pt x="1511" y="76"/>
                  </a:lnTo>
                  <a:lnTo>
                    <a:pt x="1515" y="81"/>
                  </a:lnTo>
                  <a:lnTo>
                    <a:pt x="1519" y="76"/>
                  </a:lnTo>
                  <a:lnTo>
                    <a:pt x="1527" y="89"/>
                  </a:lnTo>
                  <a:lnTo>
                    <a:pt x="1531" y="97"/>
                  </a:lnTo>
                  <a:lnTo>
                    <a:pt x="1535" y="105"/>
                  </a:lnTo>
                  <a:lnTo>
                    <a:pt x="1539" y="109"/>
                  </a:lnTo>
                  <a:lnTo>
                    <a:pt x="1539" y="101"/>
                  </a:lnTo>
                  <a:lnTo>
                    <a:pt x="1551" y="101"/>
                  </a:lnTo>
                  <a:lnTo>
                    <a:pt x="1551" y="109"/>
                  </a:lnTo>
                  <a:lnTo>
                    <a:pt x="1555" y="105"/>
                  </a:lnTo>
                  <a:lnTo>
                    <a:pt x="1559" y="105"/>
                  </a:lnTo>
                  <a:lnTo>
                    <a:pt x="1559" y="105"/>
                  </a:lnTo>
                  <a:lnTo>
                    <a:pt x="1571" y="97"/>
                  </a:lnTo>
                  <a:lnTo>
                    <a:pt x="1571" y="89"/>
                  </a:lnTo>
                  <a:lnTo>
                    <a:pt x="1575" y="101"/>
                  </a:lnTo>
                  <a:lnTo>
                    <a:pt x="1580" y="85"/>
                  </a:lnTo>
                  <a:lnTo>
                    <a:pt x="1584" y="68"/>
                  </a:lnTo>
                  <a:lnTo>
                    <a:pt x="1596" y="68"/>
                  </a:lnTo>
                  <a:lnTo>
                    <a:pt x="1596" y="68"/>
                  </a:lnTo>
                  <a:lnTo>
                    <a:pt x="1600" y="72"/>
                  </a:lnTo>
                  <a:lnTo>
                    <a:pt x="1604" y="72"/>
                  </a:lnTo>
                  <a:lnTo>
                    <a:pt x="1612" y="60"/>
                  </a:lnTo>
                  <a:lnTo>
                    <a:pt x="1616" y="60"/>
                  </a:lnTo>
                  <a:lnTo>
                    <a:pt x="1620" y="64"/>
                  </a:lnTo>
                  <a:lnTo>
                    <a:pt x="1620" y="64"/>
                  </a:lnTo>
                  <a:lnTo>
                    <a:pt x="1624" y="48"/>
                  </a:lnTo>
                  <a:lnTo>
                    <a:pt x="1632" y="48"/>
                  </a:lnTo>
                  <a:lnTo>
                    <a:pt x="1636" y="52"/>
                  </a:lnTo>
                  <a:lnTo>
                    <a:pt x="1640" y="36"/>
                  </a:lnTo>
                  <a:lnTo>
                    <a:pt x="1640" y="24"/>
                  </a:lnTo>
                  <a:lnTo>
                    <a:pt x="1644" y="12"/>
                  </a:lnTo>
                  <a:lnTo>
                    <a:pt x="1652" y="20"/>
                  </a:lnTo>
                  <a:lnTo>
                    <a:pt x="1656" y="20"/>
                  </a:lnTo>
                  <a:lnTo>
                    <a:pt x="1661" y="8"/>
                  </a:lnTo>
                  <a:lnTo>
                    <a:pt x="1665" y="0"/>
                  </a:lnTo>
                  <a:lnTo>
                    <a:pt x="1665" y="8"/>
                  </a:lnTo>
                  <a:lnTo>
                    <a:pt x="1677" y="8"/>
                  </a:lnTo>
                  <a:lnTo>
                    <a:pt x="1677" y="16"/>
                  </a:lnTo>
                  <a:lnTo>
                    <a:pt x="1681" y="20"/>
                  </a:lnTo>
                  <a:lnTo>
                    <a:pt x="1685" y="24"/>
                  </a:lnTo>
                  <a:lnTo>
                    <a:pt x="1685" y="28"/>
                  </a:lnTo>
                  <a:lnTo>
                    <a:pt x="1697" y="40"/>
                  </a:lnTo>
                  <a:lnTo>
                    <a:pt x="1697" y="48"/>
                  </a:lnTo>
                  <a:lnTo>
                    <a:pt x="1701" y="56"/>
                  </a:lnTo>
                  <a:lnTo>
                    <a:pt x="1705" y="68"/>
                  </a:lnTo>
                  <a:lnTo>
                    <a:pt x="1709" y="81"/>
                  </a:lnTo>
                  <a:lnTo>
                    <a:pt x="1717" y="72"/>
                  </a:lnTo>
                  <a:lnTo>
                    <a:pt x="1721" y="76"/>
                  </a:lnTo>
                  <a:lnTo>
                    <a:pt x="1721" y="89"/>
                  </a:lnTo>
                  <a:lnTo>
                    <a:pt x="1725" y="97"/>
                  </a:lnTo>
                  <a:lnTo>
                    <a:pt x="1729" y="85"/>
                  </a:lnTo>
                  <a:lnTo>
                    <a:pt x="1737" y="89"/>
                  </a:lnTo>
                  <a:lnTo>
                    <a:pt x="1741" y="93"/>
                  </a:lnTo>
                  <a:lnTo>
                    <a:pt x="1746" y="93"/>
                  </a:lnTo>
                  <a:lnTo>
                    <a:pt x="1746" y="85"/>
                  </a:lnTo>
                  <a:lnTo>
                    <a:pt x="1750" y="72"/>
                  </a:lnTo>
                  <a:lnTo>
                    <a:pt x="1758" y="76"/>
                  </a:lnTo>
                  <a:lnTo>
                    <a:pt x="1762" y="72"/>
                  </a:lnTo>
                  <a:lnTo>
                    <a:pt x="1766" y="64"/>
                  </a:lnTo>
                  <a:lnTo>
                    <a:pt x="1766" y="60"/>
                  </a:lnTo>
                  <a:lnTo>
                    <a:pt x="1770" y="60"/>
                  </a:lnTo>
                  <a:lnTo>
                    <a:pt x="1782" y="56"/>
                  </a:lnTo>
                  <a:lnTo>
                    <a:pt x="1786" y="64"/>
                  </a:lnTo>
                  <a:lnTo>
                    <a:pt x="1790" y="48"/>
                  </a:lnTo>
                  <a:lnTo>
                    <a:pt x="1790" y="48"/>
                  </a:lnTo>
                  <a:lnTo>
                    <a:pt x="1802" y="48"/>
                  </a:lnTo>
                  <a:lnTo>
                    <a:pt x="1802" y="40"/>
                  </a:lnTo>
                  <a:lnTo>
                    <a:pt x="1806" y="28"/>
                  </a:lnTo>
                  <a:lnTo>
                    <a:pt x="1810" y="24"/>
                  </a:lnTo>
                  <a:lnTo>
                    <a:pt x="1814" y="28"/>
                  </a:lnTo>
                  <a:lnTo>
                    <a:pt x="1822" y="44"/>
                  </a:lnTo>
                  <a:lnTo>
                    <a:pt x="1822" y="36"/>
                  </a:lnTo>
                  <a:lnTo>
                    <a:pt x="1827" y="44"/>
                  </a:lnTo>
                  <a:lnTo>
                    <a:pt x="1831" y="56"/>
                  </a:lnTo>
                  <a:lnTo>
                    <a:pt x="1835" y="56"/>
                  </a:lnTo>
                  <a:lnTo>
                    <a:pt x="1843" y="56"/>
                  </a:lnTo>
                  <a:lnTo>
                    <a:pt x="1847" y="60"/>
                  </a:lnTo>
                  <a:lnTo>
                    <a:pt x="1847" y="64"/>
                  </a:lnTo>
                  <a:lnTo>
                    <a:pt x="1851" y="68"/>
                  </a:lnTo>
                  <a:lnTo>
                    <a:pt x="1855" y="76"/>
                  </a:lnTo>
                  <a:lnTo>
                    <a:pt x="1863" y="76"/>
                  </a:lnTo>
                  <a:lnTo>
                    <a:pt x="1867" y="85"/>
                  </a:lnTo>
                  <a:lnTo>
                    <a:pt x="1871" y="89"/>
                  </a:lnTo>
                  <a:lnTo>
                    <a:pt x="1871" y="101"/>
                  </a:lnTo>
                  <a:lnTo>
                    <a:pt x="1875" y="101"/>
                  </a:lnTo>
                  <a:lnTo>
                    <a:pt x="1883" y="97"/>
                  </a:lnTo>
                  <a:lnTo>
                    <a:pt x="1887" y="93"/>
                  </a:lnTo>
                  <a:lnTo>
                    <a:pt x="1891" y="101"/>
                  </a:lnTo>
                  <a:lnTo>
                    <a:pt x="1891" y="113"/>
                  </a:lnTo>
                  <a:lnTo>
                    <a:pt x="1895" y="121"/>
                  </a:lnTo>
                  <a:lnTo>
                    <a:pt x="1903" y="121"/>
                  </a:lnTo>
                  <a:lnTo>
                    <a:pt x="1908" y="133"/>
                  </a:lnTo>
                  <a:lnTo>
                    <a:pt x="1912" y="137"/>
                  </a:lnTo>
                  <a:lnTo>
                    <a:pt x="1916" y="145"/>
                  </a:lnTo>
                  <a:lnTo>
                    <a:pt x="1916" y="141"/>
                  </a:lnTo>
                  <a:lnTo>
                    <a:pt x="1928" y="149"/>
                  </a:lnTo>
                  <a:lnTo>
                    <a:pt x="1928" y="157"/>
                  </a:lnTo>
                  <a:lnTo>
                    <a:pt x="1932" y="157"/>
                  </a:lnTo>
                  <a:lnTo>
                    <a:pt x="1936" y="153"/>
                  </a:lnTo>
                  <a:lnTo>
                    <a:pt x="1940" y="153"/>
                  </a:lnTo>
                  <a:lnTo>
                    <a:pt x="1948" y="153"/>
                  </a:lnTo>
                  <a:lnTo>
                    <a:pt x="1952" y="149"/>
                  </a:lnTo>
                  <a:lnTo>
                    <a:pt x="1956" y="145"/>
                  </a:lnTo>
                  <a:lnTo>
                    <a:pt x="1960" y="145"/>
                  </a:lnTo>
                  <a:lnTo>
                    <a:pt x="1968" y="133"/>
                  </a:lnTo>
                  <a:lnTo>
                    <a:pt x="1972" y="133"/>
                  </a:lnTo>
                  <a:lnTo>
                    <a:pt x="1972" y="137"/>
                  </a:lnTo>
                  <a:lnTo>
                    <a:pt x="1976" y="129"/>
                  </a:lnTo>
                  <a:lnTo>
                    <a:pt x="1980" y="125"/>
                  </a:lnTo>
                  <a:lnTo>
                    <a:pt x="1988" y="141"/>
                  </a:lnTo>
                  <a:lnTo>
                    <a:pt x="1993" y="145"/>
                  </a:lnTo>
                  <a:lnTo>
                    <a:pt x="1997" y="137"/>
                  </a:lnTo>
                  <a:lnTo>
                    <a:pt x="1997" y="133"/>
                  </a:lnTo>
                  <a:lnTo>
                    <a:pt x="2001" y="149"/>
                  </a:lnTo>
                  <a:lnTo>
                    <a:pt x="2013" y="141"/>
                  </a:lnTo>
                  <a:lnTo>
                    <a:pt x="2017" y="133"/>
                  </a:lnTo>
                  <a:lnTo>
                    <a:pt x="2017" y="133"/>
                  </a:lnTo>
                  <a:lnTo>
                    <a:pt x="2021" y="145"/>
                  </a:lnTo>
                  <a:lnTo>
                    <a:pt x="2029" y="153"/>
                  </a:lnTo>
                  <a:lnTo>
                    <a:pt x="2033" y="153"/>
                  </a:lnTo>
                  <a:lnTo>
                    <a:pt x="2037" y="153"/>
                  </a:lnTo>
                  <a:lnTo>
                    <a:pt x="2041" y="170"/>
                  </a:lnTo>
                  <a:lnTo>
                    <a:pt x="2041" y="178"/>
                  </a:lnTo>
                  <a:lnTo>
                    <a:pt x="2053" y="178"/>
                  </a:lnTo>
                  <a:lnTo>
                    <a:pt x="2053" y="182"/>
                  </a:lnTo>
                  <a:lnTo>
                    <a:pt x="2057" y="182"/>
                  </a:lnTo>
                  <a:lnTo>
                    <a:pt x="2061" y="194"/>
                  </a:lnTo>
                  <a:lnTo>
                    <a:pt x="2065" y="194"/>
                  </a:lnTo>
                  <a:lnTo>
                    <a:pt x="2074" y="186"/>
                  </a:lnTo>
                  <a:lnTo>
                    <a:pt x="2074" y="182"/>
                  </a:lnTo>
                  <a:lnTo>
                    <a:pt x="2078" y="182"/>
                  </a:lnTo>
                  <a:lnTo>
                    <a:pt x="2082" y="166"/>
                  </a:lnTo>
                  <a:lnTo>
                    <a:pt x="2086" y="166"/>
                  </a:lnTo>
                  <a:lnTo>
                    <a:pt x="2094" y="161"/>
                  </a:lnTo>
                  <a:lnTo>
                    <a:pt x="2098" y="149"/>
                  </a:lnTo>
                  <a:lnTo>
                    <a:pt x="2098" y="141"/>
                  </a:lnTo>
                  <a:lnTo>
                    <a:pt x="2102" y="129"/>
                  </a:lnTo>
                  <a:lnTo>
                    <a:pt x="2114" y="129"/>
                  </a:lnTo>
                  <a:lnTo>
                    <a:pt x="2118" y="121"/>
                  </a:lnTo>
                  <a:lnTo>
                    <a:pt x="2122" y="117"/>
                  </a:lnTo>
                  <a:lnTo>
                    <a:pt x="2122" y="105"/>
                  </a:lnTo>
                  <a:lnTo>
                    <a:pt x="2126" y="97"/>
                  </a:lnTo>
                  <a:lnTo>
                    <a:pt x="2134" y="89"/>
                  </a:lnTo>
                  <a:lnTo>
                    <a:pt x="2138" y="85"/>
                  </a:lnTo>
                  <a:lnTo>
                    <a:pt x="2142" y="64"/>
                  </a:lnTo>
                  <a:lnTo>
                    <a:pt x="2142" y="48"/>
                  </a:lnTo>
                  <a:lnTo>
                    <a:pt x="2146" y="32"/>
                  </a:lnTo>
                  <a:lnTo>
                    <a:pt x="2159" y="28"/>
                  </a:lnTo>
                  <a:lnTo>
                    <a:pt x="2163" y="16"/>
                  </a:lnTo>
                  <a:lnTo>
                    <a:pt x="2163" y="675"/>
                  </a:lnTo>
                  <a:lnTo>
                    <a:pt x="2159" y="675"/>
                  </a:lnTo>
                  <a:lnTo>
                    <a:pt x="2146" y="675"/>
                  </a:lnTo>
                  <a:lnTo>
                    <a:pt x="2142" y="675"/>
                  </a:lnTo>
                  <a:lnTo>
                    <a:pt x="2142" y="675"/>
                  </a:lnTo>
                  <a:lnTo>
                    <a:pt x="2138" y="675"/>
                  </a:lnTo>
                  <a:lnTo>
                    <a:pt x="2134" y="675"/>
                  </a:lnTo>
                  <a:lnTo>
                    <a:pt x="2126" y="675"/>
                  </a:lnTo>
                  <a:lnTo>
                    <a:pt x="2122" y="675"/>
                  </a:lnTo>
                  <a:lnTo>
                    <a:pt x="2122" y="675"/>
                  </a:lnTo>
                  <a:lnTo>
                    <a:pt x="2118" y="675"/>
                  </a:lnTo>
                  <a:lnTo>
                    <a:pt x="2114" y="675"/>
                  </a:lnTo>
                  <a:lnTo>
                    <a:pt x="2102" y="675"/>
                  </a:lnTo>
                  <a:lnTo>
                    <a:pt x="2098" y="675"/>
                  </a:lnTo>
                  <a:lnTo>
                    <a:pt x="2098" y="675"/>
                  </a:lnTo>
                  <a:lnTo>
                    <a:pt x="2094" y="675"/>
                  </a:lnTo>
                  <a:lnTo>
                    <a:pt x="2086" y="675"/>
                  </a:lnTo>
                  <a:lnTo>
                    <a:pt x="2082" y="675"/>
                  </a:lnTo>
                  <a:lnTo>
                    <a:pt x="2078" y="675"/>
                  </a:lnTo>
                  <a:lnTo>
                    <a:pt x="2074" y="675"/>
                  </a:lnTo>
                  <a:lnTo>
                    <a:pt x="2074" y="675"/>
                  </a:lnTo>
                  <a:lnTo>
                    <a:pt x="2065" y="675"/>
                  </a:lnTo>
                  <a:lnTo>
                    <a:pt x="2061" y="675"/>
                  </a:lnTo>
                  <a:lnTo>
                    <a:pt x="2057" y="675"/>
                  </a:lnTo>
                  <a:lnTo>
                    <a:pt x="2053" y="675"/>
                  </a:lnTo>
                  <a:lnTo>
                    <a:pt x="2053" y="675"/>
                  </a:lnTo>
                  <a:lnTo>
                    <a:pt x="2041" y="675"/>
                  </a:lnTo>
                  <a:lnTo>
                    <a:pt x="2041" y="675"/>
                  </a:lnTo>
                  <a:lnTo>
                    <a:pt x="2037" y="675"/>
                  </a:lnTo>
                  <a:lnTo>
                    <a:pt x="2033" y="675"/>
                  </a:lnTo>
                  <a:lnTo>
                    <a:pt x="2029" y="675"/>
                  </a:lnTo>
                  <a:lnTo>
                    <a:pt x="2021" y="675"/>
                  </a:lnTo>
                  <a:lnTo>
                    <a:pt x="2017" y="675"/>
                  </a:lnTo>
                  <a:lnTo>
                    <a:pt x="2017" y="675"/>
                  </a:lnTo>
                  <a:lnTo>
                    <a:pt x="2013" y="675"/>
                  </a:lnTo>
                  <a:lnTo>
                    <a:pt x="2001" y="675"/>
                  </a:lnTo>
                  <a:lnTo>
                    <a:pt x="1997" y="675"/>
                  </a:lnTo>
                  <a:lnTo>
                    <a:pt x="1997" y="675"/>
                  </a:lnTo>
                  <a:lnTo>
                    <a:pt x="1993" y="675"/>
                  </a:lnTo>
                  <a:lnTo>
                    <a:pt x="1988" y="675"/>
                  </a:lnTo>
                  <a:lnTo>
                    <a:pt x="1980" y="675"/>
                  </a:lnTo>
                  <a:lnTo>
                    <a:pt x="1976" y="675"/>
                  </a:lnTo>
                  <a:lnTo>
                    <a:pt x="1972" y="675"/>
                  </a:lnTo>
                  <a:lnTo>
                    <a:pt x="1972" y="675"/>
                  </a:lnTo>
                  <a:lnTo>
                    <a:pt x="1968" y="675"/>
                  </a:lnTo>
                  <a:lnTo>
                    <a:pt x="1960" y="675"/>
                  </a:lnTo>
                  <a:lnTo>
                    <a:pt x="1956" y="675"/>
                  </a:lnTo>
                  <a:lnTo>
                    <a:pt x="1952" y="675"/>
                  </a:lnTo>
                  <a:lnTo>
                    <a:pt x="1948" y="675"/>
                  </a:lnTo>
                  <a:lnTo>
                    <a:pt x="1940" y="675"/>
                  </a:lnTo>
                  <a:lnTo>
                    <a:pt x="1936" y="675"/>
                  </a:lnTo>
                  <a:lnTo>
                    <a:pt x="1932" y="675"/>
                  </a:lnTo>
                  <a:lnTo>
                    <a:pt x="1928" y="675"/>
                  </a:lnTo>
                  <a:lnTo>
                    <a:pt x="1928" y="675"/>
                  </a:lnTo>
                  <a:lnTo>
                    <a:pt x="1916" y="675"/>
                  </a:lnTo>
                  <a:lnTo>
                    <a:pt x="1916" y="675"/>
                  </a:lnTo>
                  <a:lnTo>
                    <a:pt x="1912" y="675"/>
                  </a:lnTo>
                  <a:lnTo>
                    <a:pt x="1908" y="675"/>
                  </a:lnTo>
                  <a:lnTo>
                    <a:pt x="1903" y="675"/>
                  </a:lnTo>
                  <a:lnTo>
                    <a:pt x="1895" y="675"/>
                  </a:lnTo>
                  <a:lnTo>
                    <a:pt x="1891" y="675"/>
                  </a:lnTo>
                  <a:lnTo>
                    <a:pt x="1891" y="675"/>
                  </a:lnTo>
                  <a:lnTo>
                    <a:pt x="1887" y="675"/>
                  </a:lnTo>
                  <a:lnTo>
                    <a:pt x="1883" y="675"/>
                  </a:lnTo>
                  <a:lnTo>
                    <a:pt x="1875" y="675"/>
                  </a:lnTo>
                  <a:lnTo>
                    <a:pt x="1871" y="675"/>
                  </a:lnTo>
                  <a:lnTo>
                    <a:pt x="1871" y="675"/>
                  </a:lnTo>
                  <a:lnTo>
                    <a:pt x="1867" y="675"/>
                  </a:lnTo>
                  <a:lnTo>
                    <a:pt x="1863" y="675"/>
                  </a:lnTo>
                  <a:lnTo>
                    <a:pt x="1855" y="675"/>
                  </a:lnTo>
                  <a:lnTo>
                    <a:pt x="1851" y="675"/>
                  </a:lnTo>
                  <a:lnTo>
                    <a:pt x="1847" y="675"/>
                  </a:lnTo>
                  <a:lnTo>
                    <a:pt x="1847" y="675"/>
                  </a:lnTo>
                  <a:lnTo>
                    <a:pt x="1843" y="675"/>
                  </a:lnTo>
                  <a:lnTo>
                    <a:pt x="1835" y="675"/>
                  </a:lnTo>
                  <a:lnTo>
                    <a:pt x="1831" y="675"/>
                  </a:lnTo>
                  <a:lnTo>
                    <a:pt x="1827" y="675"/>
                  </a:lnTo>
                  <a:lnTo>
                    <a:pt x="1822" y="675"/>
                  </a:lnTo>
                  <a:lnTo>
                    <a:pt x="1822" y="675"/>
                  </a:lnTo>
                  <a:lnTo>
                    <a:pt x="1814" y="675"/>
                  </a:lnTo>
                  <a:lnTo>
                    <a:pt x="1810" y="675"/>
                  </a:lnTo>
                  <a:lnTo>
                    <a:pt x="1806" y="675"/>
                  </a:lnTo>
                  <a:lnTo>
                    <a:pt x="1802" y="675"/>
                  </a:lnTo>
                  <a:lnTo>
                    <a:pt x="1802" y="675"/>
                  </a:lnTo>
                  <a:lnTo>
                    <a:pt x="1790" y="675"/>
                  </a:lnTo>
                  <a:lnTo>
                    <a:pt x="1790" y="675"/>
                  </a:lnTo>
                  <a:lnTo>
                    <a:pt x="1786" y="675"/>
                  </a:lnTo>
                  <a:lnTo>
                    <a:pt x="1782" y="675"/>
                  </a:lnTo>
                  <a:lnTo>
                    <a:pt x="1770" y="675"/>
                  </a:lnTo>
                  <a:lnTo>
                    <a:pt x="1766" y="675"/>
                  </a:lnTo>
                  <a:lnTo>
                    <a:pt x="1766" y="675"/>
                  </a:lnTo>
                  <a:lnTo>
                    <a:pt x="1762" y="675"/>
                  </a:lnTo>
                  <a:lnTo>
                    <a:pt x="1758" y="675"/>
                  </a:lnTo>
                  <a:lnTo>
                    <a:pt x="1750" y="675"/>
                  </a:lnTo>
                  <a:lnTo>
                    <a:pt x="1746" y="675"/>
                  </a:lnTo>
                  <a:lnTo>
                    <a:pt x="1746" y="675"/>
                  </a:lnTo>
                  <a:lnTo>
                    <a:pt x="1741" y="675"/>
                  </a:lnTo>
                  <a:lnTo>
                    <a:pt x="1737" y="675"/>
                  </a:lnTo>
                  <a:lnTo>
                    <a:pt x="1729" y="675"/>
                  </a:lnTo>
                  <a:lnTo>
                    <a:pt x="1725" y="675"/>
                  </a:lnTo>
                  <a:lnTo>
                    <a:pt x="1721" y="675"/>
                  </a:lnTo>
                  <a:lnTo>
                    <a:pt x="1721" y="675"/>
                  </a:lnTo>
                  <a:lnTo>
                    <a:pt x="1717" y="675"/>
                  </a:lnTo>
                  <a:lnTo>
                    <a:pt x="1709" y="675"/>
                  </a:lnTo>
                  <a:lnTo>
                    <a:pt x="1705" y="675"/>
                  </a:lnTo>
                  <a:lnTo>
                    <a:pt x="1701" y="675"/>
                  </a:lnTo>
                  <a:lnTo>
                    <a:pt x="1697" y="675"/>
                  </a:lnTo>
                  <a:lnTo>
                    <a:pt x="1697" y="675"/>
                  </a:lnTo>
                  <a:lnTo>
                    <a:pt x="1685" y="675"/>
                  </a:lnTo>
                  <a:lnTo>
                    <a:pt x="1685" y="675"/>
                  </a:lnTo>
                  <a:lnTo>
                    <a:pt x="1681" y="675"/>
                  </a:lnTo>
                  <a:lnTo>
                    <a:pt x="1677" y="675"/>
                  </a:lnTo>
                  <a:lnTo>
                    <a:pt x="1677" y="675"/>
                  </a:lnTo>
                  <a:lnTo>
                    <a:pt x="1665" y="675"/>
                  </a:lnTo>
                  <a:lnTo>
                    <a:pt x="1665" y="675"/>
                  </a:lnTo>
                  <a:lnTo>
                    <a:pt x="1661" y="675"/>
                  </a:lnTo>
                  <a:lnTo>
                    <a:pt x="1656" y="675"/>
                  </a:lnTo>
                  <a:lnTo>
                    <a:pt x="1652" y="675"/>
                  </a:lnTo>
                  <a:lnTo>
                    <a:pt x="1644" y="675"/>
                  </a:lnTo>
                  <a:lnTo>
                    <a:pt x="1640" y="675"/>
                  </a:lnTo>
                  <a:lnTo>
                    <a:pt x="1640" y="675"/>
                  </a:lnTo>
                  <a:lnTo>
                    <a:pt x="1636" y="675"/>
                  </a:lnTo>
                  <a:lnTo>
                    <a:pt x="1632" y="675"/>
                  </a:lnTo>
                  <a:lnTo>
                    <a:pt x="1624" y="675"/>
                  </a:lnTo>
                  <a:lnTo>
                    <a:pt x="1620" y="675"/>
                  </a:lnTo>
                  <a:lnTo>
                    <a:pt x="1620" y="675"/>
                  </a:lnTo>
                  <a:lnTo>
                    <a:pt x="1616" y="675"/>
                  </a:lnTo>
                  <a:lnTo>
                    <a:pt x="1612" y="675"/>
                  </a:lnTo>
                  <a:lnTo>
                    <a:pt x="1604" y="675"/>
                  </a:lnTo>
                  <a:lnTo>
                    <a:pt x="1600" y="675"/>
                  </a:lnTo>
                  <a:lnTo>
                    <a:pt x="1596" y="675"/>
                  </a:lnTo>
                  <a:lnTo>
                    <a:pt x="1596" y="675"/>
                  </a:lnTo>
                  <a:lnTo>
                    <a:pt x="1584" y="675"/>
                  </a:lnTo>
                  <a:lnTo>
                    <a:pt x="1580" y="675"/>
                  </a:lnTo>
                  <a:lnTo>
                    <a:pt x="1575" y="675"/>
                  </a:lnTo>
                  <a:lnTo>
                    <a:pt x="1571" y="675"/>
                  </a:lnTo>
                  <a:lnTo>
                    <a:pt x="1571" y="675"/>
                  </a:lnTo>
                  <a:lnTo>
                    <a:pt x="1559" y="675"/>
                  </a:lnTo>
                  <a:lnTo>
                    <a:pt x="1559" y="675"/>
                  </a:lnTo>
                  <a:lnTo>
                    <a:pt x="1555" y="675"/>
                  </a:lnTo>
                  <a:lnTo>
                    <a:pt x="1551" y="675"/>
                  </a:lnTo>
                  <a:lnTo>
                    <a:pt x="1551" y="675"/>
                  </a:lnTo>
                  <a:lnTo>
                    <a:pt x="1539" y="675"/>
                  </a:lnTo>
                  <a:lnTo>
                    <a:pt x="1539" y="675"/>
                  </a:lnTo>
                  <a:lnTo>
                    <a:pt x="1535" y="675"/>
                  </a:lnTo>
                  <a:lnTo>
                    <a:pt x="1531" y="675"/>
                  </a:lnTo>
                  <a:lnTo>
                    <a:pt x="1527" y="675"/>
                  </a:lnTo>
                  <a:lnTo>
                    <a:pt x="1519" y="675"/>
                  </a:lnTo>
                  <a:lnTo>
                    <a:pt x="1515" y="675"/>
                  </a:lnTo>
                  <a:lnTo>
                    <a:pt x="1511" y="675"/>
                  </a:lnTo>
                  <a:lnTo>
                    <a:pt x="1507" y="675"/>
                  </a:lnTo>
                  <a:lnTo>
                    <a:pt x="1499" y="675"/>
                  </a:lnTo>
                  <a:lnTo>
                    <a:pt x="1495" y="675"/>
                  </a:lnTo>
                  <a:lnTo>
                    <a:pt x="1490" y="675"/>
                  </a:lnTo>
                  <a:lnTo>
                    <a:pt x="1490" y="675"/>
                  </a:lnTo>
                  <a:lnTo>
                    <a:pt x="1486" y="675"/>
                  </a:lnTo>
                  <a:lnTo>
                    <a:pt x="1478" y="675"/>
                  </a:lnTo>
                  <a:lnTo>
                    <a:pt x="1474" y="675"/>
                  </a:lnTo>
                  <a:lnTo>
                    <a:pt x="1470" y="675"/>
                  </a:lnTo>
                  <a:lnTo>
                    <a:pt x="1470" y="675"/>
                  </a:lnTo>
                  <a:lnTo>
                    <a:pt x="1466" y="675"/>
                  </a:lnTo>
                  <a:lnTo>
                    <a:pt x="1458" y="675"/>
                  </a:lnTo>
                  <a:lnTo>
                    <a:pt x="1454" y="675"/>
                  </a:lnTo>
                  <a:lnTo>
                    <a:pt x="1450" y="675"/>
                  </a:lnTo>
                  <a:lnTo>
                    <a:pt x="1446" y="675"/>
                  </a:lnTo>
                  <a:lnTo>
                    <a:pt x="1434" y="675"/>
                  </a:lnTo>
                  <a:lnTo>
                    <a:pt x="1434" y="675"/>
                  </a:lnTo>
                  <a:lnTo>
                    <a:pt x="1430" y="675"/>
                  </a:lnTo>
                  <a:lnTo>
                    <a:pt x="1426" y="675"/>
                  </a:lnTo>
                  <a:lnTo>
                    <a:pt x="1426" y="675"/>
                  </a:lnTo>
                  <a:lnTo>
                    <a:pt x="1414" y="675"/>
                  </a:lnTo>
                  <a:lnTo>
                    <a:pt x="1414" y="675"/>
                  </a:lnTo>
                  <a:lnTo>
                    <a:pt x="1409" y="675"/>
                  </a:lnTo>
                  <a:lnTo>
                    <a:pt x="1405" y="675"/>
                  </a:lnTo>
                  <a:lnTo>
                    <a:pt x="1401" y="675"/>
                  </a:lnTo>
                  <a:lnTo>
                    <a:pt x="1389" y="675"/>
                  </a:lnTo>
                  <a:lnTo>
                    <a:pt x="1385" y="675"/>
                  </a:lnTo>
                  <a:lnTo>
                    <a:pt x="1381" y="675"/>
                  </a:lnTo>
                  <a:lnTo>
                    <a:pt x="1373" y="675"/>
                  </a:lnTo>
                  <a:lnTo>
                    <a:pt x="1369" y="675"/>
                  </a:lnTo>
                  <a:lnTo>
                    <a:pt x="1365" y="675"/>
                  </a:lnTo>
                  <a:lnTo>
                    <a:pt x="1365" y="675"/>
                  </a:lnTo>
                  <a:lnTo>
                    <a:pt x="1361" y="675"/>
                  </a:lnTo>
                  <a:lnTo>
                    <a:pt x="1353" y="675"/>
                  </a:lnTo>
                  <a:lnTo>
                    <a:pt x="1349" y="675"/>
                  </a:lnTo>
                  <a:lnTo>
                    <a:pt x="1345" y="675"/>
                  </a:lnTo>
                  <a:lnTo>
                    <a:pt x="1345" y="675"/>
                  </a:lnTo>
                  <a:lnTo>
                    <a:pt x="1341" y="675"/>
                  </a:lnTo>
                  <a:lnTo>
                    <a:pt x="1328" y="675"/>
                  </a:lnTo>
                  <a:lnTo>
                    <a:pt x="1324" y="675"/>
                  </a:lnTo>
                  <a:lnTo>
                    <a:pt x="1320" y="675"/>
                  </a:lnTo>
                  <a:lnTo>
                    <a:pt x="1320" y="675"/>
                  </a:lnTo>
                  <a:lnTo>
                    <a:pt x="1308" y="675"/>
                  </a:lnTo>
                  <a:lnTo>
                    <a:pt x="1308" y="675"/>
                  </a:lnTo>
                  <a:lnTo>
                    <a:pt x="1304" y="675"/>
                  </a:lnTo>
                  <a:lnTo>
                    <a:pt x="1300" y="675"/>
                  </a:lnTo>
                  <a:lnTo>
                    <a:pt x="1296" y="675"/>
                  </a:lnTo>
                  <a:lnTo>
                    <a:pt x="1288" y="675"/>
                  </a:lnTo>
                  <a:lnTo>
                    <a:pt x="1288" y="675"/>
                  </a:lnTo>
                  <a:lnTo>
                    <a:pt x="1284" y="675"/>
                  </a:lnTo>
                  <a:lnTo>
                    <a:pt x="1280" y="675"/>
                  </a:lnTo>
                  <a:lnTo>
                    <a:pt x="1276" y="675"/>
                  </a:lnTo>
                  <a:lnTo>
                    <a:pt x="1268" y="675"/>
                  </a:lnTo>
                  <a:lnTo>
                    <a:pt x="1264" y="675"/>
                  </a:lnTo>
                  <a:lnTo>
                    <a:pt x="1264" y="675"/>
                  </a:lnTo>
                  <a:lnTo>
                    <a:pt x="1260" y="675"/>
                  </a:lnTo>
                  <a:lnTo>
                    <a:pt x="1256" y="675"/>
                  </a:lnTo>
                  <a:lnTo>
                    <a:pt x="1248" y="675"/>
                  </a:lnTo>
                  <a:lnTo>
                    <a:pt x="1243" y="675"/>
                  </a:lnTo>
                  <a:lnTo>
                    <a:pt x="1239" y="675"/>
                  </a:lnTo>
                  <a:lnTo>
                    <a:pt x="1239" y="675"/>
                  </a:lnTo>
                  <a:lnTo>
                    <a:pt x="1235" y="675"/>
                  </a:lnTo>
                  <a:lnTo>
                    <a:pt x="1227" y="675"/>
                  </a:lnTo>
                  <a:lnTo>
                    <a:pt x="1223" y="675"/>
                  </a:lnTo>
                  <a:lnTo>
                    <a:pt x="1219" y="675"/>
                  </a:lnTo>
                  <a:lnTo>
                    <a:pt x="1219" y="675"/>
                  </a:lnTo>
                  <a:lnTo>
                    <a:pt x="1215" y="675"/>
                  </a:lnTo>
                  <a:lnTo>
                    <a:pt x="1207" y="675"/>
                  </a:lnTo>
                  <a:lnTo>
                    <a:pt x="1203" y="675"/>
                  </a:lnTo>
                  <a:lnTo>
                    <a:pt x="1199" y="675"/>
                  </a:lnTo>
                  <a:lnTo>
                    <a:pt x="1195" y="675"/>
                  </a:lnTo>
                  <a:lnTo>
                    <a:pt x="1195" y="675"/>
                  </a:lnTo>
                  <a:lnTo>
                    <a:pt x="1183" y="675"/>
                  </a:lnTo>
                  <a:lnTo>
                    <a:pt x="1183" y="675"/>
                  </a:lnTo>
                  <a:lnTo>
                    <a:pt x="1179" y="675"/>
                  </a:lnTo>
                  <a:lnTo>
                    <a:pt x="1175" y="675"/>
                  </a:lnTo>
                  <a:lnTo>
                    <a:pt x="1171" y="675"/>
                  </a:lnTo>
                  <a:lnTo>
                    <a:pt x="1162" y="675"/>
                  </a:lnTo>
                  <a:lnTo>
                    <a:pt x="1162" y="675"/>
                  </a:lnTo>
                  <a:lnTo>
                    <a:pt x="1158" y="675"/>
                  </a:lnTo>
                  <a:lnTo>
                    <a:pt x="1154" y="675"/>
                  </a:lnTo>
                  <a:lnTo>
                    <a:pt x="1150" y="675"/>
                  </a:lnTo>
                  <a:lnTo>
                    <a:pt x="1142" y="675"/>
                  </a:lnTo>
                  <a:lnTo>
                    <a:pt x="1138" y="675"/>
                  </a:lnTo>
                  <a:lnTo>
                    <a:pt x="1138" y="675"/>
                  </a:lnTo>
                  <a:lnTo>
                    <a:pt x="1134" y="675"/>
                  </a:lnTo>
                  <a:lnTo>
                    <a:pt x="1130" y="675"/>
                  </a:lnTo>
                  <a:lnTo>
                    <a:pt x="1122" y="675"/>
                  </a:lnTo>
                  <a:lnTo>
                    <a:pt x="1118" y="675"/>
                  </a:lnTo>
                  <a:lnTo>
                    <a:pt x="1114" y="675"/>
                  </a:lnTo>
                  <a:lnTo>
                    <a:pt x="1114" y="675"/>
                  </a:lnTo>
                  <a:lnTo>
                    <a:pt x="1110" y="675"/>
                  </a:lnTo>
                  <a:lnTo>
                    <a:pt x="1102" y="675"/>
                  </a:lnTo>
                  <a:lnTo>
                    <a:pt x="1098" y="675"/>
                  </a:lnTo>
                  <a:lnTo>
                    <a:pt x="1094" y="675"/>
                  </a:lnTo>
                  <a:lnTo>
                    <a:pt x="1094" y="675"/>
                  </a:lnTo>
                  <a:lnTo>
                    <a:pt x="1090" y="675"/>
                  </a:lnTo>
                  <a:lnTo>
                    <a:pt x="1081" y="675"/>
                  </a:lnTo>
                  <a:lnTo>
                    <a:pt x="1077" y="675"/>
                  </a:lnTo>
                  <a:lnTo>
                    <a:pt x="1073" y="675"/>
                  </a:lnTo>
                  <a:lnTo>
                    <a:pt x="1069" y="675"/>
                  </a:lnTo>
                  <a:lnTo>
                    <a:pt x="1069" y="675"/>
                  </a:lnTo>
                  <a:lnTo>
                    <a:pt x="1057" y="675"/>
                  </a:lnTo>
                  <a:lnTo>
                    <a:pt x="1057" y="675"/>
                  </a:lnTo>
                  <a:lnTo>
                    <a:pt x="1053" y="675"/>
                  </a:lnTo>
                  <a:lnTo>
                    <a:pt x="1049" y="675"/>
                  </a:lnTo>
                  <a:lnTo>
                    <a:pt x="1045" y="675"/>
                  </a:lnTo>
                  <a:lnTo>
                    <a:pt x="1037" y="675"/>
                  </a:lnTo>
                  <a:lnTo>
                    <a:pt x="1037" y="675"/>
                  </a:lnTo>
                  <a:lnTo>
                    <a:pt x="1033" y="675"/>
                  </a:lnTo>
                  <a:lnTo>
                    <a:pt x="1029" y="675"/>
                  </a:lnTo>
                  <a:lnTo>
                    <a:pt x="1025" y="675"/>
                  </a:lnTo>
                  <a:lnTo>
                    <a:pt x="1017" y="675"/>
                  </a:lnTo>
                  <a:lnTo>
                    <a:pt x="1013" y="675"/>
                  </a:lnTo>
                  <a:lnTo>
                    <a:pt x="1009" y="675"/>
                  </a:lnTo>
                  <a:lnTo>
                    <a:pt x="1005" y="675"/>
                  </a:lnTo>
                  <a:lnTo>
                    <a:pt x="996" y="675"/>
                  </a:lnTo>
                  <a:lnTo>
                    <a:pt x="992" y="675"/>
                  </a:lnTo>
                  <a:lnTo>
                    <a:pt x="988" y="675"/>
                  </a:lnTo>
                  <a:lnTo>
                    <a:pt x="988" y="675"/>
                  </a:lnTo>
                  <a:lnTo>
                    <a:pt x="984" y="675"/>
                  </a:lnTo>
                  <a:lnTo>
                    <a:pt x="976" y="675"/>
                  </a:lnTo>
                  <a:lnTo>
                    <a:pt x="972" y="675"/>
                  </a:lnTo>
                  <a:lnTo>
                    <a:pt x="968" y="675"/>
                  </a:lnTo>
                  <a:lnTo>
                    <a:pt x="968" y="675"/>
                  </a:lnTo>
                  <a:lnTo>
                    <a:pt x="964" y="675"/>
                  </a:lnTo>
                  <a:lnTo>
                    <a:pt x="956" y="675"/>
                  </a:lnTo>
                  <a:lnTo>
                    <a:pt x="952" y="675"/>
                  </a:lnTo>
                  <a:lnTo>
                    <a:pt x="948" y="675"/>
                  </a:lnTo>
                  <a:lnTo>
                    <a:pt x="944" y="675"/>
                  </a:lnTo>
                  <a:lnTo>
                    <a:pt x="944" y="675"/>
                  </a:lnTo>
                  <a:lnTo>
                    <a:pt x="932" y="675"/>
                  </a:lnTo>
                  <a:lnTo>
                    <a:pt x="932" y="675"/>
                  </a:lnTo>
                  <a:lnTo>
                    <a:pt x="928" y="675"/>
                  </a:lnTo>
                  <a:lnTo>
                    <a:pt x="924" y="675"/>
                  </a:lnTo>
                  <a:lnTo>
                    <a:pt x="920" y="675"/>
                  </a:lnTo>
                  <a:lnTo>
                    <a:pt x="911" y="675"/>
                  </a:lnTo>
                  <a:lnTo>
                    <a:pt x="907" y="675"/>
                  </a:lnTo>
                  <a:lnTo>
                    <a:pt x="907" y="675"/>
                  </a:lnTo>
                  <a:lnTo>
                    <a:pt x="903" y="675"/>
                  </a:lnTo>
                  <a:lnTo>
                    <a:pt x="899" y="675"/>
                  </a:lnTo>
                  <a:lnTo>
                    <a:pt x="891" y="675"/>
                  </a:lnTo>
                  <a:lnTo>
                    <a:pt x="887" y="675"/>
                  </a:lnTo>
                  <a:lnTo>
                    <a:pt x="887" y="675"/>
                  </a:lnTo>
                  <a:lnTo>
                    <a:pt x="883" y="675"/>
                  </a:lnTo>
                  <a:lnTo>
                    <a:pt x="879" y="675"/>
                  </a:lnTo>
                  <a:lnTo>
                    <a:pt x="871" y="675"/>
                  </a:lnTo>
                  <a:lnTo>
                    <a:pt x="867" y="675"/>
                  </a:lnTo>
                  <a:lnTo>
                    <a:pt x="863" y="675"/>
                  </a:lnTo>
                  <a:lnTo>
                    <a:pt x="863" y="675"/>
                  </a:lnTo>
                  <a:lnTo>
                    <a:pt x="859" y="675"/>
                  </a:lnTo>
                  <a:lnTo>
                    <a:pt x="851" y="675"/>
                  </a:lnTo>
                  <a:lnTo>
                    <a:pt x="847" y="675"/>
                  </a:lnTo>
                  <a:lnTo>
                    <a:pt x="843" y="675"/>
                  </a:lnTo>
                  <a:lnTo>
                    <a:pt x="843" y="675"/>
                  </a:lnTo>
                  <a:lnTo>
                    <a:pt x="830" y="675"/>
                  </a:lnTo>
                  <a:lnTo>
                    <a:pt x="826" y="675"/>
                  </a:lnTo>
                  <a:lnTo>
                    <a:pt x="822" y="675"/>
                  </a:lnTo>
                  <a:lnTo>
                    <a:pt x="818" y="675"/>
                  </a:lnTo>
                  <a:lnTo>
                    <a:pt x="818" y="675"/>
                  </a:lnTo>
                  <a:lnTo>
                    <a:pt x="806" y="675"/>
                  </a:lnTo>
                  <a:lnTo>
                    <a:pt x="806" y="675"/>
                  </a:lnTo>
                  <a:lnTo>
                    <a:pt x="802" y="675"/>
                  </a:lnTo>
                  <a:lnTo>
                    <a:pt x="798" y="675"/>
                  </a:lnTo>
                  <a:lnTo>
                    <a:pt x="794" y="675"/>
                  </a:lnTo>
                  <a:lnTo>
                    <a:pt x="786" y="675"/>
                  </a:lnTo>
                  <a:lnTo>
                    <a:pt x="782" y="675"/>
                  </a:lnTo>
                  <a:lnTo>
                    <a:pt x="782" y="675"/>
                  </a:lnTo>
                  <a:lnTo>
                    <a:pt x="778" y="675"/>
                  </a:lnTo>
                  <a:lnTo>
                    <a:pt x="774" y="675"/>
                  </a:lnTo>
                  <a:lnTo>
                    <a:pt x="766" y="675"/>
                  </a:lnTo>
                  <a:lnTo>
                    <a:pt x="762" y="675"/>
                  </a:lnTo>
                  <a:lnTo>
                    <a:pt x="762" y="675"/>
                  </a:lnTo>
                  <a:lnTo>
                    <a:pt x="758" y="675"/>
                  </a:lnTo>
                  <a:lnTo>
                    <a:pt x="754" y="675"/>
                  </a:lnTo>
                  <a:lnTo>
                    <a:pt x="745" y="675"/>
                  </a:lnTo>
                  <a:lnTo>
                    <a:pt x="741" y="675"/>
                  </a:lnTo>
                  <a:lnTo>
                    <a:pt x="737" y="675"/>
                  </a:lnTo>
                  <a:lnTo>
                    <a:pt x="737" y="675"/>
                  </a:lnTo>
                  <a:lnTo>
                    <a:pt x="733" y="675"/>
                  </a:lnTo>
                  <a:lnTo>
                    <a:pt x="725" y="675"/>
                  </a:lnTo>
                  <a:lnTo>
                    <a:pt x="721" y="675"/>
                  </a:lnTo>
                  <a:lnTo>
                    <a:pt x="717" y="675"/>
                  </a:lnTo>
                  <a:lnTo>
                    <a:pt x="713" y="675"/>
                  </a:lnTo>
                  <a:lnTo>
                    <a:pt x="713" y="675"/>
                  </a:lnTo>
                  <a:lnTo>
                    <a:pt x="705" y="675"/>
                  </a:lnTo>
                  <a:lnTo>
                    <a:pt x="701" y="675"/>
                  </a:lnTo>
                  <a:lnTo>
                    <a:pt x="697" y="675"/>
                  </a:lnTo>
                  <a:lnTo>
                    <a:pt x="693" y="675"/>
                  </a:lnTo>
                  <a:lnTo>
                    <a:pt x="693" y="675"/>
                  </a:lnTo>
                  <a:lnTo>
                    <a:pt x="681" y="675"/>
                  </a:lnTo>
                  <a:lnTo>
                    <a:pt x="681" y="675"/>
                  </a:lnTo>
                  <a:lnTo>
                    <a:pt x="677" y="675"/>
                  </a:lnTo>
                  <a:lnTo>
                    <a:pt x="673" y="675"/>
                  </a:lnTo>
                  <a:lnTo>
                    <a:pt x="660" y="675"/>
                  </a:lnTo>
                  <a:lnTo>
                    <a:pt x="656" y="675"/>
                  </a:lnTo>
                  <a:lnTo>
                    <a:pt x="656" y="675"/>
                  </a:lnTo>
                  <a:lnTo>
                    <a:pt x="652" y="675"/>
                  </a:lnTo>
                  <a:lnTo>
                    <a:pt x="648" y="675"/>
                  </a:lnTo>
                  <a:lnTo>
                    <a:pt x="640" y="675"/>
                  </a:lnTo>
                  <a:lnTo>
                    <a:pt x="636" y="675"/>
                  </a:lnTo>
                  <a:lnTo>
                    <a:pt x="636" y="675"/>
                  </a:lnTo>
                  <a:lnTo>
                    <a:pt x="632" y="675"/>
                  </a:lnTo>
                  <a:lnTo>
                    <a:pt x="628" y="675"/>
                  </a:lnTo>
                  <a:lnTo>
                    <a:pt x="620" y="675"/>
                  </a:lnTo>
                  <a:lnTo>
                    <a:pt x="616" y="675"/>
                  </a:lnTo>
                  <a:lnTo>
                    <a:pt x="612" y="675"/>
                  </a:lnTo>
                  <a:lnTo>
                    <a:pt x="612" y="675"/>
                  </a:lnTo>
                  <a:lnTo>
                    <a:pt x="608" y="675"/>
                  </a:lnTo>
                  <a:lnTo>
                    <a:pt x="600" y="675"/>
                  </a:lnTo>
                  <a:lnTo>
                    <a:pt x="596" y="675"/>
                  </a:lnTo>
                  <a:lnTo>
                    <a:pt x="592" y="675"/>
                  </a:lnTo>
                  <a:lnTo>
                    <a:pt x="588" y="675"/>
                  </a:lnTo>
                  <a:lnTo>
                    <a:pt x="588" y="675"/>
                  </a:lnTo>
                  <a:lnTo>
                    <a:pt x="579" y="675"/>
                  </a:lnTo>
                  <a:lnTo>
                    <a:pt x="575" y="675"/>
                  </a:lnTo>
                  <a:lnTo>
                    <a:pt x="571" y="675"/>
                  </a:lnTo>
                  <a:lnTo>
                    <a:pt x="567" y="675"/>
                  </a:lnTo>
                  <a:lnTo>
                    <a:pt x="567" y="675"/>
                  </a:lnTo>
                  <a:lnTo>
                    <a:pt x="555" y="675"/>
                  </a:lnTo>
                  <a:lnTo>
                    <a:pt x="555" y="675"/>
                  </a:lnTo>
                  <a:lnTo>
                    <a:pt x="551" y="675"/>
                  </a:lnTo>
                  <a:lnTo>
                    <a:pt x="547" y="675"/>
                  </a:lnTo>
                  <a:lnTo>
                    <a:pt x="543" y="675"/>
                  </a:lnTo>
                  <a:lnTo>
                    <a:pt x="535" y="675"/>
                  </a:lnTo>
                  <a:lnTo>
                    <a:pt x="531" y="675"/>
                  </a:lnTo>
                  <a:lnTo>
                    <a:pt x="531" y="675"/>
                  </a:lnTo>
                  <a:lnTo>
                    <a:pt x="527" y="675"/>
                  </a:lnTo>
                  <a:lnTo>
                    <a:pt x="523" y="675"/>
                  </a:lnTo>
                  <a:lnTo>
                    <a:pt x="515" y="675"/>
                  </a:lnTo>
                  <a:lnTo>
                    <a:pt x="511" y="675"/>
                  </a:lnTo>
                  <a:lnTo>
                    <a:pt x="511" y="675"/>
                  </a:lnTo>
                  <a:lnTo>
                    <a:pt x="507" y="675"/>
                  </a:lnTo>
                  <a:lnTo>
                    <a:pt x="494" y="675"/>
                  </a:lnTo>
                  <a:lnTo>
                    <a:pt x="490" y="675"/>
                  </a:lnTo>
                  <a:lnTo>
                    <a:pt x="486" y="675"/>
                  </a:lnTo>
                  <a:lnTo>
                    <a:pt x="486" y="675"/>
                  </a:lnTo>
                  <a:lnTo>
                    <a:pt x="482" y="675"/>
                  </a:lnTo>
                  <a:lnTo>
                    <a:pt x="474" y="675"/>
                  </a:lnTo>
                  <a:lnTo>
                    <a:pt x="470" y="675"/>
                  </a:lnTo>
                  <a:lnTo>
                    <a:pt x="466" y="675"/>
                  </a:lnTo>
                  <a:lnTo>
                    <a:pt x="462" y="675"/>
                  </a:lnTo>
                  <a:lnTo>
                    <a:pt x="462" y="675"/>
                  </a:lnTo>
                  <a:lnTo>
                    <a:pt x="454" y="675"/>
                  </a:lnTo>
                  <a:lnTo>
                    <a:pt x="450" y="675"/>
                  </a:lnTo>
                  <a:lnTo>
                    <a:pt x="446" y="675"/>
                  </a:lnTo>
                  <a:lnTo>
                    <a:pt x="442" y="675"/>
                  </a:lnTo>
                  <a:lnTo>
                    <a:pt x="442" y="675"/>
                  </a:lnTo>
                  <a:lnTo>
                    <a:pt x="430" y="675"/>
                  </a:lnTo>
                  <a:lnTo>
                    <a:pt x="430" y="675"/>
                  </a:lnTo>
                  <a:lnTo>
                    <a:pt x="422" y="675"/>
                  </a:lnTo>
                  <a:lnTo>
                    <a:pt x="417" y="675"/>
                  </a:lnTo>
                  <a:lnTo>
                    <a:pt x="409" y="675"/>
                  </a:lnTo>
                  <a:lnTo>
                    <a:pt x="405" y="675"/>
                  </a:lnTo>
                  <a:lnTo>
                    <a:pt x="405" y="675"/>
                  </a:lnTo>
                  <a:lnTo>
                    <a:pt x="401" y="675"/>
                  </a:lnTo>
                  <a:lnTo>
                    <a:pt x="397" y="675"/>
                  </a:lnTo>
                  <a:lnTo>
                    <a:pt x="389" y="675"/>
                  </a:lnTo>
                  <a:lnTo>
                    <a:pt x="385" y="675"/>
                  </a:lnTo>
                  <a:lnTo>
                    <a:pt x="385" y="675"/>
                  </a:lnTo>
                  <a:lnTo>
                    <a:pt x="381" y="675"/>
                  </a:lnTo>
                  <a:lnTo>
                    <a:pt x="377" y="675"/>
                  </a:lnTo>
                  <a:lnTo>
                    <a:pt x="369" y="675"/>
                  </a:lnTo>
                  <a:lnTo>
                    <a:pt x="365" y="675"/>
                  </a:lnTo>
                  <a:lnTo>
                    <a:pt x="361" y="675"/>
                  </a:lnTo>
                  <a:lnTo>
                    <a:pt x="361" y="675"/>
                  </a:lnTo>
                  <a:lnTo>
                    <a:pt x="357" y="675"/>
                  </a:lnTo>
                  <a:lnTo>
                    <a:pt x="349" y="675"/>
                  </a:lnTo>
                  <a:lnTo>
                    <a:pt x="345" y="675"/>
                  </a:lnTo>
                  <a:lnTo>
                    <a:pt x="341" y="675"/>
                  </a:lnTo>
                  <a:lnTo>
                    <a:pt x="336" y="675"/>
                  </a:lnTo>
                  <a:lnTo>
                    <a:pt x="336" y="675"/>
                  </a:lnTo>
                  <a:lnTo>
                    <a:pt x="324" y="675"/>
                  </a:lnTo>
                  <a:lnTo>
                    <a:pt x="324" y="675"/>
                  </a:lnTo>
                  <a:lnTo>
                    <a:pt x="320" y="675"/>
                  </a:lnTo>
                  <a:lnTo>
                    <a:pt x="316" y="675"/>
                  </a:lnTo>
                  <a:lnTo>
                    <a:pt x="316" y="675"/>
                  </a:lnTo>
                  <a:lnTo>
                    <a:pt x="304" y="675"/>
                  </a:lnTo>
                  <a:lnTo>
                    <a:pt x="304" y="675"/>
                  </a:lnTo>
                  <a:lnTo>
                    <a:pt x="300" y="675"/>
                  </a:lnTo>
                  <a:lnTo>
                    <a:pt x="296" y="675"/>
                  </a:lnTo>
                  <a:lnTo>
                    <a:pt x="292" y="675"/>
                  </a:lnTo>
                  <a:lnTo>
                    <a:pt x="284" y="675"/>
                  </a:lnTo>
                  <a:lnTo>
                    <a:pt x="280" y="675"/>
                  </a:lnTo>
                  <a:lnTo>
                    <a:pt x="280" y="675"/>
                  </a:lnTo>
                  <a:lnTo>
                    <a:pt x="276" y="675"/>
                  </a:lnTo>
                  <a:lnTo>
                    <a:pt x="272" y="675"/>
                  </a:lnTo>
                  <a:lnTo>
                    <a:pt x="264" y="675"/>
                  </a:lnTo>
                  <a:lnTo>
                    <a:pt x="260" y="675"/>
                  </a:lnTo>
                  <a:lnTo>
                    <a:pt x="260" y="675"/>
                  </a:lnTo>
                  <a:lnTo>
                    <a:pt x="255" y="675"/>
                  </a:lnTo>
                  <a:lnTo>
                    <a:pt x="251" y="675"/>
                  </a:lnTo>
                  <a:lnTo>
                    <a:pt x="235" y="675"/>
                  </a:lnTo>
                  <a:lnTo>
                    <a:pt x="235" y="675"/>
                  </a:lnTo>
                  <a:lnTo>
                    <a:pt x="231" y="675"/>
                  </a:lnTo>
                  <a:lnTo>
                    <a:pt x="223" y="675"/>
                  </a:lnTo>
                  <a:lnTo>
                    <a:pt x="219" y="675"/>
                  </a:lnTo>
                  <a:lnTo>
                    <a:pt x="215" y="675"/>
                  </a:lnTo>
                  <a:lnTo>
                    <a:pt x="211" y="675"/>
                  </a:lnTo>
                  <a:lnTo>
                    <a:pt x="211" y="675"/>
                  </a:lnTo>
                  <a:lnTo>
                    <a:pt x="199" y="675"/>
                  </a:lnTo>
                  <a:lnTo>
                    <a:pt x="199" y="675"/>
                  </a:lnTo>
                  <a:lnTo>
                    <a:pt x="195" y="675"/>
                  </a:lnTo>
                  <a:lnTo>
                    <a:pt x="191" y="675"/>
                  </a:lnTo>
                  <a:lnTo>
                    <a:pt x="191" y="675"/>
                  </a:lnTo>
                  <a:lnTo>
                    <a:pt x="179" y="675"/>
                  </a:lnTo>
                  <a:lnTo>
                    <a:pt x="179" y="675"/>
                  </a:lnTo>
                  <a:lnTo>
                    <a:pt x="175" y="675"/>
                  </a:lnTo>
                  <a:lnTo>
                    <a:pt x="170" y="675"/>
                  </a:lnTo>
                  <a:lnTo>
                    <a:pt x="166" y="675"/>
                  </a:lnTo>
                  <a:lnTo>
                    <a:pt x="158" y="675"/>
                  </a:lnTo>
                  <a:lnTo>
                    <a:pt x="154" y="675"/>
                  </a:lnTo>
                  <a:lnTo>
                    <a:pt x="154" y="675"/>
                  </a:lnTo>
                  <a:lnTo>
                    <a:pt x="150" y="675"/>
                  </a:lnTo>
                  <a:lnTo>
                    <a:pt x="146" y="675"/>
                  </a:lnTo>
                  <a:lnTo>
                    <a:pt x="138" y="675"/>
                  </a:lnTo>
                  <a:lnTo>
                    <a:pt x="134" y="675"/>
                  </a:lnTo>
                  <a:lnTo>
                    <a:pt x="130" y="675"/>
                  </a:lnTo>
                  <a:lnTo>
                    <a:pt x="130" y="675"/>
                  </a:lnTo>
                  <a:lnTo>
                    <a:pt x="126" y="675"/>
                  </a:lnTo>
                  <a:lnTo>
                    <a:pt x="118" y="675"/>
                  </a:lnTo>
                  <a:lnTo>
                    <a:pt x="114" y="675"/>
                  </a:lnTo>
                  <a:lnTo>
                    <a:pt x="110" y="675"/>
                  </a:lnTo>
                  <a:lnTo>
                    <a:pt x="110" y="675"/>
                  </a:lnTo>
                  <a:lnTo>
                    <a:pt x="106" y="675"/>
                  </a:lnTo>
                  <a:lnTo>
                    <a:pt x="98" y="675"/>
                  </a:lnTo>
                  <a:lnTo>
                    <a:pt x="94" y="675"/>
                  </a:lnTo>
                  <a:lnTo>
                    <a:pt x="89" y="675"/>
                  </a:lnTo>
                  <a:lnTo>
                    <a:pt x="85" y="675"/>
                  </a:lnTo>
                  <a:lnTo>
                    <a:pt x="85" y="675"/>
                  </a:lnTo>
                  <a:lnTo>
                    <a:pt x="73" y="675"/>
                  </a:lnTo>
                  <a:lnTo>
                    <a:pt x="73" y="675"/>
                  </a:lnTo>
                  <a:lnTo>
                    <a:pt x="69" y="675"/>
                  </a:lnTo>
                  <a:lnTo>
                    <a:pt x="65" y="675"/>
                  </a:lnTo>
                  <a:lnTo>
                    <a:pt x="65" y="675"/>
                  </a:lnTo>
                  <a:lnTo>
                    <a:pt x="53" y="675"/>
                  </a:lnTo>
                  <a:lnTo>
                    <a:pt x="53" y="675"/>
                  </a:lnTo>
                  <a:lnTo>
                    <a:pt x="49" y="675"/>
                  </a:lnTo>
                  <a:lnTo>
                    <a:pt x="45" y="675"/>
                  </a:lnTo>
                  <a:lnTo>
                    <a:pt x="41" y="675"/>
                  </a:lnTo>
                  <a:lnTo>
                    <a:pt x="33" y="675"/>
                  </a:lnTo>
                  <a:lnTo>
                    <a:pt x="29" y="675"/>
                  </a:lnTo>
                  <a:lnTo>
                    <a:pt x="29" y="675"/>
                  </a:lnTo>
                  <a:lnTo>
                    <a:pt x="25" y="675"/>
                  </a:lnTo>
                  <a:lnTo>
                    <a:pt x="21" y="675"/>
                  </a:lnTo>
                  <a:lnTo>
                    <a:pt x="13" y="675"/>
                  </a:lnTo>
                  <a:lnTo>
                    <a:pt x="9" y="675"/>
                  </a:lnTo>
                  <a:lnTo>
                    <a:pt x="4" y="675"/>
                  </a:lnTo>
                  <a:lnTo>
                    <a:pt x="4" y="675"/>
                  </a:lnTo>
                  <a:lnTo>
                    <a:pt x="0" y="67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8120" y="4057560"/>
              <a:ext cx="3434040" cy="1536840"/>
            </a:xfrm>
            <a:custGeom>
              <a:avLst/>
              <a:gdLst/>
              <a:ahLst/>
              <a:rect l="l" t="t" r="r" b="b"/>
              <a:pathLst>
                <a:path w="2163" h="968">
                  <a:moveTo>
                    <a:pt x="0" y="81"/>
                  </a:moveTo>
                  <a:lnTo>
                    <a:pt x="0" y="126"/>
                  </a:lnTo>
                  <a:lnTo>
                    <a:pt x="4" y="126"/>
                  </a:lnTo>
                  <a:lnTo>
                    <a:pt x="4" y="158"/>
                  </a:lnTo>
                  <a:lnTo>
                    <a:pt x="9" y="166"/>
                  </a:lnTo>
                  <a:lnTo>
                    <a:pt x="13" y="191"/>
                  </a:lnTo>
                  <a:lnTo>
                    <a:pt x="21" y="239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29" y="264"/>
                  </a:lnTo>
                  <a:lnTo>
                    <a:pt x="33" y="247"/>
                  </a:lnTo>
                  <a:lnTo>
                    <a:pt x="41" y="272"/>
                  </a:lnTo>
                  <a:lnTo>
                    <a:pt x="45" y="255"/>
                  </a:lnTo>
                  <a:lnTo>
                    <a:pt x="49" y="255"/>
                  </a:lnTo>
                  <a:lnTo>
                    <a:pt x="53" y="227"/>
                  </a:lnTo>
                  <a:lnTo>
                    <a:pt x="53" y="219"/>
                  </a:lnTo>
                  <a:lnTo>
                    <a:pt x="65" y="211"/>
                  </a:lnTo>
                  <a:lnTo>
                    <a:pt x="65" y="304"/>
                  </a:lnTo>
                  <a:lnTo>
                    <a:pt x="69" y="292"/>
                  </a:lnTo>
                  <a:lnTo>
                    <a:pt x="73" y="247"/>
                  </a:lnTo>
                  <a:lnTo>
                    <a:pt x="73" y="255"/>
                  </a:lnTo>
                  <a:lnTo>
                    <a:pt x="85" y="288"/>
                  </a:lnTo>
                  <a:lnTo>
                    <a:pt x="85" y="264"/>
                  </a:lnTo>
                  <a:lnTo>
                    <a:pt x="89" y="324"/>
                  </a:lnTo>
                  <a:lnTo>
                    <a:pt x="94" y="320"/>
                  </a:lnTo>
                  <a:lnTo>
                    <a:pt x="98" y="316"/>
                  </a:lnTo>
                  <a:lnTo>
                    <a:pt x="106" y="300"/>
                  </a:lnTo>
                  <a:lnTo>
                    <a:pt x="110" y="312"/>
                  </a:lnTo>
                  <a:lnTo>
                    <a:pt x="110" y="320"/>
                  </a:lnTo>
                  <a:lnTo>
                    <a:pt x="114" y="247"/>
                  </a:lnTo>
                  <a:lnTo>
                    <a:pt x="118" y="276"/>
                  </a:lnTo>
                  <a:lnTo>
                    <a:pt x="126" y="292"/>
                  </a:lnTo>
                  <a:lnTo>
                    <a:pt x="130" y="320"/>
                  </a:lnTo>
                  <a:lnTo>
                    <a:pt x="130" y="369"/>
                  </a:lnTo>
                  <a:lnTo>
                    <a:pt x="134" y="349"/>
                  </a:lnTo>
                  <a:lnTo>
                    <a:pt x="138" y="316"/>
                  </a:lnTo>
                  <a:lnTo>
                    <a:pt x="146" y="365"/>
                  </a:lnTo>
                  <a:lnTo>
                    <a:pt x="150" y="373"/>
                  </a:lnTo>
                  <a:lnTo>
                    <a:pt x="154" y="425"/>
                  </a:lnTo>
                  <a:lnTo>
                    <a:pt x="154" y="389"/>
                  </a:lnTo>
                  <a:lnTo>
                    <a:pt x="158" y="381"/>
                  </a:lnTo>
                  <a:lnTo>
                    <a:pt x="166" y="401"/>
                  </a:lnTo>
                  <a:lnTo>
                    <a:pt x="170" y="389"/>
                  </a:lnTo>
                  <a:lnTo>
                    <a:pt x="175" y="438"/>
                  </a:lnTo>
                  <a:lnTo>
                    <a:pt x="179" y="425"/>
                  </a:lnTo>
                  <a:lnTo>
                    <a:pt x="179" y="405"/>
                  </a:lnTo>
                  <a:lnTo>
                    <a:pt x="191" y="385"/>
                  </a:lnTo>
                  <a:lnTo>
                    <a:pt x="191" y="438"/>
                  </a:lnTo>
                  <a:lnTo>
                    <a:pt x="195" y="429"/>
                  </a:lnTo>
                  <a:lnTo>
                    <a:pt x="199" y="446"/>
                  </a:lnTo>
                  <a:lnTo>
                    <a:pt x="199" y="438"/>
                  </a:lnTo>
                  <a:lnTo>
                    <a:pt x="211" y="413"/>
                  </a:lnTo>
                  <a:lnTo>
                    <a:pt x="211" y="438"/>
                  </a:lnTo>
                  <a:lnTo>
                    <a:pt x="215" y="474"/>
                  </a:lnTo>
                  <a:lnTo>
                    <a:pt x="219" y="547"/>
                  </a:lnTo>
                  <a:lnTo>
                    <a:pt x="223" y="547"/>
                  </a:lnTo>
                  <a:lnTo>
                    <a:pt x="231" y="498"/>
                  </a:lnTo>
                  <a:lnTo>
                    <a:pt x="235" y="494"/>
                  </a:lnTo>
                  <a:lnTo>
                    <a:pt x="235" y="523"/>
                  </a:lnTo>
                  <a:lnTo>
                    <a:pt x="251" y="523"/>
                  </a:lnTo>
                  <a:lnTo>
                    <a:pt x="255" y="494"/>
                  </a:lnTo>
                  <a:lnTo>
                    <a:pt x="260" y="547"/>
                  </a:lnTo>
                  <a:lnTo>
                    <a:pt x="260" y="599"/>
                  </a:lnTo>
                  <a:lnTo>
                    <a:pt x="264" y="652"/>
                  </a:lnTo>
                  <a:lnTo>
                    <a:pt x="272" y="713"/>
                  </a:lnTo>
                  <a:lnTo>
                    <a:pt x="276" y="676"/>
                  </a:lnTo>
                  <a:lnTo>
                    <a:pt x="280" y="692"/>
                  </a:lnTo>
                  <a:lnTo>
                    <a:pt x="280" y="701"/>
                  </a:lnTo>
                  <a:lnTo>
                    <a:pt x="284" y="688"/>
                  </a:lnTo>
                  <a:lnTo>
                    <a:pt x="292" y="599"/>
                  </a:lnTo>
                  <a:lnTo>
                    <a:pt x="296" y="587"/>
                  </a:lnTo>
                  <a:lnTo>
                    <a:pt x="300" y="543"/>
                  </a:lnTo>
                  <a:lnTo>
                    <a:pt x="304" y="531"/>
                  </a:lnTo>
                  <a:lnTo>
                    <a:pt x="304" y="506"/>
                  </a:lnTo>
                  <a:lnTo>
                    <a:pt x="316" y="547"/>
                  </a:lnTo>
                  <a:lnTo>
                    <a:pt x="316" y="539"/>
                  </a:lnTo>
                  <a:lnTo>
                    <a:pt x="320" y="603"/>
                  </a:lnTo>
                  <a:lnTo>
                    <a:pt x="324" y="575"/>
                  </a:lnTo>
                  <a:lnTo>
                    <a:pt x="324" y="595"/>
                  </a:lnTo>
                  <a:lnTo>
                    <a:pt x="336" y="636"/>
                  </a:lnTo>
                  <a:lnTo>
                    <a:pt x="336" y="563"/>
                  </a:lnTo>
                  <a:lnTo>
                    <a:pt x="341" y="527"/>
                  </a:lnTo>
                  <a:lnTo>
                    <a:pt x="345" y="571"/>
                  </a:lnTo>
                  <a:lnTo>
                    <a:pt x="349" y="551"/>
                  </a:lnTo>
                  <a:lnTo>
                    <a:pt x="357" y="539"/>
                  </a:lnTo>
                  <a:lnTo>
                    <a:pt x="361" y="543"/>
                  </a:lnTo>
                  <a:lnTo>
                    <a:pt x="361" y="478"/>
                  </a:lnTo>
                  <a:lnTo>
                    <a:pt x="365" y="446"/>
                  </a:lnTo>
                  <a:lnTo>
                    <a:pt x="369" y="433"/>
                  </a:lnTo>
                  <a:lnTo>
                    <a:pt x="377" y="438"/>
                  </a:lnTo>
                  <a:lnTo>
                    <a:pt x="381" y="450"/>
                  </a:lnTo>
                  <a:lnTo>
                    <a:pt x="385" y="486"/>
                  </a:lnTo>
                  <a:lnTo>
                    <a:pt x="385" y="567"/>
                  </a:lnTo>
                  <a:lnTo>
                    <a:pt x="389" y="595"/>
                  </a:lnTo>
                  <a:lnTo>
                    <a:pt x="397" y="624"/>
                  </a:lnTo>
                  <a:lnTo>
                    <a:pt x="401" y="583"/>
                  </a:lnTo>
                  <a:lnTo>
                    <a:pt x="405" y="624"/>
                  </a:lnTo>
                  <a:lnTo>
                    <a:pt x="405" y="640"/>
                  </a:lnTo>
                  <a:lnTo>
                    <a:pt x="409" y="680"/>
                  </a:lnTo>
                  <a:lnTo>
                    <a:pt x="417" y="632"/>
                  </a:lnTo>
                  <a:lnTo>
                    <a:pt x="422" y="709"/>
                  </a:lnTo>
                  <a:lnTo>
                    <a:pt x="430" y="612"/>
                  </a:lnTo>
                  <a:lnTo>
                    <a:pt x="430" y="644"/>
                  </a:lnTo>
                  <a:lnTo>
                    <a:pt x="442" y="656"/>
                  </a:lnTo>
                  <a:lnTo>
                    <a:pt x="442" y="648"/>
                  </a:lnTo>
                  <a:lnTo>
                    <a:pt x="446" y="692"/>
                  </a:lnTo>
                  <a:lnTo>
                    <a:pt x="450" y="644"/>
                  </a:lnTo>
                  <a:lnTo>
                    <a:pt x="454" y="628"/>
                  </a:lnTo>
                  <a:lnTo>
                    <a:pt x="462" y="632"/>
                  </a:lnTo>
                  <a:lnTo>
                    <a:pt x="462" y="640"/>
                  </a:lnTo>
                  <a:lnTo>
                    <a:pt x="466" y="757"/>
                  </a:lnTo>
                  <a:lnTo>
                    <a:pt x="470" y="769"/>
                  </a:lnTo>
                  <a:lnTo>
                    <a:pt x="474" y="749"/>
                  </a:lnTo>
                  <a:lnTo>
                    <a:pt x="482" y="761"/>
                  </a:lnTo>
                  <a:lnTo>
                    <a:pt x="486" y="757"/>
                  </a:lnTo>
                  <a:lnTo>
                    <a:pt x="486" y="794"/>
                  </a:lnTo>
                  <a:lnTo>
                    <a:pt x="490" y="838"/>
                  </a:lnTo>
                  <a:lnTo>
                    <a:pt x="494" y="830"/>
                  </a:lnTo>
                  <a:lnTo>
                    <a:pt x="507" y="814"/>
                  </a:lnTo>
                  <a:lnTo>
                    <a:pt x="511" y="956"/>
                  </a:lnTo>
                  <a:lnTo>
                    <a:pt x="511" y="968"/>
                  </a:lnTo>
                  <a:lnTo>
                    <a:pt x="515" y="858"/>
                  </a:lnTo>
                  <a:lnTo>
                    <a:pt x="523" y="830"/>
                  </a:lnTo>
                  <a:lnTo>
                    <a:pt x="527" y="830"/>
                  </a:lnTo>
                  <a:lnTo>
                    <a:pt x="531" y="713"/>
                  </a:lnTo>
                  <a:lnTo>
                    <a:pt x="531" y="782"/>
                  </a:lnTo>
                  <a:lnTo>
                    <a:pt x="535" y="668"/>
                  </a:lnTo>
                  <a:lnTo>
                    <a:pt x="543" y="697"/>
                  </a:lnTo>
                  <a:lnTo>
                    <a:pt x="547" y="676"/>
                  </a:lnTo>
                  <a:lnTo>
                    <a:pt x="551" y="603"/>
                  </a:lnTo>
                  <a:lnTo>
                    <a:pt x="555" y="599"/>
                  </a:lnTo>
                  <a:lnTo>
                    <a:pt x="555" y="571"/>
                  </a:lnTo>
                  <a:lnTo>
                    <a:pt x="567" y="612"/>
                  </a:lnTo>
                  <a:lnTo>
                    <a:pt x="567" y="640"/>
                  </a:lnTo>
                  <a:lnTo>
                    <a:pt x="571" y="688"/>
                  </a:lnTo>
                  <a:lnTo>
                    <a:pt x="575" y="753"/>
                  </a:lnTo>
                  <a:lnTo>
                    <a:pt x="579" y="769"/>
                  </a:lnTo>
                  <a:lnTo>
                    <a:pt x="588" y="761"/>
                  </a:lnTo>
                  <a:lnTo>
                    <a:pt x="588" y="757"/>
                  </a:lnTo>
                  <a:lnTo>
                    <a:pt x="592" y="705"/>
                  </a:lnTo>
                  <a:lnTo>
                    <a:pt x="596" y="786"/>
                  </a:lnTo>
                  <a:lnTo>
                    <a:pt x="600" y="773"/>
                  </a:lnTo>
                  <a:lnTo>
                    <a:pt x="608" y="709"/>
                  </a:lnTo>
                  <a:lnTo>
                    <a:pt x="612" y="676"/>
                  </a:lnTo>
                  <a:lnTo>
                    <a:pt x="612" y="729"/>
                  </a:lnTo>
                  <a:lnTo>
                    <a:pt x="616" y="749"/>
                  </a:lnTo>
                  <a:lnTo>
                    <a:pt x="620" y="773"/>
                  </a:lnTo>
                  <a:lnTo>
                    <a:pt x="628" y="769"/>
                  </a:lnTo>
                  <a:lnTo>
                    <a:pt x="632" y="842"/>
                  </a:lnTo>
                  <a:lnTo>
                    <a:pt x="636" y="830"/>
                  </a:lnTo>
                  <a:lnTo>
                    <a:pt x="636" y="895"/>
                  </a:lnTo>
                  <a:lnTo>
                    <a:pt x="640" y="960"/>
                  </a:lnTo>
                  <a:lnTo>
                    <a:pt x="648" y="947"/>
                  </a:lnTo>
                  <a:lnTo>
                    <a:pt x="652" y="923"/>
                  </a:lnTo>
                  <a:lnTo>
                    <a:pt x="656" y="895"/>
                  </a:lnTo>
                  <a:lnTo>
                    <a:pt x="656" y="879"/>
                  </a:lnTo>
                  <a:lnTo>
                    <a:pt x="660" y="810"/>
                  </a:lnTo>
                  <a:lnTo>
                    <a:pt x="673" y="757"/>
                  </a:lnTo>
                  <a:lnTo>
                    <a:pt x="677" y="875"/>
                  </a:lnTo>
                  <a:lnTo>
                    <a:pt x="681" y="814"/>
                  </a:lnTo>
                  <a:lnTo>
                    <a:pt x="681" y="842"/>
                  </a:lnTo>
                  <a:lnTo>
                    <a:pt x="693" y="846"/>
                  </a:lnTo>
                  <a:lnTo>
                    <a:pt x="693" y="871"/>
                  </a:lnTo>
                  <a:lnTo>
                    <a:pt x="697" y="786"/>
                  </a:lnTo>
                  <a:lnTo>
                    <a:pt x="701" y="826"/>
                  </a:lnTo>
                  <a:lnTo>
                    <a:pt x="705" y="850"/>
                  </a:lnTo>
                  <a:lnTo>
                    <a:pt x="713" y="866"/>
                  </a:lnTo>
                  <a:lnTo>
                    <a:pt x="713" y="786"/>
                  </a:lnTo>
                  <a:lnTo>
                    <a:pt x="717" y="713"/>
                  </a:lnTo>
                  <a:lnTo>
                    <a:pt x="721" y="822"/>
                  </a:lnTo>
                  <a:lnTo>
                    <a:pt x="725" y="883"/>
                  </a:lnTo>
                  <a:lnTo>
                    <a:pt x="733" y="887"/>
                  </a:lnTo>
                  <a:lnTo>
                    <a:pt x="737" y="927"/>
                  </a:lnTo>
                  <a:lnTo>
                    <a:pt x="737" y="798"/>
                  </a:lnTo>
                  <a:lnTo>
                    <a:pt x="741" y="790"/>
                  </a:lnTo>
                  <a:lnTo>
                    <a:pt x="745" y="806"/>
                  </a:lnTo>
                  <a:lnTo>
                    <a:pt x="754" y="794"/>
                  </a:lnTo>
                  <a:lnTo>
                    <a:pt x="758" y="806"/>
                  </a:lnTo>
                  <a:lnTo>
                    <a:pt x="762" y="810"/>
                  </a:lnTo>
                  <a:lnTo>
                    <a:pt x="762" y="725"/>
                  </a:lnTo>
                  <a:lnTo>
                    <a:pt x="766" y="676"/>
                  </a:lnTo>
                  <a:lnTo>
                    <a:pt x="774" y="697"/>
                  </a:lnTo>
                  <a:lnTo>
                    <a:pt x="778" y="571"/>
                  </a:lnTo>
                  <a:lnTo>
                    <a:pt x="782" y="591"/>
                  </a:lnTo>
                  <a:lnTo>
                    <a:pt x="782" y="668"/>
                  </a:lnTo>
                  <a:lnTo>
                    <a:pt x="786" y="688"/>
                  </a:lnTo>
                  <a:lnTo>
                    <a:pt x="794" y="749"/>
                  </a:lnTo>
                  <a:lnTo>
                    <a:pt x="798" y="806"/>
                  </a:lnTo>
                  <a:lnTo>
                    <a:pt x="802" y="701"/>
                  </a:lnTo>
                  <a:lnTo>
                    <a:pt x="806" y="798"/>
                  </a:lnTo>
                  <a:lnTo>
                    <a:pt x="806" y="806"/>
                  </a:lnTo>
                  <a:lnTo>
                    <a:pt x="818" y="790"/>
                  </a:lnTo>
                  <a:lnTo>
                    <a:pt x="818" y="838"/>
                  </a:lnTo>
                  <a:lnTo>
                    <a:pt x="822" y="802"/>
                  </a:lnTo>
                  <a:lnTo>
                    <a:pt x="826" y="818"/>
                  </a:lnTo>
                  <a:lnTo>
                    <a:pt x="830" y="802"/>
                  </a:lnTo>
                  <a:lnTo>
                    <a:pt x="843" y="757"/>
                  </a:lnTo>
                  <a:lnTo>
                    <a:pt x="843" y="749"/>
                  </a:lnTo>
                  <a:lnTo>
                    <a:pt x="847" y="668"/>
                  </a:lnTo>
                  <a:lnTo>
                    <a:pt x="851" y="648"/>
                  </a:lnTo>
                  <a:lnTo>
                    <a:pt x="859" y="648"/>
                  </a:lnTo>
                  <a:lnTo>
                    <a:pt x="863" y="652"/>
                  </a:lnTo>
                  <a:lnTo>
                    <a:pt x="863" y="636"/>
                  </a:lnTo>
                  <a:lnTo>
                    <a:pt x="867" y="632"/>
                  </a:lnTo>
                  <a:lnTo>
                    <a:pt x="871" y="603"/>
                  </a:lnTo>
                  <a:lnTo>
                    <a:pt x="879" y="644"/>
                  </a:lnTo>
                  <a:lnTo>
                    <a:pt x="883" y="620"/>
                  </a:lnTo>
                  <a:lnTo>
                    <a:pt x="887" y="587"/>
                  </a:lnTo>
                  <a:lnTo>
                    <a:pt x="887" y="539"/>
                  </a:lnTo>
                  <a:lnTo>
                    <a:pt x="891" y="547"/>
                  </a:lnTo>
                  <a:lnTo>
                    <a:pt x="899" y="547"/>
                  </a:lnTo>
                  <a:lnTo>
                    <a:pt x="903" y="518"/>
                  </a:lnTo>
                  <a:lnTo>
                    <a:pt x="907" y="547"/>
                  </a:lnTo>
                  <a:lnTo>
                    <a:pt x="907" y="535"/>
                  </a:lnTo>
                  <a:lnTo>
                    <a:pt x="911" y="486"/>
                  </a:lnTo>
                  <a:lnTo>
                    <a:pt x="920" y="498"/>
                  </a:lnTo>
                  <a:lnTo>
                    <a:pt x="924" y="490"/>
                  </a:lnTo>
                  <a:lnTo>
                    <a:pt x="928" y="466"/>
                  </a:lnTo>
                  <a:lnTo>
                    <a:pt x="932" y="446"/>
                  </a:lnTo>
                  <a:lnTo>
                    <a:pt x="932" y="454"/>
                  </a:lnTo>
                  <a:lnTo>
                    <a:pt x="944" y="466"/>
                  </a:lnTo>
                  <a:lnTo>
                    <a:pt x="944" y="332"/>
                  </a:lnTo>
                  <a:lnTo>
                    <a:pt x="948" y="377"/>
                  </a:lnTo>
                  <a:lnTo>
                    <a:pt x="952" y="304"/>
                  </a:lnTo>
                  <a:lnTo>
                    <a:pt x="956" y="296"/>
                  </a:lnTo>
                  <a:lnTo>
                    <a:pt x="964" y="300"/>
                  </a:lnTo>
                  <a:lnTo>
                    <a:pt x="968" y="304"/>
                  </a:lnTo>
                  <a:lnTo>
                    <a:pt x="968" y="336"/>
                  </a:lnTo>
                  <a:lnTo>
                    <a:pt x="972" y="296"/>
                  </a:lnTo>
                  <a:lnTo>
                    <a:pt x="976" y="320"/>
                  </a:lnTo>
                  <a:lnTo>
                    <a:pt x="984" y="421"/>
                  </a:lnTo>
                  <a:lnTo>
                    <a:pt x="988" y="458"/>
                  </a:lnTo>
                  <a:lnTo>
                    <a:pt x="988" y="324"/>
                  </a:lnTo>
                  <a:lnTo>
                    <a:pt x="992" y="138"/>
                  </a:lnTo>
                  <a:lnTo>
                    <a:pt x="996" y="183"/>
                  </a:lnTo>
                  <a:lnTo>
                    <a:pt x="1005" y="170"/>
                  </a:lnTo>
                  <a:lnTo>
                    <a:pt x="1009" y="162"/>
                  </a:lnTo>
                  <a:lnTo>
                    <a:pt x="1013" y="215"/>
                  </a:lnTo>
                  <a:lnTo>
                    <a:pt x="1017" y="231"/>
                  </a:lnTo>
                  <a:lnTo>
                    <a:pt x="1025" y="235"/>
                  </a:lnTo>
                  <a:lnTo>
                    <a:pt x="1029" y="223"/>
                  </a:lnTo>
                  <a:lnTo>
                    <a:pt x="1033" y="211"/>
                  </a:lnTo>
                  <a:lnTo>
                    <a:pt x="1037" y="219"/>
                  </a:lnTo>
                  <a:lnTo>
                    <a:pt x="1037" y="199"/>
                  </a:lnTo>
                  <a:lnTo>
                    <a:pt x="1045" y="243"/>
                  </a:lnTo>
                  <a:lnTo>
                    <a:pt x="1049" y="251"/>
                  </a:lnTo>
                  <a:lnTo>
                    <a:pt x="1053" y="158"/>
                  </a:lnTo>
                  <a:lnTo>
                    <a:pt x="1057" y="158"/>
                  </a:lnTo>
                  <a:lnTo>
                    <a:pt x="1057" y="166"/>
                  </a:lnTo>
                  <a:lnTo>
                    <a:pt x="1069" y="126"/>
                  </a:lnTo>
                  <a:lnTo>
                    <a:pt x="1069" y="106"/>
                  </a:lnTo>
                  <a:lnTo>
                    <a:pt x="1073" y="158"/>
                  </a:lnTo>
                  <a:lnTo>
                    <a:pt x="1077" y="170"/>
                  </a:lnTo>
                  <a:lnTo>
                    <a:pt x="1081" y="219"/>
                  </a:lnTo>
                  <a:lnTo>
                    <a:pt x="1090" y="259"/>
                  </a:lnTo>
                  <a:lnTo>
                    <a:pt x="1094" y="251"/>
                  </a:lnTo>
                  <a:lnTo>
                    <a:pt x="1094" y="235"/>
                  </a:lnTo>
                  <a:lnTo>
                    <a:pt x="1098" y="65"/>
                  </a:lnTo>
                  <a:lnTo>
                    <a:pt x="1102" y="33"/>
                  </a:lnTo>
                  <a:lnTo>
                    <a:pt x="1110" y="33"/>
                  </a:lnTo>
                  <a:lnTo>
                    <a:pt x="1114" y="13"/>
                  </a:lnTo>
                  <a:lnTo>
                    <a:pt x="1114" y="9"/>
                  </a:lnTo>
                  <a:lnTo>
                    <a:pt x="1118" y="9"/>
                  </a:lnTo>
                  <a:lnTo>
                    <a:pt x="1122" y="5"/>
                  </a:lnTo>
                  <a:lnTo>
                    <a:pt x="1130" y="0"/>
                  </a:lnTo>
                  <a:lnTo>
                    <a:pt x="1134" y="25"/>
                  </a:lnTo>
                  <a:lnTo>
                    <a:pt x="1138" y="5"/>
                  </a:lnTo>
                  <a:lnTo>
                    <a:pt x="1138" y="21"/>
                  </a:lnTo>
                  <a:lnTo>
                    <a:pt x="1142" y="13"/>
                  </a:lnTo>
                  <a:lnTo>
                    <a:pt x="1150" y="41"/>
                  </a:lnTo>
                  <a:lnTo>
                    <a:pt x="1154" y="61"/>
                  </a:lnTo>
                  <a:lnTo>
                    <a:pt x="1158" y="102"/>
                  </a:lnTo>
                  <a:lnTo>
                    <a:pt x="1162" y="106"/>
                  </a:lnTo>
                  <a:lnTo>
                    <a:pt x="1162" y="122"/>
                  </a:lnTo>
                  <a:lnTo>
                    <a:pt x="1171" y="122"/>
                  </a:lnTo>
                  <a:lnTo>
                    <a:pt x="1175" y="106"/>
                  </a:lnTo>
                  <a:lnTo>
                    <a:pt x="1179" y="130"/>
                  </a:lnTo>
                  <a:lnTo>
                    <a:pt x="1183" y="158"/>
                  </a:lnTo>
                  <a:lnTo>
                    <a:pt x="1183" y="162"/>
                  </a:lnTo>
                  <a:lnTo>
                    <a:pt x="1195" y="183"/>
                  </a:lnTo>
                  <a:lnTo>
                    <a:pt x="1195" y="191"/>
                  </a:lnTo>
                  <a:lnTo>
                    <a:pt x="1199" y="211"/>
                  </a:lnTo>
                  <a:lnTo>
                    <a:pt x="1203" y="219"/>
                  </a:lnTo>
                  <a:lnTo>
                    <a:pt x="1207" y="207"/>
                  </a:lnTo>
                  <a:lnTo>
                    <a:pt x="1215" y="231"/>
                  </a:lnTo>
                  <a:lnTo>
                    <a:pt x="1219" y="187"/>
                  </a:lnTo>
                  <a:lnTo>
                    <a:pt x="1219" y="276"/>
                  </a:lnTo>
                  <a:lnTo>
                    <a:pt x="1223" y="284"/>
                  </a:lnTo>
                  <a:lnTo>
                    <a:pt x="1227" y="288"/>
                  </a:lnTo>
                  <a:lnTo>
                    <a:pt x="1235" y="284"/>
                  </a:lnTo>
                  <a:lnTo>
                    <a:pt x="1239" y="276"/>
                  </a:lnTo>
                  <a:lnTo>
                    <a:pt x="1239" y="369"/>
                  </a:lnTo>
                  <a:lnTo>
                    <a:pt x="1243" y="304"/>
                  </a:lnTo>
                  <a:lnTo>
                    <a:pt x="1248" y="284"/>
                  </a:lnTo>
                  <a:lnTo>
                    <a:pt x="1256" y="276"/>
                  </a:lnTo>
                  <a:lnTo>
                    <a:pt x="1260" y="353"/>
                  </a:lnTo>
                  <a:lnTo>
                    <a:pt x="1264" y="498"/>
                  </a:lnTo>
                  <a:lnTo>
                    <a:pt x="1264" y="474"/>
                  </a:lnTo>
                  <a:lnTo>
                    <a:pt x="1268" y="454"/>
                  </a:lnTo>
                  <a:lnTo>
                    <a:pt x="1276" y="417"/>
                  </a:lnTo>
                  <a:lnTo>
                    <a:pt x="1280" y="353"/>
                  </a:lnTo>
                  <a:lnTo>
                    <a:pt x="1284" y="365"/>
                  </a:lnTo>
                  <a:lnTo>
                    <a:pt x="1288" y="361"/>
                  </a:lnTo>
                  <a:lnTo>
                    <a:pt x="1288" y="365"/>
                  </a:lnTo>
                  <a:lnTo>
                    <a:pt x="1296" y="344"/>
                  </a:lnTo>
                  <a:lnTo>
                    <a:pt x="1300" y="361"/>
                  </a:lnTo>
                  <a:lnTo>
                    <a:pt x="1304" y="369"/>
                  </a:lnTo>
                  <a:lnTo>
                    <a:pt x="1308" y="312"/>
                  </a:lnTo>
                  <a:lnTo>
                    <a:pt x="1308" y="312"/>
                  </a:lnTo>
                  <a:lnTo>
                    <a:pt x="1320" y="373"/>
                  </a:lnTo>
                  <a:lnTo>
                    <a:pt x="1320" y="373"/>
                  </a:lnTo>
                  <a:lnTo>
                    <a:pt x="1324" y="381"/>
                  </a:lnTo>
                  <a:lnTo>
                    <a:pt x="1328" y="413"/>
                  </a:lnTo>
                  <a:lnTo>
                    <a:pt x="1341" y="442"/>
                  </a:lnTo>
                  <a:lnTo>
                    <a:pt x="1345" y="369"/>
                  </a:lnTo>
                  <a:lnTo>
                    <a:pt x="1345" y="389"/>
                  </a:lnTo>
                  <a:lnTo>
                    <a:pt x="1349" y="377"/>
                  </a:lnTo>
                  <a:lnTo>
                    <a:pt x="1353" y="300"/>
                  </a:lnTo>
                  <a:lnTo>
                    <a:pt x="1361" y="332"/>
                  </a:lnTo>
                  <a:lnTo>
                    <a:pt x="1365" y="385"/>
                  </a:lnTo>
                  <a:lnTo>
                    <a:pt x="1365" y="547"/>
                  </a:lnTo>
                  <a:lnTo>
                    <a:pt x="1369" y="603"/>
                  </a:lnTo>
                  <a:lnTo>
                    <a:pt x="1373" y="595"/>
                  </a:lnTo>
                  <a:lnTo>
                    <a:pt x="1381" y="603"/>
                  </a:lnTo>
                  <a:lnTo>
                    <a:pt x="1385" y="607"/>
                  </a:lnTo>
                  <a:lnTo>
                    <a:pt x="1389" y="612"/>
                  </a:lnTo>
                  <a:lnTo>
                    <a:pt x="1401" y="616"/>
                  </a:lnTo>
                  <a:lnTo>
                    <a:pt x="1405" y="656"/>
                  </a:lnTo>
                  <a:lnTo>
                    <a:pt x="1409" y="628"/>
                  </a:lnTo>
                  <a:lnTo>
                    <a:pt x="1414" y="636"/>
                  </a:lnTo>
                  <a:lnTo>
                    <a:pt x="1414" y="636"/>
                  </a:lnTo>
                  <a:lnTo>
                    <a:pt x="1426" y="652"/>
                  </a:lnTo>
                  <a:lnTo>
                    <a:pt x="1426" y="628"/>
                  </a:lnTo>
                  <a:lnTo>
                    <a:pt x="1430" y="636"/>
                  </a:lnTo>
                  <a:lnTo>
                    <a:pt x="1434" y="680"/>
                  </a:lnTo>
                  <a:lnTo>
                    <a:pt x="1434" y="668"/>
                  </a:lnTo>
                  <a:lnTo>
                    <a:pt x="1446" y="628"/>
                  </a:lnTo>
                  <a:lnTo>
                    <a:pt x="1450" y="616"/>
                  </a:lnTo>
                  <a:lnTo>
                    <a:pt x="1454" y="644"/>
                  </a:lnTo>
                  <a:lnTo>
                    <a:pt x="1458" y="612"/>
                  </a:lnTo>
                  <a:lnTo>
                    <a:pt x="1466" y="607"/>
                  </a:lnTo>
                  <a:lnTo>
                    <a:pt x="1470" y="636"/>
                  </a:lnTo>
                  <a:lnTo>
                    <a:pt x="1470" y="616"/>
                  </a:lnTo>
                  <a:lnTo>
                    <a:pt x="1474" y="607"/>
                  </a:lnTo>
                  <a:lnTo>
                    <a:pt x="1478" y="607"/>
                  </a:lnTo>
                  <a:lnTo>
                    <a:pt x="1486" y="587"/>
                  </a:lnTo>
                  <a:lnTo>
                    <a:pt x="1490" y="636"/>
                  </a:lnTo>
                  <a:lnTo>
                    <a:pt x="1490" y="648"/>
                  </a:lnTo>
                  <a:lnTo>
                    <a:pt x="1495" y="632"/>
                  </a:lnTo>
                  <a:lnTo>
                    <a:pt x="1499" y="705"/>
                  </a:lnTo>
                  <a:lnTo>
                    <a:pt x="1507" y="599"/>
                  </a:lnTo>
                  <a:lnTo>
                    <a:pt x="1511" y="599"/>
                  </a:lnTo>
                  <a:lnTo>
                    <a:pt x="1515" y="616"/>
                  </a:lnTo>
                  <a:lnTo>
                    <a:pt x="1519" y="616"/>
                  </a:lnTo>
                  <a:lnTo>
                    <a:pt x="1527" y="587"/>
                  </a:lnTo>
                  <a:lnTo>
                    <a:pt x="1531" y="636"/>
                  </a:lnTo>
                  <a:lnTo>
                    <a:pt x="1535" y="620"/>
                  </a:lnTo>
                  <a:lnTo>
                    <a:pt x="1539" y="555"/>
                  </a:lnTo>
                  <a:lnTo>
                    <a:pt x="1539" y="518"/>
                  </a:lnTo>
                  <a:lnTo>
                    <a:pt x="1551" y="506"/>
                  </a:lnTo>
                  <a:lnTo>
                    <a:pt x="1551" y="502"/>
                  </a:lnTo>
                  <a:lnTo>
                    <a:pt x="1555" y="531"/>
                  </a:lnTo>
                  <a:lnTo>
                    <a:pt x="1559" y="527"/>
                  </a:lnTo>
                  <a:lnTo>
                    <a:pt x="1559" y="523"/>
                  </a:lnTo>
                  <a:lnTo>
                    <a:pt x="1571" y="506"/>
                  </a:lnTo>
                  <a:lnTo>
                    <a:pt x="1571" y="510"/>
                  </a:lnTo>
                  <a:lnTo>
                    <a:pt x="1575" y="502"/>
                  </a:lnTo>
                  <a:lnTo>
                    <a:pt x="1580" y="482"/>
                  </a:lnTo>
                  <a:lnTo>
                    <a:pt x="1584" y="478"/>
                  </a:lnTo>
                  <a:lnTo>
                    <a:pt x="1596" y="478"/>
                  </a:lnTo>
                  <a:lnTo>
                    <a:pt x="1596" y="523"/>
                  </a:lnTo>
                  <a:lnTo>
                    <a:pt x="1600" y="555"/>
                  </a:lnTo>
                  <a:lnTo>
                    <a:pt x="1604" y="547"/>
                  </a:lnTo>
                  <a:lnTo>
                    <a:pt x="1612" y="563"/>
                  </a:lnTo>
                  <a:lnTo>
                    <a:pt x="1616" y="559"/>
                  </a:lnTo>
                  <a:lnTo>
                    <a:pt x="1620" y="543"/>
                  </a:lnTo>
                  <a:lnTo>
                    <a:pt x="1620" y="510"/>
                  </a:lnTo>
                  <a:lnTo>
                    <a:pt x="1624" y="523"/>
                  </a:lnTo>
                  <a:lnTo>
                    <a:pt x="1632" y="429"/>
                  </a:lnTo>
                  <a:lnTo>
                    <a:pt x="1636" y="413"/>
                  </a:lnTo>
                  <a:lnTo>
                    <a:pt x="1640" y="498"/>
                  </a:lnTo>
                  <a:lnTo>
                    <a:pt x="1640" y="450"/>
                  </a:lnTo>
                  <a:lnTo>
                    <a:pt x="1644" y="433"/>
                  </a:lnTo>
                  <a:lnTo>
                    <a:pt x="1652" y="450"/>
                  </a:lnTo>
                  <a:lnTo>
                    <a:pt x="1656" y="429"/>
                  </a:lnTo>
                  <a:lnTo>
                    <a:pt x="1661" y="490"/>
                  </a:lnTo>
                  <a:lnTo>
                    <a:pt x="1665" y="486"/>
                  </a:lnTo>
                  <a:lnTo>
                    <a:pt x="1665" y="506"/>
                  </a:lnTo>
                  <a:lnTo>
                    <a:pt x="1677" y="494"/>
                  </a:lnTo>
                  <a:lnTo>
                    <a:pt x="1677" y="478"/>
                  </a:lnTo>
                  <a:lnTo>
                    <a:pt x="1681" y="474"/>
                  </a:lnTo>
                  <a:lnTo>
                    <a:pt x="1685" y="474"/>
                  </a:lnTo>
                  <a:lnTo>
                    <a:pt x="1685" y="462"/>
                  </a:lnTo>
                  <a:lnTo>
                    <a:pt x="1697" y="450"/>
                  </a:lnTo>
                  <a:lnTo>
                    <a:pt x="1697" y="421"/>
                  </a:lnTo>
                  <a:lnTo>
                    <a:pt x="1701" y="470"/>
                  </a:lnTo>
                  <a:lnTo>
                    <a:pt x="1705" y="474"/>
                  </a:lnTo>
                  <a:lnTo>
                    <a:pt x="1709" y="438"/>
                  </a:lnTo>
                  <a:lnTo>
                    <a:pt x="1717" y="470"/>
                  </a:lnTo>
                  <a:lnTo>
                    <a:pt x="1721" y="478"/>
                  </a:lnTo>
                  <a:lnTo>
                    <a:pt x="1721" y="502"/>
                  </a:lnTo>
                  <a:lnTo>
                    <a:pt x="1725" y="446"/>
                  </a:lnTo>
                  <a:lnTo>
                    <a:pt x="1729" y="462"/>
                  </a:lnTo>
                  <a:lnTo>
                    <a:pt x="1737" y="446"/>
                  </a:lnTo>
                  <a:lnTo>
                    <a:pt x="1741" y="446"/>
                  </a:lnTo>
                  <a:lnTo>
                    <a:pt x="1746" y="458"/>
                  </a:lnTo>
                  <a:lnTo>
                    <a:pt x="1746" y="438"/>
                  </a:lnTo>
                  <a:lnTo>
                    <a:pt x="1750" y="433"/>
                  </a:lnTo>
                  <a:lnTo>
                    <a:pt x="1758" y="462"/>
                  </a:lnTo>
                  <a:lnTo>
                    <a:pt x="1762" y="413"/>
                  </a:lnTo>
                  <a:lnTo>
                    <a:pt x="1766" y="454"/>
                  </a:lnTo>
                  <a:lnTo>
                    <a:pt x="1766" y="450"/>
                  </a:lnTo>
                  <a:lnTo>
                    <a:pt x="1770" y="381"/>
                  </a:lnTo>
                  <a:lnTo>
                    <a:pt x="1782" y="462"/>
                  </a:lnTo>
                  <a:lnTo>
                    <a:pt x="1786" y="466"/>
                  </a:lnTo>
                  <a:lnTo>
                    <a:pt x="1790" y="466"/>
                  </a:lnTo>
                  <a:lnTo>
                    <a:pt x="1790" y="482"/>
                  </a:lnTo>
                  <a:lnTo>
                    <a:pt x="1802" y="458"/>
                  </a:lnTo>
                  <a:lnTo>
                    <a:pt x="1802" y="466"/>
                  </a:lnTo>
                  <a:lnTo>
                    <a:pt x="1806" y="490"/>
                  </a:lnTo>
                  <a:lnTo>
                    <a:pt x="1810" y="603"/>
                  </a:lnTo>
                  <a:lnTo>
                    <a:pt x="1814" y="567"/>
                  </a:lnTo>
                  <a:lnTo>
                    <a:pt x="1822" y="567"/>
                  </a:lnTo>
                  <a:lnTo>
                    <a:pt x="1822" y="559"/>
                  </a:lnTo>
                  <a:lnTo>
                    <a:pt x="1827" y="547"/>
                  </a:lnTo>
                  <a:lnTo>
                    <a:pt x="1831" y="547"/>
                  </a:lnTo>
                  <a:lnTo>
                    <a:pt x="1835" y="551"/>
                  </a:lnTo>
                  <a:lnTo>
                    <a:pt x="1843" y="527"/>
                  </a:lnTo>
                  <a:lnTo>
                    <a:pt x="1847" y="535"/>
                  </a:lnTo>
                  <a:lnTo>
                    <a:pt x="1847" y="531"/>
                  </a:lnTo>
                  <a:lnTo>
                    <a:pt x="1851" y="535"/>
                  </a:lnTo>
                  <a:lnTo>
                    <a:pt x="1855" y="523"/>
                  </a:lnTo>
                  <a:lnTo>
                    <a:pt x="1863" y="527"/>
                  </a:lnTo>
                  <a:lnTo>
                    <a:pt x="1867" y="490"/>
                  </a:lnTo>
                  <a:lnTo>
                    <a:pt x="1871" y="458"/>
                  </a:lnTo>
                  <a:lnTo>
                    <a:pt x="1871" y="474"/>
                  </a:lnTo>
                  <a:lnTo>
                    <a:pt x="1875" y="470"/>
                  </a:lnTo>
                  <a:lnTo>
                    <a:pt x="1883" y="446"/>
                  </a:lnTo>
                  <a:lnTo>
                    <a:pt x="1887" y="421"/>
                  </a:lnTo>
                  <a:lnTo>
                    <a:pt x="1891" y="474"/>
                  </a:lnTo>
                  <a:lnTo>
                    <a:pt x="1891" y="421"/>
                  </a:lnTo>
                  <a:lnTo>
                    <a:pt x="1895" y="539"/>
                  </a:lnTo>
                  <a:lnTo>
                    <a:pt x="1903" y="490"/>
                  </a:lnTo>
                  <a:lnTo>
                    <a:pt x="1908" y="502"/>
                  </a:lnTo>
                  <a:lnTo>
                    <a:pt x="1912" y="510"/>
                  </a:lnTo>
                  <a:lnTo>
                    <a:pt x="1916" y="498"/>
                  </a:lnTo>
                  <a:lnTo>
                    <a:pt x="1916" y="470"/>
                  </a:lnTo>
                  <a:lnTo>
                    <a:pt x="1928" y="510"/>
                  </a:lnTo>
                  <a:lnTo>
                    <a:pt x="1928" y="458"/>
                  </a:lnTo>
                  <a:lnTo>
                    <a:pt x="1932" y="486"/>
                  </a:lnTo>
                  <a:lnTo>
                    <a:pt x="1936" y="478"/>
                  </a:lnTo>
                  <a:lnTo>
                    <a:pt x="1940" y="482"/>
                  </a:lnTo>
                  <a:lnTo>
                    <a:pt x="1948" y="494"/>
                  </a:lnTo>
                  <a:lnTo>
                    <a:pt x="1952" y="470"/>
                  </a:lnTo>
                  <a:lnTo>
                    <a:pt x="1956" y="466"/>
                  </a:lnTo>
                  <a:lnTo>
                    <a:pt x="1960" y="498"/>
                  </a:lnTo>
                  <a:lnTo>
                    <a:pt x="1968" y="575"/>
                  </a:lnTo>
                  <a:lnTo>
                    <a:pt x="1972" y="575"/>
                  </a:lnTo>
                  <a:lnTo>
                    <a:pt x="1972" y="591"/>
                  </a:lnTo>
                  <a:lnTo>
                    <a:pt x="1976" y="624"/>
                  </a:lnTo>
                  <a:lnTo>
                    <a:pt x="1980" y="607"/>
                  </a:lnTo>
                  <a:lnTo>
                    <a:pt x="1988" y="587"/>
                  </a:lnTo>
                  <a:lnTo>
                    <a:pt x="1993" y="628"/>
                  </a:lnTo>
                  <a:lnTo>
                    <a:pt x="1997" y="543"/>
                  </a:lnTo>
                  <a:lnTo>
                    <a:pt x="1997" y="551"/>
                  </a:lnTo>
                  <a:lnTo>
                    <a:pt x="2001" y="502"/>
                  </a:lnTo>
                  <a:lnTo>
                    <a:pt x="2013" y="510"/>
                  </a:lnTo>
                  <a:lnTo>
                    <a:pt x="2017" y="523"/>
                  </a:lnTo>
                  <a:lnTo>
                    <a:pt x="2017" y="470"/>
                  </a:lnTo>
                  <a:lnTo>
                    <a:pt x="2021" y="442"/>
                  </a:lnTo>
                  <a:lnTo>
                    <a:pt x="2029" y="527"/>
                  </a:lnTo>
                  <a:lnTo>
                    <a:pt x="2033" y="506"/>
                  </a:lnTo>
                  <a:lnTo>
                    <a:pt x="2037" y="514"/>
                  </a:lnTo>
                  <a:lnTo>
                    <a:pt x="2041" y="466"/>
                  </a:lnTo>
                  <a:lnTo>
                    <a:pt x="2041" y="393"/>
                  </a:lnTo>
                  <a:lnTo>
                    <a:pt x="2053" y="357"/>
                  </a:lnTo>
                  <a:lnTo>
                    <a:pt x="2053" y="393"/>
                  </a:lnTo>
                  <a:lnTo>
                    <a:pt x="2057" y="377"/>
                  </a:lnTo>
                  <a:lnTo>
                    <a:pt x="2061" y="349"/>
                  </a:lnTo>
                  <a:lnTo>
                    <a:pt x="2065" y="316"/>
                  </a:lnTo>
                  <a:lnTo>
                    <a:pt x="2074" y="373"/>
                  </a:lnTo>
                  <a:lnTo>
                    <a:pt x="2074" y="349"/>
                  </a:lnTo>
                  <a:lnTo>
                    <a:pt x="2078" y="397"/>
                  </a:lnTo>
                  <a:lnTo>
                    <a:pt x="2082" y="272"/>
                  </a:lnTo>
                  <a:lnTo>
                    <a:pt x="2086" y="268"/>
                  </a:lnTo>
                  <a:lnTo>
                    <a:pt x="2094" y="296"/>
                  </a:lnTo>
                  <a:lnTo>
                    <a:pt x="2098" y="280"/>
                  </a:lnTo>
                  <a:lnTo>
                    <a:pt x="2098" y="280"/>
                  </a:lnTo>
                  <a:lnTo>
                    <a:pt x="2102" y="280"/>
                  </a:lnTo>
                  <a:lnTo>
                    <a:pt x="2114" y="272"/>
                  </a:lnTo>
                  <a:lnTo>
                    <a:pt x="2118" y="280"/>
                  </a:lnTo>
                  <a:lnTo>
                    <a:pt x="2122" y="259"/>
                  </a:lnTo>
                  <a:lnTo>
                    <a:pt x="2122" y="288"/>
                  </a:lnTo>
                  <a:lnTo>
                    <a:pt x="2126" y="304"/>
                  </a:lnTo>
                  <a:lnTo>
                    <a:pt x="2134" y="324"/>
                  </a:lnTo>
                  <a:lnTo>
                    <a:pt x="2138" y="300"/>
                  </a:lnTo>
                  <a:lnTo>
                    <a:pt x="2142" y="292"/>
                  </a:lnTo>
                  <a:lnTo>
                    <a:pt x="2142" y="179"/>
                  </a:lnTo>
                  <a:lnTo>
                    <a:pt x="2146" y="195"/>
                  </a:lnTo>
                  <a:lnTo>
                    <a:pt x="2159" y="195"/>
                  </a:lnTo>
                  <a:lnTo>
                    <a:pt x="2163" y="251"/>
                  </a:lnTo>
                  <a:lnTo>
                    <a:pt x="2163" y="81"/>
                  </a:lnTo>
                  <a:lnTo>
                    <a:pt x="2159" y="81"/>
                  </a:lnTo>
                  <a:lnTo>
                    <a:pt x="2146" y="81"/>
                  </a:lnTo>
                  <a:lnTo>
                    <a:pt x="2142" y="81"/>
                  </a:lnTo>
                  <a:lnTo>
                    <a:pt x="2142" y="81"/>
                  </a:lnTo>
                  <a:lnTo>
                    <a:pt x="2138" y="81"/>
                  </a:lnTo>
                  <a:lnTo>
                    <a:pt x="2134" y="81"/>
                  </a:lnTo>
                  <a:lnTo>
                    <a:pt x="2126" y="81"/>
                  </a:lnTo>
                  <a:lnTo>
                    <a:pt x="2122" y="81"/>
                  </a:lnTo>
                  <a:lnTo>
                    <a:pt x="2122" y="81"/>
                  </a:lnTo>
                  <a:lnTo>
                    <a:pt x="2118" y="81"/>
                  </a:lnTo>
                  <a:lnTo>
                    <a:pt x="2114" y="81"/>
                  </a:lnTo>
                  <a:lnTo>
                    <a:pt x="2102" y="81"/>
                  </a:lnTo>
                  <a:lnTo>
                    <a:pt x="2098" y="81"/>
                  </a:lnTo>
                  <a:lnTo>
                    <a:pt x="2098" y="81"/>
                  </a:lnTo>
                  <a:lnTo>
                    <a:pt x="2094" y="81"/>
                  </a:lnTo>
                  <a:lnTo>
                    <a:pt x="2086" y="81"/>
                  </a:lnTo>
                  <a:lnTo>
                    <a:pt x="2082" y="81"/>
                  </a:lnTo>
                  <a:lnTo>
                    <a:pt x="2078" y="81"/>
                  </a:lnTo>
                  <a:lnTo>
                    <a:pt x="2074" y="81"/>
                  </a:lnTo>
                  <a:lnTo>
                    <a:pt x="2074" y="81"/>
                  </a:lnTo>
                  <a:lnTo>
                    <a:pt x="2065" y="81"/>
                  </a:lnTo>
                  <a:lnTo>
                    <a:pt x="2061" y="81"/>
                  </a:lnTo>
                  <a:lnTo>
                    <a:pt x="2057" y="81"/>
                  </a:lnTo>
                  <a:lnTo>
                    <a:pt x="2053" y="81"/>
                  </a:lnTo>
                  <a:lnTo>
                    <a:pt x="2053" y="81"/>
                  </a:lnTo>
                  <a:lnTo>
                    <a:pt x="2041" y="81"/>
                  </a:lnTo>
                  <a:lnTo>
                    <a:pt x="2041" y="81"/>
                  </a:lnTo>
                  <a:lnTo>
                    <a:pt x="2037" y="81"/>
                  </a:lnTo>
                  <a:lnTo>
                    <a:pt x="2033" y="81"/>
                  </a:lnTo>
                  <a:lnTo>
                    <a:pt x="2029" y="81"/>
                  </a:lnTo>
                  <a:lnTo>
                    <a:pt x="2021" y="81"/>
                  </a:lnTo>
                  <a:lnTo>
                    <a:pt x="2017" y="81"/>
                  </a:lnTo>
                  <a:lnTo>
                    <a:pt x="2017" y="81"/>
                  </a:lnTo>
                  <a:lnTo>
                    <a:pt x="2013" y="81"/>
                  </a:lnTo>
                  <a:lnTo>
                    <a:pt x="2001" y="81"/>
                  </a:lnTo>
                  <a:lnTo>
                    <a:pt x="1997" y="81"/>
                  </a:lnTo>
                  <a:lnTo>
                    <a:pt x="1997" y="81"/>
                  </a:lnTo>
                  <a:lnTo>
                    <a:pt x="1993" y="81"/>
                  </a:lnTo>
                  <a:lnTo>
                    <a:pt x="1988" y="81"/>
                  </a:lnTo>
                  <a:lnTo>
                    <a:pt x="1980" y="81"/>
                  </a:lnTo>
                  <a:lnTo>
                    <a:pt x="1976" y="81"/>
                  </a:lnTo>
                  <a:lnTo>
                    <a:pt x="1972" y="81"/>
                  </a:lnTo>
                  <a:lnTo>
                    <a:pt x="1972" y="81"/>
                  </a:lnTo>
                  <a:lnTo>
                    <a:pt x="1968" y="81"/>
                  </a:lnTo>
                  <a:lnTo>
                    <a:pt x="1960" y="81"/>
                  </a:lnTo>
                  <a:lnTo>
                    <a:pt x="1956" y="81"/>
                  </a:lnTo>
                  <a:lnTo>
                    <a:pt x="1952" y="81"/>
                  </a:lnTo>
                  <a:lnTo>
                    <a:pt x="1948" y="81"/>
                  </a:lnTo>
                  <a:lnTo>
                    <a:pt x="1940" y="81"/>
                  </a:lnTo>
                  <a:lnTo>
                    <a:pt x="1936" y="81"/>
                  </a:lnTo>
                  <a:lnTo>
                    <a:pt x="1932" y="81"/>
                  </a:lnTo>
                  <a:lnTo>
                    <a:pt x="1928" y="81"/>
                  </a:lnTo>
                  <a:lnTo>
                    <a:pt x="1928" y="81"/>
                  </a:lnTo>
                  <a:lnTo>
                    <a:pt x="1916" y="81"/>
                  </a:lnTo>
                  <a:lnTo>
                    <a:pt x="1916" y="81"/>
                  </a:lnTo>
                  <a:lnTo>
                    <a:pt x="1912" y="81"/>
                  </a:lnTo>
                  <a:lnTo>
                    <a:pt x="1908" y="81"/>
                  </a:lnTo>
                  <a:lnTo>
                    <a:pt x="1903" y="81"/>
                  </a:lnTo>
                  <a:lnTo>
                    <a:pt x="1895" y="81"/>
                  </a:lnTo>
                  <a:lnTo>
                    <a:pt x="1891" y="81"/>
                  </a:lnTo>
                  <a:lnTo>
                    <a:pt x="1891" y="81"/>
                  </a:lnTo>
                  <a:lnTo>
                    <a:pt x="1887" y="81"/>
                  </a:lnTo>
                  <a:lnTo>
                    <a:pt x="1883" y="81"/>
                  </a:lnTo>
                  <a:lnTo>
                    <a:pt x="1875" y="81"/>
                  </a:lnTo>
                  <a:lnTo>
                    <a:pt x="1871" y="81"/>
                  </a:lnTo>
                  <a:lnTo>
                    <a:pt x="1871" y="81"/>
                  </a:lnTo>
                  <a:lnTo>
                    <a:pt x="1867" y="81"/>
                  </a:lnTo>
                  <a:lnTo>
                    <a:pt x="1863" y="81"/>
                  </a:lnTo>
                  <a:lnTo>
                    <a:pt x="1855" y="81"/>
                  </a:lnTo>
                  <a:lnTo>
                    <a:pt x="1851" y="81"/>
                  </a:lnTo>
                  <a:lnTo>
                    <a:pt x="1847" y="81"/>
                  </a:lnTo>
                  <a:lnTo>
                    <a:pt x="1847" y="81"/>
                  </a:lnTo>
                  <a:lnTo>
                    <a:pt x="1843" y="81"/>
                  </a:lnTo>
                  <a:lnTo>
                    <a:pt x="1835" y="81"/>
                  </a:lnTo>
                  <a:lnTo>
                    <a:pt x="1831" y="81"/>
                  </a:lnTo>
                  <a:lnTo>
                    <a:pt x="1827" y="81"/>
                  </a:lnTo>
                  <a:lnTo>
                    <a:pt x="1822" y="81"/>
                  </a:lnTo>
                  <a:lnTo>
                    <a:pt x="1822" y="81"/>
                  </a:lnTo>
                  <a:lnTo>
                    <a:pt x="1814" y="81"/>
                  </a:lnTo>
                  <a:lnTo>
                    <a:pt x="1810" y="81"/>
                  </a:lnTo>
                  <a:lnTo>
                    <a:pt x="1806" y="81"/>
                  </a:lnTo>
                  <a:lnTo>
                    <a:pt x="1802" y="81"/>
                  </a:lnTo>
                  <a:lnTo>
                    <a:pt x="1802" y="81"/>
                  </a:lnTo>
                  <a:lnTo>
                    <a:pt x="1790" y="81"/>
                  </a:lnTo>
                  <a:lnTo>
                    <a:pt x="1790" y="81"/>
                  </a:lnTo>
                  <a:lnTo>
                    <a:pt x="1786" y="81"/>
                  </a:lnTo>
                  <a:lnTo>
                    <a:pt x="1782" y="81"/>
                  </a:lnTo>
                  <a:lnTo>
                    <a:pt x="1770" y="81"/>
                  </a:lnTo>
                  <a:lnTo>
                    <a:pt x="1766" y="81"/>
                  </a:lnTo>
                  <a:lnTo>
                    <a:pt x="1766" y="81"/>
                  </a:lnTo>
                  <a:lnTo>
                    <a:pt x="1762" y="81"/>
                  </a:lnTo>
                  <a:lnTo>
                    <a:pt x="1758" y="81"/>
                  </a:lnTo>
                  <a:lnTo>
                    <a:pt x="1750" y="81"/>
                  </a:lnTo>
                  <a:lnTo>
                    <a:pt x="1746" y="81"/>
                  </a:lnTo>
                  <a:lnTo>
                    <a:pt x="1746" y="81"/>
                  </a:lnTo>
                  <a:lnTo>
                    <a:pt x="1741" y="81"/>
                  </a:lnTo>
                  <a:lnTo>
                    <a:pt x="1737" y="81"/>
                  </a:lnTo>
                  <a:lnTo>
                    <a:pt x="1729" y="81"/>
                  </a:lnTo>
                  <a:lnTo>
                    <a:pt x="1725" y="81"/>
                  </a:lnTo>
                  <a:lnTo>
                    <a:pt x="1721" y="81"/>
                  </a:lnTo>
                  <a:lnTo>
                    <a:pt x="1721" y="81"/>
                  </a:lnTo>
                  <a:lnTo>
                    <a:pt x="1717" y="81"/>
                  </a:lnTo>
                  <a:lnTo>
                    <a:pt x="1709" y="81"/>
                  </a:lnTo>
                  <a:lnTo>
                    <a:pt x="1705" y="81"/>
                  </a:lnTo>
                  <a:lnTo>
                    <a:pt x="1701" y="81"/>
                  </a:lnTo>
                  <a:lnTo>
                    <a:pt x="1697" y="81"/>
                  </a:lnTo>
                  <a:lnTo>
                    <a:pt x="1697" y="81"/>
                  </a:lnTo>
                  <a:lnTo>
                    <a:pt x="1685" y="81"/>
                  </a:lnTo>
                  <a:lnTo>
                    <a:pt x="1685" y="81"/>
                  </a:lnTo>
                  <a:lnTo>
                    <a:pt x="1681" y="81"/>
                  </a:lnTo>
                  <a:lnTo>
                    <a:pt x="1677" y="81"/>
                  </a:lnTo>
                  <a:lnTo>
                    <a:pt x="1677" y="81"/>
                  </a:lnTo>
                  <a:lnTo>
                    <a:pt x="1665" y="81"/>
                  </a:lnTo>
                  <a:lnTo>
                    <a:pt x="1665" y="81"/>
                  </a:lnTo>
                  <a:lnTo>
                    <a:pt x="1661" y="81"/>
                  </a:lnTo>
                  <a:lnTo>
                    <a:pt x="1656" y="81"/>
                  </a:lnTo>
                  <a:lnTo>
                    <a:pt x="1652" y="81"/>
                  </a:lnTo>
                  <a:lnTo>
                    <a:pt x="1644" y="81"/>
                  </a:lnTo>
                  <a:lnTo>
                    <a:pt x="1640" y="81"/>
                  </a:lnTo>
                  <a:lnTo>
                    <a:pt x="1640" y="81"/>
                  </a:lnTo>
                  <a:lnTo>
                    <a:pt x="1636" y="81"/>
                  </a:lnTo>
                  <a:lnTo>
                    <a:pt x="1632" y="81"/>
                  </a:lnTo>
                  <a:lnTo>
                    <a:pt x="1624" y="81"/>
                  </a:lnTo>
                  <a:lnTo>
                    <a:pt x="1620" y="81"/>
                  </a:lnTo>
                  <a:lnTo>
                    <a:pt x="1620" y="81"/>
                  </a:lnTo>
                  <a:lnTo>
                    <a:pt x="1616" y="81"/>
                  </a:lnTo>
                  <a:lnTo>
                    <a:pt x="1612" y="81"/>
                  </a:lnTo>
                  <a:lnTo>
                    <a:pt x="1604" y="81"/>
                  </a:lnTo>
                  <a:lnTo>
                    <a:pt x="1600" y="81"/>
                  </a:lnTo>
                  <a:lnTo>
                    <a:pt x="1596" y="81"/>
                  </a:lnTo>
                  <a:lnTo>
                    <a:pt x="1596" y="81"/>
                  </a:lnTo>
                  <a:lnTo>
                    <a:pt x="1584" y="81"/>
                  </a:lnTo>
                  <a:lnTo>
                    <a:pt x="1580" y="81"/>
                  </a:lnTo>
                  <a:lnTo>
                    <a:pt x="1575" y="81"/>
                  </a:lnTo>
                  <a:lnTo>
                    <a:pt x="1571" y="81"/>
                  </a:lnTo>
                  <a:lnTo>
                    <a:pt x="1571" y="81"/>
                  </a:lnTo>
                  <a:lnTo>
                    <a:pt x="1559" y="81"/>
                  </a:lnTo>
                  <a:lnTo>
                    <a:pt x="1559" y="81"/>
                  </a:lnTo>
                  <a:lnTo>
                    <a:pt x="1555" y="81"/>
                  </a:lnTo>
                  <a:lnTo>
                    <a:pt x="1551" y="81"/>
                  </a:lnTo>
                  <a:lnTo>
                    <a:pt x="1551" y="81"/>
                  </a:lnTo>
                  <a:lnTo>
                    <a:pt x="1539" y="81"/>
                  </a:lnTo>
                  <a:lnTo>
                    <a:pt x="1539" y="81"/>
                  </a:lnTo>
                  <a:lnTo>
                    <a:pt x="1535" y="81"/>
                  </a:lnTo>
                  <a:lnTo>
                    <a:pt x="1531" y="81"/>
                  </a:lnTo>
                  <a:lnTo>
                    <a:pt x="1527" y="81"/>
                  </a:lnTo>
                  <a:lnTo>
                    <a:pt x="1519" y="81"/>
                  </a:lnTo>
                  <a:lnTo>
                    <a:pt x="1515" y="81"/>
                  </a:lnTo>
                  <a:lnTo>
                    <a:pt x="1511" y="81"/>
                  </a:lnTo>
                  <a:lnTo>
                    <a:pt x="1507" y="81"/>
                  </a:lnTo>
                  <a:lnTo>
                    <a:pt x="1499" y="81"/>
                  </a:lnTo>
                  <a:lnTo>
                    <a:pt x="1495" y="81"/>
                  </a:lnTo>
                  <a:lnTo>
                    <a:pt x="1490" y="81"/>
                  </a:lnTo>
                  <a:lnTo>
                    <a:pt x="1490" y="81"/>
                  </a:lnTo>
                  <a:lnTo>
                    <a:pt x="1486" y="81"/>
                  </a:lnTo>
                  <a:lnTo>
                    <a:pt x="1478" y="81"/>
                  </a:lnTo>
                  <a:lnTo>
                    <a:pt x="1474" y="81"/>
                  </a:lnTo>
                  <a:lnTo>
                    <a:pt x="1470" y="81"/>
                  </a:lnTo>
                  <a:lnTo>
                    <a:pt x="1470" y="81"/>
                  </a:lnTo>
                  <a:lnTo>
                    <a:pt x="1466" y="81"/>
                  </a:lnTo>
                  <a:lnTo>
                    <a:pt x="1458" y="81"/>
                  </a:lnTo>
                  <a:lnTo>
                    <a:pt x="1454" y="81"/>
                  </a:lnTo>
                  <a:lnTo>
                    <a:pt x="1450" y="81"/>
                  </a:lnTo>
                  <a:lnTo>
                    <a:pt x="1446" y="81"/>
                  </a:lnTo>
                  <a:lnTo>
                    <a:pt x="1434" y="81"/>
                  </a:lnTo>
                  <a:lnTo>
                    <a:pt x="1434" y="81"/>
                  </a:lnTo>
                  <a:lnTo>
                    <a:pt x="1430" y="81"/>
                  </a:lnTo>
                  <a:lnTo>
                    <a:pt x="1426" y="81"/>
                  </a:lnTo>
                  <a:lnTo>
                    <a:pt x="1426" y="81"/>
                  </a:lnTo>
                  <a:lnTo>
                    <a:pt x="1414" y="81"/>
                  </a:lnTo>
                  <a:lnTo>
                    <a:pt x="1414" y="81"/>
                  </a:lnTo>
                  <a:lnTo>
                    <a:pt x="1409" y="81"/>
                  </a:lnTo>
                  <a:lnTo>
                    <a:pt x="1405" y="81"/>
                  </a:lnTo>
                  <a:lnTo>
                    <a:pt x="1401" y="81"/>
                  </a:lnTo>
                  <a:lnTo>
                    <a:pt x="1389" y="81"/>
                  </a:lnTo>
                  <a:lnTo>
                    <a:pt x="1385" y="81"/>
                  </a:lnTo>
                  <a:lnTo>
                    <a:pt x="1381" y="81"/>
                  </a:lnTo>
                  <a:lnTo>
                    <a:pt x="1373" y="81"/>
                  </a:lnTo>
                  <a:lnTo>
                    <a:pt x="1369" y="81"/>
                  </a:lnTo>
                  <a:lnTo>
                    <a:pt x="1365" y="81"/>
                  </a:lnTo>
                  <a:lnTo>
                    <a:pt x="1365" y="81"/>
                  </a:lnTo>
                  <a:lnTo>
                    <a:pt x="1361" y="81"/>
                  </a:lnTo>
                  <a:lnTo>
                    <a:pt x="1353" y="81"/>
                  </a:lnTo>
                  <a:lnTo>
                    <a:pt x="1349" y="81"/>
                  </a:lnTo>
                  <a:lnTo>
                    <a:pt x="1345" y="81"/>
                  </a:lnTo>
                  <a:lnTo>
                    <a:pt x="1345" y="81"/>
                  </a:lnTo>
                  <a:lnTo>
                    <a:pt x="1341" y="81"/>
                  </a:lnTo>
                  <a:lnTo>
                    <a:pt x="1328" y="81"/>
                  </a:lnTo>
                  <a:lnTo>
                    <a:pt x="1324" y="81"/>
                  </a:lnTo>
                  <a:lnTo>
                    <a:pt x="1320" y="81"/>
                  </a:lnTo>
                  <a:lnTo>
                    <a:pt x="1320" y="81"/>
                  </a:lnTo>
                  <a:lnTo>
                    <a:pt x="1308" y="81"/>
                  </a:lnTo>
                  <a:lnTo>
                    <a:pt x="1308" y="81"/>
                  </a:lnTo>
                  <a:lnTo>
                    <a:pt x="1304" y="81"/>
                  </a:lnTo>
                  <a:lnTo>
                    <a:pt x="1300" y="81"/>
                  </a:lnTo>
                  <a:lnTo>
                    <a:pt x="1296" y="81"/>
                  </a:lnTo>
                  <a:lnTo>
                    <a:pt x="1288" y="81"/>
                  </a:lnTo>
                  <a:lnTo>
                    <a:pt x="1288" y="81"/>
                  </a:lnTo>
                  <a:lnTo>
                    <a:pt x="1284" y="81"/>
                  </a:lnTo>
                  <a:lnTo>
                    <a:pt x="1280" y="81"/>
                  </a:lnTo>
                  <a:lnTo>
                    <a:pt x="1276" y="81"/>
                  </a:lnTo>
                  <a:lnTo>
                    <a:pt x="1268" y="81"/>
                  </a:lnTo>
                  <a:lnTo>
                    <a:pt x="1264" y="81"/>
                  </a:lnTo>
                  <a:lnTo>
                    <a:pt x="1264" y="81"/>
                  </a:lnTo>
                  <a:lnTo>
                    <a:pt x="1260" y="81"/>
                  </a:lnTo>
                  <a:lnTo>
                    <a:pt x="1256" y="81"/>
                  </a:lnTo>
                  <a:lnTo>
                    <a:pt x="1248" y="81"/>
                  </a:lnTo>
                  <a:lnTo>
                    <a:pt x="1243" y="81"/>
                  </a:lnTo>
                  <a:lnTo>
                    <a:pt x="1239" y="81"/>
                  </a:lnTo>
                  <a:lnTo>
                    <a:pt x="1239" y="81"/>
                  </a:lnTo>
                  <a:lnTo>
                    <a:pt x="1235" y="81"/>
                  </a:lnTo>
                  <a:lnTo>
                    <a:pt x="1227" y="81"/>
                  </a:lnTo>
                  <a:lnTo>
                    <a:pt x="1223" y="81"/>
                  </a:lnTo>
                  <a:lnTo>
                    <a:pt x="1219" y="81"/>
                  </a:lnTo>
                  <a:lnTo>
                    <a:pt x="1219" y="81"/>
                  </a:lnTo>
                  <a:lnTo>
                    <a:pt x="1215" y="81"/>
                  </a:lnTo>
                  <a:lnTo>
                    <a:pt x="1207" y="81"/>
                  </a:lnTo>
                  <a:lnTo>
                    <a:pt x="1203" y="81"/>
                  </a:lnTo>
                  <a:lnTo>
                    <a:pt x="1199" y="81"/>
                  </a:lnTo>
                  <a:lnTo>
                    <a:pt x="1195" y="81"/>
                  </a:lnTo>
                  <a:lnTo>
                    <a:pt x="1195" y="81"/>
                  </a:lnTo>
                  <a:lnTo>
                    <a:pt x="1183" y="81"/>
                  </a:lnTo>
                  <a:lnTo>
                    <a:pt x="1183" y="81"/>
                  </a:lnTo>
                  <a:lnTo>
                    <a:pt x="1179" y="81"/>
                  </a:lnTo>
                  <a:lnTo>
                    <a:pt x="1175" y="81"/>
                  </a:lnTo>
                  <a:lnTo>
                    <a:pt x="1171" y="81"/>
                  </a:lnTo>
                  <a:lnTo>
                    <a:pt x="1162" y="81"/>
                  </a:lnTo>
                  <a:lnTo>
                    <a:pt x="1162" y="81"/>
                  </a:lnTo>
                  <a:lnTo>
                    <a:pt x="1158" y="81"/>
                  </a:lnTo>
                  <a:lnTo>
                    <a:pt x="1154" y="81"/>
                  </a:lnTo>
                  <a:lnTo>
                    <a:pt x="1150" y="81"/>
                  </a:lnTo>
                  <a:lnTo>
                    <a:pt x="1142" y="81"/>
                  </a:lnTo>
                  <a:lnTo>
                    <a:pt x="1138" y="81"/>
                  </a:lnTo>
                  <a:lnTo>
                    <a:pt x="1138" y="81"/>
                  </a:lnTo>
                  <a:lnTo>
                    <a:pt x="1134" y="81"/>
                  </a:lnTo>
                  <a:lnTo>
                    <a:pt x="1130" y="81"/>
                  </a:lnTo>
                  <a:lnTo>
                    <a:pt x="1122" y="81"/>
                  </a:lnTo>
                  <a:lnTo>
                    <a:pt x="1118" y="81"/>
                  </a:lnTo>
                  <a:lnTo>
                    <a:pt x="1114" y="81"/>
                  </a:lnTo>
                  <a:lnTo>
                    <a:pt x="1114" y="81"/>
                  </a:lnTo>
                  <a:lnTo>
                    <a:pt x="1110" y="81"/>
                  </a:lnTo>
                  <a:lnTo>
                    <a:pt x="1102" y="81"/>
                  </a:lnTo>
                  <a:lnTo>
                    <a:pt x="1098" y="81"/>
                  </a:lnTo>
                  <a:lnTo>
                    <a:pt x="1094" y="81"/>
                  </a:lnTo>
                  <a:lnTo>
                    <a:pt x="1094" y="81"/>
                  </a:lnTo>
                  <a:lnTo>
                    <a:pt x="1090" y="81"/>
                  </a:lnTo>
                  <a:lnTo>
                    <a:pt x="1081" y="81"/>
                  </a:lnTo>
                  <a:lnTo>
                    <a:pt x="1077" y="81"/>
                  </a:lnTo>
                  <a:lnTo>
                    <a:pt x="1073" y="81"/>
                  </a:lnTo>
                  <a:lnTo>
                    <a:pt x="1069" y="81"/>
                  </a:lnTo>
                  <a:lnTo>
                    <a:pt x="1069" y="81"/>
                  </a:lnTo>
                  <a:lnTo>
                    <a:pt x="1057" y="81"/>
                  </a:lnTo>
                  <a:lnTo>
                    <a:pt x="1057" y="81"/>
                  </a:lnTo>
                  <a:lnTo>
                    <a:pt x="1053" y="81"/>
                  </a:lnTo>
                  <a:lnTo>
                    <a:pt x="1049" y="81"/>
                  </a:lnTo>
                  <a:lnTo>
                    <a:pt x="1045" y="81"/>
                  </a:lnTo>
                  <a:lnTo>
                    <a:pt x="1037" y="81"/>
                  </a:lnTo>
                  <a:lnTo>
                    <a:pt x="1037" y="81"/>
                  </a:lnTo>
                  <a:lnTo>
                    <a:pt x="1033" y="81"/>
                  </a:lnTo>
                  <a:lnTo>
                    <a:pt x="1029" y="81"/>
                  </a:lnTo>
                  <a:lnTo>
                    <a:pt x="1025" y="81"/>
                  </a:lnTo>
                  <a:lnTo>
                    <a:pt x="1017" y="81"/>
                  </a:lnTo>
                  <a:lnTo>
                    <a:pt x="1013" y="81"/>
                  </a:lnTo>
                  <a:lnTo>
                    <a:pt x="1009" y="81"/>
                  </a:lnTo>
                  <a:lnTo>
                    <a:pt x="1005" y="81"/>
                  </a:lnTo>
                  <a:lnTo>
                    <a:pt x="996" y="81"/>
                  </a:lnTo>
                  <a:lnTo>
                    <a:pt x="992" y="81"/>
                  </a:lnTo>
                  <a:lnTo>
                    <a:pt x="988" y="81"/>
                  </a:lnTo>
                  <a:lnTo>
                    <a:pt x="988" y="81"/>
                  </a:lnTo>
                  <a:lnTo>
                    <a:pt x="984" y="81"/>
                  </a:lnTo>
                  <a:lnTo>
                    <a:pt x="976" y="81"/>
                  </a:lnTo>
                  <a:lnTo>
                    <a:pt x="972" y="81"/>
                  </a:lnTo>
                  <a:lnTo>
                    <a:pt x="968" y="81"/>
                  </a:lnTo>
                  <a:lnTo>
                    <a:pt x="968" y="81"/>
                  </a:lnTo>
                  <a:lnTo>
                    <a:pt x="964" y="81"/>
                  </a:lnTo>
                  <a:lnTo>
                    <a:pt x="956" y="81"/>
                  </a:lnTo>
                  <a:lnTo>
                    <a:pt x="952" y="81"/>
                  </a:lnTo>
                  <a:lnTo>
                    <a:pt x="948" y="81"/>
                  </a:lnTo>
                  <a:lnTo>
                    <a:pt x="944" y="81"/>
                  </a:lnTo>
                  <a:lnTo>
                    <a:pt x="944" y="81"/>
                  </a:lnTo>
                  <a:lnTo>
                    <a:pt x="932" y="81"/>
                  </a:lnTo>
                  <a:lnTo>
                    <a:pt x="932" y="81"/>
                  </a:lnTo>
                  <a:lnTo>
                    <a:pt x="928" y="81"/>
                  </a:lnTo>
                  <a:lnTo>
                    <a:pt x="924" y="81"/>
                  </a:lnTo>
                  <a:lnTo>
                    <a:pt x="920" y="81"/>
                  </a:lnTo>
                  <a:lnTo>
                    <a:pt x="911" y="81"/>
                  </a:lnTo>
                  <a:lnTo>
                    <a:pt x="907" y="81"/>
                  </a:lnTo>
                  <a:lnTo>
                    <a:pt x="907" y="81"/>
                  </a:lnTo>
                  <a:lnTo>
                    <a:pt x="903" y="81"/>
                  </a:lnTo>
                  <a:lnTo>
                    <a:pt x="899" y="81"/>
                  </a:lnTo>
                  <a:lnTo>
                    <a:pt x="891" y="81"/>
                  </a:lnTo>
                  <a:lnTo>
                    <a:pt x="887" y="81"/>
                  </a:lnTo>
                  <a:lnTo>
                    <a:pt x="887" y="81"/>
                  </a:lnTo>
                  <a:lnTo>
                    <a:pt x="883" y="81"/>
                  </a:lnTo>
                  <a:lnTo>
                    <a:pt x="879" y="81"/>
                  </a:lnTo>
                  <a:lnTo>
                    <a:pt x="871" y="81"/>
                  </a:lnTo>
                  <a:lnTo>
                    <a:pt x="867" y="81"/>
                  </a:lnTo>
                  <a:lnTo>
                    <a:pt x="863" y="81"/>
                  </a:lnTo>
                  <a:lnTo>
                    <a:pt x="863" y="81"/>
                  </a:lnTo>
                  <a:lnTo>
                    <a:pt x="859" y="81"/>
                  </a:lnTo>
                  <a:lnTo>
                    <a:pt x="851" y="81"/>
                  </a:lnTo>
                  <a:lnTo>
                    <a:pt x="847" y="81"/>
                  </a:lnTo>
                  <a:lnTo>
                    <a:pt x="843" y="81"/>
                  </a:lnTo>
                  <a:lnTo>
                    <a:pt x="843" y="81"/>
                  </a:lnTo>
                  <a:lnTo>
                    <a:pt x="830" y="81"/>
                  </a:lnTo>
                  <a:lnTo>
                    <a:pt x="826" y="81"/>
                  </a:lnTo>
                  <a:lnTo>
                    <a:pt x="822" y="81"/>
                  </a:lnTo>
                  <a:lnTo>
                    <a:pt x="818" y="81"/>
                  </a:lnTo>
                  <a:lnTo>
                    <a:pt x="818" y="81"/>
                  </a:lnTo>
                  <a:lnTo>
                    <a:pt x="806" y="81"/>
                  </a:lnTo>
                  <a:lnTo>
                    <a:pt x="806" y="81"/>
                  </a:lnTo>
                  <a:lnTo>
                    <a:pt x="802" y="81"/>
                  </a:lnTo>
                  <a:lnTo>
                    <a:pt x="798" y="81"/>
                  </a:lnTo>
                  <a:lnTo>
                    <a:pt x="794" y="81"/>
                  </a:lnTo>
                  <a:lnTo>
                    <a:pt x="786" y="81"/>
                  </a:lnTo>
                  <a:lnTo>
                    <a:pt x="782" y="81"/>
                  </a:lnTo>
                  <a:lnTo>
                    <a:pt x="782" y="81"/>
                  </a:lnTo>
                  <a:lnTo>
                    <a:pt x="778" y="81"/>
                  </a:lnTo>
                  <a:lnTo>
                    <a:pt x="774" y="81"/>
                  </a:lnTo>
                  <a:lnTo>
                    <a:pt x="766" y="81"/>
                  </a:lnTo>
                  <a:lnTo>
                    <a:pt x="762" y="81"/>
                  </a:lnTo>
                  <a:lnTo>
                    <a:pt x="762" y="81"/>
                  </a:lnTo>
                  <a:lnTo>
                    <a:pt x="758" y="81"/>
                  </a:lnTo>
                  <a:lnTo>
                    <a:pt x="754" y="81"/>
                  </a:lnTo>
                  <a:lnTo>
                    <a:pt x="745" y="81"/>
                  </a:lnTo>
                  <a:lnTo>
                    <a:pt x="741" y="81"/>
                  </a:lnTo>
                  <a:lnTo>
                    <a:pt x="737" y="81"/>
                  </a:lnTo>
                  <a:lnTo>
                    <a:pt x="737" y="81"/>
                  </a:lnTo>
                  <a:lnTo>
                    <a:pt x="733" y="81"/>
                  </a:lnTo>
                  <a:lnTo>
                    <a:pt x="725" y="81"/>
                  </a:lnTo>
                  <a:lnTo>
                    <a:pt x="721" y="81"/>
                  </a:lnTo>
                  <a:lnTo>
                    <a:pt x="717" y="81"/>
                  </a:lnTo>
                  <a:lnTo>
                    <a:pt x="713" y="81"/>
                  </a:lnTo>
                  <a:lnTo>
                    <a:pt x="713" y="81"/>
                  </a:lnTo>
                  <a:lnTo>
                    <a:pt x="705" y="81"/>
                  </a:lnTo>
                  <a:lnTo>
                    <a:pt x="701" y="81"/>
                  </a:lnTo>
                  <a:lnTo>
                    <a:pt x="697" y="81"/>
                  </a:lnTo>
                  <a:lnTo>
                    <a:pt x="693" y="81"/>
                  </a:lnTo>
                  <a:lnTo>
                    <a:pt x="693" y="81"/>
                  </a:lnTo>
                  <a:lnTo>
                    <a:pt x="681" y="81"/>
                  </a:lnTo>
                  <a:lnTo>
                    <a:pt x="681" y="81"/>
                  </a:lnTo>
                  <a:lnTo>
                    <a:pt x="677" y="81"/>
                  </a:lnTo>
                  <a:lnTo>
                    <a:pt x="673" y="81"/>
                  </a:lnTo>
                  <a:lnTo>
                    <a:pt x="660" y="81"/>
                  </a:lnTo>
                  <a:lnTo>
                    <a:pt x="656" y="81"/>
                  </a:lnTo>
                  <a:lnTo>
                    <a:pt x="656" y="81"/>
                  </a:lnTo>
                  <a:lnTo>
                    <a:pt x="652" y="81"/>
                  </a:lnTo>
                  <a:lnTo>
                    <a:pt x="648" y="81"/>
                  </a:lnTo>
                  <a:lnTo>
                    <a:pt x="640" y="81"/>
                  </a:lnTo>
                  <a:lnTo>
                    <a:pt x="636" y="81"/>
                  </a:lnTo>
                  <a:lnTo>
                    <a:pt x="636" y="81"/>
                  </a:lnTo>
                  <a:lnTo>
                    <a:pt x="632" y="81"/>
                  </a:lnTo>
                  <a:lnTo>
                    <a:pt x="628" y="81"/>
                  </a:lnTo>
                  <a:lnTo>
                    <a:pt x="620" y="81"/>
                  </a:lnTo>
                  <a:lnTo>
                    <a:pt x="616" y="81"/>
                  </a:lnTo>
                  <a:lnTo>
                    <a:pt x="612" y="81"/>
                  </a:lnTo>
                  <a:lnTo>
                    <a:pt x="612" y="81"/>
                  </a:lnTo>
                  <a:lnTo>
                    <a:pt x="608" y="81"/>
                  </a:lnTo>
                  <a:lnTo>
                    <a:pt x="600" y="81"/>
                  </a:lnTo>
                  <a:lnTo>
                    <a:pt x="596" y="81"/>
                  </a:lnTo>
                  <a:lnTo>
                    <a:pt x="592" y="81"/>
                  </a:lnTo>
                  <a:lnTo>
                    <a:pt x="588" y="81"/>
                  </a:lnTo>
                  <a:lnTo>
                    <a:pt x="588" y="81"/>
                  </a:lnTo>
                  <a:lnTo>
                    <a:pt x="579" y="81"/>
                  </a:lnTo>
                  <a:lnTo>
                    <a:pt x="575" y="81"/>
                  </a:lnTo>
                  <a:lnTo>
                    <a:pt x="571" y="81"/>
                  </a:lnTo>
                  <a:lnTo>
                    <a:pt x="567" y="81"/>
                  </a:lnTo>
                  <a:lnTo>
                    <a:pt x="567" y="81"/>
                  </a:lnTo>
                  <a:lnTo>
                    <a:pt x="555" y="81"/>
                  </a:lnTo>
                  <a:lnTo>
                    <a:pt x="555" y="81"/>
                  </a:lnTo>
                  <a:lnTo>
                    <a:pt x="551" y="81"/>
                  </a:lnTo>
                  <a:lnTo>
                    <a:pt x="547" y="81"/>
                  </a:lnTo>
                  <a:lnTo>
                    <a:pt x="543" y="81"/>
                  </a:lnTo>
                  <a:lnTo>
                    <a:pt x="535" y="81"/>
                  </a:lnTo>
                  <a:lnTo>
                    <a:pt x="531" y="81"/>
                  </a:lnTo>
                  <a:lnTo>
                    <a:pt x="531" y="81"/>
                  </a:lnTo>
                  <a:lnTo>
                    <a:pt x="527" y="81"/>
                  </a:lnTo>
                  <a:lnTo>
                    <a:pt x="523" y="81"/>
                  </a:lnTo>
                  <a:lnTo>
                    <a:pt x="515" y="81"/>
                  </a:lnTo>
                  <a:lnTo>
                    <a:pt x="511" y="81"/>
                  </a:lnTo>
                  <a:lnTo>
                    <a:pt x="511" y="81"/>
                  </a:lnTo>
                  <a:lnTo>
                    <a:pt x="507" y="81"/>
                  </a:lnTo>
                  <a:lnTo>
                    <a:pt x="494" y="81"/>
                  </a:lnTo>
                  <a:lnTo>
                    <a:pt x="490" y="81"/>
                  </a:lnTo>
                  <a:lnTo>
                    <a:pt x="486" y="81"/>
                  </a:lnTo>
                  <a:lnTo>
                    <a:pt x="486" y="81"/>
                  </a:lnTo>
                  <a:lnTo>
                    <a:pt x="482" y="81"/>
                  </a:lnTo>
                  <a:lnTo>
                    <a:pt x="474" y="81"/>
                  </a:lnTo>
                  <a:lnTo>
                    <a:pt x="470" y="81"/>
                  </a:lnTo>
                  <a:lnTo>
                    <a:pt x="466" y="81"/>
                  </a:lnTo>
                  <a:lnTo>
                    <a:pt x="462" y="81"/>
                  </a:lnTo>
                  <a:lnTo>
                    <a:pt x="462" y="81"/>
                  </a:lnTo>
                  <a:lnTo>
                    <a:pt x="454" y="81"/>
                  </a:lnTo>
                  <a:lnTo>
                    <a:pt x="450" y="81"/>
                  </a:lnTo>
                  <a:lnTo>
                    <a:pt x="446" y="81"/>
                  </a:lnTo>
                  <a:lnTo>
                    <a:pt x="442" y="81"/>
                  </a:lnTo>
                  <a:lnTo>
                    <a:pt x="442" y="81"/>
                  </a:lnTo>
                  <a:lnTo>
                    <a:pt x="430" y="81"/>
                  </a:lnTo>
                  <a:lnTo>
                    <a:pt x="430" y="81"/>
                  </a:lnTo>
                  <a:lnTo>
                    <a:pt x="422" y="81"/>
                  </a:lnTo>
                  <a:lnTo>
                    <a:pt x="417" y="81"/>
                  </a:lnTo>
                  <a:lnTo>
                    <a:pt x="409" y="81"/>
                  </a:lnTo>
                  <a:lnTo>
                    <a:pt x="405" y="81"/>
                  </a:lnTo>
                  <a:lnTo>
                    <a:pt x="405" y="81"/>
                  </a:lnTo>
                  <a:lnTo>
                    <a:pt x="401" y="81"/>
                  </a:lnTo>
                  <a:lnTo>
                    <a:pt x="397" y="81"/>
                  </a:lnTo>
                  <a:lnTo>
                    <a:pt x="389" y="81"/>
                  </a:lnTo>
                  <a:lnTo>
                    <a:pt x="385" y="81"/>
                  </a:lnTo>
                  <a:lnTo>
                    <a:pt x="385" y="81"/>
                  </a:lnTo>
                  <a:lnTo>
                    <a:pt x="381" y="81"/>
                  </a:lnTo>
                  <a:lnTo>
                    <a:pt x="377" y="81"/>
                  </a:lnTo>
                  <a:lnTo>
                    <a:pt x="369" y="81"/>
                  </a:lnTo>
                  <a:lnTo>
                    <a:pt x="365" y="81"/>
                  </a:lnTo>
                  <a:lnTo>
                    <a:pt x="361" y="81"/>
                  </a:lnTo>
                  <a:lnTo>
                    <a:pt x="361" y="81"/>
                  </a:lnTo>
                  <a:lnTo>
                    <a:pt x="357" y="81"/>
                  </a:lnTo>
                  <a:lnTo>
                    <a:pt x="349" y="81"/>
                  </a:lnTo>
                  <a:lnTo>
                    <a:pt x="345" y="81"/>
                  </a:lnTo>
                  <a:lnTo>
                    <a:pt x="341" y="81"/>
                  </a:lnTo>
                  <a:lnTo>
                    <a:pt x="336" y="81"/>
                  </a:lnTo>
                  <a:lnTo>
                    <a:pt x="336" y="81"/>
                  </a:lnTo>
                  <a:lnTo>
                    <a:pt x="324" y="81"/>
                  </a:lnTo>
                  <a:lnTo>
                    <a:pt x="324" y="81"/>
                  </a:lnTo>
                  <a:lnTo>
                    <a:pt x="320" y="81"/>
                  </a:lnTo>
                  <a:lnTo>
                    <a:pt x="316" y="81"/>
                  </a:lnTo>
                  <a:lnTo>
                    <a:pt x="316" y="81"/>
                  </a:lnTo>
                  <a:lnTo>
                    <a:pt x="304" y="81"/>
                  </a:lnTo>
                  <a:lnTo>
                    <a:pt x="304" y="81"/>
                  </a:lnTo>
                  <a:lnTo>
                    <a:pt x="300" y="81"/>
                  </a:lnTo>
                  <a:lnTo>
                    <a:pt x="296" y="81"/>
                  </a:lnTo>
                  <a:lnTo>
                    <a:pt x="292" y="81"/>
                  </a:lnTo>
                  <a:lnTo>
                    <a:pt x="284" y="81"/>
                  </a:lnTo>
                  <a:lnTo>
                    <a:pt x="280" y="81"/>
                  </a:lnTo>
                  <a:lnTo>
                    <a:pt x="280" y="81"/>
                  </a:lnTo>
                  <a:lnTo>
                    <a:pt x="276" y="81"/>
                  </a:lnTo>
                  <a:lnTo>
                    <a:pt x="272" y="81"/>
                  </a:lnTo>
                  <a:lnTo>
                    <a:pt x="264" y="81"/>
                  </a:lnTo>
                  <a:lnTo>
                    <a:pt x="260" y="81"/>
                  </a:lnTo>
                  <a:lnTo>
                    <a:pt x="260" y="81"/>
                  </a:lnTo>
                  <a:lnTo>
                    <a:pt x="255" y="81"/>
                  </a:lnTo>
                  <a:lnTo>
                    <a:pt x="251" y="81"/>
                  </a:lnTo>
                  <a:lnTo>
                    <a:pt x="235" y="81"/>
                  </a:lnTo>
                  <a:lnTo>
                    <a:pt x="235" y="81"/>
                  </a:lnTo>
                  <a:lnTo>
                    <a:pt x="231" y="81"/>
                  </a:lnTo>
                  <a:lnTo>
                    <a:pt x="223" y="81"/>
                  </a:lnTo>
                  <a:lnTo>
                    <a:pt x="219" y="81"/>
                  </a:lnTo>
                  <a:lnTo>
                    <a:pt x="215" y="81"/>
                  </a:lnTo>
                  <a:lnTo>
                    <a:pt x="211" y="81"/>
                  </a:lnTo>
                  <a:lnTo>
                    <a:pt x="211" y="81"/>
                  </a:lnTo>
                  <a:lnTo>
                    <a:pt x="199" y="81"/>
                  </a:lnTo>
                  <a:lnTo>
                    <a:pt x="199" y="81"/>
                  </a:lnTo>
                  <a:lnTo>
                    <a:pt x="195" y="81"/>
                  </a:lnTo>
                  <a:lnTo>
                    <a:pt x="191" y="81"/>
                  </a:lnTo>
                  <a:lnTo>
                    <a:pt x="191" y="81"/>
                  </a:lnTo>
                  <a:lnTo>
                    <a:pt x="179" y="81"/>
                  </a:lnTo>
                  <a:lnTo>
                    <a:pt x="179" y="81"/>
                  </a:lnTo>
                  <a:lnTo>
                    <a:pt x="175" y="81"/>
                  </a:lnTo>
                  <a:lnTo>
                    <a:pt x="170" y="81"/>
                  </a:lnTo>
                  <a:lnTo>
                    <a:pt x="166" y="81"/>
                  </a:lnTo>
                  <a:lnTo>
                    <a:pt x="158" y="81"/>
                  </a:lnTo>
                  <a:lnTo>
                    <a:pt x="154" y="81"/>
                  </a:lnTo>
                  <a:lnTo>
                    <a:pt x="154" y="81"/>
                  </a:lnTo>
                  <a:lnTo>
                    <a:pt x="150" y="81"/>
                  </a:lnTo>
                  <a:lnTo>
                    <a:pt x="146" y="81"/>
                  </a:lnTo>
                  <a:lnTo>
                    <a:pt x="138" y="81"/>
                  </a:lnTo>
                  <a:lnTo>
                    <a:pt x="134" y="81"/>
                  </a:lnTo>
                  <a:lnTo>
                    <a:pt x="130" y="81"/>
                  </a:lnTo>
                  <a:lnTo>
                    <a:pt x="130" y="81"/>
                  </a:lnTo>
                  <a:lnTo>
                    <a:pt x="126" y="81"/>
                  </a:lnTo>
                  <a:lnTo>
                    <a:pt x="118" y="81"/>
                  </a:lnTo>
                  <a:lnTo>
                    <a:pt x="114" y="81"/>
                  </a:lnTo>
                  <a:lnTo>
                    <a:pt x="110" y="81"/>
                  </a:lnTo>
                  <a:lnTo>
                    <a:pt x="110" y="81"/>
                  </a:lnTo>
                  <a:lnTo>
                    <a:pt x="106" y="81"/>
                  </a:lnTo>
                  <a:lnTo>
                    <a:pt x="98" y="81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1"/>
                  </a:lnTo>
                  <a:lnTo>
                    <a:pt x="85" y="81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69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53" y="81"/>
                  </a:lnTo>
                  <a:lnTo>
                    <a:pt x="53" y="81"/>
                  </a:lnTo>
                  <a:lnTo>
                    <a:pt x="49" y="81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3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5" y="81"/>
                  </a:lnTo>
                  <a:lnTo>
                    <a:pt x="21" y="81"/>
                  </a:lnTo>
                  <a:lnTo>
                    <a:pt x="13" y="81"/>
                  </a:lnTo>
                  <a:lnTo>
                    <a:pt x="9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160" y="2670120"/>
              <a:ext cx="3046320" cy="2300400"/>
            </a:xfrm>
            <a:custGeom>
              <a:avLst/>
              <a:gdLst/>
              <a:ahLst/>
              <a:rect l="l" t="t" r="r" b="b"/>
              <a:pathLst>
                <a:path w="1919" h="1449">
                  <a:moveTo>
                    <a:pt x="0" y="955"/>
                  </a:moveTo>
                  <a:lnTo>
                    <a:pt x="0" y="296"/>
                  </a:lnTo>
                  <a:lnTo>
                    <a:pt x="4" y="271"/>
                  </a:lnTo>
                  <a:lnTo>
                    <a:pt x="4" y="247"/>
                  </a:lnTo>
                  <a:lnTo>
                    <a:pt x="16" y="227"/>
                  </a:lnTo>
                  <a:lnTo>
                    <a:pt x="20" y="203"/>
                  </a:lnTo>
                  <a:lnTo>
                    <a:pt x="24" y="195"/>
                  </a:lnTo>
                  <a:lnTo>
                    <a:pt x="28" y="187"/>
                  </a:lnTo>
                  <a:lnTo>
                    <a:pt x="36" y="187"/>
                  </a:lnTo>
                  <a:lnTo>
                    <a:pt x="40" y="187"/>
                  </a:lnTo>
                  <a:lnTo>
                    <a:pt x="40" y="178"/>
                  </a:lnTo>
                  <a:lnTo>
                    <a:pt x="44" y="162"/>
                  </a:lnTo>
                  <a:lnTo>
                    <a:pt x="48" y="158"/>
                  </a:lnTo>
                  <a:lnTo>
                    <a:pt x="56" y="166"/>
                  </a:lnTo>
                  <a:lnTo>
                    <a:pt x="60" y="166"/>
                  </a:lnTo>
                  <a:lnTo>
                    <a:pt x="60" y="166"/>
                  </a:lnTo>
                  <a:lnTo>
                    <a:pt x="64" y="174"/>
                  </a:lnTo>
                  <a:lnTo>
                    <a:pt x="68" y="174"/>
                  </a:lnTo>
                  <a:lnTo>
                    <a:pt x="77" y="178"/>
                  </a:lnTo>
                  <a:lnTo>
                    <a:pt x="81" y="178"/>
                  </a:lnTo>
                  <a:lnTo>
                    <a:pt x="85" y="182"/>
                  </a:lnTo>
                  <a:lnTo>
                    <a:pt x="85" y="187"/>
                  </a:lnTo>
                  <a:lnTo>
                    <a:pt x="89" y="191"/>
                  </a:lnTo>
                  <a:lnTo>
                    <a:pt x="97" y="199"/>
                  </a:lnTo>
                  <a:lnTo>
                    <a:pt x="101" y="207"/>
                  </a:lnTo>
                  <a:lnTo>
                    <a:pt x="105" y="203"/>
                  </a:lnTo>
                  <a:lnTo>
                    <a:pt x="105" y="207"/>
                  </a:lnTo>
                  <a:lnTo>
                    <a:pt x="109" y="203"/>
                  </a:lnTo>
                  <a:lnTo>
                    <a:pt x="117" y="207"/>
                  </a:lnTo>
                  <a:lnTo>
                    <a:pt x="121" y="203"/>
                  </a:lnTo>
                  <a:lnTo>
                    <a:pt x="125" y="211"/>
                  </a:lnTo>
                  <a:lnTo>
                    <a:pt x="129" y="223"/>
                  </a:lnTo>
                  <a:lnTo>
                    <a:pt x="129" y="235"/>
                  </a:lnTo>
                  <a:lnTo>
                    <a:pt x="141" y="227"/>
                  </a:lnTo>
                  <a:lnTo>
                    <a:pt x="141" y="231"/>
                  </a:lnTo>
                  <a:lnTo>
                    <a:pt x="145" y="227"/>
                  </a:lnTo>
                  <a:lnTo>
                    <a:pt x="149" y="235"/>
                  </a:lnTo>
                  <a:lnTo>
                    <a:pt x="153" y="243"/>
                  </a:lnTo>
                  <a:lnTo>
                    <a:pt x="162" y="247"/>
                  </a:lnTo>
                  <a:lnTo>
                    <a:pt x="166" y="251"/>
                  </a:lnTo>
                  <a:lnTo>
                    <a:pt x="166" y="259"/>
                  </a:lnTo>
                  <a:lnTo>
                    <a:pt x="170" y="267"/>
                  </a:lnTo>
                  <a:lnTo>
                    <a:pt x="174" y="267"/>
                  </a:lnTo>
                  <a:lnTo>
                    <a:pt x="182" y="276"/>
                  </a:lnTo>
                  <a:lnTo>
                    <a:pt x="186" y="280"/>
                  </a:lnTo>
                  <a:lnTo>
                    <a:pt x="186" y="280"/>
                  </a:lnTo>
                  <a:lnTo>
                    <a:pt x="190" y="271"/>
                  </a:lnTo>
                  <a:lnTo>
                    <a:pt x="194" y="280"/>
                  </a:lnTo>
                  <a:lnTo>
                    <a:pt x="202" y="276"/>
                  </a:lnTo>
                  <a:lnTo>
                    <a:pt x="206" y="271"/>
                  </a:lnTo>
                  <a:lnTo>
                    <a:pt x="210" y="280"/>
                  </a:lnTo>
                  <a:lnTo>
                    <a:pt x="210" y="280"/>
                  </a:lnTo>
                  <a:lnTo>
                    <a:pt x="214" y="284"/>
                  </a:lnTo>
                  <a:lnTo>
                    <a:pt x="222" y="280"/>
                  </a:lnTo>
                  <a:lnTo>
                    <a:pt x="226" y="288"/>
                  </a:lnTo>
                  <a:lnTo>
                    <a:pt x="230" y="284"/>
                  </a:lnTo>
                  <a:lnTo>
                    <a:pt x="234" y="284"/>
                  </a:lnTo>
                  <a:lnTo>
                    <a:pt x="234" y="284"/>
                  </a:lnTo>
                  <a:lnTo>
                    <a:pt x="243" y="292"/>
                  </a:lnTo>
                  <a:lnTo>
                    <a:pt x="247" y="292"/>
                  </a:lnTo>
                  <a:lnTo>
                    <a:pt x="251" y="304"/>
                  </a:lnTo>
                  <a:lnTo>
                    <a:pt x="255" y="316"/>
                  </a:lnTo>
                  <a:lnTo>
                    <a:pt x="255" y="320"/>
                  </a:lnTo>
                  <a:lnTo>
                    <a:pt x="267" y="320"/>
                  </a:lnTo>
                  <a:lnTo>
                    <a:pt x="267" y="332"/>
                  </a:lnTo>
                  <a:lnTo>
                    <a:pt x="271" y="340"/>
                  </a:lnTo>
                  <a:lnTo>
                    <a:pt x="275" y="348"/>
                  </a:lnTo>
                  <a:lnTo>
                    <a:pt x="279" y="361"/>
                  </a:lnTo>
                  <a:lnTo>
                    <a:pt x="291" y="377"/>
                  </a:lnTo>
                  <a:lnTo>
                    <a:pt x="291" y="373"/>
                  </a:lnTo>
                  <a:lnTo>
                    <a:pt x="307" y="369"/>
                  </a:lnTo>
                  <a:lnTo>
                    <a:pt x="311" y="361"/>
                  </a:lnTo>
                  <a:lnTo>
                    <a:pt x="311" y="340"/>
                  </a:lnTo>
                  <a:lnTo>
                    <a:pt x="315" y="328"/>
                  </a:lnTo>
                  <a:lnTo>
                    <a:pt x="319" y="348"/>
                  </a:lnTo>
                  <a:lnTo>
                    <a:pt x="328" y="344"/>
                  </a:lnTo>
                  <a:lnTo>
                    <a:pt x="332" y="324"/>
                  </a:lnTo>
                  <a:lnTo>
                    <a:pt x="336" y="312"/>
                  </a:lnTo>
                  <a:lnTo>
                    <a:pt x="336" y="316"/>
                  </a:lnTo>
                  <a:lnTo>
                    <a:pt x="340" y="316"/>
                  </a:lnTo>
                  <a:lnTo>
                    <a:pt x="348" y="316"/>
                  </a:lnTo>
                  <a:lnTo>
                    <a:pt x="352" y="300"/>
                  </a:lnTo>
                  <a:lnTo>
                    <a:pt x="356" y="292"/>
                  </a:lnTo>
                  <a:lnTo>
                    <a:pt x="360" y="300"/>
                  </a:lnTo>
                  <a:lnTo>
                    <a:pt x="360" y="296"/>
                  </a:lnTo>
                  <a:lnTo>
                    <a:pt x="368" y="276"/>
                  </a:lnTo>
                  <a:lnTo>
                    <a:pt x="376" y="255"/>
                  </a:lnTo>
                  <a:lnTo>
                    <a:pt x="380" y="247"/>
                  </a:lnTo>
                  <a:lnTo>
                    <a:pt x="380" y="239"/>
                  </a:lnTo>
                  <a:lnTo>
                    <a:pt x="392" y="223"/>
                  </a:lnTo>
                  <a:lnTo>
                    <a:pt x="392" y="211"/>
                  </a:lnTo>
                  <a:lnTo>
                    <a:pt x="396" y="195"/>
                  </a:lnTo>
                  <a:lnTo>
                    <a:pt x="400" y="207"/>
                  </a:lnTo>
                  <a:lnTo>
                    <a:pt x="405" y="215"/>
                  </a:lnTo>
                  <a:lnTo>
                    <a:pt x="413" y="215"/>
                  </a:lnTo>
                  <a:lnTo>
                    <a:pt x="417" y="195"/>
                  </a:lnTo>
                  <a:lnTo>
                    <a:pt x="417" y="199"/>
                  </a:lnTo>
                  <a:lnTo>
                    <a:pt x="421" y="191"/>
                  </a:lnTo>
                  <a:lnTo>
                    <a:pt x="425" y="199"/>
                  </a:lnTo>
                  <a:lnTo>
                    <a:pt x="433" y="195"/>
                  </a:lnTo>
                  <a:lnTo>
                    <a:pt x="437" y="158"/>
                  </a:lnTo>
                  <a:lnTo>
                    <a:pt x="437" y="150"/>
                  </a:lnTo>
                  <a:lnTo>
                    <a:pt x="441" y="154"/>
                  </a:lnTo>
                  <a:lnTo>
                    <a:pt x="453" y="154"/>
                  </a:lnTo>
                  <a:lnTo>
                    <a:pt x="457" y="146"/>
                  </a:lnTo>
                  <a:lnTo>
                    <a:pt x="461" y="134"/>
                  </a:lnTo>
                  <a:lnTo>
                    <a:pt x="461" y="114"/>
                  </a:lnTo>
                  <a:lnTo>
                    <a:pt x="465" y="97"/>
                  </a:lnTo>
                  <a:lnTo>
                    <a:pt x="473" y="93"/>
                  </a:lnTo>
                  <a:lnTo>
                    <a:pt x="477" y="73"/>
                  </a:lnTo>
                  <a:lnTo>
                    <a:pt x="481" y="77"/>
                  </a:lnTo>
                  <a:lnTo>
                    <a:pt x="485" y="81"/>
                  </a:lnTo>
                  <a:lnTo>
                    <a:pt x="485" y="77"/>
                  </a:lnTo>
                  <a:lnTo>
                    <a:pt x="494" y="57"/>
                  </a:lnTo>
                  <a:lnTo>
                    <a:pt x="498" y="65"/>
                  </a:lnTo>
                  <a:lnTo>
                    <a:pt x="502" y="61"/>
                  </a:lnTo>
                  <a:lnTo>
                    <a:pt x="506" y="53"/>
                  </a:lnTo>
                  <a:lnTo>
                    <a:pt x="506" y="33"/>
                  </a:lnTo>
                  <a:lnTo>
                    <a:pt x="518" y="25"/>
                  </a:lnTo>
                  <a:lnTo>
                    <a:pt x="522" y="4"/>
                  </a:lnTo>
                  <a:lnTo>
                    <a:pt x="526" y="0"/>
                  </a:lnTo>
                  <a:lnTo>
                    <a:pt x="530" y="4"/>
                  </a:lnTo>
                  <a:lnTo>
                    <a:pt x="538" y="12"/>
                  </a:lnTo>
                  <a:lnTo>
                    <a:pt x="542" y="21"/>
                  </a:lnTo>
                  <a:lnTo>
                    <a:pt x="542" y="21"/>
                  </a:lnTo>
                  <a:lnTo>
                    <a:pt x="546" y="21"/>
                  </a:lnTo>
                  <a:lnTo>
                    <a:pt x="550" y="12"/>
                  </a:lnTo>
                  <a:lnTo>
                    <a:pt x="558" y="17"/>
                  </a:lnTo>
                  <a:lnTo>
                    <a:pt x="562" y="29"/>
                  </a:lnTo>
                  <a:lnTo>
                    <a:pt x="562" y="41"/>
                  </a:lnTo>
                  <a:lnTo>
                    <a:pt x="566" y="49"/>
                  </a:lnTo>
                  <a:lnTo>
                    <a:pt x="571" y="53"/>
                  </a:lnTo>
                  <a:lnTo>
                    <a:pt x="583" y="61"/>
                  </a:lnTo>
                  <a:lnTo>
                    <a:pt x="587" y="53"/>
                  </a:lnTo>
                  <a:lnTo>
                    <a:pt x="587" y="57"/>
                  </a:lnTo>
                  <a:lnTo>
                    <a:pt x="591" y="81"/>
                  </a:lnTo>
                  <a:lnTo>
                    <a:pt x="599" y="106"/>
                  </a:lnTo>
                  <a:lnTo>
                    <a:pt x="603" y="97"/>
                  </a:lnTo>
                  <a:lnTo>
                    <a:pt x="607" y="102"/>
                  </a:lnTo>
                  <a:lnTo>
                    <a:pt x="611" y="114"/>
                  </a:lnTo>
                  <a:lnTo>
                    <a:pt x="611" y="138"/>
                  </a:lnTo>
                  <a:lnTo>
                    <a:pt x="623" y="142"/>
                  </a:lnTo>
                  <a:lnTo>
                    <a:pt x="623" y="150"/>
                  </a:lnTo>
                  <a:lnTo>
                    <a:pt x="627" y="166"/>
                  </a:lnTo>
                  <a:lnTo>
                    <a:pt x="631" y="199"/>
                  </a:lnTo>
                  <a:lnTo>
                    <a:pt x="631" y="215"/>
                  </a:lnTo>
                  <a:lnTo>
                    <a:pt x="643" y="215"/>
                  </a:lnTo>
                  <a:lnTo>
                    <a:pt x="643" y="223"/>
                  </a:lnTo>
                  <a:lnTo>
                    <a:pt x="647" y="255"/>
                  </a:lnTo>
                  <a:lnTo>
                    <a:pt x="651" y="267"/>
                  </a:lnTo>
                  <a:lnTo>
                    <a:pt x="656" y="288"/>
                  </a:lnTo>
                  <a:lnTo>
                    <a:pt x="664" y="304"/>
                  </a:lnTo>
                  <a:lnTo>
                    <a:pt x="668" y="328"/>
                  </a:lnTo>
                  <a:lnTo>
                    <a:pt x="668" y="352"/>
                  </a:lnTo>
                  <a:lnTo>
                    <a:pt x="672" y="381"/>
                  </a:lnTo>
                  <a:lnTo>
                    <a:pt x="676" y="393"/>
                  </a:lnTo>
                  <a:lnTo>
                    <a:pt x="684" y="397"/>
                  </a:lnTo>
                  <a:lnTo>
                    <a:pt x="688" y="409"/>
                  </a:lnTo>
                  <a:lnTo>
                    <a:pt x="688" y="437"/>
                  </a:lnTo>
                  <a:lnTo>
                    <a:pt x="692" y="458"/>
                  </a:lnTo>
                  <a:lnTo>
                    <a:pt x="696" y="478"/>
                  </a:lnTo>
                  <a:lnTo>
                    <a:pt x="708" y="482"/>
                  </a:lnTo>
                  <a:lnTo>
                    <a:pt x="712" y="494"/>
                  </a:lnTo>
                  <a:lnTo>
                    <a:pt x="712" y="530"/>
                  </a:lnTo>
                  <a:lnTo>
                    <a:pt x="716" y="579"/>
                  </a:lnTo>
                  <a:lnTo>
                    <a:pt x="724" y="599"/>
                  </a:lnTo>
                  <a:lnTo>
                    <a:pt x="728" y="624"/>
                  </a:lnTo>
                  <a:lnTo>
                    <a:pt x="732" y="632"/>
                  </a:lnTo>
                  <a:lnTo>
                    <a:pt x="737" y="644"/>
                  </a:lnTo>
                  <a:lnTo>
                    <a:pt x="737" y="664"/>
                  </a:lnTo>
                  <a:lnTo>
                    <a:pt x="749" y="684"/>
                  </a:lnTo>
                  <a:lnTo>
                    <a:pt x="749" y="696"/>
                  </a:lnTo>
                  <a:lnTo>
                    <a:pt x="753" y="733"/>
                  </a:lnTo>
                  <a:lnTo>
                    <a:pt x="757" y="737"/>
                  </a:lnTo>
                  <a:lnTo>
                    <a:pt x="757" y="745"/>
                  </a:lnTo>
                  <a:lnTo>
                    <a:pt x="769" y="761"/>
                  </a:lnTo>
                  <a:lnTo>
                    <a:pt x="769" y="794"/>
                  </a:lnTo>
                  <a:lnTo>
                    <a:pt x="773" y="781"/>
                  </a:lnTo>
                  <a:lnTo>
                    <a:pt x="777" y="781"/>
                  </a:lnTo>
                  <a:lnTo>
                    <a:pt x="781" y="794"/>
                  </a:lnTo>
                  <a:lnTo>
                    <a:pt x="789" y="822"/>
                  </a:lnTo>
                  <a:lnTo>
                    <a:pt x="793" y="842"/>
                  </a:lnTo>
                  <a:lnTo>
                    <a:pt x="793" y="879"/>
                  </a:lnTo>
                  <a:lnTo>
                    <a:pt x="797" y="899"/>
                  </a:lnTo>
                  <a:lnTo>
                    <a:pt x="801" y="919"/>
                  </a:lnTo>
                  <a:lnTo>
                    <a:pt x="809" y="927"/>
                  </a:lnTo>
                  <a:lnTo>
                    <a:pt x="813" y="923"/>
                  </a:lnTo>
                  <a:lnTo>
                    <a:pt x="818" y="931"/>
                  </a:lnTo>
                  <a:lnTo>
                    <a:pt x="818" y="959"/>
                  </a:lnTo>
                  <a:lnTo>
                    <a:pt x="822" y="992"/>
                  </a:lnTo>
                  <a:lnTo>
                    <a:pt x="830" y="1008"/>
                  </a:lnTo>
                  <a:lnTo>
                    <a:pt x="834" y="1012"/>
                  </a:lnTo>
                  <a:lnTo>
                    <a:pt x="838" y="1016"/>
                  </a:lnTo>
                  <a:lnTo>
                    <a:pt x="838" y="1028"/>
                  </a:lnTo>
                  <a:lnTo>
                    <a:pt x="842" y="1028"/>
                  </a:lnTo>
                  <a:lnTo>
                    <a:pt x="850" y="1036"/>
                  </a:lnTo>
                  <a:lnTo>
                    <a:pt x="854" y="1065"/>
                  </a:lnTo>
                  <a:lnTo>
                    <a:pt x="858" y="1081"/>
                  </a:lnTo>
                  <a:lnTo>
                    <a:pt x="862" y="1085"/>
                  </a:lnTo>
                  <a:lnTo>
                    <a:pt x="862" y="1081"/>
                  </a:lnTo>
                  <a:lnTo>
                    <a:pt x="874" y="1093"/>
                  </a:lnTo>
                  <a:lnTo>
                    <a:pt x="878" y="1097"/>
                  </a:lnTo>
                  <a:lnTo>
                    <a:pt x="882" y="1101"/>
                  </a:lnTo>
                  <a:lnTo>
                    <a:pt x="882" y="1105"/>
                  </a:lnTo>
                  <a:lnTo>
                    <a:pt x="894" y="1109"/>
                  </a:lnTo>
                  <a:lnTo>
                    <a:pt x="894" y="1121"/>
                  </a:lnTo>
                  <a:lnTo>
                    <a:pt x="898" y="1146"/>
                  </a:lnTo>
                  <a:lnTo>
                    <a:pt x="903" y="1154"/>
                  </a:lnTo>
                  <a:lnTo>
                    <a:pt x="907" y="1166"/>
                  </a:lnTo>
                  <a:lnTo>
                    <a:pt x="915" y="1174"/>
                  </a:lnTo>
                  <a:lnTo>
                    <a:pt x="919" y="1178"/>
                  </a:lnTo>
                  <a:lnTo>
                    <a:pt x="919" y="1194"/>
                  </a:lnTo>
                  <a:lnTo>
                    <a:pt x="923" y="1194"/>
                  </a:lnTo>
                  <a:lnTo>
                    <a:pt x="927" y="1170"/>
                  </a:lnTo>
                  <a:lnTo>
                    <a:pt x="935" y="1158"/>
                  </a:lnTo>
                  <a:lnTo>
                    <a:pt x="943" y="1146"/>
                  </a:lnTo>
                  <a:lnTo>
                    <a:pt x="943" y="1138"/>
                  </a:lnTo>
                  <a:lnTo>
                    <a:pt x="947" y="1138"/>
                  </a:lnTo>
                  <a:lnTo>
                    <a:pt x="955" y="1129"/>
                  </a:lnTo>
                  <a:lnTo>
                    <a:pt x="959" y="1125"/>
                  </a:lnTo>
                  <a:lnTo>
                    <a:pt x="963" y="1105"/>
                  </a:lnTo>
                  <a:lnTo>
                    <a:pt x="963" y="1081"/>
                  </a:lnTo>
                  <a:lnTo>
                    <a:pt x="967" y="1061"/>
                  </a:lnTo>
                  <a:lnTo>
                    <a:pt x="975" y="1057"/>
                  </a:lnTo>
                  <a:lnTo>
                    <a:pt x="979" y="1036"/>
                  </a:lnTo>
                  <a:lnTo>
                    <a:pt x="984" y="1032"/>
                  </a:lnTo>
                  <a:lnTo>
                    <a:pt x="988" y="1032"/>
                  </a:lnTo>
                  <a:lnTo>
                    <a:pt x="988" y="992"/>
                  </a:lnTo>
                  <a:lnTo>
                    <a:pt x="1000" y="951"/>
                  </a:lnTo>
                  <a:lnTo>
                    <a:pt x="1000" y="923"/>
                  </a:lnTo>
                  <a:lnTo>
                    <a:pt x="1004" y="915"/>
                  </a:lnTo>
                  <a:lnTo>
                    <a:pt x="1008" y="899"/>
                  </a:lnTo>
                  <a:lnTo>
                    <a:pt x="1012" y="899"/>
                  </a:lnTo>
                  <a:lnTo>
                    <a:pt x="1020" y="899"/>
                  </a:lnTo>
                  <a:lnTo>
                    <a:pt x="1020" y="883"/>
                  </a:lnTo>
                  <a:lnTo>
                    <a:pt x="1024" y="866"/>
                  </a:lnTo>
                  <a:lnTo>
                    <a:pt x="1028" y="850"/>
                  </a:lnTo>
                  <a:lnTo>
                    <a:pt x="1032" y="822"/>
                  </a:lnTo>
                  <a:lnTo>
                    <a:pt x="1040" y="818"/>
                  </a:lnTo>
                  <a:lnTo>
                    <a:pt x="1044" y="802"/>
                  </a:lnTo>
                  <a:lnTo>
                    <a:pt x="1044" y="798"/>
                  </a:lnTo>
                  <a:lnTo>
                    <a:pt x="1048" y="789"/>
                  </a:lnTo>
                  <a:lnTo>
                    <a:pt x="1052" y="802"/>
                  </a:lnTo>
                  <a:lnTo>
                    <a:pt x="1060" y="806"/>
                  </a:lnTo>
                  <a:lnTo>
                    <a:pt x="1064" y="810"/>
                  </a:lnTo>
                  <a:lnTo>
                    <a:pt x="1069" y="798"/>
                  </a:lnTo>
                  <a:lnTo>
                    <a:pt x="1069" y="773"/>
                  </a:lnTo>
                  <a:lnTo>
                    <a:pt x="1073" y="761"/>
                  </a:lnTo>
                  <a:lnTo>
                    <a:pt x="1089" y="753"/>
                  </a:lnTo>
                  <a:lnTo>
                    <a:pt x="1089" y="749"/>
                  </a:lnTo>
                  <a:lnTo>
                    <a:pt x="1093" y="725"/>
                  </a:lnTo>
                  <a:lnTo>
                    <a:pt x="1101" y="709"/>
                  </a:lnTo>
                  <a:lnTo>
                    <a:pt x="1109" y="672"/>
                  </a:lnTo>
                  <a:lnTo>
                    <a:pt x="1113" y="644"/>
                  </a:lnTo>
                  <a:lnTo>
                    <a:pt x="1113" y="640"/>
                  </a:lnTo>
                  <a:lnTo>
                    <a:pt x="1125" y="607"/>
                  </a:lnTo>
                  <a:lnTo>
                    <a:pt x="1125" y="587"/>
                  </a:lnTo>
                  <a:lnTo>
                    <a:pt x="1129" y="567"/>
                  </a:lnTo>
                  <a:lnTo>
                    <a:pt x="1133" y="530"/>
                  </a:lnTo>
                  <a:lnTo>
                    <a:pt x="1137" y="514"/>
                  </a:lnTo>
                  <a:lnTo>
                    <a:pt x="1145" y="482"/>
                  </a:lnTo>
                  <a:lnTo>
                    <a:pt x="1145" y="474"/>
                  </a:lnTo>
                  <a:lnTo>
                    <a:pt x="1150" y="454"/>
                  </a:lnTo>
                  <a:lnTo>
                    <a:pt x="1154" y="450"/>
                  </a:lnTo>
                  <a:lnTo>
                    <a:pt x="1158" y="450"/>
                  </a:lnTo>
                  <a:lnTo>
                    <a:pt x="1166" y="450"/>
                  </a:lnTo>
                  <a:lnTo>
                    <a:pt x="1170" y="441"/>
                  </a:lnTo>
                  <a:lnTo>
                    <a:pt x="1170" y="437"/>
                  </a:lnTo>
                  <a:lnTo>
                    <a:pt x="1174" y="417"/>
                  </a:lnTo>
                  <a:lnTo>
                    <a:pt x="1178" y="373"/>
                  </a:lnTo>
                  <a:lnTo>
                    <a:pt x="1186" y="344"/>
                  </a:lnTo>
                  <a:lnTo>
                    <a:pt x="1190" y="324"/>
                  </a:lnTo>
                  <a:lnTo>
                    <a:pt x="1194" y="320"/>
                  </a:lnTo>
                  <a:lnTo>
                    <a:pt x="1194" y="312"/>
                  </a:lnTo>
                  <a:lnTo>
                    <a:pt x="1198" y="280"/>
                  </a:lnTo>
                  <a:lnTo>
                    <a:pt x="1206" y="284"/>
                  </a:lnTo>
                  <a:lnTo>
                    <a:pt x="1210" y="296"/>
                  </a:lnTo>
                  <a:lnTo>
                    <a:pt x="1214" y="304"/>
                  </a:lnTo>
                  <a:lnTo>
                    <a:pt x="1214" y="304"/>
                  </a:lnTo>
                  <a:lnTo>
                    <a:pt x="1218" y="308"/>
                  </a:lnTo>
                  <a:lnTo>
                    <a:pt x="1226" y="308"/>
                  </a:lnTo>
                  <a:lnTo>
                    <a:pt x="1231" y="308"/>
                  </a:lnTo>
                  <a:lnTo>
                    <a:pt x="1235" y="308"/>
                  </a:lnTo>
                  <a:lnTo>
                    <a:pt x="1239" y="320"/>
                  </a:lnTo>
                  <a:lnTo>
                    <a:pt x="1239" y="340"/>
                  </a:lnTo>
                  <a:lnTo>
                    <a:pt x="1251" y="352"/>
                  </a:lnTo>
                  <a:lnTo>
                    <a:pt x="1251" y="352"/>
                  </a:lnTo>
                  <a:lnTo>
                    <a:pt x="1255" y="373"/>
                  </a:lnTo>
                  <a:lnTo>
                    <a:pt x="1259" y="373"/>
                  </a:lnTo>
                  <a:lnTo>
                    <a:pt x="1263" y="348"/>
                  </a:lnTo>
                  <a:lnTo>
                    <a:pt x="1271" y="340"/>
                  </a:lnTo>
                  <a:lnTo>
                    <a:pt x="1271" y="340"/>
                  </a:lnTo>
                  <a:lnTo>
                    <a:pt x="1275" y="348"/>
                  </a:lnTo>
                  <a:lnTo>
                    <a:pt x="1279" y="356"/>
                  </a:lnTo>
                  <a:lnTo>
                    <a:pt x="1283" y="377"/>
                  </a:lnTo>
                  <a:lnTo>
                    <a:pt x="1291" y="377"/>
                  </a:lnTo>
                  <a:lnTo>
                    <a:pt x="1295" y="381"/>
                  </a:lnTo>
                  <a:lnTo>
                    <a:pt x="1295" y="393"/>
                  </a:lnTo>
                  <a:lnTo>
                    <a:pt x="1299" y="401"/>
                  </a:lnTo>
                  <a:lnTo>
                    <a:pt x="1303" y="413"/>
                  </a:lnTo>
                  <a:lnTo>
                    <a:pt x="1311" y="433"/>
                  </a:lnTo>
                  <a:lnTo>
                    <a:pt x="1316" y="425"/>
                  </a:lnTo>
                  <a:lnTo>
                    <a:pt x="1320" y="421"/>
                  </a:lnTo>
                  <a:lnTo>
                    <a:pt x="1320" y="441"/>
                  </a:lnTo>
                  <a:lnTo>
                    <a:pt x="1324" y="454"/>
                  </a:lnTo>
                  <a:lnTo>
                    <a:pt x="1332" y="446"/>
                  </a:lnTo>
                  <a:lnTo>
                    <a:pt x="1336" y="421"/>
                  </a:lnTo>
                  <a:lnTo>
                    <a:pt x="1340" y="397"/>
                  </a:lnTo>
                  <a:lnTo>
                    <a:pt x="1356" y="401"/>
                  </a:lnTo>
                  <a:lnTo>
                    <a:pt x="1360" y="421"/>
                  </a:lnTo>
                  <a:lnTo>
                    <a:pt x="1364" y="433"/>
                  </a:lnTo>
                  <a:lnTo>
                    <a:pt x="1364" y="454"/>
                  </a:lnTo>
                  <a:lnTo>
                    <a:pt x="1376" y="490"/>
                  </a:lnTo>
                  <a:lnTo>
                    <a:pt x="1376" y="526"/>
                  </a:lnTo>
                  <a:lnTo>
                    <a:pt x="1384" y="526"/>
                  </a:lnTo>
                  <a:lnTo>
                    <a:pt x="1388" y="559"/>
                  </a:lnTo>
                  <a:lnTo>
                    <a:pt x="1397" y="591"/>
                  </a:lnTo>
                  <a:lnTo>
                    <a:pt x="1401" y="591"/>
                  </a:lnTo>
                  <a:lnTo>
                    <a:pt x="1401" y="628"/>
                  </a:lnTo>
                  <a:lnTo>
                    <a:pt x="1405" y="644"/>
                  </a:lnTo>
                  <a:lnTo>
                    <a:pt x="1409" y="656"/>
                  </a:lnTo>
                  <a:lnTo>
                    <a:pt x="1417" y="680"/>
                  </a:lnTo>
                  <a:lnTo>
                    <a:pt x="1421" y="684"/>
                  </a:lnTo>
                  <a:lnTo>
                    <a:pt x="1421" y="717"/>
                  </a:lnTo>
                  <a:lnTo>
                    <a:pt x="1425" y="717"/>
                  </a:lnTo>
                  <a:lnTo>
                    <a:pt x="1429" y="749"/>
                  </a:lnTo>
                  <a:lnTo>
                    <a:pt x="1437" y="753"/>
                  </a:lnTo>
                  <a:lnTo>
                    <a:pt x="1441" y="769"/>
                  </a:lnTo>
                  <a:lnTo>
                    <a:pt x="1445" y="769"/>
                  </a:lnTo>
                  <a:lnTo>
                    <a:pt x="1445" y="777"/>
                  </a:lnTo>
                  <a:lnTo>
                    <a:pt x="1449" y="842"/>
                  </a:lnTo>
                  <a:lnTo>
                    <a:pt x="1457" y="850"/>
                  </a:lnTo>
                  <a:lnTo>
                    <a:pt x="1461" y="862"/>
                  </a:lnTo>
                  <a:lnTo>
                    <a:pt x="1465" y="862"/>
                  </a:lnTo>
                  <a:lnTo>
                    <a:pt x="1469" y="854"/>
                  </a:lnTo>
                  <a:lnTo>
                    <a:pt x="1478" y="846"/>
                  </a:lnTo>
                  <a:lnTo>
                    <a:pt x="1482" y="862"/>
                  </a:lnTo>
                  <a:lnTo>
                    <a:pt x="1486" y="866"/>
                  </a:lnTo>
                  <a:lnTo>
                    <a:pt x="1490" y="879"/>
                  </a:lnTo>
                  <a:lnTo>
                    <a:pt x="1490" y="899"/>
                  </a:lnTo>
                  <a:lnTo>
                    <a:pt x="1502" y="931"/>
                  </a:lnTo>
                  <a:lnTo>
                    <a:pt x="1502" y="992"/>
                  </a:lnTo>
                  <a:lnTo>
                    <a:pt x="1506" y="1020"/>
                  </a:lnTo>
                  <a:lnTo>
                    <a:pt x="1510" y="1036"/>
                  </a:lnTo>
                  <a:lnTo>
                    <a:pt x="1514" y="1057"/>
                  </a:lnTo>
                  <a:lnTo>
                    <a:pt x="1522" y="1065"/>
                  </a:lnTo>
                  <a:lnTo>
                    <a:pt x="1526" y="1085"/>
                  </a:lnTo>
                  <a:lnTo>
                    <a:pt x="1526" y="1097"/>
                  </a:lnTo>
                  <a:lnTo>
                    <a:pt x="1530" y="1109"/>
                  </a:lnTo>
                  <a:lnTo>
                    <a:pt x="1534" y="1142"/>
                  </a:lnTo>
                  <a:lnTo>
                    <a:pt x="1542" y="1142"/>
                  </a:lnTo>
                  <a:lnTo>
                    <a:pt x="1546" y="1182"/>
                  </a:lnTo>
                  <a:lnTo>
                    <a:pt x="1546" y="1210"/>
                  </a:lnTo>
                  <a:lnTo>
                    <a:pt x="1550" y="1223"/>
                  </a:lnTo>
                  <a:lnTo>
                    <a:pt x="1554" y="1243"/>
                  </a:lnTo>
                  <a:lnTo>
                    <a:pt x="1563" y="1243"/>
                  </a:lnTo>
                  <a:lnTo>
                    <a:pt x="1567" y="1243"/>
                  </a:lnTo>
                  <a:lnTo>
                    <a:pt x="1571" y="1239"/>
                  </a:lnTo>
                  <a:lnTo>
                    <a:pt x="1571" y="1251"/>
                  </a:lnTo>
                  <a:lnTo>
                    <a:pt x="1575" y="1267"/>
                  </a:lnTo>
                  <a:lnTo>
                    <a:pt x="1583" y="1295"/>
                  </a:lnTo>
                  <a:lnTo>
                    <a:pt x="1587" y="1303"/>
                  </a:lnTo>
                  <a:lnTo>
                    <a:pt x="1591" y="1316"/>
                  </a:lnTo>
                  <a:lnTo>
                    <a:pt x="1595" y="1316"/>
                  </a:lnTo>
                  <a:lnTo>
                    <a:pt x="1595" y="1328"/>
                  </a:lnTo>
                  <a:lnTo>
                    <a:pt x="1607" y="1352"/>
                  </a:lnTo>
                  <a:lnTo>
                    <a:pt x="1611" y="1352"/>
                  </a:lnTo>
                  <a:lnTo>
                    <a:pt x="1615" y="1360"/>
                  </a:lnTo>
                  <a:lnTo>
                    <a:pt x="1615" y="1368"/>
                  </a:lnTo>
                  <a:lnTo>
                    <a:pt x="1627" y="1392"/>
                  </a:lnTo>
                  <a:lnTo>
                    <a:pt x="1627" y="1413"/>
                  </a:lnTo>
                  <a:lnTo>
                    <a:pt x="1631" y="1421"/>
                  </a:lnTo>
                  <a:lnTo>
                    <a:pt x="1635" y="1425"/>
                  </a:lnTo>
                  <a:lnTo>
                    <a:pt x="1639" y="1437"/>
                  </a:lnTo>
                  <a:lnTo>
                    <a:pt x="1648" y="1449"/>
                  </a:lnTo>
                  <a:lnTo>
                    <a:pt x="1652" y="1417"/>
                  </a:lnTo>
                  <a:lnTo>
                    <a:pt x="1652" y="1413"/>
                  </a:lnTo>
                  <a:lnTo>
                    <a:pt x="1656" y="1409"/>
                  </a:lnTo>
                  <a:lnTo>
                    <a:pt x="1660" y="1397"/>
                  </a:lnTo>
                  <a:lnTo>
                    <a:pt x="1668" y="1372"/>
                  </a:lnTo>
                  <a:lnTo>
                    <a:pt x="1672" y="1364"/>
                  </a:lnTo>
                  <a:lnTo>
                    <a:pt x="1676" y="1344"/>
                  </a:lnTo>
                  <a:lnTo>
                    <a:pt x="1680" y="1336"/>
                  </a:lnTo>
                  <a:lnTo>
                    <a:pt x="1688" y="1340"/>
                  </a:lnTo>
                  <a:lnTo>
                    <a:pt x="1692" y="1340"/>
                  </a:lnTo>
                  <a:lnTo>
                    <a:pt x="1696" y="1348"/>
                  </a:lnTo>
                  <a:lnTo>
                    <a:pt x="1696" y="1336"/>
                  </a:lnTo>
                  <a:lnTo>
                    <a:pt x="1700" y="1303"/>
                  </a:lnTo>
                  <a:lnTo>
                    <a:pt x="1708" y="1279"/>
                  </a:lnTo>
                  <a:lnTo>
                    <a:pt x="1712" y="1279"/>
                  </a:lnTo>
                  <a:lnTo>
                    <a:pt x="1716" y="1263"/>
                  </a:lnTo>
                  <a:lnTo>
                    <a:pt x="1720" y="1251"/>
                  </a:lnTo>
                  <a:lnTo>
                    <a:pt x="1720" y="1251"/>
                  </a:lnTo>
                  <a:lnTo>
                    <a:pt x="1729" y="1186"/>
                  </a:lnTo>
                  <a:lnTo>
                    <a:pt x="1733" y="1186"/>
                  </a:lnTo>
                  <a:lnTo>
                    <a:pt x="1737" y="1206"/>
                  </a:lnTo>
                  <a:lnTo>
                    <a:pt x="1741" y="1218"/>
                  </a:lnTo>
                  <a:lnTo>
                    <a:pt x="1741" y="1251"/>
                  </a:lnTo>
                  <a:lnTo>
                    <a:pt x="1753" y="1259"/>
                  </a:lnTo>
                  <a:lnTo>
                    <a:pt x="1753" y="1239"/>
                  </a:lnTo>
                  <a:lnTo>
                    <a:pt x="1757" y="1227"/>
                  </a:lnTo>
                  <a:lnTo>
                    <a:pt x="1761" y="1218"/>
                  </a:lnTo>
                  <a:lnTo>
                    <a:pt x="1765" y="1210"/>
                  </a:lnTo>
                  <a:lnTo>
                    <a:pt x="1773" y="1182"/>
                  </a:lnTo>
                  <a:lnTo>
                    <a:pt x="1777" y="1125"/>
                  </a:lnTo>
                  <a:lnTo>
                    <a:pt x="1777" y="1097"/>
                  </a:lnTo>
                  <a:lnTo>
                    <a:pt x="1781" y="1077"/>
                  </a:lnTo>
                  <a:lnTo>
                    <a:pt x="1785" y="1053"/>
                  </a:lnTo>
                  <a:lnTo>
                    <a:pt x="1797" y="1024"/>
                  </a:lnTo>
                  <a:lnTo>
                    <a:pt x="1797" y="984"/>
                  </a:lnTo>
                  <a:lnTo>
                    <a:pt x="1801" y="959"/>
                  </a:lnTo>
                  <a:lnTo>
                    <a:pt x="1805" y="931"/>
                  </a:lnTo>
                  <a:lnTo>
                    <a:pt x="1814" y="895"/>
                  </a:lnTo>
                  <a:lnTo>
                    <a:pt x="1818" y="887"/>
                  </a:lnTo>
                  <a:lnTo>
                    <a:pt x="1822" y="854"/>
                  </a:lnTo>
                  <a:lnTo>
                    <a:pt x="1822" y="838"/>
                  </a:lnTo>
                  <a:lnTo>
                    <a:pt x="1826" y="834"/>
                  </a:lnTo>
                  <a:lnTo>
                    <a:pt x="1834" y="834"/>
                  </a:lnTo>
                  <a:lnTo>
                    <a:pt x="1838" y="830"/>
                  </a:lnTo>
                  <a:lnTo>
                    <a:pt x="1842" y="830"/>
                  </a:lnTo>
                  <a:lnTo>
                    <a:pt x="1846" y="830"/>
                  </a:lnTo>
                  <a:lnTo>
                    <a:pt x="1846" y="814"/>
                  </a:lnTo>
                  <a:lnTo>
                    <a:pt x="1854" y="777"/>
                  </a:lnTo>
                  <a:lnTo>
                    <a:pt x="1858" y="737"/>
                  </a:lnTo>
                  <a:lnTo>
                    <a:pt x="1862" y="737"/>
                  </a:lnTo>
                  <a:lnTo>
                    <a:pt x="1866" y="749"/>
                  </a:lnTo>
                  <a:lnTo>
                    <a:pt x="1866" y="753"/>
                  </a:lnTo>
                  <a:lnTo>
                    <a:pt x="1878" y="757"/>
                  </a:lnTo>
                  <a:lnTo>
                    <a:pt x="1878" y="761"/>
                  </a:lnTo>
                  <a:lnTo>
                    <a:pt x="1882" y="777"/>
                  </a:lnTo>
                  <a:lnTo>
                    <a:pt x="1886" y="798"/>
                  </a:lnTo>
                  <a:lnTo>
                    <a:pt x="1891" y="798"/>
                  </a:lnTo>
                  <a:lnTo>
                    <a:pt x="1899" y="798"/>
                  </a:lnTo>
                  <a:lnTo>
                    <a:pt x="1903" y="794"/>
                  </a:lnTo>
                  <a:lnTo>
                    <a:pt x="1903" y="789"/>
                  </a:lnTo>
                  <a:lnTo>
                    <a:pt x="1907" y="781"/>
                  </a:lnTo>
                  <a:lnTo>
                    <a:pt x="1911" y="753"/>
                  </a:lnTo>
                  <a:lnTo>
                    <a:pt x="1919" y="725"/>
                  </a:lnTo>
                  <a:lnTo>
                    <a:pt x="1919" y="955"/>
                  </a:lnTo>
                  <a:lnTo>
                    <a:pt x="1911" y="955"/>
                  </a:lnTo>
                  <a:lnTo>
                    <a:pt x="1907" y="955"/>
                  </a:lnTo>
                  <a:lnTo>
                    <a:pt x="1903" y="955"/>
                  </a:lnTo>
                  <a:lnTo>
                    <a:pt x="1903" y="955"/>
                  </a:lnTo>
                  <a:lnTo>
                    <a:pt x="1899" y="955"/>
                  </a:lnTo>
                  <a:lnTo>
                    <a:pt x="1891" y="955"/>
                  </a:lnTo>
                  <a:lnTo>
                    <a:pt x="1886" y="955"/>
                  </a:lnTo>
                  <a:lnTo>
                    <a:pt x="1882" y="955"/>
                  </a:lnTo>
                  <a:lnTo>
                    <a:pt x="1878" y="955"/>
                  </a:lnTo>
                  <a:lnTo>
                    <a:pt x="1878" y="955"/>
                  </a:lnTo>
                  <a:lnTo>
                    <a:pt x="1866" y="955"/>
                  </a:lnTo>
                  <a:lnTo>
                    <a:pt x="1866" y="955"/>
                  </a:lnTo>
                  <a:lnTo>
                    <a:pt x="1862" y="955"/>
                  </a:lnTo>
                  <a:lnTo>
                    <a:pt x="1858" y="955"/>
                  </a:lnTo>
                  <a:lnTo>
                    <a:pt x="1854" y="955"/>
                  </a:lnTo>
                  <a:lnTo>
                    <a:pt x="1846" y="955"/>
                  </a:lnTo>
                  <a:lnTo>
                    <a:pt x="1846" y="955"/>
                  </a:lnTo>
                  <a:lnTo>
                    <a:pt x="1842" y="955"/>
                  </a:lnTo>
                  <a:lnTo>
                    <a:pt x="1838" y="955"/>
                  </a:lnTo>
                  <a:lnTo>
                    <a:pt x="1834" y="955"/>
                  </a:lnTo>
                  <a:lnTo>
                    <a:pt x="1826" y="955"/>
                  </a:lnTo>
                  <a:lnTo>
                    <a:pt x="1822" y="955"/>
                  </a:lnTo>
                  <a:lnTo>
                    <a:pt x="1822" y="955"/>
                  </a:lnTo>
                  <a:lnTo>
                    <a:pt x="1818" y="955"/>
                  </a:lnTo>
                  <a:lnTo>
                    <a:pt x="1814" y="955"/>
                  </a:lnTo>
                  <a:lnTo>
                    <a:pt x="1805" y="955"/>
                  </a:lnTo>
                  <a:lnTo>
                    <a:pt x="1801" y="955"/>
                  </a:lnTo>
                  <a:lnTo>
                    <a:pt x="1797" y="955"/>
                  </a:lnTo>
                  <a:lnTo>
                    <a:pt x="1797" y="955"/>
                  </a:lnTo>
                  <a:lnTo>
                    <a:pt x="1785" y="955"/>
                  </a:lnTo>
                  <a:lnTo>
                    <a:pt x="1781" y="955"/>
                  </a:lnTo>
                  <a:lnTo>
                    <a:pt x="1777" y="955"/>
                  </a:lnTo>
                  <a:lnTo>
                    <a:pt x="1777" y="955"/>
                  </a:lnTo>
                  <a:lnTo>
                    <a:pt x="1773" y="955"/>
                  </a:lnTo>
                  <a:lnTo>
                    <a:pt x="1765" y="955"/>
                  </a:lnTo>
                  <a:lnTo>
                    <a:pt x="1761" y="955"/>
                  </a:lnTo>
                  <a:lnTo>
                    <a:pt x="1757" y="955"/>
                  </a:lnTo>
                  <a:lnTo>
                    <a:pt x="1753" y="955"/>
                  </a:lnTo>
                  <a:lnTo>
                    <a:pt x="1753" y="955"/>
                  </a:lnTo>
                  <a:lnTo>
                    <a:pt x="1741" y="955"/>
                  </a:lnTo>
                  <a:lnTo>
                    <a:pt x="1741" y="955"/>
                  </a:lnTo>
                  <a:lnTo>
                    <a:pt x="1737" y="955"/>
                  </a:lnTo>
                  <a:lnTo>
                    <a:pt x="1733" y="955"/>
                  </a:lnTo>
                  <a:lnTo>
                    <a:pt x="1729" y="955"/>
                  </a:lnTo>
                  <a:lnTo>
                    <a:pt x="1720" y="955"/>
                  </a:lnTo>
                  <a:lnTo>
                    <a:pt x="1720" y="955"/>
                  </a:lnTo>
                  <a:lnTo>
                    <a:pt x="1716" y="955"/>
                  </a:lnTo>
                  <a:lnTo>
                    <a:pt x="1712" y="955"/>
                  </a:lnTo>
                  <a:lnTo>
                    <a:pt x="1708" y="955"/>
                  </a:lnTo>
                  <a:lnTo>
                    <a:pt x="1700" y="955"/>
                  </a:lnTo>
                  <a:lnTo>
                    <a:pt x="1696" y="955"/>
                  </a:lnTo>
                  <a:lnTo>
                    <a:pt x="1696" y="955"/>
                  </a:lnTo>
                  <a:lnTo>
                    <a:pt x="1692" y="955"/>
                  </a:lnTo>
                  <a:lnTo>
                    <a:pt x="1688" y="955"/>
                  </a:lnTo>
                  <a:lnTo>
                    <a:pt x="1680" y="955"/>
                  </a:lnTo>
                  <a:lnTo>
                    <a:pt x="1676" y="955"/>
                  </a:lnTo>
                  <a:lnTo>
                    <a:pt x="1672" y="955"/>
                  </a:lnTo>
                  <a:lnTo>
                    <a:pt x="1668" y="955"/>
                  </a:lnTo>
                  <a:lnTo>
                    <a:pt x="1660" y="955"/>
                  </a:lnTo>
                  <a:lnTo>
                    <a:pt x="1656" y="955"/>
                  </a:lnTo>
                  <a:lnTo>
                    <a:pt x="1652" y="955"/>
                  </a:lnTo>
                  <a:lnTo>
                    <a:pt x="1652" y="955"/>
                  </a:lnTo>
                  <a:lnTo>
                    <a:pt x="1648" y="955"/>
                  </a:lnTo>
                  <a:lnTo>
                    <a:pt x="1639" y="955"/>
                  </a:lnTo>
                  <a:lnTo>
                    <a:pt x="1635" y="955"/>
                  </a:lnTo>
                  <a:lnTo>
                    <a:pt x="1631" y="955"/>
                  </a:lnTo>
                  <a:lnTo>
                    <a:pt x="1627" y="955"/>
                  </a:lnTo>
                  <a:lnTo>
                    <a:pt x="1627" y="955"/>
                  </a:lnTo>
                  <a:lnTo>
                    <a:pt x="1615" y="955"/>
                  </a:lnTo>
                  <a:lnTo>
                    <a:pt x="1615" y="955"/>
                  </a:lnTo>
                  <a:lnTo>
                    <a:pt x="1611" y="955"/>
                  </a:lnTo>
                  <a:lnTo>
                    <a:pt x="1607" y="955"/>
                  </a:lnTo>
                  <a:lnTo>
                    <a:pt x="1595" y="955"/>
                  </a:lnTo>
                  <a:lnTo>
                    <a:pt x="1595" y="955"/>
                  </a:lnTo>
                  <a:lnTo>
                    <a:pt x="1591" y="955"/>
                  </a:lnTo>
                  <a:lnTo>
                    <a:pt x="1587" y="955"/>
                  </a:lnTo>
                  <a:lnTo>
                    <a:pt x="1583" y="955"/>
                  </a:lnTo>
                  <a:lnTo>
                    <a:pt x="1575" y="955"/>
                  </a:lnTo>
                  <a:lnTo>
                    <a:pt x="1571" y="955"/>
                  </a:lnTo>
                  <a:lnTo>
                    <a:pt x="1571" y="955"/>
                  </a:lnTo>
                  <a:lnTo>
                    <a:pt x="1567" y="955"/>
                  </a:lnTo>
                  <a:lnTo>
                    <a:pt x="1563" y="955"/>
                  </a:lnTo>
                  <a:lnTo>
                    <a:pt x="1554" y="955"/>
                  </a:lnTo>
                  <a:lnTo>
                    <a:pt x="1550" y="955"/>
                  </a:lnTo>
                  <a:lnTo>
                    <a:pt x="1546" y="955"/>
                  </a:lnTo>
                  <a:lnTo>
                    <a:pt x="1546" y="955"/>
                  </a:lnTo>
                  <a:lnTo>
                    <a:pt x="1542" y="955"/>
                  </a:lnTo>
                  <a:lnTo>
                    <a:pt x="1534" y="955"/>
                  </a:lnTo>
                  <a:lnTo>
                    <a:pt x="1530" y="955"/>
                  </a:lnTo>
                  <a:lnTo>
                    <a:pt x="1526" y="955"/>
                  </a:lnTo>
                  <a:lnTo>
                    <a:pt x="1526" y="955"/>
                  </a:lnTo>
                  <a:lnTo>
                    <a:pt x="1522" y="955"/>
                  </a:lnTo>
                  <a:lnTo>
                    <a:pt x="1514" y="955"/>
                  </a:lnTo>
                  <a:lnTo>
                    <a:pt x="1510" y="955"/>
                  </a:lnTo>
                  <a:lnTo>
                    <a:pt x="1506" y="955"/>
                  </a:lnTo>
                  <a:lnTo>
                    <a:pt x="1502" y="955"/>
                  </a:lnTo>
                  <a:lnTo>
                    <a:pt x="1502" y="955"/>
                  </a:lnTo>
                  <a:lnTo>
                    <a:pt x="1490" y="955"/>
                  </a:lnTo>
                  <a:lnTo>
                    <a:pt x="1490" y="955"/>
                  </a:lnTo>
                  <a:lnTo>
                    <a:pt x="1486" y="955"/>
                  </a:lnTo>
                  <a:lnTo>
                    <a:pt x="1482" y="955"/>
                  </a:lnTo>
                  <a:lnTo>
                    <a:pt x="1478" y="955"/>
                  </a:lnTo>
                  <a:lnTo>
                    <a:pt x="1469" y="955"/>
                  </a:lnTo>
                  <a:lnTo>
                    <a:pt x="1465" y="955"/>
                  </a:lnTo>
                  <a:lnTo>
                    <a:pt x="1461" y="955"/>
                  </a:lnTo>
                  <a:lnTo>
                    <a:pt x="1457" y="955"/>
                  </a:lnTo>
                  <a:lnTo>
                    <a:pt x="1449" y="955"/>
                  </a:lnTo>
                  <a:lnTo>
                    <a:pt x="1445" y="955"/>
                  </a:lnTo>
                  <a:lnTo>
                    <a:pt x="1445" y="955"/>
                  </a:lnTo>
                  <a:lnTo>
                    <a:pt x="1441" y="955"/>
                  </a:lnTo>
                  <a:lnTo>
                    <a:pt x="1437" y="955"/>
                  </a:lnTo>
                  <a:lnTo>
                    <a:pt x="1429" y="955"/>
                  </a:lnTo>
                  <a:lnTo>
                    <a:pt x="1425" y="955"/>
                  </a:lnTo>
                  <a:lnTo>
                    <a:pt x="1421" y="955"/>
                  </a:lnTo>
                  <a:lnTo>
                    <a:pt x="1421" y="955"/>
                  </a:lnTo>
                  <a:lnTo>
                    <a:pt x="1417" y="955"/>
                  </a:lnTo>
                  <a:lnTo>
                    <a:pt x="1409" y="955"/>
                  </a:lnTo>
                  <a:lnTo>
                    <a:pt x="1405" y="955"/>
                  </a:lnTo>
                  <a:lnTo>
                    <a:pt x="1401" y="955"/>
                  </a:lnTo>
                  <a:lnTo>
                    <a:pt x="1401" y="955"/>
                  </a:lnTo>
                  <a:lnTo>
                    <a:pt x="1397" y="955"/>
                  </a:lnTo>
                  <a:lnTo>
                    <a:pt x="1388" y="955"/>
                  </a:lnTo>
                  <a:lnTo>
                    <a:pt x="1384" y="955"/>
                  </a:lnTo>
                  <a:lnTo>
                    <a:pt x="1376" y="955"/>
                  </a:lnTo>
                  <a:lnTo>
                    <a:pt x="1376" y="955"/>
                  </a:lnTo>
                  <a:lnTo>
                    <a:pt x="1364" y="955"/>
                  </a:lnTo>
                  <a:lnTo>
                    <a:pt x="1364" y="955"/>
                  </a:lnTo>
                  <a:lnTo>
                    <a:pt x="1360" y="955"/>
                  </a:lnTo>
                  <a:lnTo>
                    <a:pt x="1356" y="955"/>
                  </a:lnTo>
                  <a:lnTo>
                    <a:pt x="1340" y="955"/>
                  </a:lnTo>
                  <a:lnTo>
                    <a:pt x="1336" y="955"/>
                  </a:lnTo>
                  <a:lnTo>
                    <a:pt x="1332" y="955"/>
                  </a:lnTo>
                  <a:lnTo>
                    <a:pt x="1324" y="955"/>
                  </a:lnTo>
                  <a:lnTo>
                    <a:pt x="1320" y="955"/>
                  </a:lnTo>
                  <a:lnTo>
                    <a:pt x="1320" y="955"/>
                  </a:lnTo>
                  <a:lnTo>
                    <a:pt x="1316" y="955"/>
                  </a:lnTo>
                  <a:lnTo>
                    <a:pt x="1311" y="955"/>
                  </a:lnTo>
                  <a:lnTo>
                    <a:pt x="1303" y="955"/>
                  </a:lnTo>
                  <a:lnTo>
                    <a:pt x="1299" y="955"/>
                  </a:lnTo>
                  <a:lnTo>
                    <a:pt x="1295" y="955"/>
                  </a:lnTo>
                  <a:lnTo>
                    <a:pt x="1295" y="955"/>
                  </a:lnTo>
                  <a:lnTo>
                    <a:pt x="1291" y="955"/>
                  </a:lnTo>
                  <a:lnTo>
                    <a:pt x="1283" y="955"/>
                  </a:lnTo>
                  <a:lnTo>
                    <a:pt x="1279" y="955"/>
                  </a:lnTo>
                  <a:lnTo>
                    <a:pt x="1275" y="955"/>
                  </a:lnTo>
                  <a:lnTo>
                    <a:pt x="1271" y="955"/>
                  </a:lnTo>
                  <a:lnTo>
                    <a:pt x="1271" y="955"/>
                  </a:lnTo>
                  <a:lnTo>
                    <a:pt x="1263" y="955"/>
                  </a:lnTo>
                  <a:lnTo>
                    <a:pt x="1259" y="955"/>
                  </a:lnTo>
                  <a:lnTo>
                    <a:pt x="1255" y="955"/>
                  </a:lnTo>
                  <a:lnTo>
                    <a:pt x="1251" y="955"/>
                  </a:lnTo>
                  <a:lnTo>
                    <a:pt x="1251" y="955"/>
                  </a:lnTo>
                  <a:lnTo>
                    <a:pt x="1239" y="955"/>
                  </a:lnTo>
                  <a:lnTo>
                    <a:pt x="1239" y="955"/>
                  </a:lnTo>
                  <a:lnTo>
                    <a:pt x="1235" y="955"/>
                  </a:lnTo>
                  <a:lnTo>
                    <a:pt x="1231" y="955"/>
                  </a:lnTo>
                  <a:lnTo>
                    <a:pt x="1226" y="955"/>
                  </a:lnTo>
                  <a:lnTo>
                    <a:pt x="1218" y="955"/>
                  </a:lnTo>
                  <a:lnTo>
                    <a:pt x="1214" y="955"/>
                  </a:lnTo>
                  <a:lnTo>
                    <a:pt x="1214" y="955"/>
                  </a:lnTo>
                  <a:lnTo>
                    <a:pt x="1210" y="955"/>
                  </a:lnTo>
                  <a:lnTo>
                    <a:pt x="1206" y="955"/>
                  </a:lnTo>
                  <a:lnTo>
                    <a:pt x="1198" y="955"/>
                  </a:lnTo>
                  <a:lnTo>
                    <a:pt x="1194" y="955"/>
                  </a:lnTo>
                  <a:lnTo>
                    <a:pt x="1194" y="955"/>
                  </a:lnTo>
                  <a:lnTo>
                    <a:pt x="1190" y="955"/>
                  </a:lnTo>
                  <a:lnTo>
                    <a:pt x="1186" y="955"/>
                  </a:lnTo>
                  <a:lnTo>
                    <a:pt x="1178" y="955"/>
                  </a:lnTo>
                  <a:lnTo>
                    <a:pt x="1174" y="955"/>
                  </a:lnTo>
                  <a:lnTo>
                    <a:pt x="1170" y="955"/>
                  </a:lnTo>
                  <a:lnTo>
                    <a:pt x="1170" y="955"/>
                  </a:lnTo>
                  <a:lnTo>
                    <a:pt x="1166" y="955"/>
                  </a:lnTo>
                  <a:lnTo>
                    <a:pt x="1158" y="955"/>
                  </a:lnTo>
                  <a:lnTo>
                    <a:pt x="1154" y="955"/>
                  </a:lnTo>
                  <a:lnTo>
                    <a:pt x="1150" y="955"/>
                  </a:lnTo>
                  <a:lnTo>
                    <a:pt x="1145" y="955"/>
                  </a:lnTo>
                  <a:lnTo>
                    <a:pt x="1145" y="955"/>
                  </a:lnTo>
                  <a:lnTo>
                    <a:pt x="1137" y="955"/>
                  </a:lnTo>
                  <a:lnTo>
                    <a:pt x="1133" y="955"/>
                  </a:lnTo>
                  <a:lnTo>
                    <a:pt x="1129" y="955"/>
                  </a:lnTo>
                  <a:lnTo>
                    <a:pt x="1125" y="955"/>
                  </a:lnTo>
                  <a:lnTo>
                    <a:pt x="1125" y="955"/>
                  </a:lnTo>
                  <a:lnTo>
                    <a:pt x="1113" y="955"/>
                  </a:lnTo>
                  <a:lnTo>
                    <a:pt x="1113" y="955"/>
                  </a:lnTo>
                  <a:lnTo>
                    <a:pt x="1109" y="955"/>
                  </a:lnTo>
                  <a:lnTo>
                    <a:pt x="1101" y="955"/>
                  </a:lnTo>
                  <a:lnTo>
                    <a:pt x="1093" y="955"/>
                  </a:lnTo>
                  <a:lnTo>
                    <a:pt x="1089" y="955"/>
                  </a:lnTo>
                  <a:lnTo>
                    <a:pt x="1089" y="955"/>
                  </a:lnTo>
                  <a:lnTo>
                    <a:pt x="1073" y="955"/>
                  </a:lnTo>
                  <a:lnTo>
                    <a:pt x="1069" y="955"/>
                  </a:lnTo>
                  <a:lnTo>
                    <a:pt x="1069" y="955"/>
                  </a:lnTo>
                  <a:lnTo>
                    <a:pt x="1064" y="955"/>
                  </a:lnTo>
                  <a:lnTo>
                    <a:pt x="1060" y="955"/>
                  </a:lnTo>
                  <a:lnTo>
                    <a:pt x="1052" y="955"/>
                  </a:lnTo>
                  <a:lnTo>
                    <a:pt x="1048" y="955"/>
                  </a:lnTo>
                  <a:lnTo>
                    <a:pt x="1044" y="955"/>
                  </a:lnTo>
                  <a:lnTo>
                    <a:pt x="1044" y="955"/>
                  </a:lnTo>
                  <a:lnTo>
                    <a:pt x="1040" y="955"/>
                  </a:lnTo>
                  <a:lnTo>
                    <a:pt x="1032" y="955"/>
                  </a:lnTo>
                  <a:lnTo>
                    <a:pt x="1028" y="955"/>
                  </a:lnTo>
                  <a:lnTo>
                    <a:pt x="1024" y="955"/>
                  </a:lnTo>
                  <a:lnTo>
                    <a:pt x="1020" y="955"/>
                  </a:lnTo>
                  <a:lnTo>
                    <a:pt x="1020" y="955"/>
                  </a:lnTo>
                  <a:lnTo>
                    <a:pt x="1012" y="955"/>
                  </a:lnTo>
                  <a:lnTo>
                    <a:pt x="1008" y="955"/>
                  </a:lnTo>
                  <a:lnTo>
                    <a:pt x="1004" y="955"/>
                  </a:lnTo>
                  <a:lnTo>
                    <a:pt x="1000" y="955"/>
                  </a:lnTo>
                  <a:lnTo>
                    <a:pt x="1000" y="955"/>
                  </a:lnTo>
                  <a:lnTo>
                    <a:pt x="988" y="955"/>
                  </a:lnTo>
                  <a:lnTo>
                    <a:pt x="988" y="955"/>
                  </a:lnTo>
                  <a:lnTo>
                    <a:pt x="984" y="955"/>
                  </a:lnTo>
                  <a:lnTo>
                    <a:pt x="979" y="955"/>
                  </a:lnTo>
                  <a:lnTo>
                    <a:pt x="975" y="955"/>
                  </a:lnTo>
                  <a:lnTo>
                    <a:pt x="967" y="955"/>
                  </a:lnTo>
                  <a:lnTo>
                    <a:pt x="963" y="955"/>
                  </a:lnTo>
                  <a:lnTo>
                    <a:pt x="963" y="955"/>
                  </a:lnTo>
                  <a:lnTo>
                    <a:pt x="959" y="955"/>
                  </a:lnTo>
                  <a:lnTo>
                    <a:pt x="955" y="955"/>
                  </a:lnTo>
                  <a:lnTo>
                    <a:pt x="947" y="955"/>
                  </a:lnTo>
                  <a:lnTo>
                    <a:pt x="943" y="955"/>
                  </a:lnTo>
                  <a:lnTo>
                    <a:pt x="943" y="955"/>
                  </a:lnTo>
                  <a:lnTo>
                    <a:pt x="935" y="955"/>
                  </a:lnTo>
                  <a:lnTo>
                    <a:pt x="927" y="955"/>
                  </a:lnTo>
                  <a:lnTo>
                    <a:pt x="923" y="955"/>
                  </a:lnTo>
                  <a:lnTo>
                    <a:pt x="919" y="955"/>
                  </a:lnTo>
                  <a:lnTo>
                    <a:pt x="919" y="955"/>
                  </a:lnTo>
                  <a:lnTo>
                    <a:pt x="915" y="955"/>
                  </a:lnTo>
                  <a:lnTo>
                    <a:pt x="907" y="955"/>
                  </a:lnTo>
                  <a:lnTo>
                    <a:pt x="903" y="955"/>
                  </a:lnTo>
                  <a:lnTo>
                    <a:pt x="898" y="955"/>
                  </a:lnTo>
                  <a:lnTo>
                    <a:pt x="894" y="955"/>
                  </a:lnTo>
                  <a:lnTo>
                    <a:pt x="894" y="955"/>
                  </a:lnTo>
                  <a:lnTo>
                    <a:pt x="882" y="955"/>
                  </a:lnTo>
                  <a:lnTo>
                    <a:pt x="882" y="955"/>
                  </a:lnTo>
                  <a:lnTo>
                    <a:pt x="878" y="955"/>
                  </a:lnTo>
                  <a:lnTo>
                    <a:pt x="874" y="955"/>
                  </a:lnTo>
                  <a:lnTo>
                    <a:pt x="862" y="955"/>
                  </a:lnTo>
                  <a:lnTo>
                    <a:pt x="862" y="955"/>
                  </a:lnTo>
                  <a:lnTo>
                    <a:pt x="858" y="955"/>
                  </a:lnTo>
                  <a:lnTo>
                    <a:pt x="854" y="955"/>
                  </a:lnTo>
                  <a:lnTo>
                    <a:pt x="850" y="955"/>
                  </a:lnTo>
                  <a:lnTo>
                    <a:pt x="842" y="955"/>
                  </a:lnTo>
                  <a:lnTo>
                    <a:pt x="838" y="955"/>
                  </a:lnTo>
                  <a:lnTo>
                    <a:pt x="838" y="955"/>
                  </a:lnTo>
                  <a:lnTo>
                    <a:pt x="834" y="955"/>
                  </a:lnTo>
                  <a:lnTo>
                    <a:pt x="830" y="955"/>
                  </a:lnTo>
                  <a:lnTo>
                    <a:pt x="822" y="955"/>
                  </a:lnTo>
                  <a:lnTo>
                    <a:pt x="818" y="955"/>
                  </a:lnTo>
                  <a:lnTo>
                    <a:pt x="818" y="955"/>
                  </a:lnTo>
                  <a:lnTo>
                    <a:pt x="813" y="955"/>
                  </a:lnTo>
                  <a:lnTo>
                    <a:pt x="809" y="955"/>
                  </a:lnTo>
                  <a:lnTo>
                    <a:pt x="801" y="955"/>
                  </a:lnTo>
                  <a:lnTo>
                    <a:pt x="797" y="955"/>
                  </a:lnTo>
                  <a:lnTo>
                    <a:pt x="793" y="955"/>
                  </a:lnTo>
                  <a:lnTo>
                    <a:pt x="793" y="955"/>
                  </a:lnTo>
                  <a:lnTo>
                    <a:pt x="789" y="955"/>
                  </a:lnTo>
                  <a:lnTo>
                    <a:pt x="781" y="955"/>
                  </a:lnTo>
                  <a:lnTo>
                    <a:pt x="777" y="955"/>
                  </a:lnTo>
                  <a:lnTo>
                    <a:pt x="773" y="955"/>
                  </a:lnTo>
                  <a:lnTo>
                    <a:pt x="769" y="955"/>
                  </a:lnTo>
                  <a:lnTo>
                    <a:pt x="769" y="955"/>
                  </a:lnTo>
                  <a:lnTo>
                    <a:pt x="757" y="955"/>
                  </a:lnTo>
                  <a:lnTo>
                    <a:pt x="757" y="955"/>
                  </a:lnTo>
                  <a:lnTo>
                    <a:pt x="753" y="955"/>
                  </a:lnTo>
                  <a:lnTo>
                    <a:pt x="749" y="955"/>
                  </a:lnTo>
                  <a:lnTo>
                    <a:pt x="749" y="955"/>
                  </a:lnTo>
                  <a:lnTo>
                    <a:pt x="737" y="955"/>
                  </a:lnTo>
                  <a:lnTo>
                    <a:pt x="737" y="955"/>
                  </a:lnTo>
                  <a:lnTo>
                    <a:pt x="732" y="955"/>
                  </a:lnTo>
                  <a:lnTo>
                    <a:pt x="728" y="955"/>
                  </a:lnTo>
                  <a:lnTo>
                    <a:pt x="724" y="955"/>
                  </a:lnTo>
                  <a:lnTo>
                    <a:pt x="716" y="955"/>
                  </a:lnTo>
                  <a:lnTo>
                    <a:pt x="712" y="955"/>
                  </a:lnTo>
                  <a:lnTo>
                    <a:pt x="712" y="955"/>
                  </a:lnTo>
                  <a:lnTo>
                    <a:pt x="708" y="955"/>
                  </a:lnTo>
                  <a:lnTo>
                    <a:pt x="696" y="955"/>
                  </a:lnTo>
                  <a:lnTo>
                    <a:pt x="692" y="955"/>
                  </a:lnTo>
                  <a:lnTo>
                    <a:pt x="688" y="955"/>
                  </a:lnTo>
                  <a:lnTo>
                    <a:pt x="688" y="955"/>
                  </a:lnTo>
                  <a:lnTo>
                    <a:pt x="684" y="955"/>
                  </a:lnTo>
                  <a:lnTo>
                    <a:pt x="676" y="955"/>
                  </a:lnTo>
                  <a:lnTo>
                    <a:pt x="672" y="955"/>
                  </a:lnTo>
                  <a:lnTo>
                    <a:pt x="668" y="955"/>
                  </a:lnTo>
                  <a:lnTo>
                    <a:pt x="668" y="955"/>
                  </a:lnTo>
                  <a:lnTo>
                    <a:pt x="664" y="955"/>
                  </a:lnTo>
                  <a:lnTo>
                    <a:pt x="656" y="955"/>
                  </a:lnTo>
                  <a:lnTo>
                    <a:pt x="651" y="955"/>
                  </a:lnTo>
                  <a:lnTo>
                    <a:pt x="647" y="955"/>
                  </a:lnTo>
                  <a:lnTo>
                    <a:pt x="643" y="955"/>
                  </a:lnTo>
                  <a:lnTo>
                    <a:pt x="643" y="955"/>
                  </a:lnTo>
                  <a:lnTo>
                    <a:pt x="631" y="955"/>
                  </a:lnTo>
                  <a:lnTo>
                    <a:pt x="631" y="955"/>
                  </a:lnTo>
                  <a:lnTo>
                    <a:pt x="627" y="955"/>
                  </a:lnTo>
                  <a:lnTo>
                    <a:pt x="623" y="955"/>
                  </a:lnTo>
                  <a:lnTo>
                    <a:pt x="623" y="955"/>
                  </a:lnTo>
                  <a:lnTo>
                    <a:pt x="611" y="955"/>
                  </a:lnTo>
                  <a:lnTo>
                    <a:pt x="611" y="955"/>
                  </a:lnTo>
                  <a:lnTo>
                    <a:pt x="607" y="955"/>
                  </a:lnTo>
                  <a:lnTo>
                    <a:pt x="603" y="955"/>
                  </a:lnTo>
                  <a:lnTo>
                    <a:pt x="599" y="955"/>
                  </a:lnTo>
                  <a:lnTo>
                    <a:pt x="591" y="955"/>
                  </a:lnTo>
                  <a:lnTo>
                    <a:pt x="587" y="955"/>
                  </a:lnTo>
                  <a:lnTo>
                    <a:pt x="587" y="955"/>
                  </a:lnTo>
                  <a:lnTo>
                    <a:pt x="583" y="955"/>
                  </a:lnTo>
                  <a:lnTo>
                    <a:pt x="571" y="955"/>
                  </a:lnTo>
                  <a:lnTo>
                    <a:pt x="566" y="955"/>
                  </a:lnTo>
                  <a:lnTo>
                    <a:pt x="562" y="955"/>
                  </a:lnTo>
                  <a:lnTo>
                    <a:pt x="562" y="955"/>
                  </a:lnTo>
                  <a:lnTo>
                    <a:pt x="558" y="955"/>
                  </a:lnTo>
                  <a:lnTo>
                    <a:pt x="550" y="955"/>
                  </a:lnTo>
                  <a:lnTo>
                    <a:pt x="546" y="955"/>
                  </a:lnTo>
                  <a:lnTo>
                    <a:pt x="542" y="955"/>
                  </a:lnTo>
                  <a:lnTo>
                    <a:pt x="542" y="955"/>
                  </a:lnTo>
                  <a:lnTo>
                    <a:pt x="538" y="955"/>
                  </a:lnTo>
                  <a:lnTo>
                    <a:pt x="530" y="955"/>
                  </a:lnTo>
                  <a:lnTo>
                    <a:pt x="526" y="955"/>
                  </a:lnTo>
                  <a:lnTo>
                    <a:pt x="522" y="955"/>
                  </a:lnTo>
                  <a:lnTo>
                    <a:pt x="518" y="955"/>
                  </a:lnTo>
                  <a:lnTo>
                    <a:pt x="506" y="955"/>
                  </a:lnTo>
                  <a:lnTo>
                    <a:pt x="506" y="955"/>
                  </a:lnTo>
                  <a:lnTo>
                    <a:pt x="502" y="955"/>
                  </a:lnTo>
                  <a:lnTo>
                    <a:pt x="498" y="955"/>
                  </a:lnTo>
                  <a:lnTo>
                    <a:pt x="494" y="955"/>
                  </a:lnTo>
                  <a:lnTo>
                    <a:pt x="485" y="955"/>
                  </a:lnTo>
                  <a:lnTo>
                    <a:pt x="485" y="955"/>
                  </a:lnTo>
                  <a:lnTo>
                    <a:pt x="481" y="955"/>
                  </a:lnTo>
                  <a:lnTo>
                    <a:pt x="477" y="955"/>
                  </a:lnTo>
                  <a:lnTo>
                    <a:pt x="473" y="955"/>
                  </a:lnTo>
                  <a:lnTo>
                    <a:pt x="465" y="955"/>
                  </a:lnTo>
                  <a:lnTo>
                    <a:pt x="461" y="955"/>
                  </a:lnTo>
                  <a:lnTo>
                    <a:pt x="461" y="955"/>
                  </a:lnTo>
                  <a:lnTo>
                    <a:pt x="457" y="955"/>
                  </a:lnTo>
                  <a:lnTo>
                    <a:pt x="453" y="955"/>
                  </a:lnTo>
                  <a:lnTo>
                    <a:pt x="441" y="955"/>
                  </a:lnTo>
                  <a:lnTo>
                    <a:pt x="437" y="955"/>
                  </a:lnTo>
                  <a:lnTo>
                    <a:pt x="437" y="955"/>
                  </a:lnTo>
                  <a:lnTo>
                    <a:pt x="433" y="955"/>
                  </a:lnTo>
                  <a:lnTo>
                    <a:pt x="425" y="955"/>
                  </a:lnTo>
                  <a:lnTo>
                    <a:pt x="421" y="955"/>
                  </a:lnTo>
                  <a:lnTo>
                    <a:pt x="417" y="955"/>
                  </a:lnTo>
                  <a:lnTo>
                    <a:pt x="417" y="955"/>
                  </a:lnTo>
                  <a:lnTo>
                    <a:pt x="413" y="955"/>
                  </a:lnTo>
                  <a:lnTo>
                    <a:pt x="405" y="955"/>
                  </a:lnTo>
                  <a:lnTo>
                    <a:pt x="400" y="955"/>
                  </a:lnTo>
                  <a:lnTo>
                    <a:pt x="396" y="955"/>
                  </a:lnTo>
                  <a:lnTo>
                    <a:pt x="392" y="955"/>
                  </a:lnTo>
                  <a:lnTo>
                    <a:pt x="392" y="955"/>
                  </a:lnTo>
                  <a:lnTo>
                    <a:pt x="380" y="955"/>
                  </a:lnTo>
                  <a:lnTo>
                    <a:pt x="380" y="955"/>
                  </a:lnTo>
                  <a:lnTo>
                    <a:pt x="376" y="955"/>
                  </a:lnTo>
                  <a:lnTo>
                    <a:pt x="368" y="955"/>
                  </a:lnTo>
                  <a:lnTo>
                    <a:pt x="360" y="955"/>
                  </a:lnTo>
                  <a:lnTo>
                    <a:pt x="360" y="955"/>
                  </a:lnTo>
                  <a:lnTo>
                    <a:pt x="356" y="955"/>
                  </a:lnTo>
                  <a:lnTo>
                    <a:pt x="352" y="955"/>
                  </a:lnTo>
                  <a:lnTo>
                    <a:pt x="348" y="955"/>
                  </a:lnTo>
                  <a:lnTo>
                    <a:pt x="340" y="955"/>
                  </a:lnTo>
                  <a:lnTo>
                    <a:pt x="336" y="955"/>
                  </a:lnTo>
                  <a:lnTo>
                    <a:pt x="336" y="955"/>
                  </a:lnTo>
                  <a:lnTo>
                    <a:pt x="332" y="955"/>
                  </a:lnTo>
                  <a:lnTo>
                    <a:pt x="328" y="955"/>
                  </a:lnTo>
                  <a:lnTo>
                    <a:pt x="319" y="955"/>
                  </a:lnTo>
                  <a:lnTo>
                    <a:pt x="315" y="955"/>
                  </a:lnTo>
                  <a:lnTo>
                    <a:pt x="311" y="955"/>
                  </a:lnTo>
                  <a:lnTo>
                    <a:pt x="311" y="955"/>
                  </a:lnTo>
                  <a:lnTo>
                    <a:pt x="307" y="955"/>
                  </a:lnTo>
                  <a:lnTo>
                    <a:pt x="291" y="955"/>
                  </a:lnTo>
                  <a:lnTo>
                    <a:pt x="291" y="955"/>
                  </a:lnTo>
                  <a:lnTo>
                    <a:pt x="279" y="955"/>
                  </a:lnTo>
                  <a:lnTo>
                    <a:pt x="275" y="955"/>
                  </a:lnTo>
                  <a:lnTo>
                    <a:pt x="271" y="955"/>
                  </a:lnTo>
                  <a:lnTo>
                    <a:pt x="267" y="955"/>
                  </a:lnTo>
                  <a:lnTo>
                    <a:pt x="267" y="955"/>
                  </a:lnTo>
                  <a:lnTo>
                    <a:pt x="255" y="955"/>
                  </a:lnTo>
                  <a:lnTo>
                    <a:pt x="255" y="955"/>
                  </a:lnTo>
                  <a:lnTo>
                    <a:pt x="251" y="955"/>
                  </a:lnTo>
                  <a:lnTo>
                    <a:pt x="247" y="955"/>
                  </a:lnTo>
                  <a:lnTo>
                    <a:pt x="243" y="955"/>
                  </a:lnTo>
                  <a:lnTo>
                    <a:pt x="234" y="955"/>
                  </a:lnTo>
                  <a:lnTo>
                    <a:pt x="234" y="955"/>
                  </a:lnTo>
                  <a:lnTo>
                    <a:pt x="230" y="955"/>
                  </a:lnTo>
                  <a:lnTo>
                    <a:pt x="226" y="955"/>
                  </a:lnTo>
                  <a:lnTo>
                    <a:pt x="222" y="955"/>
                  </a:lnTo>
                  <a:lnTo>
                    <a:pt x="214" y="955"/>
                  </a:lnTo>
                  <a:lnTo>
                    <a:pt x="210" y="955"/>
                  </a:lnTo>
                  <a:lnTo>
                    <a:pt x="210" y="955"/>
                  </a:lnTo>
                  <a:lnTo>
                    <a:pt x="206" y="955"/>
                  </a:lnTo>
                  <a:lnTo>
                    <a:pt x="202" y="955"/>
                  </a:lnTo>
                  <a:lnTo>
                    <a:pt x="194" y="955"/>
                  </a:lnTo>
                  <a:lnTo>
                    <a:pt x="190" y="955"/>
                  </a:lnTo>
                  <a:lnTo>
                    <a:pt x="186" y="955"/>
                  </a:lnTo>
                  <a:lnTo>
                    <a:pt x="186" y="955"/>
                  </a:lnTo>
                  <a:lnTo>
                    <a:pt x="182" y="955"/>
                  </a:lnTo>
                  <a:lnTo>
                    <a:pt x="174" y="955"/>
                  </a:lnTo>
                  <a:lnTo>
                    <a:pt x="170" y="955"/>
                  </a:lnTo>
                  <a:lnTo>
                    <a:pt x="166" y="955"/>
                  </a:lnTo>
                  <a:lnTo>
                    <a:pt x="166" y="955"/>
                  </a:lnTo>
                  <a:lnTo>
                    <a:pt x="162" y="955"/>
                  </a:lnTo>
                  <a:lnTo>
                    <a:pt x="153" y="955"/>
                  </a:lnTo>
                  <a:lnTo>
                    <a:pt x="149" y="955"/>
                  </a:lnTo>
                  <a:lnTo>
                    <a:pt x="145" y="955"/>
                  </a:lnTo>
                  <a:lnTo>
                    <a:pt x="141" y="955"/>
                  </a:lnTo>
                  <a:lnTo>
                    <a:pt x="141" y="955"/>
                  </a:lnTo>
                  <a:lnTo>
                    <a:pt x="129" y="955"/>
                  </a:lnTo>
                  <a:lnTo>
                    <a:pt x="129" y="955"/>
                  </a:lnTo>
                  <a:lnTo>
                    <a:pt x="125" y="955"/>
                  </a:lnTo>
                  <a:lnTo>
                    <a:pt x="121" y="955"/>
                  </a:lnTo>
                  <a:lnTo>
                    <a:pt x="117" y="955"/>
                  </a:lnTo>
                  <a:lnTo>
                    <a:pt x="109" y="955"/>
                  </a:lnTo>
                  <a:lnTo>
                    <a:pt x="105" y="955"/>
                  </a:lnTo>
                  <a:lnTo>
                    <a:pt x="105" y="955"/>
                  </a:lnTo>
                  <a:lnTo>
                    <a:pt x="101" y="955"/>
                  </a:lnTo>
                  <a:lnTo>
                    <a:pt x="97" y="955"/>
                  </a:lnTo>
                  <a:lnTo>
                    <a:pt x="89" y="955"/>
                  </a:lnTo>
                  <a:lnTo>
                    <a:pt x="85" y="955"/>
                  </a:lnTo>
                  <a:lnTo>
                    <a:pt x="85" y="955"/>
                  </a:lnTo>
                  <a:lnTo>
                    <a:pt x="81" y="955"/>
                  </a:lnTo>
                  <a:lnTo>
                    <a:pt x="77" y="955"/>
                  </a:lnTo>
                  <a:lnTo>
                    <a:pt x="68" y="955"/>
                  </a:lnTo>
                  <a:lnTo>
                    <a:pt x="64" y="955"/>
                  </a:lnTo>
                  <a:lnTo>
                    <a:pt x="60" y="955"/>
                  </a:lnTo>
                  <a:lnTo>
                    <a:pt x="60" y="955"/>
                  </a:lnTo>
                  <a:lnTo>
                    <a:pt x="56" y="955"/>
                  </a:lnTo>
                  <a:lnTo>
                    <a:pt x="48" y="955"/>
                  </a:lnTo>
                  <a:lnTo>
                    <a:pt x="44" y="955"/>
                  </a:lnTo>
                  <a:lnTo>
                    <a:pt x="40" y="955"/>
                  </a:lnTo>
                  <a:lnTo>
                    <a:pt x="40" y="955"/>
                  </a:lnTo>
                  <a:lnTo>
                    <a:pt x="36" y="955"/>
                  </a:lnTo>
                  <a:lnTo>
                    <a:pt x="28" y="955"/>
                  </a:lnTo>
                  <a:lnTo>
                    <a:pt x="24" y="955"/>
                  </a:lnTo>
                  <a:lnTo>
                    <a:pt x="20" y="955"/>
                  </a:lnTo>
                  <a:lnTo>
                    <a:pt x="16" y="955"/>
                  </a:lnTo>
                  <a:lnTo>
                    <a:pt x="4" y="955"/>
                  </a:lnTo>
                  <a:lnTo>
                    <a:pt x="4" y="955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72160" y="3108240"/>
              <a:ext cx="3046320" cy="2421000"/>
            </a:xfrm>
            <a:custGeom>
              <a:avLst/>
              <a:gdLst/>
              <a:ahLst/>
              <a:rect l="l" t="t" r="r" b="b"/>
              <a:pathLst>
                <a:path w="1919" h="1525">
                  <a:moveTo>
                    <a:pt x="0" y="679"/>
                  </a:moveTo>
                  <a:lnTo>
                    <a:pt x="0" y="849"/>
                  </a:lnTo>
                  <a:lnTo>
                    <a:pt x="4" y="886"/>
                  </a:lnTo>
                  <a:lnTo>
                    <a:pt x="4" y="853"/>
                  </a:lnTo>
                  <a:lnTo>
                    <a:pt x="16" y="914"/>
                  </a:lnTo>
                  <a:lnTo>
                    <a:pt x="20" y="878"/>
                  </a:lnTo>
                  <a:lnTo>
                    <a:pt x="24" y="942"/>
                  </a:lnTo>
                  <a:lnTo>
                    <a:pt x="28" y="983"/>
                  </a:lnTo>
                  <a:lnTo>
                    <a:pt x="36" y="1003"/>
                  </a:lnTo>
                  <a:lnTo>
                    <a:pt x="40" y="1015"/>
                  </a:lnTo>
                  <a:lnTo>
                    <a:pt x="40" y="1056"/>
                  </a:lnTo>
                  <a:lnTo>
                    <a:pt x="44" y="1044"/>
                  </a:lnTo>
                  <a:lnTo>
                    <a:pt x="48" y="1048"/>
                  </a:lnTo>
                  <a:lnTo>
                    <a:pt x="56" y="1015"/>
                  </a:lnTo>
                  <a:lnTo>
                    <a:pt x="60" y="1060"/>
                  </a:lnTo>
                  <a:lnTo>
                    <a:pt x="60" y="1161"/>
                  </a:lnTo>
                  <a:lnTo>
                    <a:pt x="64" y="1201"/>
                  </a:lnTo>
                  <a:lnTo>
                    <a:pt x="68" y="1169"/>
                  </a:lnTo>
                  <a:lnTo>
                    <a:pt x="77" y="1100"/>
                  </a:lnTo>
                  <a:lnTo>
                    <a:pt x="81" y="1121"/>
                  </a:lnTo>
                  <a:lnTo>
                    <a:pt x="85" y="1112"/>
                  </a:lnTo>
                  <a:lnTo>
                    <a:pt x="85" y="1080"/>
                  </a:lnTo>
                  <a:lnTo>
                    <a:pt x="89" y="1048"/>
                  </a:lnTo>
                  <a:lnTo>
                    <a:pt x="97" y="1011"/>
                  </a:lnTo>
                  <a:lnTo>
                    <a:pt x="101" y="1076"/>
                  </a:lnTo>
                  <a:lnTo>
                    <a:pt x="105" y="1036"/>
                  </a:lnTo>
                  <a:lnTo>
                    <a:pt x="105" y="1027"/>
                  </a:lnTo>
                  <a:lnTo>
                    <a:pt x="109" y="1031"/>
                  </a:lnTo>
                  <a:lnTo>
                    <a:pt x="117" y="999"/>
                  </a:lnTo>
                  <a:lnTo>
                    <a:pt x="121" y="1064"/>
                  </a:lnTo>
                  <a:lnTo>
                    <a:pt x="125" y="1129"/>
                  </a:lnTo>
                  <a:lnTo>
                    <a:pt x="129" y="1104"/>
                  </a:lnTo>
                  <a:lnTo>
                    <a:pt x="129" y="1173"/>
                  </a:lnTo>
                  <a:lnTo>
                    <a:pt x="141" y="1222"/>
                  </a:lnTo>
                  <a:lnTo>
                    <a:pt x="141" y="1149"/>
                  </a:lnTo>
                  <a:lnTo>
                    <a:pt x="145" y="1185"/>
                  </a:lnTo>
                  <a:lnTo>
                    <a:pt x="149" y="1173"/>
                  </a:lnTo>
                  <a:lnTo>
                    <a:pt x="153" y="1201"/>
                  </a:lnTo>
                  <a:lnTo>
                    <a:pt x="162" y="1250"/>
                  </a:lnTo>
                  <a:lnTo>
                    <a:pt x="166" y="1230"/>
                  </a:lnTo>
                  <a:lnTo>
                    <a:pt x="166" y="1201"/>
                  </a:lnTo>
                  <a:lnTo>
                    <a:pt x="170" y="1238"/>
                  </a:lnTo>
                  <a:lnTo>
                    <a:pt x="174" y="1262"/>
                  </a:lnTo>
                  <a:lnTo>
                    <a:pt x="182" y="1295"/>
                  </a:lnTo>
                  <a:lnTo>
                    <a:pt x="186" y="1254"/>
                  </a:lnTo>
                  <a:lnTo>
                    <a:pt x="186" y="1290"/>
                  </a:lnTo>
                  <a:lnTo>
                    <a:pt x="190" y="1088"/>
                  </a:lnTo>
                  <a:lnTo>
                    <a:pt x="194" y="1197"/>
                  </a:lnTo>
                  <a:lnTo>
                    <a:pt x="202" y="1214"/>
                  </a:lnTo>
                  <a:lnTo>
                    <a:pt x="206" y="1189"/>
                  </a:lnTo>
                  <a:lnTo>
                    <a:pt x="210" y="1234"/>
                  </a:lnTo>
                  <a:lnTo>
                    <a:pt x="210" y="1234"/>
                  </a:lnTo>
                  <a:lnTo>
                    <a:pt x="214" y="1246"/>
                  </a:lnTo>
                  <a:lnTo>
                    <a:pt x="222" y="1266"/>
                  </a:lnTo>
                  <a:lnTo>
                    <a:pt x="226" y="1274"/>
                  </a:lnTo>
                  <a:lnTo>
                    <a:pt x="230" y="1307"/>
                  </a:lnTo>
                  <a:lnTo>
                    <a:pt x="234" y="1278"/>
                  </a:lnTo>
                  <a:lnTo>
                    <a:pt x="234" y="1311"/>
                  </a:lnTo>
                  <a:lnTo>
                    <a:pt x="243" y="1327"/>
                  </a:lnTo>
                  <a:lnTo>
                    <a:pt x="247" y="1367"/>
                  </a:lnTo>
                  <a:lnTo>
                    <a:pt x="251" y="1392"/>
                  </a:lnTo>
                  <a:lnTo>
                    <a:pt x="255" y="1525"/>
                  </a:lnTo>
                  <a:lnTo>
                    <a:pt x="255" y="1509"/>
                  </a:lnTo>
                  <a:lnTo>
                    <a:pt x="267" y="1481"/>
                  </a:lnTo>
                  <a:lnTo>
                    <a:pt x="267" y="1460"/>
                  </a:lnTo>
                  <a:lnTo>
                    <a:pt x="271" y="1473"/>
                  </a:lnTo>
                  <a:lnTo>
                    <a:pt x="275" y="1489"/>
                  </a:lnTo>
                  <a:lnTo>
                    <a:pt x="279" y="1460"/>
                  </a:lnTo>
                  <a:lnTo>
                    <a:pt x="291" y="1339"/>
                  </a:lnTo>
                  <a:lnTo>
                    <a:pt x="291" y="1327"/>
                  </a:lnTo>
                  <a:lnTo>
                    <a:pt x="307" y="1307"/>
                  </a:lnTo>
                  <a:lnTo>
                    <a:pt x="311" y="1295"/>
                  </a:lnTo>
                  <a:lnTo>
                    <a:pt x="311" y="1323"/>
                  </a:lnTo>
                  <a:lnTo>
                    <a:pt x="315" y="1347"/>
                  </a:lnTo>
                  <a:lnTo>
                    <a:pt x="319" y="1319"/>
                  </a:lnTo>
                  <a:lnTo>
                    <a:pt x="328" y="1343"/>
                  </a:lnTo>
                  <a:lnTo>
                    <a:pt x="332" y="1404"/>
                  </a:lnTo>
                  <a:lnTo>
                    <a:pt x="336" y="1396"/>
                  </a:lnTo>
                  <a:lnTo>
                    <a:pt x="336" y="1286"/>
                  </a:lnTo>
                  <a:lnTo>
                    <a:pt x="340" y="1286"/>
                  </a:lnTo>
                  <a:lnTo>
                    <a:pt x="348" y="1327"/>
                  </a:lnTo>
                  <a:lnTo>
                    <a:pt x="352" y="1380"/>
                  </a:lnTo>
                  <a:lnTo>
                    <a:pt x="356" y="1384"/>
                  </a:lnTo>
                  <a:lnTo>
                    <a:pt x="360" y="1295"/>
                  </a:lnTo>
                  <a:lnTo>
                    <a:pt x="360" y="1327"/>
                  </a:lnTo>
                  <a:lnTo>
                    <a:pt x="368" y="1428"/>
                  </a:lnTo>
                  <a:lnTo>
                    <a:pt x="376" y="1286"/>
                  </a:lnTo>
                  <a:lnTo>
                    <a:pt x="380" y="1246"/>
                  </a:lnTo>
                  <a:lnTo>
                    <a:pt x="380" y="1238"/>
                  </a:lnTo>
                  <a:lnTo>
                    <a:pt x="392" y="1234"/>
                  </a:lnTo>
                  <a:lnTo>
                    <a:pt x="392" y="1299"/>
                  </a:lnTo>
                  <a:lnTo>
                    <a:pt x="396" y="1408"/>
                  </a:lnTo>
                  <a:lnTo>
                    <a:pt x="400" y="1343"/>
                  </a:lnTo>
                  <a:lnTo>
                    <a:pt x="405" y="1242"/>
                  </a:lnTo>
                  <a:lnTo>
                    <a:pt x="413" y="1234"/>
                  </a:lnTo>
                  <a:lnTo>
                    <a:pt x="417" y="1226"/>
                  </a:lnTo>
                  <a:lnTo>
                    <a:pt x="417" y="1299"/>
                  </a:lnTo>
                  <a:lnTo>
                    <a:pt x="421" y="1290"/>
                  </a:lnTo>
                  <a:lnTo>
                    <a:pt x="425" y="1262"/>
                  </a:lnTo>
                  <a:lnTo>
                    <a:pt x="433" y="1262"/>
                  </a:lnTo>
                  <a:lnTo>
                    <a:pt x="437" y="1254"/>
                  </a:lnTo>
                  <a:lnTo>
                    <a:pt x="437" y="1432"/>
                  </a:lnTo>
                  <a:lnTo>
                    <a:pt x="441" y="1347"/>
                  </a:lnTo>
                  <a:lnTo>
                    <a:pt x="453" y="1440"/>
                  </a:lnTo>
                  <a:lnTo>
                    <a:pt x="457" y="1363"/>
                  </a:lnTo>
                  <a:lnTo>
                    <a:pt x="461" y="1444"/>
                  </a:lnTo>
                  <a:lnTo>
                    <a:pt x="461" y="1469"/>
                  </a:lnTo>
                  <a:lnTo>
                    <a:pt x="465" y="1197"/>
                  </a:lnTo>
                  <a:lnTo>
                    <a:pt x="473" y="1137"/>
                  </a:lnTo>
                  <a:lnTo>
                    <a:pt x="477" y="1311"/>
                  </a:lnTo>
                  <a:lnTo>
                    <a:pt x="481" y="1343"/>
                  </a:lnTo>
                  <a:lnTo>
                    <a:pt x="485" y="1375"/>
                  </a:lnTo>
                  <a:lnTo>
                    <a:pt x="485" y="1375"/>
                  </a:lnTo>
                  <a:lnTo>
                    <a:pt x="494" y="1380"/>
                  </a:lnTo>
                  <a:lnTo>
                    <a:pt x="498" y="1408"/>
                  </a:lnTo>
                  <a:lnTo>
                    <a:pt x="502" y="1424"/>
                  </a:lnTo>
                  <a:lnTo>
                    <a:pt x="506" y="1408"/>
                  </a:lnTo>
                  <a:lnTo>
                    <a:pt x="506" y="1392"/>
                  </a:lnTo>
                  <a:lnTo>
                    <a:pt x="518" y="1375"/>
                  </a:lnTo>
                  <a:lnTo>
                    <a:pt x="522" y="1440"/>
                  </a:lnTo>
                  <a:lnTo>
                    <a:pt x="526" y="1464"/>
                  </a:lnTo>
                  <a:lnTo>
                    <a:pt x="530" y="1424"/>
                  </a:lnTo>
                  <a:lnTo>
                    <a:pt x="538" y="1388"/>
                  </a:lnTo>
                  <a:lnTo>
                    <a:pt x="542" y="1404"/>
                  </a:lnTo>
                  <a:lnTo>
                    <a:pt x="542" y="1343"/>
                  </a:lnTo>
                  <a:lnTo>
                    <a:pt x="546" y="1311"/>
                  </a:lnTo>
                  <a:lnTo>
                    <a:pt x="550" y="1432"/>
                  </a:lnTo>
                  <a:lnTo>
                    <a:pt x="558" y="1290"/>
                  </a:lnTo>
                  <a:lnTo>
                    <a:pt x="562" y="1262"/>
                  </a:lnTo>
                  <a:lnTo>
                    <a:pt x="562" y="1270"/>
                  </a:lnTo>
                  <a:lnTo>
                    <a:pt x="566" y="1270"/>
                  </a:lnTo>
                  <a:lnTo>
                    <a:pt x="571" y="1331"/>
                  </a:lnTo>
                  <a:lnTo>
                    <a:pt x="583" y="1311"/>
                  </a:lnTo>
                  <a:lnTo>
                    <a:pt x="587" y="1286"/>
                  </a:lnTo>
                  <a:lnTo>
                    <a:pt x="587" y="1282"/>
                  </a:lnTo>
                  <a:lnTo>
                    <a:pt x="591" y="1250"/>
                  </a:lnTo>
                  <a:lnTo>
                    <a:pt x="599" y="1181"/>
                  </a:lnTo>
                  <a:lnTo>
                    <a:pt x="603" y="1205"/>
                  </a:lnTo>
                  <a:lnTo>
                    <a:pt x="607" y="1230"/>
                  </a:lnTo>
                  <a:lnTo>
                    <a:pt x="611" y="1153"/>
                  </a:lnTo>
                  <a:lnTo>
                    <a:pt x="611" y="1096"/>
                  </a:lnTo>
                  <a:lnTo>
                    <a:pt x="623" y="1092"/>
                  </a:lnTo>
                  <a:lnTo>
                    <a:pt x="623" y="1040"/>
                  </a:lnTo>
                  <a:lnTo>
                    <a:pt x="627" y="1007"/>
                  </a:lnTo>
                  <a:lnTo>
                    <a:pt x="631" y="995"/>
                  </a:lnTo>
                  <a:lnTo>
                    <a:pt x="631" y="926"/>
                  </a:lnTo>
                  <a:lnTo>
                    <a:pt x="643" y="942"/>
                  </a:lnTo>
                  <a:lnTo>
                    <a:pt x="643" y="947"/>
                  </a:lnTo>
                  <a:lnTo>
                    <a:pt x="647" y="833"/>
                  </a:lnTo>
                  <a:lnTo>
                    <a:pt x="651" y="959"/>
                  </a:lnTo>
                  <a:lnTo>
                    <a:pt x="656" y="951"/>
                  </a:lnTo>
                  <a:lnTo>
                    <a:pt x="664" y="987"/>
                  </a:lnTo>
                  <a:lnTo>
                    <a:pt x="668" y="971"/>
                  </a:lnTo>
                  <a:lnTo>
                    <a:pt x="668" y="971"/>
                  </a:lnTo>
                  <a:lnTo>
                    <a:pt x="672" y="922"/>
                  </a:lnTo>
                  <a:lnTo>
                    <a:pt x="676" y="918"/>
                  </a:lnTo>
                  <a:lnTo>
                    <a:pt x="684" y="983"/>
                  </a:lnTo>
                  <a:lnTo>
                    <a:pt x="688" y="987"/>
                  </a:lnTo>
                  <a:lnTo>
                    <a:pt x="688" y="934"/>
                  </a:lnTo>
                  <a:lnTo>
                    <a:pt x="692" y="866"/>
                  </a:lnTo>
                  <a:lnTo>
                    <a:pt x="696" y="878"/>
                  </a:lnTo>
                  <a:lnTo>
                    <a:pt x="708" y="874"/>
                  </a:lnTo>
                  <a:lnTo>
                    <a:pt x="712" y="910"/>
                  </a:lnTo>
                  <a:lnTo>
                    <a:pt x="712" y="878"/>
                  </a:lnTo>
                  <a:lnTo>
                    <a:pt x="716" y="704"/>
                  </a:lnTo>
                  <a:lnTo>
                    <a:pt x="724" y="825"/>
                  </a:lnTo>
                  <a:lnTo>
                    <a:pt x="728" y="748"/>
                  </a:lnTo>
                  <a:lnTo>
                    <a:pt x="732" y="805"/>
                  </a:lnTo>
                  <a:lnTo>
                    <a:pt x="737" y="748"/>
                  </a:lnTo>
                  <a:lnTo>
                    <a:pt x="737" y="574"/>
                  </a:lnTo>
                  <a:lnTo>
                    <a:pt x="749" y="781"/>
                  </a:lnTo>
                  <a:lnTo>
                    <a:pt x="749" y="760"/>
                  </a:lnTo>
                  <a:lnTo>
                    <a:pt x="753" y="683"/>
                  </a:lnTo>
                  <a:lnTo>
                    <a:pt x="757" y="598"/>
                  </a:lnTo>
                  <a:lnTo>
                    <a:pt x="757" y="631"/>
                  </a:lnTo>
                  <a:lnTo>
                    <a:pt x="769" y="631"/>
                  </a:lnTo>
                  <a:lnTo>
                    <a:pt x="769" y="598"/>
                  </a:lnTo>
                  <a:lnTo>
                    <a:pt x="773" y="546"/>
                  </a:lnTo>
                  <a:lnTo>
                    <a:pt x="777" y="558"/>
                  </a:lnTo>
                  <a:lnTo>
                    <a:pt x="781" y="623"/>
                  </a:lnTo>
                  <a:lnTo>
                    <a:pt x="789" y="643"/>
                  </a:lnTo>
                  <a:lnTo>
                    <a:pt x="793" y="663"/>
                  </a:lnTo>
                  <a:lnTo>
                    <a:pt x="793" y="615"/>
                  </a:lnTo>
                  <a:lnTo>
                    <a:pt x="797" y="590"/>
                  </a:lnTo>
                  <a:lnTo>
                    <a:pt x="801" y="655"/>
                  </a:lnTo>
                  <a:lnTo>
                    <a:pt x="809" y="667"/>
                  </a:lnTo>
                  <a:lnTo>
                    <a:pt x="813" y="639"/>
                  </a:lnTo>
                  <a:lnTo>
                    <a:pt x="818" y="675"/>
                  </a:lnTo>
                  <a:lnTo>
                    <a:pt x="818" y="708"/>
                  </a:lnTo>
                  <a:lnTo>
                    <a:pt x="822" y="562"/>
                  </a:lnTo>
                  <a:lnTo>
                    <a:pt x="830" y="562"/>
                  </a:lnTo>
                  <a:lnTo>
                    <a:pt x="834" y="578"/>
                  </a:lnTo>
                  <a:lnTo>
                    <a:pt x="838" y="542"/>
                  </a:lnTo>
                  <a:lnTo>
                    <a:pt x="838" y="522"/>
                  </a:lnTo>
                  <a:lnTo>
                    <a:pt x="842" y="542"/>
                  </a:lnTo>
                  <a:lnTo>
                    <a:pt x="850" y="546"/>
                  </a:lnTo>
                  <a:lnTo>
                    <a:pt x="854" y="542"/>
                  </a:lnTo>
                  <a:lnTo>
                    <a:pt x="858" y="526"/>
                  </a:lnTo>
                  <a:lnTo>
                    <a:pt x="862" y="542"/>
                  </a:lnTo>
                  <a:lnTo>
                    <a:pt x="862" y="570"/>
                  </a:lnTo>
                  <a:lnTo>
                    <a:pt x="874" y="538"/>
                  </a:lnTo>
                  <a:lnTo>
                    <a:pt x="878" y="485"/>
                  </a:lnTo>
                  <a:lnTo>
                    <a:pt x="882" y="509"/>
                  </a:lnTo>
                  <a:lnTo>
                    <a:pt x="882" y="542"/>
                  </a:lnTo>
                  <a:lnTo>
                    <a:pt x="894" y="558"/>
                  </a:lnTo>
                  <a:lnTo>
                    <a:pt x="894" y="611"/>
                  </a:lnTo>
                  <a:lnTo>
                    <a:pt x="898" y="603"/>
                  </a:lnTo>
                  <a:lnTo>
                    <a:pt x="903" y="594"/>
                  </a:lnTo>
                  <a:lnTo>
                    <a:pt x="907" y="619"/>
                  </a:lnTo>
                  <a:lnTo>
                    <a:pt x="915" y="667"/>
                  </a:lnTo>
                  <a:lnTo>
                    <a:pt x="919" y="675"/>
                  </a:lnTo>
                  <a:lnTo>
                    <a:pt x="919" y="696"/>
                  </a:lnTo>
                  <a:lnTo>
                    <a:pt x="923" y="586"/>
                  </a:lnTo>
                  <a:lnTo>
                    <a:pt x="927" y="538"/>
                  </a:lnTo>
                  <a:lnTo>
                    <a:pt x="935" y="509"/>
                  </a:lnTo>
                  <a:lnTo>
                    <a:pt x="943" y="469"/>
                  </a:lnTo>
                  <a:lnTo>
                    <a:pt x="943" y="441"/>
                  </a:lnTo>
                  <a:lnTo>
                    <a:pt x="947" y="441"/>
                  </a:lnTo>
                  <a:lnTo>
                    <a:pt x="955" y="473"/>
                  </a:lnTo>
                  <a:lnTo>
                    <a:pt x="959" y="433"/>
                  </a:lnTo>
                  <a:lnTo>
                    <a:pt x="963" y="392"/>
                  </a:lnTo>
                  <a:lnTo>
                    <a:pt x="963" y="384"/>
                  </a:lnTo>
                  <a:lnTo>
                    <a:pt x="967" y="424"/>
                  </a:lnTo>
                  <a:lnTo>
                    <a:pt x="975" y="441"/>
                  </a:lnTo>
                  <a:lnTo>
                    <a:pt x="979" y="420"/>
                  </a:lnTo>
                  <a:lnTo>
                    <a:pt x="984" y="392"/>
                  </a:lnTo>
                  <a:lnTo>
                    <a:pt x="988" y="416"/>
                  </a:lnTo>
                  <a:lnTo>
                    <a:pt x="988" y="424"/>
                  </a:lnTo>
                  <a:lnTo>
                    <a:pt x="1000" y="433"/>
                  </a:lnTo>
                  <a:lnTo>
                    <a:pt x="1000" y="465"/>
                  </a:lnTo>
                  <a:lnTo>
                    <a:pt x="1004" y="469"/>
                  </a:lnTo>
                  <a:lnTo>
                    <a:pt x="1008" y="457"/>
                  </a:lnTo>
                  <a:lnTo>
                    <a:pt x="1012" y="546"/>
                  </a:lnTo>
                  <a:lnTo>
                    <a:pt x="1020" y="501"/>
                  </a:lnTo>
                  <a:lnTo>
                    <a:pt x="1020" y="465"/>
                  </a:lnTo>
                  <a:lnTo>
                    <a:pt x="1024" y="469"/>
                  </a:lnTo>
                  <a:lnTo>
                    <a:pt x="1028" y="501"/>
                  </a:lnTo>
                  <a:lnTo>
                    <a:pt x="1032" y="449"/>
                  </a:lnTo>
                  <a:lnTo>
                    <a:pt x="1040" y="453"/>
                  </a:lnTo>
                  <a:lnTo>
                    <a:pt x="1044" y="457"/>
                  </a:lnTo>
                  <a:lnTo>
                    <a:pt x="1044" y="429"/>
                  </a:lnTo>
                  <a:lnTo>
                    <a:pt x="1048" y="400"/>
                  </a:lnTo>
                  <a:lnTo>
                    <a:pt x="1052" y="339"/>
                  </a:lnTo>
                  <a:lnTo>
                    <a:pt x="1060" y="319"/>
                  </a:lnTo>
                  <a:lnTo>
                    <a:pt x="1064" y="295"/>
                  </a:lnTo>
                  <a:lnTo>
                    <a:pt x="1069" y="242"/>
                  </a:lnTo>
                  <a:lnTo>
                    <a:pt x="1069" y="194"/>
                  </a:lnTo>
                  <a:lnTo>
                    <a:pt x="1073" y="174"/>
                  </a:lnTo>
                  <a:lnTo>
                    <a:pt x="1089" y="186"/>
                  </a:lnTo>
                  <a:lnTo>
                    <a:pt x="1089" y="182"/>
                  </a:lnTo>
                  <a:lnTo>
                    <a:pt x="1093" y="178"/>
                  </a:lnTo>
                  <a:lnTo>
                    <a:pt x="1101" y="170"/>
                  </a:lnTo>
                  <a:lnTo>
                    <a:pt x="1109" y="214"/>
                  </a:lnTo>
                  <a:lnTo>
                    <a:pt x="1113" y="396"/>
                  </a:lnTo>
                  <a:lnTo>
                    <a:pt x="1113" y="424"/>
                  </a:lnTo>
                  <a:lnTo>
                    <a:pt x="1125" y="449"/>
                  </a:lnTo>
                  <a:lnTo>
                    <a:pt x="1125" y="497"/>
                  </a:lnTo>
                  <a:lnTo>
                    <a:pt x="1129" y="518"/>
                  </a:lnTo>
                  <a:lnTo>
                    <a:pt x="1133" y="522"/>
                  </a:lnTo>
                  <a:lnTo>
                    <a:pt x="1137" y="534"/>
                  </a:lnTo>
                  <a:lnTo>
                    <a:pt x="1145" y="538"/>
                  </a:lnTo>
                  <a:lnTo>
                    <a:pt x="1145" y="534"/>
                  </a:lnTo>
                  <a:lnTo>
                    <a:pt x="1150" y="639"/>
                  </a:lnTo>
                  <a:lnTo>
                    <a:pt x="1154" y="679"/>
                  </a:lnTo>
                  <a:lnTo>
                    <a:pt x="1158" y="696"/>
                  </a:lnTo>
                  <a:lnTo>
                    <a:pt x="1166" y="683"/>
                  </a:lnTo>
                  <a:lnTo>
                    <a:pt x="1170" y="688"/>
                  </a:lnTo>
                  <a:lnTo>
                    <a:pt x="1170" y="728"/>
                  </a:lnTo>
                  <a:lnTo>
                    <a:pt x="1174" y="720"/>
                  </a:lnTo>
                  <a:lnTo>
                    <a:pt x="1178" y="789"/>
                  </a:lnTo>
                  <a:lnTo>
                    <a:pt x="1186" y="837"/>
                  </a:lnTo>
                  <a:lnTo>
                    <a:pt x="1190" y="825"/>
                  </a:lnTo>
                  <a:lnTo>
                    <a:pt x="1194" y="833"/>
                  </a:lnTo>
                  <a:lnTo>
                    <a:pt x="1194" y="829"/>
                  </a:lnTo>
                  <a:lnTo>
                    <a:pt x="1198" y="829"/>
                  </a:lnTo>
                  <a:lnTo>
                    <a:pt x="1206" y="906"/>
                  </a:lnTo>
                  <a:lnTo>
                    <a:pt x="1210" y="991"/>
                  </a:lnTo>
                  <a:lnTo>
                    <a:pt x="1214" y="1052"/>
                  </a:lnTo>
                  <a:lnTo>
                    <a:pt x="1214" y="1052"/>
                  </a:lnTo>
                  <a:lnTo>
                    <a:pt x="1218" y="1044"/>
                  </a:lnTo>
                  <a:lnTo>
                    <a:pt x="1226" y="999"/>
                  </a:lnTo>
                  <a:lnTo>
                    <a:pt x="1231" y="979"/>
                  </a:lnTo>
                  <a:lnTo>
                    <a:pt x="1235" y="1027"/>
                  </a:lnTo>
                  <a:lnTo>
                    <a:pt x="1239" y="1031"/>
                  </a:lnTo>
                  <a:lnTo>
                    <a:pt x="1239" y="1060"/>
                  </a:lnTo>
                  <a:lnTo>
                    <a:pt x="1251" y="1036"/>
                  </a:lnTo>
                  <a:lnTo>
                    <a:pt x="1251" y="1003"/>
                  </a:lnTo>
                  <a:lnTo>
                    <a:pt x="1255" y="1040"/>
                  </a:lnTo>
                  <a:lnTo>
                    <a:pt x="1259" y="991"/>
                  </a:lnTo>
                  <a:lnTo>
                    <a:pt x="1263" y="1007"/>
                  </a:lnTo>
                  <a:lnTo>
                    <a:pt x="1271" y="995"/>
                  </a:lnTo>
                  <a:lnTo>
                    <a:pt x="1271" y="999"/>
                  </a:lnTo>
                  <a:lnTo>
                    <a:pt x="1275" y="979"/>
                  </a:lnTo>
                  <a:lnTo>
                    <a:pt x="1279" y="938"/>
                  </a:lnTo>
                  <a:lnTo>
                    <a:pt x="1283" y="825"/>
                  </a:lnTo>
                  <a:lnTo>
                    <a:pt x="1291" y="793"/>
                  </a:lnTo>
                  <a:lnTo>
                    <a:pt x="1295" y="922"/>
                  </a:lnTo>
                  <a:lnTo>
                    <a:pt x="1295" y="991"/>
                  </a:lnTo>
                  <a:lnTo>
                    <a:pt x="1299" y="1060"/>
                  </a:lnTo>
                  <a:lnTo>
                    <a:pt x="1303" y="1036"/>
                  </a:lnTo>
                  <a:lnTo>
                    <a:pt x="1311" y="1044"/>
                  </a:lnTo>
                  <a:lnTo>
                    <a:pt x="1316" y="1068"/>
                  </a:lnTo>
                  <a:lnTo>
                    <a:pt x="1320" y="1121"/>
                  </a:lnTo>
                  <a:lnTo>
                    <a:pt x="1320" y="1137"/>
                  </a:lnTo>
                  <a:lnTo>
                    <a:pt x="1324" y="1116"/>
                  </a:lnTo>
                  <a:lnTo>
                    <a:pt x="1332" y="1104"/>
                  </a:lnTo>
                  <a:lnTo>
                    <a:pt x="1336" y="1189"/>
                  </a:lnTo>
                  <a:lnTo>
                    <a:pt x="1340" y="1218"/>
                  </a:lnTo>
                  <a:lnTo>
                    <a:pt x="1356" y="1303"/>
                  </a:lnTo>
                  <a:lnTo>
                    <a:pt x="1360" y="1299"/>
                  </a:lnTo>
                  <a:lnTo>
                    <a:pt x="1364" y="1311"/>
                  </a:lnTo>
                  <a:lnTo>
                    <a:pt x="1364" y="1242"/>
                  </a:lnTo>
                  <a:lnTo>
                    <a:pt x="1376" y="1157"/>
                  </a:lnTo>
                  <a:lnTo>
                    <a:pt x="1376" y="1068"/>
                  </a:lnTo>
                  <a:lnTo>
                    <a:pt x="1384" y="1068"/>
                  </a:lnTo>
                  <a:lnTo>
                    <a:pt x="1388" y="1092"/>
                  </a:lnTo>
                  <a:lnTo>
                    <a:pt x="1397" y="1064"/>
                  </a:lnTo>
                  <a:lnTo>
                    <a:pt x="1401" y="1068"/>
                  </a:lnTo>
                  <a:lnTo>
                    <a:pt x="1401" y="1044"/>
                  </a:lnTo>
                  <a:lnTo>
                    <a:pt x="1405" y="995"/>
                  </a:lnTo>
                  <a:lnTo>
                    <a:pt x="1409" y="971"/>
                  </a:lnTo>
                  <a:lnTo>
                    <a:pt x="1417" y="999"/>
                  </a:lnTo>
                  <a:lnTo>
                    <a:pt x="1421" y="991"/>
                  </a:lnTo>
                  <a:lnTo>
                    <a:pt x="1421" y="1104"/>
                  </a:lnTo>
                  <a:lnTo>
                    <a:pt x="1425" y="1100"/>
                  </a:lnTo>
                  <a:lnTo>
                    <a:pt x="1429" y="987"/>
                  </a:lnTo>
                  <a:lnTo>
                    <a:pt x="1437" y="894"/>
                  </a:lnTo>
                  <a:lnTo>
                    <a:pt x="1441" y="829"/>
                  </a:lnTo>
                  <a:lnTo>
                    <a:pt x="1445" y="768"/>
                  </a:lnTo>
                  <a:lnTo>
                    <a:pt x="1445" y="760"/>
                  </a:lnTo>
                  <a:lnTo>
                    <a:pt x="1449" y="643"/>
                  </a:lnTo>
                  <a:lnTo>
                    <a:pt x="1457" y="671"/>
                  </a:lnTo>
                  <a:lnTo>
                    <a:pt x="1461" y="647"/>
                  </a:lnTo>
                  <a:lnTo>
                    <a:pt x="1465" y="598"/>
                  </a:lnTo>
                  <a:lnTo>
                    <a:pt x="1469" y="505"/>
                  </a:lnTo>
                  <a:lnTo>
                    <a:pt x="1478" y="477"/>
                  </a:lnTo>
                  <a:lnTo>
                    <a:pt x="1482" y="493"/>
                  </a:lnTo>
                  <a:lnTo>
                    <a:pt x="1486" y="441"/>
                  </a:lnTo>
                  <a:lnTo>
                    <a:pt x="1490" y="493"/>
                  </a:lnTo>
                  <a:lnTo>
                    <a:pt x="1490" y="441"/>
                  </a:lnTo>
                  <a:lnTo>
                    <a:pt x="1502" y="368"/>
                  </a:lnTo>
                  <a:lnTo>
                    <a:pt x="1502" y="339"/>
                  </a:lnTo>
                  <a:lnTo>
                    <a:pt x="1506" y="323"/>
                  </a:lnTo>
                  <a:lnTo>
                    <a:pt x="1510" y="307"/>
                  </a:lnTo>
                  <a:lnTo>
                    <a:pt x="1514" y="372"/>
                  </a:lnTo>
                  <a:lnTo>
                    <a:pt x="1522" y="287"/>
                  </a:lnTo>
                  <a:lnTo>
                    <a:pt x="1526" y="364"/>
                  </a:lnTo>
                  <a:lnTo>
                    <a:pt x="1526" y="404"/>
                  </a:lnTo>
                  <a:lnTo>
                    <a:pt x="1530" y="408"/>
                  </a:lnTo>
                  <a:lnTo>
                    <a:pt x="1534" y="396"/>
                  </a:lnTo>
                  <a:lnTo>
                    <a:pt x="1542" y="323"/>
                  </a:lnTo>
                  <a:lnTo>
                    <a:pt x="1546" y="420"/>
                  </a:lnTo>
                  <a:lnTo>
                    <a:pt x="1546" y="376"/>
                  </a:lnTo>
                  <a:lnTo>
                    <a:pt x="1550" y="384"/>
                  </a:lnTo>
                  <a:lnTo>
                    <a:pt x="1554" y="323"/>
                  </a:lnTo>
                  <a:lnTo>
                    <a:pt x="1563" y="186"/>
                  </a:lnTo>
                  <a:lnTo>
                    <a:pt x="1567" y="165"/>
                  </a:lnTo>
                  <a:lnTo>
                    <a:pt x="1571" y="238"/>
                  </a:lnTo>
                  <a:lnTo>
                    <a:pt x="1571" y="327"/>
                  </a:lnTo>
                  <a:lnTo>
                    <a:pt x="1575" y="242"/>
                  </a:lnTo>
                  <a:lnTo>
                    <a:pt x="1583" y="238"/>
                  </a:lnTo>
                  <a:lnTo>
                    <a:pt x="1587" y="190"/>
                  </a:lnTo>
                  <a:lnTo>
                    <a:pt x="1591" y="174"/>
                  </a:lnTo>
                  <a:lnTo>
                    <a:pt x="1595" y="182"/>
                  </a:lnTo>
                  <a:lnTo>
                    <a:pt x="1595" y="165"/>
                  </a:lnTo>
                  <a:lnTo>
                    <a:pt x="1607" y="105"/>
                  </a:lnTo>
                  <a:lnTo>
                    <a:pt x="1611" y="178"/>
                  </a:lnTo>
                  <a:lnTo>
                    <a:pt x="1615" y="218"/>
                  </a:lnTo>
                  <a:lnTo>
                    <a:pt x="1615" y="121"/>
                  </a:lnTo>
                  <a:lnTo>
                    <a:pt x="1627" y="52"/>
                  </a:lnTo>
                  <a:lnTo>
                    <a:pt x="1627" y="20"/>
                  </a:lnTo>
                  <a:lnTo>
                    <a:pt x="1631" y="0"/>
                  </a:lnTo>
                  <a:lnTo>
                    <a:pt x="1635" y="40"/>
                  </a:lnTo>
                  <a:lnTo>
                    <a:pt x="1639" y="40"/>
                  </a:lnTo>
                  <a:lnTo>
                    <a:pt x="1648" y="8"/>
                  </a:lnTo>
                  <a:lnTo>
                    <a:pt x="1652" y="149"/>
                  </a:lnTo>
                  <a:lnTo>
                    <a:pt x="1652" y="250"/>
                  </a:lnTo>
                  <a:lnTo>
                    <a:pt x="1656" y="234"/>
                  </a:lnTo>
                  <a:lnTo>
                    <a:pt x="1660" y="250"/>
                  </a:lnTo>
                  <a:lnTo>
                    <a:pt x="1668" y="214"/>
                  </a:lnTo>
                  <a:lnTo>
                    <a:pt x="1672" y="198"/>
                  </a:lnTo>
                  <a:lnTo>
                    <a:pt x="1676" y="153"/>
                  </a:lnTo>
                  <a:lnTo>
                    <a:pt x="1680" y="194"/>
                  </a:lnTo>
                  <a:lnTo>
                    <a:pt x="1688" y="186"/>
                  </a:lnTo>
                  <a:lnTo>
                    <a:pt x="1692" y="149"/>
                  </a:lnTo>
                  <a:lnTo>
                    <a:pt x="1696" y="174"/>
                  </a:lnTo>
                  <a:lnTo>
                    <a:pt x="1696" y="206"/>
                  </a:lnTo>
                  <a:lnTo>
                    <a:pt x="1700" y="226"/>
                  </a:lnTo>
                  <a:lnTo>
                    <a:pt x="1708" y="234"/>
                  </a:lnTo>
                  <a:lnTo>
                    <a:pt x="1712" y="356"/>
                  </a:lnTo>
                  <a:lnTo>
                    <a:pt x="1716" y="400"/>
                  </a:lnTo>
                  <a:lnTo>
                    <a:pt x="1720" y="530"/>
                  </a:lnTo>
                  <a:lnTo>
                    <a:pt x="1720" y="590"/>
                  </a:lnTo>
                  <a:lnTo>
                    <a:pt x="1729" y="688"/>
                  </a:lnTo>
                  <a:lnTo>
                    <a:pt x="1733" y="671"/>
                  </a:lnTo>
                  <a:lnTo>
                    <a:pt x="1737" y="631"/>
                  </a:lnTo>
                  <a:lnTo>
                    <a:pt x="1741" y="598"/>
                  </a:lnTo>
                  <a:lnTo>
                    <a:pt x="1741" y="368"/>
                  </a:lnTo>
                  <a:lnTo>
                    <a:pt x="1753" y="364"/>
                  </a:lnTo>
                  <a:lnTo>
                    <a:pt x="1753" y="441"/>
                  </a:lnTo>
                  <a:lnTo>
                    <a:pt x="1757" y="477"/>
                  </a:lnTo>
                  <a:lnTo>
                    <a:pt x="1761" y="445"/>
                  </a:lnTo>
                  <a:lnTo>
                    <a:pt x="1765" y="457"/>
                  </a:lnTo>
                  <a:lnTo>
                    <a:pt x="1773" y="429"/>
                  </a:lnTo>
                  <a:lnTo>
                    <a:pt x="1777" y="509"/>
                  </a:lnTo>
                  <a:lnTo>
                    <a:pt x="1777" y="594"/>
                  </a:lnTo>
                  <a:lnTo>
                    <a:pt x="1781" y="651"/>
                  </a:lnTo>
                  <a:lnTo>
                    <a:pt x="1785" y="627"/>
                  </a:lnTo>
                  <a:lnTo>
                    <a:pt x="1797" y="764"/>
                  </a:lnTo>
                  <a:lnTo>
                    <a:pt x="1797" y="821"/>
                  </a:lnTo>
                  <a:lnTo>
                    <a:pt x="1801" y="837"/>
                  </a:lnTo>
                  <a:lnTo>
                    <a:pt x="1805" y="805"/>
                  </a:lnTo>
                  <a:lnTo>
                    <a:pt x="1814" y="728"/>
                  </a:lnTo>
                  <a:lnTo>
                    <a:pt x="1818" y="809"/>
                  </a:lnTo>
                  <a:lnTo>
                    <a:pt x="1822" y="809"/>
                  </a:lnTo>
                  <a:lnTo>
                    <a:pt x="1822" y="809"/>
                  </a:lnTo>
                  <a:lnTo>
                    <a:pt x="1826" y="781"/>
                  </a:lnTo>
                  <a:lnTo>
                    <a:pt x="1834" y="647"/>
                  </a:lnTo>
                  <a:lnTo>
                    <a:pt x="1838" y="740"/>
                  </a:lnTo>
                  <a:lnTo>
                    <a:pt x="1842" y="760"/>
                  </a:lnTo>
                  <a:lnTo>
                    <a:pt x="1846" y="777"/>
                  </a:lnTo>
                  <a:lnTo>
                    <a:pt x="1846" y="764"/>
                  </a:lnTo>
                  <a:lnTo>
                    <a:pt x="1854" y="805"/>
                  </a:lnTo>
                  <a:lnTo>
                    <a:pt x="1858" y="801"/>
                  </a:lnTo>
                  <a:lnTo>
                    <a:pt x="1862" y="817"/>
                  </a:lnTo>
                  <a:lnTo>
                    <a:pt x="1866" y="890"/>
                  </a:lnTo>
                  <a:lnTo>
                    <a:pt x="1866" y="878"/>
                  </a:lnTo>
                  <a:lnTo>
                    <a:pt x="1878" y="845"/>
                  </a:lnTo>
                  <a:lnTo>
                    <a:pt x="1878" y="902"/>
                  </a:lnTo>
                  <a:lnTo>
                    <a:pt x="1882" y="857"/>
                  </a:lnTo>
                  <a:lnTo>
                    <a:pt x="1886" y="862"/>
                  </a:lnTo>
                  <a:lnTo>
                    <a:pt x="1891" y="1011"/>
                  </a:lnTo>
                  <a:lnTo>
                    <a:pt x="1899" y="999"/>
                  </a:lnTo>
                  <a:lnTo>
                    <a:pt x="1903" y="999"/>
                  </a:lnTo>
                  <a:lnTo>
                    <a:pt x="1903" y="1023"/>
                  </a:lnTo>
                  <a:lnTo>
                    <a:pt x="1907" y="1036"/>
                  </a:lnTo>
                  <a:lnTo>
                    <a:pt x="1911" y="983"/>
                  </a:lnTo>
                  <a:lnTo>
                    <a:pt x="1919" y="1076"/>
                  </a:lnTo>
                  <a:lnTo>
                    <a:pt x="1919" y="679"/>
                  </a:lnTo>
                  <a:lnTo>
                    <a:pt x="1911" y="679"/>
                  </a:lnTo>
                  <a:lnTo>
                    <a:pt x="1907" y="679"/>
                  </a:lnTo>
                  <a:lnTo>
                    <a:pt x="1903" y="679"/>
                  </a:lnTo>
                  <a:lnTo>
                    <a:pt x="1903" y="679"/>
                  </a:lnTo>
                  <a:lnTo>
                    <a:pt x="1899" y="679"/>
                  </a:lnTo>
                  <a:lnTo>
                    <a:pt x="1891" y="679"/>
                  </a:lnTo>
                  <a:lnTo>
                    <a:pt x="1886" y="679"/>
                  </a:lnTo>
                  <a:lnTo>
                    <a:pt x="1882" y="679"/>
                  </a:lnTo>
                  <a:lnTo>
                    <a:pt x="1878" y="679"/>
                  </a:lnTo>
                  <a:lnTo>
                    <a:pt x="1878" y="679"/>
                  </a:lnTo>
                  <a:lnTo>
                    <a:pt x="1866" y="679"/>
                  </a:lnTo>
                  <a:lnTo>
                    <a:pt x="1866" y="679"/>
                  </a:lnTo>
                  <a:lnTo>
                    <a:pt x="1862" y="679"/>
                  </a:lnTo>
                  <a:lnTo>
                    <a:pt x="1858" y="679"/>
                  </a:lnTo>
                  <a:lnTo>
                    <a:pt x="1854" y="679"/>
                  </a:lnTo>
                  <a:lnTo>
                    <a:pt x="1846" y="679"/>
                  </a:lnTo>
                  <a:lnTo>
                    <a:pt x="1846" y="679"/>
                  </a:lnTo>
                  <a:lnTo>
                    <a:pt x="1842" y="679"/>
                  </a:lnTo>
                  <a:lnTo>
                    <a:pt x="1838" y="679"/>
                  </a:lnTo>
                  <a:lnTo>
                    <a:pt x="1834" y="679"/>
                  </a:lnTo>
                  <a:lnTo>
                    <a:pt x="1826" y="679"/>
                  </a:lnTo>
                  <a:lnTo>
                    <a:pt x="1822" y="679"/>
                  </a:lnTo>
                  <a:lnTo>
                    <a:pt x="1822" y="679"/>
                  </a:lnTo>
                  <a:lnTo>
                    <a:pt x="1818" y="679"/>
                  </a:lnTo>
                  <a:lnTo>
                    <a:pt x="1814" y="679"/>
                  </a:lnTo>
                  <a:lnTo>
                    <a:pt x="1805" y="679"/>
                  </a:lnTo>
                  <a:lnTo>
                    <a:pt x="1801" y="679"/>
                  </a:lnTo>
                  <a:lnTo>
                    <a:pt x="1797" y="679"/>
                  </a:lnTo>
                  <a:lnTo>
                    <a:pt x="1797" y="679"/>
                  </a:lnTo>
                  <a:lnTo>
                    <a:pt x="1785" y="679"/>
                  </a:lnTo>
                  <a:lnTo>
                    <a:pt x="1781" y="679"/>
                  </a:lnTo>
                  <a:lnTo>
                    <a:pt x="1777" y="679"/>
                  </a:lnTo>
                  <a:lnTo>
                    <a:pt x="1777" y="679"/>
                  </a:lnTo>
                  <a:lnTo>
                    <a:pt x="1773" y="679"/>
                  </a:lnTo>
                  <a:lnTo>
                    <a:pt x="1765" y="679"/>
                  </a:lnTo>
                  <a:lnTo>
                    <a:pt x="1761" y="679"/>
                  </a:lnTo>
                  <a:lnTo>
                    <a:pt x="1757" y="679"/>
                  </a:lnTo>
                  <a:lnTo>
                    <a:pt x="1753" y="679"/>
                  </a:lnTo>
                  <a:lnTo>
                    <a:pt x="1753" y="679"/>
                  </a:lnTo>
                  <a:lnTo>
                    <a:pt x="1741" y="679"/>
                  </a:lnTo>
                  <a:lnTo>
                    <a:pt x="1741" y="679"/>
                  </a:lnTo>
                  <a:lnTo>
                    <a:pt x="1737" y="679"/>
                  </a:lnTo>
                  <a:lnTo>
                    <a:pt x="1733" y="679"/>
                  </a:lnTo>
                  <a:lnTo>
                    <a:pt x="1729" y="679"/>
                  </a:lnTo>
                  <a:lnTo>
                    <a:pt x="1720" y="679"/>
                  </a:lnTo>
                  <a:lnTo>
                    <a:pt x="1720" y="679"/>
                  </a:lnTo>
                  <a:lnTo>
                    <a:pt x="1716" y="679"/>
                  </a:lnTo>
                  <a:lnTo>
                    <a:pt x="1712" y="679"/>
                  </a:lnTo>
                  <a:lnTo>
                    <a:pt x="1708" y="679"/>
                  </a:lnTo>
                  <a:lnTo>
                    <a:pt x="1700" y="679"/>
                  </a:lnTo>
                  <a:lnTo>
                    <a:pt x="1696" y="679"/>
                  </a:lnTo>
                  <a:lnTo>
                    <a:pt x="1696" y="679"/>
                  </a:lnTo>
                  <a:lnTo>
                    <a:pt x="1692" y="679"/>
                  </a:lnTo>
                  <a:lnTo>
                    <a:pt x="1688" y="679"/>
                  </a:lnTo>
                  <a:lnTo>
                    <a:pt x="1680" y="679"/>
                  </a:lnTo>
                  <a:lnTo>
                    <a:pt x="1676" y="679"/>
                  </a:lnTo>
                  <a:lnTo>
                    <a:pt x="1672" y="679"/>
                  </a:lnTo>
                  <a:lnTo>
                    <a:pt x="1668" y="679"/>
                  </a:lnTo>
                  <a:lnTo>
                    <a:pt x="1660" y="679"/>
                  </a:lnTo>
                  <a:lnTo>
                    <a:pt x="1656" y="679"/>
                  </a:lnTo>
                  <a:lnTo>
                    <a:pt x="1652" y="679"/>
                  </a:lnTo>
                  <a:lnTo>
                    <a:pt x="1652" y="679"/>
                  </a:lnTo>
                  <a:lnTo>
                    <a:pt x="1648" y="679"/>
                  </a:lnTo>
                  <a:lnTo>
                    <a:pt x="1639" y="679"/>
                  </a:lnTo>
                  <a:lnTo>
                    <a:pt x="1635" y="679"/>
                  </a:lnTo>
                  <a:lnTo>
                    <a:pt x="1631" y="679"/>
                  </a:lnTo>
                  <a:lnTo>
                    <a:pt x="1627" y="679"/>
                  </a:lnTo>
                  <a:lnTo>
                    <a:pt x="1627" y="679"/>
                  </a:lnTo>
                  <a:lnTo>
                    <a:pt x="1615" y="679"/>
                  </a:lnTo>
                  <a:lnTo>
                    <a:pt x="1615" y="679"/>
                  </a:lnTo>
                  <a:lnTo>
                    <a:pt x="1611" y="679"/>
                  </a:lnTo>
                  <a:lnTo>
                    <a:pt x="1607" y="679"/>
                  </a:lnTo>
                  <a:lnTo>
                    <a:pt x="1595" y="679"/>
                  </a:lnTo>
                  <a:lnTo>
                    <a:pt x="1595" y="679"/>
                  </a:lnTo>
                  <a:lnTo>
                    <a:pt x="1591" y="679"/>
                  </a:lnTo>
                  <a:lnTo>
                    <a:pt x="1587" y="679"/>
                  </a:lnTo>
                  <a:lnTo>
                    <a:pt x="1583" y="679"/>
                  </a:lnTo>
                  <a:lnTo>
                    <a:pt x="1575" y="679"/>
                  </a:lnTo>
                  <a:lnTo>
                    <a:pt x="1571" y="679"/>
                  </a:lnTo>
                  <a:lnTo>
                    <a:pt x="1571" y="679"/>
                  </a:lnTo>
                  <a:lnTo>
                    <a:pt x="1567" y="679"/>
                  </a:lnTo>
                  <a:lnTo>
                    <a:pt x="1563" y="679"/>
                  </a:lnTo>
                  <a:lnTo>
                    <a:pt x="1554" y="679"/>
                  </a:lnTo>
                  <a:lnTo>
                    <a:pt x="1550" y="679"/>
                  </a:lnTo>
                  <a:lnTo>
                    <a:pt x="1546" y="679"/>
                  </a:lnTo>
                  <a:lnTo>
                    <a:pt x="1546" y="679"/>
                  </a:lnTo>
                  <a:lnTo>
                    <a:pt x="1542" y="679"/>
                  </a:lnTo>
                  <a:lnTo>
                    <a:pt x="1534" y="679"/>
                  </a:lnTo>
                  <a:lnTo>
                    <a:pt x="1530" y="679"/>
                  </a:lnTo>
                  <a:lnTo>
                    <a:pt x="1526" y="679"/>
                  </a:lnTo>
                  <a:lnTo>
                    <a:pt x="1526" y="679"/>
                  </a:lnTo>
                  <a:lnTo>
                    <a:pt x="1522" y="679"/>
                  </a:lnTo>
                  <a:lnTo>
                    <a:pt x="1514" y="679"/>
                  </a:lnTo>
                  <a:lnTo>
                    <a:pt x="1510" y="679"/>
                  </a:lnTo>
                  <a:lnTo>
                    <a:pt x="1506" y="679"/>
                  </a:lnTo>
                  <a:lnTo>
                    <a:pt x="1502" y="679"/>
                  </a:lnTo>
                  <a:lnTo>
                    <a:pt x="1502" y="679"/>
                  </a:lnTo>
                  <a:lnTo>
                    <a:pt x="1490" y="679"/>
                  </a:lnTo>
                  <a:lnTo>
                    <a:pt x="1490" y="679"/>
                  </a:lnTo>
                  <a:lnTo>
                    <a:pt x="1486" y="679"/>
                  </a:lnTo>
                  <a:lnTo>
                    <a:pt x="1482" y="679"/>
                  </a:lnTo>
                  <a:lnTo>
                    <a:pt x="1478" y="679"/>
                  </a:lnTo>
                  <a:lnTo>
                    <a:pt x="1469" y="679"/>
                  </a:lnTo>
                  <a:lnTo>
                    <a:pt x="1465" y="679"/>
                  </a:lnTo>
                  <a:lnTo>
                    <a:pt x="1461" y="679"/>
                  </a:lnTo>
                  <a:lnTo>
                    <a:pt x="1457" y="679"/>
                  </a:lnTo>
                  <a:lnTo>
                    <a:pt x="1449" y="679"/>
                  </a:lnTo>
                  <a:lnTo>
                    <a:pt x="1445" y="679"/>
                  </a:lnTo>
                  <a:lnTo>
                    <a:pt x="1445" y="679"/>
                  </a:lnTo>
                  <a:lnTo>
                    <a:pt x="1441" y="679"/>
                  </a:lnTo>
                  <a:lnTo>
                    <a:pt x="1437" y="679"/>
                  </a:lnTo>
                  <a:lnTo>
                    <a:pt x="1429" y="679"/>
                  </a:lnTo>
                  <a:lnTo>
                    <a:pt x="1425" y="679"/>
                  </a:lnTo>
                  <a:lnTo>
                    <a:pt x="1421" y="679"/>
                  </a:lnTo>
                  <a:lnTo>
                    <a:pt x="1421" y="679"/>
                  </a:lnTo>
                  <a:lnTo>
                    <a:pt x="1417" y="679"/>
                  </a:lnTo>
                  <a:lnTo>
                    <a:pt x="1409" y="679"/>
                  </a:lnTo>
                  <a:lnTo>
                    <a:pt x="1405" y="679"/>
                  </a:lnTo>
                  <a:lnTo>
                    <a:pt x="1401" y="679"/>
                  </a:lnTo>
                  <a:lnTo>
                    <a:pt x="1401" y="679"/>
                  </a:lnTo>
                  <a:lnTo>
                    <a:pt x="1397" y="679"/>
                  </a:lnTo>
                  <a:lnTo>
                    <a:pt x="1388" y="679"/>
                  </a:lnTo>
                  <a:lnTo>
                    <a:pt x="1384" y="679"/>
                  </a:lnTo>
                  <a:lnTo>
                    <a:pt x="1376" y="679"/>
                  </a:lnTo>
                  <a:lnTo>
                    <a:pt x="1376" y="679"/>
                  </a:lnTo>
                  <a:lnTo>
                    <a:pt x="1364" y="679"/>
                  </a:lnTo>
                  <a:lnTo>
                    <a:pt x="1364" y="679"/>
                  </a:lnTo>
                  <a:lnTo>
                    <a:pt x="1360" y="679"/>
                  </a:lnTo>
                  <a:lnTo>
                    <a:pt x="1356" y="679"/>
                  </a:lnTo>
                  <a:lnTo>
                    <a:pt x="1340" y="679"/>
                  </a:lnTo>
                  <a:lnTo>
                    <a:pt x="1336" y="679"/>
                  </a:lnTo>
                  <a:lnTo>
                    <a:pt x="1332" y="679"/>
                  </a:lnTo>
                  <a:lnTo>
                    <a:pt x="1324" y="679"/>
                  </a:lnTo>
                  <a:lnTo>
                    <a:pt x="1320" y="679"/>
                  </a:lnTo>
                  <a:lnTo>
                    <a:pt x="1320" y="679"/>
                  </a:lnTo>
                  <a:lnTo>
                    <a:pt x="1316" y="679"/>
                  </a:lnTo>
                  <a:lnTo>
                    <a:pt x="1311" y="679"/>
                  </a:lnTo>
                  <a:lnTo>
                    <a:pt x="1303" y="679"/>
                  </a:lnTo>
                  <a:lnTo>
                    <a:pt x="1299" y="679"/>
                  </a:lnTo>
                  <a:lnTo>
                    <a:pt x="1295" y="679"/>
                  </a:lnTo>
                  <a:lnTo>
                    <a:pt x="1295" y="679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9" y="679"/>
                  </a:lnTo>
                  <a:lnTo>
                    <a:pt x="1275" y="679"/>
                  </a:lnTo>
                  <a:lnTo>
                    <a:pt x="1271" y="679"/>
                  </a:lnTo>
                  <a:lnTo>
                    <a:pt x="1271" y="679"/>
                  </a:lnTo>
                  <a:lnTo>
                    <a:pt x="1263" y="679"/>
                  </a:lnTo>
                  <a:lnTo>
                    <a:pt x="1259" y="679"/>
                  </a:lnTo>
                  <a:lnTo>
                    <a:pt x="1255" y="679"/>
                  </a:lnTo>
                  <a:lnTo>
                    <a:pt x="1251" y="679"/>
                  </a:lnTo>
                  <a:lnTo>
                    <a:pt x="1251" y="679"/>
                  </a:lnTo>
                  <a:lnTo>
                    <a:pt x="1239" y="679"/>
                  </a:lnTo>
                  <a:lnTo>
                    <a:pt x="1239" y="679"/>
                  </a:lnTo>
                  <a:lnTo>
                    <a:pt x="1235" y="679"/>
                  </a:lnTo>
                  <a:lnTo>
                    <a:pt x="1231" y="679"/>
                  </a:lnTo>
                  <a:lnTo>
                    <a:pt x="1226" y="679"/>
                  </a:lnTo>
                  <a:lnTo>
                    <a:pt x="1218" y="679"/>
                  </a:lnTo>
                  <a:lnTo>
                    <a:pt x="1214" y="679"/>
                  </a:lnTo>
                  <a:lnTo>
                    <a:pt x="1214" y="679"/>
                  </a:lnTo>
                  <a:lnTo>
                    <a:pt x="1210" y="679"/>
                  </a:lnTo>
                  <a:lnTo>
                    <a:pt x="1206" y="679"/>
                  </a:lnTo>
                  <a:lnTo>
                    <a:pt x="1198" y="679"/>
                  </a:lnTo>
                  <a:lnTo>
                    <a:pt x="1194" y="679"/>
                  </a:lnTo>
                  <a:lnTo>
                    <a:pt x="1194" y="679"/>
                  </a:lnTo>
                  <a:lnTo>
                    <a:pt x="1190" y="679"/>
                  </a:lnTo>
                  <a:lnTo>
                    <a:pt x="1186" y="679"/>
                  </a:lnTo>
                  <a:lnTo>
                    <a:pt x="1178" y="679"/>
                  </a:lnTo>
                  <a:lnTo>
                    <a:pt x="1174" y="679"/>
                  </a:lnTo>
                  <a:lnTo>
                    <a:pt x="1170" y="679"/>
                  </a:lnTo>
                  <a:lnTo>
                    <a:pt x="1170" y="679"/>
                  </a:lnTo>
                  <a:lnTo>
                    <a:pt x="1166" y="679"/>
                  </a:lnTo>
                  <a:lnTo>
                    <a:pt x="1158" y="679"/>
                  </a:lnTo>
                  <a:lnTo>
                    <a:pt x="1154" y="679"/>
                  </a:lnTo>
                  <a:lnTo>
                    <a:pt x="1150" y="679"/>
                  </a:lnTo>
                  <a:lnTo>
                    <a:pt x="1145" y="679"/>
                  </a:lnTo>
                  <a:lnTo>
                    <a:pt x="1145" y="679"/>
                  </a:lnTo>
                  <a:lnTo>
                    <a:pt x="1137" y="679"/>
                  </a:lnTo>
                  <a:lnTo>
                    <a:pt x="1133" y="679"/>
                  </a:lnTo>
                  <a:lnTo>
                    <a:pt x="1129" y="679"/>
                  </a:lnTo>
                  <a:lnTo>
                    <a:pt x="1125" y="679"/>
                  </a:lnTo>
                  <a:lnTo>
                    <a:pt x="1125" y="679"/>
                  </a:lnTo>
                  <a:lnTo>
                    <a:pt x="1113" y="679"/>
                  </a:lnTo>
                  <a:lnTo>
                    <a:pt x="1113" y="679"/>
                  </a:lnTo>
                  <a:lnTo>
                    <a:pt x="1109" y="679"/>
                  </a:lnTo>
                  <a:lnTo>
                    <a:pt x="1101" y="679"/>
                  </a:lnTo>
                  <a:lnTo>
                    <a:pt x="1093" y="679"/>
                  </a:lnTo>
                  <a:lnTo>
                    <a:pt x="1089" y="679"/>
                  </a:lnTo>
                  <a:lnTo>
                    <a:pt x="1089" y="679"/>
                  </a:lnTo>
                  <a:lnTo>
                    <a:pt x="1073" y="679"/>
                  </a:lnTo>
                  <a:lnTo>
                    <a:pt x="1069" y="679"/>
                  </a:lnTo>
                  <a:lnTo>
                    <a:pt x="1069" y="679"/>
                  </a:lnTo>
                  <a:lnTo>
                    <a:pt x="1064" y="679"/>
                  </a:lnTo>
                  <a:lnTo>
                    <a:pt x="1060" y="679"/>
                  </a:lnTo>
                  <a:lnTo>
                    <a:pt x="1052" y="679"/>
                  </a:lnTo>
                  <a:lnTo>
                    <a:pt x="1048" y="679"/>
                  </a:lnTo>
                  <a:lnTo>
                    <a:pt x="1044" y="679"/>
                  </a:lnTo>
                  <a:lnTo>
                    <a:pt x="1044" y="679"/>
                  </a:lnTo>
                  <a:lnTo>
                    <a:pt x="1040" y="679"/>
                  </a:lnTo>
                  <a:lnTo>
                    <a:pt x="1032" y="679"/>
                  </a:lnTo>
                  <a:lnTo>
                    <a:pt x="1028" y="679"/>
                  </a:lnTo>
                  <a:lnTo>
                    <a:pt x="1024" y="679"/>
                  </a:lnTo>
                  <a:lnTo>
                    <a:pt x="1020" y="679"/>
                  </a:lnTo>
                  <a:lnTo>
                    <a:pt x="1020" y="679"/>
                  </a:lnTo>
                  <a:lnTo>
                    <a:pt x="1012" y="679"/>
                  </a:lnTo>
                  <a:lnTo>
                    <a:pt x="1008" y="679"/>
                  </a:lnTo>
                  <a:lnTo>
                    <a:pt x="1004" y="679"/>
                  </a:lnTo>
                  <a:lnTo>
                    <a:pt x="1000" y="679"/>
                  </a:lnTo>
                  <a:lnTo>
                    <a:pt x="1000" y="679"/>
                  </a:lnTo>
                  <a:lnTo>
                    <a:pt x="988" y="679"/>
                  </a:lnTo>
                  <a:lnTo>
                    <a:pt x="988" y="679"/>
                  </a:lnTo>
                  <a:lnTo>
                    <a:pt x="984" y="679"/>
                  </a:lnTo>
                  <a:lnTo>
                    <a:pt x="979" y="679"/>
                  </a:lnTo>
                  <a:lnTo>
                    <a:pt x="975" y="679"/>
                  </a:lnTo>
                  <a:lnTo>
                    <a:pt x="967" y="679"/>
                  </a:lnTo>
                  <a:lnTo>
                    <a:pt x="963" y="679"/>
                  </a:lnTo>
                  <a:lnTo>
                    <a:pt x="963" y="679"/>
                  </a:lnTo>
                  <a:lnTo>
                    <a:pt x="959" y="679"/>
                  </a:lnTo>
                  <a:lnTo>
                    <a:pt x="955" y="679"/>
                  </a:lnTo>
                  <a:lnTo>
                    <a:pt x="947" y="679"/>
                  </a:lnTo>
                  <a:lnTo>
                    <a:pt x="943" y="679"/>
                  </a:lnTo>
                  <a:lnTo>
                    <a:pt x="943" y="679"/>
                  </a:lnTo>
                  <a:lnTo>
                    <a:pt x="935" y="679"/>
                  </a:lnTo>
                  <a:lnTo>
                    <a:pt x="927" y="679"/>
                  </a:lnTo>
                  <a:lnTo>
                    <a:pt x="923" y="679"/>
                  </a:lnTo>
                  <a:lnTo>
                    <a:pt x="919" y="679"/>
                  </a:lnTo>
                  <a:lnTo>
                    <a:pt x="919" y="679"/>
                  </a:lnTo>
                  <a:lnTo>
                    <a:pt x="915" y="679"/>
                  </a:lnTo>
                  <a:lnTo>
                    <a:pt x="907" y="679"/>
                  </a:lnTo>
                  <a:lnTo>
                    <a:pt x="903" y="679"/>
                  </a:lnTo>
                  <a:lnTo>
                    <a:pt x="898" y="679"/>
                  </a:lnTo>
                  <a:lnTo>
                    <a:pt x="894" y="679"/>
                  </a:lnTo>
                  <a:lnTo>
                    <a:pt x="894" y="679"/>
                  </a:lnTo>
                  <a:lnTo>
                    <a:pt x="882" y="679"/>
                  </a:lnTo>
                  <a:lnTo>
                    <a:pt x="882" y="679"/>
                  </a:lnTo>
                  <a:lnTo>
                    <a:pt x="878" y="679"/>
                  </a:lnTo>
                  <a:lnTo>
                    <a:pt x="874" y="679"/>
                  </a:lnTo>
                  <a:lnTo>
                    <a:pt x="862" y="679"/>
                  </a:lnTo>
                  <a:lnTo>
                    <a:pt x="862" y="679"/>
                  </a:lnTo>
                  <a:lnTo>
                    <a:pt x="858" y="679"/>
                  </a:lnTo>
                  <a:lnTo>
                    <a:pt x="854" y="679"/>
                  </a:lnTo>
                  <a:lnTo>
                    <a:pt x="850" y="679"/>
                  </a:lnTo>
                  <a:lnTo>
                    <a:pt x="842" y="679"/>
                  </a:lnTo>
                  <a:lnTo>
                    <a:pt x="838" y="679"/>
                  </a:lnTo>
                  <a:lnTo>
                    <a:pt x="838" y="679"/>
                  </a:lnTo>
                  <a:lnTo>
                    <a:pt x="834" y="679"/>
                  </a:lnTo>
                  <a:lnTo>
                    <a:pt x="830" y="679"/>
                  </a:lnTo>
                  <a:lnTo>
                    <a:pt x="822" y="679"/>
                  </a:lnTo>
                  <a:lnTo>
                    <a:pt x="818" y="679"/>
                  </a:lnTo>
                  <a:lnTo>
                    <a:pt x="818" y="679"/>
                  </a:lnTo>
                  <a:lnTo>
                    <a:pt x="813" y="679"/>
                  </a:lnTo>
                  <a:lnTo>
                    <a:pt x="809" y="679"/>
                  </a:lnTo>
                  <a:lnTo>
                    <a:pt x="801" y="679"/>
                  </a:lnTo>
                  <a:lnTo>
                    <a:pt x="797" y="679"/>
                  </a:lnTo>
                  <a:lnTo>
                    <a:pt x="793" y="679"/>
                  </a:lnTo>
                  <a:lnTo>
                    <a:pt x="793" y="679"/>
                  </a:lnTo>
                  <a:lnTo>
                    <a:pt x="789" y="679"/>
                  </a:lnTo>
                  <a:lnTo>
                    <a:pt x="781" y="679"/>
                  </a:lnTo>
                  <a:lnTo>
                    <a:pt x="777" y="679"/>
                  </a:lnTo>
                  <a:lnTo>
                    <a:pt x="773" y="679"/>
                  </a:lnTo>
                  <a:lnTo>
                    <a:pt x="769" y="679"/>
                  </a:lnTo>
                  <a:lnTo>
                    <a:pt x="769" y="679"/>
                  </a:lnTo>
                  <a:lnTo>
                    <a:pt x="757" y="679"/>
                  </a:lnTo>
                  <a:lnTo>
                    <a:pt x="757" y="679"/>
                  </a:lnTo>
                  <a:lnTo>
                    <a:pt x="753" y="679"/>
                  </a:lnTo>
                  <a:lnTo>
                    <a:pt x="749" y="679"/>
                  </a:lnTo>
                  <a:lnTo>
                    <a:pt x="749" y="679"/>
                  </a:lnTo>
                  <a:lnTo>
                    <a:pt x="737" y="679"/>
                  </a:lnTo>
                  <a:lnTo>
                    <a:pt x="737" y="679"/>
                  </a:lnTo>
                  <a:lnTo>
                    <a:pt x="732" y="679"/>
                  </a:lnTo>
                  <a:lnTo>
                    <a:pt x="728" y="679"/>
                  </a:lnTo>
                  <a:lnTo>
                    <a:pt x="724" y="679"/>
                  </a:lnTo>
                  <a:lnTo>
                    <a:pt x="716" y="679"/>
                  </a:lnTo>
                  <a:lnTo>
                    <a:pt x="712" y="679"/>
                  </a:lnTo>
                  <a:lnTo>
                    <a:pt x="712" y="679"/>
                  </a:lnTo>
                  <a:lnTo>
                    <a:pt x="708" y="679"/>
                  </a:lnTo>
                  <a:lnTo>
                    <a:pt x="696" y="679"/>
                  </a:lnTo>
                  <a:lnTo>
                    <a:pt x="692" y="679"/>
                  </a:lnTo>
                  <a:lnTo>
                    <a:pt x="688" y="679"/>
                  </a:lnTo>
                  <a:lnTo>
                    <a:pt x="688" y="679"/>
                  </a:lnTo>
                  <a:lnTo>
                    <a:pt x="684" y="679"/>
                  </a:lnTo>
                  <a:lnTo>
                    <a:pt x="676" y="679"/>
                  </a:lnTo>
                  <a:lnTo>
                    <a:pt x="672" y="679"/>
                  </a:lnTo>
                  <a:lnTo>
                    <a:pt x="668" y="679"/>
                  </a:lnTo>
                  <a:lnTo>
                    <a:pt x="668" y="679"/>
                  </a:lnTo>
                  <a:lnTo>
                    <a:pt x="664" y="679"/>
                  </a:lnTo>
                  <a:lnTo>
                    <a:pt x="656" y="679"/>
                  </a:lnTo>
                  <a:lnTo>
                    <a:pt x="651" y="679"/>
                  </a:lnTo>
                  <a:lnTo>
                    <a:pt x="647" y="679"/>
                  </a:lnTo>
                  <a:lnTo>
                    <a:pt x="643" y="679"/>
                  </a:lnTo>
                  <a:lnTo>
                    <a:pt x="643" y="679"/>
                  </a:lnTo>
                  <a:lnTo>
                    <a:pt x="631" y="679"/>
                  </a:lnTo>
                  <a:lnTo>
                    <a:pt x="631" y="679"/>
                  </a:lnTo>
                  <a:lnTo>
                    <a:pt x="627" y="679"/>
                  </a:lnTo>
                  <a:lnTo>
                    <a:pt x="623" y="679"/>
                  </a:lnTo>
                  <a:lnTo>
                    <a:pt x="623" y="679"/>
                  </a:lnTo>
                  <a:lnTo>
                    <a:pt x="611" y="679"/>
                  </a:lnTo>
                  <a:lnTo>
                    <a:pt x="611" y="679"/>
                  </a:lnTo>
                  <a:lnTo>
                    <a:pt x="607" y="679"/>
                  </a:lnTo>
                  <a:lnTo>
                    <a:pt x="603" y="679"/>
                  </a:lnTo>
                  <a:lnTo>
                    <a:pt x="599" y="679"/>
                  </a:lnTo>
                  <a:lnTo>
                    <a:pt x="591" y="679"/>
                  </a:lnTo>
                  <a:lnTo>
                    <a:pt x="587" y="679"/>
                  </a:lnTo>
                  <a:lnTo>
                    <a:pt x="587" y="679"/>
                  </a:lnTo>
                  <a:lnTo>
                    <a:pt x="583" y="679"/>
                  </a:lnTo>
                  <a:lnTo>
                    <a:pt x="571" y="679"/>
                  </a:lnTo>
                  <a:lnTo>
                    <a:pt x="566" y="679"/>
                  </a:lnTo>
                  <a:lnTo>
                    <a:pt x="562" y="679"/>
                  </a:lnTo>
                  <a:lnTo>
                    <a:pt x="562" y="679"/>
                  </a:lnTo>
                  <a:lnTo>
                    <a:pt x="558" y="679"/>
                  </a:lnTo>
                  <a:lnTo>
                    <a:pt x="550" y="679"/>
                  </a:lnTo>
                  <a:lnTo>
                    <a:pt x="546" y="679"/>
                  </a:lnTo>
                  <a:lnTo>
                    <a:pt x="542" y="679"/>
                  </a:lnTo>
                  <a:lnTo>
                    <a:pt x="542" y="679"/>
                  </a:lnTo>
                  <a:lnTo>
                    <a:pt x="538" y="679"/>
                  </a:lnTo>
                  <a:lnTo>
                    <a:pt x="530" y="679"/>
                  </a:lnTo>
                  <a:lnTo>
                    <a:pt x="526" y="679"/>
                  </a:lnTo>
                  <a:lnTo>
                    <a:pt x="522" y="679"/>
                  </a:lnTo>
                  <a:lnTo>
                    <a:pt x="518" y="679"/>
                  </a:lnTo>
                  <a:lnTo>
                    <a:pt x="506" y="679"/>
                  </a:lnTo>
                  <a:lnTo>
                    <a:pt x="506" y="679"/>
                  </a:lnTo>
                  <a:lnTo>
                    <a:pt x="502" y="679"/>
                  </a:lnTo>
                  <a:lnTo>
                    <a:pt x="498" y="679"/>
                  </a:lnTo>
                  <a:lnTo>
                    <a:pt x="494" y="679"/>
                  </a:lnTo>
                  <a:lnTo>
                    <a:pt x="485" y="679"/>
                  </a:lnTo>
                  <a:lnTo>
                    <a:pt x="485" y="679"/>
                  </a:lnTo>
                  <a:lnTo>
                    <a:pt x="481" y="679"/>
                  </a:lnTo>
                  <a:lnTo>
                    <a:pt x="477" y="679"/>
                  </a:lnTo>
                  <a:lnTo>
                    <a:pt x="473" y="679"/>
                  </a:lnTo>
                  <a:lnTo>
                    <a:pt x="465" y="679"/>
                  </a:lnTo>
                  <a:lnTo>
                    <a:pt x="461" y="679"/>
                  </a:lnTo>
                  <a:lnTo>
                    <a:pt x="461" y="679"/>
                  </a:lnTo>
                  <a:lnTo>
                    <a:pt x="457" y="679"/>
                  </a:lnTo>
                  <a:lnTo>
                    <a:pt x="453" y="679"/>
                  </a:lnTo>
                  <a:lnTo>
                    <a:pt x="441" y="679"/>
                  </a:lnTo>
                  <a:lnTo>
                    <a:pt x="437" y="679"/>
                  </a:lnTo>
                  <a:lnTo>
                    <a:pt x="437" y="679"/>
                  </a:lnTo>
                  <a:lnTo>
                    <a:pt x="433" y="679"/>
                  </a:lnTo>
                  <a:lnTo>
                    <a:pt x="425" y="679"/>
                  </a:lnTo>
                  <a:lnTo>
                    <a:pt x="421" y="679"/>
                  </a:lnTo>
                  <a:lnTo>
                    <a:pt x="417" y="679"/>
                  </a:lnTo>
                  <a:lnTo>
                    <a:pt x="417" y="679"/>
                  </a:lnTo>
                  <a:lnTo>
                    <a:pt x="413" y="679"/>
                  </a:lnTo>
                  <a:lnTo>
                    <a:pt x="405" y="679"/>
                  </a:lnTo>
                  <a:lnTo>
                    <a:pt x="400" y="679"/>
                  </a:lnTo>
                  <a:lnTo>
                    <a:pt x="396" y="679"/>
                  </a:lnTo>
                  <a:lnTo>
                    <a:pt x="392" y="679"/>
                  </a:lnTo>
                  <a:lnTo>
                    <a:pt x="392" y="679"/>
                  </a:lnTo>
                  <a:lnTo>
                    <a:pt x="380" y="679"/>
                  </a:lnTo>
                  <a:lnTo>
                    <a:pt x="380" y="679"/>
                  </a:lnTo>
                  <a:lnTo>
                    <a:pt x="376" y="679"/>
                  </a:lnTo>
                  <a:lnTo>
                    <a:pt x="368" y="679"/>
                  </a:lnTo>
                  <a:lnTo>
                    <a:pt x="360" y="679"/>
                  </a:lnTo>
                  <a:lnTo>
                    <a:pt x="360" y="679"/>
                  </a:lnTo>
                  <a:lnTo>
                    <a:pt x="356" y="679"/>
                  </a:lnTo>
                  <a:lnTo>
                    <a:pt x="352" y="679"/>
                  </a:lnTo>
                  <a:lnTo>
                    <a:pt x="348" y="679"/>
                  </a:lnTo>
                  <a:lnTo>
                    <a:pt x="340" y="679"/>
                  </a:lnTo>
                  <a:lnTo>
                    <a:pt x="336" y="679"/>
                  </a:lnTo>
                  <a:lnTo>
                    <a:pt x="336" y="679"/>
                  </a:lnTo>
                  <a:lnTo>
                    <a:pt x="332" y="679"/>
                  </a:lnTo>
                  <a:lnTo>
                    <a:pt x="328" y="679"/>
                  </a:lnTo>
                  <a:lnTo>
                    <a:pt x="319" y="679"/>
                  </a:lnTo>
                  <a:lnTo>
                    <a:pt x="315" y="679"/>
                  </a:lnTo>
                  <a:lnTo>
                    <a:pt x="311" y="679"/>
                  </a:lnTo>
                  <a:lnTo>
                    <a:pt x="311" y="679"/>
                  </a:lnTo>
                  <a:lnTo>
                    <a:pt x="307" y="679"/>
                  </a:lnTo>
                  <a:lnTo>
                    <a:pt x="291" y="679"/>
                  </a:lnTo>
                  <a:lnTo>
                    <a:pt x="291" y="679"/>
                  </a:lnTo>
                  <a:lnTo>
                    <a:pt x="279" y="679"/>
                  </a:lnTo>
                  <a:lnTo>
                    <a:pt x="275" y="679"/>
                  </a:lnTo>
                  <a:lnTo>
                    <a:pt x="271" y="679"/>
                  </a:lnTo>
                  <a:lnTo>
                    <a:pt x="267" y="679"/>
                  </a:lnTo>
                  <a:lnTo>
                    <a:pt x="267" y="679"/>
                  </a:lnTo>
                  <a:lnTo>
                    <a:pt x="255" y="679"/>
                  </a:lnTo>
                  <a:lnTo>
                    <a:pt x="255" y="679"/>
                  </a:lnTo>
                  <a:lnTo>
                    <a:pt x="251" y="679"/>
                  </a:lnTo>
                  <a:lnTo>
                    <a:pt x="247" y="679"/>
                  </a:lnTo>
                  <a:lnTo>
                    <a:pt x="243" y="679"/>
                  </a:lnTo>
                  <a:lnTo>
                    <a:pt x="234" y="679"/>
                  </a:lnTo>
                  <a:lnTo>
                    <a:pt x="234" y="679"/>
                  </a:lnTo>
                  <a:lnTo>
                    <a:pt x="230" y="679"/>
                  </a:lnTo>
                  <a:lnTo>
                    <a:pt x="226" y="679"/>
                  </a:lnTo>
                  <a:lnTo>
                    <a:pt x="222" y="679"/>
                  </a:lnTo>
                  <a:lnTo>
                    <a:pt x="214" y="679"/>
                  </a:lnTo>
                  <a:lnTo>
                    <a:pt x="210" y="679"/>
                  </a:lnTo>
                  <a:lnTo>
                    <a:pt x="210" y="679"/>
                  </a:lnTo>
                  <a:lnTo>
                    <a:pt x="206" y="679"/>
                  </a:lnTo>
                  <a:lnTo>
                    <a:pt x="202" y="679"/>
                  </a:lnTo>
                  <a:lnTo>
                    <a:pt x="194" y="679"/>
                  </a:lnTo>
                  <a:lnTo>
                    <a:pt x="190" y="679"/>
                  </a:lnTo>
                  <a:lnTo>
                    <a:pt x="186" y="679"/>
                  </a:lnTo>
                  <a:lnTo>
                    <a:pt x="186" y="679"/>
                  </a:lnTo>
                  <a:lnTo>
                    <a:pt x="182" y="679"/>
                  </a:lnTo>
                  <a:lnTo>
                    <a:pt x="174" y="679"/>
                  </a:lnTo>
                  <a:lnTo>
                    <a:pt x="170" y="679"/>
                  </a:lnTo>
                  <a:lnTo>
                    <a:pt x="166" y="679"/>
                  </a:lnTo>
                  <a:lnTo>
                    <a:pt x="166" y="679"/>
                  </a:lnTo>
                  <a:lnTo>
                    <a:pt x="162" y="679"/>
                  </a:lnTo>
                  <a:lnTo>
                    <a:pt x="153" y="679"/>
                  </a:lnTo>
                  <a:lnTo>
                    <a:pt x="149" y="679"/>
                  </a:lnTo>
                  <a:lnTo>
                    <a:pt x="145" y="679"/>
                  </a:lnTo>
                  <a:lnTo>
                    <a:pt x="141" y="679"/>
                  </a:lnTo>
                  <a:lnTo>
                    <a:pt x="141" y="679"/>
                  </a:lnTo>
                  <a:lnTo>
                    <a:pt x="129" y="679"/>
                  </a:lnTo>
                  <a:lnTo>
                    <a:pt x="129" y="679"/>
                  </a:lnTo>
                  <a:lnTo>
                    <a:pt x="125" y="679"/>
                  </a:lnTo>
                  <a:lnTo>
                    <a:pt x="121" y="679"/>
                  </a:lnTo>
                  <a:lnTo>
                    <a:pt x="117" y="679"/>
                  </a:lnTo>
                  <a:lnTo>
                    <a:pt x="109" y="679"/>
                  </a:lnTo>
                  <a:lnTo>
                    <a:pt x="105" y="679"/>
                  </a:lnTo>
                  <a:lnTo>
                    <a:pt x="105" y="679"/>
                  </a:lnTo>
                  <a:lnTo>
                    <a:pt x="101" y="679"/>
                  </a:lnTo>
                  <a:lnTo>
                    <a:pt x="97" y="679"/>
                  </a:lnTo>
                  <a:lnTo>
                    <a:pt x="89" y="679"/>
                  </a:lnTo>
                  <a:lnTo>
                    <a:pt x="85" y="679"/>
                  </a:lnTo>
                  <a:lnTo>
                    <a:pt x="85" y="679"/>
                  </a:lnTo>
                  <a:lnTo>
                    <a:pt x="81" y="679"/>
                  </a:lnTo>
                  <a:lnTo>
                    <a:pt x="77" y="679"/>
                  </a:lnTo>
                  <a:lnTo>
                    <a:pt x="68" y="679"/>
                  </a:lnTo>
                  <a:lnTo>
                    <a:pt x="64" y="679"/>
                  </a:lnTo>
                  <a:lnTo>
                    <a:pt x="60" y="679"/>
                  </a:lnTo>
                  <a:lnTo>
                    <a:pt x="60" y="679"/>
                  </a:lnTo>
                  <a:lnTo>
                    <a:pt x="56" y="679"/>
                  </a:lnTo>
                  <a:lnTo>
                    <a:pt x="48" y="679"/>
                  </a:lnTo>
                  <a:lnTo>
                    <a:pt x="44" y="679"/>
                  </a:lnTo>
                  <a:lnTo>
                    <a:pt x="40" y="679"/>
                  </a:lnTo>
                  <a:lnTo>
                    <a:pt x="40" y="679"/>
                  </a:lnTo>
                  <a:lnTo>
                    <a:pt x="36" y="679"/>
                  </a:lnTo>
                  <a:lnTo>
                    <a:pt x="28" y="679"/>
                  </a:lnTo>
                  <a:lnTo>
                    <a:pt x="24" y="679"/>
                  </a:lnTo>
                  <a:lnTo>
                    <a:pt x="20" y="679"/>
                  </a:lnTo>
                  <a:lnTo>
                    <a:pt x="16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38120" y="2041560"/>
              <a:ext cx="0" cy="375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8120" y="579924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8120" y="525924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8120" y="472608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38120" y="418608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8120" y="365436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8120" y="311472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38120" y="258120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8120" y="204156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38120" y="4186080"/>
              <a:ext cx="648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33812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91124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48904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07512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63996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22424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80384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37516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96124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53904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11036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696080" y="4141440"/>
              <a:ext cx="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76640" y="147636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94880" y="1746360"/>
              <a:ext cx="237024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(promedios móviles, 3 mese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49320" y="5695920"/>
              <a:ext cx="352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-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49320" y="5156280"/>
              <a:ext cx="352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-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49320" y="4624560"/>
              <a:ext cx="352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50560" y="4084560"/>
              <a:ext cx="145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2880" y="3551400"/>
              <a:ext cx="3067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2880" y="3011400"/>
              <a:ext cx="3067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2880" y="2478240"/>
              <a:ext cx="3067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92880" y="1938240"/>
              <a:ext cx="3067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0480" y="5946840"/>
              <a:ext cx="524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ne-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65000" y="5946840"/>
              <a:ext cx="568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ay-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68000" y="594684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Sep-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75680" y="5946840"/>
              <a:ext cx="524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ne-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94080" y="5946840"/>
              <a:ext cx="568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ay-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03200" y="594684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Sep-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4400" y="5946840"/>
              <a:ext cx="524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ne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29280" y="5946840"/>
              <a:ext cx="568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ay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38400" y="594684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Sep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41040" y="5946840"/>
              <a:ext cx="524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ne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65920" y="5946840"/>
              <a:ext cx="568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ay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73600" y="594684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Sep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14760" y="1712880"/>
              <a:ext cx="66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12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llones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17720" y="2208240"/>
              <a:ext cx="90360" cy="9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13680" y="2157480"/>
              <a:ext cx="36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12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xpansión de BM por intervención en el mercado de cambi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7720" y="2568600"/>
              <a:ext cx="90360" cy="88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03880" y="2516040"/>
              <a:ext cx="551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12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sterilización: pases+colocación primaria+reservas de liquidez+redescuentos+sector públ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6560" y="6216480"/>
              <a:ext cx="856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12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uente: BC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88416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lotación administrada del tipo de cambio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69680" y="1662120"/>
            <a:ext cx="7411680" cy="4870080"/>
            <a:chOff x="769680" y="1662120"/>
            <a:chExt cx="7411680" cy="4870080"/>
          </a:xfrm>
        </p:grpSpPr>
        <p:grpSp>
          <p:nvGrpSpPr>
            <p:cNvPr id="221" name=""/>
            <p:cNvGrpSpPr/>
            <p:nvPr/>
          </p:nvGrpSpPr>
          <p:grpSpPr>
            <a:xfrm>
              <a:off x="1208160" y="2490840"/>
              <a:ext cx="2449440" cy="2543040"/>
              <a:chOff x="1208160" y="2490840"/>
              <a:chExt cx="2449440" cy="2543040"/>
            </a:xfrm>
          </p:grpSpPr>
          <p:sp>
            <p:nvSpPr>
              <p:cNvPr id="222" name=""/>
              <p:cNvSpPr/>
              <p:nvPr/>
            </p:nvSpPr>
            <p:spPr>
              <a:xfrm>
                <a:off x="1208160" y="2940120"/>
                <a:ext cx="6120" cy="796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20760" y="2927520"/>
                <a:ext cx="6480" cy="809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27240" y="3382920"/>
                <a:ext cx="6120" cy="35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41280" y="3313080"/>
                <a:ext cx="6480" cy="42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54240" y="3422520"/>
                <a:ext cx="6120" cy="314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60360" y="3422520"/>
                <a:ext cx="6480" cy="314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73320" y="3191040"/>
                <a:ext cx="7920" cy="545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87360" y="3112920"/>
                <a:ext cx="6480" cy="62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00320" y="3448080"/>
                <a:ext cx="6120" cy="28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20840" y="3319560"/>
                <a:ext cx="6480" cy="41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33440" y="3370320"/>
                <a:ext cx="6480" cy="36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39920" y="3549600"/>
                <a:ext cx="6120" cy="187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52520" y="3267000"/>
                <a:ext cx="7920" cy="469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66920" y="3659040"/>
                <a:ext cx="6120" cy="77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3040" y="3473280"/>
                <a:ext cx="6480" cy="263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86000" y="3408480"/>
                <a:ext cx="6120" cy="328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00040" y="3511440"/>
                <a:ext cx="6480" cy="2253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32080" y="3711600"/>
                <a:ext cx="7920" cy="2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46120" y="3621240"/>
                <a:ext cx="6480" cy="11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52600" y="3441600"/>
                <a:ext cx="6480" cy="29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65200" y="3294000"/>
                <a:ext cx="6480" cy="442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79600" y="3357720"/>
                <a:ext cx="6480" cy="37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86080" y="3287880"/>
                <a:ext cx="6120" cy="44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98680" y="3338640"/>
                <a:ext cx="6120" cy="39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12720" y="3467160"/>
                <a:ext cx="6480" cy="26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525680" y="3639960"/>
                <a:ext cx="6120" cy="96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31800" y="3338640"/>
                <a:ext cx="6480" cy="39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44760" y="3395520"/>
                <a:ext cx="7920" cy="341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58800" y="3300480"/>
                <a:ext cx="6480" cy="436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65280" y="3511440"/>
                <a:ext cx="6480" cy="2253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577880" y="3711600"/>
                <a:ext cx="6480" cy="2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98760" y="3595680"/>
                <a:ext cx="6120" cy="14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611360" y="3724200"/>
                <a:ext cx="6480" cy="12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23960" y="3583080"/>
                <a:ext cx="7920" cy="15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38360" y="3684600"/>
                <a:ext cx="6120" cy="52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644480" y="3684600"/>
                <a:ext cx="6480" cy="52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57440" y="3627360"/>
                <a:ext cx="6120" cy="109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71480" y="3376440"/>
                <a:ext cx="6480" cy="3603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677960" y="3273480"/>
                <a:ext cx="6480" cy="463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90560" y="3344760"/>
                <a:ext cx="6480" cy="39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03520" y="3357720"/>
                <a:ext cx="7920" cy="37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11440" y="3467160"/>
                <a:ext cx="6120" cy="26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24040" y="3313080"/>
                <a:ext cx="6480" cy="42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736640" y="3319560"/>
                <a:ext cx="6480" cy="41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51040" y="3441600"/>
                <a:ext cx="6480" cy="29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57520" y="3344760"/>
                <a:ext cx="6120" cy="39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344760"/>
                <a:ext cx="6120" cy="39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82720" y="3338640"/>
                <a:ext cx="7920" cy="39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90640" y="3254400"/>
                <a:ext cx="6480" cy="482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03240" y="3119400"/>
                <a:ext cx="6480" cy="617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16200" y="3402000"/>
                <a:ext cx="7920" cy="334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4120" y="3332160"/>
                <a:ext cx="6120" cy="40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836720" y="3344760"/>
                <a:ext cx="6480" cy="39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49320" y="3441600"/>
                <a:ext cx="6480" cy="29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63720" y="3294000"/>
                <a:ext cx="6480" cy="442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70200" y="3357720"/>
                <a:ext cx="6120" cy="37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82800" y="3287880"/>
                <a:ext cx="6480" cy="44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95400" y="3287880"/>
                <a:ext cx="7920" cy="44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3320" y="3325680"/>
                <a:ext cx="6480" cy="41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16280" y="3260880"/>
                <a:ext cx="6120" cy="475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8880" y="3454560"/>
                <a:ext cx="6120" cy="282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35000" y="3273480"/>
                <a:ext cx="8280" cy="463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49400" y="3139920"/>
                <a:ext cx="6480" cy="596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62000" y="3209760"/>
                <a:ext cx="6480" cy="52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8480" y="2779560"/>
                <a:ext cx="6480" cy="95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82880" y="2817720"/>
                <a:ext cx="6120" cy="91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95480" y="3692520"/>
                <a:ext cx="6480" cy="44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8080" y="3306600"/>
                <a:ext cx="6480" cy="43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14560" y="3119400"/>
                <a:ext cx="7920" cy="617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28960" y="2946240"/>
                <a:ext cx="6120" cy="790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41560" y="3486240"/>
                <a:ext cx="6480" cy="250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48040" y="3530520"/>
                <a:ext cx="6120" cy="206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62080" y="3222720"/>
                <a:ext cx="6480" cy="514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75040" y="3171960"/>
                <a:ext cx="6120" cy="564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81160" y="3191040"/>
                <a:ext cx="6480" cy="545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95560" y="3665520"/>
                <a:ext cx="6120" cy="71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08160" y="3416400"/>
                <a:ext cx="6480" cy="320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20760" y="3030480"/>
                <a:ext cx="6480" cy="706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27240" y="3087720"/>
                <a:ext cx="7920" cy="64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41640" y="3473280"/>
                <a:ext cx="6120" cy="263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54240" y="3357720"/>
                <a:ext cx="6480" cy="37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60720" y="2836800"/>
                <a:ext cx="6120" cy="9000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74760" y="2946240"/>
                <a:ext cx="6480" cy="790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87720" y="2760840"/>
                <a:ext cx="6120" cy="975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93840" y="3659040"/>
                <a:ext cx="6480" cy="77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06800" y="3614760"/>
                <a:ext cx="7920" cy="12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20840" y="3473280"/>
                <a:ext cx="6480" cy="263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33440" y="3024360"/>
                <a:ext cx="6480" cy="712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39920" y="3363840"/>
                <a:ext cx="6480" cy="37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54320" y="3178080"/>
                <a:ext cx="6120" cy="55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66920" y="3576600"/>
                <a:ext cx="6480" cy="16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73400" y="3338640"/>
                <a:ext cx="6120" cy="39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86000" y="2490840"/>
                <a:ext cx="7920" cy="1245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300400" y="3479760"/>
                <a:ext cx="6120" cy="25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333520" y="3319560"/>
                <a:ext cx="6480" cy="41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46480" y="3313080"/>
                <a:ext cx="6120" cy="42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52600" y="2978280"/>
                <a:ext cx="6480" cy="758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365200" y="3106800"/>
                <a:ext cx="8280" cy="6300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379600" y="3152880"/>
                <a:ext cx="6480" cy="583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86080" y="2612880"/>
                <a:ext cx="6120" cy="1123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98680" y="3467160"/>
                <a:ext cx="7920" cy="26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13080" y="3549600"/>
                <a:ext cx="6120" cy="187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19200" y="3287880"/>
                <a:ext cx="6480" cy="44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32160" y="2664000"/>
                <a:ext cx="6120" cy="1072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46200" y="3557520"/>
                <a:ext cx="6480" cy="179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59160" y="3260880"/>
                <a:ext cx="6120" cy="475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465280" y="3075120"/>
                <a:ext cx="6480" cy="661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78240" y="2714760"/>
                <a:ext cx="7920" cy="102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92280" y="3075120"/>
                <a:ext cx="6480" cy="661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98760" y="2490840"/>
                <a:ext cx="6480" cy="1245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11360" y="3081240"/>
                <a:ext cx="6480" cy="65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25760" y="3498840"/>
                <a:ext cx="6480" cy="237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32240" y="3564000"/>
                <a:ext cx="6120" cy="172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44840" y="3659040"/>
                <a:ext cx="6120" cy="77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57440" y="3473280"/>
                <a:ext cx="7920" cy="263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65360" y="3319560"/>
                <a:ext cx="6480" cy="41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577960" y="3049560"/>
                <a:ext cx="6480" cy="68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90920" y="3408480"/>
                <a:ext cx="6120" cy="328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04960" y="3633840"/>
                <a:ext cx="6480" cy="10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24040" y="3549600"/>
                <a:ext cx="6480" cy="187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637000" y="3633840"/>
                <a:ext cx="7920" cy="10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44920" y="3537000"/>
                <a:ext cx="6120" cy="199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57520" y="2798640"/>
                <a:ext cx="6480" cy="93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670120" y="3363840"/>
                <a:ext cx="7920" cy="37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78040" y="3595680"/>
                <a:ext cx="6480" cy="14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90640" y="3659040"/>
                <a:ext cx="6480" cy="77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03600" y="3402000"/>
                <a:ext cx="6120" cy="334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17640" y="3524400"/>
                <a:ext cx="6480" cy="212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24120" y="3530520"/>
                <a:ext cx="6480" cy="206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36720" y="3684600"/>
                <a:ext cx="6480" cy="52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9680" y="3684600"/>
                <a:ext cx="7920" cy="52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70200" y="3736800"/>
                <a:ext cx="6480" cy="7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82800" y="3736800"/>
                <a:ext cx="6480" cy="481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89280" y="3652920"/>
                <a:ext cx="7920" cy="8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03680" y="3736800"/>
                <a:ext cx="6120" cy="4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16280" y="3633840"/>
                <a:ext cx="6120" cy="10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28880" y="3736800"/>
                <a:ext cx="7920" cy="398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36800" y="3479760"/>
                <a:ext cx="6480" cy="25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49400" y="3736800"/>
                <a:ext cx="6480" cy="455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62360" y="3736800"/>
                <a:ext cx="6120" cy="3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68480" y="3711600"/>
                <a:ext cx="7920" cy="2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82880" y="3718080"/>
                <a:ext cx="6480" cy="1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01960" y="3736800"/>
                <a:ext cx="6480" cy="31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16360" y="3736800"/>
                <a:ext cx="6120" cy="6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28960" y="3736800"/>
                <a:ext cx="6480" cy="141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1560" y="3736800"/>
                <a:ext cx="6480" cy="17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8040" y="3736800"/>
                <a:ext cx="7920" cy="352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62440" y="3736800"/>
                <a:ext cx="6120" cy="103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81160" y="3678120"/>
                <a:ext cx="8280" cy="58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95560" y="3730680"/>
                <a:ext cx="6480" cy="6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08160" y="3736800"/>
                <a:ext cx="6480" cy="1297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14640" y="3736800"/>
                <a:ext cx="6480" cy="70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9040" y="3736800"/>
                <a:ext cx="6120" cy="7383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41640" y="3692520"/>
                <a:ext cx="6480" cy="44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54240" y="3678120"/>
                <a:ext cx="6480" cy="58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60720" y="3711600"/>
                <a:ext cx="7920" cy="2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7720" y="3608280"/>
                <a:ext cx="6480" cy="128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94200" y="3736800"/>
                <a:ext cx="6120" cy="3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08240" y="3557520"/>
                <a:ext cx="6480" cy="179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21200" y="3736800"/>
                <a:ext cx="6120" cy="173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27320" y="3736800"/>
                <a:ext cx="6480" cy="96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39920" y="3705120"/>
                <a:ext cx="7920" cy="31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54320" y="3197160"/>
                <a:ext cx="6480" cy="53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66920" y="3247920"/>
                <a:ext cx="6480" cy="488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73400" y="3422520"/>
                <a:ext cx="6480" cy="314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87800" y="3736800"/>
                <a:ext cx="6120" cy="3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00400" y="3718080"/>
                <a:ext cx="6480" cy="1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06880" y="3736800"/>
                <a:ext cx="6120" cy="1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19480" y="3736800"/>
                <a:ext cx="7920" cy="1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33880" y="3736800"/>
                <a:ext cx="6120" cy="352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40000" y="3736800"/>
                <a:ext cx="6480" cy="7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52960" y="3621240"/>
                <a:ext cx="7920" cy="11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67000" y="3699000"/>
                <a:ext cx="6480" cy="37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73480" y="3736800"/>
                <a:ext cx="6120" cy="5400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86080" y="3736800"/>
                <a:ext cx="6480" cy="4050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00480" y="3736800"/>
                <a:ext cx="6120" cy="147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313080" y="3736800"/>
                <a:ext cx="6480" cy="115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319560" y="3736800"/>
                <a:ext cx="6120" cy="6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332160" y="3736800"/>
                <a:ext cx="7920" cy="16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65640" y="3736800"/>
                <a:ext cx="6120" cy="82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379680" y="3736800"/>
                <a:ext cx="6480" cy="5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98760" y="3564000"/>
                <a:ext cx="6480" cy="172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411360" y="3736800"/>
                <a:ext cx="8280" cy="2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25760" y="3672000"/>
                <a:ext cx="6480" cy="64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32240" y="3724200"/>
                <a:ext cx="6120" cy="12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44840" y="3736800"/>
                <a:ext cx="6480" cy="8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59240" y="3736800"/>
                <a:ext cx="6120" cy="2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65360" y="3736800"/>
                <a:ext cx="6480" cy="379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78320" y="3736800"/>
                <a:ext cx="6120" cy="885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490920" y="3736800"/>
                <a:ext cx="7920" cy="694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98840" y="3736800"/>
                <a:ext cx="6480" cy="411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511440" y="3736800"/>
                <a:ext cx="6480" cy="211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524400" y="3736800"/>
                <a:ext cx="6120" cy="8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38440" y="3736800"/>
                <a:ext cx="6480" cy="96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544920" y="3479760"/>
                <a:ext cx="6480" cy="25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557520" y="3351240"/>
                <a:ext cx="6480" cy="38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71920" y="3395520"/>
                <a:ext cx="6480" cy="341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78400" y="3332160"/>
                <a:ext cx="6120" cy="40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91000" y="3467160"/>
                <a:ext cx="6120" cy="26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51120" y="3608280"/>
                <a:ext cx="6480" cy="128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657600" y="2490840"/>
              <a:ext cx="3760920" cy="3276720"/>
              <a:chOff x="3657600" y="2490840"/>
              <a:chExt cx="3760920" cy="3276720"/>
            </a:xfrm>
          </p:grpSpPr>
          <p:sp>
            <p:nvSpPr>
              <p:cNvPr id="423" name=""/>
              <p:cNvSpPr/>
              <p:nvPr/>
            </p:nvSpPr>
            <p:spPr>
              <a:xfrm>
                <a:off x="3657600" y="3287880"/>
                <a:ext cx="6480" cy="44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70200" y="3152880"/>
                <a:ext cx="6480" cy="583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83160" y="3300480"/>
                <a:ext cx="7920" cy="436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16280" y="3718080"/>
                <a:ext cx="6480" cy="1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22760" y="3119400"/>
                <a:ext cx="7920" cy="617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36800" y="3557520"/>
                <a:ext cx="6480" cy="179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62360" y="3672000"/>
                <a:ext cx="7920" cy="64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95840" y="3112920"/>
                <a:ext cx="6120" cy="62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801960" y="3543480"/>
                <a:ext cx="7920" cy="193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16360" y="3429000"/>
                <a:ext cx="6480" cy="307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28960" y="3184560"/>
                <a:ext cx="6480" cy="552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35440" y="3736800"/>
                <a:ext cx="7920" cy="2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68560" y="3652920"/>
                <a:ext cx="6480" cy="8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82960" y="3087720"/>
                <a:ext cx="6480" cy="64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95560" y="3209760"/>
                <a:ext cx="6480" cy="52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908520" y="3062160"/>
                <a:ext cx="6120" cy="67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14640" y="3024360"/>
                <a:ext cx="7920" cy="712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48120" y="3665520"/>
                <a:ext cx="6480" cy="71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62520" y="3203640"/>
                <a:ext cx="6120" cy="533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975120" y="3036960"/>
                <a:ext cx="6480" cy="699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81600" y="3011400"/>
                <a:ext cx="6120" cy="725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994200" y="3736800"/>
                <a:ext cx="7920" cy="5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027320" y="3736800"/>
                <a:ext cx="6480" cy="19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041720" y="3736800"/>
                <a:ext cx="6480" cy="8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54320" y="3306600"/>
                <a:ext cx="6480" cy="43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60800" y="3056040"/>
                <a:ext cx="6480" cy="680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73400" y="3576600"/>
                <a:ext cx="7920" cy="16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33880" y="3589200"/>
                <a:ext cx="6480" cy="147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40360" y="3517920"/>
                <a:ext cx="6120" cy="218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54400" y="2843280"/>
                <a:ext cx="6480" cy="893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06960" y="3036960"/>
                <a:ext cx="6120" cy="699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19560" y="2933640"/>
                <a:ext cx="6480" cy="803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33960" y="3652920"/>
                <a:ext cx="6120" cy="8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65640" y="2720880"/>
                <a:ext cx="7920" cy="1015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80040" y="3235320"/>
                <a:ext cx="6120" cy="501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286160" y="3139920"/>
                <a:ext cx="6480" cy="596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99120" y="2554200"/>
                <a:ext cx="6120" cy="1182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13160" y="3273480"/>
                <a:ext cx="6480" cy="463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44840" y="2695680"/>
                <a:ext cx="7920" cy="104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59240" y="3517920"/>
                <a:ext cx="6480" cy="218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65720" y="2901960"/>
                <a:ext cx="6120" cy="834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78320" y="3595680"/>
                <a:ext cx="6480" cy="14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392720" y="3699000"/>
                <a:ext cx="6120" cy="37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32320" y="3537000"/>
                <a:ext cx="6480" cy="199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44920" y="3595680"/>
                <a:ext cx="6480" cy="14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57880" y="3441600"/>
                <a:ext cx="7920" cy="29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471920" y="3197160"/>
                <a:ext cx="6480" cy="53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05400" y="3576600"/>
                <a:ext cx="6120" cy="16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11520" y="3492360"/>
                <a:ext cx="6480" cy="244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24480" y="3730680"/>
                <a:ext cx="6120" cy="6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37080" y="3557520"/>
                <a:ext cx="7920" cy="179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45000" y="3659040"/>
                <a:ext cx="6480" cy="77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76680" y="3564000"/>
                <a:ext cx="7920" cy="172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1080" y="3736800"/>
                <a:ext cx="6480" cy="1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603680" y="3672000"/>
                <a:ext cx="6480" cy="64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16280" y="3338640"/>
                <a:ext cx="8280" cy="39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24560" y="3699000"/>
                <a:ext cx="6120" cy="37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70280" y="3652920"/>
                <a:ext cx="6480" cy="8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683240" y="3639960"/>
                <a:ext cx="6120" cy="96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03760" y="3711600"/>
                <a:ext cx="6480" cy="2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62440" y="3736800"/>
                <a:ext cx="6480" cy="70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68920" y="3524400"/>
                <a:ext cx="7920" cy="212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82960" y="2984400"/>
                <a:ext cx="6480" cy="752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816440" y="3332160"/>
                <a:ext cx="6480" cy="40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29040" y="3191040"/>
                <a:ext cx="6480" cy="545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62520" y="3736800"/>
                <a:ext cx="6480" cy="16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96000" y="3736800"/>
                <a:ext cx="6120" cy="3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5080" y="3454560"/>
                <a:ext cx="6120" cy="282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27680" y="3448080"/>
                <a:ext cx="7920" cy="28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41720" y="3479760"/>
                <a:ext cx="6480" cy="25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987800" y="3441600"/>
                <a:ext cx="6480" cy="29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94280" y="2997360"/>
                <a:ext cx="6480" cy="739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21280" y="3435480"/>
                <a:ext cx="6480" cy="301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54760" y="3467160"/>
                <a:ext cx="6120" cy="26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067360" y="3094200"/>
                <a:ext cx="6120" cy="642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073480" y="3087720"/>
                <a:ext cx="6480" cy="64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140440" y="3448080"/>
                <a:ext cx="6120" cy="28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53040" y="3736800"/>
                <a:ext cx="648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67440" y="3736800"/>
                <a:ext cx="6120" cy="282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173560" y="3736800"/>
                <a:ext cx="6480" cy="443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13520" y="3736800"/>
                <a:ext cx="6120" cy="1014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219640" y="3736800"/>
                <a:ext cx="6480" cy="211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246640" y="3736800"/>
                <a:ext cx="6480" cy="16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78320" y="3736800"/>
                <a:ext cx="7920" cy="3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99200" y="3454560"/>
                <a:ext cx="6120" cy="282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1800" y="3448080"/>
                <a:ext cx="7920" cy="28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26200" y="3479760"/>
                <a:ext cx="6120" cy="25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65800" y="3441600"/>
                <a:ext cx="6480" cy="29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78400" y="2997360"/>
                <a:ext cx="6480" cy="739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98920" y="3435480"/>
                <a:ext cx="6480" cy="301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38880" y="3467160"/>
                <a:ext cx="6120" cy="26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45000" y="3094200"/>
                <a:ext cx="6480" cy="642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57960" y="3087720"/>
                <a:ext cx="6120" cy="64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24560" y="3448080"/>
                <a:ext cx="6120" cy="28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537160" y="3736800"/>
                <a:ext cx="648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49760" y="3736800"/>
                <a:ext cx="7920" cy="282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557680" y="3736800"/>
                <a:ext cx="6480" cy="443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91160" y="3736800"/>
                <a:ext cx="6480" cy="1014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03760" y="3736800"/>
                <a:ext cx="6480" cy="211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22840" y="3736800"/>
                <a:ext cx="7920" cy="96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37240" y="3736800"/>
                <a:ext cx="6480" cy="346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670720" y="3736800"/>
                <a:ext cx="6120" cy="16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695920" y="3736800"/>
                <a:ext cx="6480" cy="128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16440" y="3530520"/>
                <a:ext cx="6480" cy="206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49920" y="3467160"/>
                <a:ext cx="6480" cy="26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62520" y="3357720"/>
                <a:ext cx="6480" cy="37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81600" y="3524400"/>
                <a:ext cx="7920" cy="212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796000" y="3736800"/>
                <a:ext cx="6480" cy="301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29480" y="3699000"/>
                <a:ext cx="6120" cy="37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42080" y="3736800"/>
                <a:ext cx="6120" cy="487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75200" y="3736800"/>
                <a:ext cx="6480" cy="2030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08680" y="3736800"/>
                <a:ext cx="6480" cy="1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21280" y="3473280"/>
                <a:ext cx="6480" cy="263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27760" y="3639960"/>
                <a:ext cx="6480" cy="96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54760" y="3178080"/>
                <a:ext cx="6480" cy="558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87880" y="3557520"/>
                <a:ext cx="6480" cy="179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94360" y="3736800"/>
                <a:ext cx="6480" cy="257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06960" y="3736800"/>
                <a:ext cx="6480" cy="6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1360" y="3736800"/>
                <a:ext cx="6480" cy="26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33960" y="3736800"/>
                <a:ext cx="6480" cy="68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67440" y="3736800"/>
                <a:ext cx="6480" cy="95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73920" y="3736800"/>
                <a:ext cx="6120" cy="1586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86520" y="3736800"/>
                <a:ext cx="6480" cy="898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00920" y="3736800"/>
                <a:ext cx="6120" cy="533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107040" y="3736800"/>
                <a:ext cx="6480" cy="514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46640" y="3736800"/>
                <a:ext cx="6480" cy="147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53120" y="3736800"/>
                <a:ext cx="6480" cy="725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65720" y="3736800"/>
                <a:ext cx="7920" cy="398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80120" y="3736800"/>
                <a:ext cx="6480" cy="424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86600" y="3736800"/>
                <a:ext cx="6120" cy="1052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32680" y="3736800"/>
                <a:ext cx="6120" cy="1092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45280" y="3736800"/>
                <a:ext cx="7920" cy="238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59680" y="3736800"/>
                <a:ext cx="612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265800" y="3736800"/>
                <a:ext cx="6480" cy="5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99280" y="3736800"/>
                <a:ext cx="6120" cy="5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311880" y="3736800"/>
                <a:ext cx="648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324480" y="3724200"/>
                <a:ext cx="7920" cy="12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32400" y="3736800"/>
                <a:ext cx="6480" cy="392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45360" y="3736800"/>
                <a:ext cx="6120" cy="6685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78480" y="3736800"/>
                <a:ext cx="6480" cy="57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91440" y="3736800"/>
                <a:ext cx="6120" cy="6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04040" y="3736800"/>
                <a:ext cx="7920" cy="88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11960" y="3736800"/>
                <a:ext cx="6480" cy="2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424560" y="3736800"/>
                <a:ext cx="6480" cy="76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470640" y="3736800"/>
                <a:ext cx="6480" cy="5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91160" y="3736800"/>
                <a:ext cx="648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04120" y="3736800"/>
                <a:ext cx="612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37240" y="3736800"/>
                <a:ext cx="6480" cy="5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550200" y="3736800"/>
                <a:ext cx="6120" cy="4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56320" y="3736800"/>
                <a:ext cx="7920" cy="3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570720" y="3736800"/>
                <a:ext cx="6120" cy="109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583320" y="3736800"/>
                <a:ext cx="6480" cy="763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16800" y="3736800"/>
                <a:ext cx="6120" cy="797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29400" y="3736800"/>
                <a:ext cx="6480" cy="4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35880" y="3736800"/>
                <a:ext cx="7920" cy="1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49920" y="3639960"/>
                <a:ext cx="6480" cy="96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96000" y="3125880"/>
                <a:ext cx="6480" cy="6109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702480" y="3467160"/>
                <a:ext cx="6120" cy="269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729480" y="3203640"/>
                <a:ext cx="6120" cy="533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742080" y="3338640"/>
                <a:ext cx="6480" cy="39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75560" y="3736800"/>
                <a:ext cx="612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81680" y="3376440"/>
                <a:ext cx="6480" cy="3603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796080" y="3621240"/>
                <a:ext cx="6480" cy="11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808680" y="3325680"/>
                <a:ext cx="6480" cy="4111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15160" y="2490840"/>
                <a:ext cx="6480" cy="1245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854760" y="3146400"/>
                <a:ext cx="6480" cy="590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61240" y="3736800"/>
                <a:ext cx="6120" cy="190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75640" y="3736800"/>
                <a:ext cx="612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88240" y="3273480"/>
                <a:ext cx="6120" cy="463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894360" y="3665520"/>
                <a:ext cx="6480" cy="71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927840" y="3711600"/>
                <a:ext cx="6480" cy="25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940440" y="3736800"/>
                <a:ext cx="6480" cy="637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954840" y="3736800"/>
                <a:ext cx="6480" cy="366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67440" y="3736800"/>
                <a:ext cx="6480" cy="2638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973920" y="3736800"/>
                <a:ext cx="6480" cy="578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007400" y="3736800"/>
                <a:ext cx="6120" cy="572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020000" y="3344760"/>
                <a:ext cx="6120" cy="39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034040" y="3351240"/>
                <a:ext cx="6480" cy="3855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40520" y="3736800"/>
                <a:ext cx="6480" cy="446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53120" y="3736800"/>
                <a:ext cx="6480" cy="4176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86600" y="3736800"/>
                <a:ext cx="6480" cy="12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99200" y="3492360"/>
                <a:ext cx="7920" cy="244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113600" y="3692520"/>
                <a:ext cx="6480" cy="44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20080" y="3678120"/>
                <a:ext cx="6120" cy="58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32680" y="3416400"/>
                <a:ext cx="6480" cy="320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78760" y="2933640"/>
                <a:ext cx="7920" cy="803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186680" y="3146400"/>
                <a:ext cx="6120" cy="590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199280" y="3273480"/>
                <a:ext cx="6480" cy="463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11880" y="3294000"/>
                <a:ext cx="6480" cy="4428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45360" y="3530520"/>
                <a:ext cx="6480" cy="206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257960" y="3422520"/>
                <a:ext cx="7920" cy="3142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265880" y="3736800"/>
                <a:ext cx="648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278840" y="3492360"/>
                <a:ext cx="6120" cy="244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291440" y="3614760"/>
                <a:ext cx="6120" cy="1220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24560" y="3736800"/>
                <a:ext cx="648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38960" y="3678120"/>
                <a:ext cx="6480" cy="586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45440" y="3736800"/>
                <a:ext cx="6120" cy="648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70640" y="3543480"/>
                <a:ext cx="7920" cy="19332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04120" y="3203640"/>
                <a:ext cx="6480" cy="5331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410600" y="3024360"/>
                <a:ext cx="7920" cy="7124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7424640" y="3736800"/>
              <a:ext cx="6480" cy="2556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37600" y="3736800"/>
              <a:ext cx="6120" cy="52092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0200" y="3736800"/>
              <a:ext cx="7920" cy="17316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83320" y="3736800"/>
              <a:ext cx="6480" cy="1224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89800" y="3736800"/>
              <a:ext cx="7920" cy="2574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04200" y="3736800"/>
              <a:ext cx="6120" cy="51444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16800" y="3736800"/>
              <a:ext cx="6480" cy="70668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23280" y="3736800"/>
              <a:ext cx="6120" cy="648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2880" y="3736800"/>
              <a:ext cx="6480" cy="702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69360" y="3583080"/>
              <a:ext cx="7920" cy="15372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583400" y="3684600"/>
              <a:ext cx="6480" cy="522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96360" y="3589200"/>
              <a:ext cx="6120" cy="1476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2480" y="3537000"/>
              <a:ext cx="6480" cy="1998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35960" y="3511440"/>
              <a:ext cx="6120" cy="22536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50000" y="3736800"/>
              <a:ext cx="6480" cy="60984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62960" y="3736800"/>
              <a:ext cx="6120" cy="1350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75560" y="3736800"/>
              <a:ext cx="6480" cy="2448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82040" y="3736800"/>
              <a:ext cx="7920" cy="23832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15160" y="3736800"/>
              <a:ext cx="6480" cy="81612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08160" y="2079720"/>
              <a:ext cx="0" cy="387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08160" y="595296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08160" y="540072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08160" y="484812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08160" y="429588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08160" y="373680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08160" y="318456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08160" y="263196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08160" y="2079720"/>
              <a:ext cx="46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08160" y="3736800"/>
              <a:ext cx="652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729560" y="2079720"/>
              <a:ext cx="0" cy="387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82040" y="59529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82040" y="540072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82040" y="484812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82040" y="429588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82040" y="373680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82040" y="31845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82040" y="26319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207972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14280" y="3228840"/>
              <a:ext cx="6507360" cy="2544840"/>
            </a:xfrm>
            <a:custGeom>
              <a:avLst/>
              <a:gdLst/>
              <a:ahLst/>
              <a:rect l="l" t="t" r="r" b="b"/>
              <a:pathLst>
                <a:path w="983" h="396">
                  <a:moveTo>
                    <a:pt x="0" y="300"/>
                  </a:moveTo>
                  <a:lnTo>
                    <a:pt x="2" y="305"/>
                  </a:lnTo>
                  <a:lnTo>
                    <a:pt x="3" y="273"/>
                  </a:lnTo>
                  <a:lnTo>
                    <a:pt x="5" y="258"/>
                  </a:lnTo>
                  <a:lnTo>
                    <a:pt x="7" y="251"/>
                  </a:lnTo>
                  <a:lnTo>
                    <a:pt x="8" y="245"/>
                  </a:lnTo>
                  <a:lnTo>
                    <a:pt x="10" y="243"/>
                  </a:lnTo>
                  <a:lnTo>
                    <a:pt x="12" y="251"/>
                  </a:lnTo>
                  <a:lnTo>
                    <a:pt x="13" y="249"/>
                  </a:lnTo>
                  <a:lnTo>
                    <a:pt x="15" y="254"/>
                  </a:lnTo>
                  <a:lnTo>
                    <a:pt x="17" y="251"/>
                  </a:lnTo>
                  <a:lnTo>
                    <a:pt x="19" y="256"/>
                  </a:lnTo>
                  <a:lnTo>
                    <a:pt x="20" y="253"/>
                  </a:lnTo>
                  <a:lnTo>
                    <a:pt x="22" y="242"/>
                  </a:lnTo>
                  <a:lnTo>
                    <a:pt x="24" y="234"/>
                  </a:lnTo>
                  <a:lnTo>
                    <a:pt x="25" y="215"/>
                  </a:lnTo>
                  <a:lnTo>
                    <a:pt x="27" y="214"/>
                  </a:lnTo>
                  <a:lnTo>
                    <a:pt x="29" y="220"/>
                  </a:lnTo>
                  <a:lnTo>
                    <a:pt x="30" y="202"/>
                  </a:lnTo>
                  <a:lnTo>
                    <a:pt x="32" y="194"/>
                  </a:lnTo>
                  <a:lnTo>
                    <a:pt x="34" y="195"/>
                  </a:lnTo>
                  <a:lnTo>
                    <a:pt x="36" y="195"/>
                  </a:lnTo>
                  <a:lnTo>
                    <a:pt x="37" y="200"/>
                  </a:lnTo>
                  <a:lnTo>
                    <a:pt x="39" y="211"/>
                  </a:lnTo>
                  <a:lnTo>
                    <a:pt x="41" y="208"/>
                  </a:lnTo>
                  <a:lnTo>
                    <a:pt x="42" y="202"/>
                  </a:lnTo>
                  <a:lnTo>
                    <a:pt x="44" y="207"/>
                  </a:lnTo>
                  <a:lnTo>
                    <a:pt x="46" y="199"/>
                  </a:lnTo>
                  <a:lnTo>
                    <a:pt x="47" y="199"/>
                  </a:lnTo>
                  <a:lnTo>
                    <a:pt x="49" y="196"/>
                  </a:lnTo>
                  <a:lnTo>
                    <a:pt x="51" y="207"/>
                  </a:lnTo>
                  <a:lnTo>
                    <a:pt x="52" y="210"/>
                  </a:lnTo>
                  <a:lnTo>
                    <a:pt x="54" y="214"/>
                  </a:lnTo>
                  <a:lnTo>
                    <a:pt x="56" y="201"/>
                  </a:lnTo>
                  <a:lnTo>
                    <a:pt x="58" y="201"/>
                  </a:lnTo>
                  <a:lnTo>
                    <a:pt x="59" y="199"/>
                  </a:lnTo>
                  <a:lnTo>
                    <a:pt x="61" y="200"/>
                  </a:lnTo>
                  <a:lnTo>
                    <a:pt x="63" y="199"/>
                  </a:lnTo>
                  <a:lnTo>
                    <a:pt x="64" y="200"/>
                  </a:lnTo>
                  <a:lnTo>
                    <a:pt x="66" y="200"/>
                  </a:lnTo>
                  <a:lnTo>
                    <a:pt x="68" y="200"/>
                  </a:lnTo>
                  <a:lnTo>
                    <a:pt x="69" y="206"/>
                  </a:lnTo>
                  <a:lnTo>
                    <a:pt x="71" y="208"/>
                  </a:lnTo>
                  <a:lnTo>
                    <a:pt x="73" y="217"/>
                  </a:lnTo>
                  <a:lnTo>
                    <a:pt x="75" y="205"/>
                  </a:lnTo>
                  <a:lnTo>
                    <a:pt x="76" y="206"/>
                  </a:lnTo>
                  <a:lnTo>
                    <a:pt x="78" y="202"/>
                  </a:lnTo>
                  <a:lnTo>
                    <a:pt x="80" y="200"/>
                  </a:lnTo>
                  <a:lnTo>
                    <a:pt x="81" y="200"/>
                  </a:lnTo>
                  <a:lnTo>
                    <a:pt x="83" y="199"/>
                  </a:lnTo>
                  <a:lnTo>
                    <a:pt x="85" y="204"/>
                  </a:lnTo>
                  <a:lnTo>
                    <a:pt x="86" y="211"/>
                  </a:lnTo>
                  <a:lnTo>
                    <a:pt x="88" y="214"/>
                  </a:lnTo>
                  <a:lnTo>
                    <a:pt x="90" y="215"/>
                  </a:lnTo>
                  <a:lnTo>
                    <a:pt x="92" y="210"/>
                  </a:lnTo>
                  <a:lnTo>
                    <a:pt x="93" y="209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1"/>
                  </a:lnTo>
                  <a:lnTo>
                    <a:pt x="100" y="204"/>
                  </a:lnTo>
                  <a:lnTo>
                    <a:pt x="102" y="196"/>
                  </a:lnTo>
                  <a:lnTo>
                    <a:pt x="103" y="196"/>
                  </a:lnTo>
                  <a:lnTo>
                    <a:pt x="105" y="206"/>
                  </a:lnTo>
                  <a:lnTo>
                    <a:pt x="107" y="207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12" y="216"/>
                  </a:lnTo>
                  <a:lnTo>
                    <a:pt x="114" y="220"/>
                  </a:lnTo>
                  <a:lnTo>
                    <a:pt x="115" y="226"/>
                  </a:lnTo>
                  <a:lnTo>
                    <a:pt x="117" y="240"/>
                  </a:lnTo>
                  <a:lnTo>
                    <a:pt x="119" y="232"/>
                  </a:lnTo>
                  <a:lnTo>
                    <a:pt x="120" y="233"/>
                  </a:lnTo>
                  <a:lnTo>
                    <a:pt x="122" y="244"/>
                  </a:lnTo>
                  <a:lnTo>
                    <a:pt x="124" y="250"/>
                  </a:lnTo>
                  <a:lnTo>
                    <a:pt x="126" y="238"/>
                  </a:lnTo>
                  <a:lnTo>
                    <a:pt x="127" y="237"/>
                  </a:lnTo>
                  <a:lnTo>
                    <a:pt x="129" y="238"/>
                  </a:lnTo>
                  <a:lnTo>
                    <a:pt x="131" y="250"/>
                  </a:lnTo>
                  <a:lnTo>
                    <a:pt x="132" y="244"/>
                  </a:lnTo>
                  <a:lnTo>
                    <a:pt x="134" y="237"/>
                  </a:lnTo>
                  <a:lnTo>
                    <a:pt x="136" y="230"/>
                  </a:lnTo>
                  <a:lnTo>
                    <a:pt x="137" y="231"/>
                  </a:lnTo>
                  <a:lnTo>
                    <a:pt x="139" y="241"/>
                  </a:lnTo>
                  <a:lnTo>
                    <a:pt x="141" y="241"/>
                  </a:lnTo>
                  <a:lnTo>
                    <a:pt x="143" y="246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48" y="256"/>
                  </a:lnTo>
                  <a:lnTo>
                    <a:pt x="149" y="253"/>
                  </a:lnTo>
                  <a:lnTo>
                    <a:pt x="151" y="250"/>
                  </a:lnTo>
                  <a:lnTo>
                    <a:pt x="153" y="251"/>
                  </a:lnTo>
                  <a:lnTo>
                    <a:pt x="154" y="263"/>
                  </a:lnTo>
                  <a:lnTo>
                    <a:pt x="156" y="261"/>
                  </a:lnTo>
                  <a:lnTo>
                    <a:pt x="158" y="260"/>
                  </a:lnTo>
                  <a:lnTo>
                    <a:pt x="159" y="256"/>
                  </a:lnTo>
                  <a:lnTo>
                    <a:pt x="161" y="259"/>
                  </a:lnTo>
                  <a:lnTo>
                    <a:pt x="163" y="267"/>
                  </a:lnTo>
                  <a:lnTo>
                    <a:pt x="165" y="246"/>
                  </a:lnTo>
                  <a:lnTo>
                    <a:pt x="166" y="241"/>
                  </a:lnTo>
                  <a:lnTo>
                    <a:pt x="168" y="243"/>
                  </a:lnTo>
                  <a:lnTo>
                    <a:pt x="170" y="246"/>
                  </a:lnTo>
                  <a:lnTo>
                    <a:pt x="171" y="248"/>
                  </a:lnTo>
                  <a:lnTo>
                    <a:pt x="173" y="255"/>
                  </a:lnTo>
                  <a:lnTo>
                    <a:pt x="175" y="263"/>
                  </a:lnTo>
                  <a:lnTo>
                    <a:pt x="176" y="267"/>
                  </a:lnTo>
                  <a:lnTo>
                    <a:pt x="178" y="267"/>
                  </a:lnTo>
                  <a:lnTo>
                    <a:pt x="180" y="259"/>
                  </a:lnTo>
                  <a:lnTo>
                    <a:pt x="182" y="258"/>
                  </a:lnTo>
                  <a:lnTo>
                    <a:pt x="183" y="256"/>
                  </a:lnTo>
                  <a:lnTo>
                    <a:pt x="185" y="263"/>
                  </a:lnTo>
                  <a:lnTo>
                    <a:pt x="187" y="260"/>
                  </a:lnTo>
                  <a:lnTo>
                    <a:pt x="188" y="262"/>
                  </a:lnTo>
                  <a:lnTo>
                    <a:pt x="190" y="265"/>
                  </a:lnTo>
                  <a:lnTo>
                    <a:pt x="192" y="269"/>
                  </a:lnTo>
                  <a:lnTo>
                    <a:pt x="193" y="263"/>
                  </a:lnTo>
                  <a:lnTo>
                    <a:pt x="195" y="257"/>
                  </a:lnTo>
                  <a:lnTo>
                    <a:pt x="197" y="250"/>
                  </a:lnTo>
                  <a:lnTo>
                    <a:pt x="199" y="246"/>
                  </a:lnTo>
                  <a:lnTo>
                    <a:pt x="200" y="245"/>
                  </a:lnTo>
                  <a:lnTo>
                    <a:pt x="202" y="234"/>
                  </a:lnTo>
                  <a:lnTo>
                    <a:pt x="204" y="223"/>
                  </a:lnTo>
                  <a:lnTo>
                    <a:pt x="205" y="231"/>
                  </a:lnTo>
                  <a:lnTo>
                    <a:pt x="207" y="228"/>
                  </a:lnTo>
                  <a:lnTo>
                    <a:pt x="209" y="226"/>
                  </a:lnTo>
                  <a:lnTo>
                    <a:pt x="210" y="227"/>
                  </a:lnTo>
                  <a:lnTo>
                    <a:pt x="212" y="227"/>
                  </a:lnTo>
                  <a:lnTo>
                    <a:pt x="214" y="210"/>
                  </a:lnTo>
                  <a:lnTo>
                    <a:pt x="216" y="198"/>
                  </a:lnTo>
                  <a:lnTo>
                    <a:pt x="217" y="196"/>
                  </a:lnTo>
                  <a:lnTo>
                    <a:pt x="219" y="204"/>
                  </a:lnTo>
                  <a:lnTo>
                    <a:pt x="221" y="208"/>
                  </a:lnTo>
                  <a:lnTo>
                    <a:pt x="222" y="209"/>
                  </a:lnTo>
                  <a:lnTo>
                    <a:pt x="224" y="208"/>
                  </a:lnTo>
                  <a:lnTo>
                    <a:pt x="226" y="203"/>
                  </a:lnTo>
                  <a:lnTo>
                    <a:pt x="227" y="204"/>
                  </a:lnTo>
                  <a:lnTo>
                    <a:pt x="229" y="202"/>
                  </a:lnTo>
                  <a:lnTo>
                    <a:pt x="231" y="191"/>
                  </a:lnTo>
                  <a:lnTo>
                    <a:pt x="233" y="158"/>
                  </a:lnTo>
                  <a:lnTo>
                    <a:pt x="234" y="126"/>
                  </a:lnTo>
                  <a:lnTo>
                    <a:pt x="236" y="55"/>
                  </a:lnTo>
                  <a:lnTo>
                    <a:pt x="238" y="110"/>
                  </a:lnTo>
                  <a:lnTo>
                    <a:pt x="239" y="161"/>
                  </a:lnTo>
                  <a:lnTo>
                    <a:pt x="241" y="166"/>
                  </a:lnTo>
                  <a:lnTo>
                    <a:pt x="243" y="167"/>
                  </a:lnTo>
                  <a:lnTo>
                    <a:pt x="244" y="140"/>
                  </a:lnTo>
                  <a:lnTo>
                    <a:pt x="246" y="139"/>
                  </a:lnTo>
                  <a:lnTo>
                    <a:pt x="248" y="122"/>
                  </a:lnTo>
                  <a:lnTo>
                    <a:pt x="249" y="120"/>
                  </a:lnTo>
                  <a:lnTo>
                    <a:pt x="251" y="119"/>
                  </a:lnTo>
                  <a:lnTo>
                    <a:pt x="253" y="133"/>
                  </a:lnTo>
                  <a:lnTo>
                    <a:pt x="255" y="120"/>
                  </a:lnTo>
                  <a:lnTo>
                    <a:pt x="256" y="105"/>
                  </a:lnTo>
                  <a:lnTo>
                    <a:pt x="258" y="117"/>
                  </a:lnTo>
                  <a:lnTo>
                    <a:pt x="260" y="112"/>
                  </a:lnTo>
                  <a:lnTo>
                    <a:pt x="261" y="99"/>
                  </a:lnTo>
                  <a:lnTo>
                    <a:pt x="263" y="67"/>
                  </a:lnTo>
                  <a:lnTo>
                    <a:pt x="265" y="95"/>
                  </a:lnTo>
                  <a:lnTo>
                    <a:pt x="266" y="83"/>
                  </a:lnTo>
                  <a:lnTo>
                    <a:pt x="268" y="70"/>
                  </a:lnTo>
                  <a:lnTo>
                    <a:pt x="270" y="55"/>
                  </a:lnTo>
                  <a:lnTo>
                    <a:pt x="272" y="51"/>
                  </a:lnTo>
                  <a:lnTo>
                    <a:pt x="273" y="59"/>
                  </a:lnTo>
                  <a:lnTo>
                    <a:pt x="275" y="63"/>
                  </a:lnTo>
                  <a:lnTo>
                    <a:pt x="277" y="73"/>
                  </a:lnTo>
                  <a:lnTo>
                    <a:pt x="278" y="80"/>
                  </a:lnTo>
                  <a:lnTo>
                    <a:pt x="280" y="88"/>
                  </a:lnTo>
                  <a:lnTo>
                    <a:pt x="282" y="83"/>
                  </a:lnTo>
                  <a:lnTo>
                    <a:pt x="283" y="74"/>
                  </a:lnTo>
                  <a:lnTo>
                    <a:pt x="285" y="68"/>
                  </a:lnTo>
                  <a:lnTo>
                    <a:pt x="287" y="74"/>
                  </a:lnTo>
                  <a:lnTo>
                    <a:pt x="289" y="73"/>
                  </a:lnTo>
                  <a:lnTo>
                    <a:pt x="290" y="76"/>
                  </a:lnTo>
                  <a:lnTo>
                    <a:pt x="292" y="97"/>
                  </a:lnTo>
                  <a:lnTo>
                    <a:pt x="294" y="121"/>
                  </a:lnTo>
                  <a:lnTo>
                    <a:pt x="295" y="138"/>
                  </a:lnTo>
                  <a:lnTo>
                    <a:pt x="297" y="139"/>
                  </a:lnTo>
                  <a:lnTo>
                    <a:pt x="299" y="133"/>
                  </a:lnTo>
                  <a:lnTo>
                    <a:pt x="300" y="132"/>
                  </a:lnTo>
                  <a:lnTo>
                    <a:pt x="302" y="140"/>
                  </a:lnTo>
                  <a:lnTo>
                    <a:pt x="304" y="134"/>
                  </a:lnTo>
                  <a:lnTo>
                    <a:pt x="306" y="116"/>
                  </a:lnTo>
                  <a:lnTo>
                    <a:pt x="307" y="107"/>
                  </a:lnTo>
                  <a:lnTo>
                    <a:pt x="309" y="110"/>
                  </a:lnTo>
                  <a:lnTo>
                    <a:pt x="311" y="109"/>
                  </a:lnTo>
                  <a:lnTo>
                    <a:pt x="312" y="101"/>
                  </a:lnTo>
                  <a:lnTo>
                    <a:pt x="314" y="102"/>
                  </a:lnTo>
                  <a:lnTo>
                    <a:pt x="316" y="102"/>
                  </a:lnTo>
                  <a:lnTo>
                    <a:pt x="317" y="107"/>
                  </a:lnTo>
                  <a:lnTo>
                    <a:pt x="319" y="102"/>
                  </a:lnTo>
                  <a:lnTo>
                    <a:pt x="321" y="91"/>
                  </a:lnTo>
                  <a:lnTo>
                    <a:pt x="323" y="90"/>
                  </a:lnTo>
                  <a:lnTo>
                    <a:pt x="324" y="81"/>
                  </a:lnTo>
                  <a:lnTo>
                    <a:pt x="326" y="77"/>
                  </a:lnTo>
                  <a:lnTo>
                    <a:pt x="328" y="77"/>
                  </a:lnTo>
                  <a:lnTo>
                    <a:pt x="329" y="85"/>
                  </a:lnTo>
                  <a:lnTo>
                    <a:pt x="331" y="86"/>
                  </a:lnTo>
                  <a:lnTo>
                    <a:pt x="333" y="74"/>
                  </a:lnTo>
                  <a:lnTo>
                    <a:pt x="334" y="81"/>
                  </a:lnTo>
                  <a:lnTo>
                    <a:pt x="336" y="73"/>
                  </a:lnTo>
                  <a:lnTo>
                    <a:pt x="338" y="71"/>
                  </a:lnTo>
                  <a:lnTo>
                    <a:pt x="340" y="62"/>
                  </a:lnTo>
                  <a:lnTo>
                    <a:pt x="341" y="56"/>
                  </a:lnTo>
                  <a:lnTo>
                    <a:pt x="343" y="41"/>
                  </a:lnTo>
                  <a:lnTo>
                    <a:pt x="345" y="37"/>
                  </a:lnTo>
                  <a:lnTo>
                    <a:pt x="346" y="49"/>
                  </a:lnTo>
                  <a:lnTo>
                    <a:pt x="348" y="77"/>
                  </a:lnTo>
                  <a:lnTo>
                    <a:pt x="350" y="102"/>
                  </a:lnTo>
                  <a:lnTo>
                    <a:pt x="351" y="106"/>
                  </a:lnTo>
                  <a:lnTo>
                    <a:pt x="353" y="124"/>
                  </a:lnTo>
                  <a:lnTo>
                    <a:pt x="355" y="142"/>
                  </a:lnTo>
                  <a:lnTo>
                    <a:pt x="356" y="143"/>
                  </a:lnTo>
                  <a:lnTo>
                    <a:pt x="358" y="141"/>
                  </a:lnTo>
                  <a:lnTo>
                    <a:pt x="360" y="157"/>
                  </a:lnTo>
                  <a:lnTo>
                    <a:pt x="362" y="141"/>
                  </a:lnTo>
                  <a:lnTo>
                    <a:pt x="363" y="141"/>
                  </a:lnTo>
                  <a:lnTo>
                    <a:pt x="365" y="141"/>
                  </a:lnTo>
                  <a:lnTo>
                    <a:pt x="367" y="143"/>
                  </a:lnTo>
                  <a:lnTo>
                    <a:pt x="368" y="134"/>
                  </a:lnTo>
                  <a:lnTo>
                    <a:pt x="370" y="142"/>
                  </a:lnTo>
                  <a:lnTo>
                    <a:pt x="372" y="151"/>
                  </a:lnTo>
                  <a:lnTo>
                    <a:pt x="373" y="147"/>
                  </a:lnTo>
                  <a:lnTo>
                    <a:pt x="375" y="147"/>
                  </a:lnTo>
                  <a:lnTo>
                    <a:pt x="377" y="147"/>
                  </a:lnTo>
                  <a:lnTo>
                    <a:pt x="379" y="140"/>
                  </a:lnTo>
                  <a:lnTo>
                    <a:pt x="380" y="146"/>
                  </a:lnTo>
                  <a:lnTo>
                    <a:pt x="382" y="128"/>
                  </a:lnTo>
                  <a:lnTo>
                    <a:pt x="384" y="121"/>
                  </a:lnTo>
                  <a:lnTo>
                    <a:pt x="385" y="114"/>
                  </a:lnTo>
                  <a:lnTo>
                    <a:pt x="387" y="114"/>
                  </a:lnTo>
                  <a:lnTo>
                    <a:pt x="389" y="114"/>
                  </a:lnTo>
                  <a:lnTo>
                    <a:pt x="390" y="114"/>
                  </a:lnTo>
                  <a:lnTo>
                    <a:pt x="392" y="109"/>
                  </a:lnTo>
                  <a:lnTo>
                    <a:pt x="394" y="105"/>
                  </a:lnTo>
                  <a:lnTo>
                    <a:pt x="396" y="103"/>
                  </a:lnTo>
                  <a:lnTo>
                    <a:pt x="397" y="113"/>
                  </a:lnTo>
                  <a:lnTo>
                    <a:pt x="399" y="113"/>
                  </a:lnTo>
                  <a:lnTo>
                    <a:pt x="401" y="113"/>
                  </a:lnTo>
                  <a:lnTo>
                    <a:pt x="402" y="121"/>
                  </a:lnTo>
                  <a:lnTo>
                    <a:pt x="404" y="129"/>
                  </a:lnTo>
                  <a:lnTo>
                    <a:pt x="406" y="140"/>
                  </a:lnTo>
                  <a:lnTo>
                    <a:pt x="407" y="136"/>
                  </a:lnTo>
                  <a:lnTo>
                    <a:pt x="409" y="135"/>
                  </a:lnTo>
                  <a:lnTo>
                    <a:pt x="411" y="135"/>
                  </a:lnTo>
                  <a:lnTo>
                    <a:pt x="413" y="135"/>
                  </a:lnTo>
                  <a:lnTo>
                    <a:pt x="414" y="123"/>
                  </a:lnTo>
                  <a:lnTo>
                    <a:pt x="416" y="124"/>
                  </a:lnTo>
                  <a:lnTo>
                    <a:pt x="418" y="125"/>
                  </a:lnTo>
                  <a:lnTo>
                    <a:pt x="419" y="121"/>
                  </a:lnTo>
                  <a:lnTo>
                    <a:pt x="421" y="113"/>
                  </a:lnTo>
                  <a:lnTo>
                    <a:pt x="423" y="113"/>
                  </a:lnTo>
                  <a:lnTo>
                    <a:pt x="424" y="113"/>
                  </a:lnTo>
                  <a:lnTo>
                    <a:pt x="426" y="112"/>
                  </a:lnTo>
                  <a:lnTo>
                    <a:pt x="428" y="126"/>
                  </a:lnTo>
                  <a:lnTo>
                    <a:pt x="430" y="133"/>
                  </a:lnTo>
                  <a:lnTo>
                    <a:pt x="431" y="134"/>
                  </a:lnTo>
                  <a:lnTo>
                    <a:pt x="433" y="128"/>
                  </a:lnTo>
                  <a:lnTo>
                    <a:pt x="435" y="128"/>
                  </a:lnTo>
                  <a:lnTo>
                    <a:pt x="436" y="128"/>
                  </a:lnTo>
                  <a:lnTo>
                    <a:pt x="438" y="128"/>
                  </a:lnTo>
                  <a:lnTo>
                    <a:pt x="440" y="128"/>
                  </a:lnTo>
                  <a:lnTo>
                    <a:pt x="441" y="113"/>
                  </a:lnTo>
                  <a:lnTo>
                    <a:pt x="443" y="106"/>
                  </a:lnTo>
                  <a:lnTo>
                    <a:pt x="445" y="99"/>
                  </a:lnTo>
                  <a:lnTo>
                    <a:pt x="446" y="99"/>
                  </a:lnTo>
                  <a:lnTo>
                    <a:pt x="448" y="99"/>
                  </a:lnTo>
                  <a:lnTo>
                    <a:pt x="450" y="99"/>
                  </a:lnTo>
                  <a:lnTo>
                    <a:pt x="452" y="99"/>
                  </a:lnTo>
                  <a:lnTo>
                    <a:pt x="453" y="107"/>
                  </a:lnTo>
                  <a:lnTo>
                    <a:pt x="455" y="118"/>
                  </a:lnTo>
                  <a:lnTo>
                    <a:pt x="457" y="119"/>
                  </a:lnTo>
                  <a:lnTo>
                    <a:pt x="458" y="119"/>
                  </a:lnTo>
                  <a:lnTo>
                    <a:pt x="460" y="119"/>
                  </a:lnTo>
                  <a:lnTo>
                    <a:pt x="462" y="129"/>
                  </a:lnTo>
                  <a:lnTo>
                    <a:pt x="463" y="140"/>
                  </a:lnTo>
                  <a:lnTo>
                    <a:pt x="465" y="147"/>
                  </a:lnTo>
                  <a:lnTo>
                    <a:pt x="467" y="147"/>
                  </a:lnTo>
                  <a:lnTo>
                    <a:pt x="469" y="148"/>
                  </a:lnTo>
                  <a:lnTo>
                    <a:pt x="470" y="148"/>
                  </a:lnTo>
                  <a:lnTo>
                    <a:pt x="472" y="148"/>
                  </a:lnTo>
                  <a:lnTo>
                    <a:pt x="474" y="141"/>
                  </a:lnTo>
                  <a:lnTo>
                    <a:pt x="475" y="121"/>
                  </a:lnTo>
                  <a:lnTo>
                    <a:pt x="477" y="120"/>
                  </a:lnTo>
                  <a:lnTo>
                    <a:pt x="479" y="105"/>
                  </a:lnTo>
                  <a:lnTo>
                    <a:pt x="480" y="96"/>
                  </a:lnTo>
                  <a:lnTo>
                    <a:pt x="482" y="96"/>
                  </a:lnTo>
                  <a:lnTo>
                    <a:pt x="484" y="96"/>
                  </a:lnTo>
                  <a:lnTo>
                    <a:pt x="486" y="85"/>
                  </a:lnTo>
                  <a:lnTo>
                    <a:pt x="487" y="86"/>
                  </a:lnTo>
                  <a:lnTo>
                    <a:pt x="489" y="86"/>
                  </a:lnTo>
                  <a:lnTo>
                    <a:pt x="491" y="93"/>
                  </a:lnTo>
                  <a:lnTo>
                    <a:pt x="492" y="109"/>
                  </a:lnTo>
                  <a:lnTo>
                    <a:pt x="494" y="109"/>
                  </a:lnTo>
                  <a:lnTo>
                    <a:pt x="496" y="109"/>
                  </a:lnTo>
                  <a:lnTo>
                    <a:pt x="497" y="99"/>
                  </a:lnTo>
                  <a:lnTo>
                    <a:pt x="499" y="107"/>
                  </a:lnTo>
                  <a:lnTo>
                    <a:pt x="501" y="95"/>
                  </a:lnTo>
                  <a:lnTo>
                    <a:pt x="503" y="89"/>
                  </a:lnTo>
                  <a:lnTo>
                    <a:pt x="504" y="95"/>
                  </a:lnTo>
                  <a:lnTo>
                    <a:pt x="506" y="95"/>
                  </a:lnTo>
                  <a:lnTo>
                    <a:pt x="508" y="95"/>
                  </a:lnTo>
                  <a:lnTo>
                    <a:pt x="509" y="95"/>
                  </a:lnTo>
                  <a:lnTo>
                    <a:pt x="511" y="82"/>
                  </a:lnTo>
                  <a:lnTo>
                    <a:pt x="513" y="62"/>
                  </a:lnTo>
                  <a:lnTo>
                    <a:pt x="514" y="64"/>
                  </a:lnTo>
                  <a:lnTo>
                    <a:pt x="516" y="59"/>
                  </a:lnTo>
                  <a:lnTo>
                    <a:pt x="518" y="59"/>
                  </a:lnTo>
                  <a:lnTo>
                    <a:pt x="520" y="59"/>
                  </a:lnTo>
                  <a:lnTo>
                    <a:pt x="521" y="63"/>
                  </a:lnTo>
                  <a:lnTo>
                    <a:pt x="523" y="71"/>
                  </a:lnTo>
                  <a:lnTo>
                    <a:pt x="525" y="78"/>
                  </a:lnTo>
                  <a:lnTo>
                    <a:pt x="526" y="92"/>
                  </a:lnTo>
                  <a:lnTo>
                    <a:pt x="528" y="93"/>
                  </a:lnTo>
                  <a:lnTo>
                    <a:pt x="530" y="93"/>
                  </a:lnTo>
                  <a:lnTo>
                    <a:pt x="531" y="93"/>
                  </a:lnTo>
                  <a:lnTo>
                    <a:pt x="533" y="93"/>
                  </a:lnTo>
                  <a:lnTo>
                    <a:pt x="535" y="93"/>
                  </a:lnTo>
                  <a:lnTo>
                    <a:pt x="537" y="91"/>
                  </a:lnTo>
                  <a:lnTo>
                    <a:pt x="538" y="100"/>
                  </a:lnTo>
                  <a:lnTo>
                    <a:pt x="540" y="95"/>
                  </a:lnTo>
                  <a:lnTo>
                    <a:pt x="542" y="95"/>
                  </a:lnTo>
                  <a:lnTo>
                    <a:pt x="543" y="95"/>
                  </a:lnTo>
                  <a:lnTo>
                    <a:pt x="545" y="85"/>
                  </a:lnTo>
                  <a:lnTo>
                    <a:pt x="547" y="81"/>
                  </a:lnTo>
                  <a:lnTo>
                    <a:pt x="548" y="85"/>
                  </a:lnTo>
                  <a:lnTo>
                    <a:pt x="550" y="85"/>
                  </a:lnTo>
                  <a:lnTo>
                    <a:pt x="552" y="82"/>
                  </a:lnTo>
                  <a:lnTo>
                    <a:pt x="553" y="82"/>
                  </a:lnTo>
                  <a:lnTo>
                    <a:pt x="555" y="82"/>
                  </a:lnTo>
                  <a:lnTo>
                    <a:pt x="557" y="78"/>
                  </a:lnTo>
                  <a:lnTo>
                    <a:pt x="559" y="90"/>
                  </a:lnTo>
                  <a:lnTo>
                    <a:pt x="560" y="97"/>
                  </a:lnTo>
                  <a:lnTo>
                    <a:pt x="562" y="96"/>
                  </a:lnTo>
                  <a:lnTo>
                    <a:pt x="564" y="93"/>
                  </a:lnTo>
                  <a:lnTo>
                    <a:pt x="565" y="93"/>
                  </a:lnTo>
                  <a:lnTo>
                    <a:pt x="567" y="93"/>
                  </a:lnTo>
                  <a:lnTo>
                    <a:pt x="569" y="85"/>
                  </a:lnTo>
                  <a:lnTo>
                    <a:pt x="570" y="95"/>
                  </a:lnTo>
                  <a:lnTo>
                    <a:pt x="572" y="95"/>
                  </a:lnTo>
                  <a:lnTo>
                    <a:pt x="574" y="101"/>
                  </a:lnTo>
                  <a:lnTo>
                    <a:pt x="576" y="112"/>
                  </a:lnTo>
                  <a:lnTo>
                    <a:pt x="577" y="112"/>
                  </a:lnTo>
                  <a:lnTo>
                    <a:pt x="579" y="112"/>
                  </a:lnTo>
                  <a:lnTo>
                    <a:pt x="581" y="100"/>
                  </a:lnTo>
                  <a:lnTo>
                    <a:pt x="582" y="107"/>
                  </a:lnTo>
                  <a:lnTo>
                    <a:pt x="584" y="102"/>
                  </a:lnTo>
                  <a:lnTo>
                    <a:pt x="586" y="102"/>
                  </a:lnTo>
                  <a:lnTo>
                    <a:pt x="587" y="102"/>
                  </a:lnTo>
                  <a:lnTo>
                    <a:pt x="589" y="102"/>
                  </a:lnTo>
                  <a:lnTo>
                    <a:pt x="591" y="102"/>
                  </a:lnTo>
                  <a:lnTo>
                    <a:pt x="593" y="102"/>
                  </a:lnTo>
                  <a:lnTo>
                    <a:pt x="594" y="76"/>
                  </a:lnTo>
                  <a:lnTo>
                    <a:pt x="596" y="60"/>
                  </a:lnTo>
                  <a:lnTo>
                    <a:pt x="598" y="64"/>
                  </a:lnTo>
                  <a:lnTo>
                    <a:pt x="599" y="71"/>
                  </a:lnTo>
                  <a:lnTo>
                    <a:pt x="601" y="71"/>
                  </a:lnTo>
                  <a:lnTo>
                    <a:pt x="603" y="71"/>
                  </a:lnTo>
                  <a:lnTo>
                    <a:pt x="604" y="68"/>
                  </a:lnTo>
                  <a:lnTo>
                    <a:pt x="606" y="65"/>
                  </a:lnTo>
                  <a:lnTo>
                    <a:pt x="608" y="65"/>
                  </a:lnTo>
                  <a:lnTo>
                    <a:pt x="610" y="82"/>
                  </a:lnTo>
                  <a:lnTo>
                    <a:pt x="611" y="82"/>
                  </a:lnTo>
                  <a:lnTo>
                    <a:pt x="613" y="82"/>
                  </a:lnTo>
                  <a:lnTo>
                    <a:pt x="615" y="78"/>
                  </a:lnTo>
                  <a:lnTo>
                    <a:pt x="616" y="90"/>
                  </a:lnTo>
                  <a:lnTo>
                    <a:pt x="618" y="97"/>
                  </a:lnTo>
                  <a:lnTo>
                    <a:pt x="620" y="96"/>
                  </a:lnTo>
                  <a:lnTo>
                    <a:pt x="621" y="93"/>
                  </a:lnTo>
                  <a:lnTo>
                    <a:pt x="623" y="93"/>
                  </a:lnTo>
                  <a:lnTo>
                    <a:pt x="625" y="93"/>
                  </a:lnTo>
                  <a:lnTo>
                    <a:pt x="627" y="85"/>
                  </a:lnTo>
                  <a:lnTo>
                    <a:pt x="628" y="95"/>
                  </a:lnTo>
                  <a:lnTo>
                    <a:pt x="630" y="95"/>
                  </a:lnTo>
                  <a:lnTo>
                    <a:pt x="632" y="101"/>
                  </a:lnTo>
                  <a:lnTo>
                    <a:pt x="633" y="112"/>
                  </a:lnTo>
                  <a:lnTo>
                    <a:pt x="635" y="112"/>
                  </a:lnTo>
                  <a:lnTo>
                    <a:pt x="637" y="112"/>
                  </a:lnTo>
                  <a:lnTo>
                    <a:pt x="638" y="100"/>
                  </a:lnTo>
                  <a:lnTo>
                    <a:pt x="640" y="107"/>
                  </a:lnTo>
                  <a:lnTo>
                    <a:pt x="642" y="102"/>
                  </a:lnTo>
                  <a:lnTo>
                    <a:pt x="643" y="102"/>
                  </a:lnTo>
                  <a:lnTo>
                    <a:pt x="645" y="102"/>
                  </a:lnTo>
                  <a:lnTo>
                    <a:pt x="647" y="102"/>
                  </a:lnTo>
                  <a:lnTo>
                    <a:pt x="649" y="102"/>
                  </a:lnTo>
                  <a:lnTo>
                    <a:pt x="650" y="102"/>
                  </a:lnTo>
                  <a:lnTo>
                    <a:pt x="652" y="76"/>
                  </a:lnTo>
                  <a:lnTo>
                    <a:pt x="654" y="60"/>
                  </a:lnTo>
                  <a:lnTo>
                    <a:pt x="655" y="64"/>
                  </a:lnTo>
                  <a:lnTo>
                    <a:pt x="657" y="71"/>
                  </a:lnTo>
                  <a:lnTo>
                    <a:pt x="659" y="71"/>
                  </a:lnTo>
                  <a:lnTo>
                    <a:pt x="660" y="71"/>
                  </a:lnTo>
                  <a:lnTo>
                    <a:pt x="662" y="68"/>
                  </a:lnTo>
                  <a:lnTo>
                    <a:pt x="664" y="65"/>
                  </a:lnTo>
                  <a:lnTo>
                    <a:pt x="666" y="65"/>
                  </a:lnTo>
                  <a:lnTo>
                    <a:pt x="667" y="74"/>
                  </a:lnTo>
                  <a:lnTo>
                    <a:pt x="669" y="74"/>
                  </a:lnTo>
                  <a:lnTo>
                    <a:pt x="671" y="74"/>
                  </a:lnTo>
                  <a:lnTo>
                    <a:pt x="672" y="74"/>
                  </a:lnTo>
                  <a:lnTo>
                    <a:pt x="674" y="79"/>
                  </a:lnTo>
                  <a:lnTo>
                    <a:pt x="676" y="84"/>
                  </a:lnTo>
                  <a:lnTo>
                    <a:pt x="677" y="83"/>
                  </a:lnTo>
                  <a:lnTo>
                    <a:pt x="679" y="85"/>
                  </a:lnTo>
                  <a:lnTo>
                    <a:pt x="681" y="97"/>
                  </a:lnTo>
                  <a:lnTo>
                    <a:pt x="683" y="97"/>
                  </a:lnTo>
                  <a:lnTo>
                    <a:pt x="684" y="97"/>
                  </a:lnTo>
                  <a:lnTo>
                    <a:pt x="686" y="95"/>
                  </a:lnTo>
                  <a:lnTo>
                    <a:pt x="688" y="90"/>
                  </a:lnTo>
                  <a:lnTo>
                    <a:pt x="689" y="72"/>
                  </a:lnTo>
                  <a:lnTo>
                    <a:pt x="691" y="60"/>
                  </a:lnTo>
                  <a:lnTo>
                    <a:pt x="693" y="58"/>
                  </a:lnTo>
                  <a:lnTo>
                    <a:pt x="694" y="58"/>
                  </a:lnTo>
                  <a:lnTo>
                    <a:pt x="696" y="58"/>
                  </a:lnTo>
                  <a:lnTo>
                    <a:pt x="698" y="51"/>
                  </a:lnTo>
                  <a:lnTo>
                    <a:pt x="700" y="27"/>
                  </a:lnTo>
                  <a:lnTo>
                    <a:pt x="701" y="31"/>
                  </a:lnTo>
                  <a:lnTo>
                    <a:pt x="703" y="29"/>
                  </a:lnTo>
                  <a:lnTo>
                    <a:pt x="705" y="33"/>
                  </a:lnTo>
                  <a:lnTo>
                    <a:pt x="706" y="33"/>
                  </a:lnTo>
                  <a:lnTo>
                    <a:pt x="708" y="33"/>
                  </a:lnTo>
                  <a:lnTo>
                    <a:pt x="710" y="56"/>
                  </a:lnTo>
                  <a:lnTo>
                    <a:pt x="711" y="57"/>
                  </a:lnTo>
                  <a:lnTo>
                    <a:pt x="713" y="72"/>
                  </a:lnTo>
                  <a:lnTo>
                    <a:pt x="715" y="72"/>
                  </a:lnTo>
                  <a:lnTo>
                    <a:pt x="717" y="62"/>
                  </a:lnTo>
                  <a:lnTo>
                    <a:pt x="718" y="62"/>
                  </a:lnTo>
                  <a:lnTo>
                    <a:pt x="720" y="62"/>
                  </a:lnTo>
                  <a:lnTo>
                    <a:pt x="722" y="53"/>
                  </a:lnTo>
                  <a:lnTo>
                    <a:pt x="723" y="45"/>
                  </a:lnTo>
                  <a:lnTo>
                    <a:pt x="725" y="35"/>
                  </a:lnTo>
                  <a:lnTo>
                    <a:pt x="727" y="34"/>
                  </a:lnTo>
                  <a:lnTo>
                    <a:pt x="728" y="47"/>
                  </a:lnTo>
                  <a:lnTo>
                    <a:pt x="730" y="47"/>
                  </a:lnTo>
                  <a:lnTo>
                    <a:pt x="732" y="47"/>
                  </a:lnTo>
                  <a:lnTo>
                    <a:pt x="734" y="42"/>
                  </a:lnTo>
                  <a:lnTo>
                    <a:pt x="735" y="49"/>
                  </a:lnTo>
                  <a:lnTo>
                    <a:pt x="737" y="76"/>
                  </a:lnTo>
                  <a:lnTo>
                    <a:pt x="739" y="78"/>
                  </a:lnTo>
                  <a:lnTo>
                    <a:pt x="740" y="84"/>
                  </a:lnTo>
                  <a:lnTo>
                    <a:pt x="742" y="84"/>
                  </a:lnTo>
                  <a:lnTo>
                    <a:pt x="744" y="84"/>
                  </a:lnTo>
                  <a:lnTo>
                    <a:pt x="745" y="113"/>
                  </a:lnTo>
                  <a:lnTo>
                    <a:pt x="747" y="114"/>
                  </a:lnTo>
                  <a:lnTo>
                    <a:pt x="749" y="135"/>
                  </a:lnTo>
                  <a:lnTo>
                    <a:pt x="750" y="138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6" y="133"/>
                  </a:lnTo>
                  <a:lnTo>
                    <a:pt x="757" y="125"/>
                  </a:lnTo>
                  <a:lnTo>
                    <a:pt x="759" y="136"/>
                  </a:lnTo>
                  <a:lnTo>
                    <a:pt x="761" y="171"/>
                  </a:lnTo>
                  <a:lnTo>
                    <a:pt x="762" y="186"/>
                  </a:lnTo>
                  <a:lnTo>
                    <a:pt x="764" y="213"/>
                  </a:lnTo>
                  <a:lnTo>
                    <a:pt x="766" y="213"/>
                  </a:lnTo>
                  <a:lnTo>
                    <a:pt x="767" y="213"/>
                  </a:lnTo>
                  <a:lnTo>
                    <a:pt x="769" y="223"/>
                  </a:lnTo>
                  <a:lnTo>
                    <a:pt x="771" y="268"/>
                  </a:lnTo>
                  <a:lnTo>
                    <a:pt x="773" y="295"/>
                  </a:lnTo>
                  <a:lnTo>
                    <a:pt x="774" y="292"/>
                  </a:lnTo>
                  <a:lnTo>
                    <a:pt x="776" y="302"/>
                  </a:lnTo>
                  <a:lnTo>
                    <a:pt x="778" y="302"/>
                  </a:lnTo>
                  <a:lnTo>
                    <a:pt x="779" y="302"/>
                  </a:lnTo>
                  <a:lnTo>
                    <a:pt x="781" y="297"/>
                  </a:lnTo>
                  <a:lnTo>
                    <a:pt x="783" y="287"/>
                  </a:lnTo>
                  <a:lnTo>
                    <a:pt x="784" y="292"/>
                  </a:lnTo>
                  <a:lnTo>
                    <a:pt x="786" y="311"/>
                  </a:lnTo>
                  <a:lnTo>
                    <a:pt x="788" y="311"/>
                  </a:lnTo>
                  <a:lnTo>
                    <a:pt x="790" y="311"/>
                  </a:lnTo>
                  <a:lnTo>
                    <a:pt x="791" y="311"/>
                  </a:lnTo>
                  <a:lnTo>
                    <a:pt x="793" y="311"/>
                  </a:lnTo>
                  <a:lnTo>
                    <a:pt x="795" y="350"/>
                  </a:lnTo>
                  <a:lnTo>
                    <a:pt x="796" y="358"/>
                  </a:lnTo>
                  <a:lnTo>
                    <a:pt x="798" y="365"/>
                  </a:lnTo>
                  <a:lnTo>
                    <a:pt x="800" y="372"/>
                  </a:lnTo>
                  <a:lnTo>
                    <a:pt x="801" y="372"/>
                  </a:lnTo>
                  <a:lnTo>
                    <a:pt x="803" y="372"/>
                  </a:lnTo>
                  <a:lnTo>
                    <a:pt x="805" y="380"/>
                  </a:lnTo>
                  <a:lnTo>
                    <a:pt x="807" y="396"/>
                  </a:lnTo>
                  <a:lnTo>
                    <a:pt x="808" y="392"/>
                  </a:lnTo>
                  <a:lnTo>
                    <a:pt x="810" y="376"/>
                  </a:lnTo>
                  <a:lnTo>
                    <a:pt x="812" y="371"/>
                  </a:lnTo>
                  <a:lnTo>
                    <a:pt x="813" y="371"/>
                  </a:lnTo>
                  <a:lnTo>
                    <a:pt x="815" y="371"/>
                  </a:lnTo>
                  <a:lnTo>
                    <a:pt x="817" y="372"/>
                  </a:lnTo>
                  <a:lnTo>
                    <a:pt x="818" y="372"/>
                  </a:lnTo>
                  <a:lnTo>
                    <a:pt x="820" y="381"/>
                  </a:lnTo>
                  <a:lnTo>
                    <a:pt x="822" y="366"/>
                  </a:lnTo>
                  <a:lnTo>
                    <a:pt x="824" y="362"/>
                  </a:lnTo>
                  <a:lnTo>
                    <a:pt x="825" y="362"/>
                  </a:lnTo>
                  <a:lnTo>
                    <a:pt x="827" y="362"/>
                  </a:lnTo>
                  <a:lnTo>
                    <a:pt x="829" y="382"/>
                  </a:lnTo>
                  <a:lnTo>
                    <a:pt x="830" y="393"/>
                  </a:lnTo>
                  <a:lnTo>
                    <a:pt x="832" y="393"/>
                  </a:lnTo>
                  <a:lnTo>
                    <a:pt x="834" y="390"/>
                  </a:lnTo>
                  <a:lnTo>
                    <a:pt x="835" y="378"/>
                  </a:lnTo>
                  <a:lnTo>
                    <a:pt x="837" y="378"/>
                  </a:lnTo>
                  <a:lnTo>
                    <a:pt x="839" y="378"/>
                  </a:lnTo>
                  <a:lnTo>
                    <a:pt x="840" y="369"/>
                  </a:lnTo>
                  <a:lnTo>
                    <a:pt x="842" y="375"/>
                  </a:lnTo>
                  <a:lnTo>
                    <a:pt x="844" y="369"/>
                  </a:lnTo>
                  <a:lnTo>
                    <a:pt x="846" y="377"/>
                  </a:lnTo>
                  <a:lnTo>
                    <a:pt x="847" y="373"/>
                  </a:lnTo>
                  <a:lnTo>
                    <a:pt x="849" y="373"/>
                  </a:lnTo>
                  <a:lnTo>
                    <a:pt x="851" y="373"/>
                  </a:lnTo>
                  <a:lnTo>
                    <a:pt x="852" y="373"/>
                  </a:lnTo>
                  <a:lnTo>
                    <a:pt x="854" y="370"/>
                  </a:lnTo>
                  <a:lnTo>
                    <a:pt x="856" y="376"/>
                  </a:lnTo>
                  <a:lnTo>
                    <a:pt x="857" y="391"/>
                  </a:lnTo>
                  <a:lnTo>
                    <a:pt x="859" y="387"/>
                  </a:lnTo>
                  <a:lnTo>
                    <a:pt x="861" y="387"/>
                  </a:lnTo>
                  <a:lnTo>
                    <a:pt x="863" y="387"/>
                  </a:lnTo>
                  <a:lnTo>
                    <a:pt x="864" y="384"/>
                  </a:lnTo>
                  <a:lnTo>
                    <a:pt x="866" y="374"/>
                  </a:lnTo>
                  <a:lnTo>
                    <a:pt x="868" y="368"/>
                  </a:lnTo>
                  <a:lnTo>
                    <a:pt x="869" y="358"/>
                  </a:lnTo>
                  <a:lnTo>
                    <a:pt x="871" y="338"/>
                  </a:lnTo>
                  <a:lnTo>
                    <a:pt x="873" y="338"/>
                  </a:lnTo>
                  <a:lnTo>
                    <a:pt x="874" y="338"/>
                  </a:lnTo>
                  <a:lnTo>
                    <a:pt x="876" y="343"/>
                  </a:lnTo>
                  <a:lnTo>
                    <a:pt x="878" y="339"/>
                  </a:lnTo>
                  <a:lnTo>
                    <a:pt x="880" y="331"/>
                  </a:lnTo>
                  <a:lnTo>
                    <a:pt x="881" y="325"/>
                  </a:lnTo>
                  <a:lnTo>
                    <a:pt x="883" y="312"/>
                  </a:lnTo>
                  <a:lnTo>
                    <a:pt x="885" y="312"/>
                  </a:lnTo>
                  <a:lnTo>
                    <a:pt x="886" y="312"/>
                  </a:lnTo>
                  <a:lnTo>
                    <a:pt x="888" y="330"/>
                  </a:lnTo>
                  <a:lnTo>
                    <a:pt x="890" y="351"/>
                  </a:lnTo>
                  <a:lnTo>
                    <a:pt x="891" y="348"/>
                  </a:lnTo>
                  <a:lnTo>
                    <a:pt x="893" y="363"/>
                  </a:lnTo>
                  <a:lnTo>
                    <a:pt x="895" y="363"/>
                  </a:lnTo>
                  <a:lnTo>
                    <a:pt x="897" y="363"/>
                  </a:lnTo>
                  <a:lnTo>
                    <a:pt x="898" y="363"/>
                  </a:lnTo>
                  <a:lnTo>
                    <a:pt x="900" y="363"/>
                  </a:lnTo>
                  <a:lnTo>
                    <a:pt x="902" y="362"/>
                  </a:lnTo>
                  <a:lnTo>
                    <a:pt x="903" y="366"/>
                  </a:lnTo>
                  <a:lnTo>
                    <a:pt x="905" y="370"/>
                  </a:lnTo>
                  <a:lnTo>
                    <a:pt x="907" y="375"/>
                  </a:lnTo>
                  <a:lnTo>
                    <a:pt x="908" y="375"/>
                  </a:lnTo>
                  <a:lnTo>
                    <a:pt x="910" y="375"/>
                  </a:lnTo>
                  <a:lnTo>
                    <a:pt x="912" y="373"/>
                  </a:lnTo>
                  <a:lnTo>
                    <a:pt x="914" y="368"/>
                  </a:lnTo>
                  <a:lnTo>
                    <a:pt x="915" y="364"/>
                  </a:lnTo>
                  <a:lnTo>
                    <a:pt x="917" y="367"/>
                  </a:lnTo>
                  <a:lnTo>
                    <a:pt x="919" y="362"/>
                  </a:lnTo>
                  <a:lnTo>
                    <a:pt x="920" y="362"/>
                  </a:lnTo>
                  <a:lnTo>
                    <a:pt x="922" y="362"/>
                  </a:lnTo>
                  <a:lnTo>
                    <a:pt x="924" y="358"/>
                  </a:lnTo>
                  <a:lnTo>
                    <a:pt x="925" y="356"/>
                  </a:lnTo>
                  <a:lnTo>
                    <a:pt x="927" y="325"/>
                  </a:lnTo>
                  <a:lnTo>
                    <a:pt x="929" y="340"/>
                  </a:lnTo>
                  <a:lnTo>
                    <a:pt x="931" y="340"/>
                  </a:lnTo>
                  <a:lnTo>
                    <a:pt x="932" y="340"/>
                  </a:lnTo>
                  <a:lnTo>
                    <a:pt x="934" y="340"/>
                  </a:lnTo>
                  <a:lnTo>
                    <a:pt x="936" y="335"/>
                  </a:lnTo>
                  <a:lnTo>
                    <a:pt x="937" y="306"/>
                  </a:lnTo>
                  <a:lnTo>
                    <a:pt x="939" y="278"/>
                  </a:lnTo>
                  <a:lnTo>
                    <a:pt x="941" y="237"/>
                  </a:lnTo>
                  <a:lnTo>
                    <a:pt x="942" y="251"/>
                  </a:lnTo>
                  <a:lnTo>
                    <a:pt x="944" y="251"/>
                  </a:lnTo>
                  <a:lnTo>
                    <a:pt x="946" y="251"/>
                  </a:lnTo>
                  <a:lnTo>
                    <a:pt x="947" y="235"/>
                  </a:lnTo>
                  <a:lnTo>
                    <a:pt x="949" y="220"/>
                  </a:lnTo>
                  <a:lnTo>
                    <a:pt x="951" y="209"/>
                  </a:lnTo>
                  <a:lnTo>
                    <a:pt x="953" y="181"/>
                  </a:lnTo>
                  <a:lnTo>
                    <a:pt x="954" y="196"/>
                  </a:lnTo>
                  <a:lnTo>
                    <a:pt x="956" y="196"/>
                  </a:lnTo>
                  <a:lnTo>
                    <a:pt x="958" y="196"/>
                  </a:lnTo>
                  <a:lnTo>
                    <a:pt x="959" y="180"/>
                  </a:lnTo>
                  <a:lnTo>
                    <a:pt x="961" y="203"/>
                  </a:lnTo>
                  <a:lnTo>
                    <a:pt x="963" y="204"/>
                  </a:lnTo>
                  <a:lnTo>
                    <a:pt x="964" y="188"/>
                  </a:lnTo>
                  <a:lnTo>
                    <a:pt x="966" y="175"/>
                  </a:lnTo>
                  <a:lnTo>
                    <a:pt x="968" y="175"/>
                  </a:lnTo>
                  <a:lnTo>
                    <a:pt x="970" y="175"/>
                  </a:lnTo>
                  <a:lnTo>
                    <a:pt x="971" y="166"/>
                  </a:lnTo>
                  <a:lnTo>
                    <a:pt x="973" y="144"/>
                  </a:lnTo>
                  <a:lnTo>
                    <a:pt x="975" y="133"/>
                  </a:lnTo>
                  <a:lnTo>
                    <a:pt x="976" y="124"/>
                  </a:lnTo>
                  <a:lnTo>
                    <a:pt x="978" y="76"/>
                  </a:lnTo>
                  <a:lnTo>
                    <a:pt x="980" y="76"/>
                  </a:lnTo>
                  <a:lnTo>
                    <a:pt x="981" y="76"/>
                  </a:lnTo>
                  <a:lnTo>
                    <a:pt x="983" y="0"/>
                  </a:lnTo>
                </a:path>
              </a:pathLst>
            </a:custGeom>
            <a:noFill/>
            <a:ln w="205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91440" y="1662120"/>
              <a:ext cx="3778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4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Intervenciones en el mercado de camb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4960" y="5850000"/>
              <a:ext cx="352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-4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4960" y="5297400"/>
              <a:ext cx="352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-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4960" y="4745160"/>
              <a:ext cx="352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-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4960" y="4192560"/>
              <a:ext cx="352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4120" y="3633840"/>
              <a:ext cx="145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2480" y="3081240"/>
              <a:ext cx="3067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52480" y="2529000"/>
              <a:ext cx="3067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52480" y="1976400"/>
              <a:ext cx="3067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10160" y="6100920"/>
              <a:ext cx="524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ne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43400" y="6100920"/>
              <a:ext cx="553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ar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45400" y="6100920"/>
              <a:ext cx="500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Jun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08520" y="610092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Sep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74880" y="6100920"/>
              <a:ext cx="529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Dec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53120" y="610092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eb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13720" y="6100920"/>
              <a:ext cx="553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ar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08880" y="610092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br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90360" y="6100920"/>
              <a:ext cx="500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Jun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48440" y="6100920"/>
              <a:ext cx="5428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go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9680" y="1731960"/>
              <a:ext cx="79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12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Billones US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35040" y="5850000"/>
              <a:ext cx="346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35040" y="5297400"/>
              <a:ext cx="346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.0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35040" y="4745160"/>
              <a:ext cx="346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.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35040" y="4192560"/>
              <a:ext cx="346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.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35040" y="3633840"/>
              <a:ext cx="346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.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35040" y="3081240"/>
              <a:ext cx="346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.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35040" y="2529000"/>
              <a:ext cx="346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.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35040" y="1976400"/>
              <a:ext cx="346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.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59440" y="1731960"/>
              <a:ext cx="41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12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$/US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27320" y="5143680"/>
              <a:ext cx="171360" cy="9036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28200" y="5092560"/>
              <a:ext cx="1693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Operaciones BCRA spo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27320" y="5477040"/>
              <a:ext cx="179280" cy="0"/>
            </a:xfrm>
            <a:prstGeom prst="line">
              <a:avLst/>
            </a:prstGeom>
            <a:ln w="20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26760" y="5388120"/>
              <a:ext cx="11188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Tipo de camb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86960" y="6364440"/>
              <a:ext cx="856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12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uente: BC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22E2-3AC9-4D2A-9214-C6847B49EC04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stema financiero con alta liquidez, con mínimo descalce de monedas, y reducida exposición al Sect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228600" y="2112840"/>
            <a:ext cx="8534520" cy="344988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921960" y="1712880"/>
            <a:ext cx="6916680" cy="4989600"/>
            <a:chOff x="921960" y="1712880"/>
            <a:chExt cx="6916680" cy="4989600"/>
          </a:xfrm>
        </p:grpSpPr>
        <p:grpSp>
          <p:nvGrpSpPr>
            <p:cNvPr id="703" name=""/>
            <p:cNvGrpSpPr/>
            <p:nvPr/>
          </p:nvGrpSpPr>
          <p:grpSpPr>
            <a:xfrm>
              <a:off x="1200240" y="2278080"/>
              <a:ext cx="6538680" cy="3813120"/>
              <a:chOff x="1200240" y="2278080"/>
              <a:chExt cx="6538680" cy="3813120"/>
            </a:xfrm>
          </p:grpSpPr>
          <p:sp>
            <p:nvSpPr>
              <p:cNvPr id="704" name=""/>
              <p:cNvSpPr/>
              <p:nvPr/>
            </p:nvSpPr>
            <p:spPr>
              <a:xfrm>
                <a:off x="1220760" y="2278080"/>
                <a:ext cx="0" cy="38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220760" y="6091200"/>
                <a:ext cx="4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220760" y="5513400"/>
                <a:ext cx="4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220760" y="4935600"/>
                <a:ext cx="4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220760" y="4359240"/>
                <a:ext cx="4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20760" y="3780000"/>
                <a:ext cx="4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760" y="3201840"/>
                <a:ext cx="4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220760" y="2624040"/>
                <a:ext cx="4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220760" y="6091200"/>
                <a:ext cx="6518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1220760" y="6043680"/>
                <a:ext cx="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2414520" y="6043680"/>
                <a:ext cx="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639960" y="6043680"/>
                <a:ext cx="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853160" y="6043680"/>
                <a:ext cx="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6058080" y="6043680"/>
                <a:ext cx="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281720" y="6043680"/>
                <a:ext cx="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00240" y="54561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220760" y="5456160"/>
                <a:ext cx="144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1220760" y="5423040"/>
                <a:ext cx="9720" cy="33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1230480" y="5403600"/>
                <a:ext cx="1080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1241280" y="5400360"/>
                <a:ext cx="972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251000" y="5400720"/>
                <a:ext cx="93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260360" y="5423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271520" y="54230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1281240" y="5408640"/>
                <a:ext cx="936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1290600" y="5369040"/>
                <a:ext cx="11160" cy="39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1301760" y="5351040"/>
                <a:ext cx="9360" cy="17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1311120" y="5318280"/>
                <a:ext cx="9720" cy="33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1320840" y="5314680"/>
                <a:ext cx="936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330200" y="53150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39920" y="5315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1351080" y="5292720"/>
                <a:ext cx="93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1360440" y="5263920"/>
                <a:ext cx="972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370160" y="5264280"/>
                <a:ext cx="9360" cy="120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79520" y="5384880"/>
                <a:ext cx="111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390680" y="54039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400040" y="54039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409760" y="54039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1420920" y="5319720"/>
                <a:ext cx="9360" cy="84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1430280" y="5292360"/>
                <a:ext cx="972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440000" y="5292720"/>
                <a:ext cx="1080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450800" y="5308200"/>
                <a:ext cx="972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60520" y="5308560"/>
                <a:ext cx="93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69880" y="531648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81040" y="53164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1490760" y="5300640"/>
                <a:ext cx="93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500120" y="5300640"/>
                <a:ext cx="972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509840" y="5311800"/>
                <a:ext cx="936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19200" y="5326200"/>
                <a:ext cx="9720" cy="14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8920" y="5340240"/>
                <a:ext cx="10800" cy="47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39720" y="53881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49440" y="53881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1558800" y="5289480"/>
                <a:ext cx="9720" cy="98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1568520" y="5288040"/>
                <a:ext cx="111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79680" y="5288040"/>
                <a:ext cx="9360" cy="114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1589040" y="5386320"/>
                <a:ext cx="972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98760" y="538632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09560" y="53863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619280" y="53863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1628640" y="5354640"/>
                <a:ext cx="1116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1639800" y="5315040"/>
                <a:ext cx="9720" cy="39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649520" y="5315040"/>
                <a:ext cx="936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1658880" y="5327640"/>
                <a:ext cx="972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1668600" y="5324040"/>
                <a:ext cx="1080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679400" y="53244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689120" y="53244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1698480" y="5304960"/>
                <a:ext cx="972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1708200" y="5290920"/>
                <a:ext cx="9360" cy="14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17560" y="5291280"/>
                <a:ext cx="11160" cy="56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28720" y="5348160"/>
                <a:ext cx="9720" cy="5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1738440" y="5346720"/>
                <a:ext cx="93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47800" y="534672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58960" y="53467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1768320" y="5336640"/>
                <a:ext cx="9720" cy="9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1778040" y="5327640"/>
                <a:ext cx="1116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89200" y="5327640"/>
                <a:ext cx="9360" cy="44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98560" y="5372280"/>
                <a:ext cx="972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808280" y="5376960"/>
                <a:ext cx="11160" cy="96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819440" y="54738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828800" y="54738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838160" y="54738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847880" y="5473800"/>
                <a:ext cx="93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857240" y="5484960"/>
                <a:ext cx="972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866960" y="5513400"/>
                <a:ext cx="111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1878120" y="5513040"/>
                <a:ext cx="93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887480" y="55134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897200" y="551340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1908000" y="5484600"/>
                <a:ext cx="972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1917720" y="5438880"/>
                <a:ext cx="9360" cy="46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27080" y="5438880"/>
                <a:ext cx="111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1938240" y="5417640"/>
                <a:ext cx="9720" cy="39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1947960" y="5402160"/>
                <a:ext cx="93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957320" y="54021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968480" y="54021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1978200" y="5351040"/>
                <a:ext cx="9360" cy="50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1987560" y="5329080"/>
                <a:ext cx="93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96920" y="5329080"/>
                <a:ext cx="11160" cy="73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2008080" y="5392800"/>
                <a:ext cx="972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017800" y="5392800"/>
                <a:ext cx="936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027160" y="53960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036880" y="5396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046240" y="5363640"/>
                <a:ext cx="11160" cy="32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2057400" y="5330880"/>
                <a:ext cx="9360" cy="33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066760" y="5330880"/>
                <a:ext cx="972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2076480" y="5354640"/>
                <a:ext cx="111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87640" y="5354640"/>
                <a:ext cx="93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097000" y="53672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106720" y="53672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117880" y="53672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127240" y="5367240"/>
                <a:ext cx="9360" cy="12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136600" y="5380200"/>
                <a:ext cx="11160" cy="55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147760" y="54356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157480" y="54356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166840" y="54356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176560" y="54356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2185920" y="5417640"/>
                <a:ext cx="9720" cy="17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2195640" y="5398560"/>
                <a:ext cx="93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2205000" y="5367240"/>
                <a:ext cx="1116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2216160" y="5322600"/>
                <a:ext cx="9360" cy="44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225520" y="5322960"/>
                <a:ext cx="972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35240" y="533088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46400" y="53308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2255760" y="5270400"/>
                <a:ext cx="9720" cy="60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2265480" y="5246640"/>
                <a:ext cx="1116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76640" y="5246640"/>
                <a:ext cx="93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2286000" y="5249880"/>
                <a:ext cx="936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95360" y="5249880"/>
                <a:ext cx="111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306520" y="52624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16240" y="52624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325600" y="5230800"/>
                <a:ext cx="972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2335320" y="5194080"/>
                <a:ext cx="11160" cy="36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346480" y="5194440"/>
                <a:ext cx="9360" cy="33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55840" y="5227560"/>
                <a:ext cx="93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2365200" y="5229360"/>
                <a:ext cx="972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374920" y="52293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384280" y="52293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395440" y="5229360"/>
                <a:ext cx="972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405160" y="5234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414520" y="5234040"/>
                <a:ext cx="11160" cy="39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425680" y="5273640"/>
                <a:ext cx="972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435400" y="5305320"/>
                <a:ext cx="93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444760" y="53211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455920" y="53211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465280" y="5321160"/>
                <a:ext cx="972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2475000" y="5285880"/>
                <a:ext cx="11160" cy="41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486160" y="5286240"/>
                <a:ext cx="9360" cy="36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2495520" y="5307120"/>
                <a:ext cx="972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2505240" y="5300640"/>
                <a:ext cx="93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514600" y="53006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523960" y="53006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2533680" y="5265360"/>
                <a:ext cx="11160" cy="34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2544840" y="5234040"/>
                <a:ext cx="936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554200" y="5234040"/>
                <a:ext cx="9720" cy="61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563920" y="52959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2575080" y="5288040"/>
                <a:ext cx="93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584440" y="5288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593800" y="5288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2604960" y="5275080"/>
                <a:ext cx="972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2614680" y="5209920"/>
                <a:ext cx="9360" cy="65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624040" y="5210280"/>
                <a:ext cx="11160" cy="236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2635200" y="5312880"/>
                <a:ext cx="9720" cy="133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644920" y="53132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654280" y="53132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664000" y="531324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674800" y="5313240"/>
                <a:ext cx="9720" cy="47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2684520" y="5297040"/>
                <a:ext cx="9360" cy="63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93880" y="5297400"/>
                <a:ext cx="9720" cy="57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703600" y="5354640"/>
                <a:ext cx="93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712960" y="5373720"/>
                <a:ext cx="111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24120" y="53848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733840" y="53848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43200" y="5384880"/>
                <a:ext cx="11160" cy="69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2754360" y="5423040"/>
                <a:ext cx="936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3720" y="5423040"/>
                <a:ext cx="9720" cy="74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73440" y="5497560"/>
                <a:ext cx="111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4600" y="5513400"/>
                <a:ext cx="936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3960" y="55166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03680" y="551664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2814480" y="5472000"/>
                <a:ext cx="9720" cy="44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24200" y="5472000"/>
                <a:ext cx="936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33560" y="5497560"/>
                <a:ext cx="972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2843280" y="5508720"/>
                <a:ext cx="9360" cy="17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2852640" y="5474880"/>
                <a:ext cx="9720" cy="33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862360" y="54752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873520" y="54752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2880" y="54752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2892600" y="5416200"/>
                <a:ext cx="9360" cy="58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2901960" y="5382720"/>
                <a:ext cx="11160" cy="33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13120" y="5383080"/>
                <a:ext cx="9360" cy="20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22480" y="5403960"/>
                <a:ext cx="972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2200" y="54165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3360" y="54165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952720" y="5390640"/>
                <a:ext cx="972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62440" y="5391000"/>
                <a:ext cx="1080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73240" y="5398920"/>
                <a:ext cx="972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982960" y="5381280"/>
                <a:ext cx="9360" cy="36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92320" y="5381640"/>
                <a:ext cx="11160" cy="17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003480" y="53989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13200" y="53989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2560" y="5398920"/>
                <a:ext cx="9720" cy="16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2280" y="5415120"/>
                <a:ext cx="936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3041640" y="5086440"/>
              <a:ext cx="1990800" cy="517320"/>
              <a:chOff x="3041640" y="5086440"/>
              <a:chExt cx="1990800" cy="517320"/>
            </a:xfrm>
          </p:grpSpPr>
          <p:sp>
            <p:nvSpPr>
              <p:cNvPr id="905" name=""/>
              <p:cNvSpPr/>
              <p:nvPr/>
            </p:nvSpPr>
            <p:spPr>
              <a:xfrm>
                <a:off x="3041640" y="5442120"/>
                <a:ext cx="9360" cy="69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051000" y="5511960"/>
                <a:ext cx="1116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062160" y="5538960"/>
                <a:ext cx="972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71880" y="55818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081240" y="558180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092400" y="55818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102120" y="55818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3111480" y="5504040"/>
                <a:ext cx="11160" cy="77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122640" y="5484600"/>
                <a:ext cx="93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3132000" y="5478480"/>
                <a:ext cx="972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141720" y="547848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152880" y="54784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3162240" y="5435280"/>
                <a:ext cx="972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3171960" y="5432040"/>
                <a:ext cx="936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181320" y="5432400"/>
                <a:ext cx="972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191040" y="5435640"/>
                <a:ext cx="10800" cy="25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1840" y="5435640"/>
                <a:ext cx="972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211560" y="54388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220920" y="54388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3230640" y="5428800"/>
                <a:ext cx="11160" cy="9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3241800" y="5397480"/>
                <a:ext cx="936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3251160" y="5392440"/>
                <a:ext cx="972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60880" y="5392800"/>
                <a:ext cx="1080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3271680" y="5389560"/>
                <a:ext cx="972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81400" y="53895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290760" y="53895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01920" y="5389560"/>
                <a:ext cx="972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3311640" y="5391000"/>
                <a:ext cx="9360" cy="5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21000" y="5391000"/>
                <a:ext cx="972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3330720" y="5411520"/>
                <a:ext cx="1080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341520" y="5411880"/>
                <a:ext cx="9720" cy="52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51240" y="54640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360600" y="54640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370320" y="5464080"/>
                <a:ext cx="9360" cy="38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379680" y="5502240"/>
                <a:ext cx="1116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390840" y="5486040"/>
                <a:ext cx="972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3400560" y="5484960"/>
                <a:ext cx="93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3409920" y="5477040"/>
                <a:ext cx="111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421080" y="5477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430440" y="54770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3440160" y="5460480"/>
                <a:ext cx="11160" cy="16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3451320" y="5457960"/>
                <a:ext cx="9360" cy="2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460680" y="5457960"/>
                <a:ext cx="972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470400" y="5467320"/>
                <a:ext cx="1116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481560" y="5497560"/>
                <a:ext cx="936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490920" y="55022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500280" y="55022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510000" y="55022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3519360" y="5460480"/>
                <a:ext cx="9720" cy="41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3529080" y="5450040"/>
                <a:ext cx="11160" cy="10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40240" y="5450040"/>
                <a:ext cx="93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549600" y="5451480"/>
                <a:ext cx="9720" cy="63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559320" y="55148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568680" y="55148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579840" y="5514840"/>
                <a:ext cx="936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3589200" y="5500440"/>
                <a:ext cx="972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3598920" y="5492880"/>
                <a:ext cx="111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3610080" y="5484960"/>
                <a:ext cx="93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3619440" y="5479920"/>
                <a:ext cx="9720" cy="5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629160" y="547992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639960" y="54799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649680" y="54799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3659040" y="5473440"/>
                <a:ext cx="11160" cy="6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3670200" y="5470200"/>
                <a:ext cx="972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679920" y="5470560"/>
                <a:ext cx="93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9280" y="5477040"/>
                <a:ext cx="9720" cy="82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699000" y="55594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08360" y="55594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3718080" y="5540040"/>
                <a:ext cx="1080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3728880" y="5510160"/>
                <a:ext cx="972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738600" y="5456160"/>
                <a:ext cx="9360" cy="54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3747960" y="5427360"/>
                <a:ext cx="1116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3759120" y="5425560"/>
                <a:ext cx="972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768840" y="54259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778200" y="542592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3789360" y="5395680"/>
                <a:ext cx="9360" cy="29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798720" y="5372280"/>
                <a:ext cx="972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3808440" y="5357880"/>
                <a:ext cx="1116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19600" y="5357880"/>
                <a:ext cx="93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828960" y="5370480"/>
                <a:ext cx="972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838680" y="53848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848040" y="53848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3857760" y="5381280"/>
                <a:ext cx="1080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3868560" y="5365800"/>
                <a:ext cx="972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878280" y="5365800"/>
                <a:ext cx="93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887640" y="5384880"/>
                <a:ext cx="972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897360" y="5413320"/>
                <a:ext cx="11160" cy="38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08520" y="54514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917880" y="54514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927600" y="5451480"/>
                <a:ext cx="11160" cy="17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938760" y="5468760"/>
                <a:ext cx="93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948120" y="5487840"/>
                <a:ext cx="936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57480" y="5513400"/>
                <a:ext cx="11160" cy="50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968640" y="5564160"/>
                <a:ext cx="972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978360" y="55879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987720" y="558792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998880" y="55879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4008600" y="5565600"/>
                <a:ext cx="93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4017960" y="5528880"/>
                <a:ext cx="9360" cy="36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027320" y="5529240"/>
                <a:ext cx="9720" cy="9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037040" y="5538960"/>
                <a:ext cx="9360" cy="10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046400" y="55497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057560" y="55497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067280" y="55497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4076640" y="5516640"/>
                <a:ext cx="11160" cy="33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4087800" y="5464080"/>
                <a:ext cx="9360" cy="52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4097160" y="5452560"/>
                <a:ext cx="972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106880" y="5452920"/>
                <a:ext cx="111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118040" y="54752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127400" y="54752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4137120" y="5451480"/>
                <a:ext cx="1116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4148280" y="5442120"/>
                <a:ext cx="936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157640" y="5442120"/>
                <a:ext cx="9720" cy="37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167360" y="5479920"/>
                <a:ext cx="93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76720" y="5495760"/>
                <a:ext cx="936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186080" y="552600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197240" y="55260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06960" y="5526000"/>
                <a:ext cx="936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216320" y="5529240"/>
                <a:ext cx="972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226040" y="5532480"/>
                <a:ext cx="9360" cy="38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35400" y="5570640"/>
                <a:ext cx="11160" cy="33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246560" y="5592240"/>
                <a:ext cx="93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255920" y="55926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265640" y="559260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4276800" y="5591160"/>
                <a:ext cx="93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286160" y="55911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4295880" y="5547960"/>
                <a:ext cx="1116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4307040" y="5522400"/>
                <a:ext cx="936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316400" y="5522760"/>
                <a:ext cx="9360" cy="55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325760" y="55785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336920" y="55785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4346640" y="5552640"/>
                <a:ext cx="936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4356000" y="5527800"/>
                <a:ext cx="9720" cy="25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4365720" y="5463720"/>
                <a:ext cx="9360" cy="63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4375080" y="5408640"/>
                <a:ext cx="9720" cy="55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384800" y="5408640"/>
                <a:ext cx="11160" cy="85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395960" y="54943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405320" y="54943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414680" y="5494320"/>
                <a:ext cx="1116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425840" y="5470560"/>
                <a:ext cx="9720" cy="38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4435560" y="5454720"/>
                <a:ext cx="93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4444920" y="5376960"/>
                <a:ext cx="11160" cy="77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456080" y="5376960"/>
                <a:ext cx="972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465800" y="53881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475160" y="538812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4486320" y="5362200"/>
                <a:ext cx="936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4495680" y="5354640"/>
                <a:ext cx="972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505400" y="5354640"/>
                <a:ext cx="936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514760" y="5357880"/>
                <a:ext cx="972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524480" y="5389560"/>
                <a:ext cx="111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35640" y="53974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45000" y="53974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54360" y="5397480"/>
                <a:ext cx="972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564080" y="5388120"/>
                <a:ext cx="11160" cy="17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75240" y="5388120"/>
                <a:ext cx="9360" cy="2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5391000"/>
                <a:ext cx="9720" cy="5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4594320" y="5388120"/>
                <a:ext cx="111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605480" y="53881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14840" y="53881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4624560" y="5352840"/>
                <a:ext cx="10800" cy="34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4635360" y="5343120"/>
                <a:ext cx="9720" cy="9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4645080" y="5268600"/>
                <a:ext cx="9360" cy="74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4654440" y="5262480"/>
                <a:ext cx="111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4665600" y="5245200"/>
                <a:ext cx="9720" cy="17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675320" y="52452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684680" y="52452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4694400" y="5237280"/>
                <a:ext cx="93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703760" y="52372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4713120" y="5173200"/>
                <a:ext cx="11160" cy="63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724280" y="5173560"/>
                <a:ext cx="9720" cy="33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734000" y="5207040"/>
                <a:ext cx="9360" cy="115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743360" y="53229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754520" y="53229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764240" y="53229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773600" y="53229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784760" y="5322960"/>
                <a:ext cx="9360" cy="25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794120" y="5348160"/>
                <a:ext cx="972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03840" y="5362560"/>
                <a:ext cx="9360" cy="34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813200" y="539748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824360" y="53974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4834080" y="5378040"/>
                <a:ext cx="93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43440" y="53784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4853160" y="5317920"/>
                <a:ext cx="10800" cy="60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4863960" y="5298840"/>
                <a:ext cx="972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873680" y="5299200"/>
                <a:ext cx="93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83040" y="53118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892760" y="53118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4902120" y="5289480"/>
                <a:ext cx="111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4913280" y="5268600"/>
                <a:ext cx="9720" cy="20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4923000" y="5257440"/>
                <a:ext cx="93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4932360" y="5197320"/>
                <a:ext cx="11160" cy="60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43520" y="5175000"/>
                <a:ext cx="9360" cy="21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52880" y="51753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62600" y="51753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4973760" y="5116320"/>
                <a:ext cx="9360" cy="58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4983120" y="5086440"/>
                <a:ext cx="972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992840" y="5086440"/>
                <a:ext cx="10800" cy="33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003640" y="5119560"/>
                <a:ext cx="972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013360" y="5121360"/>
                <a:ext cx="93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022720" y="51325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5032440" y="4957560"/>
              <a:ext cx="1990800" cy="492480"/>
              <a:chOff x="5032440" y="4957560"/>
              <a:chExt cx="1990800" cy="492480"/>
            </a:xfrm>
          </p:grpSpPr>
          <p:sp>
            <p:nvSpPr>
              <p:cNvPr id="1106" name=""/>
              <p:cNvSpPr/>
              <p:nvPr/>
            </p:nvSpPr>
            <p:spPr>
              <a:xfrm>
                <a:off x="5032440" y="51325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5041800" y="5094360"/>
                <a:ext cx="9720" cy="38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5051520" y="5064120"/>
                <a:ext cx="1116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062680" y="5064120"/>
                <a:ext cx="93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072040" y="5079960"/>
                <a:ext cx="972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5081760" y="5059440"/>
                <a:ext cx="1080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92560" y="50594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102280" y="50594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5111640" y="5038560"/>
                <a:ext cx="11160" cy="20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5122800" y="5001840"/>
                <a:ext cx="9720" cy="36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132520" y="5002200"/>
                <a:ext cx="9360" cy="20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141880" y="5022720"/>
                <a:ext cx="111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53040" y="5029200"/>
                <a:ext cx="93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62400" y="50515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2120" y="50515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81480" y="5051520"/>
                <a:ext cx="111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92640" y="5070600"/>
                <a:ext cx="9720" cy="2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202360" y="5073480"/>
                <a:ext cx="9360" cy="39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211720" y="5113440"/>
                <a:ext cx="972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221440" y="5116680"/>
                <a:ext cx="9360" cy="2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230800" y="51195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241960" y="51195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5251320" y="5106600"/>
                <a:ext cx="972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5261040" y="5083200"/>
                <a:ext cx="1116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272200" y="5083200"/>
                <a:ext cx="9360" cy="52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281560" y="5135400"/>
                <a:ext cx="9720" cy="17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5291280" y="5135040"/>
                <a:ext cx="10800" cy="17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302080" y="51354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311800" y="51354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321160" y="5135400"/>
                <a:ext cx="11160" cy="5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5332320" y="5113080"/>
                <a:ext cx="972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342040" y="5113440"/>
                <a:ext cx="9360" cy="3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5351400" y="5102280"/>
                <a:ext cx="972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361120" y="5102280"/>
                <a:ext cx="9360" cy="20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370480" y="51228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80200" y="512280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5391000" y="5084640"/>
                <a:ext cx="9720" cy="38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5400720" y="5041440"/>
                <a:ext cx="936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410080" y="5041800"/>
                <a:ext cx="1116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421240" y="5068800"/>
                <a:ext cx="972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430960" y="5087880"/>
                <a:ext cx="936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40320" y="510228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451480" y="51022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60840" y="5102280"/>
                <a:ext cx="972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70560" y="5126040"/>
                <a:ext cx="936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479920" y="5149800"/>
                <a:ext cx="1116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491080" y="5175360"/>
                <a:ext cx="9720" cy="41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500800" y="5216400"/>
                <a:ext cx="936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510160" y="52182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519880" y="521820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5530680" y="5187960"/>
                <a:ext cx="972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5540400" y="5175000"/>
                <a:ext cx="93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549760" y="5175360"/>
                <a:ext cx="9720" cy="6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559480" y="51814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5568840" y="5162040"/>
                <a:ext cx="111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580000" y="51624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589720" y="51624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5599080" y="5109840"/>
                <a:ext cx="11160" cy="52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5610240" y="5092200"/>
                <a:ext cx="9360" cy="17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619600" y="5092560"/>
                <a:ext cx="972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629320" y="5099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640480" y="5099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649840" y="50990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659560" y="5099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670720" y="5099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5680080" y="5033520"/>
                <a:ext cx="9360" cy="65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5689440" y="5006520"/>
                <a:ext cx="972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699160" y="5006880"/>
                <a:ext cx="9360" cy="34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708520" y="5041800"/>
                <a:ext cx="9720" cy="61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718240" y="510372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729400" y="51037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738760" y="5103720"/>
                <a:ext cx="972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48480" y="5110200"/>
                <a:ext cx="1080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59280" y="51325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69000" y="5132520"/>
                <a:ext cx="9360" cy="14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778360" y="5146560"/>
                <a:ext cx="11160" cy="68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789520" y="52149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99240" y="52149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08600" y="5214960"/>
                <a:ext cx="11160" cy="252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19760" y="52401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5829480" y="5221440"/>
                <a:ext cx="9360" cy="18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38840" y="5221440"/>
                <a:ext cx="93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48200" y="523728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59360" y="52372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69080" y="52372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78440" y="5237280"/>
                <a:ext cx="9720" cy="2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5888160" y="5203440"/>
                <a:ext cx="9360" cy="36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V="1">
                <a:off x="5897520" y="5197320"/>
                <a:ext cx="111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5908680" y="5180040"/>
                <a:ext cx="9360" cy="17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918040" y="5180040"/>
                <a:ext cx="972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27760" y="519588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938920" y="51958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5948280" y="5152680"/>
                <a:ext cx="972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5958000" y="5141520"/>
                <a:ext cx="111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5969160" y="5132520"/>
                <a:ext cx="936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978520" y="5132520"/>
                <a:ext cx="936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987880" y="5148360"/>
                <a:ext cx="11160" cy="74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999040" y="52228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008760" y="52228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018120" y="5222880"/>
                <a:ext cx="972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6027840" y="5227200"/>
                <a:ext cx="9360" cy="9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37200" y="5227560"/>
                <a:ext cx="9720" cy="15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046920" y="524340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058080" y="5243400"/>
                <a:ext cx="9360" cy="17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067440" y="5261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076800" y="5261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087960" y="5261040"/>
                <a:ext cx="972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097680" y="5284800"/>
                <a:ext cx="93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6107040" y="5259240"/>
                <a:ext cx="9720" cy="36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16760" y="5259240"/>
                <a:ext cx="11160" cy="12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27920" y="5272200"/>
                <a:ext cx="936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137280" y="52959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146640" y="529596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157800" y="5295960"/>
                <a:ext cx="972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167520" y="5297400"/>
                <a:ext cx="936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6176880" y="5326200"/>
                <a:ext cx="111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6188040" y="5311800"/>
                <a:ext cx="9720" cy="14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197760" y="5311800"/>
                <a:ext cx="93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207120" y="53244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16480" y="53244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6226200" y="5304960"/>
                <a:ext cx="93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235560" y="5305320"/>
                <a:ext cx="11160" cy="87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6246720" y="5289120"/>
                <a:ext cx="9720" cy="103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256440" y="5289480"/>
                <a:ext cx="93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265800" y="5295960"/>
                <a:ext cx="1116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276960" y="53244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286680" y="532440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296040" y="5310000"/>
                <a:ext cx="11160" cy="14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307200" y="5310360"/>
                <a:ext cx="9360" cy="21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316560" y="5332320"/>
                <a:ext cx="9720" cy="28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326280" y="5361120"/>
                <a:ext cx="111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337440" y="5362560"/>
                <a:ext cx="936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346800" y="53751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356520" y="53751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365880" y="5375160"/>
                <a:ext cx="9360" cy="39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6375240" y="5390640"/>
                <a:ext cx="11160" cy="24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6386400" y="5376600"/>
                <a:ext cx="9720" cy="14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396120" y="5376960"/>
                <a:ext cx="9360" cy="61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405480" y="5438880"/>
                <a:ext cx="972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415200" y="5450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426360" y="5450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V="1">
                <a:off x="6435720" y="5447880"/>
                <a:ext cx="936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6445080" y="5405040"/>
                <a:ext cx="1116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6456240" y="5343480"/>
                <a:ext cx="9720" cy="61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6465960" y="5322600"/>
                <a:ext cx="9360" cy="20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475320" y="5322960"/>
                <a:ext cx="1116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486480" y="53276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496200" y="53276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05560" y="53276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6515280" y="5295960"/>
                <a:ext cx="1080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6526080" y="5252760"/>
                <a:ext cx="972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35800" y="5253120"/>
                <a:ext cx="936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6545160" y="5194080"/>
                <a:ext cx="9720" cy="68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554880" y="51944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64240" y="51944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6575400" y="5154120"/>
                <a:ext cx="9720" cy="39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6585120" y="5127120"/>
                <a:ext cx="936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6594480" y="5084280"/>
                <a:ext cx="11160" cy="42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6605640" y="5076720"/>
                <a:ext cx="93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615000" y="5076720"/>
                <a:ext cx="9720" cy="41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624720" y="511812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635880" y="51181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645240" y="5118120"/>
                <a:ext cx="9720" cy="44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654960" y="5162400"/>
                <a:ext cx="10800" cy="12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65760" y="5175360"/>
                <a:ext cx="972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675480" y="5180040"/>
                <a:ext cx="9360" cy="38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684840" y="5218200"/>
                <a:ext cx="9720" cy="46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694560" y="52642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703920" y="52642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6713640" y="5251320"/>
                <a:ext cx="11160" cy="12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24800" y="5251320"/>
                <a:ext cx="93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734160" y="52578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6743880" y="5238360"/>
                <a:ext cx="1080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754680" y="5233680"/>
                <a:ext cx="972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764400" y="5234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773760" y="52340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6783480" y="5214600"/>
                <a:ext cx="1116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6794640" y="5173200"/>
                <a:ext cx="9360" cy="414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6804000" y="5098680"/>
                <a:ext cx="9720" cy="74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813720" y="5089680"/>
                <a:ext cx="1080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6824520" y="5019840"/>
                <a:ext cx="9720" cy="698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834240" y="50198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843600" y="50198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6854760" y="4995360"/>
                <a:ext cx="9720" cy="24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V="1">
                <a:off x="6864480" y="4957560"/>
                <a:ext cx="9360" cy="37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873840" y="4957920"/>
                <a:ext cx="9720" cy="12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6883560" y="4964040"/>
                <a:ext cx="93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92920" y="49640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902280" y="4964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913440" y="49640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23160" y="4964040"/>
                <a:ext cx="93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932520" y="4968360"/>
                <a:ext cx="1116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6943680" y="4960800"/>
                <a:ext cx="972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953400" y="4960800"/>
                <a:ext cx="9360" cy="12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962760" y="4973760"/>
                <a:ext cx="11160" cy="50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973920" y="50245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983280" y="50245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993000" y="5024520"/>
                <a:ext cx="11160" cy="34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7004160" y="5051520"/>
                <a:ext cx="93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013520" y="5051520"/>
                <a:ext cx="9720" cy="302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1200240" y="2657520"/>
              <a:ext cx="6538680" cy="2557440"/>
              <a:chOff x="1200240" y="2657520"/>
              <a:chExt cx="6538680" cy="2557440"/>
            </a:xfrm>
          </p:grpSpPr>
          <p:sp>
            <p:nvSpPr>
              <p:cNvPr id="1307" name=""/>
              <p:cNvSpPr/>
              <p:nvPr/>
            </p:nvSpPr>
            <p:spPr>
              <a:xfrm>
                <a:off x="7023240" y="5081760"/>
                <a:ext cx="9360" cy="20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032600" y="5102280"/>
                <a:ext cx="972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042320" y="512460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053120" y="512460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7062840" y="5102280"/>
                <a:ext cx="93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7072200" y="5078520"/>
                <a:ext cx="972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081920" y="5078520"/>
                <a:ext cx="1116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093080" y="5083200"/>
                <a:ext cx="93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V="1">
                <a:off x="7102440" y="5081760"/>
                <a:ext cx="972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112160" y="5081760"/>
                <a:ext cx="1080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122960" y="50817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132680" y="50817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7142040" y="5030640"/>
                <a:ext cx="11160" cy="51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153200" y="5013360"/>
                <a:ext cx="9720" cy="172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7162920" y="5001840"/>
                <a:ext cx="9360" cy="11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7172280" y="4992840"/>
                <a:ext cx="1116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183440" y="499284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192800" y="49928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7202520" y="4965480"/>
                <a:ext cx="936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211880" y="4965840"/>
                <a:ext cx="9720" cy="14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7221600" y="4970520"/>
                <a:ext cx="936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230960" y="497052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242120" y="4970520"/>
                <a:ext cx="972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251840" y="49975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261200" y="499752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272360" y="4997520"/>
                <a:ext cx="9360" cy="31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281720" y="5029200"/>
                <a:ext cx="972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291440" y="5030640"/>
                <a:ext cx="11160" cy="47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302600" y="5078520"/>
                <a:ext cx="9360" cy="381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311960" y="5116680"/>
                <a:ext cx="9720" cy="27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321680" y="514368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332840" y="51436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7342200" y="5122800"/>
                <a:ext cx="9360" cy="208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7351560" y="5068800"/>
                <a:ext cx="9720" cy="540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7361280" y="5045040"/>
                <a:ext cx="936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370640" y="5045040"/>
                <a:ext cx="1116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381800" y="5067360"/>
                <a:ext cx="972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391520" y="507528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400880" y="507528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7410600" y="5051520"/>
                <a:ext cx="9360" cy="237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7419960" y="5045040"/>
                <a:ext cx="111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7431120" y="5024160"/>
                <a:ext cx="9360" cy="20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40480" y="5024520"/>
                <a:ext cx="9720" cy="4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450200" y="5029200"/>
                <a:ext cx="11160" cy="255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461360" y="505476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470720" y="505476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7480440" y="5035320"/>
                <a:ext cx="10800" cy="190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7491240" y="5013360"/>
                <a:ext cx="9720" cy="22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7500960" y="4995360"/>
                <a:ext cx="9360" cy="176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510320" y="4995720"/>
                <a:ext cx="11160" cy="6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521480" y="5002200"/>
                <a:ext cx="972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531200" y="50101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540560" y="50101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7550280" y="4960440"/>
                <a:ext cx="9360" cy="493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559640" y="4960800"/>
                <a:ext cx="9720" cy="97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569360" y="4970520"/>
                <a:ext cx="1080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580160" y="4998960"/>
                <a:ext cx="9720" cy="396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589880" y="5038560"/>
                <a:ext cx="9360" cy="874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599240" y="5126040"/>
                <a:ext cx="111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610400" y="512604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620120" y="5126040"/>
                <a:ext cx="9360" cy="36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7629480" y="5155920"/>
                <a:ext cx="11160" cy="61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640640" y="5156280"/>
                <a:ext cx="9360" cy="5868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7650000" y="5186160"/>
                <a:ext cx="9720" cy="28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659720" y="5186520"/>
                <a:ext cx="11160" cy="10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670880" y="51973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680240" y="5197320"/>
                <a:ext cx="972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689960" y="5197320"/>
                <a:ext cx="9360" cy="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7699320" y="5156280"/>
                <a:ext cx="9720" cy="410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7709040" y="5081400"/>
                <a:ext cx="10800" cy="745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7719840" y="5041440"/>
                <a:ext cx="9720" cy="399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729560" y="5041800"/>
                <a:ext cx="9360" cy="792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200240" y="32180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220760" y="3218040"/>
                <a:ext cx="1440" cy="1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1220760" y="3179880"/>
                <a:ext cx="972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1230480" y="3160440"/>
                <a:ext cx="1080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241280" y="31608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251000" y="3160800"/>
                <a:ext cx="9360" cy="75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260360" y="32367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271520" y="323676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1281240" y="3220920"/>
                <a:ext cx="936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1290600" y="3185640"/>
                <a:ext cx="11160" cy="34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1301760" y="3178080"/>
                <a:ext cx="936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1311120" y="3152880"/>
                <a:ext cx="9720" cy="25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1320840" y="3137040"/>
                <a:ext cx="936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1330200" y="3137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339920" y="31370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351080" y="3125520"/>
                <a:ext cx="936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360440" y="3098520"/>
                <a:ext cx="972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370160" y="3098880"/>
                <a:ext cx="9360" cy="119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379520" y="3218040"/>
                <a:ext cx="11160" cy="14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1390680" y="3119040"/>
                <a:ext cx="9360" cy="112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400040" y="31194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409760" y="31194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1420920" y="3051000"/>
                <a:ext cx="9360" cy="68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V="1">
                <a:off x="1430280" y="3028680"/>
                <a:ext cx="9720" cy="21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440000" y="3029040"/>
                <a:ext cx="10800" cy="39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1450800" y="3062160"/>
                <a:ext cx="9720" cy="6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1460520" y="2985840"/>
                <a:ext cx="9360" cy="75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469880" y="29862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481040" y="29862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1490760" y="2974680"/>
                <a:ext cx="936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500120" y="2975040"/>
                <a:ext cx="972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509840" y="2990880"/>
                <a:ext cx="93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519200" y="3003480"/>
                <a:ext cx="972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528920" y="3014640"/>
                <a:ext cx="10800" cy="31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539720" y="304632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549440" y="30463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1558800" y="2943360"/>
                <a:ext cx="9720" cy="102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568520" y="2943360"/>
                <a:ext cx="1116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579680" y="2948040"/>
                <a:ext cx="9360" cy="108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1589040" y="3044520"/>
                <a:ext cx="972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V="1">
                <a:off x="1598760" y="3024000"/>
                <a:ext cx="10800" cy="20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609560" y="302436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619280" y="30243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1628640" y="2998440"/>
                <a:ext cx="11160" cy="25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1639800" y="2970000"/>
                <a:ext cx="9720" cy="28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649520" y="2970360"/>
                <a:ext cx="9360" cy="42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V="1">
                <a:off x="1658880" y="2989440"/>
                <a:ext cx="972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1668600" y="2964960"/>
                <a:ext cx="10800" cy="24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679400" y="296532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689120" y="29653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1698480" y="2948040"/>
                <a:ext cx="9720" cy="17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1708200" y="2933640"/>
                <a:ext cx="9360" cy="14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717560" y="2933640"/>
                <a:ext cx="11160" cy="68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728720" y="3002040"/>
                <a:ext cx="9720" cy="1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V="1">
                <a:off x="1738440" y="2900520"/>
                <a:ext cx="9360" cy="102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747800" y="290052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758960" y="29005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1768320" y="2895480"/>
                <a:ext cx="9720" cy="5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778040" y="2895480"/>
                <a:ext cx="11160" cy="1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789200" y="2897280"/>
                <a:ext cx="9360" cy="39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798560" y="2936880"/>
                <a:ext cx="972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808280" y="2944800"/>
                <a:ext cx="11160" cy="74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819440" y="30193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828800" y="30193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838160" y="3012840"/>
                <a:ext cx="9720" cy="6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847880" y="3013200"/>
                <a:ext cx="9360" cy="6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857240" y="3019320"/>
                <a:ext cx="9720" cy="223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66960" y="3041640"/>
                <a:ext cx="11160" cy="176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878120" y="3055680"/>
                <a:ext cx="93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7480" y="3056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97200" y="3056040"/>
                <a:ext cx="1080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1908000" y="3040200"/>
                <a:ext cx="972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917720" y="2997000"/>
                <a:ext cx="9360" cy="42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27080" y="2997360"/>
                <a:ext cx="11160" cy="25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1938240" y="2982960"/>
                <a:ext cx="9720" cy="39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1947960" y="2936880"/>
                <a:ext cx="9360" cy="46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7320" y="293688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968480" y="29368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V="1">
                <a:off x="1978200" y="2892240"/>
                <a:ext cx="9360" cy="44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1987560" y="2874600"/>
                <a:ext cx="9360" cy="176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96920" y="2874960"/>
                <a:ext cx="11160" cy="82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2008080" y="2950920"/>
                <a:ext cx="9720" cy="6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17800" y="2903040"/>
                <a:ext cx="9360" cy="478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027160" y="29034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036880" y="29034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2046240" y="2870280"/>
                <a:ext cx="11160" cy="33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57400" y="2855880"/>
                <a:ext cx="9360" cy="14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066760" y="2855880"/>
                <a:ext cx="9720" cy="39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2076480" y="2886120"/>
                <a:ext cx="11160" cy="9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2087640" y="2883960"/>
                <a:ext cx="9360" cy="1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97000" y="288432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06720" y="288432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17880" y="28843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7240" y="2884320"/>
                <a:ext cx="9360" cy="1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136600" y="2886120"/>
                <a:ext cx="1116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147760" y="291312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157480" y="29131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166840" y="291312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176560" y="29131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2185920" y="2887200"/>
                <a:ext cx="9720" cy="25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2195640" y="2874600"/>
                <a:ext cx="93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2205000" y="2855520"/>
                <a:ext cx="1116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V="1">
                <a:off x="2216160" y="2817720"/>
                <a:ext cx="936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2225520" y="2788920"/>
                <a:ext cx="9720" cy="28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235240" y="278928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246400" y="27892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2255760" y="2719440"/>
                <a:ext cx="9720" cy="69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2265480" y="2707920"/>
                <a:ext cx="1116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276640" y="2708280"/>
                <a:ext cx="936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286000" y="2727360"/>
                <a:ext cx="9360" cy="6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2295360" y="2705040"/>
                <a:ext cx="11160" cy="28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306520" y="2705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316240" y="27050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2325600" y="2681280"/>
                <a:ext cx="972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2335320" y="2657520"/>
                <a:ext cx="1116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346480" y="2657520"/>
                <a:ext cx="9360" cy="36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55840" y="2693880"/>
                <a:ext cx="9360" cy="176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365200" y="2711520"/>
                <a:ext cx="9720" cy="20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374920" y="27320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384280" y="27320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395440" y="2732040"/>
                <a:ext cx="9720" cy="6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405160" y="27385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414520" y="2738520"/>
                <a:ext cx="11160" cy="31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425680" y="2770200"/>
                <a:ext cx="9720" cy="28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2435400" y="2744640"/>
                <a:ext cx="9360" cy="54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444760" y="27446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455920" y="27446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465280" y="2744640"/>
                <a:ext cx="9720" cy="5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2475000" y="2548080"/>
              <a:ext cx="1990800" cy="547560"/>
              <a:chOff x="2475000" y="2548080"/>
              <a:chExt cx="1990800" cy="547560"/>
            </a:xfrm>
          </p:grpSpPr>
          <p:sp>
            <p:nvSpPr>
              <p:cNvPr id="1508" name=""/>
              <p:cNvSpPr/>
              <p:nvPr/>
            </p:nvSpPr>
            <p:spPr>
              <a:xfrm flipV="1">
                <a:off x="2475000" y="2712960"/>
                <a:ext cx="11160" cy="36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486160" y="2712960"/>
                <a:ext cx="9360" cy="46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495520" y="2752560"/>
                <a:ext cx="9720" cy="6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2505240" y="2651040"/>
                <a:ext cx="9360" cy="101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514600" y="26510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523960" y="2651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2533680" y="2625840"/>
                <a:ext cx="11160" cy="25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2544840" y="2590560"/>
                <a:ext cx="9360" cy="34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554200" y="2590920"/>
                <a:ext cx="9720" cy="64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563920" y="2655720"/>
                <a:ext cx="1116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2575080" y="2604960"/>
                <a:ext cx="9360" cy="61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584440" y="26049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93800" y="26049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04960" y="260496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2614680" y="2548080"/>
                <a:ext cx="9360" cy="568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24040" y="2548080"/>
                <a:ext cx="11160" cy="201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2635200" y="2631600"/>
                <a:ext cx="9720" cy="117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644920" y="26319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654280" y="263196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64000" y="2631960"/>
                <a:ext cx="1080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74800" y="2631960"/>
                <a:ext cx="9720" cy="52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2684520" y="2637000"/>
                <a:ext cx="9360" cy="47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693880" y="2637000"/>
                <a:ext cx="9720" cy="50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2703600" y="2685600"/>
                <a:ext cx="9360" cy="1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12960" y="2685960"/>
                <a:ext cx="111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24120" y="26892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733840" y="26892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743200" y="2689200"/>
                <a:ext cx="11160" cy="63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2754360" y="2717280"/>
                <a:ext cx="9360" cy="34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763720" y="2717640"/>
                <a:ext cx="9720" cy="61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773440" y="2779560"/>
                <a:ext cx="11160" cy="12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784600" y="2792520"/>
                <a:ext cx="9360" cy="74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793960" y="2867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803680" y="2867040"/>
                <a:ext cx="1080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2814480" y="2823840"/>
                <a:ext cx="9720" cy="42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24200" y="2824200"/>
                <a:ext cx="9360" cy="36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833560" y="2860560"/>
                <a:ext cx="972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2843280" y="2889360"/>
                <a:ext cx="9360" cy="9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2852640" y="2793600"/>
                <a:ext cx="9720" cy="95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862360" y="27939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873520" y="27939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882880" y="279396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2892600" y="2739960"/>
                <a:ext cx="9360" cy="54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2901960" y="2714760"/>
                <a:ext cx="11160" cy="25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913120" y="2714760"/>
                <a:ext cx="9360" cy="28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922480" y="2743200"/>
                <a:ext cx="972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932200" y="274788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943360" y="27478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2952720" y="2720520"/>
                <a:ext cx="972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962440" y="2720880"/>
                <a:ext cx="1080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973240" y="2739960"/>
                <a:ext cx="972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2982960" y="2732040"/>
                <a:ext cx="936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992320" y="2732040"/>
                <a:ext cx="1116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003480" y="27432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013200" y="27432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022560" y="274320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032280" y="2746440"/>
                <a:ext cx="93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041640" y="2759040"/>
                <a:ext cx="9360" cy="69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51000" y="2828880"/>
                <a:ext cx="11160" cy="28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62160" y="2857680"/>
                <a:ext cx="9720" cy="6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71880" y="28638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81240" y="28638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092400" y="28638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3102120" y="2862360"/>
                <a:ext cx="9360" cy="1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3111480" y="2795400"/>
                <a:ext cx="11160" cy="66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22640" y="27957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132000" y="2795760"/>
                <a:ext cx="9720" cy="568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141720" y="28526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152880" y="28526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>
                <a:off x="3162240" y="2814480"/>
                <a:ext cx="972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171960" y="2814480"/>
                <a:ext cx="9360" cy="14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181320" y="2828880"/>
                <a:ext cx="9720" cy="31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3191040" y="2836800"/>
                <a:ext cx="1080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3201840" y="2828880"/>
                <a:ext cx="972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211560" y="28288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220920" y="28288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230640" y="2828880"/>
                <a:ext cx="111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3241800" y="2798280"/>
                <a:ext cx="9360" cy="33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251160" y="27986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260880" y="2798640"/>
                <a:ext cx="10800" cy="223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3271680" y="2809440"/>
                <a:ext cx="972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281400" y="28098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290760" y="28098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301920" y="2809800"/>
                <a:ext cx="972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3311640" y="2820960"/>
                <a:ext cx="936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1000" y="2820960"/>
                <a:ext cx="972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3330720" y="2827080"/>
                <a:ext cx="10800" cy="20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341520" y="2827440"/>
                <a:ext cx="9720" cy="36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51240" y="28638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60600" y="28638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370320" y="2863800"/>
                <a:ext cx="9360" cy="28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V="1">
                <a:off x="3379680" y="2889000"/>
                <a:ext cx="111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3390840" y="2873520"/>
                <a:ext cx="972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400560" y="2873520"/>
                <a:ext cx="9360" cy="6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3409920" y="2870280"/>
                <a:ext cx="11160" cy="9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421080" y="28702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430440" y="28702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3440160" y="2863800"/>
                <a:ext cx="11160" cy="6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451320" y="2863800"/>
                <a:ext cx="93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60680" y="2876400"/>
                <a:ext cx="9720" cy="9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470400" y="2886120"/>
                <a:ext cx="11160" cy="36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3481560" y="2895120"/>
                <a:ext cx="936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490920" y="28954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00280" y="28954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10000" y="28954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V="1">
                <a:off x="3519360" y="2855880"/>
                <a:ext cx="9720" cy="39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3529080" y="2847960"/>
                <a:ext cx="1116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540240" y="2847960"/>
                <a:ext cx="936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49600" y="2852640"/>
                <a:ext cx="9720" cy="63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559320" y="29163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68680" y="29163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579840" y="2916360"/>
                <a:ext cx="936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3589200" y="2903040"/>
                <a:ext cx="9720" cy="176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3598920" y="2896920"/>
                <a:ext cx="11160" cy="6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3610080" y="2889360"/>
                <a:ext cx="936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3619440" y="2879280"/>
                <a:ext cx="9720" cy="9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629160" y="2879640"/>
                <a:ext cx="1080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639960" y="28796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3649680" y="2874600"/>
                <a:ext cx="936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3659040" y="2862000"/>
                <a:ext cx="111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670200" y="286236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79920" y="2865600"/>
                <a:ext cx="9360" cy="28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89280" y="2868480"/>
                <a:ext cx="9720" cy="63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699000" y="29322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708360" y="29322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3718080" y="2906280"/>
                <a:ext cx="10800" cy="25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3728880" y="2889360"/>
                <a:ext cx="9720" cy="17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3738600" y="2851200"/>
                <a:ext cx="936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3747960" y="2831760"/>
                <a:ext cx="1116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759120" y="2832120"/>
                <a:ext cx="9720" cy="28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768840" y="28605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778200" y="28605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3789360" y="2814480"/>
                <a:ext cx="9360" cy="46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3798720" y="2800080"/>
                <a:ext cx="9720" cy="14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3808440" y="2798280"/>
                <a:ext cx="11160" cy="1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819600" y="2798640"/>
                <a:ext cx="9360" cy="14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28960" y="2813040"/>
                <a:ext cx="972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838680" y="28512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848040" y="28512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857760" y="2851200"/>
                <a:ext cx="1080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3868560" y="2841120"/>
                <a:ext cx="9720" cy="9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878280" y="2841480"/>
                <a:ext cx="9360" cy="25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887640" y="2867040"/>
                <a:ext cx="9720" cy="25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897360" y="2892600"/>
                <a:ext cx="11160" cy="14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908520" y="29066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917880" y="29066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927600" y="2906640"/>
                <a:ext cx="1116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938760" y="2914560"/>
                <a:ext cx="9360" cy="12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948120" y="2927520"/>
                <a:ext cx="9360" cy="14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957480" y="2941560"/>
                <a:ext cx="11160" cy="493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968640" y="2990880"/>
                <a:ext cx="972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978360" y="29988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987720" y="29988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3998880" y="299520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4008600" y="2976120"/>
                <a:ext cx="936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4017960" y="2944800"/>
                <a:ext cx="9360" cy="31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027320" y="2944800"/>
                <a:ext cx="972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037040" y="2960640"/>
                <a:ext cx="9360" cy="30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046400" y="299088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057560" y="29908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067280" y="29908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4076640" y="2951280"/>
                <a:ext cx="11160" cy="39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4087800" y="2905200"/>
                <a:ext cx="9360" cy="46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4097160" y="290160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106880" y="2901960"/>
                <a:ext cx="11160" cy="71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118040" y="29732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127400" y="29732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4137120" y="2948040"/>
                <a:ext cx="11160" cy="25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148280" y="2948040"/>
                <a:ext cx="9360" cy="1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157640" y="2949480"/>
                <a:ext cx="9720" cy="36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167360" y="2986200"/>
                <a:ext cx="93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176720" y="2998800"/>
                <a:ext cx="9360" cy="17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186080" y="301608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197240" y="30160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206960" y="3016080"/>
                <a:ext cx="9360" cy="9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216320" y="3025800"/>
                <a:ext cx="972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226040" y="3036960"/>
                <a:ext cx="9360" cy="31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235400" y="3068640"/>
                <a:ext cx="1116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4246560" y="3081240"/>
                <a:ext cx="9360" cy="14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255920" y="30812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265640" y="30812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4276800" y="3071880"/>
                <a:ext cx="9360" cy="9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286160" y="30718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4295880" y="3040200"/>
                <a:ext cx="11160" cy="31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4307040" y="3015720"/>
                <a:ext cx="9360" cy="24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316400" y="3016080"/>
                <a:ext cx="9360" cy="66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325760" y="30830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336920" y="3083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346640" y="3054240"/>
                <a:ext cx="9360" cy="28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356000" y="3041280"/>
                <a:ext cx="972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365720" y="2991960"/>
                <a:ext cx="9360" cy="493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4375080" y="2936880"/>
                <a:ext cx="9720" cy="55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384800" y="2936880"/>
                <a:ext cx="11160" cy="93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395960" y="30304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405320" y="30304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414680" y="3030480"/>
                <a:ext cx="1116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4425840" y="3021120"/>
                <a:ext cx="9720" cy="25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4435560" y="3005280"/>
                <a:ext cx="936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4444920" y="2952720"/>
                <a:ext cx="11160" cy="52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456080" y="2952720"/>
                <a:ext cx="9720" cy="69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4465800" y="2769840"/>
              <a:ext cx="1990440" cy="493920"/>
              <a:chOff x="4465800" y="2769840"/>
              <a:chExt cx="1990440" cy="493920"/>
            </a:xfrm>
          </p:grpSpPr>
          <p:sp>
            <p:nvSpPr>
              <p:cNvPr id="1709" name=""/>
              <p:cNvSpPr/>
              <p:nvPr/>
            </p:nvSpPr>
            <p:spPr>
              <a:xfrm>
                <a:off x="4465800" y="30225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475160" y="30225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4486320" y="3009600"/>
                <a:ext cx="93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V="1">
                <a:off x="4495680" y="3007800"/>
                <a:ext cx="9720" cy="1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505400" y="3008160"/>
                <a:ext cx="93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514760" y="3011400"/>
                <a:ext cx="9720" cy="34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524480" y="3046320"/>
                <a:ext cx="11160" cy="25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535640" y="30718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545000" y="30718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554360" y="3071880"/>
                <a:ext cx="972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4564080" y="3059280"/>
                <a:ext cx="11160" cy="17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4575240" y="3055680"/>
                <a:ext cx="93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584600" y="305604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4594320" y="3042720"/>
                <a:ext cx="11160" cy="16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4605480" y="2997000"/>
                <a:ext cx="9360" cy="45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614840" y="299736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4624560" y="2959200"/>
                <a:ext cx="1080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635360" y="295920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4645080" y="2896920"/>
                <a:ext cx="9360" cy="65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654440" y="2897280"/>
                <a:ext cx="111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4665600" y="2882520"/>
                <a:ext cx="9720" cy="176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675320" y="2882880"/>
                <a:ext cx="9360" cy="128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684680" y="30114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4694400" y="3002040"/>
                <a:ext cx="9360" cy="9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703760" y="3002040"/>
                <a:ext cx="9360" cy="14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4713120" y="2963520"/>
                <a:ext cx="11160" cy="52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724280" y="2963880"/>
                <a:ext cx="9720" cy="30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34000" y="2994120"/>
                <a:ext cx="9360" cy="190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743360" y="31845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754520" y="318456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764240" y="31845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773600" y="31845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784760" y="3184560"/>
                <a:ext cx="936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94120" y="3208320"/>
                <a:ext cx="972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803840" y="3219480"/>
                <a:ext cx="9360" cy="44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813200" y="32637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824360" y="326376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4834080" y="3244320"/>
                <a:ext cx="936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843440" y="32446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4853160" y="3198600"/>
                <a:ext cx="10800" cy="45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4863960" y="3184560"/>
                <a:ext cx="9720" cy="14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4873680" y="3179520"/>
                <a:ext cx="936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883040" y="31798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892760" y="31798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4902120" y="3152520"/>
                <a:ext cx="1116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4913280" y="3144960"/>
                <a:ext cx="972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923000" y="3144960"/>
                <a:ext cx="9360" cy="1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4932360" y="3096720"/>
                <a:ext cx="11160" cy="493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4943520" y="3052440"/>
                <a:ext cx="9360" cy="44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952880" y="30528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962600" y="30528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4973760" y="3001680"/>
                <a:ext cx="9360" cy="50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4983120" y="2974680"/>
                <a:ext cx="972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992840" y="2975040"/>
                <a:ext cx="10800" cy="41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003640" y="30160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013360" y="3016080"/>
                <a:ext cx="9360" cy="14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022720" y="30304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032440" y="30304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5041800" y="3003120"/>
                <a:ext cx="972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5051520" y="2981160"/>
                <a:ext cx="11160" cy="223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062680" y="2981160"/>
                <a:ext cx="9360" cy="24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072040" y="3005280"/>
                <a:ext cx="9720" cy="28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5081760" y="2977920"/>
                <a:ext cx="10800" cy="298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092560" y="29782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102280" y="297828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5111640" y="2962440"/>
                <a:ext cx="1116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5122800" y="2925720"/>
                <a:ext cx="9720" cy="36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132520" y="2925720"/>
                <a:ext cx="936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141880" y="2952720"/>
                <a:ext cx="1116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153040" y="2957400"/>
                <a:ext cx="9360" cy="176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162400" y="2975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172120" y="29750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181480" y="2975040"/>
                <a:ext cx="111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192640" y="2978280"/>
                <a:ext cx="972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202360" y="2982960"/>
                <a:ext cx="9360" cy="331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211720" y="3016080"/>
                <a:ext cx="9720" cy="1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5221440" y="2987640"/>
                <a:ext cx="9360" cy="30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230800" y="29876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41960" y="29876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251320" y="2978280"/>
                <a:ext cx="9720" cy="9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5261040" y="2962440"/>
                <a:ext cx="1116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272200" y="2962440"/>
                <a:ext cx="9360" cy="58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281560" y="3021120"/>
                <a:ext cx="972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5291280" y="2958840"/>
                <a:ext cx="10800" cy="81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302080" y="29592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311800" y="29592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21160" y="2959200"/>
                <a:ext cx="11160" cy="1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5332320" y="2931840"/>
                <a:ext cx="9720" cy="28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342040" y="2932200"/>
                <a:ext cx="93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351400" y="294480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5361120" y="2944440"/>
                <a:ext cx="93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370480" y="29448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380200" y="2944800"/>
                <a:ext cx="1080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5391000" y="2914560"/>
                <a:ext cx="9720" cy="30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5400720" y="2876400"/>
                <a:ext cx="936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410080" y="2876400"/>
                <a:ext cx="11160" cy="255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421240" y="2901960"/>
                <a:ext cx="9720" cy="17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430960" y="2919240"/>
                <a:ext cx="9360" cy="6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440320" y="292572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451480" y="29257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460840" y="2925720"/>
                <a:ext cx="972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470560" y="2944800"/>
                <a:ext cx="9360" cy="20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479920" y="2965320"/>
                <a:ext cx="11160" cy="34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491080" y="3000240"/>
                <a:ext cx="9720" cy="30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5500800" y="3005280"/>
                <a:ext cx="9360" cy="252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10160" y="300528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519880" y="3005280"/>
                <a:ext cx="1080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5530680" y="2977920"/>
                <a:ext cx="972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5540400" y="2971800"/>
                <a:ext cx="9360" cy="6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549760" y="2971800"/>
                <a:ext cx="972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559480" y="2982960"/>
                <a:ext cx="936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5568840" y="2920680"/>
                <a:ext cx="11160" cy="66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580000" y="2921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589720" y="29210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5599080" y="2869920"/>
                <a:ext cx="11160" cy="50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5610240" y="2857320"/>
                <a:ext cx="936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5619600" y="2838240"/>
                <a:ext cx="972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629320" y="28386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640480" y="28386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649840" y="28386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659560" y="28386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670720" y="28386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5680080" y="2782440"/>
                <a:ext cx="9360" cy="558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5689440" y="2769840"/>
                <a:ext cx="9720" cy="12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699160" y="2770200"/>
                <a:ext cx="936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708520" y="2797200"/>
                <a:ext cx="9720" cy="54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718240" y="285120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729400" y="28512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738760" y="285120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748480" y="2854440"/>
                <a:ext cx="10800" cy="21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759280" y="28764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769000" y="2876400"/>
                <a:ext cx="9360" cy="6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778360" y="2882880"/>
                <a:ext cx="11160" cy="65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89520" y="29480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799240" y="29480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808600" y="2948040"/>
                <a:ext cx="11160" cy="158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5819760" y="2958840"/>
                <a:ext cx="972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5829480" y="2947680"/>
                <a:ext cx="936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838840" y="2948040"/>
                <a:ext cx="936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5848200" y="2962440"/>
                <a:ext cx="11160" cy="9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859360" y="29624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869080" y="29624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878440" y="2962440"/>
                <a:ext cx="972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5888160" y="2928960"/>
                <a:ext cx="9360" cy="38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897520" y="2928960"/>
                <a:ext cx="11160" cy="1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5908680" y="2916000"/>
                <a:ext cx="9360" cy="14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918040" y="2916360"/>
                <a:ext cx="9720" cy="58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927760" y="29750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938920" y="29750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5948280" y="2938320"/>
                <a:ext cx="9720" cy="36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958000" y="2938320"/>
                <a:ext cx="111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969160" y="2941560"/>
                <a:ext cx="93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978520" y="2944800"/>
                <a:ext cx="936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987880" y="2948040"/>
                <a:ext cx="11160" cy="77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999040" y="30258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008760" y="30258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018120" y="3025800"/>
                <a:ext cx="972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027840" y="3033720"/>
                <a:ext cx="9360" cy="4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037200" y="3038400"/>
                <a:ext cx="972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046920" y="304632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6058080" y="3029040"/>
                <a:ext cx="9360" cy="17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067440" y="30290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076800" y="302904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087960" y="3029040"/>
                <a:ext cx="9720" cy="14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097680" y="3043080"/>
                <a:ext cx="9360" cy="97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6107040" y="3013200"/>
                <a:ext cx="9720" cy="396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116760" y="3013200"/>
                <a:ext cx="11160" cy="140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127920" y="3027240"/>
                <a:ext cx="9360" cy="34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137280" y="306216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146640" y="306216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157800" y="306216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167520" y="3065400"/>
                <a:ext cx="9360" cy="31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6176880" y="3095640"/>
                <a:ext cx="11160" cy="14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6188040" y="3071880"/>
                <a:ext cx="972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197760" y="3071880"/>
                <a:ext cx="9360" cy="237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207120" y="309564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216480" y="309564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226200" y="3073320"/>
                <a:ext cx="9360" cy="223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235560" y="3073320"/>
                <a:ext cx="11160" cy="73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V="1">
                <a:off x="6246720" y="3057120"/>
                <a:ext cx="9720" cy="88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256440" y="3057480"/>
                <a:ext cx="9360" cy="144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265800" y="3071880"/>
                <a:ext cx="11160" cy="745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276960" y="31464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286680" y="31464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6296040" y="3138480"/>
                <a:ext cx="11160" cy="7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307200" y="3138480"/>
                <a:ext cx="9360" cy="2700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316560" y="3165480"/>
                <a:ext cx="9720" cy="172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326280" y="3182760"/>
                <a:ext cx="11160" cy="129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37440" y="3195720"/>
                <a:ext cx="9360" cy="19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346800" y="3214800"/>
                <a:ext cx="972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356520" y="321480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365880" y="3214800"/>
                <a:ext cx="9360" cy="3492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6375240" y="3215880"/>
                <a:ext cx="11160" cy="334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386400" y="3204720"/>
                <a:ext cx="9720" cy="111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396120" y="3205080"/>
                <a:ext cx="9360" cy="460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05480" y="3247560"/>
                <a:ext cx="9720" cy="324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415200" y="3247920"/>
                <a:ext cx="111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426360" y="3247920"/>
                <a:ext cx="9360" cy="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6435720" y="3238560"/>
                <a:ext cx="9360" cy="936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445080" y="3206880"/>
                <a:ext cx="11160" cy="31680"/>
              </a:xfrm>
              <a:prstGeom prst="line">
                <a:avLst/>
              </a:prstGeom>
              <a:ln w="79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9" name=""/>
            <p:cNvSpPr/>
            <p:nvPr/>
          </p:nvSpPr>
          <p:spPr>
            <a:xfrm flipV="1">
              <a:off x="6456240" y="3158640"/>
              <a:ext cx="9720" cy="478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6465960" y="3139560"/>
              <a:ext cx="9360" cy="190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475320" y="3139920"/>
              <a:ext cx="11160" cy="334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486480" y="317340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496200" y="317340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505560" y="317340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6515280" y="3138120"/>
              <a:ext cx="10800" cy="34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6526080" y="3095280"/>
              <a:ext cx="9720" cy="428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535800" y="3095640"/>
              <a:ext cx="9360" cy="255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6545160" y="3090960"/>
              <a:ext cx="9720" cy="30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54880" y="309096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564240" y="3090960"/>
              <a:ext cx="111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6575400" y="3062160"/>
              <a:ext cx="9720" cy="2880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6585120" y="3046320"/>
              <a:ext cx="9360" cy="158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6594480" y="3009600"/>
              <a:ext cx="11160" cy="363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6605640" y="3002040"/>
              <a:ext cx="9360" cy="7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615000" y="3002040"/>
              <a:ext cx="9720" cy="824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624720" y="3084480"/>
              <a:ext cx="111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635880" y="308448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645240" y="3084480"/>
              <a:ext cx="9720" cy="460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654960" y="3130560"/>
              <a:ext cx="10800" cy="93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6665760" y="3134880"/>
              <a:ext cx="9720" cy="46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675480" y="3135240"/>
              <a:ext cx="9360" cy="475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684840" y="3182760"/>
              <a:ext cx="9720" cy="352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694560" y="321804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703920" y="321804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713640" y="3187800"/>
              <a:ext cx="11160" cy="30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724800" y="318780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734160" y="318780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6743880" y="3171960"/>
              <a:ext cx="10800" cy="158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6754680" y="3156120"/>
              <a:ext cx="9720" cy="158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64400" y="315612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773760" y="315612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6783480" y="3143160"/>
              <a:ext cx="11160" cy="129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6794640" y="3114360"/>
              <a:ext cx="9360" cy="284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804000" y="3033360"/>
              <a:ext cx="9720" cy="8100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13720" y="3033720"/>
              <a:ext cx="10800" cy="3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6824520" y="2977920"/>
              <a:ext cx="9720" cy="586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834240" y="297828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843600" y="2978280"/>
              <a:ext cx="111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854760" y="2966760"/>
              <a:ext cx="9720" cy="111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864480" y="2936880"/>
              <a:ext cx="9360" cy="30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873840" y="2936880"/>
              <a:ext cx="9720" cy="172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6883560" y="2951280"/>
              <a:ext cx="9360" cy="28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892920" y="2951280"/>
              <a:ext cx="9360" cy="93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902280" y="2960640"/>
              <a:ext cx="111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913440" y="296064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923160" y="2960640"/>
              <a:ext cx="9360" cy="7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932520" y="2968560"/>
              <a:ext cx="11160" cy="64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6943680" y="2968560"/>
              <a:ext cx="9720" cy="64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953400" y="2968560"/>
              <a:ext cx="9360" cy="97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962760" y="2978280"/>
              <a:ext cx="11160" cy="34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973920" y="301320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983280" y="301320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993000" y="3013200"/>
              <a:ext cx="11160" cy="205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7004160" y="3025800"/>
              <a:ext cx="9360" cy="7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013520" y="3025800"/>
              <a:ext cx="9720" cy="30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023240" y="3056040"/>
              <a:ext cx="9360" cy="140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7032600" y="3057120"/>
              <a:ext cx="9720" cy="1260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042320" y="3057480"/>
              <a:ext cx="1080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053120" y="305748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062840" y="3036600"/>
              <a:ext cx="9360" cy="205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072200" y="3025440"/>
              <a:ext cx="9720" cy="111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081920" y="3025800"/>
              <a:ext cx="11160" cy="7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093080" y="3033720"/>
              <a:ext cx="9360" cy="223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7102440" y="2995560"/>
              <a:ext cx="9720" cy="604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112160" y="2995560"/>
              <a:ext cx="1080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122960" y="299556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132680" y="299556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7142040" y="2950920"/>
              <a:ext cx="11160" cy="442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7153200" y="2933280"/>
              <a:ext cx="9720" cy="176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7162920" y="2928600"/>
              <a:ext cx="9360" cy="46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172280" y="2928960"/>
              <a:ext cx="111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183440" y="292896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192800" y="292896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7202520" y="2910960"/>
              <a:ext cx="9360" cy="176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211880" y="2911320"/>
              <a:ext cx="9720" cy="208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7221600" y="2928600"/>
              <a:ext cx="9360" cy="3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230960" y="2928960"/>
              <a:ext cx="11160" cy="7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242120" y="2936880"/>
              <a:ext cx="9720" cy="205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251840" y="295740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261200" y="2957400"/>
              <a:ext cx="111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272360" y="2957400"/>
              <a:ext cx="9360" cy="30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7281720" y="2982600"/>
              <a:ext cx="9720" cy="46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291440" y="2982960"/>
              <a:ext cx="11160" cy="428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302600" y="3025800"/>
              <a:ext cx="9360" cy="363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7311960" y="3039840"/>
              <a:ext cx="9720" cy="219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321680" y="3040200"/>
              <a:ext cx="111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332840" y="304020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7342200" y="3009960"/>
              <a:ext cx="9360" cy="30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7351560" y="2963880"/>
              <a:ext cx="9720" cy="460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7361280" y="2948040"/>
              <a:ext cx="9360" cy="158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370640" y="2948040"/>
              <a:ext cx="11160" cy="302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381800" y="2978280"/>
              <a:ext cx="9720" cy="93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391520" y="298764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400880" y="298764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7410600" y="2968200"/>
              <a:ext cx="9360" cy="190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19960" y="2968560"/>
              <a:ext cx="11160" cy="180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7431120" y="2948040"/>
              <a:ext cx="9360" cy="223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440480" y="2948040"/>
              <a:ext cx="9720" cy="7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450200" y="2955960"/>
              <a:ext cx="11160" cy="5400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461360" y="300996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470720" y="300996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7480440" y="2995560"/>
              <a:ext cx="10800" cy="1440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7491240" y="2984040"/>
              <a:ext cx="9720" cy="111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7500960" y="2976480"/>
              <a:ext cx="9360" cy="7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510320" y="2976480"/>
              <a:ext cx="11160" cy="7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521480" y="2984400"/>
              <a:ext cx="9720" cy="97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531200" y="299412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40560" y="299412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7550280" y="2957400"/>
              <a:ext cx="9360" cy="367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7559640" y="2950920"/>
              <a:ext cx="9720" cy="61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569360" y="2951280"/>
              <a:ext cx="10800" cy="349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580160" y="2986200"/>
              <a:ext cx="9720" cy="331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589880" y="3019320"/>
              <a:ext cx="9360" cy="8280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599240" y="3102120"/>
              <a:ext cx="111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610400" y="310212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620120" y="3102120"/>
              <a:ext cx="9360" cy="219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7629480" y="3109680"/>
              <a:ext cx="11160" cy="140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640640" y="3110040"/>
              <a:ext cx="9360" cy="586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7650000" y="3137040"/>
              <a:ext cx="9720" cy="316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59720" y="3137040"/>
              <a:ext cx="11160" cy="2196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670880" y="315900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80240" y="3159000"/>
              <a:ext cx="972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689960" y="3159000"/>
              <a:ext cx="936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V="1">
              <a:off x="7699320" y="3114360"/>
              <a:ext cx="9720" cy="4428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7709040" y="3042720"/>
              <a:ext cx="10800" cy="7164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V="1">
              <a:off x="7719840" y="2997000"/>
              <a:ext cx="9720" cy="4572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729560" y="2997360"/>
              <a:ext cx="9360" cy="2520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871800" y="1712880"/>
              <a:ext cx="1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51480" y="5989680"/>
              <a:ext cx="22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51480" y="5411880"/>
              <a:ext cx="22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951480" y="4834080"/>
              <a:ext cx="22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951480" y="4255920"/>
              <a:ext cx="22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2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951480" y="3678120"/>
              <a:ext cx="22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51480" y="3100320"/>
              <a:ext cx="22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51480" y="2522520"/>
              <a:ext cx="22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11960" y="6243480"/>
              <a:ext cx="524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ne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84120" y="6243480"/>
              <a:ext cx="568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ay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434040" y="624348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Sep-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644000" y="6243480"/>
              <a:ext cx="524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Ene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827320" y="6243480"/>
              <a:ext cx="568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ay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075800" y="6243480"/>
              <a:ext cx="520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Sep-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179960" y="5715000"/>
              <a:ext cx="179280" cy="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59160" y="5622840"/>
              <a:ext cx="1792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Liquidez incluyendo pa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179960" y="5969160"/>
              <a:ext cx="179280" cy="0"/>
            </a:xfrm>
            <a:prstGeom prst="line">
              <a:avLst/>
            </a:prstGeom>
            <a:ln w="7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141080" y="5872320"/>
              <a:ext cx="36975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Liquidez incluyendo pases y tenencia de Lebac y Noba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934920" y="6500880"/>
              <a:ext cx="5964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921960" y="6510240"/>
              <a:ext cx="9514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uente: BC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934920" y="1870200"/>
              <a:ext cx="74448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978120" y="1886040"/>
              <a:ext cx="77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12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% depósi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0" name=""/>
          <p:cNvSpPr/>
          <p:nvPr/>
        </p:nvSpPr>
        <p:spPr>
          <a:xfrm>
            <a:off x="304920" y="887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Altos niveles de liqu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monetaria y financie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/>
          <p:nvPr/>
        </p:nvSpPr>
        <p:spPr>
          <a:xfrm>
            <a:off x="304920" y="887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Evolución de la estructura de activos del sistema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757080" y="1778040"/>
            <a:ext cx="7721280" cy="4958640"/>
            <a:chOff x="757080" y="1778040"/>
            <a:chExt cx="7721280" cy="4958640"/>
          </a:xfrm>
        </p:grpSpPr>
        <p:sp>
          <p:nvSpPr>
            <p:cNvPr id="2064" name=""/>
            <p:cNvSpPr/>
            <p:nvPr/>
          </p:nvSpPr>
          <p:spPr>
            <a:xfrm>
              <a:off x="1612800" y="5402160"/>
              <a:ext cx="574920" cy="974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048120" y="5202360"/>
              <a:ext cx="574560" cy="11746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483080" y="4938840"/>
              <a:ext cx="573120" cy="1438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916600" y="4957920"/>
              <a:ext cx="574560" cy="14191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612800" y="4583160"/>
              <a:ext cx="574920" cy="819000"/>
            </a:xfrm>
            <a:prstGeom prst="rect">
              <a:avLst/>
            </a:prstGeom>
            <a:solidFill>
              <a:srgbClr val="a9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048120" y="4270320"/>
              <a:ext cx="574560" cy="932040"/>
            </a:xfrm>
            <a:prstGeom prst="rect">
              <a:avLst/>
            </a:prstGeom>
            <a:solidFill>
              <a:srgbClr val="a9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483080" y="3946680"/>
              <a:ext cx="573120" cy="992160"/>
            </a:xfrm>
            <a:prstGeom prst="rect">
              <a:avLst/>
            </a:prstGeom>
            <a:solidFill>
              <a:srgbClr val="a9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916600" y="3924360"/>
              <a:ext cx="574560" cy="1033560"/>
            </a:xfrm>
            <a:prstGeom prst="rect">
              <a:avLst/>
            </a:prstGeom>
            <a:solidFill>
              <a:srgbClr val="a9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612800" y="3409920"/>
              <a:ext cx="574920" cy="1173240"/>
            </a:xfrm>
            <a:prstGeom prst="rect">
              <a:avLst/>
            </a:prstGeom>
            <a:solidFill>
              <a:srgbClr val="e9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48120" y="3435480"/>
              <a:ext cx="574560" cy="834840"/>
            </a:xfrm>
            <a:prstGeom prst="rect">
              <a:avLst/>
            </a:prstGeom>
            <a:solidFill>
              <a:srgbClr val="e9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483080" y="3341520"/>
              <a:ext cx="573120" cy="605160"/>
            </a:xfrm>
            <a:prstGeom prst="rect">
              <a:avLst/>
            </a:prstGeom>
            <a:solidFill>
              <a:srgbClr val="e9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16600" y="3402000"/>
              <a:ext cx="574560" cy="522360"/>
            </a:xfrm>
            <a:prstGeom prst="rect">
              <a:avLst/>
            </a:prstGeom>
            <a:solidFill>
              <a:srgbClr val="e9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612800" y="2624040"/>
              <a:ext cx="574920" cy="785880"/>
            </a:xfrm>
            <a:prstGeom prst="rect">
              <a:avLst/>
            </a:prstGeom>
            <a:solidFill>
              <a:srgbClr val="68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048120" y="2624040"/>
              <a:ext cx="574560" cy="811440"/>
            </a:xfrm>
            <a:prstGeom prst="rect">
              <a:avLst/>
            </a:prstGeom>
            <a:solidFill>
              <a:srgbClr val="68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483080" y="2624040"/>
              <a:ext cx="573120" cy="717480"/>
            </a:xfrm>
            <a:prstGeom prst="rect">
              <a:avLst/>
            </a:prstGeom>
            <a:solidFill>
              <a:srgbClr val="68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916600" y="2624040"/>
              <a:ext cx="574560" cy="777960"/>
            </a:xfrm>
            <a:prstGeom prst="rect">
              <a:avLst/>
            </a:prstGeom>
            <a:solidFill>
              <a:srgbClr val="68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182600" y="2624040"/>
              <a:ext cx="0" cy="37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182600" y="6377040"/>
              <a:ext cx="5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182600" y="5626080"/>
              <a:ext cx="5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182600" y="4876920"/>
              <a:ext cx="5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182600" y="4125960"/>
              <a:ext cx="5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182600" y="3375000"/>
              <a:ext cx="5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82600" y="2624040"/>
              <a:ext cx="52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182600" y="6377040"/>
              <a:ext cx="5738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60760" y="177804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816200" y="578016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251160" y="567864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686480" y="554832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120000" y="555768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816200" y="488160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251160" y="462600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  <a:ea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686480" y="433224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  <a:ea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120000" y="433080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  <a:ea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816200" y="388476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251160" y="374184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686480" y="353376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20000" y="355284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816200" y="290664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251160" y="291924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686480" y="287172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120000" y="290340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978120" y="6267600"/>
              <a:ext cx="157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95320" y="551664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95320" y="476568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95320" y="401652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95320" y="326556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13240" y="2514600"/>
              <a:ext cx="3312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656360" y="6535800"/>
              <a:ext cx="5306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Dic-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91680" y="6535800"/>
              <a:ext cx="5306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Dic-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526640" y="6535800"/>
              <a:ext cx="5306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Dic-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003000" y="6535800"/>
              <a:ext cx="4910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Jul-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57080" y="2274840"/>
              <a:ext cx="9529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% de ac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748560" y="2995560"/>
              <a:ext cx="96840" cy="98640"/>
            </a:xfrm>
            <a:prstGeom prst="rect">
              <a:avLst/>
            </a:prstGeom>
            <a:solidFill>
              <a:srgbClr val="68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870600" y="2946240"/>
              <a:ext cx="4928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Otros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748560" y="3630600"/>
              <a:ext cx="96840" cy="98280"/>
            </a:xfrm>
            <a:prstGeom prst="rect">
              <a:avLst/>
            </a:prstGeom>
            <a:solidFill>
              <a:srgbClr val="e9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92840" y="3573360"/>
              <a:ext cx="1667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Crédito al sector públi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883560" y="401004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748560" y="4416480"/>
              <a:ext cx="96840" cy="98280"/>
            </a:xfrm>
            <a:prstGeom prst="rect">
              <a:avLst/>
            </a:prstGeom>
            <a:solidFill>
              <a:srgbClr val="a9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840000" y="4365720"/>
              <a:ext cx="6159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Liquide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748560" y="5638680"/>
              <a:ext cx="96840" cy="986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792480" y="5587920"/>
              <a:ext cx="16858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37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Crédito al sector pri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883560" y="577224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228760" y="3367080"/>
              <a:ext cx="852480" cy="316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3656160" y="3282840"/>
              <a:ext cx="85716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68800" y="3282840"/>
              <a:ext cx="870120" cy="842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2228760" y="4276440"/>
              <a:ext cx="852480" cy="331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3656160" y="3941280"/>
              <a:ext cx="857160" cy="3351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5068800" y="3908520"/>
              <a:ext cx="870120" cy="331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V="1">
              <a:off x="2228760" y="5235480"/>
              <a:ext cx="852480" cy="2016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3656160" y="4964040"/>
              <a:ext cx="857160" cy="27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068800" y="4964040"/>
              <a:ext cx="870120" cy="46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5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monetaria y financie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"/>
          <p:cNvGrpSpPr/>
          <p:nvPr/>
        </p:nvGrpSpPr>
        <p:grpSpPr>
          <a:xfrm>
            <a:off x="684360" y="1341360"/>
            <a:ext cx="7632000" cy="4823640"/>
            <a:chOff x="684360" y="1341360"/>
            <a:chExt cx="7632000" cy="4823640"/>
          </a:xfrm>
        </p:grpSpPr>
        <p:grpSp>
          <p:nvGrpSpPr>
            <p:cNvPr id="2137" name=""/>
            <p:cNvGrpSpPr/>
            <p:nvPr/>
          </p:nvGrpSpPr>
          <p:grpSpPr>
            <a:xfrm>
              <a:off x="684360" y="1341360"/>
              <a:ext cx="7632000" cy="4823640"/>
              <a:chOff x="684360" y="1341360"/>
              <a:chExt cx="7632000" cy="4823640"/>
            </a:xfrm>
          </p:grpSpPr>
          <p:sp>
            <p:nvSpPr>
              <p:cNvPr id="2138" name=""/>
              <p:cNvSpPr/>
              <p:nvPr/>
            </p:nvSpPr>
            <p:spPr>
              <a:xfrm>
                <a:off x="684360" y="1341360"/>
                <a:ext cx="7632000" cy="48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680840" y="1715040"/>
                <a:ext cx="1800" cy="355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633320" y="5273280"/>
                <a:ext cx="4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633320" y="4955400"/>
                <a:ext cx="4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633320" y="462528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633320" y="430776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633320" y="3976920"/>
                <a:ext cx="4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633320" y="3659400"/>
                <a:ext cx="4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633320" y="332892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633320" y="301140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633320" y="2680560"/>
                <a:ext cx="4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633320" y="2363040"/>
                <a:ext cx="4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633320" y="203292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633320" y="171504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680840" y="4955400"/>
                <a:ext cx="5906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1680840" y="4955400"/>
                <a:ext cx="180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206208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245736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283824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3217680" y="4955400"/>
                <a:ext cx="180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361296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3993840" y="4955400"/>
                <a:ext cx="180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437364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477036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514980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552888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592596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305040" y="4955400"/>
                <a:ext cx="180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68664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7081560" y="4955400"/>
                <a:ext cx="180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7461000" y="4955400"/>
                <a:ext cx="1440" cy="4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1712880" y="4293000"/>
                <a:ext cx="63000" cy="57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775880" y="4293000"/>
                <a:ext cx="63360" cy="18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839600" y="4480920"/>
                <a:ext cx="63360" cy="57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1903320" y="4495320"/>
                <a:ext cx="63360" cy="4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967040" y="4495320"/>
                <a:ext cx="63000" cy="100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030040" y="4596120"/>
                <a:ext cx="63360" cy="28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2093760" y="4610520"/>
                <a:ext cx="63360" cy="14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V="1">
                <a:off x="2157480" y="4552920"/>
                <a:ext cx="63360" cy="57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220840" y="4552920"/>
                <a:ext cx="7740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2298600" y="4494960"/>
                <a:ext cx="63000" cy="57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361960" y="4495320"/>
                <a:ext cx="63360" cy="115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425320" y="4610520"/>
                <a:ext cx="6336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489040" y="4610520"/>
                <a:ext cx="63360" cy="171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552760" y="4782240"/>
                <a:ext cx="63000" cy="18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615760" y="4970160"/>
                <a:ext cx="63360" cy="86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2679480" y="4970160"/>
                <a:ext cx="63360" cy="86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743200" y="4970160"/>
                <a:ext cx="63360" cy="100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2806560" y="4926600"/>
                <a:ext cx="6300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2869920" y="4897800"/>
                <a:ext cx="61920" cy="28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931840" y="4897800"/>
                <a:ext cx="63360" cy="86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2995560" y="4739040"/>
                <a:ext cx="63000" cy="245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3058920" y="4610520"/>
                <a:ext cx="63360" cy="128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3122280" y="4480920"/>
                <a:ext cx="63360" cy="129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3186000" y="4263840"/>
                <a:ext cx="63360" cy="2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3249720" y="4133880"/>
                <a:ext cx="63000" cy="129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3312720" y="3817800"/>
                <a:ext cx="63360" cy="315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3376440" y="3615840"/>
                <a:ext cx="63360" cy="201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3440160" y="3515040"/>
                <a:ext cx="79200" cy="100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3519360" y="3500280"/>
                <a:ext cx="61920" cy="14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3581280" y="3430080"/>
                <a:ext cx="63000" cy="70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3644640" y="3415680"/>
                <a:ext cx="63360" cy="14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3708000" y="3328920"/>
                <a:ext cx="63360" cy="86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771720" y="3328920"/>
                <a:ext cx="63360" cy="72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835440" y="3400920"/>
                <a:ext cx="63000" cy="14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898440" y="3415680"/>
                <a:ext cx="63360" cy="4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3962160" y="3357720"/>
                <a:ext cx="63360" cy="99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4025880" y="3285720"/>
                <a:ext cx="63360" cy="72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4089600" y="3169800"/>
                <a:ext cx="63000" cy="115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4152600" y="3025080"/>
                <a:ext cx="6192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4214520" y="2637360"/>
                <a:ext cx="63000" cy="388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4277880" y="2507400"/>
                <a:ext cx="63360" cy="129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V="1">
                <a:off x="4341600" y="2377800"/>
                <a:ext cx="63360" cy="129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4404960" y="2247840"/>
                <a:ext cx="63360" cy="129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4468680" y="2206080"/>
                <a:ext cx="63000" cy="4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4532040" y="2148120"/>
                <a:ext cx="63360" cy="57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595400" y="2148120"/>
                <a:ext cx="7956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675320" y="2148120"/>
                <a:ext cx="63000" cy="301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738320" y="2449800"/>
                <a:ext cx="63360" cy="28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4802040" y="2435400"/>
                <a:ext cx="61560" cy="4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863600" y="2435400"/>
                <a:ext cx="63360" cy="57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4927320" y="2449800"/>
                <a:ext cx="63360" cy="4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91040" y="2449800"/>
                <a:ext cx="63360" cy="18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054400" y="2637360"/>
                <a:ext cx="63000" cy="28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117760" y="2666520"/>
                <a:ext cx="63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181480" y="2666520"/>
                <a:ext cx="63360" cy="57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244840" y="2724120"/>
                <a:ext cx="6336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308560" y="2724120"/>
                <a:ext cx="63000" cy="86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5371920" y="2781360"/>
                <a:ext cx="633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435280" y="2565000"/>
                <a:ext cx="61560" cy="2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496840" y="2565360"/>
                <a:ext cx="63360" cy="4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560560" y="2579400"/>
                <a:ext cx="63360" cy="28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624280" y="2579400"/>
                <a:ext cx="63360" cy="28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688000" y="2608560"/>
                <a:ext cx="63000" cy="115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V="1">
                <a:off x="5751000" y="2694960"/>
                <a:ext cx="795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830560" y="2695320"/>
                <a:ext cx="63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894280" y="2695320"/>
                <a:ext cx="63000" cy="14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957640" y="2709720"/>
                <a:ext cx="63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6021000" y="2680560"/>
                <a:ext cx="63360" cy="28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6084720" y="2622960"/>
                <a:ext cx="61560" cy="57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146280" y="2622960"/>
                <a:ext cx="63360" cy="28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210000" y="2652120"/>
                <a:ext cx="63360" cy="14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273720" y="2666520"/>
                <a:ext cx="633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337080" y="2695320"/>
                <a:ext cx="63000" cy="14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400440" y="2709720"/>
                <a:ext cx="633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464160" y="2738520"/>
                <a:ext cx="633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6527520" y="2680560"/>
                <a:ext cx="63360" cy="86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591240" y="2680560"/>
                <a:ext cx="63000" cy="4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6654600" y="2709360"/>
                <a:ext cx="63360" cy="14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717960" y="2709720"/>
                <a:ext cx="63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6781680" y="2666520"/>
                <a:ext cx="61560" cy="4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843240" y="2666520"/>
                <a:ext cx="63360" cy="4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906960" y="2709720"/>
                <a:ext cx="633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970680" y="2738520"/>
                <a:ext cx="79200" cy="171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7049880" y="2810520"/>
                <a:ext cx="63360" cy="99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V="1">
                <a:off x="7113240" y="2752560"/>
                <a:ext cx="63360" cy="57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76960" y="2752920"/>
                <a:ext cx="63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7240320" y="2695320"/>
                <a:ext cx="63360" cy="57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303680" y="2695320"/>
                <a:ext cx="63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367400" y="2695320"/>
                <a:ext cx="63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7431120" y="2637360"/>
                <a:ext cx="61560" cy="57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7492680" y="2608200"/>
                <a:ext cx="633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665360" y="43077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728360" y="424980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792080" y="44373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855800" y="44953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919160" y="44521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982520" y="45529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046240" y="458208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109600" y="45673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173320" y="4509360"/>
                <a:ext cx="9288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7" y="0"/>
                    </a:moveTo>
                    <a:lnTo>
                      <a:pt x="53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251080" y="45093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314080" y="44521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377800" y="45673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441520" y="45673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504880" y="473904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568240" y="49269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631960" y="50133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2695320" y="49269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759040" y="50277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822400" y="4883400"/>
                <a:ext cx="9360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7" y="0"/>
                    </a:moveTo>
                    <a:lnTo>
                      <a:pt x="53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885760" y="4854240"/>
                <a:ext cx="93600" cy="8676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6" y="0"/>
                    </a:moveTo>
                    <a:lnTo>
                      <a:pt x="53" y="27"/>
                    </a:lnTo>
                    <a:lnTo>
                      <a:pt x="26" y="54"/>
                    </a:lnTo>
                    <a:lnTo>
                      <a:pt x="0" y="2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947680" y="4941360"/>
                <a:ext cx="9540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011040" y="469584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074760" y="45673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138480" y="44373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201480" y="4221000"/>
                <a:ext cx="9540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265200" y="409068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328920" y="37749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392640" y="357264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471840" y="3471480"/>
                <a:ext cx="9360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7" y="0"/>
                    </a:moveTo>
                    <a:lnTo>
                      <a:pt x="53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535200" y="3457440"/>
                <a:ext cx="9360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6" y="0"/>
                    </a:moveTo>
                    <a:lnTo>
                      <a:pt x="53" y="27"/>
                    </a:lnTo>
                    <a:lnTo>
                      <a:pt x="26" y="54"/>
                    </a:lnTo>
                    <a:lnTo>
                      <a:pt x="0" y="2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596760" y="3386880"/>
                <a:ext cx="95040" cy="8460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3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660480" y="3372120"/>
                <a:ext cx="95040" cy="8496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3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724200" y="32857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787200" y="3357720"/>
                <a:ext cx="9540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850920" y="3372120"/>
                <a:ext cx="95040" cy="8496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3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914640" y="3415680"/>
                <a:ext cx="95040" cy="8496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7" y="0"/>
                    </a:moveTo>
                    <a:lnTo>
                      <a:pt x="54" y="26"/>
                    </a:lnTo>
                    <a:lnTo>
                      <a:pt x="27" y="53"/>
                    </a:lnTo>
                    <a:lnTo>
                      <a:pt x="0" y="2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978360" y="33145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041360" y="3242520"/>
                <a:ext cx="9540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105080" y="3126600"/>
                <a:ext cx="9360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7" y="0"/>
                    </a:moveTo>
                    <a:lnTo>
                      <a:pt x="53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168800" y="2982240"/>
                <a:ext cx="9360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6" y="0"/>
                    </a:moveTo>
                    <a:lnTo>
                      <a:pt x="53" y="27"/>
                    </a:lnTo>
                    <a:lnTo>
                      <a:pt x="26" y="54"/>
                    </a:lnTo>
                    <a:lnTo>
                      <a:pt x="0" y="2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230360" y="25941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293720" y="246420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4357440" y="233424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421160" y="2206080"/>
                <a:ext cx="95040" cy="8496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7" y="0"/>
                    </a:moveTo>
                    <a:lnTo>
                      <a:pt x="54" y="26"/>
                    </a:lnTo>
                    <a:lnTo>
                      <a:pt x="27" y="53"/>
                    </a:lnTo>
                    <a:lnTo>
                      <a:pt x="0" y="2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4484160" y="2162520"/>
                <a:ext cx="95040" cy="8496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3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547880" y="21049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627440" y="21049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690800" y="240624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754520" y="2435400"/>
                <a:ext cx="9360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7" y="0"/>
                    </a:moveTo>
                    <a:lnTo>
                      <a:pt x="53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817880" y="2391840"/>
                <a:ext cx="92880" cy="8676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6" y="0"/>
                    </a:moveTo>
                    <a:lnTo>
                      <a:pt x="53" y="27"/>
                    </a:lnTo>
                    <a:lnTo>
                      <a:pt x="26" y="54"/>
                    </a:lnTo>
                    <a:lnTo>
                      <a:pt x="0" y="2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879800" y="244980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943160" y="240624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006880" y="25941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070240" y="2622960"/>
                <a:ext cx="95040" cy="8676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133600" y="2622960"/>
                <a:ext cx="95040" cy="8676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197320" y="26805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261040" y="26805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324040" y="2767320"/>
                <a:ext cx="95040" cy="8496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3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387760" y="27385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451480" y="2522160"/>
                <a:ext cx="9360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6" y="0"/>
                    </a:moveTo>
                    <a:lnTo>
                      <a:pt x="53" y="27"/>
                    </a:lnTo>
                    <a:lnTo>
                      <a:pt x="26" y="54"/>
                    </a:lnTo>
                    <a:lnTo>
                      <a:pt x="0" y="2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513040" y="25653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576760" y="253620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640120" y="25653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703480" y="2680560"/>
                <a:ext cx="9540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783040" y="26521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846760" y="26521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909760" y="26665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973480" y="26665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037200" y="26373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100920" y="2579400"/>
                <a:ext cx="92880" cy="8676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6" y="0"/>
                    </a:moveTo>
                    <a:lnTo>
                      <a:pt x="53" y="27"/>
                    </a:lnTo>
                    <a:lnTo>
                      <a:pt x="26" y="54"/>
                    </a:lnTo>
                    <a:lnTo>
                      <a:pt x="0" y="2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162480" y="26085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225840" y="2622960"/>
                <a:ext cx="95040" cy="8676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289200" y="2652120"/>
                <a:ext cx="9540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352920" y="26665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416280" y="26953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480000" y="27241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543360" y="2637360"/>
                <a:ext cx="9540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606720" y="26805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1712880" y="1715040"/>
              <a:ext cx="5922360" cy="3559680"/>
              <a:chOff x="1712880" y="1715040"/>
              <a:chExt cx="5922360" cy="3559680"/>
            </a:xfrm>
          </p:grpSpPr>
          <p:sp>
            <p:nvSpPr>
              <p:cNvPr id="2339" name=""/>
              <p:cNvSpPr/>
              <p:nvPr/>
            </p:nvSpPr>
            <p:spPr>
              <a:xfrm>
                <a:off x="6670440" y="26661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733800" y="2666160"/>
                <a:ext cx="9288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7" y="0"/>
                    </a:moveTo>
                    <a:lnTo>
                      <a:pt x="53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795720" y="2622600"/>
                <a:ext cx="95040" cy="8676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859080" y="26661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922800" y="26949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002000" y="286668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065720" y="2766960"/>
                <a:ext cx="95040" cy="8496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3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128720" y="2709720"/>
                <a:ext cx="9540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192440" y="270972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256160" y="26517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319880" y="265176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382880" y="2651760"/>
                <a:ext cx="93600" cy="86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7" y="0"/>
                    </a:moveTo>
                    <a:lnTo>
                      <a:pt x="53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444800" y="259380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508520" y="2565000"/>
                <a:ext cx="95040" cy="86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587720" y="1715040"/>
                <a:ext cx="1440" cy="355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540200" y="5272920"/>
                <a:ext cx="95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540200" y="4767840"/>
                <a:ext cx="95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540200" y="4249800"/>
                <a:ext cx="95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540200" y="3745800"/>
                <a:ext cx="95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540200" y="3242160"/>
                <a:ext cx="95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540200" y="2738160"/>
                <a:ext cx="95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540200" y="2218320"/>
                <a:ext cx="95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540200" y="1715040"/>
                <a:ext cx="95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V="1">
                <a:off x="1712880" y="4075920"/>
                <a:ext cx="6300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775880" y="4076280"/>
                <a:ext cx="63360" cy="572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839600" y="4133880"/>
                <a:ext cx="63360" cy="28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903320" y="4133880"/>
                <a:ext cx="63360" cy="28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966680" y="4133880"/>
                <a:ext cx="63000" cy="28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2030040" y="4163040"/>
                <a:ext cx="6336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V="1">
                <a:off x="2093760" y="417708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157120" y="417708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2220840" y="4191840"/>
                <a:ext cx="7740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2298600" y="4206240"/>
                <a:ext cx="6300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2361600" y="4221000"/>
                <a:ext cx="63360" cy="100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425320" y="4321800"/>
                <a:ext cx="633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489040" y="4365000"/>
                <a:ext cx="63360" cy="72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2552400" y="4437360"/>
                <a:ext cx="6300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615760" y="4480560"/>
                <a:ext cx="63360" cy="1296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679480" y="4610520"/>
                <a:ext cx="6336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742840" y="4639320"/>
                <a:ext cx="63360" cy="1429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V="1">
                <a:off x="2806560" y="4753080"/>
                <a:ext cx="6300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869920" y="4753440"/>
                <a:ext cx="6192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931840" y="4782240"/>
                <a:ext cx="63360" cy="720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V="1">
                <a:off x="2995560" y="4767840"/>
                <a:ext cx="63000" cy="86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V="1">
                <a:off x="3058560" y="4709880"/>
                <a:ext cx="63360" cy="572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V="1">
                <a:off x="3122280" y="4610520"/>
                <a:ext cx="63360" cy="99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V="1">
                <a:off x="3186000" y="4538520"/>
                <a:ext cx="63360" cy="720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V="1">
                <a:off x="3249360" y="4495320"/>
                <a:ext cx="6300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3312720" y="4451760"/>
                <a:ext cx="633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3376440" y="4335840"/>
                <a:ext cx="63360" cy="1155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3439800" y="4235040"/>
                <a:ext cx="79200" cy="100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3519000" y="4148640"/>
                <a:ext cx="61920" cy="86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V="1">
                <a:off x="3581280" y="4090680"/>
                <a:ext cx="63000" cy="576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V="1">
                <a:off x="3644280" y="4034160"/>
                <a:ext cx="63360" cy="55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V="1">
                <a:off x="3708000" y="3948120"/>
                <a:ext cx="63360" cy="86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3771720" y="3948120"/>
                <a:ext cx="6336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V="1">
                <a:off x="3835080" y="3962160"/>
                <a:ext cx="63000" cy="140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3898440" y="3861360"/>
                <a:ext cx="63360" cy="100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3962160" y="3818160"/>
                <a:ext cx="633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4025520" y="3774960"/>
                <a:ext cx="633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4089240" y="3673800"/>
                <a:ext cx="63000" cy="100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4152600" y="3630240"/>
                <a:ext cx="6192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4214520" y="3414960"/>
                <a:ext cx="63000" cy="2149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4277880" y="3314160"/>
                <a:ext cx="63360" cy="100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4341240" y="3242160"/>
                <a:ext cx="63360" cy="720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4404960" y="3198960"/>
                <a:ext cx="633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4468680" y="3155760"/>
                <a:ext cx="6300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4531680" y="3097800"/>
                <a:ext cx="63360" cy="576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4595400" y="3083040"/>
                <a:ext cx="795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674960" y="3083040"/>
                <a:ext cx="6300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4738320" y="3097440"/>
                <a:ext cx="6336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4802040" y="3054600"/>
                <a:ext cx="615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863600" y="3054600"/>
                <a:ext cx="633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4926960" y="3054600"/>
                <a:ext cx="633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990680" y="3054600"/>
                <a:ext cx="63360" cy="86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5054400" y="3126600"/>
                <a:ext cx="6300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17400" y="312660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5181120" y="312660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V="1">
                <a:off x="5244840" y="311184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308560" y="3111840"/>
                <a:ext cx="6300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5371560" y="311184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5435280" y="3054240"/>
                <a:ext cx="61560" cy="572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496840" y="303984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560560" y="302544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623920" y="3025440"/>
                <a:ext cx="63360" cy="1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687640" y="3025440"/>
                <a:ext cx="63000" cy="576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751000" y="3083040"/>
                <a:ext cx="795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830560" y="3068640"/>
                <a:ext cx="63360" cy="28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894280" y="3068640"/>
                <a:ext cx="63000" cy="1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957280" y="3039480"/>
                <a:ext cx="6336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021000" y="3039840"/>
                <a:ext cx="63360" cy="1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6084720" y="2982240"/>
                <a:ext cx="61560" cy="576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6146280" y="2953080"/>
                <a:ext cx="6336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6210000" y="2924280"/>
                <a:ext cx="6336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6273360" y="2851920"/>
                <a:ext cx="63360" cy="72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337080" y="2810160"/>
                <a:ext cx="63000" cy="41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400440" y="2752560"/>
                <a:ext cx="63360" cy="572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463800" y="2752920"/>
                <a:ext cx="63360" cy="1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527520" y="2651760"/>
                <a:ext cx="63360" cy="100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591240" y="2565000"/>
                <a:ext cx="63000" cy="86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654240" y="2449080"/>
                <a:ext cx="63360" cy="1155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717960" y="2377440"/>
                <a:ext cx="63360" cy="720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781680" y="2276280"/>
                <a:ext cx="61560" cy="100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843240" y="2261520"/>
                <a:ext cx="6336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906960" y="2247120"/>
                <a:ext cx="63360" cy="140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970320" y="2233080"/>
                <a:ext cx="79200" cy="14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7049520" y="2176560"/>
                <a:ext cx="63360" cy="55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7113240" y="2118960"/>
                <a:ext cx="63360" cy="576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176960" y="2118960"/>
                <a:ext cx="6300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239960" y="2061360"/>
                <a:ext cx="63360" cy="864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303680" y="2032200"/>
                <a:ext cx="63360" cy="28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367400" y="1989360"/>
                <a:ext cx="63360" cy="43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430760" y="1916280"/>
                <a:ext cx="61560" cy="72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492680" y="1916640"/>
                <a:ext cx="63360" cy="1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712880" y="4336200"/>
                <a:ext cx="6300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1775880" y="430704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839600" y="430740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1903320" y="430704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966680" y="4307400"/>
                <a:ext cx="6300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030040" y="4307400"/>
                <a:ext cx="6336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093760" y="4321800"/>
                <a:ext cx="6336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157120" y="432180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220840" y="4336200"/>
                <a:ext cx="7740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298600" y="4350600"/>
                <a:ext cx="63000" cy="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361600" y="4394160"/>
                <a:ext cx="63360" cy="5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425320" y="4451760"/>
                <a:ext cx="63360" cy="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489040" y="4495320"/>
                <a:ext cx="6336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2552400" y="4466160"/>
                <a:ext cx="63000" cy="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615760" y="4466160"/>
                <a:ext cx="63360" cy="10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679480" y="4567320"/>
                <a:ext cx="63360" cy="5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42840" y="4625280"/>
                <a:ext cx="63360" cy="99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806560" y="4724280"/>
                <a:ext cx="6300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869920" y="4753440"/>
                <a:ext cx="61920" cy="5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931840" y="4811040"/>
                <a:ext cx="6336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995560" y="4840200"/>
                <a:ext cx="6300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3058560" y="4839840"/>
                <a:ext cx="6336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3122280" y="4797000"/>
                <a:ext cx="63360" cy="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186000" y="4797000"/>
                <a:ext cx="633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249360" y="4797000"/>
                <a:ext cx="6300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312720" y="4811040"/>
                <a:ext cx="63360" cy="8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376440" y="4854240"/>
                <a:ext cx="63360" cy="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3439800" y="4796640"/>
                <a:ext cx="79200" cy="5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3519000" y="4710240"/>
                <a:ext cx="61920" cy="8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3581280" y="4695840"/>
                <a:ext cx="6300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3644280" y="4639320"/>
                <a:ext cx="63360" cy="5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3708000" y="4581360"/>
                <a:ext cx="63360" cy="5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3771720" y="4581720"/>
                <a:ext cx="633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3835080" y="4567320"/>
                <a:ext cx="6300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3898440" y="4451760"/>
                <a:ext cx="63360" cy="115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3962160" y="443736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4025520" y="442296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4089240" y="4365000"/>
                <a:ext cx="63000" cy="5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152600" y="4365000"/>
                <a:ext cx="6192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4214520" y="4321440"/>
                <a:ext cx="63000" cy="72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V="1">
                <a:off x="4277880" y="4278240"/>
                <a:ext cx="63360" cy="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4341240" y="4263840"/>
                <a:ext cx="6336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404960" y="4264200"/>
                <a:ext cx="633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4468680" y="4235040"/>
                <a:ext cx="6300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4531680" y="420588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4595400" y="4177080"/>
                <a:ext cx="7956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4674960" y="4105080"/>
                <a:ext cx="63000" cy="72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4738320" y="407592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4802040" y="4048920"/>
                <a:ext cx="61560" cy="27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863600" y="4049280"/>
                <a:ext cx="6336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4926960" y="403416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990680" y="403452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5054400" y="4020120"/>
                <a:ext cx="6300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117400" y="402012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5181120" y="400536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5244840" y="399132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5308560" y="3962160"/>
                <a:ext cx="6300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371560" y="3962520"/>
                <a:ext cx="633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5435280" y="3962520"/>
                <a:ext cx="615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V="1">
                <a:off x="5496840" y="396216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5560560" y="394812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623920" y="3948120"/>
                <a:ext cx="633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687640" y="3948120"/>
                <a:ext cx="6300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751000" y="3962520"/>
                <a:ext cx="7956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5830560" y="3962160"/>
                <a:ext cx="6336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5894280" y="3948120"/>
                <a:ext cx="6300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5957280" y="393336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V="1">
                <a:off x="6021000" y="3918960"/>
                <a:ext cx="63360" cy="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6084720" y="3904560"/>
                <a:ext cx="615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6146280" y="3861360"/>
                <a:ext cx="63360" cy="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6210000" y="3832200"/>
                <a:ext cx="6336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6273360" y="3731040"/>
                <a:ext cx="63360" cy="100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6337080" y="3688200"/>
                <a:ext cx="63000" cy="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6400440" y="3615480"/>
                <a:ext cx="63360" cy="72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6463800" y="3601440"/>
                <a:ext cx="63360" cy="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6527520" y="3543480"/>
                <a:ext cx="63360" cy="5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6591240" y="3444120"/>
                <a:ext cx="63000" cy="9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6654240" y="3328920"/>
                <a:ext cx="63360" cy="115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V="1">
                <a:off x="6717960" y="3256200"/>
                <a:ext cx="63360" cy="72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6781680" y="3169800"/>
                <a:ext cx="61560" cy="8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6843240" y="314064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6906960" y="3111840"/>
                <a:ext cx="6336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970320" y="3039840"/>
                <a:ext cx="79200" cy="72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7049520" y="3010680"/>
                <a:ext cx="63360" cy="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113240" y="2982240"/>
                <a:ext cx="6336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176960" y="2982240"/>
                <a:ext cx="63000" cy="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 flipV="1">
              <a:off x="7240680" y="2938680"/>
              <a:ext cx="63360" cy="7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7304040" y="2924640"/>
              <a:ext cx="63360" cy="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7367760" y="2867040"/>
              <a:ext cx="63360" cy="5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7431480" y="2825280"/>
              <a:ext cx="61560" cy="4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493040" y="2825280"/>
              <a:ext cx="63360" cy="12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995560" y="14277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700" spc="-1" strike="noStrike">
                  <a:solidFill>
                    <a:srgbClr val="000000"/>
                  </a:solidFill>
                  <a:latin typeface="Arial"/>
                </a:rPr>
                <a:t>(acumulado 12 mese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093680" y="517248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-0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157040" y="48546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0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157040" y="452448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0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157040" y="42066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1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157040" y="38761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1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157040" y="3558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2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157040" y="32281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2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157040" y="2910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3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157040" y="257976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3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157040" y="226188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4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157040" y="193176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4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157040" y="161388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5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rot="18900000">
              <a:off x="1118520" y="557640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-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rot="18900000">
              <a:off x="1576800" y="554724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Jul-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rot="18900000">
              <a:off x="1892880" y="55638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Ene -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rot="18900000">
              <a:off x="2350800" y="55461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Jul-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rot="18900000">
              <a:off x="2652480" y="55638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Ene -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rot="18900000">
              <a:off x="3127680" y="5547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Jul-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rot="18900000">
              <a:off x="3429360" y="556344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 -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rot="18900000">
              <a:off x="3887640" y="5547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Jul-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rot="18900000">
              <a:off x="4204440" y="55638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 -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rot="18900000">
              <a:off x="4664520" y="554724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Jul-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rot="18900000">
              <a:off x="4965120" y="55638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 -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rot="18900000">
              <a:off x="5442120" y="5547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Jul-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rot="18900000">
              <a:off x="5737680" y="55656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 -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rot="18900000">
              <a:off x="6199200" y="55461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Jul-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rot="18900000">
              <a:off x="6517080" y="556344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 -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rot="18900000">
              <a:off x="6975360" y="5547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Jul-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rot="16200000">
              <a:off x="-163440" y="3172680"/>
              <a:ext cx="22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(Resultado primario, en % PI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13720" y="51724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13720" y="46688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13720" y="4149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13720" y="3645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21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13720" y="31413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713720" y="26373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713720" y="2119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2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713720" y="16138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2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rot="16200000">
              <a:off x="7421040" y="3260880"/>
              <a:ext cx="1410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(Variación anual %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484520" y="4394520"/>
              <a:ext cx="44280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659480" y="4350960"/>
              <a:ext cx="95040" cy="864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ff"/>
            </a:solidFill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969080" y="4278600"/>
              <a:ext cx="196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Resultado primario en % P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484520" y="4596480"/>
              <a:ext cx="44280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67640" y="4480920"/>
              <a:ext cx="202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Ingresos totales (eje derech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484520" y="4797000"/>
              <a:ext cx="4428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969440" y="4683240"/>
              <a:ext cx="19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Gasto primario (eje derech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476360" y="5719320"/>
              <a:ext cx="45925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523880" y="5734080"/>
              <a:ext cx="1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516320" y="5949000"/>
              <a:ext cx="216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Fuente: Ministerio de Economí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3" name=""/>
          <p:cNvSpPr/>
          <p:nvPr/>
        </p:nvSpPr>
        <p:spPr>
          <a:xfrm>
            <a:off x="784080" y="8222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olíticas macroeconómicas consistentes: Superávit pri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781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olíticas macroeconómicas: Superávit de cuent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6" name=""/>
          <p:cNvGrpSpPr/>
          <p:nvPr/>
        </p:nvGrpSpPr>
        <p:grpSpPr>
          <a:xfrm>
            <a:off x="888840" y="1650960"/>
            <a:ext cx="7797960" cy="4809240"/>
            <a:chOff x="888840" y="1650960"/>
            <a:chExt cx="7797960" cy="4809240"/>
          </a:xfrm>
        </p:grpSpPr>
        <p:grpSp>
          <p:nvGrpSpPr>
            <p:cNvPr id="2597" name=""/>
            <p:cNvGrpSpPr/>
            <p:nvPr/>
          </p:nvGrpSpPr>
          <p:grpSpPr>
            <a:xfrm>
              <a:off x="1343160" y="2093760"/>
              <a:ext cx="6351480" cy="3915000"/>
              <a:chOff x="1343160" y="2093760"/>
              <a:chExt cx="6351480" cy="3915000"/>
            </a:xfrm>
          </p:grpSpPr>
          <p:sp>
            <p:nvSpPr>
              <p:cNvPr id="2598" name=""/>
              <p:cNvSpPr/>
              <p:nvPr/>
            </p:nvSpPr>
            <p:spPr>
              <a:xfrm>
                <a:off x="1387440" y="2093760"/>
                <a:ext cx="6305760" cy="39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406520" y="4703760"/>
                <a:ext cx="65160" cy="2001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512720" y="4703760"/>
                <a:ext cx="66960" cy="228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619280" y="4703760"/>
                <a:ext cx="66600" cy="2318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727280" y="4703760"/>
                <a:ext cx="66600" cy="2095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833480" y="4703760"/>
                <a:ext cx="66600" cy="147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941480" y="4703760"/>
                <a:ext cx="65160" cy="190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048040" y="4638600"/>
                <a:ext cx="66600" cy="651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54240" y="4583160"/>
                <a:ext cx="66600" cy="120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260440" y="4562640"/>
                <a:ext cx="66960" cy="1411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367000" y="4595760"/>
                <a:ext cx="66600" cy="1080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475000" y="4616280"/>
                <a:ext cx="66600" cy="874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581200" y="4619520"/>
                <a:ext cx="66600" cy="842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687760" y="4640400"/>
                <a:ext cx="66600" cy="633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795760" y="4691160"/>
                <a:ext cx="66600" cy="12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901960" y="4703760"/>
                <a:ext cx="66600" cy="349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009960" y="4703760"/>
                <a:ext cx="65160" cy="93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116160" y="4703760"/>
                <a:ext cx="66600" cy="1317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222720" y="4703760"/>
                <a:ext cx="66600" cy="1396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3330720" y="4703760"/>
                <a:ext cx="66600" cy="147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436920" y="4703760"/>
                <a:ext cx="66600" cy="1350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544920" y="4703760"/>
                <a:ext cx="65160" cy="1033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651120" y="4703760"/>
                <a:ext cx="66960" cy="730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757680" y="4703760"/>
                <a:ext cx="66600" cy="572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863880" y="4703760"/>
                <a:ext cx="66600" cy="363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970440" y="4703760"/>
                <a:ext cx="66600" cy="64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078440" y="4681440"/>
                <a:ext cx="64800" cy="223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184640" y="4633920"/>
                <a:ext cx="66600" cy="698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4290840" y="4589280"/>
                <a:ext cx="66960" cy="1144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4398840" y="4573440"/>
                <a:ext cx="66960" cy="1303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4505400" y="4541760"/>
                <a:ext cx="66600" cy="1620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4613400" y="4452840"/>
                <a:ext cx="64800" cy="2509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719600" y="4343400"/>
                <a:ext cx="66600" cy="3603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826160" y="4111560"/>
                <a:ext cx="66600" cy="5922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4933800" y="3781440"/>
                <a:ext cx="66960" cy="9223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040360" y="3294000"/>
                <a:ext cx="66600" cy="14097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146560" y="2570040"/>
                <a:ext cx="66960" cy="21337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254560" y="2363760"/>
                <a:ext cx="66600" cy="23400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361120" y="2502000"/>
                <a:ext cx="64800" cy="22017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467320" y="2744640"/>
                <a:ext cx="66600" cy="19591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573880" y="2990880"/>
                <a:ext cx="66600" cy="17128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681520" y="3211560"/>
                <a:ext cx="65160" cy="14922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788080" y="3375000"/>
                <a:ext cx="66600" cy="13287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894280" y="3487680"/>
                <a:ext cx="66960" cy="12160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002280" y="3565440"/>
                <a:ext cx="66600" cy="11383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108840" y="3618000"/>
                <a:ext cx="66600" cy="10857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216480" y="3718080"/>
                <a:ext cx="65160" cy="9856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323040" y="3727440"/>
                <a:ext cx="66600" cy="9763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429240" y="3763800"/>
                <a:ext cx="66960" cy="9399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537240" y="3794040"/>
                <a:ext cx="65160" cy="9097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643800" y="3787920"/>
                <a:ext cx="66600" cy="9158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750000" y="3857760"/>
                <a:ext cx="66600" cy="8460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858000" y="3846600"/>
                <a:ext cx="66600" cy="8571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64200" y="3909960"/>
                <a:ext cx="65160" cy="7938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070760" y="3960720"/>
                <a:ext cx="66600" cy="7430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176960" y="4046400"/>
                <a:ext cx="66960" cy="6573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284960" y="4040280"/>
                <a:ext cx="65160" cy="66348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391520" y="4019400"/>
                <a:ext cx="66600" cy="6843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497720" y="4230720"/>
                <a:ext cx="66600" cy="4730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387440" y="2093760"/>
                <a:ext cx="1800" cy="391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343160" y="60069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343160" y="5354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343160" y="4703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343160" y="40514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343160" y="33987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343160" y="27464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343160" y="20937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387440" y="4703760"/>
                <a:ext cx="630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138744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149400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160020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170820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181440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V="1">
                <a:off x="192096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202896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V="1">
                <a:off x="213516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224172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234792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V="1">
                <a:off x="245592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V="1">
                <a:off x="256212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V="1">
                <a:off x="266868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277668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288288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V="1">
                <a:off x="298944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V="1">
                <a:off x="309708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V="1">
                <a:off x="320364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331164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341784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V="1">
                <a:off x="352440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363204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V="1">
                <a:off x="373860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384480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395136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V="1">
                <a:off x="405936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416556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427212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437976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448632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459252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470052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V="1">
                <a:off x="480708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V="1">
                <a:off x="491508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502128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512748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V="1">
                <a:off x="523548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V="1">
                <a:off x="534024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V="1">
                <a:off x="544824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555480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V="1">
                <a:off x="566244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V="1">
                <a:off x="576900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V="1">
                <a:off x="587520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V="1">
                <a:off x="598320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608976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V="1">
                <a:off x="619596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V="1">
                <a:off x="630396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>
                <a:off x="641016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V="1">
                <a:off x="651816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662472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673092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V="1">
                <a:off x="683892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694368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V="1">
                <a:off x="705168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15788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V="1">
                <a:off x="726588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737244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V="1">
                <a:off x="7478640" y="4703400"/>
                <a:ext cx="180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V="1">
                <a:off x="758664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693200" y="4703400"/>
                <a:ext cx="14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440000" y="5234040"/>
                <a:ext cx="107640" cy="302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547640" y="5264280"/>
                <a:ext cx="106560" cy="93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 flipV="1">
                <a:off x="1654200" y="5259240"/>
                <a:ext cx="106200" cy="144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1760400" y="5203800"/>
                <a:ext cx="108000" cy="554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1868400" y="5092200"/>
                <a:ext cx="106560" cy="1112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1974960" y="5014800"/>
                <a:ext cx="106200" cy="777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V="1">
                <a:off x="2081160" y="4962240"/>
                <a:ext cx="106560" cy="522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2187720" y="4941720"/>
                <a:ext cx="107640" cy="208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295360" y="4941720"/>
                <a:ext cx="106560" cy="302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401920" y="4971960"/>
                <a:ext cx="106200" cy="237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508120" y="4995720"/>
                <a:ext cx="108000" cy="320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616120" y="5027760"/>
                <a:ext cx="106560" cy="396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722680" y="5067360"/>
                <a:ext cx="106200" cy="666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828880" y="5133960"/>
                <a:ext cx="108000" cy="666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936880" y="5200560"/>
                <a:ext cx="106200" cy="428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043080" y="5243400"/>
                <a:ext cx="108000" cy="540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3151080" y="5297400"/>
                <a:ext cx="106560" cy="158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3257640" y="5313240"/>
                <a:ext cx="106200" cy="158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3363840" y="5329080"/>
                <a:ext cx="108000" cy="64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3471840" y="5297400"/>
                <a:ext cx="106560" cy="381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V="1">
                <a:off x="3578400" y="5280120"/>
                <a:ext cx="106200" cy="172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V="1">
                <a:off x="3684600" y="5270040"/>
                <a:ext cx="106200" cy="97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3790800" y="5253120"/>
                <a:ext cx="108000" cy="172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V="1">
                <a:off x="3898800" y="5243040"/>
                <a:ext cx="106560" cy="97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4005360" y="5218200"/>
                <a:ext cx="106200" cy="252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 flipV="1">
                <a:off x="4111560" y="5169960"/>
                <a:ext cx="108000" cy="478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4219560" y="5114880"/>
                <a:ext cx="106200" cy="554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 flipV="1">
                <a:off x="4325760" y="5099040"/>
                <a:ext cx="106560" cy="158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4432320" y="5079600"/>
                <a:ext cx="108000" cy="190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4540320" y="5002200"/>
                <a:ext cx="106200" cy="777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V="1">
                <a:off x="4646520" y="4886280"/>
                <a:ext cx="108000" cy="1159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V="1">
                <a:off x="4754520" y="4686120"/>
                <a:ext cx="106560" cy="2001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 flipV="1">
                <a:off x="4861080" y="4441320"/>
                <a:ext cx="106200" cy="2444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4967280" y="4068720"/>
                <a:ext cx="108000" cy="3729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5075280" y="3614400"/>
                <a:ext cx="106200" cy="4539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5181480" y="3439800"/>
                <a:ext cx="106560" cy="1746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288040" y="3440160"/>
                <a:ext cx="106200" cy="205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394240" y="3460680"/>
                <a:ext cx="108000" cy="2192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502240" y="3679920"/>
                <a:ext cx="106560" cy="1936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08800" y="3873600"/>
                <a:ext cx="106200" cy="1904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715000" y="4064040"/>
                <a:ext cx="108000" cy="1620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823000" y="4226040"/>
                <a:ext cx="106200" cy="1080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929200" y="4334040"/>
                <a:ext cx="106560" cy="936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035760" y="4427640"/>
                <a:ext cx="108000" cy="428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143760" y="4470480"/>
                <a:ext cx="106200" cy="140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V="1">
                <a:off x="6249960" y="4395960"/>
                <a:ext cx="108000" cy="885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V="1">
                <a:off x="6357960" y="4327560"/>
                <a:ext cx="106200" cy="684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V="1">
                <a:off x="6464160" y="4275000"/>
                <a:ext cx="106560" cy="525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V="1">
                <a:off x="6570720" y="4249800"/>
                <a:ext cx="108000" cy="252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678720" y="4249800"/>
                <a:ext cx="106200" cy="223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 flipV="1">
                <a:off x="6784920" y="4211640"/>
                <a:ext cx="106560" cy="604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891480" y="4211640"/>
                <a:ext cx="106200" cy="205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997680" y="4232160"/>
                <a:ext cx="106560" cy="176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104240" y="4249800"/>
                <a:ext cx="107640" cy="792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211880" y="4329000"/>
                <a:ext cx="106560" cy="18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7318440" y="4327560"/>
                <a:ext cx="108000" cy="14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426440" y="4327560"/>
                <a:ext cx="106200" cy="1299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1417680" y="5211720"/>
                <a:ext cx="44280" cy="42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1523880" y="5240160"/>
                <a:ext cx="44640" cy="446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1631880" y="5251320"/>
                <a:ext cx="42840" cy="446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1738440" y="5237280"/>
                <a:ext cx="44280" cy="42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1846440" y="5181480"/>
                <a:ext cx="42840" cy="446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1952640" y="5070600"/>
                <a:ext cx="44280" cy="42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058840" y="4992840"/>
                <a:ext cx="44640" cy="42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165400" y="4940280"/>
                <a:ext cx="44280" cy="42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271600" y="4919760"/>
                <a:ext cx="44640" cy="42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379600" y="4950000"/>
                <a:ext cx="42840" cy="42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486160" y="4973760"/>
                <a:ext cx="44280" cy="442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593800" y="5005440"/>
                <a:ext cx="43200" cy="42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700360" y="5043600"/>
                <a:ext cx="44280" cy="442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806560" y="5111640"/>
                <a:ext cx="44640" cy="446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914560" y="5178600"/>
                <a:ext cx="42840" cy="442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8" name=""/>
            <p:cNvSpPr/>
            <p:nvPr/>
          </p:nvSpPr>
          <p:spPr>
            <a:xfrm>
              <a:off x="3021120" y="5221440"/>
              <a:ext cx="4428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3127320" y="5275080"/>
              <a:ext cx="4464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3235320" y="5291280"/>
              <a:ext cx="428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341520" y="5305320"/>
              <a:ext cx="4464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3449520" y="5313240"/>
              <a:ext cx="428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3556080" y="5275080"/>
              <a:ext cx="4428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662280" y="5256360"/>
              <a:ext cx="446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768840" y="5248440"/>
              <a:ext cx="4428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875040" y="5230800"/>
              <a:ext cx="446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983040" y="5221440"/>
              <a:ext cx="428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089240" y="5194440"/>
              <a:ext cx="446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197240" y="5148360"/>
              <a:ext cx="428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03800" y="5092560"/>
              <a:ext cx="4428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410000" y="5076720"/>
              <a:ext cx="446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518000" y="5057640"/>
              <a:ext cx="428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24560" y="4979880"/>
              <a:ext cx="4428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30760" y="4863960"/>
              <a:ext cx="4428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838760" y="4664160"/>
              <a:ext cx="428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944960" y="4419720"/>
              <a:ext cx="446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052960" y="4046400"/>
              <a:ext cx="4284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159520" y="3592440"/>
              <a:ext cx="4428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265720" y="3417840"/>
              <a:ext cx="446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372280" y="3436920"/>
              <a:ext cx="4428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478480" y="3656160"/>
              <a:ext cx="4428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586480" y="3851280"/>
              <a:ext cx="428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692680" y="4041720"/>
              <a:ext cx="446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799240" y="4203720"/>
              <a:ext cx="4428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907240" y="4311720"/>
              <a:ext cx="428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013440" y="4405320"/>
              <a:ext cx="446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121440" y="4448160"/>
              <a:ext cx="428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227640" y="4462560"/>
              <a:ext cx="446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334200" y="4373640"/>
              <a:ext cx="4428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442200" y="4305240"/>
              <a:ext cx="4284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48400" y="4253040"/>
              <a:ext cx="446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656400" y="4226040"/>
              <a:ext cx="428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762600" y="4249800"/>
              <a:ext cx="44640" cy="442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869160" y="4189320"/>
              <a:ext cx="4428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975360" y="4210200"/>
              <a:ext cx="446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081920" y="4227480"/>
              <a:ext cx="4428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89920" y="4307040"/>
              <a:ext cx="428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296120" y="4307040"/>
              <a:ext cx="446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402680" y="4305240"/>
              <a:ext cx="4428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510320" y="4435560"/>
              <a:ext cx="428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946440" y="592596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024200" y="5273640"/>
              <a:ext cx="25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1072440" y="46227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1072440" y="397044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992880" y="3316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992880" y="2665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992880" y="20131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1184400" y="618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9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1426320" y="62146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V9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1760760" y="62100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I9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2113560" y="619596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9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2467080" y="618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9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2709000" y="62146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V9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3042000" y="62100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I9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3396240" y="619596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3749760" y="618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3991680" y="62146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V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4324680" y="62100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I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4678920" y="619596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5034240" y="618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0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5274720" y="62146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V0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rot="18900000">
              <a:off x="5607360" y="62100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I0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rot="18900000">
              <a:off x="5961600" y="619596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rot="18900000">
              <a:off x="6315120" y="618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rot="18900000">
              <a:off x="6557400" y="62146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V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rot="18900000">
              <a:off x="6890040" y="62100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I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rot="18900000">
              <a:off x="7244280" y="619596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II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800360" y="2325600"/>
              <a:ext cx="2530440" cy="63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081160" y="2446200"/>
              <a:ext cx="177840" cy="87480"/>
            </a:xfrm>
            <a:prstGeom prst="rect">
              <a:avLst/>
            </a:prstGeom>
            <a:solidFill>
              <a:srgbClr val="99cc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081160" y="2801880"/>
              <a:ext cx="179280" cy="18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147760" y="2779560"/>
              <a:ext cx="44640" cy="44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620120" y="1787400"/>
              <a:ext cx="1066680" cy="19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 MT"/>
                </a:rPr>
                <a:t>2008 Balanza comer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 MT"/>
                </a:rPr>
                <a:t>3,6% P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 MT"/>
                </a:rPr>
                <a:t>Cuenta corr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 MT"/>
                </a:rPr>
                <a:t>2,1% P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429000" y="16509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447720" y="1863720"/>
              <a:ext cx="194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300" spc="-1" strike="noStrike">
                  <a:solidFill>
                    <a:srgbClr val="000000"/>
                  </a:solidFill>
                  <a:latin typeface="Gill Sans MT"/>
                </a:rPr>
                <a:t>(acumulado 4 trimestre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88840" y="178740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Gill Sans MT"/>
                </a:rPr>
                <a:t>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2297520" y="270180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Gill Sans MT"/>
                </a:rPr>
                <a:t>Cuenta corr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269440" y="2397240"/>
              <a:ext cx="1195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Gill Sans MT"/>
                </a:rPr>
                <a:t>Balanza comerci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8" name=""/>
          <p:cNvSpPr/>
          <p:nvPr/>
        </p:nvSpPr>
        <p:spPr>
          <a:xfrm>
            <a:off x="987480" y="6502320"/>
            <a:ext cx="4727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972720" y="6512040"/>
            <a:ext cx="953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Gill Sans MT"/>
              </a:rPr>
              <a:t>Fuente: INDE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CDC5-2ACC-4058-9359-94C86C4C594D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Text Box 2"/>
          <p:cNvSpPr/>
          <p:nvPr/>
        </p:nvSpPr>
        <p:spPr>
          <a:xfrm>
            <a:off x="0" y="990720"/>
            <a:ext cx="89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olítica macro el TCRM permanece por encima del promedio 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3" name="" descr=""/>
          <p:cNvPicPr/>
          <p:nvPr/>
        </p:nvPicPr>
        <p:blipFill>
          <a:blip r:embed="rId1"/>
          <a:stretch/>
        </p:blipFill>
        <p:spPr>
          <a:xfrm>
            <a:off x="743040" y="1844640"/>
            <a:ext cx="7574040" cy="4708440"/>
          </a:xfrm>
          <a:prstGeom prst="rect">
            <a:avLst/>
          </a:prstGeom>
          <a:ln w="0">
            <a:noFill/>
          </a:ln>
        </p:spPr>
      </p:pic>
      <p:sp>
        <p:nvSpPr>
          <p:cNvPr id="2884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7C83-3820-4F15-B9FE-3555D9BDC6FF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82880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>
              <a:lnSpc>
                <a:spcPct val="17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ituación financiera internacional comp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7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l sistema financiero doméstico con suficiente liquidez para operar bajo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7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Ultimas medidas adop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4596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NewBaskerville-Italic"/>
                <a:ea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mbios en la operatoria de pases activos.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ses activos a tasa fija (hasta $3.000 millones) y a tasa variable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%+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BADLA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Optimiz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las licitaciones de las letras y notas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l BCRA, adecuándolas a las condiciones de liquidez del mercado. Junto a esto se recompraron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LEBAC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NOBA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xtensión de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ímites para operatoria de futuros para el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CRA y otras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ontrapar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 permitió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que el tipo de cambio de referencia aplicable a las transacciones d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futuros y forward sea el fijado por el EMTA(Emerging Market Traders Associa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BCRA operó en el mercado de títulos públicos (en pesos y dólares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blecimiento de una posición bimestral de encajes en Junio y Jul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uevo mecanismo para proveer pases activos en dól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BCRA comenzó a operar en el mercado de ND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Nueva ventanilla de pases usando como colateral especies no tradicionales (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ogar y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GN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mpl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el menú de plazos de los pases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 dispuso un mecanismo que le permite a los bancos tenedores de LEBAC y NOBAC con vencimiento no mayor a seis meses hacerse de liquidez en forma inmedi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Su subieron dos veces la tasa de interés de los pases (Set 22 y Oct 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Se comenzaron a licitar puts que le permite a las EF revender LEBAC y NOBAC al BCRA con un descuento preestablecido con un margen sobre la BAD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Se redujeron encajes a depósitos en USD para elevar el fondeo a la actividad exporta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Text Box 2"/>
          <p:cNvSpPr/>
          <p:nvPr/>
        </p:nvSpPr>
        <p:spPr>
          <a:xfrm>
            <a:off x="0" y="82224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Medidas seleccionadas adoptadas por el Banco Central en las últimas sem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9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3084480" cy="3084480"/>
          </a:xfrm>
          <a:prstGeom prst="rect">
            <a:avLst/>
          </a:prstGeom>
          <a:ln w="0">
            <a:noFill/>
          </a:ln>
        </p:spPr>
      </p:pic>
      <p:sp>
        <p:nvSpPr>
          <p:cNvPr id="2890" name=""/>
          <p:cNvSpPr/>
          <p:nvPr/>
        </p:nvSpPr>
        <p:spPr>
          <a:xfrm>
            <a:off x="19782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uchas Gra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F006-3438-4893-8E23-1B8BA3253433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33520" y="1197000"/>
            <a:ext cx="86104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8215c"/>
                </a:solidFill>
                <a:latin typeface="Times New Roman"/>
              </a:rPr>
              <a:t>Contexto internacional (muy resumido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El exceso de apalancamiento y la sobre-exposición de los sistemas financieros a activos de dudosa calidad en el sector inmobiliario (subprime) y valuación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causaron el inicio de una crisis sistémica, afectando la liquidez y el capital de muchas instituciones financi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A pesar de los distintos programas de salvataje en marcha, hay una incipiente recesión en las principales economías del mundo, afectando el nivel de actividad y empleo, que puede ser larga y profu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América Latina no está exenta. Casos de Brasil y México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2DC2-2904-4E1F-8470-D43EC28BF897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88416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r casa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: el Sector Monetario pres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Mayores niveles de monetización y cobertura con Reservas que en el 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0800" y="2392200"/>
            <a:ext cx="7502400" cy="3094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C73D-5CBC-4A2E-BB27-C0AD443AFF2C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762120"/>
            <a:ext cx="91440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simismo, el Sector Financiero tie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mplia liquidez, sobre-integración de capital, asistencia por redescuentos casi nula, el Sector Público es acreedor neto, bajo nivel de mora con exceso de previsionamiento, descalce mínimo en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600280"/>
            <a:ext cx="7502400" cy="2962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72B-5A14-446C-87A2-E58B7703F803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762120"/>
            <a:ext cx="91440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000000"/>
                </a:solidFill>
                <a:latin typeface="Times New Roman"/>
              </a:rPr>
              <a:t>Los riesgos están acotados en niveles manejab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Amplia liquidez, sobre-integración de capital, asistencia por redescuentos casi nula, el Sector Público es acreedor neto, bajo nivel de mora con exceso de aprovisionamiento, descalce mínimo en ME (co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27200" y="2919240"/>
            <a:ext cx="7502400" cy="29480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838080"/>
            <a:ext cx="8381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000000"/>
                </a:solidFill>
                <a:latin typeface="Times New Roman"/>
              </a:rPr>
              <a:t>Las medidas de política económica y monetaria adoptadas en los últimos años han permitido el fortalecimiento de nuestra posic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6840" y="2948040"/>
            <a:ext cx="8381880" cy="28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Política de acumulación de reserv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Flexibilidad cambia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Prestamista de última instancia en pe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Triángulo de fundament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olvencia fiscal y reducir deuda / PI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olvencia ext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tabilidad financi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774800"/>
          <a:ext cx="8713800" cy="809640"/>
        </p:xfrm>
        <a:graphic>
          <a:graphicData uri="http://schemas.openxmlformats.org/drawingml/2006/table">
            <a:tbl>
              <a:tblPr/>
              <a:tblGrid>
                <a:gridCol w="4680000"/>
                <a:gridCol w="4033800"/>
              </a:tblGrid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A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bjetivo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Reducir la volatilidad macroeconóm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minuir la probabilidad de shock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igerar el efecto de los shock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4759200" y="1773360"/>
            <a:ext cx="71640" cy="863640"/>
          </a:xfrm>
          <a:custGeom>
            <a:avLst/>
            <a:gdLst>
              <a:gd name="textAreaLeft" fmla="*/ 45720 w 71640"/>
              <a:gd name="textAreaRight" fmla="*/ 72000 w 71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8380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Política Monetaria y Financiera 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6840" y="2924280"/>
            <a:ext cx="838188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ejorar la administración de riesgos financie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Evitar descalces de mone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ducir la prociclicidad del crédi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iversificar la estructura de propiedad banca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Incorporar prudentemente las innovaciones financier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41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origerar el sesgo del crédito al consum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774800"/>
          <a:ext cx="8713800" cy="809640"/>
        </p:xfrm>
        <a:graphic>
          <a:graphicData uri="http://schemas.openxmlformats.org/drawingml/2006/table">
            <a:tbl>
              <a:tblPr/>
              <a:tblGrid>
                <a:gridCol w="4470480"/>
                <a:gridCol w="4243320"/>
              </a:tblGrid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ción prudencial y superv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financiero más robu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500720" y="177336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222120"/>
            <a:ext cx="382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3CC6-3B6B-4955-A11A-DE4941C6BFDC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lítica prudencial de acumulación de re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1560" y="21049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572000" y="136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gimen Monetario y Financiero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8:11:36Z</dcterms:created>
  <dc:creator>l10356</dc:creator>
  <dc:description/>
  <dc:language>en-US</dc:language>
  <cp:lastModifiedBy>L10728</cp:lastModifiedBy>
  <dcterms:modified xsi:type="dcterms:W3CDTF">2008-11-20T17:26:44Z</dcterms:modified>
  <cp:revision>522</cp:revision>
  <dc:subject/>
  <dc:title>Título en cuerpo 42 Subtítulo en cuerpo 20 </dc:title>
</cp:coreProperties>
</file>