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7764-6D5C-4B56-9F3E-7D4AF23DD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381C-C20E-430B-9669-339839571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3FC1-AF3E-4C8A-9F7C-69E971F34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B647-FB98-44A0-AB56-A68F3BF11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C246-E780-4860-8FB1-68A33EEE8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6CA9-E256-43EA-B2DA-0B7DB3FE8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0A68-CEC0-46FC-A861-D56CD9ED8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1ED6-74C6-43FD-A63B-2AD8874C4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8445-1A0E-41CE-AD8C-57E2364D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29CC-7625-408F-B479-1A39A091E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1A45-8C99-4EC6-89DA-74A65EF7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5C74-837F-4777-90B7-CE52BCD4D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419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056D-0FEB-4527-B7C9-75A0765452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ogo-corporativo-fondo-tran"/>
          <p:cNvPicPr/>
          <p:nvPr/>
        </p:nvPicPr>
        <p:blipFill>
          <a:blip r:embed="rId3"/>
          <a:stretch/>
        </p:blipFill>
        <p:spPr>
          <a:xfrm>
            <a:off x="7093080" y="5699160"/>
            <a:ext cx="1763640" cy="111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tudiodecomunicacion.com/" TargetMode="External"/><Relationship Id="rId2" Type="http://schemas.openxmlformats.org/officeDocument/2006/relationships/hyperlink" Target="mailto:direccion@estudiocomunicacion.com.ar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64216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MUNIC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FINANCIERA</a:t>
            </a: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Rol de las comunicaciones institucionales en los Mercados de Capitales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7" descr="FONDO"/>
          <p:cNvPicPr/>
          <p:nvPr/>
        </p:nvPicPr>
        <p:blipFill>
          <a:blip r:embed="rId1"/>
          <a:stretch/>
        </p:blipFill>
        <p:spPr>
          <a:xfrm>
            <a:off x="144360" y="1341360"/>
            <a:ext cx="4427640" cy="330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go-corporativo-fondo-tran"/>
          <p:cNvPicPr/>
          <p:nvPr/>
        </p:nvPicPr>
        <p:blipFill>
          <a:blip r:embed="rId2"/>
          <a:stretch/>
        </p:blipFill>
        <p:spPr>
          <a:xfrm>
            <a:off x="5076720" y="166680"/>
            <a:ext cx="338292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405800" y="6308640"/>
            <a:ext cx="78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Benito Berceruelo – Consejo Profesional de Ciencias Económicas de la Ciudad de Bs. As. – Noviembre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287280" y="6093000"/>
            <a:ext cx="87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2848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Complicaciones añadid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28640"/>
            <a:ext cx="699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que afecten a aspectos regulados por l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que afecten a la competencia de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con dimensión trans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124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Soportes de Comunicación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(básic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11120" y="1483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chos relevantes (comunicaciones leg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as de pren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lletos informativos legales y comer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ciones (road sh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ídeo presentación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2492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Medi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ficina del Accionista. Teléfono de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binete de Pr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po de Seguimiento (asesoría ex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binete de cr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5800" y="76500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ANTO MAYOR ES LA IN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AS DIFICIL ES COMUNICARL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mberto 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ENITO BERCER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udio de Comunicación S.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tudiodecomunicaci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pacho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v. Santa Fe 1821 5° Pi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reccion@estudiocomunicacion.com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rectora General - María Lía Ghel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5411) 4819 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280" y="115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La Comunicació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41672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lgo sencillo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un Emisor que emite un Mensaje dirigido a un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eficacia, que el mensaje se entienda y lle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tagonista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el RECEP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28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El mercad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11120" y="1125360"/>
            <a:ext cx="6213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r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nacional (global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ultidisciplin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sores leg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sores financi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r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sesores de Comunicació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smos regul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l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28720" y="620640"/>
            <a:ext cx="76309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ANONIMATO NO ES REFUGIO. TODO COMUNICA, PORQUE LA COMUNICACIÓN NEGATIVA TAMBIÉN ES COMUNICACIÓN. LA SEÑAL NEGATIVA ES MUCHO MÁS FÁCILMENTE MAL INTERPRET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vid Ber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5720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Libertad condiciona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0280" y="1699920"/>
            <a:ext cx="83628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s mercados establecen barreras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it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información privilegiad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g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los accionistas y posibles inversores para que puedan tomar sus decisiones de compra o venta con información fidedi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arantizar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que la información llegue a todos los “actores” de manera simulta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Bases de la Comunicación Financier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fesional.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Debe gestionarla alguien que conoce las normas de juego: las leyes, los reguladores, los tempos, los actor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ificada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tes de empezar tenemos que tener previstas las reacciones. Incluso las más radi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Única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odos los voceros deben decir lo mismo o en la misma di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5280" y="-273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Públicos objetiv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protagonista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versores, gestores de fondos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family offices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“intermediarios”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alistas y Period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árbitr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que a veces meten goles con la mano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guladores y administr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tros actores importantes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empleados, proveedores, clientes, lideres de opinió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3200" y="11556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Estrategia de Comunicació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ificación. Calend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de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ativa y “control”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vechar” la oportunidad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namente: orgullo de perten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ternamente: mejorar la notoriedad y la penetración comer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ver los posibles “ataques” y dar respuesta inmedi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mplir la Ley. (Pero aprender a caminar por el fil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43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Objetivos de la Comunicació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s de salir al merc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a conocer la empresa. Sólo se compra lo que se cono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tar el mayor número de inver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urante la colocación/operación y una vez en el merc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confianza en el valor (solidez, buena gestión, rent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nsmitir “futur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delizar al inversor (transparenc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arrestar los “ataques” que se puedan producir en 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0:24:04Z</dcterms:created>
  <dc:creator>lmboix</dc:creator>
  <dc:description/>
  <dc:language>en-US</dc:language>
  <cp:lastModifiedBy>CPCEACABA</cp:lastModifiedBy>
  <dcterms:modified xsi:type="dcterms:W3CDTF">2008-11-10T18:45:49Z</dcterms:modified>
  <cp:revision>53</cp:revision>
  <dc:subject/>
  <dc:title>Diapositiva 1</dc:title>
</cp:coreProperties>
</file>