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C8DB4-D537-4BDC-8A04-2E0176690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13AA9-62D5-4735-9380-AF1F1B89B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63AB1-C9CC-45EE-AC60-07FECC02E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8250A-65A4-47FC-810A-5A7ECAB61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F90527-00E7-4291-8846-768B577DF6D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1B8D9B-270F-4ABD-8A30-1AB1AD05FF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1A657B-D51F-4D5E-AE87-8E0BE88295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D6095E-4B8C-4088-8DE6-2BB8139B42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AD5FB7-4975-4D13-B9A6-3207E2C51D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3A95B-3102-41F7-89FA-4C7252E107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11CAC-7B99-423D-A5C1-1E8804F47E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5E0D8-0EDD-498C-86AF-E76BACD68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F155D-6C82-4E60-96F5-619E98B0C4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584EAB-38F5-4918-9930-CF97E2C2E0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18E5A-E57A-4000-BC4C-09920B455E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3AF772-12A8-4191-AF23-78BCBEAE4A3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CBBB1D-0870-413D-9820-05415C956A9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B80F3-44E2-4440-9944-770DC52DA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C709C-0B93-47E0-BC4F-CF47D7E89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35C4-2BF9-4D13-B587-A1EB24330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F153B-7A39-4C10-8BB7-F92D67E2A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8A3B0-8805-4BA7-802C-D4E316790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BB188-1FC8-4D66-B13D-959EAB2A2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838FA-028E-43C9-8994-EF813E8B3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C4E9-CA5C-4852-8FE2-471F906AD2F6}" type="slidenum">
              <a:rPr b="0" lang="es-A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CB33-611A-4E16-A759-604DC7A5A0A5}" type="slidenum">
              <a:rPr b="0" lang="es-A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3er Congreso Nacional e Internacional de Finanzas de la Empresa y de Mercado de Capitales</a:t>
            </a:r>
            <a:endParaRPr b="0" lang="en-US" sz="40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TEMARIO:</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Mercado de Capitales: medidas necesaria para su modernización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Experiencias en medidas de estimulo al Mercado de Capitales</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Exposición Dr. Jorge Enrique Berardi</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VISION DE NUESTRO MERCADO PARA EL SECTOR PRIVADO</a:t>
            </a:r>
            <a:endParaRPr b="0" lang="en-US" sz="40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espectro 200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Financiamiento Empresario a través del Mercado de Capitales (IAMC).</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Financiamiento genuino ( miles de millones de u$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Tahoma"/>
            </a:endParaRPr>
          </a:p>
        </p:txBody>
      </p:sp>
      <p:sp>
        <p:nvSpPr>
          <p:cNvPr id="104" name="PlaceHolder 2"/>
          <p:cNvSpPr>
            <a:spLocks noGrp="1"/>
          </p:cNvSpPr>
          <p:nvPr>
            <p:ph/>
          </p:nvPr>
        </p:nvSpPr>
        <p:spPr>
          <a:xfrm>
            <a:off x="0" y="0"/>
            <a:ext cx="8229600" cy="4076640"/>
          </a:xfrm>
          <a:prstGeom prst="rect">
            <a:avLst/>
          </a:prstGeom>
          <a:noFill/>
          <a:ln w="0">
            <a:noFill/>
          </a:ln>
        </p:spPr>
        <p:txBody>
          <a:bodyPr lIns="90000" rIns="90000" tIns="46800" bIns="46800" anchor="t">
            <a:normAutofit fontScale="57000"/>
          </a:bodyPr>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otal Empresas Grandes                                  5.928.548 </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randes</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ON                                                2.767.285  (47.6%)</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Fideicomisos      (1)                        2.362.604   (37.5%)</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Financieros </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Suscripción de                                    798.659  (14.9&amp;)</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Acciones</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otal  PYMES                                                       349.443</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ON                                                      1.822  (0.5%)</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Ch/pago diferido                                 197.071  (54%)</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Fideicomisos Financieros    (1)             150.550  (45.5%)</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Suscripción de acciones                          ---------</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OT GENERAL                                                    6.277.991</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9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05" name=""/>
          <p:cNvGraphicFramePr/>
          <p:nvPr/>
        </p:nvGraphicFramePr>
        <p:xfrm>
          <a:off x="1692360" y="476280"/>
          <a:ext cx="914400" cy="123840"/>
        </p:xfrm>
        <a:graphic>
          <a:graphicData uri="http://schemas.openxmlformats.org/presentationml/2006/ole">
            <p:oleObj r:id="rId2" spid="">
              <p:embed/>
              <p:pic>
                <p:nvPicPr>
                  <p:cNvPr id="106" name="" descr=""/>
                  <p:cNvPicPr/>
                  <p:nvPr/>
                </p:nvPicPr>
                <p:blipFill>
                  <a:blip r:embed="rId3"/>
                  <a:stretch/>
                </p:blipFill>
                <p:spPr>
                  <a:xfrm>
                    <a:off x="1692360" y="476280"/>
                    <a:ext cx="914400" cy="1238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RESULTADO</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a gestión de la actividad bursátil se orientó hacia el crédito desintermediado</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
          <p:cNvSpPr txBox="1"/>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endParaRPr b="0" lang="en-US" sz="3200" spc="-1" strike="noStrike">
              <a:solidFill>
                <a:srgbClr val="ffffff"/>
              </a:solidFill>
              <a:latin typeface="Tahoma"/>
            </a:endParaRPr>
          </a:p>
        </p:txBody>
      </p:sp>
      <p:pic>
        <p:nvPicPr>
          <p:cNvPr id="111" name="" descr=""/>
          <p:cNvPicPr/>
          <p:nvPr/>
        </p:nvPicPr>
        <p:blipFill>
          <a:blip r:embed="rId2"/>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ahoma"/>
              </a:rPr>
              <a:t>LOS ACTORES</a:t>
            </a:r>
            <a:br>
              <a:rPr sz="4000"/>
            </a:br>
            <a:br>
              <a:rPr sz="4000"/>
            </a:b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nversores : Privados e Institucionales</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mpresa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ncuesta junio 1997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IAMC-Estudio Mora y Arauj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Universo 1.000 empresas no cotizantes, respuesta de 40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80% nunca consideró cotizar accion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71% nunca consideró emitir 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40% temor perdida control o a socios desconocido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EXPERIENCIAS EN MEDIDAS DE ESTIMULOS AL MERCADO DE CAPITALES</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versores individuale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Ilustración</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Fomento fiscal</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mpresas: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Diferenciación tributaria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Solidaridad empresaria ante el sacrificio fiscal.(abrir el capital frente otorgamiento de beneficios fiscales o crediticios)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ado: Seguridad jurídica.</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ONCLUSIONE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Mercado de Capitales, en el ámbito bursátil y  como componente básico de la economía, no puede estar disociado de las necesidades de la actividad productiva.</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Capitalización Empresaria</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lentando el financiamiento a través del crédito desintermediado.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Muchas Gracias</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Dr. Jorge Enrique Berardi</a:t>
            </a:r>
            <a:endParaRPr b="0" lang="en-US" sz="4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SIDERACIONES INICIALES</a:t>
            </a:r>
            <a:br>
              <a:rPr sz="4000"/>
            </a:br>
            <a:r>
              <a:rPr b="0" lang="en-US" sz="4000" spc="-1" strike="noStrike">
                <a:solidFill>
                  <a:srgbClr val="ffffff"/>
                </a:solidFill>
                <a:latin typeface="Tahoma"/>
              </a:rPr>
              <a:t>LA CRISIS</a:t>
            </a:r>
            <a:endParaRPr b="0" lang="en-US" sz="40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Ninguno de los factores desencadenantes de la crisis internacional en los mercados de capitales, estuvieron presentes en el nuestro.</a:t>
            </a:r>
            <a:endParaRPr b="0" lang="en-US" sz="3200" spc="-1" strike="noStrike">
              <a:solidFill>
                <a:srgbClr val="ffffff"/>
              </a:solidFill>
              <a:latin typeface="Tahoma"/>
            </a:endParaRPr>
          </a:p>
          <a:p>
            <a:pPr marL="298440" indent="-2984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Puntos de contagio</a:t>
            </a:r>
            <a:endParaRPr b="0" lang="en-US" sz="3200" spc="-1" strike="noStrike">
              <a:solidFill>
                <a:srgbClr val="ffffff"/>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   </a:t>
            </a:r>
            <a:r>
              <a:rPr b="0" lang="es-AR" sz="3200" spc="-1" strike="noStrike">
                <a:solidFill>
                  <a:srgbClr val="ffffff"/>
                </a:solidFill>
                <a:latin typeface="Tahoma"/>
              </a:rPr>
              <a:t>- Globalización y rol economía americana</a:t>
            </a:r>
            <a:endParaRPr b="0" lang="en-US" sz="3200" spc="-1" strike="noStrike">
              <a:solidFill>
                <a:srgbClr val="ffffff"/>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   </a:t>
            </a:r>
            <a:r>
              <a:rPr b="0" lang="es-AR" sz="3200" spc="-1" strike="noStrike">
                <a:solidFill>
                  <a:srgbClr val="ffffff"/>
                </a:solidFill>
                <a:latin typeface="Tahoma"/>
              </a:rPr>
              <a:t>- Flujos internaciones de capitales</a:t>
            </a:r>
            <a:endParaRPr b="0" lang="en-US" sz="3200" spc="-1" strike="noStrike">
              <a:solidFill>
                <a:srgbClr val="ffffff"/>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   </a:t>
            </a:r>
            <a:r>
              <a:rPr b="0" lang="es-AR" sz="3200" spc="-1" strike="noStrike">
                <a:solidFill>
                  <a:srgbClr val="ffffff"/>
                </a:solidFill>
                <a:latin typeface="Tahoma"/>
              </a:rPr>
              <a:t>- Empresas cotizantes en mas de un país.</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SIDERACIONES INICIALES</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oncepción original de la definición de mercado de capitales: largo plazo</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oncepto actual: todo lo posible dentro de la actividad.</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n el  proceso tecnológico, de las comunicaciones y de la computación el M.C. es la Institución económica-financiera que mas evolucionó.</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VANCES HASTA LA CRISIS</a:t>
            </a:r>
            <a:br>
              <a:rPr sz="4000"/>
            </a:br>
            <a:r>
              <a:rPr b="0" lang="en-US" sz="4000" spc="-1" strike="noStrike">
                <a:solidFill>
                  <a:srgbClr val="ffffff"/>
                </a:solidFill>
                <a:latin typeface="Tahoma"/>
              </a:rPr>
              <a:t>Las Asociaciones.</a:t>
            </a:r>
            <a:endParaRPr b="0" lang="en-US" sz="40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t>
            </a:r>
            <a:endParaRPr b="0" lang="en-US" sz="2800" spc="-1" strike="noStrike">
              <a:solidFill>
                <a:srgbClr val="ffffff"/>
              </a:solidFill>
              <a:latin typeface="Tahoma"/>
            </a:endParaRPr>
          </a:p>
          <a:p>
            <a:pPr marL="380880" indent="-380880">
              <a:lnSpc>
                <a:spcPct val="80000"/>
              </a:lnSpc>
              <a:spcBef>
                <a:spcPts val="700"/>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uronext 2000.Fusión Bolsas de Paris, Ámsterdam y Bruxelas, 2002 se suma Lisboa. Es la segunda en Europa luego de Londres.</a:t>
            </a:r>
            <a:endParaRPr b="0" lang="en-US" sz="2800" spc="-1" strike="noStrike">
              <a:solidFill>
                <a:srgbClr val="ffffff"/>
              </a:solidFill>
              <a:latin typeface="Tahoma"/>
            </a:endParaRPr>
          </a:p>
          <a:p>
            <a:pPr marL="380880" indent="-380880">
              <a:lnSpc>
                <a:spcPct val="80000"/>
              </a:lnSpc>
              <a:spcBef>
                <a:spcPts val="700"/>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2006, acuerdo NYSE Group y Euronext para acciones y derivados.</a:t>
            </a:r>
            <a:endParaRPr b="0" lang="en-US" sz="2800" spc="-1" strike="noStrike">
              <a:solidFill>
                <a:srgbClr val="ffffff"/>
              </a:solidFill>
              <a:latin typeface="Tahoma"/>
            </a:endParaRPr>
          </a:p>
          <a:p>
            <a:pPr marL="380880" indent="-380880">
              <a:lnSpc>
                <a:spcPct val="80000"/>
              </a:lnSpc>
              <a:spcBef>
                <a:spcPts val="700"/>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rchipélago NYSE</a:t>
            </a:r>
            <a:endParaRPr b="0" lang="en-US" sz="2800" spc="-1" strike="noStrike">
              <a:solidFill>
                <a:srgbClr val="ffffff"/>
              </a:solidFill>
              <a:latin typeface="Tahoma"/>
            </a:endParaRPr>
          </a:p>
          <a:p>
            <a:pPr marL="380880" indent="-380880">
              <a:lnSpc>
                <a:spcPct val="80000"/>
              </a:lnSpc>
              <a:spcBef>
                <a:spcPts val="700"/>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ovespa- BM&amp;F en mayo de este año.</a:t>
            </a:r>
            <a:endParaRPr b="0" lang="en-US" sz="2800" spc="-1" strike="noStrike">
              <a:solidFill>
                <a:srgbClr val="ffffff"/>
              </a:solidFill>
              <a:latin typeface="Tahoma"/>
            </a:endParaRPr>
          </a:p>
          <a:p>
            <a:pPr marL="380880" indent="-380880">
              <a:lnSpc>
                <a:spcPct val="80000"/>
              </a:lnSpc>
              <a:spcBef>
                <a:spcPts val="700"/>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asdaq- OMX en febrero 2008.</a:t>
            </a:r>
            <a:endParaRPr b="0" lang="en-US" sz="2800" spc="-1" strike="noStrike">
              <a:solidFill>
                <a:srgbClr val="ffffff"/>
              </a:solidFill>
              <a:latin typeface="Tahoma"/>
            </a:endParaRPr>
          </a:p>
          <a:p>
            <a:pPr marL="380880" indent="-380880">
              <a:lnSpc>
                <a:spcPct val="80000"/>
              </a:lnSpc>
              <a:spcBef>
                <a:spcPts val="700"/>
              </a:spcBef>
              <a:buClr>
                <a:srgbClr val="ffcc00"/>
              </a:buClr>
              <a:buSzPct val="12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olsa de Londres- Bolsa Italiana octubre 2007</a:t>
            </a:r>
            <a:endParaRPr b="0" lang="en-US"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ffffff"/>
                </a:solidFill>
                <a:latin typeface="Tahoma"/>
              </a:rPr>
              <a:t>AVANCES HASTA LA CRISIS</a:t>
            </a:r>
            <a:br>
              <a:rPr sz="4000"/>
            </a:br>
            <a:r>
              <a:rPr b="0" lang="es-MX" sz="4000" spc="-1" strike="noStrike">
                <a:solidFill>
                  <a:srgbClr val="ffffff"/>
                </a:solidFill>
                <a:latin typeface="Tahoma"/>
              </a:rPr>
              <a:t>Desmutualización</a:t>
            </a:r>
            <a:br>
              <a:rPr sz="4000"/>
            </a:br>
            <a:endParaRPr b="0" lang="en-US" sz="40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rchipelago - NY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acciones de Bovespa (Bolsa de Valores) y BM&amp;F (Mercado de Futuros) estará listada en el Novo Mercado de Bovespa, seria la 3ra. Bolsa del mundo por capitalización bursátil, y 2da en América por valor de mercad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IPO Bovespa recaudó 3,7 mil millones de u$s, el 78% adquirido por inversores extranjeros.</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AVANCES HASTA LA CRISIS</a:t>
            </a:r>
            <a:br>
              <a:rPr sz="4000"/>
            </a:br>
            <a:r>
              <a:rPr b="0" lang="es-MX" sz="4000" spc="-1" strike="noStrike">
                <a:solidFill>
                  <a:srgbClr val="ffffff"/>
                </a:solidFill>
                <a:latin typeface="Tahoma"/>
              </a:rPr>
              <a:t>Plataformas</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cambio de posición accionarias es elocuente. Caso Instinet. Operó hasta 2002 en Argentina. En 2005 fue comprada por NASDAQ. Hoy es subsidiaria de Nomura Holding (Japón), opera actualmente en distintos países europeos.</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AVANCES HASTA LA CRISIS</a:t>
            </a:r>
            <a:br>
              <a:rPr sz="4000"/>
            </a:br>
            <a:r>
              <a:rPr b="0" lang="es-MX" sz="4000" spc="-1" strike="noStrike">
                <a:solidFill>
                  <a:srgbClr val="ffffff"/>
                </a:solidFill>
                <a:latin typeface="Tahoma"/>
              </a:rPr>
              <a:t>Nuevos instrumentos</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urex-ISE-OCC crearan una conexión transatlántica para liquidaciones y comerciar opcion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a Bolsa de Montreal &amp; Chicago Climate Exchange lanzaron nuevos contractos de futuros sobre dióxido de carbono.</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NUEVAS NORMAS </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tercambios normativos:IOSCO,World Federacion of Exchange, FIBV y otra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nguaje financiero. XBRL ( extensible Business Reporting Lenguaje) es el nuevo lenguaje universal, información financiera de las empresas, vía Internet, utilizando el formato XM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La utilizan: Australia, Singapore, Hong Kong, NYSE Euronext, Italia, Osaka, Toki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rmas internacionales de Información Financiera (NIIF).</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REGIMENES DE CONTROL</a:t>
            </a:r>
            <a:br>
              <a:rPr sz="4000"/>
            </a:b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arbanes Owley</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olitically exposed people.</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Disposiciones locales siguiendo criterios internacionales:</a:t>
            </a:r>
            <a:endParaRPr b="0" lang="en-US" sz="2400" spc="-1" strike="noStrike">
              <a:solidFill>
                <a:srgbClr val="ffffff"/>
              </a:solidFill>
              <a:latin typeface="Tahoma"/>
            </a:endParaRPr>
          </a:p>
          <a:p>
            <a:pPr marL="322200" indent="-322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égimen de Transparencia de la O.P. Decreto 677/01</a:t>
            </a:r>
            <a:endParaRPr b="0" lang="en-US" sz="2400" spc="-1" strike="noStrike">
              <a:solidFill>
                <a:srgbClr val="ffffff"/>
              </a:solidFill>
              <a:latin typeface="Tahoma"/>
            </a:endParaRPr>
          </a:p>
          <a:p>
            <a:pPr marL="322200" indent="-322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rporate Governance Res. CNV 516/07</a:t>
            </a:r>
            <a:endParaRPr b="0" lang="en-US" sz="2400" spc="-1" strike="noStrike">
              <a:solidFill>
                <a:srgbClr val="ffffff"/>
              </a:solidFill>
              <a:latin typeface="Tahoma"/>
            </a:endParaRPr>
          </a:p>
          <a:p>
            <a:pPr marL="322200" indent="-322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ódigo de Protección al Inversor Res. 529/08</a:t>
            </a:r>
            <a:endParaRPr b="0" lang="en-US" sz="2400" spc="-1" strike="noStrike">
              <a:solidFill>
                <a:srgbClr val="ffffff"/>
              </a:solidFill>
              <a:latin typeface="Tahoma"/>
            </a:endParaRPr>
          </a:p>
          <a:p>
            <a:pPr marL="322200" indent="-322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rmas lavado de Dinero. </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9:07:00Z</dcterms:created>
  <dc:creator>Juan Preciado</dc:creator>
  <dc:description/>
  <dc:language>en-US</dc:language>
  <cp:lastModifiedBy>CPCEACABA</cp:lastModifiedBy>
  <dcterms:modified xsi:type="dcterms:W3CDTF">2008-11-10T18:47:47Z</dcterms:modified>
  <cp:revision>9</cp:revision>
  <dc:subject/>
  <dc:title>3er Congreso Nacional e Internacional de Finanzas de la Empresa y de Mercado de Capitales</dc:title>
</cp:coreProperties>
</file>