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84B-BD3C-4E40-9B08-11861CBD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E56-5BFB-46D4-B330-92A9777B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D52-45A0-4BF5-AD50-653A79B1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1B5-A37F-4E78-A26D-3A9C566A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E5A6-865C-4015-A24F-1AC7EB13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74AC-1D6F-4CAE-9C1D-5B036C74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9CDE-3FA3-4F19-AFF5-9EFD7749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BAB0-544C-4AEE-8FC6-4990EE6E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61E8-0151-4F2A-AB0E-6915DB14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BCBA-5947-4768-B6EB-0E205008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7DFE-C987-4E16-BA54-80E5D7B3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C77-FCD2-42A2-9BA7-16604BD5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C8F9-F112-42BB-B0B6-E7B94465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47AD-B5B1-4E5F-98C2-4A02B770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766B-2982-42DC-97B4-49D873FA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2C99-8307-4FE5-9668-BCB3B1C1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A2E6-3C4B-488A-8594-E21039F0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D98-FDDF-4267-84D4-5C47DAC0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887-B719-4A37-9B2C-4C7CB932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D26-1437-4080-AEC1-21914E33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835-A43D-4F1D-8BAC-95335A64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366-64F6-4554-869E-6783EE32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3A3-66C8-4B24-B16E-0F8E1E8D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5A8-1FF5-41C5-A184-1E5593BA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DD13-04F9-4538-BDCC-EBD37B5ED93D}" type="slidenum"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3FA2-9BE7-4B99-BB10-7E3B51A4B2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382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Tributación Específica sobre Combustibles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123720" y="4419720"/>
            <a:ext cx="541044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SEPTIEMBRE   2006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Times New Roman"/>
              </a:rPr>
              <a:t>Transferencia entre Responsables Inscrip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Times New Roman"/>
              </a:rPr>
              <a:t>Cómputo como pago a cuenta del impuesto que hubiere sido facturado por otro sujeto pasivo del impuest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Times New Roman"/>
              </a:rPr>
              <a:t>Exenciones 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dan exentas las transferencias de productos gravados cuand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) Tengan como destino la expor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)Conforme las previsiones del Código Aduanero estén destinadas a rancho de embarcaciones de ultramar, a aeronaves de vuelos internacionales o para rancho de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mbar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on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de pes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) Tratándose de solventes aromáticos, nafta virgen, gasolina natural o de pirólisis  tengan como destino el uso como materia prima en la elaboración de productos químicos y petroquím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Impuesto Sobre Combustible Líquidos</a:t>
            </a:r>
            <a:br>
              <a:rPr sz="3600"/>
            </a:b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 y Gas Natur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341-407B-46B6-81AE-B9DB92F6E7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Impuesto sobre Combustibles Líquidos y Gas Natura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) Cuando se destinen el consumo en zona sur. Abarca la parte sur de Río Negro (territorio que se extiende debajo de la Ruta Provincial N° 6 y Nacional N° 23), Chubut, Santa Cruz y Tierra del Fueg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a exención fue establecida por los Decretos 897/92 y 1161/92 del 10 de Junio de 1992 y 10 de Julio de 1992 respectivamente, luego ratificada mediante la Ley 24.181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imes New Roman"/>
              </a:rPr>
              <a:t>OPERACIONES NO GRAVADA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imes New Roman"/>
              </a:rPr>
              <a:t>Decreto 1016/1997. Adquisición de cortes intermedios por sujetos pasivos del impuesto que lo someten a transformación obtenido productos gravados. Sustitución de la obligación de pago del tribut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1828800"/>
            <a:ext cx="5791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2E0-151A-4798-B59F-2677A4974845}" type="slidenum">
              <a:t>11</a:t>
            </a:fld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Impuesto sobre Combustibles Líquidos y Gas Natura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 algn="just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creditación de destinos exentos. R.G. N° 147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Los adquirentes están obligados a informar a su proveedor el destino o utilización que darán a los productos con carácter previo al perfeccionamiento de la operación de ven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Su incumplimiento dará lugar a que el proveedor liquide el impuesto correspondie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El incumplimiento extemporáneo de tal requisito no habilita la acreditación de destino exento para operaciones realizadas con anterioridad .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1828800"/>
            <a:ext cx="5791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924-B781-425B-A48E-9BCCB980FDF3}" type="slidenum">
              <a:t>12</a:t>
            </a:fld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Obligación de inscribirse en registros dispuestos por la AFIP según el tipo de exención o exclusión a fin de que sea procedente la mism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Operadores Productos Exento Zona Sur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RG N° 1234 (sustituida por R.G. N° 2079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Operadores Productos Exentos Destino Químico – Petroquímico. RG N°11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Operadores Productos Intermedios . RG 15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Operadores Productos Destinados a Rancho de Embarcaciones Ultramar. RG N° 16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Están obligados a inscribirse tanto los sujetos pasivos del impuesto ( vendedores) como los adquirentes, distribuidores , transportista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imes New Roman"/>
              </a:rPr>
              <a:t>Transportistas : Régimen único a partir del 01-01-2007 . RG N° 20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Impuesto sobre Combustibles Líquidos y Gas Natural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23D-263C-45B7-987D-6C372A91B3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Régimenes de Información de las operaciones exentas o no gravadas realizadas por  los   sujetos  incluídos en los distintos Registros antes detallado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Están obligados a informar sus operaciones todos los sujetos           ( vendedores, adquirentes, distribuidores, transportistas) comprendidos en los distintos regímenes detallad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1) En forma mensual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Operadores de Productos Exentos Zona Sur , y Productos destinados a Ranchos de Embarcacio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2) Dentro de los tres  días de concretadas las operaciones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Operadores Productos Exentos Destino Químico , y Operadores de productos intermedi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Impuesto sobre Combustibles Líquidos y Gas Natural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EE7-37D6-472B-B3A7-B5C4392EC2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Impuesto sobre Combustibles Líquidos y Gas Natura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Obligación de presentar adicionalmente una Declaración Jurada Informativa Mensual.</a:t>
            </a: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Zona Sur : R.G.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stino Químicos : R.G. 11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oductos Intermedios : R.G. 1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anchos Embarcaciones de ultramar : R.G. 17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816-1E7A-4BA7-99EA-E93347FD17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Impuesto sobre Combustibles Líquidos y Gas Natura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600" spc="-1" strike="noStrike">
                <a:solidFill>
                  <a:srgbClr val="ffffff"/>
                </a:solidFill>
                <a:latin typeface="Times New Roman"/>
              </a:rPr>
              <a:t>Gas Natural Comprimi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ujetos Pasivos del Impuesto : quienes distribuyan el producto gravado para uso como combustible en automotores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Impuesto se determina aplicando la alícuota del 16% sobre el precio al consumidor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recio al Consumidor : El neto del precio facturado a las estaciones de servicio por los sujetos pasivos ( distribuidoras de gas ) al que se adicionará un importe o porcentaje representativo del margen de la boca de expendio que fijarán periódicamente de manera general y en forma regular La Secretaria de Hacienda y La Secretaría de Energía en función de la variación del precio final de mercad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echo Imponible: vencimiento de la respectiva   fact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Vencimiento DD.JJ.: día 11 del mes inmediato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siguiente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C3D-CE48-49FD-A255-26BDEBFD45A3}" type="slidenum">
              <a:t>16</a:t>
            </a:fld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Impuesto sobre Combustibles Líquidos y Gas Natura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1800360"/>
            <a:ext cx="25905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Com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Precio de V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Del Gas O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Precio suger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$ 1.43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557360"/>
          <a:ext cx="8496360" cy="47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849636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3C5-8B3A-4F29-B01B-3945C4FB125E}" type="slidenum">
              <a:t>17</a:t>
            </a:fld>
          </a:p>
        </p:txBody>
      </p:sp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Impuesto sobre Combustibles Líquidos y Gas Natura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557360"/>
          <a:ext cx="80964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80964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156360" y="1052640"/>
            <a:ext cx="259092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recio de V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l público de un litro Nafta Su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recio Sug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$ 1.8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D80-09A2-4ADC-AB85-45ECEABF5483}" type="slidenum">
              <a:t>18</a:t>
            </a:fld>
          </a:p>
        </p:txBody>
      </p:sp>
    </p:spTree>
  </p:cSld>
  <p:transition spd="slow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Recaudación Fiscal Nacional Año 2005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$ 132.024.713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11280" y="1123920"/>
          <a:ext cx="796284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23920"/>
                    <a:ext cx="796284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C89-95BA-4CE4-B297-702BCFF35B2B}" type="slidenum">
              <a:t>19</a:t>
            </a:fld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Tributación específica sobre Combustib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1. A la Transferencia de Combustibles Líquidos y Gas Natural.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2. Impuesto Sobre el Gas O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3. Tasa de Infraestructura Híd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4. Retenciones Sobre Exporta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828800"/>
            <a:ext cx="5791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FAB-1E02-4FF1-9E04-780355839415}" type="slidenum">
              <a:t>2</a:t>
            </a:fld>
          </a:p>
        </p:txBody>
      </p:sp>
    </p:spTree>
  </p:cSld>
  <p:transition spd="slow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Recaudación Fiscal Nacional Año 2004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$ 108.301.284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04880" y="1143000"/>
          <a:ext cx="796284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143000"/>
                    <a:ext cx="796284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2E6-0A7C-4CF8-A152-C5C9F57E6FA5}" type="slidenum">
              <a:t>20</a:t>
            </a:fld>
          </a:p>
        </p:txBody>
      </p:sp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TASA SOBRE GAS OIL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cretos: 802/2001, 976/2001 : valor fijo $ 0,05 por li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creto 652/2002 : alicuota del 18,5% sobre precio final de venta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Aspecto conflictivos de la Tasa de Gas Oil que obligaron a su sustitución por el Impuesto al Gas Oil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Imposición de todas las transacciones incluso exportaciones y aprovisionamiento de buques de ultrama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Fallos de Primera y Segunda Instancia donde se Declara la Inconstitucionalidad de la Tas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A) Por improcedencia de la delegación en materia tributaria del Congreso al Poder Ejecutivo  B) Por aplicación real de un impuesto bajo la figura de tas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Defensor del Pueblo C/ Poder Ejecutivo Nacional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Esso SRL C/ Poder Ejecutivo Naciona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63B-6952-4D5C-901D-0B43EE0AFF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Impuesto  Sobre El Gas  Oil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Impuesto Sobre el Gas Oil . Ley 26028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Sustituye a partir del 7 de mayo de 2005 a La Tasa Sobre el Gas Oil creada por Decreto 976/2001 y Decreto 652/200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Grava transferencia a título oneroso o gratuito , o   importación de gas oil o cualquier otro combustible que lo sustituya en el futuro que regirá  hasta el 31 de diciembre de 2010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Grava el consumo de combustibles efectuado por el responsable, excepto el que se utilizare en la elaboración de otros productos sujetos al impuesto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Grava el gas licuado uso automotor ( GLP) en el caso de carga para flotas cautivas. Normas poco claras al respect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16C-0C7E-47D9-8DC7-EA1CCC7C5E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Alícuota del impuesto 20,20% sobre el precio neto definido para la determinación del impuesto sobre la transferencia de combusti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Aplicación supletoria de las normas del impuesto sobre la transferencia de combustib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El impuesto debe estar discriminado en factura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Los sujetos pasivos pueden computar en la declaración jurada mensual como pago a cuenta el impuesto que les hubiere sido liquidado y facturado por otro sujeto pasivo , o hubieren ingresado con la importación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No puede computarse como compensación y/o pago a cuenta de ningún tributo nacional vigente o a crea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Times New Roman"/>
              </a:rPr>
              <a:t>Impuesto  Sobre El Gas  Oil</a:t>
            </a: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0B7-CDCD-41DD-9755-4E7CC388A2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Se ratifica el Decreto 1439 mediante el cual el Poder Ejecutivo dispuso un régimen de reintegro de la Tasa de Gas Oil para los aprovisionamiento de buques de pesc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Se exime expresamente a las exportaciones y aprovisionamiento de buques de ultrama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Se incorpora mención expresa a la no gravabilidad  de las operaciones de exportación y aprovisionamiento de ranchos realizados bajo la Tasa de Gas Oil , con lo cual se soluciona conflicto millonario con empresas petroler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Times New Roman"/>
              </a:rPr>
              <a:t>Impuesto  Sobre El Gas  Oil</a:t>
            </a: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F3F-B560-47DD-AEDC-FA004BB12B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Tasa Hídrica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creto 1381/2001 . Aplica sobre venta de naftas. Valor fijo $ 0,05 por litro, y de GNC $ 0,05 por metro cúbic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Grava transferencia a título oneroso o gratuito , o importación de naftas y GNC , o cualquier otro combustible líquido  que los sustituya en el futu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Grava el consumo de combustible efectuado por el responsable , excepto el que se utilizare en la elaboración de otros productos sujetos a la tas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tasa tiene que estar discriminada en la factura, y despachos de importación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D44-7F61-4808-81FB-E4797D7938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Tasa Hídric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s sujetos pasivos pueden computar en la declaración jurada mensual como pago a cuenta la tasa que les hubiere sido liquidada  y facturada por otro sujeto pasivo, o hubieren ingresado con la importación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 puede computarse como compensación y/o pago a cuenta de ningún tributo nacional vigente o a crears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spectos conflictivos de la tasa: imposición de todas las transacciones incluso exportacion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Fallo de Primera y Segunda Instancia donde se declara la inconstitucionalidad de la Tasa : a) Por improcedencia de la delegación en materia tributaria del Congreso al Ejecutivo. b) Por aplicación real de un impuesto bajo la figura de tas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so SRL c/ Poder Ejecutivo Nacional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4D6-B7A4-412D-BFA2-911E2D2C63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Tasa Hídric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iste Proyecto de Ley elaborado por el Poder Ejecutivo mediante el cual se exime a las exportaciones. Aún no remitido al Congres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DC7-C437-4C6B-9670-59BA3C4476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TENCIONES SOBRE  EXPORTACIONES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aftas : 5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afta virgen : 5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 oil : 5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AA6-1752-4957-B2AE-5E00C3E323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Impuesto sobre Combustibles Líquidos y Gas Natur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Times New Roman"/>
              </a:rPr>
              <a:t>Ambito de Aplicación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100" spc="-1" strike="noStrike">
                <a:solidFill>
                  <a:srgbClr val="ffffff"/>
                </a:solidFill>
                <a:latin typeface="Times New Roman"/>
              </a:rPr>
              <a:t>Impuesto que incide en una sola etapa sobre la transferencia a título oneroso o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gratuito</a:t>
            </a:r>
            <a:r>
              <a:rPr b="1" lang="es-MX" sz="2100" spc="-1" strike="noStrike">
                <a:solidFill>
                  <a:srgbClr val="ffffff"/>
                </a:solidFill>
                <a:latin typeface="Times New Roman"/>
              </a:rPr>
              <a:t> de los productos de origen nacional o importado detallados en el Art. 4 de la ley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100" spc="-1" strike="noStrike">
                <a:solidFill>
                  <a:srgbClr val="ffffff"/>
                </a:solidFill>
                <a:latin typeface="Times New Roman"/>
              </a:rPr>
              <a:t>Quedan también sujetos al impuesto los productos consumidos por el responsable excepto los utilizados  exclusivamente  como combustibles en los procesos de produccíon y/o elaboración de hidrocarburos y sus derivados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828800"/>
            <a:ext cx="5791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EBF-1E2A-45AA-B83C-B34B55C5F3CA}" type="slidenum">
              <a:t>3</a:t>
            </a:fld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Impuesto sobre CombustiblesLíquidos y Gas Natur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Suje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a) En el caso de las importaciones quienes la realic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b) Las empresas que refinen o comercialicen combustibles líqui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c) Las empresas que produzcan , elaboren , fabriquen u obtengan productos gravados , directamente o a través de tercer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B7F-AAC4-4375-91ED-84EF23D781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Impuesto sobre Combustibles Líquidos y Gas Natur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ffffff"/>
                </a:solidFill>
                <a:latin typeface="Times New Roman"/>
              </a:rPr>
              <a:t>Productos y sus alícuotas. Según Ley 25.74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ducto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lícuota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imes New Roman"/>
              </a:rPr>
              <a:t>$ Por li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afta sin plomo hasta 92 Ron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70%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,53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afta sin plomo de más de 92 Ron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62%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,53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afta con plomo, hasta 92 Ron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70%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,5375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afta con plomo, de más de 92 Ron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62%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,53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afta virgen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62%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,53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Gasolina natural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62%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,53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olvente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62%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,5375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guarrás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62%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,5375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Gas Oil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19%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,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iesel Oil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19%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,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Kerosene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19%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,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s especificaciones técnicas de los productos están dadas por el Decreto Reglamentario 74/98 - Art.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1844640"/>
            <a:ext cx="5790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B4D-96AF-4A5A-B556-0B5EA7B9A2EC}" type="slidenum">
              <a:t>5</a:t>
            </a:fld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Impuesto Sobre Combustible Líquidos y Gas Natural</a:t>
            </a:r>
            <a:r>
              <a:rPr b="0" lang="es-AR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Base  Imponib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El impuesto se liquidará aplicando las respectiva alícuotas sobre el precio neto de venta que surja de la factura o documento equivalente a </a:t>
            </a:r>
            <a:r>
              <a:rPr b="1" lang="es-AR" sz="2000" spc="-1" strike="noStrike">
                <a:solidFill>
                  <a:srgbClr val="ffff00"/>
                </a:solidFill>
                <a:latin typeface="Times New Roman"/>
              </a:rPr>
              <a:t>operadores en régimen de reventa en planta de despacho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Precio Neto de Venta: el que resulte una vez deducidos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Bonificaciones por volumenes y descuentos en efectiv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I.V.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La Tasa de Infraestructura Hídrica ( Decreto 1381/2001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Tasa Sobre el Gas  Oil  ( Decreto 976/2001) . Luego Impuesto al Gas Oil a partir de Mayo de 2005  por Ley 26028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Cualquier otro tributo que tenga por hecho imponible la misma operación gravada siempre que se consigne en la factura por separa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4B1-D4FD-4191-A936-BE43D527CF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imes New Roman"/>
              </a:rPr>
              <a:t>Operadores en Régimen de Reventa en Planta de Despacho : 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transferencias de combustibles efectuadas por los sujetos pasivos a operadores de estaciones de servicio que , actuando en forma independiente, </a:t>
            </a:r>
            <a:r>
              <a:rPr b="1" lang="es-A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revendan dichos combustibles a consumidores fi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imes New Roman"/>
              </a:rPr>
              <a:t>OTRAS OPERACIONES :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 El impuesto correspondiente a las transferencias a estaciones propias, sean estas ventas directas, bajo la modalidad de consignación ó a través de empresas vinculadas , así como la venta a revendedores, distribuidores, mayoristas, industrias y cualquier otra transferencia gravada , se calculará sobre el precio neto promedio ponderado de las ventas a operadores en régimen de reventa en planta de  despacho efectuadas en el mes calendario inmediato anterior., considerando la totalidad de las ventas, gravadas y exentas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47160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Impuesto Sobre Combustible Líqu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y Gas Natu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4E5-716D-4BC4-8A83-63759B460F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La base imponible de acuerdo a lo anterior se aplicará a los hechos imponibles perfeccionados entre el día 11 del mes calendario respectivo y el día 10 del mes inmediato siguie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Nafta Virgen y Gas  Natural : Base imponible  precio promedio de la  nafta sin plomo de más de 92 R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Solventes, aguarrás, diesel oil: Base imponible precio promedio ponderado de la totalidad de la ventas - gravadas  y exentas, y de todos los canales de distribución, excepto exportaciones – de cada uno de dichos productos grava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Impuesto Sobre Combustible Líquidos</a:t>
            </a:r>
            <a:br>
              <a:rPr sz="3600"/>
            </a:b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 y Gas Natur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5A7-AF6D-41ED-A93A-8AB5625064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Cuando se trate de productos no comprendidos en la última enunciación , y en razón de la modalidad de comercialización , el sujeto no cuente con el respectivo precio de venta a operadores en régimen de reventa en planta de despacho , la base imponible se determinará en función de los valores de referencia que fije la AFIP, de acuerdo a la información brindada por la Secretaría de Energía , sobre la base del promedio de precios netos de venta en plaza a operadores en régimen de reventa correspondiente al penúltimo mes anterior al de publicación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Flet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roductos destinados al consumo propio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mportacion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9280" y="259920"/>
            <a:ext cx="7774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Impuesto Sobre Combustible Líquidos</a:t>
            </a:r>
            <a:br>
              <a:rPr sz="3600"/>
            </a:b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 y Gas Natur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F95-D401-46C7-9696-CC5A528EDE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20:03:11Z</dcterms:created>
  <dc:creator>Marinoni P</dc:creator>
  <dc:description/>
  <dc:language>en-US</dc:language>
  <cp:lastModifiedBy>Repsol YPF</cp:lastModifiedBy>
  <cp:lastPrinted>2000-05-24T13:44:33Z</cp:lastPrinted>
  <dcterms:modified xsi:type="dcterms:W3CDTF">2006-09-21T22:08:41Z</dcterms:modified>
  <cp:revision>177</cp:revision>
  <dc:subject/>
  <dc:title>General</dc:title>
</cp:coreProperties>
</file>