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04F-8B41-4680-8624-48136597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41A-624B-4078-BD4A-120CA3A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CFD-9E4D-47B8-880F-2A40F9A9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570-074C-4E33-B95A-A88115FD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201A-4E01-47B3-91C5-322F867B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F52-BC47-498C-A92B-97589C5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51EC-D9DC-4D76-9929-2B61315B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C12D-74F1-4B68-8B95-3A2ECD71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A7C-7B15-4DCB-8FD6-9700F8A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3A0-0F54-4559-82EB-7E6C7E91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606-FE5D-4D52-9DE7-479767E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9D4-4504-498C-ADE1-F1FB081C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5093-7BB1-4BD0-9034-8B96CD3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26A-6E24-4CD6-8EDC-82147D4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2531-BC1A-4484-9077-7B787034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7C21-C27C-46EF-B942-2E9A9761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7A63-7B85-4FE9-A7AF-4D0EC46B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EB7-7378-480D-8B75-246DB298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98D-9580-4385-B1DE-7D09396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03A-70F1-49A9-9BE9-C78A002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CA2-374D-4360-9A81-8BED6EC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A8C-39B0-4DD6-9CFA-621F33B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753-1816-4979-A855-BE9082E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7BA-F9B5-4831-B3CD-99C6B0B1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975000" y="65977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8B2-9C1C-4AE6-9A46-17D5BBB87B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de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6491160"/>
            <a:ext cx="12970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C0C3-6ED5-4AEE-A149-682165E210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77840" y="5011200"/>
            <a:ext cx="8858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orge A. Olme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445000"/>
            <a:ext cx="7553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Buenos Aires, Septiembre de 2006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4720" y="1844640"/>
            <a:ext cx="8244000" cy="2809800"/>
          </a:xfrm>
          <a:prstGeom prst="rect">
            <a:avLst/>
          </a:prstGeom>
          <a:noFill/>
          <a:ln w="57240">
            <a:solidFill>
              <a:srgbClr val="b9f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9ffb9"/>
                </a:solidFill>
                <a:latin typeface="Arial"/>
              </a:rPr>
              <a:t>Sector Energético:</a:t>
            </a:r>
            <a:br>
              <a:rPr sz="3300"/>
            </a:br>
            <a:br>
              <a:rPr sz="14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ortes para el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eamiento Estratégico y el Financiamiento de Inver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47640" y="5978520"/>
            <a:ext cx="6337440" cy="763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411280" y="115920"/>
            <a:ext cx="4681800" cy="74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04720" y="977760"/>
            <a:ext cx="8244000" cy="435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Tercera Media Jornada sobre el Sector Energétic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97800" cy="60465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*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o se han descubierto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yacimientos importantes desde hace 15 años y la exploración es menor que hace 20 años. </a:t>
            </a: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ccecff"/>
                </a:solidFill>
                <a:latin typeface="Arial"/>
              </a:rPr>
              <a:t> *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uerte declinación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de la producción de petróleo desde 1998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* Aumento del consumo interno; </a:t>
            </a: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reducción de los saldos exportables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* Las destilerías al máximo de su capacidad instalada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* Déficit creciente en el abastecimiento interno </a:t>
            </a: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de gas oil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E1E-0F55-4C2D-963A-D85EAA9904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920" y="1628280"/>
            <a:ext cx="6913440" cy="33130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Gas Natural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330-5D02-49A9-8B52-C4288D8A9F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4176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* Las reservas de gas natural: </a:t>
            </a: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bajaron de 30 años a fines de los ´80  a menos de 10 años en la actualidad.</a:t>
            </a: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*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“cuello de botella” en la oferta: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imita suministro al mercado interno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y a los contratos de exportación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869000"/>
            <a:ext cx="843588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Esto abre un gran interrogante</a:t>
            </a: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hacia el futur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B8F-00BE-400D-8358-4A05941187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7885080" cy="34560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Argentina a partir de 2004 </a:t>
            </a:r>
            <a:br>
              <a:rPr sz="3400"/>
            </a:b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necesita cantidades crecientes</a:t>
            </a:r>
            <a:br>
              <a:rPr sz="3400"/>
            </a:b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de gas natural importado.</a:t>
            </a:r>
            <a:br>
              <a:rPr sz="3400"/>
            </a:b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8200" y="4581360"/>
            <a:ext cx="792144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Una clara debilidad estructu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9CB-DE67-4FDD-BD65-1AFE57C0C4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portación de Gas de Bolivia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484280"/>
            <a:ext cx="8002440" cy="43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* Prioridad Estratégica por ser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 Proveedor Natural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* La mayor valorización para Bolivia se obtiene vendiendo el gas a Brasil y Argentina 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B62-C4C1-4772-8DB5-08CD3582AF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1482840"/>
            <a:ext cx="7993080" cy="439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- Avance para asegurar suministro externo </a:t>
            </a: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 y construir el GNEA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- Resta su instrumentación en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tratos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 de largo  plazo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recio inicial alto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para el “mercado regional”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60280"/>
            <a:ext cx="821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cuerdo Marco” s/Gas con Bolivia </a:t>
            </a:r>
            <a:br>
              <a:rPr sz="30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Junio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15F-0255-4016-AC66-23CF962AFC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885080" cy="58309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ubsisten incógnit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1200"/>
            </a:br>
            <a:r>
              <a:rPr b="1" lang="es-ES" sz="29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¿Cuándo Bolivia podrá entregar volúmenes crecientes? </a:t>
            </a:r>
            <a:br>
              <a:rPr sz="2500"/>
            </a:br>
            <a:br>
              <a:rPr sz="1000"/>
            </a:br>
            <a:r>
              <a:rPr b="1" lang="es-ES" sz="1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1000"/>
            </a:br>
            <a:r>
              <a:rPr b="1" lang="es-ES" sz="1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¿Cómo se reajustará el precio durante los 20 años para que siempre sea competitivo frente a los combustibles alternativos (FO; GO; etc)?</a:t>
            </a:r>
            <a:br>
              <a:rPr sz="2500"/>
            </a:br>
            <a:r>
              <a:rPr b="1" lang="es-ES" sz="1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1000"/>
            </a:br>
            <a:br>
              <a:rPr sz="10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¿Cómo resultará este nuevo precio frente al que se acuerde con Brasil?</a:t>
            </a:r>
            <a:br>
              <a:rPr sz="2500"/>
            </a:br>
            <a:br>
              <a:rPr sz="1000"/>
            </a:br>
            <a:br>
              <a:rPr sz="10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¿Cuándo se firmará el contrato que permita construir el nuevo gasoducto GNEA? 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1BC-1A2E-4CCB-8687-2FDB3CA976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920" y="1628280"/>
            <a:ext cx="6913440" cy="33130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nergía Eléctrica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008-9680-416F-A795-E1D646FF5A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7885080" cy="20163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La situación es inciert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Se opera al límite de la capacidad instalada disponibl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200" y="2637000"/>
            <a:ext cx="7921440" cy="35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Se asumen riesgos crecientes diagnosticados por organismos oficiales. 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El sector industrial tendrá contratos “interrumpibles” y deberá proveerse su demanda adicion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C9A-88FD-4A80-A3AA-1FC706CA2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1130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a7a"/>
                </a:solidFill>
                <a:latin typeface="Arial"/>
              </a:rPr>
              <a:t>Financiamien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o creciente de fondos público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idencia en los superávit fiscal y ex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a7a"/>
                </a:solidFill>
                <a:latin typeface="Arial"/>
              </a:rPr>
              <a:t>Técn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miento de demanda sin expansión de ofer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a7a"/>
                </a:solidFill>
                <a:latin typeface="Arial"/>
              </a:rPr>
              <a:t>Contractual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egociaciones pendien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98280" y="260280"/>
            <a:ext cx="8937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actores de Ries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2A4-6101-4DA2-8276-007393E794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693360"/>
            <a:ext cx="7918200" cy="5111640"/>
          </a:xfrm>
          <a:prstGeom prst="rect">
            <a:avLst/>
          </a:prstGeom>
          <a:noFill/>
          <a:ln w="57240">
            <a:solidFill>
              <a:srgbClr val="b9ffb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 u="sng">
                <a:solidFill>
                  <a:srgbClr val="ffffff"/>
                </a:solidFill>
                <a:uFillTx/>
                <a:latin typeface="Arial"/>
              </a:rPr>
              <a:t>Visión General</a:t>
            </a:r>
            <a:br>
              <a:rPr sz="5000"/>
            </a:br>
            <a:r>
              <a:rPr b="1" lang="es-ES" sz="5000" spc="-1" strike="noStrike" u="sng">
                <a:solidFill>
                  <a:srgbClr val="ffffff"/>
                </a:solidFill>
                <a:uFillTx/>
                <a:latin typeface="Arial"/>
              </a:rPr>
              <a:t>del IAE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2C1-5523-44CC-BFB0-A23844562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080" y="333360"/>
            <a:ext cx="8604000" cy="59040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ebfa7a"/>
                </a:solidFill>
                <a:latin typeface="Arial"/>
              </a:rPr>
              <a:t> </a:t>
            </a:r>
            <a:r>
              <a:rPr b="1" lang="es-AR" sz="2600" spc="-1" strike="noStrike">
                <a:solidFill>
                  <a:srgbClr val="ebfa7a"/>
                </a:solidFill>
                <a:latin typeface="Arial"/>
              </a:rPr>
              <a:t>Institucional y Regulatorio:</a:t>
            </a:r>
            <a:br>
              <a:rPr sz="2600"/>
            </a:b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ntración de decisiones en el Ministerio de Planificación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(debilitamiento de la Secretaría de Energía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y de los Entes Reguladores)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ta incertidumbre sobre reglas de juego sectoriales cambiantes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(leyes, fondos fiduciarios, subsidios, cargos específicos, etc)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4076640"/>
            <a:ext cx="7885080" cy="20163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ICIÓN DESORDENADA HACIA UN NUEVO MODELO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que el Gobierno no alcanza a formalizar 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en u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OLÍTICA ENERGÉTICA NACIONAL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integral y sustentable a mediano y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36F-2629-407D-920A-E86D731522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33080" y="333000"/>
            <a:ext cx="8459640" cy="58323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emos evitar qu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Para superar ese riesgo “macro”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necesitamos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1484280"/>
            <a:ext cx="7488360" cy="15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Century Gothic"/>
              </a:rPr>
              <a:t>La Energía pueda convertirse en un</a:t>
            </a:r>
            <a:r>
              <a:rPr b="1" lang="en-US" sz="3000" spc="-1" strike="noStrike">
                <a:solidFill>
                  <a:srgbClr val="ebfa7a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mitante del desarrollo sosteni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468360" y="2565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653000"/>
            <a:ext cx="7488360" cy="115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a nueva política energética susten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A3A-9E09-4DA2-AE52-8FC15B43D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560000" cy="4535640"/>
          </a:xfrm>
          <a:prstGeom prst="rect">
            <a:avLst/>
          </a:prstGeom>
          <a:noFill/>
          <a:ln w="57240">
            <a:solidFill>
              <a:srgbClr val="b9ffb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b9ffb9"/>
                </a:solidFill>
                <a:latin typeface="Arial"/>
              </a:rPr>
              <a:t>Propuestas Institucionales y Regulatoria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961-3218-4240-A35D-E3DD18B094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PROPUESTAS PRINCIPA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770040"/>
            <a:ext cx="835344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Encarar una profunda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organización y fortalecimiento de la Secretaría de Energía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3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Crear un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sejo de Política Energética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interministeri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3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Diseñar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nueva Política Energética Nacional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, orientada a superar la vulnerabilidad de nuestro paí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FAC-E983-4794-93CE-824F53D8BA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8000" y="512640"/>
            <a:ext cx="882000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Elaborar un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lan Estratégico Sectorial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de mediano y largo plaz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Fortalecer los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cuerdos de Integración Energética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con los países del MERCOSUR ampliado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ntes Reguladores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ndependientes del Gobierno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(Ente Único de EE y Gas Natural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Aprobar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formas integrales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a los Marcos Regulatorios Eléctrico y del Gas Natu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4BF-A296-43BF-89C5-1C9D2C1B5B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-458640"/>
            <a:ext cx="89647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Sancionar una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ueva Ley Nacional de Hidrocarburos,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realizar una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Auditoría Independiente de Reservas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y aplicar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ueva Política Exploratoria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3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cluir la renegociación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de los contratos de concesión (gas y electricidad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30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9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Cumplir con la Ley de Emergencia Pública (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9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Tarifas justas y razonables que garanticen recupero de costos eficientes, rentabilidad razonable y financiamiento de la expan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9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Ratificar la prestación de SP por Concesionarios independientes del Conced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9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Preservar responsabilidad de los Concesionarios por calidad y expansión d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ADA-961D-403D-B36B-79AB570D5A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6000" y="-100080"/>
            <a:ext cx="896436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Sancionar un régimen nacional de tarifa social (electricidad, gas natural y GLP), con subsidios presupuestarios explíci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30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Reorganizar la Generación Eléctric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Sindicalizar la demand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mpra de nueva generación </a:t>
            </a: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por la demanda a precios de licitación competitiva, con contratos de largo plazo incluidos en las tarifas fina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Precios máximos admitidos: costos marginales de expansión a largo plaz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Convergencia de la retribución a la energía producida por centrales existentes y nuevas en plazos razonab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0DA-E53F-47E2-B502-B1764A12E3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560520"/>
            <a:ext cx="896472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Recomponer tarifas; transparentar subsidios; clarificar el   financia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Tarifas convergiendo a los costos de oportun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Derogar el régimen de Cargos Específicos (Ley 26.09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Crear Fondos Específicos para la ejecución d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obras no financiables por tarifas, previstas en 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Plan Estratégic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550"/>
              </a:spcBef>
              <a:buClr>
                <a:srgbClr val="ebfa7a"/>
              </a:buClr>
              <a:buFont typeface="Wingdings" charset="2"/>
              <a:buChar char=""/>
              <a:tabLst>
                <a:tab algn="l" pos="530280"/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</a:rPr>
              <a:t>Financiamiento complementario de Bancos multilatera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53D-9051-4B96-BF5D-46ED3A9EAB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7777080" cy="4896000"/>
          </a:xfrm>
          <a:prstGeom prst="rect">
            <a:avLst/>
          </a:prstGeom>
          <a:noFill/>
          <a:ln w="57240">
            <a:solidFill>
              <a:srgbClr val="b9ffb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b9ffb9"/>
                </a:solidFill>
                <a:latin typeface="Arial"/>
              </a:rPr>
              <a:t>Propuestas Energéticas a Corto y Mediano Plazo</a:t>
            </a:r>
            <a:br>
              <a:rPr sz="4600"/>
            </a:br>
            <a:r>
              <a:rPr b="1" lang="es-ES" sz="4600" spc="-1" strike="noStrike">
                <a:solidFill>
                  <a:srgbClr val="b9ffb9"/>
                </a:solidFill>
                <a:latin typeface="Arial"/>
              </a:rPr>
              <a:t>(2007-2011)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B19-1E32-4AD9-9CDE-07D73710C7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97800" cy="5832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Gas Natural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* Hasta tanto Argentina cuente con el gasoducto GNEA, se agudizan los problemas de abastecimiento de gas natural al mercado interno, lo que podría agravar las restricciones a Chile.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4437000"/>
            <a:ext cx="734544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Más compras de FO y GO y más cortes a Chi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E8A-AA7B-4F31-B915-369F3E23A4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3080" cy="6192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500" spc="-1" strike="noStrike" u="sng">
                <a:solidFill>
                  <a:srgbClr val="ffffff"/>
                </a:solidFill>
                <a:uFillTx/>
                <a:latin typeface="Arial"/>
              </a:rPr>
              <a:t>Fines de los ´90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Informes sobre síntomas estructurales 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preocupantes 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(caída de reservas y paralización de inversiones).</a:t>
            </a:r>
            <a:br>
              <a:rPr sz="2500"/>
            </a:br>
            <a:br>
              <a:rPr sz="13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500" spc="-1" strike="noStrike" u="sng">
                <a:solidFill>
                  <a:srgbClr val="ffffff"/>
                </a:solidFill>
                <a:uFillTx/>
                <a:latin typeface="Arial"/>
              </a:rPr>
              <a:t>Principios de 2003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Publicación de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“Nueva Agenda Energética IAE”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2500"/>
            </a:br>
            <a:r>
              <a:rPr b="1" lang="es-ES" sz="12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12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Se propiciaba una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Nueva Política Energética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2500"/>
            </a:br>
            <a:br>
              <a:rPr sz="13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500" spc="-1" strike="noStrike" u="sng">
                <a:solidFill>
                  <a:srgbClr val="ffffff"/>
                </a:solidFill>
                <a:uFillTx/>
                <a:latin typeface="Arial"/>
              </a:rPr>
              <a:t>Principios de 2004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Ante restricciones de la oferta de gas natural, 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alertó que la Argentina ingresaba en una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 u="sng">
                <a:solidFill>
                  <a:srgbClr val="ffffff"/>
                </a:solidFill>
                <a:uFillTx/>
                <a:latin typeface="Arial"/>
              </a:rPr>
              <a:t>crisis energética de características estructurales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, 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que compromete el normal abastecimiento 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interno de gas y electricidad, con afectación a 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los países vecinos.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748-3162-42F9-8479-0106848AA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497800" cy="59752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Hidrocarburos</a:t>
            </a:r>
            <a:br>
              <a:rPr sz="3000"/>
            </a:br>
            <a:br>
              <a:rPr sz="1600"/>
            </a:b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Acciones Prioritarias</a:t>
            </a:r>
            <a:br>
              <a:rPr sz="3200"/>
            </a:br>
            <a:br>
              <a:rPr sz="1600"/>
            </a:br>
            <a:br>
              <a:rPr sz="1600"/>
            </a:b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* Instrumentación de Contratos de importación de gas con Bolivia.</a:t>
            </a:r>
            <a:br>
              <a:rPr sz="2800"/>
            </a:br>
            <a:br>
              <a:rPr sz="1400"/>
            </a:b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* Construcción del gasoducto GNEA.</a:t>
            </a:r>
            <a:br>
              <a:rPr sz="2800"/>
            </a:br>
            <a:br>
              <a:rPr sz="1400"/>
            </a:b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* Auditoría Independiente de Reservas.</a:t>
            </a:r>
            <a:br>
              <a:rPr sz="2800"/>
            </a:br>
            <a:br>
              <a:rPr sz="1400"/>
            </a:b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* Nuevo Plan Exploratorio Nacional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* Evaluar Factibilidad de planta de GNL</a:t>
            </a:r>
            <a:br>
              <a:rPr sz="1000"/>
            </a:br>
            <a:br>
              <a:rPr sz="1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F5A-4CA4-4E0D-AEBF-14D41E8EB2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6192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Energía Eléctrica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* Primera prioridad: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Contratación y construcción de 2 centrales térmicas de 1.600 MW (FONINVEMEN)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Financiamiento y plazos inciertos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Yacyretá (2010) y Atucha II (2011)?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No resuelven el problema inmediato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Potencia Térmica adicional (1500 MW)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A licitar por la demanda, contrato a largo plazo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Plan Federal de Transporte (500 kV)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Priorizar tramos vinculados con nueva generación, mayor seguridad e integración MERCOSUR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E25-A15C-4C1E-B56A-D014816265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59054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Gestión de Demanda</a:t>
            </a:r>
            <a:br>
              <a:rPr sz="2800"/>
            </a:br>
            <a:br>
              <a:rPr sz="28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Aplicar una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“POLITICA DE USO RACIONAL DE LA ENERGIA”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en forma permanente 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Incentivos económicos para conductas de ahorro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Disminución de elasticidad Energía/PBI.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Disminución de Intensidad Energética</a:t>
            </a: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E1C-5D3D-4F73-89F3-E4C09ECD6D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7777080" cy="4896000"/>
          </a:xfrm>
          <a:prstGeom prst="rect">
            <a:avLst/>
          </a:prstGeom>
          <a:noFill/>
          <a:ln w="57240">
            <a:solidFill>
              <a:srgbClr val="b9ffb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b9ffb9"/>
                </a:solidFill>
                <a:latin typeface="Arial"/>
              </a:rPr>
              <a:t>Propuestas Energéticas</a:t>
            </a:r>
            <a:br>
              <a:rPr sz="4600"/>
            </a:br>
            <a:r>
              <a:rPr b="1" lang="es-ES" sz="4600" spc="-1" strike="noStrike">
                <a:solidFill>
                  <a:srgbClr val="b9ffb9"/>
                </a:solidFill>
                <a:latin typeface="Arial"/>
              </a:rPr>
              <a:t>a Largo Plazo</a:t>
            </a:r>
            <a:br>
              <a:rPr sz="4600"/>
            </a:br>
            <a:r>
              <a:rPr b="1" lang="es-ES" sz="4600" spc="-1" strike="noStrike">
                <a:solidFill>
                  <a:srgbClr val="b9ffb9"/>
                </a:solidFill>
                <a:latin typeface="Arial"/>
              </a:rPr>
              <a:t>(hacia 2020/2025)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239-E69D-4A08-93A4-A7BDD86849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87200"/>
            <a:ext cx="8820360" cy="6050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es-ES" sz="3400" spc="-1" strike="noStrike" u="sng">
                <a:solidFill>
                  <a:srgbClr val="ccecff"/>
                </a:solidFill>
                <a:uFillTx/>
                <a:latin typeface="Arial"/>
              </a:rPr>
              <a:t>Estrategia Energética</a:t>
            </a: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400"/>
            </a:br>
            <a:r>
              <a:rPr b="1" lang="es-ES" sz="1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3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Hidroelectricidad: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- Catálogo de “proyectos elegibles” con Factibilidad completa y actualizada.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- Nuevos proyectos binacionales: Corpus y Garabí.</a:t>
            </a:r>
            <a:br>
              <a:rPr sz="2500"/>
            </a:br>
            <a:br>
              <a:rPr sz="14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Energía Nuclear: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Factibilidad de la 4º Central.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Adopción de decisiones estratégicas en el área nuclear.</a:t>
            </a:r>
            <a:br>
              <a:rPr sz="2500"/>
            </a:br>
            <a:br>
              <a:rPr sz="14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Energía Eólica:</a:t>
            </a:r>
            <a:br>
              <a:rPr sz="2500"/>
            </a:br>
            <a:r>
              <a:rPr b="1" lang="es-ES" sz="2500" spc="-1" strike="noStrike">
                <a:solidFill>
                  <a:srgbClr val="ccecff"/>
                </a:solidFill>
                <a:latin typeface="Arial"/>
              </a:rPr>
              <a:t>Planta “demostración” de gran escala (100/200 MW)</a:t>
            </a:r>
            <a:br>
              <a:rPr sz="1200"/>
            </a:br>
            <a:r>
              <a:rPr b="1" lang="es-E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907920"/>
            <a:ext cx="85309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Objetivo: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atriz Energética diversific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D4A-017B-4640-81B7-151F4E05DC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60483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es-ES" sz="3800" spc="-1" strike="noStrike" u="sng">
                <a:solidFill>
                  <a:srgbClr val="ccecff"/>
                </a:solidFill>
                <a:uFillTx/>
                <a:latin typeface="Arial"/>
              </a:rPr>
              <a:t>Estrategia Energética</a:t>
            </a:r>
            <a:r>
              <a:rPr b="1" lang="es-ES" sz="3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8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Carbón:</a:t>
            </a:r>
            <a:br>
              <a:rPr sz="2900"/>
            </a:br>
            <a:r>
              <a:rPr b="1" lang="es-ES" sz="2900" spc="-1" strike="noStrike">
                <a:solidFill>
                  <a:srgbClr val="ccecff"/>
                </a:solidFill>
                <a:latin typeface="Arial"/>
              </a:rPr>
              <a:t>Evaluar su inserción complementaria en generación eléctrica.</a:t>
            </a: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Nuevas Fuentes Renovables</a:t>
            </a: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Biodiesel</a:t>
            </a: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Innovación Tecnológica (Hidrógeno)</a:t>
            </a:r>
            <a:br>
              <a:rPr sz="2900"/>
            </a:br>
            <a:endParaRPr b="0" lang="en-US" sz="2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0DB-3D8D-4A20-B427-BC99B42DC2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693360"/>
            <a:ext cx="7918200" cy="5111640"/>
          </a:xfrm>
          <a:prstGeom prst="rect">
            <a:avLst/>
          </a:prstGeom>
          <a:noFill/>
          <a:ln w="57240">
            <a:solidFill>
              <a:srgbClr val="b9ffb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b9ffb9"/>
                </a:solidFill>
                <a:latin typeface="Arial"/>
              </a:rPr>
              <a:t>Estado de Situación</a:t>
            </a:r>
            <a:br>
              <a:rPr sz="5000"/>
            </a:br>
            <a:r>
              <a:rPr b="1" lang="es-ES" sz="5000" spc="-1" strike="noStrike">
                <a:solidFill>
                  <a:srgbClr val="b9ffb9"/>
                </a:solidFill>
                <a:latin typeface="Arial"/>
              </a:rPr>
              <a:t>del Sector Energético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1C6-F03A-4C1B-93EC-0518804F38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02840"/>
            <a:ext cx="8435880" cy="56898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* Fuerte crecimiento económico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esde el año 2003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* Importante incremento de demanda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e productos y servicios energéticos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* Precios y Tarifas: Retraso relativo en el mercado interno y en el MERCOSUR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* Inversiones claramente insuficientes</a:t>
            </a:r>
            <a:br>
              <a:rPr sz="3000"/>
            </a:b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7A8-B264-4F08-A783-F7CFE6DBC3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7640" cy="60483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Año 2006</a:t>
            </a: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* Creciente preocupación e incertidumbre 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en los sectores productivos, los gobiernos provinciales y los usuarios en general.</a:t>
            </a:r>
            <a:br>
              <a:rPr sz="2600"/>
            </a:br>
            <a:br>
              <a:rPr sz="12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Severa escasez de gas oil;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Cámaras empresarias aplicarán programas de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ahorro de energía; 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Nuevos atrasos en el lanzamiento de obras, etc. </a:t>
            </a:r>
            <a:br>
              <a:rPr sz="2400"/>
            </a:br>
            <a:br>
              <a:rPr sz="24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 Incremento de los desequilibrios y limitaciones en el abastecimiento de combustibles líquidos, gas natural y electricidad (mercado interno y externo). </a:t>
            </a: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7F5-B4A4-4C8A-910F-71F8BC9BF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15280" cy="37450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* El IAE viene reclamando al Gobierno Nacional: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que aport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formación clara y confiable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sobre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las dificultades existentes;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- que decid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un cambio de estrategia”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, 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para poder superar los riesgos de 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desabastecimiento (actuales y futuros).</a:t>
            </a:r>
            <a:br>
              <a:rPr sz="2400"/>
            </a:b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726080"/>
            <a:ext cx="821844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manente aporte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 propuestas alternativ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CBE-788C-4F28-B7A8-6C6691DBA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ambio de Paradigmas Energéticos</a:t>
            </a:r>
            <a:br>
              <a:rPr sz="3000"/>
            </a:b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197000"/>
            <a:ext cx="821844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* De ser un “país gasífero”, se ha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rtido en un “país con gas”.</a:t>
            </a:r>
            <a:br>
              <a:rPr sz="3000"/>
            </a:br>
            <a:br>
              <a:rPr sz="1600"/>
            </a:br>
            <a:br>
              <a:rPr sz="1600"/>
            </a:br>
            <a:r>
              <a:rPr b="1" lang="en-US" sz="3000" spc="-1" strike="noStrike">
                <a:solidFill>
                  <a:srgbClr val="ebfa7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* Habiendo sido un 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“exportador nato”</a:t>
            </a:r>
            <a:r>
              <a:rPr b="1" lang="en-US" sz="3000" spc="-1" strike="noStrike">
                <a:solidFill>
                  <a:srgbClr val="ebfa7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ebfa7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 petróleo, gas y electricidad, se ha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rtido en 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“importador”creciente.</a:t>
            </a:r>
            <a:r>
              <a:rPr b="1" lang="en-US" sz="3000" spc="-1" strike="noStrike">
                <a:solidFill>
                  <a:srgbClr val="ebfa7a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941720"/>
            <a:ext cx="821844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En riesgo la autonomía </a:t>
            </a:r>
            <a:br>
              <a:rPr sz="3000"/>
            </a:b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y seguridad energétic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179-98A8-4F94-A85C-C0AE18D23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79ac"/>
            </a:gs>
            <a:gs pos="100000">
              <a:srgbClr val="202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920" y="1628280"/>
            <a:ext cx="6913440" cy="33130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Petróleo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105-9E9D-4D53-9398-3CA968606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9:04:27Z</dcterms:created>
  <dc:creator>marcelo</dc:creator>
  <dc:description/>
  <dc:language>en-US</dc:language>
  <cp:lastModifiedBy>Marcelo</cp:lastModifiedBy>
  <dcterms:modified xsi:type="dcterms:W3CDTF">2006-09-26T21:45:37Z</dcterms:modified>
  <cp:revision>161</cp:revision>
  <dc:subject/>
  <dc:title>Presentación AEA</dc:title>
</cp:coreProperties>
</file>