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536-3C85-4C39-8FAD-8E901D74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9CEA-792C-4E2A-855D-109D1F6E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7E8-B5B7-471C-9306-6230983F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FFD-64DF-44B5-B2E4-EECA86CA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8689-C731-42C4-A3D2-E1A439E8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392D-87CD-45CA-BF4F-16D404C6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A4A6-1C1B-4D4E-9882-4B61861F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4596-6FCD-48E7-AF5F-75F8BE28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BDA0-86D0-49BB-B26B-B0D7A9BF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3306-82A8-4BE2-AE72-BE0648C9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6D7A-8705-42A0-8878-66566F9C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FED-C657-404C-91B5-01B312FB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5725-F3C9-4AD2-8D92-C390F568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FB99-715E-4BAE-8A7D-C4350C67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4DCC-2B4D-444A-80B2-D973C2DA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F0A5-810C-4AFA-964B-DD68D4E1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A90D-54F6-4222-9D16-FCB6B8A2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CCDF7-6F28-4C35-8884-A8DECCDA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12437-3DD9-4C2F-B273-9F070E8F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92FC0-4E66-4EE4-80AD-D7D00267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CB559-1FE4-49F4-9EF7-66BE68A0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508D7-2E3D-47C7-B8D4-30DDD5FB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4B9B-B06C-4307-8A7A-FC622617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5A9E8-0F5E-478F-A295-F67CB7ED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CA03C-D80A-4A4A-92C1-3EC9AAA4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819BA-BC01-4DAD-9A22-9575F6C0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D5312-A3F9-4730-AC5D-73E552A6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9FB96-32E3-4B4C-8AC7-49D8370E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AA486-CBE2-4CC3-9E2E-AC73547C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82783-6237-4A86-930B-3E195681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4B5-6344-41F7-A607-84949F1B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6E9-A23E-41C1-A2EB-AC036F3F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9F2-ED3E-4537-99A5-4FB423E9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02D-B034-4CC0-A024-6582E0C4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AA8-7D9C-4FCC-B63D-9A336755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3CE-9A2A-4D58-99C3-B5B2F75F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DC86-ED69-4EA3-88C8-24723B3F916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9F7A-6AAC-4215-834B-6779E291D94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3791-2934-436D-AD2A-0D81F404996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4005000"/>
            <a:ext cx="81360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66"/>
                </a:solidFill>
                <a:latin typeface="Arial"/>
              </a:rPr>
              <a:t>La inversión para la provisión </a:t>
            </a:r>
            <a:br>
              <a:rPr sz="2400"/>
            </a:br>
            <a:r>
              <a:rPr b="1" lang="es-CL" sz="2400" spc="-1" strike="noStrike">
                <a:solidFill>
                  <a:srgbClr val="ffff66"/>
                </a:solidFill>
                <a:latin typeface="Arial"/>
              </a:rPr>
              <a:t>de servicios públicos y su financiamiento en América Latina y el Caribe: </a:t>
            </a:r>
            <a:br>
              <a:rPr sz="2400"/>
            </a:br>
            <a:r>
              <a:rPr b="1" lang="es-CL" sz="2400" spc="-1" strike="noStrike">
                <a:solidFill>
                  <a:srgbClr val="ffff66"/>
                </a:solidFill>
                <a:latin typeface="Arial"/>
              </a:rPr>
              <a:t>Evolución reciente, situación actual   y políticas</a:t>
            </a: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66"/>
                </a:solidFill>
                <a:latin typeface="Arial"/>
              </a:rPr>
              <a:t>Luis Lucio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404640"/>
            <a:ext cx="813600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66"/>
                </a:solidFill>
                <a:latin typeface="Arial"/>
              </a:rPr>
              <a:t>Tercera Media Jornada sobre el Sector Energético</a:t>
            </a:r>
            <a:br>
              <a:rPr sz="2800"/>
            </a:br>
            <a:r>
              <a:rPr b="1" lang="es-AR" sz="3600" spc="-1" strike="noStrike">
                <a:solidFill>
                  <a:srgbClr val="ffff66"/>
                </a:solidFill>
                <a:latin typeface="Arial"/>
              </a:rPr>
              <a:t>“Rol estratégico de impuestos e infraestructura en el Sector Energético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66"/>
                </a:solidFill>
                <a:latin typeface="Arial"/>
              </a:rPr>
              <a:t>INVERSIÓN PÚBLICA EN PAÍSES DE AMÉRICA LATINA Y SUDESTE ASIÁTICO. Promedio de cada período: 1980/2002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66"/>
                </a:solidFill>
                <a:latin typeface="Arial"/>
              </a:rPr>
              <a:t>(en porcentajes del PIB)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24000" y="1484280"/>
          <a:ext cx="8569080" cy="4818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84280"/>
                    <a:ext cx="8569080" cy="48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864216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403280" y="3141720"/>
            <a:ext cx="187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314172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Respecto de la inversión pública en infraestructura (caminos y ferrocarriles, electricidad, agua y telecomunicacio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s-CL" sz="3600" spc="-1" strike="noStrike">
                <a:solidFill>
                  <a:srgbClr val="ffff66"/>
                </a:solidFill>
                <a:latin typeface="Arial"/>
              </a:rPr>
              <a:t>Servén estima para siete países de la región una caída de casi el 80% entre 1982 y 2001 al pasar de una tasa de alrededor del 3,5% del PIB al 0,75% del PIB</a:t>
            </a:r>
            <a:r>
              <a:rPr b="0" lang="es-ES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ción de la inversión privada en infraestructura. América Latina y el Carib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24000" y="907920"/>
          <a:ext cx="864072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07920"/>
                    <a:ext cx="86407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395280" y="5228280"/>
            <a:ext cx="770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América latina y el Caribe pasaron de 10 mil millones de dólares en 1993 a un máximo de 90,5 mil millones en 1998 para luego caer en 2002 a solo 5,8 mil millones. El valor invertido por el sector privado en 1998 representó el 4,6% del producto interno bruto de la región mientras el del 2002 apenas cubrió el 0,3%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otación de capital en infraestructura por habitante en América Latin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075520" cy="3929400"/>
        </p:xfrm>
        <a:graphic>
          <a:graphicData uri="http://schemas.openxmlformats.org/drawingml/2006/table">
            <a:tbl>
              <a:tblPr/>
              <a:tblGrid>
                <a:gridCol w="2260080"/>
                <a:gridCol w="1454040"/>
                <a:gridCol w="1453320"/>
                <a:gridCol w="1454040"/>
                <a:gridCol w="1454040"/>
              </a:tblGrid>
              <a:tr h="777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ía Eléctr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lecomunicacio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por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39640" y="5229360"/>
          <a:ext cx="8147160" cy="1106280"/>
        </p:xfrm>
        <a:graphic>
          <a:graphicData uri="http://schemas.openxmlformats.org/drawingml/2006/table">
            <a:tbl>
              <a:tblPr/>
              <a:tblGrid>
                <a:gridCol w="8147160"/>
              </a:tblGrid>
              <a:tr h="27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ente: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epal sobre la base de datos del World Development Indicators, Banco Mundia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a: Energía eléctrica medido como capacidad de generación en Kw per cápita, telecomunicacio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do como número de teléfonos fijos y celulares (desde 1995) por mil habitantes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porte medido como Km de carreteras pavimentadas per cápita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éstamos aprobados del Banco Mundial para infraestructura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50920" y="1413000"/>
          <a:ext cx="8713800" cy="5256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871380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éstamos aprobados por el Banco Interamericano de Desarrollo para infraestruc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24000" y="1484280"/>
          <a:ext cx="8582040" cy="5184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84280"/>
                    <a:ext cx="858204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CL" sz="6000" spc="-1" strike="noStrike">
                <a:solidFill>
                  <a:srgbClr val="ffff66"/>
                </a:solidFill>
                <a:latin typeface="Arial"/>
              </a:rPr>
              <a:t>La Corporació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CL" sz="6000" spc="-1" strike="noStrike">
                <a:solidFill>
                  <a:srgbClr val="ffff66"/>
                </a:solidFill>
                <a:latin typeface="Arial"/>
              </a:rPr>
              <a:t>Andina de Fomento,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s-CL" sz="6000" spc="-1" strike="noStrike">
                <a:solidFill>
                  <a:srgbClr val="ffff66"/>
                </a:solidFill>
                <a:latin typeface="Arial"/>
              </a:rPr>
              <a:t>un caso especi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poración Andina de Fomento Aprobación de préstamos para ejecución de proyectos de infraestructura por sector económi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(en millones de dóla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57200" y="1341360"/>
          <a:ext cx="8229600" cy="4728960"/>
        </p:xfrm>
        <a:graphic>
          <a:graphicData uri="http://schemas.openxmlformats.org/drawingml/2006/table">
            <a:tbl>
              <a:tblPr/>
              <a:tblGrid>
                <a:gridCol w="1230480"/>
                <a:gridCol w="1633320"/>
                <a:gridCol w="2055960"/>
                <a:gridCol w="1403280"/>
                <a:gridCol w="1906560"/>
              </a:tblGrid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. Gas y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e y teleco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s/ Total préstam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446760" y="6236280"/>
            <a:ext cx="65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Fuente: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elaboración propia sobre la base de la Corporación Andina de Fo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CL" sz="4800" spc="-1" strike="noStrike">
                <a:solidFill>
                  <a:srgbClr val="ffff66"/>
                </a:solidFill>
                <a:latin typeface="Arial"/>
              </a:rPr>
              <a:t>Una conclusión casi natura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66"/>
                </a:solidFill>
                <a:latin typeface="Arial"/>
              </a:rPr>
              <a:t>que surge según lo expuesto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s-CL" sz="4800" spc="-1" strike="noStrike">
                <a:solidFill>
                  <a:srgbClr val="ffff66"/>
                </a:solidFill>
                <a:latin typeface="Arial"/>
              </a:rPr>
              <a:t>hasta aquí es que la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66"/>
                </a:solidFill>
                <a:latin typeface="Arial"/>
              </a:rPr>
              <a:t>necesidades de inversión en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s-CL" sz="4800" spc="-1" strike="noStrike">
                <a:solidFill>
                  <a:srgbClr val="ffff66"/>
                </a:solidFill>
                <a:latin typeface="Arial"/>
              </a:rPr>
              <a:t>infraestructura de la regió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66"/>
                </a:solidFill>
                <a:latin typeface="Arial"/>
              </a:rPr>
              <a:t>están, en una proporción no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es-CL" sz="4800" spc="-1" strike="noStrike">
                <a:solidFill>
                  <a:srgbClr val="ffff66"/>
                </a:solidFill>
                <a:latin typeface="Arial"/>
              </a:rPr>
              <a:t>menor, desfinanciada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Existe un amplio consenso sobre la rela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    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positiva entre la invers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         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en infraestructura 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* el crecimiento económ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* la competitiv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* la reducción de la pobrez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Inversión en infraestructura. Año 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268280"/>
          <a:ext cx="8229600" cy="3760560"/>
        </p:xfrm>
        <a:graphic>
          <a:graphicData uri="http://schemas.openxmlformats.org/drawingml/2006/table">
            <a:tbl>
              <a:tblPr/>
              <a:tblGrid>
                <a:gridCol w="2743200"/>
                <a:gridCol w="2741760"/>
                <a:gridCol w="2744640"/>
              </a:tblGrid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U$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del P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tor público (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tor priva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ca multilate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539640" y="511848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imación de Servé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producto regional utilizado para ese año fue de 1,9 billones de dóla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3600" spc="-1" strike="noStrike">
                <a:solidFill>
                  <a:srgbClr val="ffff66"/>
                </a:solidFill>
                <a:latin typeface="Arial"/>
              </a:rPr>
              <a:t>Tomando como referencia l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66"/>
                </a:solidFill>
                <a:latin typeface="Arial"/>
              </a:rPr>
              <a:t>proyecciones de Fay (Banco Mundial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66"/>
                </a:solidFill>
                <a:latin typeface="Arial"/>
              </a:rPr>
              <a:t>para el período 2005-2010 sobre l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66"/>
                </a:solidFill>
                <a:latin typeface="Arial"/>
              </a:rPr>
              <a:t>necesidades de inversión anual 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s-CL" sz="3600" spc="-1" strike="noStrike">
                <a:solidFill>
                  <a:srgbClr val="ffff66"/>
                </a:solidFill>
                <a:latin typeface="Arial"/>
              </a:rPr>
              <a:t>infraestructura de la región e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66"/>
                </a:solidFill>
                <a:latin typeface="Arial"/>
              </a:rPr>
              <a:t>porcentaje obtenido (3,02 % del PIB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66"/>
                </a:solidFill>
                <a:latin typeface="Arial"/>
              </a:rPr>
              <a:t>cubriría solamente el 45% de 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66"/>
                </a:solidFill>
                <a:latin typeface="Arial"/>
              </a:rPr>
              <a:t>                  </a:t>
            </a:r>
            <a:r>
              <a:rPr b="0" lang="es-CL" sz="3600" spc="-1" strike="noStrike">
                <a:solidFill>
                  <a:srgbClr val="ffff66"/>
                </a:solidFill>
                <a:latin typeface="Arial"/>
              </a:rPr>
              <a:t>necesidades</a:t>
            </a:r>
            <a:r>
              <a:rPr b="0" lang="es-ES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Escenario actu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66"/>
                </a:solidFill>
                <a:latin typeface="Arial"/>
              </a:rPr>
              <a:t>Sector público: restricción presupues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66"/>
                </a:solidFill>
                <a:latin typeface="Arial"/>
              </a:rPr>
              <a:t>Sector privado: extremadamente selec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66"/>
                </a:solidFill>
                <a:latin typeface="Arial"/>
              </a:rPr>
              <a:t>Bancos multilaterales: necesidad de reformular su cartera de présta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515772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Todo esto abona la percepción de un lento camino para cerrar la brecha de necesidades de financiamiento en la reg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strumentos incrementar la inversión en infraestructura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66"/>
                </a:solidFill>
                <a:latin typeface="Arial"/>
              </a:rPr>
              <a:t>Inversión 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66"/>
                </a:solidFill>
                <a:latin typeface="Arial"/>
              </a:rPr>
              <a:t>Participación pública/privada (PP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66"/>
                </a:solidFill>
                <a:latin typeface="Arial"/>
              </a:rPr>
              <a:t>Mejora de los contra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66"/>
                </a:solidFill>
                <a:latin typeface="Arial"/>
              </a:rPr>
              <a:t>Rol de las garantí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66"/>
                </a:solidFill>
                <a:latin typeface="Arial"/>
              </a:rPr>
              <a:t>Asistencia de los Bancos multilaterales de desarro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66"/>
                </a:solidFill>
                <a:latin typeface="Arial"/>
              </a:rPr>
              <a:t>Inversión públ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Debate abierto que revitaliza el papel que puede cumplir la inversión pública en la FBKF y en la expansión de la infraestructura: Carta de Lima e iniciativas de México, Brasil y Argen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rear espacio fiscal que permita aumentar las erogaciones de capital: el equilibrio o superávit corriente es el objetivo a alcanz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alidad de los proye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66"/>
                </a:solidFill>
                <a:latin typeface="Arial"/>
              </a:rPr>
              <a:t>Participación pública/privada (PP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ternativa a la inversión pú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gobierno define el servicio y el socio privado es el que diseña el proyecto, construye, financia y opera el servici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ermite incorporar capital y gerenciamiento privado y facilita a los gobiernos distribuir el costo de las inversiones en ejercicios fut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tas asociaciones no son sencill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* contratos de largo pla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* Presencia de riesgos usuales en este tipo de emprendimientos (construcción , financieros y de provisi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* Para que sean exitosos debe asegurarse un alto grado de coordinación entre el sector público y el privado: el sector público debe supervisar y regular y asumir compromisos y prácticas de buen gobierno que proteja  a los usuarios y de confianza al sector privado y el sector privado debe asumir los riesgos que estas asociaciones impli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66"/>
                </a:solidFill>
                <a:latin typeface="Arial"/>
              </a:rPr>
              <a:t>Mejora de los contra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La participación privada no estuvo ni está libre de dificult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Contratos más complic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Perfeccionamiento del marco jurídico y regulatorio que de seguridad al inversionista y proteja los intereses de la sociedad y del usu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66"/>
                </a:solidFill>
                <a:latin typeface="Arial"/>
              </a:rPr>
              <a:t>Rol de las garantí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Riesgo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políticos: 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ceptable cober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contractuales: 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ceptable cober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financieros: 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deben ser mejo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regulatorios: 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deben ser mejo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66"/>
                </a:solidFill>
                <a:latin typeface="Arial"/>
              </a:rPr>
              <a:t>Asistencia de los Bancos multilaterales de desarrol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Recomposición de la cart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Desembolso de los préstamos aprob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Contribuir a la búsqueda de espacio fis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Creación de nuevos instrumentos de garant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Un estudio del Banco Mundial estima q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por cada punto porcentual de crecimiento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del PIB se requiere, en promedio, un crecimiento similar en la inversión neta en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infraestructura con elasticidad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sectoriales que varían entre 0,3% para el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agua  potable, 0,8% para el transporte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1,5% para la energía eléctrica y 1,7% pa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            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las telecomunicacion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La necesidad de que la prestación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servicios de infraestructura reduzca 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pobreza y favorezca el crecimien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económico se ha reconocido ampliament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en diversos foros como los Objetivos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desarrollo del milenio (ODM) y la últi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Conferencia de las Naciones Unidas sob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el Financiamiento para el desarroll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realizada en Monterrey, Mé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A pesar de este reconocimien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 –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y del fuerte crecimiento que tuvo 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inversión privada en infraestructura durante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la década del noventa- se registr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actualmente grandes necesidad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insatisfechas de inversión en infraestructura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y mejoramiento de la prestación de l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servicios en los países de la reg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El insuficiente desarrollo de los servicios de infraestructura tiene un impacto directo sobre la equ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Actualmente el 15% de la población de América Latina y el Caribe no tiene acceso a agua potable, el 23% carece de adecuadas condiciones sanitarias, el 11% no dispone de servicios de electricidad y el 40% vive en hogares inadecu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66"/>
                </a:solidFill>
                <a:latin typeface="Arial"/>
              </a:rPr>
              <a:t>Cerrar estas brechas en cantidad y calidad requerirá de nuevas inversiones y de una amplia disponibilidad de financi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ECESIDADES DE INVERSIÓN ANUAL EN INFRAESTRUCTURA EN AMÉRICA LATINA Y EL CARIBE 2005-2010</a:t>
            </a:r>
            <a:br>
              <a:rPr sz="2000"/>
            </a:b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(En miles de millones de dólares y porcentajes del PI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600200"/>
          <a:ext cx="8228520" cy="2620080"/>
        </p:xfrm>
        <a:graphic>
          <a:graphicData uri="http://schemas.openxmlformats.org/drawingml/2006/table">
            <a:tbl>
              <a:tblPr/>
              <a:tblGrid>
                <a:gridCol w="4073400"/>
                <a:gridCol w="2179800"/>
                <a:gridCol w="1975320"/>
              </a:tblGrid>
              <a:tr h="436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M U$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PI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ergía Eléctr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comunic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ua y saneamie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1692360" y="4402800"/>
            <a:ext cx="61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uente: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M. Fay, T.Yepes. Policy Research Working Paper 3102. 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Banco Mundial,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4821840"/>
            <a:ext cx="84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proyecciones del Banco Mundial  representan un aumento en las necesidades de infraestructura de la región del 23,9% respecto a lo estimado por el Banco para el período 2000-2005 y de un 38,4% respecto a 1995-2000 cuando las proyecciones arrojaban un flujo anual de 57 y 51 mil millones respectivament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66"/>
                </a:solidFill>
                <a:latin typeface="Arial"/>
              </a:rPr>
              <a:t>Para financiar esa inversión, tres son las fuentes básicas de recurs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66"/>
                </a:solidFill>
                <a:latin typeface="Arial"/>
              </a:rPr>
              <a:t>Recursos del Gobi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66"/>
                </a:solidFill>
                <a:latin typeface="Arial"/>
              </a:rPr>
              <a:t>Capitales priv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66"/>
                </a:solidFill>
                <a:latin typeface="Arial"/>
              </a:rPr>
              <a:t>* Préstamos de los bancos multilat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 rot="10800000">
            <a:off x="971280" y="4814280"/>
            <a:ext cx="7489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determinados periodos y bajo distintas circunstancias las fuentes citadas contribuyen en    menor o mayor proporción al desarrollo de la    infraestructura de todo paí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66"/>
                </a:solidFill>
                <a:latin typeface="Arial"/>
              </a:rPr>
              <a:t>INVERSIÓN PÚBLICA EN PAÍSES DE AMÉRICA LATINA Y SUDESTE ASIÁTICO. </a:t>
            </a:r>
            <a:r>
              <a:rPr b="1" lang="es-CL" sz="1600" spc="-1" strike="noStrike">
                <a:solidFill>
                  <a:srgbClr val="ffff66"/>
                </a:solidFill>
                <a:latin typeface="Arial"/>
              </a:rPr>
              <a:t>Período 1980-2002 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(en porcentajes del PIB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1197000"/>
          <a:ext cx="8548560" cy="5043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97000"/>
                    <a:ext cx="8548560" cy="50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4:11:27Z</dcterms:created>
  <dc:creator>rmartinez</dc:creator>
  <dc:description/>
  <dc:language>en-US</dc:language>
  <cp:lastModifiedBy>C.P.C.E.C.A.B.A.</cp:lastModifiedBy>
  <dcterms:modified xsi:type="dcterms:W3CDTF">2006-10-30T20:53:30Z</dcterms:modified>
  <cp:revision>93</cp:revision>
  <dc:subject/>
  <dc:title>Diapositiva 1</dc:title>
</cp:coreProperties>
</file>