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FAE-19E0-4CA7-8AA8-B59DE8DB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CC4-393B-462C-B5C4-D7B60D29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2C9-5099-473E-BF40-E440DAD1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AF5-FA31-4D07-AE9A-A4FB2576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1E4E-B3C2-46ED-A642-B042C830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3C2E-918D-48E8-B5B1-F6C2A9A2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0CF3-2DFD-48F7-87BA-D035F37C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E752-03EA-4486-A881-B8FA9BF1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B253-5761-447D-ACF1-779E54DD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8A44-6DAF-49EE-A7FD-8392D5BE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324B-1B2A-4C03-87AE-17283778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DF5-4790-4EBB-8B4B-83BF834D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0C32-7F5B-4CA9-BF72-740AC95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102B-B93B-4A88-88EA-45AD567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43DB-0939-41CF-A6DE-393303A0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6C35-D037-4413-B89E-1EDE5D1F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B880-59EB-4E05-8341-DA415290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FAF-4421-48BF-9034-AFCDF7F1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2E7-806A-4BC1-8BDF-3E51114F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ECC-802F-4B43-8B0B-412000C8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493-CFA7-4829-9C03-A23B444E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B47-2D35-4D6A-9CA7-A6462BC5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9D2-38B2-4AFF-B247-44607DA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647-CC66-4E04-B5F2-64E125A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2087640"/>
            <a:ext cx="2268720" cy="278136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>
                  <a:alpha val="59215"/>
                </a:srgbClr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60200"/>
            <a:ext cx="1224000" cy="139716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>
                  <a:alpha val="45098"/>
                </a:srgbClr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>
                  <a:alpha val="56078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00360" y="1413000"/>
            <a:ext cx="3502080" cy="352872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60"/>
              </a:gs>
              <a:gs pos="100000">
                <a:srgbClr val="000068">
                  <a:alpha val="2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869000"/>
            <a:ext cx="3056040" cy="202536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gradFill rotWithShape="0">
            <a:gsLst>
              <a:gs pos="0">
                <a:srgbClr val="000068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7683200">
            <a:off x="4493880" y="4425480"/>
            <a:ext cx="2264040" cy="226368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4">
                  <a:alpha val="48235"/>
                </a:srgbClr>
              </a:gs>
              <a:gs pos="100000">
                <a:srgbClr val="0000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>
                  <a:alpha val="6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35920" y="2421000"/>
            <a:ext cx="2008080" cy="399744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6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>
                  <a:alpha val="46274"/>
                </a:srgbClr>
              </a:gs>
              <a:gs pos="100000">
                <a:srgbClr val="000054">
                  <a:alpha val="5137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7A7F-C239-4583-A799-944C950A66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2087640"/>
            <a:ext cx="2268720" cy="278136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68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60200"/>
            <a:ext cx="1224000" cy="139716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6c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6c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1413000"/>
            <a:ext cx="3502080" cy="352872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60"/>
              </a:gs>
              <a:gs pos="100000">
                <a:srgbClr val="0000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869000"/>
            <a:ext cx="3056040" cy="202536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gradFill rotWithShape="0">
            <a:gsLst>
              <a:gs pos="0">
                <a:srgbClr val="000068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7683200">
            <a:off x="4493880" y="4425480"/>
            <a:ext cx="2264040" cy="226368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0"/>
              </a:gs>
              <a:gs pos="100000">
                <a:srgbClr val="0000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68"/>
              </a:gs>
              <a:gs pos="100000">
                <a:srgbClr val="0000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35920" y="2421000"/>
            <a:ext cx="2008080" cy="399744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6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6c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D382-37E8-46E0-8F04-D39DA3A13A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835280" y="1916280"/>
            <a:ext cx="7200720" cy="2519280"/>
            <a:chOff x="1835280" y="1916280"/>
            <a:chExt cx="7200720" cy="2519280"/>
          </a:xfrm>
        </p:grpSpPr>
        <p:sp>
          <p:nvSpPr>
            <p:cNvPr id="101" name=""/>
            <p:cNvSpPr/>
            <p:nvPr/>
          </p:nvSpPr>
          <p:spPr>
            <a:xfrm>
              <a:off x="1835280" y="1916280"/>
              <a:ext cx="6769080" cy="2087280"/>
            </a:xfrm>
            <a:prstGeom prst="rect">
              <a:avLst/>
            </a:prstGeom>
            <a:solidFill>
              <a:srgbClr val="2190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0920" y="2131920"/>
              <a:ext cx="6769080" cy="2087640"/>
            </a:xfrm>
            <a:prstGeom prst="rect">
              <a:avLst/>
            </a:prstGeom>
            <a:solidFill>
              <a:srgbClr val="2190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6920" y="2347920"/>
              <a:ext cx="6769080" cy="2087640"/>
            </a:xfrm>
            <a:prstGeom prst="rect">
              <a:avLst/>
            </a:prstGeom>
            <a:solidFill>
              <a:srgbClr val="2190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86000" y="4495680"/>
            <a:ext cx="6624720" cy="2294640"/>
            <a:chOff x="2286000" y="4495680"/>
            <a:chExt cx="6624720" cy="2294640"/>
          </a:xfrm>
        </p:grpSpPr>
        <p:sp>
          <p:nvSpPr>
            <p:cNvPr id="105" name=""/>
            <p:cNvSpPr/>
            <p:nvPr/>
          </p:nvSpPr>
          <p:spPr>
            <a:xfrm>
              <a:off x="2934000" y="449568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eaeaea"/>
                  </a:solidFill>
                  <a:latin typeface="Arial"/>
                </a:rPr>
                <a:t>Angel Gurruchag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0" y="4924440"/>
              <a:ext cx="6624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6000" y="5599080"/>
              <a:ext cx="662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eaeaea"/>
                  </a:solidFill>
                  <a:latin typeface="Arial Narrow"/>
                </a:rPr>
                <a:t>Tercera media Jornada Sobre el Sector Energétic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eaeaea"/>
                  </a:solidFill>
                  <a:latin typeface="Arial Narrow"/>
                </a:rPr>
                <a:t>CPCEABA - IAE General Mosconi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eaeaea"/>
                  </a:solidFill>
                  <a:latin typeface="Arial Narrow"/>
                </a:rPr>
                <a:t>Buenos Aires, setiembre 2006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560" y="2492280"/>
            <a:ext cx="6551640" cy="10688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54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5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Fondos Fiduciarios Público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72960"/>
            <a:ext cx="7416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CA78-BFD5-4F0A-A5BD-E38D748E5DEE}" type="slidenum">
              <a:t>1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8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836640"/>
            <a:ext cx="777708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alance General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do de Resultados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do de Evolución del Patrimonio Neto 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ado de Origen y Aplicación de Fond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189000"/>
            <a:ext cx="9144000" cy="647640"/>
            <a:chOff x="0" y="189000"/>
            <a:chExt cx="9144000" cy="647640"/>
          </a:xfrm>
        </p:grpSpPr>
        <p:sp>
          <p:nvSpPr>
            <p:cNvPr id="191" name=""/>
            <p:cNvSpPr/>
            <p:nvPr/>
          </p:nvSpPr>
          <p:spPr>
            <a:xfrm>
              <a:off x="0" y="18900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1680" y="290520"/>
              <a:ext cx="87487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Confección de estados contables :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743840" y="4085280"/>
            <a:ext cx="6965280" cy="2223360"/>
            <a:chOff x="1743840" y="4085280"/>
            <a:chExt cx="6965280" cy="2223360"/>
          </a:xfrm>
        </p:grpSpPr>
        <p:sp>
          <p:nvSpPr>
            <p:cNvPr id="194" name=""/>
            <p:cNvSpPr/>
            <p:nvPr/>
          </p:nvSpPr>
          <p:spPr>
            <a:xfrm>
              <a:off x="3021120" y="4726080"/>
              <a:ext cx="5688000" cy="1582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dd4b">
                    <a:alpha val="80392"/>
                  </a:srgbClr>
                </a:gs>
                <a:gs pos="100000">
                  <a:srgbClr val="f1d046">
                    <a:alpha val="4901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92400" y="4869000"/>
              <a:ext cx="5545080" cy="124524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5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A efecto de integrar la Cuenta de Inversión que audita la A.G.N. y analiza el H.Congreso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743840" y="4085280"/>
              <a:ext cx="1289880" cy="1294920"/>
              <a:chOff x="1743840" y="4085280"/>
              <a:chExt cx="1289880" cy="1294920"/>
            </a:xfrm>
          </p:grpSpPr>
          <p:sp>
            <p:nvSpPr>
              <p:cNvPr id="197" name=""/>
              <p:cNvSpPr/>
              <p:nvPr/>
            </p:nvSpPr>
            <p:spPr>
              <a:xfrm rot="2700000">
                <a:off x="1806120" y="4425480"/>
                <a:ext cx="1136520" cy="647640"/>
              </a:xfrm>
              <a:custGeom>
                <a:avLst/>
                <a:gdLst/>
                <a:ahLst/>
                <a:rect l="l" t="t" r="r" b="b"/>
                <a:pathLst>
                  <a:path w="3637" h="1258">
                    <a:moveTo>
                      <a:pt x="3124" y="1199"/>
                    </a:moveTo>
                    <a:lnTo>
                      <a:pt x="3132" y="1196"/>
                    </a:lnTo>
                    <a:lnTo>
                      <a:pt x="3151" y="1182"/>
                    </a:lnTo>
                    <a:lnTo>
                      <a:pt x="3164" y="1175"/>
                    </a:lnTo>
                    <a:lnTo>
                      <a:pt x="3179" y="1163"/>
                    </a:lnTo>
                    <a:lnTo>
                      <a:pt x="3198" y="1152"/>
                    </a:lnTo>
                    <a:lnTo>
                      <a:pt x="3217" y="1137"/>
                    </a:lnTo>
                    <a:lnTo>
                      <a:pt x="3228" y="1131"/>
                    </a:lnTo>
                    <a:lnTo>
                      <a:pt x="3240" y="1123"/>
                    </a:lnTo>
                    <a:lnTo>
                      <a:pt x="3251" y="1116"/>
                    </a:lnTo>
                    <a:lnTo>
                      <a:pt x="3263" y="1106"/>
                    </a:lnTo>
                    <a:lnTo>
                      <a:pt x="3274" y="1099"/>
                    </a:lnTo>
                    <a:lnTo>
                      <a:pt x="3286" y="1089"/>
                    </a:lnTo>
                    <a:lnTo>
                      <a:pt x="3299" y="1080"/>
                    </a:lnTo>
                    <a:lnTo>
                      <a:pt x="3312" y="1070"/>
                    </a:lnTo>
                    <a:lnTo>
                      <a:pt x="3363" y="1032"/>
                    </a:lnTo>
                    <a:lnTo>
                      <a:pt x="3415" y="988"/>
                    </a:lnTo>
                    <a:lnTo>
                      <a:pt x="3441" y="968"/>
                    </a:lnTo>
                    <a:lnTo>
                      <a:pt x="3466" y="945"/>
                    </a:lnTo>
                    <a:lnTo>
                      <a:pt x="3491" y="922"/>
                    </a:lnTo>
                    <a:lnTo>
                      <a:pt x="3514" y="899"/>
                    </a:lnTo>
                    <a:lnTo>
                      <a:pt x="3536" y="874"/>
                    </a:lnTo>
                    <a:lnTo>
                      <a:pt x="3557" y="852"/>
                    </a:lnTo>
                    <a:lnTo>
                      <a:pt x="3592" y="804"/>
                    </a:lnTo>
                    <a:lnTo>
                      <a:pt x="3618" y="758"/>
                    </a:lnTo>
                    <a:lnTo>
                      <a:pt x="3633" y="715"/>
                    </a:lnTo>
                    <a:lnTo>
                      <a:pt x="3637" y="675"/>
                    </a:lnTo>
                    <a:lnTo>
                      <a:pt x="3624" y="637"/>
                    </a:lnTo>
                    <a:lnTo>
                      <a:pt x="3603" y="599"/>
                    </a:lnTo>
                    <a:lnTo>
                      <a:pt x="3590" y="574"/>
                    </a:lnTo>
                    <a:lnTo>
                      <a:pt x="3578" y="551"/>
                    </a:lnTo>
                    <a:lnTo>
                      <a:pt x="3563" y="525"/>
                    </a:lnTo>
                    <a:lnTo>
                      <a:pt x="3550" y="500"/>
                    </a:lnTo>
                    <a:lnTo>
                      <a:pt x="3535" y="471"/>
                    </a:lnTo>
                    <a:lnTo>
                      <a:pt x="3519" y="443"/>
                    </a:lnTo>
                    <a:lnTo>
                      <a:pt x="3504" y="414"/>
                    </a:lnTo>
                    <a:lnTo>
                      <a:pt x="3487" y="384"/>
                    </a:lnTo>
                    <a:lnTo>
                      <a:pt x="3472" y="355"/>
                    </a:lnTo>
                    <a:lnTo>
                      <a:pt x="3455" y="325"/>
                    </a:lnTo>
                    <a:lnTo>
                      <a:pt x="3436" y="295"/>
                    </a:lnTo>
                    <a:lnTo>
                      <a:pt x="3419" y="266"/>
                    </a:lnTo>
                    <a:lnTo>
                      <a:pt x="3400" y="238"/>
                    </a:lnTo>
                    <a:lnTo>
                      <a:pt x="3382" y="209"/>
                    </a:lnTo>
                    <a:lnTo>
                      <a:pt x="3363" y="183"/>
                    </a:lnTo>
                    <a:lnTo>
                      <a:pt x="3344" y="156"/>
                    </a:lnTo>
                    <a:lnTo>
                      <a:pt x="3324" y="131"/>
                    </a:lnTo>
                    <a:lnTo>
                      <a:pt x="3305" y="108"/>
                    </a:lnTo>
                    <a:lnTo>
                      <a:pt x="3286" y="87"/>
                    </a:lnTo>
                    <a:lnTo>
                      <a:pt x="3265" y="68"/>
                    </a:lnTo>
                    <a:lnTo>
                      <a:pt x="3225" y="34"/>
                    </a:lnTo>
                    <a:lnTo>
                      <a:pt x="3204" y="21"/>
                    </a:lnTo>
                    <a:lnTo>
                      <a:pt x="3185" y="11"/>
                    </a:lnTo>
                    <a:lnTo>
                      <a:pt x="3164" y="4"/>
                    </a:lnTo>
                    <a:lnTo>
                      <a:pt x="3143" y="0"/>
                    </a:lnTo>
                    <a:lnTo>
                      <a:pt x="3103" y="2"/>
                    </a:lnTo>
                    <a:lnTo>
                      <a:pt x="3065" y="15"/>
                    </a:lnTo>
                    <a:lnTo>
                      <a:pt x="3010" y="70"/>
                    </a:lnTo>
                    <a:lnTo>
                      <a:pt x="2995" y="139"/>
                    </a:lnTo>
                    <a:lnTo>
                      <a:pt x="3000" y="175"/>
                    </a:lnTo>
                    <a:lnTo>
                      <a:pt x="3012" y="213"/>
                    </a:lnTo>
                    <a:lnTo>
                      <a:pt x="3027" y="251"/>
                    </a:lnTo>
                    <a:lnTo>
                      <a:pt x="3046" y="287"/>
                    </a:lnTo>
                    <a:lnTo>
                      <a:pt x="3069" y="323"/>
                    </a:lnTo>
                    <a:lnTo>
                      <a:pt x="3092" y="355"/>
                    </a:lnTo>
                    <a:lnTo>
                      <a:pt x="3114" y="386"/>
                    </a:lnTo>
                    <a:lnTo>
                      <a:pt x="3137" y="414"/>
                    </a:lnTo>
                    <a:lnTo>
                      <a:pt x="3171" y="452"/>
                    </a:lnTo>
                    <a:lnTo>
                      <a:pt x="3185" y="466"/>
                    </a:lnTo>
                    <a:lnTo>
                      <a:pt x="3116" y="475"/>
                    </a:lnTo>
                    <a:lnTo>
                      <a:pt x="3038" y="483"/>
                    </a:lnTo>
                    <a:lnTo>
                      <a:pt x="2938" y="490"/>
                    </a:lnTo>
                    <a:lnTo>
                      <a:pt x="2820" y="496"/>
                    </a:lnTo>
                    <a:lnTo>
                      <a:pt x="2692" y="500"/>
                    </a:lnTo>
                    <a:lnTo>
                      <a:pt x="2422" y="487"/>
                    </a:lnTo>
                    <a:lnTo>
                      <a:pt x="2358" y="477"/>
                    </a:lnTo>
                    <a:lnTo>
                      <a:pt x="2297" y="460"/>
                    </a:lnTo>
                    <a:lnTo>
                      <a:pt x="2268" y="449"/>
                    </a:lnTo>
                    <a:lnTo>
                      <a:pt x="2240" y="437"/>
                    </a:lnTo>
                    <a:lnTo>
                      <a:pt x="2213" y="426"/>
                    </a:lnTo>
                    <a:lnTo>
                      <a:pt x="2185" y="411"/>
                    </a:lnTo>
                    <a:lnTo>
                      <a:pt x="2160" y="397"/>
                    </a:lnTo>
                    <a:lnTo>
                      <a:pt x="2147" y="390"/>
                    </a:lnTo>
                    <a:lnTo>
                      <a:pt x="2133" y="382"/>
                    </a:lnTo>
                    <a:lnTo>
                      <a:pt x="2120" y="374"/>
                    </a:lnTo>
                    <a:lnTo>
                      <a:pt x="2109" y="367"/>
                    </a:lnTo>
                    <a:lnTo>
                      <a:pt x="2095" y="357"/>
                    </a:lnTo>
                    <a:lnTo>
                      <a:pt x="2084" y="350"/>
                    </a:lnTo>
                    <a:lnTo>
                      <a:pt x="2071" y="342"/>
                    </a:lnTo>
                    <a:lnTo>
                      <a:pt x="2059" y="335"/>
                    </a:lnTo>
                    <a:lnTo>
                      <a:pt x="2046" y="325"/>
                    </a:lnTo>
                    <a:lnTo>
                      <a:pt x="2034" y="317"/>
                    </a:lnTo>
                    <a:lnTo>
                      <a:pt x="2023" y="310"/>
                    </a:lnTo>
                    <a:lnTo>
                      <a:pt x="2010" y="300"/>
                    </a:lnTo>
                    <a:lnTo>
                      <a:pt x="1998" y="293"/>
                    </a:lnTo>
                    <a:lnTo>
                      <a:pt x="1987" y="285"/>
                    </a:lnTo>
                    <a:lnTo>
                      <a:pt x="1974" y="278"/>
                    </a:lnTo>
                    <a:lnTo>
                      <a:pt x="1962" y="268"/>
                    </a:lnTo>
                    <a:lnTo>
                      <a:pt x="1951" y="260"/>
                    </a:lnTo>
                    <a:lnTo>
                      <a:pt x="1939" y="253"/>
                    </a:lnTo>
                    <a:lnTo>
                      <a:pt x="1928" y="245"/>
                    </a:lnTo>
                    <a:lnTo>
                      <a:pt x="1915" y="238"/>
                    </a:lnTo>
                    <a:lnTo>
                      <a:pt x="1903" y="230"/>
                    </a:lnTo>
                    <a:lnTo>
                      <a:pt x="1892" y="224"/>
                    </a:lnTo>
                    <a:lnTo>
                      <a:pt x="1867" y="209"/>
                    </a:lnTo>
                    <a:lnTo>
                      <a:pt x="1842" y="198"/>
                    </a:lnTo>
                    <a:lnTo>
                      <a:pt x="1820" y="186"/>
                    </a:lnTo>
                    <a:lnTo>
                      <a:pt x="1795" y="175"/>
                    </a:lnTo>
                    <a:lnTo>
                      <a:pt x="1770" y="165"/>
                    </a:lnTo>
                    <a:lnTo>
                      <a:pt x="1744" y="158"/>
                    </a:lnTo>
                    <a:lnTo>
                      <a:pt x="1690" y="148"/>
                    </a:lnTo>
                    <a:lnTo>
                      <a:pt x="1637" y="144"/>
                    </a:lnTo>
                    <a:lnTo>
                      <a:pt x="1578" y="150"/>
                    </a:lnTo>
                    <a:lnTo>
                      <a:pt x="1521" y="164"/>
                    </a:lnTo>
                    <a:lnTo>
                      <a:pt x="1496" y="173"/>
                    </a:lnTo>
                    <a:lnTo>
                      <a:pt x="1472" y="183"/>
                    </a:lnTo>
                    <a:lnTo>
                      <a:pt x="1449" y="192"/>
                    </a:lnTo>
                    <a:lnTo>
                      <a:pt x="1428" y="205"/>
                    </a:lnTo>
                    <a:lnTo>
                      <a:pt x="1407" y="217"/>
                    </a:lnTo>
                    <a:lnTo>
                      <a:pt x="1386" y="230"/>
                    </a:lnTo>
                    <a:lnTo>
                      <a:pt x="1350" y="259"/>
                    </a:lnTo>
                    <a:lnTo>
                      <a:pt x="1318" y="287"/>
                    </a:lnTo>
                    <a:lnTo>
                      <a:pt x="1285" y="317"/>
                    </a:lnTo>
                    <a:lnTo>
                      <a:pt x="1255" y="348"/>
                    </a:lnTo>
                    <a:lnTo>
                      <a:pt x="1224" y="376"/>
                    </a:lnTo>
                    <a:lnTo>
                      <a:pt x="1194" y="403"/>
                    </a:lnTo>
                    <a:lnTo>
                      <a:pt x="1177" y="414"/>
                    </a:lnTo>
                    <a:lnTo>
                      <a:pt x="1160" y="426"/>
                    </a:lnTo>
                    <a:lnTo>
                      <a:pt x="1143" y="437"/>
                    </a:lnTo>
                    <a:lnTo>
                      <a:pt x="1126" y="445"/>
                    </a:lnTo>
                    <a:lnTo>
                      <a:pt x="1107" y="454"/>
                    </a:lnTo>
                    <a:lnTo>
                      <a:pt x="1088" y="460"/>
                    </a:lnTo>
                    <a:lnTo>
                      <a:pt x="1044" y="470"/>
                    </a:lnTo>
                    <a:lnTo>
                      <a:pt x="943" y="468"/>
                    </a:lnTo>
                    <a:lnTo>
                      <a:pt x="884" y="456"/>
                    </a:lnTo>
                    <a:lnTo>
                      <a:pt x="823" y="441"/>
                    </a:lnTo>
                    <a:lnTo>
                      <a:pt x="793" y="432"/>
                    </a:lnTo>
                    <a:lnTo>
                      <a:pt x="761" y="422"/>
                    </a:lnTo>
                    <a:lnTo>
                      <a:pt x="728" y="411"/>
                    </a:lnTo>
                    <a:lnTo>
                      <a:pt x="696" y="399"/>
                    </a:lnTo>
                    <a:lnTo>
                      <a:pt x="664" y="388"/>
                    </a:lnTo>
                    <a:lnTo>
                      <a:pt x="631" y="376"/>
                    </a:lnTo>
                    <a:lnTo>
                      <a:pt x="601" y="363"/>
                    </a:lnTo>
                    <a:lnTo>
                      <a:pt x="569" y="350"/>
                    </a:lnTo>
                    <a:lnTo>
                      <a:pt x="538" y="336"/>
                    </a:lnTo>
                    <a:lnTo>
                      <a:pt x="506" y="323"/>
                    </a:lnTo>
                    <a:lnTo>
                      <a:pt x="477" y="310"/>
                    </a:lnTo>
                    <a:lnTo>
                      <a:pt x="449" y="297"/>
                    </a:lnTo>
                    <a:lnTo>
                      <a:pt x="420" y="283"/>
                    </a:lnTo>
                    <a:lnTo>
                      <a:pt x="392" y="270"/>
                    </a:lnTo>
                    <a:lnTo>
                      <a:pt x="367" y="259"/>
                    </a:lnTo>
                    <a:lnTo>
                      <a:pt x="342" y="245"/>
                    </a:lnTo>
                    <a:lnTo>
                      <a:pt x="318" y="234"/>
                    </a:lnTo>
                    <a:lnTo>
                      <a:pt x="297" y="222"/>
                    </a:lnTo>
                    <a:lnTo>
                      <a:pt x="276" y="213"/>
                    </a:lnTo>
                    <a:lnTo>
                      <a:pt x="257" y="202"/>
                    </a:lnTo>
                    <a:lnTo>
                      <a:pt x="240" y="194"/>
                    </a:lnTo>
                    <a:lnTo>
                      <a:pt x="224" y="186"/>
                    </a:lnTo>
                    <a:lnTo>
                      <a:pt x="200" y="171"/>
                    </a:lnTo>
                    <a:lnTo>
                      <a:pt x="181" y="162"/>
                    </a:lnTo>
                    <a:lnTo>
                      <a:pt x="0" y="599"/>
                    </a:lnTo>
                    <a:lnTo>
                      <a:pt x="0" y="601"/>
                    </a:lnTo>
                    <a:lnTo>
                      <a:pt x="11" y="612"/>
                    </a:lnTo>
                    <a:lnTo>
                      <a:pt x="23" y="618"/>
                    </a:lnTo>
                    <a:lnTo>
                      <a:pt x="34" y="627"/>
                    </a:lnTo>
                    <a:lnTo>
                      <a:pt x="49" y="637"/>
                    </a:lnTo>
                    <a:lnTo>
                      <a:pt x="67" y="646"/>
                    </a:lnTo>
                    <a:lnTo>
                      <a:pt x="86" y="658"/>
                    </a:lnTo>
                    <a:lnTo>
                      <a:pt x="105" y="671"/>
                    </a:lnTo>
                    <a:lnTo>
                      <a:pt x="127" y="682"/>
                    </a:lnTo>
                    <a:lnTo>
                      <a:pt x="150" y="698"/>
                    </a:lnTo>
                    <a:lnTo>
                      <a:pt x="175" y="711"/>
                    </a:lnTo>
                    <a:lnTo>
                      <a:pt x="188" y="719"/>
                    </a:lnTo>
                    <a:lnTo>
                      <a:pt x="203" y="726"/>
                    </a:lnTo>
                    <a:lnTo>
                      <a:pt x="217" y="734"/>
                    </a:lnTo>
                    <a:lnTo>
                      <a:pt x="230" y="739"/>
                    </a:lnTo>
                    <a:lnTo>
                      <a:pt x="245" y="749"/>
                    </a:lnTo>
                    <a:lnTo>
                      <a:pt x="259" y="755"/>
                    </a:lnTo>
                    <a:lnTo>
                      <a:pt x="274" y="764"/>
                    </a:lnTo>
                    <a:lnTo>
                      <a:pt x="289" y="770"/>
                    </a:lnTo>
                    <a:lnTo>
                      <a:pt x="304" y="777"/>
                    </a:lnTo>
                    <a:lnTo>
                      <a:pt x="321" y="785"/>
                    </a:lnTo>
                    <a:lnTo>
                      <a:pt x="337" y="793"/>
                    </a:lnTo>
                    <a:lnTo>
                      <a:pt x="352" y="800"/>
                    </a:lnTo>
                    <a:lnTo>
                      <a:pt x="369" y="808"/>
                    </a:lnTo>
                    <a:lnTo>
                      <a:pt x="386" y="815"/>
                    </a:lnTo>
                    <a:lnTo>
                      <a:pt x="403" y="821"/>
                    </a:lnTo>
                    <a:lnTo>
                      <a:pt x="420" y="829"/>
                    </a:lnTo>
                    <a:lnTo>
                      <a:pt x="454" y="844"/>
                    </a:lnTo>
                    <a:lnTo>
                      <a:pt x="491" y="855"/>
                    </a:lnTo>
                    <a:lnTo>
                      <a:pt x="525" y="869"/>
                    </a:lnTo>
                    <a:lnTo>
                      <a:pt x="561" y="880"/>
                    </a:lnTo>
                    <a:lnTo>
                      <a:pt x="599" y="892"/>
                    </a:lnTo>
                    <a:lnTo>
                      <a:pt x="635" y="901"/>
                    </a:lnTo>
                    <a:lnTo>
                      <a:pt x="673" y="911"/>
                    </a:lnTo>
                    <a:lnTo>
                      <a:pt x="709" y="918"/>
                    </a:lnTo>
                    <a:lnTo>
                      <a:pt x="747" y="924"/>
                    </a:lnTo>
                    <a:lnTo>
                      <a:pt x="821" y="931"/>
                    </a:lnTo>
                    <a:lnTo>
                      <a:pt x="892" y="931"/>
                    </a:lnTo>
                    <a:lnTo>
                      <a:pt x="956" y="920"/>
                    </a:lnTo>
                    <a:lnTo>
                      <a:pt x="987" y="911"/>
                    </a:lnTo>
                    <a:lnTo>
                      <a:pt x="1017" y="901"/>
                    </a:lnTo>
                    <a:lnTo>
                      <a:pt x="1046" y="888"/>
                    </a:lnTo>
                    <a:lnTo>
                      <a:pt x="1074" y="874"/>
                    </a:lnTo>
                    <a:lnTo>
                      <a:pt x="1088" y="867"/>
                    </a:lnTo>
                    <a:lnTo>
                      <a:pt x="1101" y="859"/>
                    </a:lnTo>
                    <a:lnTo>
                      <a:pt x="1114" y="850"/>
                    </a:lnTo>
                    <a:lnTo>
                      <a:pt x="1127" y="842"/>
                    </a:lnTo>
                    <a:lnTo>
                      <a:pt x="1141" y="833"/>
                    </a:lnTo>
                    <a:lnTo>
                      <a:pt x="1152" y="825"/>
                    </a:lnTo>
                    <a:lnTo>
                      <a:pt x="1166" y="815"/>
                    </a:lnTo>
                    <a:lnTo>
                      <a:pt x="1177" y="806"/>
                    </a:lnTo>
                    <a:lnTo>
                      <a:pt x="1226" y="768"/>
                    </a:lnTo>
                    <a:lnTo>
                      <a:pt x="1272" y="730"/>
                    </a:lnTo>
                    <a:lnTo>
                      <a:pt x="1318" y="692"/>
                    </a:lnTo>
                    <a:lnTo>
                      <a:pt x="1361" y="658"/>
                    </a:lnTo>
                    <a:lnTo>
                      <a:pt x="1373" y="648"/>
                    </a:lnTo>
                    <a:lnTo>
                      <a:pt x="1384" y="641"/>
                    </a:lnTo>
                    <a:lnTo>
                      <a:pt x="1394" y="633"/>
                    </a:lnTo>
                    <a:lnTo>
                      <a:pt x="1405" y="627"/>
                    </a:lnTo>
                    <a:lnTo>
                      <a:pt x="1428" y="612"/>
                    </a:lnTo>
                    <a:lnTo>
                      <a:pt x="1451" y="603"/>
                    </a:lnTo>
                    <a:lnTo>
                      <a:pt x="1474" y="591"/>
                    </a:lnTo>
                    <a:lnTo>
                      <a:pt x="1496" y="584"/>
                    </a:lnTo>
                    <a:lnTo>
                      <a:pt x="1544" y="576"/>
                    </a:lnTo>
                    <a:lnTo>
                      <a:pt x="1595" y="578"/>
                    </a:lnTo>
                    <a:lnTo>
                      <a:pt x="1648" y="593"/>
                    </a:lnTo>
                    <a:lnTo>
                      <a:pt x="1675" y="604"/>
                    </a:lnTo>
                    <a:lnTo>
                      <a:pt x="1702" y="614"/>
                    </a:lnTo>
                    <a:lnTo>
                      <a:pt x="1726" y="625"/>
                    </a:lnTo>
                    <a:lnTo>
                      <a:pt x="1751" y="637"/>
                    </a:lnTo>
                    <a:lnTo>
                      <a:pt x="1774" y="648"/>
                    </a:lnTo>
                    <a:lnTo>
                      <a:pt x="1797" y="660"/>
                    </a:lnTo>
                    <a:lnTo>
                      <a:pt x="1820" y="669"/>
                    </a:lnTo>
                    <a:lnTo>
                      <a:pt x="1842" y="681"/>
                    </a:lnTo>
                    <a:lnTo>
                      <a:pt x="1863" y="692"/>
                    </a:lnTo>
                    <a:lnTo>
                      <a:pt x="1884" y="703"/>
                    </a:lnTo>
                    <a:lnTo>
                      <a:pt x="1905" y="713"/>
                    </a:lnTo>
                    <a:lnTo>
                      <a:pt x="1926" y="724"/>
                    </a:lnTo>
                    <a:lnTo>
                      <a:pt x="1947" y="734"/>
                    </a:lnTo>
                    <a:lnTo>
                      <a:pt x="1966" y="745"/>
                    </a:lnTo>
                    <a:lnTo>
                      <a:pt x="1987" y="755"/>
                    </a:lnTo>
                    <a:lnTo>
                      <a:pt x="2008" y="764"/>
                    </a:lnTo>
                    <a:lnTo>
                      <a:pt x="2029" y="774"/>
                    </a:lnTo>
                    <a:lnTo>
                      <a:pt x="2050" y="783"/>
                    </a:lnTo>
                    <a:lnTo>
                      <a:pt x="2071" y="793"/>
                    </a:lnTo>
                    <a:lnTo>
                      <a:pt x="2093" y="800"/>
                    </a:lnTo>
                    <a:lnTo>
                      <a:pt x="2116" y="810"/>
                    </a:lnTo>
                    <a:lnTo>
                      <a:pt x="2139" y="817"/>
                    </a:lnTo>
                    <a:lnTo>
                      <a:pt x="2162" y="823"/>
                    </a:lnTo>
                    <a:lnTo>
                      <a:pt x="2187" y="831"/>
                    </a:lnTo>
                    <a:lnTo>
                      <a:pt x="2238" y="844"/>
                    </a:lnTo>
                    <a:lnTo>
                      <a:pt x="2293" y="854"/>
                    </a:lnTo>
                    <a:lnTo>
                      <a:pt x="2352" y="861"/>
                    </a:lnTo>
                    <a:lnTo>
                      <a:pt x="2417" y="867"/>
                    </a:lnTo>
                    <a:lnTo>
                      <a:pt x="2550" y="869"/>
                    </a:lnTo>
                    <a:lnTo>
                      <a:pt x="2679" y="859"/>
                    </a:lnTo>
                    <a:lnTo>
                      <a:pt x="2797" y="844"/>
                    </a:lnTo>
                    <a:lnTo>
                      <a:pt x="2852" y="834"/>
                    </a:lnTo>
                    <a:lnTo>
                      <a:pt x="2903" y="825"/>
                    </a:lnTo>
                    <a:lnTo>
                      <a:pt x="2951" y="814"/>
                    </a:lnTo>
                    <a:lnTo>
                      <a:pt x="2993" y="804"/>
                    </a:lnTo>
                    <a:lnTo>
                      <a:pt x="3031" y="795"/>
                    </a:lnTo>
                    <a:lnTo>
                      <a:pt x="3061" y="785"/>
                    </a:lnTo>
                    <a:lnTo>
                      <a:pt x="3107" y="772"/>
                    </a:lnTo>
                    <a:lnTo>
                      <a:pt x="3122" y="768"/>
                    </a:lnTo>
                    <a:lnTo>
                      <a:pt x="3107" y="777"/>
                    </a:lnTo>
                    <a:lnTo>
                      <a:pt x="3092" y="787"/>
                    </a:lnTo>
                    <a:lnTo>
                      <a:pt x="3082" y="795"/>
                    </a:lnTo>
                    <a:lnTo>
                      <a:pt x="3071" y="802"/>
                    </a:lnTo>
                    <a:lnTo>
                      <a:pt x="3017" y="844"/>
                    </a:lnTo>
                    <a:lnTo>
                      <a:pt x="2989" y="869"/>
                    </a:lnTo>
                    <a:lnTo>
                      <a:pt x="2958" y="895"/>
                    </a:lnTo>
                    <a:lnTo>
                      <a:pt x="2926" y="924"/>
                    </a:lnTo>
                    <a:lnTo>
                      <a:pt x="2896" y="956"/>
                    </a:lnTo>
                    <a:lnTo>
                      <a:pt x="2867" y="988"/>
                    </a:lnTo>
                    <a:lnTo>
                      <a:pt x="2843" y="1023"/>
                    </a:lnTo>
                    <a:lnTo>
                      <a:pt x="2820" y="1057"/>
                    </a:lnTo>
                    <a:lnTo>
                      <a:pt x="2803" y="1093"/>
                    </a:lnTo>
                    <a:lnTo>
                      <a:pt x="2785" y="1163"/>
                    </a:lnTo>
                    <a:lnTo>
                      <a:pt x="2787" y="1196"/>
                    </a:lnTo>
                    <a:lnTo>
                      <a:pt x="2797" y="1220"/>
                    </a:lnTo>
                    <a:lnTo>
                      <a:pt x="2812" y="1237"/>
                    </a:lnTo>
                    <a:lnTo>
                      <a:pt x="2822" y="1243"/>
                    </a:lnTo>
                    <a:lnTo>
                      <a:pt x="2833" y="1249"/>
                    </a:lnTo>
                    <a:lnTo>
                      <a:pt x="2858" y="1256"/>
                    </a:lnTo>
                    <a:lnTo>
                      <a:pt x="2886" y="1258"/>
                    </a:lnTo>
                    <a:lnTo>
                      <a:pt x="2951" y="1253"/>
                    </a:lnTo>
                    <a:lnTo>
                      <a:pt x="3014" y="1237"/>
                    </a:lnTo>
                    <a:lnTo>
                      <a:pt x="3044" y="1230"/>
                    </a:lnTo>
                    <a:lnTo>
                      <a:pt x="3069" y="1220"/>
                    </a:lnTo>
                    <a:lnTo>
                      <a:pt x="3092" y="1213"/>
                    </a:lnTo>
                    <a:lnTo>
                      <a:pt x="3109" y="1205"/>
                    </a:lnTo>
                    <a:lnTo>
                      <a:pt x="3124" y="1199"/>
                    </a:lnTo>
                    <a:lnTo>
                      <a:pt x="3124" y="11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6b03"/>
                  </a:gs>
                  <a:gs pos="100000">
                    <a:srgbClr val="be771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700000">
                <a:off x="1846800" y="4386960"/>
                <a:ext cx="1122120" cy="647640"/>
              </a:xfrm>
              <a:custGeom>
                <a:avLst/>
                <a:gdLst/>
                <a:ahLst/>
                <a:rect l="l" t="t" r="r" b="b"/>
                <a:pathLst>
                  <a:path w="3643" h="1259">
                    <a:moveTo>
                      <a:pt x="3132" y="1200"/>
                    </a:moveTo>
                    <a:lnTo>
                      <a:pt x="3139" y="1196"/>
                    </a:lnTo>
                    <a:lnTo>
                      <a:pt x="3158" y="1183"/>
                    </a:lnTo>
                    <a:lnTo>
                      <a:pt x="3171" y="1175"/>
                    </a:lnTo>
                    <a:lnTo>
                      <a:pt x="3187" y="1164"/>
                    </a:lnTo>
                    <a:lnTo>
                      <a:pt x="3206" y="1152"/>
                    </a:lnTo>
                    <a:lnTo>
                      <a:pt x="3225" y="1139"/>
                    </a:lnTo>
                    <a:lnTo>
                      <a:pt x="3236" y="1131"/>
                    </a:lnTo>
                    <a:lnTo>
                      <a:pt x="3246" y="1124"/>
                    </a:lnTo>
                    <a:lnTo>
                      <a:pt x="3257" y="1116"/>
                    </a:lnTo>
                    <a:lnTo>
                      <a:pt x="3270" y="1107"/>
                    </a:lnTo>
                    <a:lnTo>
                      <a:pt x="3282" y="1099"/>
                    </a:lnTo>
                    <a:lnTo>
                      <a:pt x="3293" y="1089"/>
                    </a:lnTo>
                    <a:lnTo>
                      <a:pt x="3306" y="1080"/>
                    </a:lnTo>
                    <a:lnTo>
                      <a:pt x="3318" y="1072"/>
                    </a:lnTo>
                    <a:lnTo>
                      <a:pt x="3371" y="1032"/>
                    </a:lnTo>
                    <a:lnTo>
                      <a:pt x="3422" y="989"/>
                    </a:lnTo>
                    <a:lnTo>
                      <a:pt x="3449" y="968"/>
                    </a:lnTo>
                    <a:lnTo>
                      <a:pt x="3474" y="945"/>
                    </a:lnTo>
                    <a:lnTo>
                      <a:pt x="3498" y="922"/>
                    </a:lnTo>
                    <a:lnTo>
                      <a:pt x="3521" y="899"/>
                    </a:lnTo>
                    <a:lnTo>
                      <a:pt x="3544" y="875"/>
                    </a:lnTo>
                    <a:lnTo>
                      <a:pt x="3563" y="852"/>
                    </a:lnTo>
                    <a:lnTo>
                      <a:pt x="3599" y="804"/>
                    </a:lnTo>
                    <a:lnTo>
                      <a:pt x="3626" y="761"/>
                    </a:lnTo>
                    <a:lnTo>
                      <a:pt x="3641" y="717"/>
                    </a:lnTo>
                    <a:lnTo>
                      <a:pt x="3643" y="675"/>
                    </a:lnTo>
                    <a:lnTo>
                      <a:pt x="3632" y="637"/>
                    </a:lnTo>
                    <a:lnTo>
                      <a:pt x="3609" y="599"/>
                    </a:lnTo>
                    <a:lnTo>
                      <a:pt x="3597" y="576"/>
                    </a:lnTo>
                    <a:lnTo>
                      <a:pt x="3584" y="552"/>
                    </a:lnTo>
                    <a:lnTo>
                      <a:pt x="3571" y="527"/>
                    </a:lnTo>
                    <a:lnTo>
                      <a:pt x="3557" y="500"/>
                    </a:lnTo>
                    <a:lnTo>
                      <a:pt x="3542" y="472"/>
                    </a:lnTo>
                    <a:lnTo>
                      <a:pt x="3527" y="443"/>
                    </a:lnTo>
                    <a:lnTo>
                      <a:pt x="3512" y="415"/>
                    </a:lnTo>
                    <a:lnTo>
                      <a:pt x="3495" y="384"/>
                    </a:lnTo>
                    <a:lnTo>
                      <a:pt x="3478" y="356"/>
                    </a:lnTo>
                    <a:lnTo>
                      <a:pt x="3460" y="325"/>
                    </a:lnTo>
                    <a:lnTo>
                      <a:pt x="3443" y="297"/>
                    </a:lnTo>
                    <a:lnTo>
                      <a:pt x="3426" y="266"/>
                    </a:lnTo>
                    <a:lnTo>
                      <a:pt x="3407" y="238"/>
                    </a:lnTo>
                    <a:lnTo>
                      <a:pt x="3388" y="209"/>
                    </a:lnTo>
                    <a:lnTo>
                      <a:pt x="3369" y="183"/>
                    </a:lnTo>
                    <a:lnTo>
                      <a:pt x="3350" y="158"/>
                    </a:lnTo>
                    <a:lnTo>
                      <a:pt x="3331" y="133"/>
                    </a:lnTo>
                    <a:lnTo>
                      <a:pt x="3312" y="109"/>
                    </a:lnTo>
                    <a:lnTo>
                      <a:pt x="3291" y="88"/>
                    </a:lnTo>
                    <a:lnTo>
                      <a:pt x="3272" y="69"/>
                    </a:lnTo>
                    <a:lnTo>
                      <a:pt x="3232" y="35"/>
                    </a:lnTo>
                    <a:lnTo>
                      <a:pt x="3211" y="21"/>
                    </a:lnTo>
                    <a:lnTo>
                      <a:pt x="3190" y="12"/>
                    </a:lnTo>
                    <a:lnTo>
                      <a:pt x="3171" y="4"/>
                    </a:lnTo>
                    <a:lnTo>
                      <a:pt x="3151" y="0"/>
                    </a:lnTo>
                    <a:lnTo>
                      <a:pt x="3111" y="2"/>
                    </a:lnTo>
                    <a:lnTo>
                      <a:pt x="3071" y="17"/>
                    </a:lnTo>
                    <a:lnTo>
                      <a:pt x="3016" y="71"/>
                    </a:lnTo>
                    <a:lnTo>
                      <a:pt x="3002" y="139"/>
                    </a:lnTo>
                    <a:lnTo>
                      <a:pt x="3006" y="175"/>
                    </a:lnTo>
                    <a:lnTo>
                      <a:pt x="3017" y="213"/>
                    </a:lnTo>
                    <a:lnTo>
                      <a:pt x="3035" y="251"/>
                    </a:lnTo>
                    <a:lnTo>
                      <a:pt x="3054" y="287"/>
                    </a:lnTo>
                    <a:lnTo>
                      <a:pt x="3076" y="323"/>
                    </a:lnTo>
                    <a:lnTo>
                      <a:pt x="3099" y="358"/>
                    </a:lnTo>
                    <a:lnTo>
                      <a:pt x="3122" y="386"/>
                    </a:lnTo>
                    <a:lnTo>
                      <a:pt x="3143" y="415"/>
                    </a:lnTo>
                    <a:lnTo>
                      <a:pt x="3179" y="453"/>
                    </a:lnTo>
                    <a:lnTo>
                      <a:pt x="3192" y="466"/>
                    </a:lnTo>
                    <a:lnTo>
                      <a:pt x="3122" y="476"/>
                    </a:lnTo>
                    <a:lnTo>
                      <a:pt x="3046" y="483"/>
                    </a:lnTo>
                    <a:lnTo>
                      <a:pt x="2945" y="491"/>
                    </a:lnTo>
                    <a:lnTo>
                      <a:pt x="2827" y="498"/>
                    </a:lnTo>
                    <a:lnTo>
                      <a:pt x="2700" y="500"/>
                    </a:lnTo>
                    <a:lnTo>
                      <a:pt x="2430" y="489"/>
                    </a:lnTo>
                    <a:lnTo>
                      <a:pt x="2365" y="477"/>
                    </a:lnTo>
                    <a:lnTo>
                      <a:pt x="2304" y="460"/>
                    </a:lnTo>
                    <a:lnTo>
                      <a:pt x="2276" y="451"/>
                    </a:lnTo>
                    <a:lnTo>
                      <a:pt x="2247" y="439"/>
                    </a:lnTo>
                    <a:lnTo>
                      <a:pt x="2219" y="426"/>
                    </a:lnTo>
                    <a:lnTo>
                      <a:pt x="2192" y="413"/>
                    </a:lnTo>
                    <a:lnTo>
                      <a:pt x="2166" y="398"/>
                    </a:lnTo>
                    <a:lnTo>
                      <a:pt x="2154" y="390"/>
                    </a:lnTo>
                    <a:lnTo>
                      <a:pt x="2141" y="382"/>
                    </a:lnTo>
                    <a:lnTo>
                      <a:pt x="2128" y="375"/>
                    </a:lnTo>
                    <a:lnTo>
                      <a:pt x="2114" y="367"/>
                    </a:lnTo>
                    <a:lnTo>
                      <a:pt x="2103" y="360"/>
                    </a:lnTo>
                    <a:lnTo>
                      <a:pt x="2090" y="350"/>
                    </a:lnTo>
                    <a:lnTo>
                      <a:pt x="2078" y="342"/>
                    </a:lnTo>
                    <a:lnTo>
                      <a:pt x="2065" y="335"/>
                    </a:lnTo>
                    <a:lnTo>
                      <a:pt x="2053" y="325"/>
                    </a:lnTo>
                    <a:lnTo>
                      <a:pt x="2042" y="318"/>
                    </a:lnTo>
                    <a:lnTo>
                      <a:pt x="2029" y="310"/>
                    </a:lnTo>
                    <a:lnTo>
                      <a:pt x="2017" y="301"/>
                    </a:lnTo>
                    <a:lnTo>
                      <a:pt x="2006" y="293"/>
                    </a:lnTo>
                    <a:lnTo>
                      <a:pt x="1993" y="285"/>
                    </a:lnTo>
                    <a:lnTo>
                      <a:pt x="1981" y="278"/>
                    </a:lnTo>
                    <a:lnTo>
                      <a:pt x="1970" y="270"/>
                    </a:lnTo>
                    <a:lnTo>
                      <a:pt x="1958" y="261"/>
                    </a:lnTo>
                    <a:lnTo>
                      <a:pt x="1947" y="253"/>
                    </a:lnTo>
                    <a:lnTo>
                      <a:pt x="1934" y="246"/>
                    </a:lnTo>
                    <a:lnTo>
                      <a:pt x="1922" y="238"/>
                    </a:lnTo>
                    <a:lnTo>
                      <a:pt x="1911" y="230"/>
                    </a:lnTo>
                    <a:lnTo>
                      <a:pt x="1899" y="225"/>
                    </a:lnTo>
                    <a:lnTo>
                      <a:pt x="1875" y="211"/>
                    </a:lnTo>
                    <a:lnTo>
                      <a:pt x="1850" y="198"/>
                    </a:lnTo>
                    <a:lnTo>
                      <a:pt x="1825" y="187"/>
                    </a:lnTo>
                    <a:lnTo>
                      <a:pt x="1801" y="175"/>
                    </a:lnTo>
                    <a:lnTo>
                      <a:pt x="1776" y="168"/>
                    </a:lnTo>
                    <a:lnTo>
                      <a:pt x="1751" y="158"/>
                    </a:lnTo>
                    <a:lnTo>
                      <a:pt x="1698" y="149"/>
                    </a:lnTo>
                    <a:lnTo>
                      <a:pt x="1643" y="147"/>
                    </a:lnTo>
                    <a:lnTo>
                      <a:pt x="1586" y="152"/>
                    </a:lnTo>
                    <a:lnTo>
                      <a:pt x="1529" y="164"/>
                    </a:lnTo>
                    <a:lnTo>
                      <a:pt x="1502" y="173"/>
                    </a:lnTo>
                    <a:lnTo>
                      <a:pt x="1479" y="183"/>
                    </a:lnTo>
                    <a:lnTo>
                      <a:pt x="1456" y="192"/>
                    </a:lnTo>
                    <a:lnTo>
                      <a:pt x="1434" y="206"/>
                    </a:lnTo>
                    <a:lnTo>
                      <a:pt x="1415" y="217"/>
                    </a:lnTo>
                    <a:lnTo>
                      <a:pt x="1394" y="230"/>
                    </a:lnTo>
                    <a:lnTo>
                      <a:pt x="1358" y="259"/>
                    </a:lnTo>
                    <a:lnTo>
                      <a:pt x="1323" y="287"/>
                    </a:lnTo>
                    <a:lnTo>
                      <a:pt x="1293" y="318"/>
                    </a:lnTo>
                    <a:lnTo>
                      <a:pt x="1262" y="348"/>
                    </a:lnTo>
                    <a:lnTo>
                      <a:pt x="1232" y="377"/>
                    </a:lnTo>
                    <a:lnTo>
                      <a:pt x="1200" y="403"/>
                    </a:lnTo>
                    <a:lnTo>
                      <a:pt x="1185" y="415"/>
                    </a:lnTo>
                    <a:lnTo>
                      <a:pt x="1167" y="426"/>
                    </a:lnTo>
                    <a:lnTo>
                      <a:pt x="1150" y="437"/>
                    </a:lnTo>
                    <a:lnTo>
                      <a:pt x="1133" y="445"/>
                    </a:lnTo>
                    <a:lnTo>
                      <a:pt x="1114" y="455"/>
                    </a:lnTo>
                    <a:lnTo>
                      <a:pt x="1093" y="460"/>
                    </a:lnTo>
                    <a:lnTo>
                      <a:pt x="1051" y="470"/>
                    </a:lnTo>
                    <a:lnTo>
                      <a:pt x="951" y="468"/>
                    </a:lnTo>
                    <a:lnTo>
                      <a:pt x="892" y="457"/>
                    </a:lnTo>
                    <a:lnTo>
                      <a:pt x="831" y="441"/>
                    </a:lnTo>
                    <a:lnTo>
                      <a:pt x="799" y="432"/>
                    </a:lnTo>
                    <a:lnTo>
                      <a:pt x="768" y="422"/>
                    </a:lnTo>
                    <a:lnTo>
                      <a:pt x="736" y="413"/>
                    </a:lnTo>
                    <a:lnTo>
                      <a:pt x="704" y="401"/>
                    </a:lnTo>
                    <a:lnTo>
                      <a:pt x="671" y="388"/>
                    </a:lnTo>
                    <a:lnTo>
                      <a:pt x="639" y="377"/>
                    </a:lnTo>
                    <a:lnTo>
                      <a:pt x="607" y="363"/>
                    </a:lnTo>
                    <a:lnTo>
                      <a:pt x="576" y="350"/>
                    </a:lnTo>
                    <a:lnTo>
                      <a:pt x="544" y="339"/>
                    </a:lnTo>
                    <a:lnTo>
                      <a:pt x="513" y="323"/>
                    </a:lnTo>
                    <a:lnTo>
                      <a:pt x="485" y="310"/>
                    </a:lnTo>
                    <a:lnTo>
                      <a:pt x="454" y="297"/>
                    </a:lnTo>
                    <a:lnTo>
                      <a:pt x="426" y="284"/>
                    </a:lnTo>
                    <a:lnTo>
                      <a:pt x="399" y="270"/>
                    </a:lnTo>
                    <a:lnTo>
                      <a:pt x="373" y="259"/>
                    </a:lnTo>
                    <a:lnTo>
                      <a:pt x="348" y="246"/>
                    </a:lnTo>
                    <a:lnTo>
                      <a:pt x="325" y="234"/>
                    </a:lnTo>
                    <a:lnTo>
                      <a:pt x="302" y="223"/>
                    </a:lnTo>
                    <a:lnTo>
                      <a:pt x="283" y="213"/>
                    </a:lnTo>
                    <a:lnTo>
                      <a:pt x="264" y="202"/>
                    </a:lnTo>
                    <a:lnTo>
                      <a:pt x="247" y="194"/>
                    </a:lnTo>
                    <a:lnTo>
                      <a:pt x="232" y="187"/>
                    </a:lnTo>
                    <a:lnTo>
                      <a:pt x="207" y="173"/>
                    </a:lnTo>
                    <a:lnTo>
                      <a:pt x="186" y="162"/>
                    </a:lnTo>
                    <a:lnTo>
                      <a:pt x="0" y="599"/>
                    </a:lnTo>
                    <a:lnTo>
                      <a:pt x="4" y="603"/>
                    </a:lnTo>
                    <a:lnTo>
                      <a:pt x="19" y="612"/>
                    </a:lnTo>
                    <a:lnTo>
                      <a:pt x="30" y="620"/>
                    </a:lnTo>
                    <a:lnTo>
                      <a:pt x="42" y="628"/>
                    </a:lnTo>
                    <a:lnTo>
                      <a:pt x="57" y="637"/>
                    </a:lnTo>
                    <a:lnTo>
                      <a:pt x="74" y="647"/>
                    </a:lnTo>
                    <a:lnTo>
                      <a:pt x="91" y="658"/>
                    </a:lnTo>
                    <a:lnTo>
                      <a:pt x="112" y="671"/>
                    </a:lnTo>
                    <a:lnTo>
                      <a:pt x="135" y="685"/>
                    </a:lnTo>
                    <a:lnTo>
                      <a:pt x="158" y="698"/>
                    </a:lnTo>
                    <a:lnTo>
                      <a:pt x="183" y="711"/>
                    </a:lnTo>
                    <a:lnTo>
                      <a:pt x="196" y="719"/>
                    </a:lnTo>
                    <a:lnTo>
                      <a:pt x="209" y="726"/>
                    </a:lnTo>
                    <a:lnTo>
                      <a:pt x="222" y="734"/>
                    </a:lnTo>
                    <a:lnTo>
                      <a:pt x="238" y="742"/>
                    </a:lnTo>
                    <a:lnTo>
                      <a:pt x="251" y="749"/>
                    </a:lnTo>
                    <a:lnTo>
                      <a:pt x="266" y="755"/>
                    </a:lnTo>
                    <a:lnTo>
                      <a:pt x="281" y="764"/>
                    </a:lnTo>
                    <a:lnTo>
                      <a:pt x="297" y="770"/>
                    </a:lnTo>
                    <a:lnTo>
                      <a:pt x="312" y="780"/>
                    </a:lnTo>
                    <a:lnTo>
                      <a:pt x="329" y="785"/>
                    </a:lnTo>
                    <a:lnTo>
                      <a:pt x="344" y="793"/>
                    </a:lnTo>
                    <a:lnTo>
                      <a:pt x="359" y="801"/>
                    </a:lnTo>
                    <a:lnTo>
                      <a:pt x="376" y="808"/>
                    </a:lnTo>
                    <a:lnTo>
                      <a:pt x="394" y="816"/>
                    </a:lnTo>
                    <a:lnTo>
                      <a:pt x="409" y="823"/>
                    </a:lnTo>
                    <a:lnTo>
                      <a:pt x="428" y="829"/>
                    </a:lnTo>
                    <a:lnTo>
                      <a:pt x="462" y="844"/>
                    </a:lnTo>
                    <a:lnTo>
                      <a:pt x="496" y="858"/>
                    </a:lnTo>
                    <a:lnTo>
                      <a:pt x="532" y="869"/>
                    </a:lnTo>
                    <a:lnTo>
                      <a:pt x="569" y="882"/>
                    </a:lnTo>
                    <a:lnTo>
                      <a:pt x="605" y="892"/>
                    </a:lnTo>
                    <a:lnTo>
                      <a:pt x="643" y="901"/>
                    </a:lnTo>
                    <a:lnTo>
                      <a:pt x="679" y="911"/>
                    </a:lnTo>
                    <a:lnTo>
                      <a:pt x="717" y="918"/>
                    </a:lnTo>
                    <a:lnTo>
                      <a:pt x="753" y="924"/>
                    </a:lnTo>
                    <a:lnTo>
                      <a:pt x="827" y="934"/>
                    </a:lnTo>
                    <a:lnTo>
                      <a:pt x="899" y="932"/>
                    </a:lnTo>
                    <a:lnTo>
                      <a:pt x="964" y="920"/>
                    </a:lnTo>
                    <a:lnTo>
                      <a:pt x="994" y="913"/>
                    </a:lnTo>
                    <a:lnTo>
                      <a:pt x="1025" y="901"/>
                    </a:lnTo>
                    <a:lnTo>
                      <a:pt x="1053" y="888"/>
                    </a:lnTo>
                    <a:lnTo>
                      <a:pt x="1082" y="875"/>
                    </a:lnTo>
                    <a:lnTo>
                      <a:pt x="1095" y="867"/>
                    </a:lnTo>
                    <a:lnTo>
                      <a:pt x="1108" y="859"/>
                    </a:lnTo>
                    <a:lnTo>
                      <a:pt x="1122" y="852"/>
                    </a:lnTo>
                    <a:lnTo>
                      <a:pt x="1135" y="842"/>
                    </a:lnTo>
                    <a:lnTo>
                      <a:pt x="1147" y="833"/>
                    </a:lnTo>
                    <a:lnTo>
                      <a:pt x="1160" y="825"/>
                    </a:lnTo>
                    <a:lnTo>
                      <a:pt x="1173" y="816"/>
                    </a:lnTo>
                    <a:lnTo>
                      <a:pt x="1185" y="806"/>
                    </a:lnTo>
                    <a:lnTo>
                      <a:pt x="1232" y="768"/>
                    </a:lnTo>
                    <a:lnTo>
                      <a:pt x="1280" y="730"/>
                    </a:lnTo>
                    <a:lnTo>
                      <a:pt x="1323" y="692"/>
                    </a:lnTo>
                    <a:lnTo>
                      <a:pt x="1369" y="658"/>
                    </a:lnTo>
                    <a:lnTo>
                      <a:pt x="1380" y="648"/>
                    </a:lnTo>
                    <a:lnTo>
                      <a:pt x="1390" y="641"/>
                    </a:lnTo>
                    <a:lnTo>
                      <a:pt x="1401" y="633"/>
                    </a:lnTo>
                    <a:lnTo>
                      <a:pt x="1413" y="628"/>
                    </a:lnTo>
                    <a:lnTo>
                      <a:pt x="1436" y="614"/>
                    </a:lnTo>
                    <a:lnTo>
                      <a:pt x="1458" y="603"/>
                    </a:lnTo>
                    <a:lnTo>
                      <a:pt x="1481" y="591"/>
                    </a:lnTo>
                    <a:lnTo>
                      <a:pt x="1504" y="586"/>
                    </a:lnTo>
                    <a:lnTo>
                      <a:pt x="1551" y="576"/>
                    </a:lnTo>
                    <a:lnTo>
                      <a:pt x="1601" y="578"/>
                    </a:lnTo>
                    <a:lnTo>
                      <a:pt x="1656" y="593"/>
                    </a:lnTo>
                    <a:lnTo>
                      <a:pt x="1683" y="605"/>
                    </a:lnTo>
                    <a:lnTo>
                      <a:pt x="1709" y="614"/>
                    </a:lnTo>
                    <a:lnTo>
                      <a:pt x="1734" y="626"/>
                    </a:lnTo>
                    <a:lnTo>
                      <a:pt x="1757" y="637"/>
                    </a:lnTo>
                    <a:lnTo>
                      <a:pt x="1782" y="648"/>
                    </a:lnTo>
                    <a:lnTo>
                      <a:pt x="1804" y="660"/>
                    </a:lnTo>
                    <a:lnTo>
                      <a:pt x="1827" y="671"/>
                    </a:lnTo>
                    <a:lnTo>
                      <a:pt x="1848" y="681"/>
                    </a:lnTo>
                    <a:lnTo>
                      <a:pt x="1871" y="692"/>
                    </a:lnTo>
                    <a:lnTo>
                      <a:pt x="1890" y="704"/>
                    </a:lnTo>
                    <a:lnTo>
                      <a:pt x="1913" y="715"/>
                    </a:lnTo>
                    <a:lnTo>
                      <a:pt x="1934" y="725"/>
                    </a:lnTo>
                    <a:lnTo>
                      <a:pt x="1953" y="736"/>
                    </a:lnTo>
                    <a:lnTo>
                      <a:pt x="1974" y="745"/>
                    </a:lnTo>
                    <a:lnTo>
                      <a:pt x="1995" y="755"/>
                    </a:lnTo>
                    <a:lnTo>
                      <a:pt x="2015" y="764"/>
                    </a:lnTo>
                    <a:lnTo>
                      <a:pt x="2036" y="774"/>
                    </a:lnTo>
                    <a:lnTo>
                      <a:pt x="2057" y="783"/>
                    </a:lnTo>
                    <a:lnTo>
                      <a:pt x="2078" y="793"/>
                    </a:lnTo>
                    <a:lnTo>
                      <a:pt x="2101" y="801"/>
                    </a:lnTo>
                    <a:lnTo>
                      <a:pt x="2122" y="810"/>
                    </a:lnTo>
                    <a:lnTo>
                      <a:pt x="2145" y="818"/>
                    </a:lnTo>
                    <a:lnTo>
                      <a:pt x="2169" y="825"/>
                    </a:lnTo>
                    <a:lnTo>
                      <a:pt x="2194" y="831"/>
                    </a:lnTo>
                    <a:lnTo>
                      <a:pt x="2245" y="844"/>
                    </a:lnTo>
                    <a:lnTo>
                      <a:pt x="2299" y="854"/>
                    </a:lnTo>
                    <a:lnTo>
                      <a:pt x="2360" y="861"/>
                    </a:lnTo>
                    <a:lnTo>
                      <a:pt x="2424" y="867"/>
                    </a:lnTo>
                    <a:lnTo>
                      <a:pt x="2557" y="869"/>
                    </a:lnTo>
                    <a:lnTo>
                      <a:pt x="2685" y="859"/>
                    </a:lnTo>
                    <a:lnTo>
                      <a:pt x="2804" y="844"/>
                    </a:lnTo>
                    <a:lnTo>
                      <a:pt x="2860" y="835"/>
                    </a:lnTo>
                    <a:lnTo>
                      <a:pt x="2911" y="825"/>
                    </a:lnTo>
                    <a:lnTo>
                      <a:pt x="2958" y="814"/>
                    </a:lnTo>
                    <a:lnTo>
                      <a:pt x="3000" y="804"/>
                    </a:lnTo>
                    <a:lnTo>
                      <a:pt x="3038" y="795"/>
                    </a:lnTo>
                    <a:lnTo>
                      <a:pt x="3069" y="785"/>
                    </a:lnTo>
                    <a:lnTo>
                      <a:pt x="3112" y="772"/>
                    </a:lnTo>
                    <a:lnTo>
                      <a:pt x="3130" y="768"/>
                    </a:lnTo>
                    <a:lnTo>
                      <a:pt x="3114" y="778"/>
                    </a:lnTo>
                    <a:lnTo>
                      <a:pt x="3099" y="789"/>
                    </a:lnTo>
                    <a:lnTo>
                      <a:pt x="3088" y="795"/>
                    </a:lnTo>
                    <a:lnTo>
                      <a:pt x="3078" y="804"/>
                    </a:lnTo>
                    <a:lnTo>
                      <a:pt x="3025" y="844"/>
                    </a:lnTo>
                    <a:lnTo>
                      <a:pt x="2997" y="869"/>
                    </a:lnTo>
                    <a:lnTo>
                      <a:pt x="2964" y="896"/>
                    </a:lnTo>
                    <a:lnTo>
                      <a:pt x="2934" y="926"/>
                    </a:lnTo>
                    <a:lnTo>
                      <a:pt x="2903" y="956"/>
                    </a:lnTo>
                    <a:lnTo>
                      <a:pt x="2875" y="989"/>
                    </a:lnTo>
                    <a:lnTo>
                      <a:pt x="2850" y="1023"/>
                    </a:lnTo>
                    <a:lnTo>
                      <a:pt x="2827" y="1059"/>
                    </a:lnTo>
                    <a:lnTo>
                      <a:pt x="2810" y="1093"/>
                    </a:lnTo>
                    <a:lnTo>
                      <a:pt x="2791" y="1166"/>
                    </a:lnTo>
                    <a:lnTo>
                      <a:pt x="2795" y="1196"/>
                    </a:lnTo>
                    <a:lnTo>
                      <a:pt x="2804" y="1221"/>
                    </a:lnTo>
                    <a:lnTo>
                      <a:pt x="2820" y="1238"/>
                    </a:lnTo>
                    <a:lnTo>
                      <a:pt x="2829" y="1245"/>
                    </a:lnTo>
                    <a:lnTo>
                      <a:pt x="2841" y="1249"/>
                    </a:lnTo>
                    <a:lnTo>
                      <a:pt x="2865" y="1257"/>
                    </a:lnTo>
                    <a:lnTo>
                      <a:pt x="2894" y="1259"/>
                    </a:lnTo>
                    <a:lnTo>
                      <a:pt x="2957" y="1253"/>
                    </a:lnTo>
                    <a:lnTo>
                      <a:pt x="3021" y="1238"/>
                    </a:lnTo>
                    <a:lnTo>
                      <a:pt x="3050" y="1230"/>
                    </a:lnTo>
                    <a:lnTo>
                      <a:pt x="3076" y="1221"/>
                    </a:lnTo>
                    <a:lnTo>
                      <a:pt x="3099" y="1213"/>
                    </a:lnTo>
                    <a:lnTo>
                      <a:pt x="3116" y="1205"/>
                    </a:lnTo>
                    <a:lnTo>
                      <a:pt x="3132" y="1200"/>
                    </a:lnTo>
                    <a:lnTo>
                      <a:pt x="3132" y="120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1A0-ABD6-4DB8-B735-CFB4D192EC7D}" type="slidenum">
              <a:t>10</a:t>
            </a:fld>
          </a:p>
        </p:txBody>
      </p: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189000"/>
            <a:ext cx="9144000" cy="647640"/>
            <a:chOff x="0" y="189000"/>
            <a:chExt cx="9144000" cy="647640"/>
          </a:xfrm>
        </p:grpSpPr>
        <p:sp>
          <p:nvSpPr>
            <p:cNvPr id="200" name=""/>
            <p:cNvSpPr/>
            <p:nvPr/>
          </p:nvSpPr>
          <p:spPr>
            <a:xfrm>
              <a:off x="0" y="18900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73080" y="260280"/>
              <a:ext cx="81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Arial"/>
                </a:rPr>
                <a:t>Rendición de Cuenta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39640" y="1341360"/>
            <a:ext cx="8148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levan contabilida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sentan Balances a la Contaduría General de la N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integran en la Cuenta de Inversión que audita la A.G.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presentación a la Contaduría General de la Nación es objeto de informe por la Auditoría Intern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F78-C8C2-4380-9E59-3551C30D8442}" type="slidenum">
              <a:t>11</a:t>
            </a:fld>
          </a:p>
        </p:txBody>
      </p:sp>
    </p:spTree>
  </p:cSld>
  <p:transition spd="med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765000"/>
            <a:ext cx="828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Además de la rendición de cuentas formal y legal se pueden consultar información que brindan los en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2924280"/>
            <a:ext cx="8282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Por ejemplo: recaudación, egresos de fondos, destino, beneficiarios de los subsidios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16000" y="4724280"/>
            <a:ext cx="7632720" cy="1883880"/>
            <a:chOff x="1116000" y="4724280"/>
            <a:chExt cx="7632720" cy="1883880"/>
          </a:xfrm>
        </p:grpSpPr>
        <p:sp>
          <p:nvSpPr>
            <p:cNvPr id="206" name=""/>
            <p:cNvSpPr/>
            <p:nvPr/>
          </p:nvSpPr>
          <p:spPr>
            <a:xfrm>
              <a:off x="1116000" y="4724280"/>
              <a:ext cx="7632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cab40"/>
                  </a:solidFill>
                  <a:latin typeface="Arial Narrow"/>
                </a:rPr>
                <a:t>Ver página de la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cab40"/>
                  </a:solidFill>
                  <a:latin typeface="Arial Narrow"/>
                </a:rPr>
                <a:t>Unidad de Coordinación de Fideicomisos de Infraestructura</a:t>
              </a:r>
              <a:r>
                <a:rPr b="0" lang="es-MX" sz="2800" spc="-1" strike="noStrike">
                  <a:solidFill>
                    <a:srgbClr val="ebd189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40000" y="5661000"/>
              <a:ext cx="532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www.ucofin.gov.ar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7B5-DA0D-45B9-B2FD-5E86FA430C0B}" type="slidenum">
              <a:t>12</a:t>
            </a:fld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1467000"/>
            <a:ext cx="813600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uditoría General de la Nación (control extern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idades de Auditoría Interna de las Jurisdicciones y entidades a que pertenecen (control interno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upervisión del Control Interno por parte de la Sindicatura General de la N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de control del propio agente fiduciari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189000"/>
            <a:ext cx="9144000" cy="647640"/>
            <a:chOff x="0" y="189000"/>
            <a:chExt cx="9144000" cy="647640"/>
          </a:xfrm>
        </p:grpSpPr>
        <p:sp>
          <p:nvSpPr>
            <p:cNvPr id="210" name=""/>
            <p:cNvSpPr/>
            <p:nvPr/>
          </p:nvSpPr>
          <p:spPr>
            <a:xfrm>
              <a:off x="0" y="18900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34080" y="260280"/>
              <a:ext cx="42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49B-A032-4B9B-9E84-CB2243413536}" type="slidenum">
              <a:t>13</a:t>
            </a:fld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458280" y="956520"/>
            <a:ext cx="8217360" cy="4810320"/>
            <a:chOff x="458280" y="956520"/>
            <a:chExt cx="8217360" cy="4810320"/>
          </a:xfrm>
        </p:grpSpPr>
        <p:sp>
          <p:nvSpPr>
            <p:cNvPr id="213" name=""/>
            <p:cNvSpPr/>
            <p:nvPr/>
          </p:nvSpPr>
          <p:spPr>
            <a:xfrm>
              <a:off x="1692360" y="1916280"/>
              <a:ext cx="6983280" cy="38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Los fondos fiduciarios NO TIENEN por su modalidad </a:t>
              </a:r>
              <a:r>
                <a:rPr b="0" i="1" lang="es-MX" sz="3200" spc="-1" strike="noStrike">
                  <a:solidFill>
                    <a:srgbClr val="eaeaea"/>
                  </a:solidFill>
                  <a:latin typeface="Arial"/>
                </a:rPr>
                <a:t>un riesgo inherente mayor al de otras entidades</a:t>
              </a: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 del Poder Ejecutivo Nacional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Si se analizan las observaciones realizadas a estos entes por los organismos de control son similares al de otras entidades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700000">
              <a:off x="554400" y="1181880"/>
              <a:ext cx="906480" cy="647640"/>
            </a:xfrm>
            <a:custGeom>
              <a:avLst/>
              <a:gdLst/>
              <a:ahLst/>
              <a:rect l="l" t="t" r="r" b="b"/>
              <a:pathLst>
                <a:path w="3643" h="1259">
                  <a:moveTo>
                    <a:pt x="3132" y="1200"/>
                  </a:moveTo>
                  <a:lnTo>
                    <a:pt x="3139" y="1196"/>
                  </a:lnTo>
                  <a:lnTo>
                    <a:pt x="3158" y="1183"/>
                  </a:lnTo>
                  <a:lnTo>
                    <a:pt x="3171" y="1175"/>
                  </a:lnTo>
                  <a:lnTo>
                    <a:pt x="3187" y="1164"/>
                  </a:lnTo>
                  <a:lnTo>
                    <a:pt x="3206" y="1152"/>
                  </a:lnTo>
                  <a:lnTo>
                    <a:pt x="3225" y="1139"/>
                  </a:lnTo>
                  <a:lnTo>
                    <a:pt x="3236" y="1131"/>
                  </a:lnTo>
                  <a:lnTo>
                    <a:pt x="3246" y="1124"/>
                  </a:lnTo>
                  <a:lnTo>
                    <a:pt x="3257" y="1116"/>
                  </a:lnTo>
                  <a:lnTo>
                    <a:pt x="3270" y="1107"/>
                  </a:lnTo>
                  <a:lnTo>
                    <a:pt x="3282" y="1099"/>
                  </a:lnTo>
                  <a:lnTo>
                    <a:pt x="3293" y="1089"/>
                  </a:lnTo>
                  <a:lnTo>
                    <a:pt x="3306" y="1080"/>
                  </a:lnTo>
                  <a:lnTo>
                    <a:pt x="3318" y="1072"/>
                  </a:lnTo>
                  <a:lnTo>
                    <a:pt x="3371" y="1032"/>
                  </a:lnTo>
                  <a:lnTo>
                    <a:pt x="3422" y="989"/>
                  </a:lnTo>
                  <a:lnTo>
                    <a:pt x="3449" y="968"/>
                  </a:lnTo>
                  <a:lnTo>
                    <a:pt x="3474" y="945"/>
                  </a:lnTo>
                  <a:lnTo>
                    <a:pt x="3498" y="922"/>
                  </a:lnTo>
                  <a:lnTo>
                    <a:pt x="3521" y="899"/>
                  </a:lnTo>
                  <a:lnTo>
                    <a:pt x="3544" y="875"/>
                  </a:lnTo>
                  <a:lnTo>
                    <a:pt x="3563" y="852"/>
                  </a:lnTo>
                  <a:lnTo>
                    <a:pt x="3599" y="804"/>
                  </a:lnTo>
                  <a:lnTo>
                    <a:pt x="3626" y="761"/>
                  </a:lnTo>
                  <a:lnTo>
                    <a:pt x="3641" y="717"/>
                  </a:lnTo>
                  <a:lnTo>
                    <a:pt x="3643" y="675"/>
                  </a:lnTo>
                  <a:lnTo>
                    <a:pt x="3632" y="637"/>
                  </a:lnTo>
                  <a:lnTo>
                    <a:pt x="3609" y="599"/>
                  </a:lnTo>
                  <a:lnTo>
                    <a:pt x="3597" y="576"/>
                  </a:lnTo>
                  <a:lnTo>
                    <a:pt x="3584" y="552"/>
                  </a:lnTo>
                  <a:lnTo>
                    <a:pt x="3571" y="527"/>
                  </a:lnTo>
                  <a:lnTo>
                    <a:pt x="3557" y="500"/>
                  </a:lnTo>
                  <a:lnTo>
                    <a:pt x="3542" y="472"/>
                  </a:lnTo>
                  <a:lnTo>
                    <a:pt x="3527" y="443"/>
                  </a:lnTo>
                  <a:lnTo>
                    <a:pt x="3512" y="415"/>
                  </a:lnTo>
                  <a:lnTo>
                    <a:pt x="3495" y="384"/>
                  </a:lnTo>
                  <a:lnTo>
                    <a:pt x="3478" y="356"/>
                  </a:lnTo>
                  <a:lnTo>
                    <a:pt x="3460" y="325"/>
                  </a:lnTo>
                  <a:lnTo>
                    <a:pt x="3443" y="297"/>
                  </a:lnTo>
                  <a:lnTo>
                    <a:pt x="3426" y="266"/>
                  </a:lnTo>
                  <a:lnTo>
                    <a:pt x="3407" y="238"/>
                  </a:lnTo>
                  <a:lnTo>
                    <a:pt x="3388" y="209"/>
                  </a:lnTo>
                  <a:lnTo>
                    <a:pt x="3369" y="183"/>
                  </a:lnTo>
                  <a:lnTo>
                    <a:pt x="3350" y="158"/>
                  </a:lnTo>
                  <a:lnTo>
                    <a:pt x="3331" y="133"/>
                  </a:lnTo>
                  <a:lnTo>
                    <a:pt x="3312" y="109"/>
                  </a:lnTo>
                  <a:lnTo>
                    <a:pt x="3291" y="88"/>
                  </a:lnTo>
                  <a:lnTo>
                    <a:pt x="3272" y="69"/>
                  </a:lnTo>
                  <a:lnTo>
                    <a:pt x="3232" y="35"/>
                  </a:lnTo>
                  <a:lnTo>
                    <a:pt x="3211" y="21"/>
                  </a:lnTo>
                  <a:lnTo>
                    <a:pt x="3190" y="12"/>
                  </a:lnTo>
                  <a:lnTo>
                    <a:pt x="3171" y="4"/>
                  </a:lnTo>
                  <a:lnTo>
                    <a:pt x="3151" y="0"/>
                  </a:lnTo>
                  <a:lnTo>
                    <a:pt x="3111" y="2"/>
                  </a:lnTo>
                  <a:lnTo>
                    <a:pt x="3071" y="17"/>
                  </a:lnTo>
                  <a:lnTo>
                    <a:pt x="3016" y="71"/>
                  </a:lnTo>
                  <a:lnTo>
                    <a:pt x="3002" y="139"/>
                  </a:lnTo>
                  <a:lnTo>
                    <a:pt x="3006" y="175"/>
                  </a:lnTo>
                  <a:lnTo>
                    <a:pt x="3017" y="213"/>
                  </a:lnTo>
                  <a:lnTo>
                    <a:pt x="3035" y="251"/>
                  </a:lnTo>
                  <a:lnTo>
                    <a:pt x="3054" y="287"/>
                  </a:lnTo>
                  <a:lnTo>
                    <a:pt x="3076" y="323"/>
                  </a:lnTo>
                  <a:lnTo>
                    <a:pt x="3099" y="358"/>
                  </a:lnTo>
                  <a:lnTo>
                    <a:pt x="3122" y="386"/>
                  </a:lnTo>
                  <a:lnTo>
                    <a:pt x="3143" y="415"/>
                  </a:lnTo>
                  <a:lnTo>
                    <a:pt x="3179" y="453"/>
                  </a:lnTo>
                  <a:lnTo>
                    <a:pt x="3192" y="466"/>
                  </a:lnTo>
                  <a:lnTo>
                    <a:pt x="3122" y="476"/>
                  </a:lnTo>
                  <a:lnTo>
                    <a:pt x="3046" y="483"/>
                  </a:lnTo>
                  <a:lnTo>
                    <a:pt x="2945" y="491"/>
                  </a:lnTo>
                  <a:lnTo>
                    <a:pt x="2827" y="498"/>
                  </a:lnTo>
                  <a:lnTo>
                    <a:pt x="2700" y="500"/>
                  </a:lnTo>
                  <a:lnTo>
                    <a:pt x="2430" y="489"/>
                  </a:lnTo>
                  <a:lnTo>
                    <a:pt x="2365" y="477"/>
                  </a:lnTo>
                  <a:lnTo>
                    <a:pt x="2304" y="460"/>
                  </a:lnTo>
                  <a:lnTo>
                    <a:pt x="2276" y="451"/>
                  </a:lnTo>
                  <a:lnTo>
                    <a:pt x="2247" y="439"/>
                  </a:lnTo>
                  <a:lnTo>
                    <a:pt x="2219" y="426"/>
                  </a:lnTo>
                  <a:lnTo>
                    <a:pt x="2192" y="413"/>
                  </a:lnTo>
                  <a:lnTo>
                    <a:pt x="2166" y="398"/>
                  </a:lnTo>
                  <a:lnTo>
                    <a:pt x="2154" y="390"/>
                  </a:lnTo>
                  <a:lnTo>
                    <a:pt x="2141" y="382"/>
                  </a:lnTo>
                  <a:lnTo>
                    <a:pt x="2128" y="375"/>
                  </a:lnTo>
                  <a:lnTo>
                    <a:pt x="2114" y="367"/>
                  </a:lnTo>
                  <a:lnTo>
                    <a:pt x="2103" y="360"/>
                  </a:lnTo>
                  <a:lnTo>
                    <a:pt x="2090" y="350"/>
                  </a:lnTo>
                  <a:lnTo>
                    <a:pt x="2078" y="342"/>
                  </a:lnTo>
                  <a:lnTo>
                    <a:pt x="2065" y="335"/>
                  </a:lnTo>
                  <a:lnTo>
                    <a:pt x="2053" y="325"/>
                  </a:lnTo>
                  <a:lnTo>
                    <a:pt x="2042" y="318"/>
                  </a:lnTo>
                  <a:lnTo>
                    <a:pt x="2029" y="310"/>
                  </a:lnTo>
                  <a:lnTo>
                    <a:pt x="2017" y="301"/>
                  </a:lnTo>
                  <a:lnTo>
                    <a:pt x="2006" y="293"/>
                  </a:lnTo>
                  <a:lnTo>
                    <a:pt x="1993" y="285"/>
                  </a:lnTo>
                  <a:lnTo>
                    <a:pt x="1981" y="278"/>
                  </a:lnTo>
                  <a:lnTo>
                    <a:pt x="1970" y="270"/>
                  </a:lnTo>
                  <a:lnTo>
                    <a:pt x="1958" y="261"/>
                  </a:lnTo>
                  <a:lnTo>
                    <a:pt x="1947" y="253"/>
                  </a:lnTo>
                  <a:lnTo>
                    <a:pt x="1934" y="246"/>
                  </a:lnTo>
                  <a:lnTo>
                    <a:pt x="1922" y="238"/>
                  </a:lnTo>
                  <a:lnTo>
                    <a:pt x="1911" y="230"/>
                  </a:lnTo>
                  <a:lnTo>
                    <a:pt x="1899" y="225"/>
                  </a:lnTo>
                  <a:lnTo>
                    <a:pt x="1875" y="211"/>
                  </a:lnTo>
                  <a:lnTo>
                    <a:pt x="1850" y="198"/>
                  </a:lnTo>
                  <a:lnTo>
                    <a:pt x="1825" y="187"/>
                  </a:lnTo>
                  <a:lnTo>
                    <a:pt x="1801" y="175"/>
                  </a:lnTo>
                  <a:lnTo>
                    <a:pt x="1776" y="168"/>
                  </a:lnTo>
                  <a:lnTo>
                    <a:pt x="1751" y="158"/>
                  </a:lnTo>
                  <a:lnTo>
                    <a:pt x="1698" y="149"/>
                  </a:lnTo>
                  <a:lnTo>
                    <a:pt x="1643" y="147"/>
                  </a:lnTo>
                  <a:lnTo>
                    <a:pt x="1586" y="152"/>
                  </a:lnTo>
                  <a:lnTo>
                    <a:pt x="1529" y="164"/>
                  </a:lnTo>
                  <a:lnTo>
                    <a:pt x="1502" y="173"/>
                  </a:lnTo>
                  <a:lnTo>
                    <a:pt x="1479" y="183"/>
                  </a:lnTo>
                  <a:lnTo>
                    <a:pt x="1456" y="192"/>
                  </a:lnTo>
                  <a:lnTo>
                    <a:pt x="1434" y="206"/>
                  </a:lnTo>
                  <a:lnTo>
                    <a:pt x="1415" y="217"/>
                  </a:lnTo>
                  <a:lnTo>
                    <a:pt x="1394" y="230"/>
                  </a:lnTo>
                  <a:lnTo>
                    <a:pt x="1358" y="259"/>
                  </a:lnTo>
                  <a:lnTo>
                    <a:pt x="1323" y="287"/>
                  </a:lnTo>
                  <a:lnTo>
                    <a:pt x="1293" y="318"/>
                  </a:lnTo>
                  <a:lnTo>
                    <a:pt x="1262" y="348"/>
                  </a:lnTo>
                  <a:lnTo>
                    <a:pt x="1232" y="377"/>
                  </a:lnTo>
                  <a:lnTo>
                    <a:pt x="1200" y="403"/>
                  </a:lnTo>
                  <a:lnTo>
                    <a:pt x="1185" y="415"/>
                  </a:lnTo>
                  <a:lnTo>
                    <a:pt x="1167" y="426"/>
                  </a:lnTo>
                  <a:lnTo>
                    <a:pt x="1150" y="437"/>
                  </a:lnTo>
                  <a:lnTo>
                    <a:pt x="1133" y="445"/>
                  </a:lnTo>
                  <a:lnTo>
                    <a:pt x="1114" y="455"/>
                  </a:lnTo>
                  <a:lnTo>
                    <a:pt x="1093" y="460"/>
                  </a:lnTo>
                  <a:lnTo>
                    <a:pt x="1051" y="470"/>
                  </a:lnTo>
                  <a:lnTo>
                    <a:pt x="951" y="468"/>
                  </a:lnTo>
                  <a:lnTo>
                    <a:pt x="892" y="457"/>
                  </a:lnTo>
                  <a:lnTo>
                    <a:pt x="831" y="441"/>
                  </a:lnTo>
                  <a:lnTo>
                    <a:pt x="799" y="432"/>
                  </a:lnTo>
                  <a:lnTo>
                    <a:pt x="768" y="422"/>
                  </a:lnTo>
                  <a:lnTo>
                    <a:pt x="736" y="413"/>
                  </a:lnTo>
                  <a:lnTo>
                    <a:pt x="704" y="401"/>
                  </a:lnTo>
                  <a:lnTo>
                    <a:pt x="671" y="388"/>
                  </a:lnTo>
                  <a:lnTo>
                    <a:pt x="639" y="377"/>
                  </a:lnTo>
                  <a:lnTo>
                    <a:pt x="607" y="363"/>
                  </a:lnTo>
                  <a:lnTo>
                    <a:pt x="576" y="350"/>
                  </a:lnTo>
                  <a:lnTo>
                    <a:pt x="544" y="339"/>
                  </a:lnTo>
                  <a:lnTo>
                    <a:pt x="513" y="323"/>
                  </a:lnTo>
                  <a:lnTo>
                    <a:pt x="485" y="310"/>
                  </a:lnTo>
                  <a:lnTo>
                    <a:pt x="454" y="297"/>
                  </a:lnTo>
                  <a:lnTo>
                    <a:pt x="426" y="284"/>
                  </a:lnTo>
                  <a:lnTo>
                    <a:pt x="399" y="270"/>
                  </a:lnTo>
                  <a:lnTo>
                    <a:pt x="373" y="259"/>
                  </a:lnTo>
                  <a:lnTo>
                    <a:pt x="348" y="246"/>
                  </a:lnTo>
                  <a:lnTo>
                    <a:pt x="325" y="234"/>
                  </a:lnTo>
                  <a:lnTo>
                    <a:pt x="302" y="223"/>
                  </a:lnTo>
                  <a:lnTo>
                    <a:pt x="283" y="213"/>
                  </a:lnTo>
                  <a:lnTo>
                    <a:pt x="264" y="202"/>
                  </a:lnTo>
                  <a:lnTo>
                    <a:pt x="247" y="194"/>
                  </a:lnTo>
                  <a:lnTo>
                    <a:pt x="232" y="187"/>
                  </a:lnTo>
                  <a:lnTo>
                    <a:pt x="207" y="173"/>
                  </a:lnTo>
                  <a:lnTo>
                    <a:pt x="186" y="162"/>
                  </a:lnTo>
                  <a:lnTo>
                    <a:pt x="0" y="599"/>
                  </a:lnTo>
                  <a:lnTo>
                    <a:pt x="4" y="603"/>
                  </a:lnTo>
                  <a:lnTo>
                    <a:pt x="19" y="612"/>
                  </a:lnTo>
                  <a:lnTo>
                    <a:pt x="30" y="620"/>
                  </a:lnTo>
                  <a:lnTo>
                    <a:pt x="42" y="628"/>
                  </a:lnTo>
                  <a:lnTo>
                    <a:pt x="57" y="637"/>
                  </a:lnTo>
                  <a:lnTo>
                    <a:pt x="74" y="647"/>
                  </a:lnTo>
                  <a:lnTo>
                    <a:pt x="91" y="658"/>
                  </a:lnTo>
                  <a:lnTo>
                    <a:pt x="112" y="671"/>
                  </a:lnTo>
                  <a:lnTo>
                    <a:pt x="135" y="685"/>
                  </a:lnTo>
                  <a:lnTo>
                    <a:pt x="158" y="698"/>
                  </a:lnTo>
                  <a:lnTo>
                    <a:pt x="183" y="711"/>
                  </a:lnTo>
                  <a:lnTo>
                    <a:pt x="196" y="719"/>
                  </a:lnTo>
                  <a:lnTo>
                    <a:pt x="209" y="726"/>
                  </a:lnTo>
                  <a:lnTo>
                    <a:pt x="222" y="734"/>
                  </a:lnTo>
                  <a:lnTo>
                    <a:pt x="238" y="742"/>
                  </a:lnTo>
                  <a:lnTo>
                    <a:pt x="251" y="749"/>
                  </a:lnTo>
                  <a:lnTo>
                    <a:pt x="266" y="755"/>
                  </a:lnTo>
                  <a:lnTo>
                    <a:pt x="281" y="764"/>
                  </a:lnTo>
                  <a:lnTo>
                    <a:pt x="297" y="770"/>
                  </a:lnTo>
                  <a:lnTo>
                    <a:pt x="312" y="780"/>
                  </a:lnTo>
                  <a:lnTo>
                    <a:pt x="329" y="785"/>
                  </a:lnTo>
                  <a:lnTo>
                    <a:pt x="344" y="793"/>
                  </a:lnTo>
                  <a:lnTo>
                    <a:pt x="359" y="801"/>
                  </a:lnTo>
                  <a:lnTo>
                    <a:pt x="376" y="808"/>
                  </a:lnTo>
                  <a:lnTo>
                    <a:pt x="394" y="816"/>
                  </a:lnTo>
                  <a:lnTo>
                    <a:pt x="409" y="823"/>
                  </a:lnTo>
                  <a:lnTo>
                    <a:pt x="428" y="829"/>
                  </a:lnTo>
                  <a:lnTo>
                    <a:pt x="462" y="844"/>
                  </a:lnTo>
                  <a:lnTo>
                    <a:pt x="496" y="858"/>
                  </a:lnTo>
                  <a:lnTo>
                    <a:pt x="532" y="869"/>
                  </a:lnTo>
                  <a:lnTo>
                    <a:pt x="569" y="882"/>
                  </a:lnTo>
                  <a:lnTo>
                    <a:pt x="605" y="892"/>
                  </a:lnTo>
                  <a:lnTo>
                    <a:pt x="643" y="901"/>
                  </a:lnTo>
                  <a:lnTo>
                    <a:pt x="679" y="911"/>
                  </a:lnTo>
                  <a:lnTo>
                    <a:pt x="717" y="918"/>
                  </a:lnTo>
                  <a:lnTo>
                    <a:pt x="753" y="924"/>
                  </a:lnTo>
                  <a:lnTo>
                    <a:pt x="827" y="934"/>
                  </a:lnTo>
                  <a:lnTo>
                    <a:pt x="899" y="932"/>
                  </a:lnTo>
                  <a:lnTo>
                    <a:pt x="964" y="920"/>
                  </a:lnTo>
                  <a:lnTo>
                    <a:pt x="994" y="913"/>
                  </a:lnTo>
                  <a:lnTo>
                    <a:pt x="1025" y="901"/>
                  </a:lnTo>
                  <a:lnTo>
                    <a:pt x="1053" y="888"/>
                  </a:lnTo>
                  <a:lnTo>
                    <a:pt x="1082" y="875"/>
                  </a:lnTo>
                  <a:lnTo>
                    <a:pt x="1095" y="867"/>
                  </a:lnTo>
                  <a:lnTo>
                    <a:pt x="1108" y="859"/>
                  </a:lnTo>
                  <a:lnTo>
                    <a:pt x="1122" y="852"/>
                  </a:lnTo>
                  <a:lnTo>
                    <a:pt x="1135" y="842"/>
                  </a:lnTo>
                  <a:lnTo>
                    <a:pt x="1147" y="833"/>
                  </a:lnTo>
                  <a:lnTo>
                    <a:pt x="1160" y="825"/>
                  </a:lnTo>
                  <a:lnTo>
                    <a:pt x="1173" y="816"/>
                  </a:lnTo>
                  <a:lnTo>
                    <a:pt x="1185" y="806"/>
                  </a:lnTo>
                  <a:lnTo>
                    <a:pt x="1232" y="768"/>
                  </a:lnTo>
                  <a:lnTo>
                    <a:pt x="1280" y="730"/>
                  </a:lnTo>
                  <a:lnTo>
                    <a:pt x="1323" y="692"/>
                  </a:lnTo>
                  <a:lnTo>
                    <a:pt x="1369" y="658"/>
                  </a:lnTo>
                  <a:lnTo>
                    <a:pt x="1380" y="648"/>
                  </a:lnTo>
                  <a:lnTo>
                    <a:pt x="1390" y="641"/>
                  </a:lnTo>
                  <a:lnTo>
                    <a:pt x="1401" y="633"/>
                  </a:lnTo>
                  <a:lnTo>
                    <a:pt x="1413" y="628"/>
                  </a:lnTo>
                  <a:lnTo>
                    <a:pt x="1436" y="614"/>
                  </a:lnTo>
                  <a:lnTo>
                    <a:pt x="1458" y="603"/>
                  </a:lnTo>
                  <a:lnTo>
                    <a:pt x="1481" y="591"/>
                  </a:lnTo>
                  <a:lnTo>
                    <a:pt x="1504" y="586"/>
                  </a:lnTo>
                  <a:lnTo>
                    <a:pt x="1551" y="576"/>
                  </a:lnTo>
                  <a:lnTo>
                    <a:pt x="1601" y="578"/>
                  </a:lnTo>
                  <a:lnTo>
                    <a:pt x="1656" y="593"/>
                  </a:lnTo>
                  <a:lnTo>
                    <a:pt x="1683" y="605"/>
                  </a:lnTo>
                  <a:lnTo>
                    <a:pt x="1709" y="614"/>
                  </a:lnTo>
                  <a:lnTo>
                    <a:pt x="1734" y="626"/>
                  </a:lnTo>
                  <a:lnTo>
                    <a:pt x="1757" y="637"/>
                  </a:lnTo>
                  <a:lnTo>
                    <a:pt x="1782" y="648"/>
                  </a:lnTo>
                  <a:lnTo>
                    <a:pt x="1804" y="660"/>
                  </a:lnTo>
                  <a:lnTo>
                    <a:pt x="1827" y="671"/>
                  </a:lnTo>
                  <a:lnTo>
                    <a:pt x="1848" y="681"/>
                  </a:lnTo>
                  <a:lnTo>
                    <a:pt x="1871" y="692"/>
                  </a:lnTo>
                  <a:lnTo>
                    <a:pt x="1890" y="704"/>
                  </a:lnTo>
                  <a:lnTo>
                    <a:pt x="1913" y="715"/>
                  </a:lnTo>
                  <a:lnTo>
                    <a:pt x="1934" y="725"/>
                  </a:lnTo>
                  <a:lnTo>
                    <a:pt x="1953" y="736"/>
                  </a:lnTo>
                  <a:lnTo>
                    <a:pt x="1974" y="745"/>
                  </a:lnTo>
                  <a:lnTo>
                    <a:pt x="1995" y="755"/>
                  </a:lnTo>
                  <a:lnTo>
                    <a:pt x="2015" y="764"/>
                  </a:lnTo>
                  <a:lnTo>
                    <a:pt x="2036" y="774"/>
                  </a:lnTo>
                  <a:lnTo>
                    <a:pt x="2057" y="783"/>
                  </a:lnTo>
                  <a:lnTo>
                    <a:pt x="2078" y="793"/>
                  </a:lnTo>
                  <a:lnTo>
                    <a:pt x="2101" y="801"/>
                  </a:lnTo>
                  <a:lnTo>
                    <a:pt x="2122" y="810"/>
                  </a:lnTo>
                  <a:lnTo>
                    <a:pt x="2145" y="818"/>
                  </a:lnTo>
                  <a:lnTo>
                    <a:pt x="2169" y="825"/>
                  </a:lnTo>
                  <a:lnTo>
                    <a:pt x="2194" y="831"/>
                  </a:lnTo>
                  <a:lnTo>
                    <a:pt x="2245" y="844"/>
                  </a:lnTo>
                  <a:lnTo>
                    <a:pt x="2299" y="854"/>
                  </a:lnTo>
                  <a:lnTo>
                    <a:pt x="2360" y="861"/>
                  </a:lnTo>
                  <a:lnTo>
                    <a:pt x="2424" y="867"/>
                  </a:lnTo>
                  <a:lnTo>
                    <a:pt x="2557" y="869"/>
                  </a:lnTo>
                  <a:lnTo>
                    <a:pt x="2685" y="859"/>
                  </a:lnTo>
                  <a:lnTo>
                    <a:pt x="2804" y="844"/>
                  </a:lnTo>
                  <a:lnTo>
                    <a:pt x="2860" y="835"/>
                  </a:lnTo>
                  <a:lnTo>
                    <a:pt x="2911" y="825"/>
                  </a:lnTo>
                  <a:lnTo>
                    <a:pt x="2958" y="814"/>
                  </a:lnTo>
                  <a:lnTo>
                    <a:pt x="3000" y="804"/>
                  </a:lnTo>
                  <a:lnTo>
                    <a:pt x="3038" y="795"/>
                  </a:lnTo>
                  <a:lnTo>
                    <a:pt x="3069" y="785"/>
                  </a:lnTo>
                  <a:lnTo>
                    <a:pt x="3112" y="772"/>
                  </a:lnTo>
                  <a:lnTo>
                    <a:pt x="3130" y="768"/>
                  </a:lnTo>
                  <a:lnTo>
                    <a:pt x="3114" y="778"/>
                  </a:lnTo>
                  <a:lnTo>
                    <a:pt x="3099" y="789"/>
                  </a:lnTo>
                  <a:lnTo>
                    <a:pt x="3088" y="795"/>
                  </a:lnTo>
                  <a:lnTo>
                    <a:pt x="3078" y="804"/>
                  </a:lnTo>
                  <a:lnTo>
                    <a:pt x="3025" y="844"/>
                  </a:lnTo>
                  <a:lnTo>
                    <a:pt x="2997" y="869"/>
                  </a:lnTo>
                  <a:lnTo>
                    <a:pt x="2964" y="896"/>
                  </a:lnTo>
                  <a:lnTo>
                    <a:pt x="2934" y="926"/>
                  </a:lnTo>
                  <a:lnTo>
                    <a:pt x="2903" y="956"/>
                  </a:lnTo>
                  <a:lnTo>
                    <a:pt x="2875" y="989"/>
                  </a:lnTo>
                  <a:lnTo>
                    <a:pt x="2850" y="1023"/>
                  </a:lnTo>
                  <a:lnTo>
                    <a:pt x="2827" y="1059"/>
                  </a:lnTo>
                  <a:lnTo>
                    <a:pt x="2810" y="1093"/>
                  </a:lnTo>
                  <a:lnTo>
                    <a:pt x="2791" y="1166"/>
                  </a:lnTo>
                  <a:lnTo>
                    <a:pt x="2795" y="1196"/>
                  </a:lnTo>
                  <a:lnTo>
                    <a:pt x="2804" y="1221"/>
                  </a:lnTo>
                  <a:lnTo>
                    <a:pt x="2820" y="1238"/>
                  </a:lnTo>
                  <a:lnTo>
                    <a:pt x="2829" y="1245"/>
                  </a:lnTo>
                  <a:lnTo>
                    <a:pt x="2841" y="1249"/>
                  </a:lnTo>
                  <a:lnTo>
                    <a:pt x="2865" y="1257"/>
                  </a:lnTo>
                  <a:lnTo>
                    <a:pt x="2894" y="1259"/>
                  </a:lnTo>
                  <a:lnTo>
                    <a:pt x="2957" y="1253"/>
                  </a:lnTo>
                  <a:lnTo>
                    <a:pt x="3021" y="1238"/>
                  </a:lnTo>
                  <a:lnTo>
                    <a:pt x="3050" y="1230"/>
                  </a:lnTo>
                  <a:lnTo>
                    <a:pt x="3076" y="1221"/>
                  </a:lnTo>
                  <a:lnTo>
                    <a:pt x="3099" y="1213"/>
                  </a:lnTo>
                  <a:lnTo>
                    <a:pt x="3116" y="1205"/>
                  </a:lnTo>
                  <a:lnTo>
                    <a:pt x="3132" y="1200"/>
                  </a:lnTo>
                  <a:lnTo>
                    <a:pt x="3132" y="12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0" y="189000"/>
            <a:ext cx="9144000" cy="990000"/>
            <a:chOff x="0" y="189000"/>
            <a:chExt cx="9144000" cy="990000"/>
          </a:xfrm>
        </p:grpSpPr>
        <p:sp>
          <p:nvSpPr>
            <p:cNvPr id="216" name=""/>
            <p:cNvSpPr/>
            <p:nvPr/>
          </p:nvSpPr>
          <p:spPr>
            <a:xfrm>
              <a:off x="0" y="18900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11280" y="404640"/>
              <a:ext cx="6336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2000" y="231840"/>
              <a:ext cx="781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La estructura de Fondo fiduciario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eb626"/>
                  </a:solidFill>
                  <a:latin typeface="Arial"/>
                </a:rPr>
                <a:t>no afecta el riesgo de auditoría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24A-EBC8-4263-A3DF-097EE3E05C73}" type="slidenum">
              <a:t>14</a:t>
            </a:fld>
          </a:p>
        </p:txBody>
      </p:sp>
    </p:spTree>
  </p:cSld>
  <p:transition spd="med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467000"/>
            <a:ext cx="813600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milar al que realiza sobre otras jurisdicci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y organism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cab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levamiento de la totalidad de los Fondo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cab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fección de informes de auditorí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cab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guimiento a través de las respectivas Sindicaturas Jurisdiccional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cab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alización del proyecto horizontal de fondos fiduciarios (Planeamiento 2006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152280"/>
            <a:ext cx="9144000" cy="647640"/>
            <a:chOff x="0" y="152280"/>
            <a:chExt cx="9144000" cy="647640"/>
          </a:xfrm>
        </p:grpSpPr>
        <p:sp>
          <p:nvSpPr>
            <p:cNvPr id="221" name=""/>
            <p:cNvSpPr/>
            <p:nvPr/>
          </p:nvSpPr>
          <p:spPr>
            <a:xfrm>
              <a:off x="0" y="15228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34080" y="223560"/>
              <a:ext cx="42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Arial"/>
                </a:rPr>
                <a:t>Control de la SIGEN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0F8-AFC2-4449-9516-086999D51A08}" type="slidenum">
              <a:t>15</a:t>
            </a:fld>
          </a:p>
        </p:txBody>
      </p:sp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3840" y="692280"/>
            <a:ext cx="8893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225"/>
              </a:spcBef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TROL CENTRADO  EN LA GEST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11280" y="1736640"/>
            <a:ext cx="8137440" cy="1713960"/>
            <a:chOff x="611280" y="1736640"/>
            <a:chExt cx="8137440" cy="1713960"/>
          </a:xfrm>
        </p:grpSpPr>
        <p:grpSp>
          <p:nvGrpSpPr>
            <p:cNvPr id="225" name=""/>
            <p:cNvGrpSpPr/>
            <p:nvPr/>
          </p:nvGrpSpPr>
          <p:grpSpPr>
            <a:xfrm>
              <a:off x="611280" y="1916280"/>
              <a:ext cx="964800" cy="828360"/>
              <a:chOff x="611280" y="1916280"/>
              <a:chExt cx="964800" cy="828360"/>
            </a:xfrm>
          </p:grpSpPr>
          <p:sp>
            <p:nvSpPr>
              <p:cNvPr id="226" name=""/>
              <p:cNvSpPr/>
              <p:nvPr/>
            </p:nvSpPr>
            <p:spPr>
              <a:xfrm>
                <a:off x="611280" y="2079360"/>
                <a:ext cx="921600" cy="665280"/>
              </a:xfrm>
              <a:custGeom>
                <a:avLst/>
                <a:gdLst/>
                <a:ahLst/>
                <a:rect l="l" t="t" r="r" b="b"/>
                <a:pathLst>
                  <a:path w="2373" h="1851">
                    <a:moveTo>
                      <a:pt x="230" y="0"/>
                    </a:moveTo>
                    <a:lnTo>
                      <a:pt x="390" y="169"/>
                    </a:lnTo>
                    <a:lnTo>
                      <a:pt x="890" y="463"/>
                    </a:lnTo>
                    <a:lnTo>
                      <a:pt x="1513" y="604"/>
                    </a:lnTo>
                    <a:lnTo>
                      <a:pt x="1664" y="104"/>
                    </a:lnTo>
                    <a:lnTo>
                      <a:pt x="2373" y="813"/>
                    </a:lnTo>
                    <a:lnTo>
                      <a:pt x="1590" y="1851"/>
                    </a:lnTo>
                    <a:lnTo>
                      <a:pt x="1456" y="1256"/>
                    </a:lnTo>
                    <a:lnTo>
                      <a:pt x="909" y="1190"/>
                    </a:lnTo>
                    <a:lnTo>
                      <a:pt x="249" y="992"/>
                    </a:lnTo>
                    <a:lnTo>
                      <a:pt x="0" y="741"/>
                    </a:lnTo>
                    <a:lnTo>
                      <a:pt x="135" y="292"/>
                    </a:lnTo>
                    <a:lnTo>
                      <a:pt x="154" y="38"/>
                    </a:lnTo>
                    <a:lnTo>
                      <a:pt x="230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422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9400" y="2064960"/>
                <a:ext cx="540000" cy="263880"/>
              </a:xfrm>
              <a:custGeom>
                <a:avLst/>
                <a:gdLst/>
                <a:ahLst/>
                <a:rect l="l" t="t" r="r" b="b"/>
                <a:pathLst>
                  <a:path w="1390" h="734">
                    <a:moveTo>
                      <a:pt x="59" y="139"/>
                    </a:moveTo>
                    <a:lnTo>
                      <a:pt x="0" y="0"/>
                    </a:lnTo>
                    <a:lnTo>
                      <a:pt x="40" y="234"/>
                    </a:lnTo>
                    <a:lnTo>
                      <a:pt x="229" y="412"/>
                    </a:lnTo>
                    <a:lnTo>
                      <a:pt x="747" y="667"/>
                    </a:lnTo>
                    <a:lnTo>
                      <a:pt x="1154" y="734"/>
                    </a:lnTo>
                    <a:lnTo>
                      <a:pt x="1390" y="686"/>
                    </a:lnTo>
                    <a:lnTo>
                      <a:pt x="645" y="507"/>
                    </a:lnTo>
                    <a:lnTo>
                      <a:pt x="200" y="194"/>
                    </a:lnTo>
                    <a:lnTo>
                      <a:pt x="59" y="139"/>
                    </a:lnTo>
                    <a:lnTo>
                      <a:pt x="59" y="1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3300"/>
                  </a:gs>
                  <a:gs pos="100000">
                    <a:srgbClr val="2f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62520" y="2111760"/>
                <a:ext cx="275040" cy="516240"/>
              </a:xfrm>
              <a:custGeom>
                <a:avLst/>
                <a:gdLst/>
                <a:ahLst/>
                <a:rect l="l" t="t" r="r" b="b"/>
                <a:pathLst>
                  <a:path w="709" h="1435">
                    <a:moveTo>
                      <a:pt x="0" y="0"/>
                    </a:moveTo>
                    <a:lnTo>
                      <a:pt x="9" y="255"/>
                    </a:lnTo>
                    <a:lnTo>
                      <a:pt x="509" y="690"/>
                    </a:lnTo>
                    <a:lnTo>
                      <a:pt x="114" y="1435"/>
                    </a:lnTo>
                    <a:lnTo>
                      <a:pt x="709" y="70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4160" y="1916280"/>
                <a:ext cx="961920" cy="801000"/>
              </a:xfrm>
              <a:custGeom>
                <a:avLst/>
                <a:gdLst/>
                <a:ahLst/>
                <a:rect l="l" t="t" r="r" b="b"/>
                <a:pathLst>
                  <a:path w="2475" h="2228">
                    <a:moveTo>
                      <a:pt x="709" y="0"/>
                    </a:moveTo>
                    <a:lnTo>
                      <a:pt x="515" y="78"/>
                    </a:lnTo>
                    <a:lnTo>
                      <a:pt x="300" y="194"/>
                    </a:lnTo>
                    <a:lnTo>
                      <a:pt x="178" y="280"/>
                    </a:lnTo>
                    <a:lnTo>
                      <a:pt x="100" y="358"/>
                    </a:lnTo>
                    <a:lnTo>
                      <a:pt x="72" y="443"/>
                    </a:lnTo>
                    <a:lnTo>
                      <a:pt x="100" y="616"/>
                    </a:lnTo>
                    <a:lnTo>
                      <a:pt x="93" y="803"/>
                    </a:lnTo>
                    <a:lnTo>
                      <a:pt x="0" y="1139"/>
                    </a:lnTo>
                    <a:lnTo>
                      <a:pt x="134" y="903"/>
                    </a:lnTo>
                    <a:lnTo>
                      <a:pt x="199" y="689"/>
                    </a:lnTo>
                    <a:lnTo>
                      <a:pt x="207" y="531"/>
                    </a:lnTo>
                    <a:lnTo>
                      <a:pt x="365" y="689"/>
                    </a:lnTo>
                    <a:lnTo>
                      <a:pt x="621" y="831"/>
                    </a:lnTo>
                    <a:lnTo>
                      <a:pt x="940" y="987"/>
                    </a:lnTo>
                    <a:lnTo>
                      <a:pt x="1290" y="1063"/>
                    </a:lnTo>
                    <a:lnTo>
                      <a:pt x="1583" y="1101"/>
                    </a:lnTo>
                    <a:lnTo>
                      <a:pt x="1657" y="677"/>
                    </a:lnTo>
                    <a:lnTo>
                      <a:pt x="1819" y="865"/>
                    </a:lnTo>
                    <a:lnTo>
                      <a:pt x="2138" y="1082"/>
                    </a:lnTo>
                    <a:lnTo>
                      <a:pt x="2296" y="1282"/>
                    </a:lnTo>
                    <a:lnTo>
                      <a:pt x="1853" y="1898"/>
                    </a:lnTo>
                    <a:lnTo>
                      <a:pt x="1659" y="2228"/>
                    </a:lnTo>
                    <a:lnTo>
                      <a:pt x="1874" y="1977"/>
                    </a:lnTo>
                    <a:lnTo>
                      <a:pt x="2224" y="1512"/>
                    </a:lnTo>
                    <a:lnTo>
                      <a:pt x="2475" y="1247"/>
                    </a:lnTo>
                    <a:lnTo>
                      <a:pt x="2345" y="1118"/>
                    </a:lnTo>
                    <a:lnTo>
                      <a:pt x="1845" y="645"/>
                    </a:lnTo>
                    <a:lnTo>
                      <a:pt x="1680" y="472"/>
                    </a:lnTo>
                    <a:lnTo>
                      <a:pt x="1589" y="495"/>
                    </a:lnTo>
                    <a:lnTo>
                      <a:pt x="1558" y="710"/>
                    </a:lnTo>
                    <a:lnTo>
                      <a:pt x="1507" y="1006"/>
                    </a:lnTo>
                    <a:lnTo>
                      <a:pt x="1300" y="970"/>
                    </a:lnTo>
                    <a:lnTo>
                      <a:pt x="1017" y="884"/>
                    </a:lnTo>
                    <a:lnTo>
                      <a:pt x="522" y="658"/>
                    </a:lnTo>
                    <a:lnTo>
                      <a:pt x="328" y="508"/>
                    </a:lnTo>
                    <a:lnTo>
                      <a:pt x="264" y="350"/>
                    </a:lnTo>
                    <a:lnTo>
                      <a:pt x="344" y="251"/>
                    </a:lnTo>
                    <a:lnTo>
                      <a:pt x="536" y="143"/>
                    </a:lnTo>
                    <a:lnTo>
                      <a:pt x="665" y="101"/>
                    </a:lnTo>
                    <a:lnTo>
                      <a:pt x="709" y="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9400" y="1993680"/>
                <a:ext cx="118800" cy="140760"/>
              </a:xfrm>
              <a:custGeom>
                <a:avLst/>
                <a:gdLst/>
                <a:ahLst/>
                <a:rect l="l" t="t" r="r" b="b"/>
                <a:pathLst>
                  <a:path w="306" h="394">
                    <a:moveTo>
                      <a:pt x="0" y="200"/>
                    </a:moveTo>
                    <a:lnTo>
                      <a:pt x="78" y="86"/>
                    </a:lnTo>
                    <a:lnTo>
                      <a:pt x="306" y="0"/>
                    </a:lnTo>
                    <a:lnTo>
                      <a:pt x="128" y="150"/>
                    </a:lnTo>
                    <a:lnTo>
                      <a:pt x="257" y="130"/>
                    </a:lnTo>
                    <a:lnTo>
                      <a:pt x="151" y="251"/>
                    </a:lnTo>
                    <a:lnTo>
                      <a:pt x="257" y="228"/>
                    </a:lnTo>
                    <a:lnTo>
                      <a:pt x="200" y="394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15600" y="2340360"/>
                <a:ext cx="613080" cy="378720"/>
              </a:xfrm>
              <a:custGeom>
                <a:avLst/>
                <a:gdLst/>
                <a:ahLst/>
                <a:rect l="l" t="t" r="r" b="b"/>
                <a:pathLst>
                  <a:path w="1578" h="1053">
                    <a:moveTo>
                      <a:pt x="0" y="0"/>
                    </a:moveTo>
                    <a:lnTo>
                      <a:pt x="67" y="156"/>
                    </a:lnTo>
                    <a:lnTo>
                      <a:pt x="289" y="304"/>
                    </a:lnTo>
                    <a:lnTo>
                      <a:pt x="768" y="471"/>
                    </a:lnTo>
                    <a:lnTo>
                      <a:pt x="1363" y="629"/>
                    </a:lnTo>
                    <a:lnTo>
                      <a:pt x="1578" y="1053"/>
                    </a:lnTo>
                    <a:lnTo>
                      <a:pt x="1513" y="422"/>
                    </a:lnTo>
                    <a:lnTo>
                      <a:pt x="1078" y="431"/>
                    </a:lnTo>
                    <a:lnTo>
                      <a:pt x="458" y="270"/>
                    </a:lnTo>
                    <a:lnTo>
                      <a:pt x="135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763640" y="1736640"/>
              <a:ext cx="6985080" cy="17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5000"/>
                </a:lnSpc>
                <a:spcBef>
                  <a:spcPts val="1225"/>
                </a:spcBef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Los Fondos Fiduciarios aseguran la efectividad de la acciones de gobierno, se justifican con la gestión, por ello su control debe ser prioritario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55640" y="4581360"/>
            <a:ext cx="8051760" cy="1593720"/>
            <a:chOff x="755640" y="4581360"/>
            <a:chExt cx="8051760" cy="1593720"/>
          </a:xfrm>
        </p:grpSpPr>
        <p:sp>
          <p:nvSpPr>
            <p:cNvPr id="234" name=""/>
            <p:cNvSpPr/>
            <p:nvPr/>
          </p:nvSpPr>
          <p:spPr>
            <a:xfrm>
              <a:off x="3058920" y="4581360"/>
              <a:ext cx="57484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5000"/>
                </a:lnSpc>
                <a:spcBef>
                  <a:spcPts val="1225"/>
                </a:spcBef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755640" y="4590720"/>
              <a:ext cx="152712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DB5B-56C9-4991-9BE5-3008E4E8E622}" type="slidenum">
              <a:t>16</a:t>
            </a:fld>
          </a:p>
        </p:txBody>
      </p: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8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8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228600"/>
            <a:ext cx="9144000" cy="814680"/>
            <a:chOff x="0" y="228600"/>
            <a:chExt cx="9144000" cy="814680"/>
          </a:xfrm>
        </p:grpSpPr>
        <p:sp>
          <p:nvSpPr>
            <p:cNvPr id="237" name=""/>
            <p:cNvSpPr/>
            <p:nvPr/>
          </p:nvSpPr>
          <p:spPr>
            <a:xfrm>
              <a:off x="0" y="22860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6560" y="300960"/>
              <a:ext cx="856944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Pautas Gerenciale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0" y="533520"/>
            <a:ext cx="8569080" cy="5471640"/>
            <a:chOff x="0" y="533520"/>
            <a:chExt cx="8569080" cy="5471640"/>
          </a:xfrm>
        </p:grpSpPr>
        <p:sp>
          <p:nvSpPr>
            <p:cNvPr id="240" name=""/>
            <p:cNvSpPr/>
            <p:nvPr/>
          </p:nvSpPr>
          <p:spPr>
            <a:xfrm>
              <a:off x="0" y="533520"/>
              <a:ext cx="25207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4720" y="2333520"/>
              <a:ext cx="800100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Costo administrativo Promedio (IG-CAP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Gasto corriente operativo / N° proyect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Gestión de aprobación proyectos (IG-GAP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     </a:t>
              </a: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Proyectos aprobados / proyecto ingresad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Rendición de subsidios  (IG-RS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Subsidios rendidos / subsidios desembolsad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1036440"/>
              <a:ext cx="856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Indicadores de Gestión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99A-AFDB-4294-B1C9-0746C2A1C03F}" type="slidenum">
              <a:t>17</a:t>
            </a:fld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0" y="228600"/>
            <a:ext cx="9144000" cy="814680"/>
            <a:chOff x="0" y="228600"/>
            <a:chExt cx="9144000" cy="814680"/>
          </a:xfrm>
        </p:grpSpPr>
        <p:sp>
          <p:nvSpPr>
            <p:cNvPr id="244" name=""/>
            <p:cNvSpPr/>
            <p:nvPr/>
          </p:nvSpPr>
          <p:spPr>
            <a:xfrm>
              <a:off x="0" y="22860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6560" y="300960"/>
              <a:ext cx="856944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Pautas Gerenciale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0" y="533520"/>
            <a:ext cx="8569080" cy="5471640"/>
            <a:chOff x="0" y="533520"/>
            <a:chExt cx="8569080" cy="5471640"/>
          </a:xfrm>
        </p:grpSpPr>
        <p:sp>
          <p:nvSpPr>
            <p:cNvPr id="247" name=""/>
            <p:cNvSpPr/>
            <p:nvPr/>
          </p:nvSpPr>
          <p:spPr>
            <a:xfrm>
              <a:off x="0" y="533520"/>
              <a:ext cx="25207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4720" y="2333520"/>
              <a:ext cx="800100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Gestión de Recupero (EF-GR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Créditos en mora / créditos otorgad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Rendimiento de inversiones (EF-RIR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     </a:t>
              </a: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Intereses / monto ponderado de colocacione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Otorgamiento de créditos  (PYME-OC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Monto de Créditos / aporte de capital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1036440"/>
              <a:ext cx="856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Indicadores económico - financieros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0F1-2697-4DE9-8C5B-52C4FA400BB8}" type="slidenum">
              <a:t>18</a:t>
            </a:fld>
          </a:p>
        </p:txBody>
      </p:sp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228600"/>
            <a:ext cx="9144000" cy="814680"/>
            <a:chOff x="0" y="228600"/>
            <a:chExt cx="9144000" cy="814680"/>
          </a:xfrm>
        </p:grpSpPr>
        <p:sp>
          <p:nvSpPr>
            <p:cNvPr id="251" name=""/>
            <p:cNvSpPr/>
            <p:nvPr/>
          </p:nvSpPr>
          <p:spPr>
            <a:xfrm>
              <a:off x="0" y="22860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6560" y="300960"/>
              <a:ext cx="856944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Pautas Gerenciale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533520"/>
            <a:ext cx="8569080" cy="5471640"/>
            <a:chOff x="0" y="533520"/>
            <a:chExt cx="8569080" cy="5471640"/>
          </a:xfrm>
        </p:grpSpPr>
        <p:sp>
          <p:nvSpPr>
            <p:cNvPr id="254" name=""/>
            <p:cNvSpPr/>
            <p:nvPr/>
          </p:nvSpPr>
          <p:spPr>
            <a:xfrm>
              <a:off x="0" y="533520"/>
              <a:ext cx="25207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4720" y="2333520"/>
              <a:ext cx="800100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Cumplimiento metas físicas (P-CMF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Metas físicas ejecutadas / planificada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Cumplimiento aplicaciones (P-CPA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     </a:t>
              </a: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Aplicaciones ejecutadas / planificada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Cumplimiento recursos (P-CPR)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s-MX" sz="2800" spc="-1" strike="noStrike">
                  <a:solidFill>
                    <a:srgbClr val="fcab40"/>
                  </a:solidFill>
                  <a:latin typeface="Arial"/>
                </a:rPr>
                <a:t>Recursos ejecutados / planificad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8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1036440"/>
              <a:ext cx="856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Indicadores presupuestarios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7E9-1F79-4AF0-B9B5-A60C204724EE}" type="slidenum">
              <a:t>19</a:t>
            </a:fld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-1143000" y="152280"/>
            <a:ext cx="10286640" cy="947160"/>
            <a:chOff x="-1143000" y="152280"/>
            <a:chExt cx="10286640" cy="947160"/>
          </a:xfrm>
        </p:grpSpPr>
        <p:sp>
          <p:nvSpPr>
            <p:cNvPr id="111" name=""/>
            <p:cNvSpPr/>
            <p:nvPr/>
          </p:nvSpPr>
          <p:spPr>
            <a:xfrm>
              <a:off x="-1143000" y="152280"/>
              <a:ext cx="1028664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39680" y="152280"/>
              <a:ext cx="3482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Arial"/>
                </a:rPr>
                <a:t>Fideicomiso  Público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62120" y="1835280"/>
            <a:ext cx="777528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 un contrato por medio del cual el Estado (nacional, provincial, municipal), por medio de sus dependencias y en su carácter de fideicomitente, transmite la propiedad de los bienes de dominio público o privado del Estado a un fiduciario (por lo general instituciones nacionales o provinciales de crédito), para realizar un fin lícito, de interés público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A86-CD8D-4142-A1F7-9F20A3390CAB}" type="slidenum">
              <a:t>2</a:t>
            </a:fld>
          </a:p>
        </p:txBody>
      </p:sp>
    </p:spTree>
  </p:cSld>
  <p:transition spd="med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1197000"/>
            <a:ext cx="8280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os Fideicomisos Públicos son una herramienta para garantizar el financiamiento de los programas y proyecto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Están bajo el control de los organismos establecidos por la Ley 24.15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0" y="189000"/>
            <a:ext cx="9144000" cy="647640"/>
            <a:chOff x="0" y="189000"/>
            <a:chExt cx="9144000" cy="647640"/>
          </a:xfrm>
        </p:grpSpPr>
        <p:sp>
          <p:nvSpPr>
            <p:cNvPr id="259" name=""/>
            <p:cNvSpPr/>
            <p:nvPr/>
          </p:nvSpPr>
          <p:spPr>
            <a:xfrm>
              <a:off x="0" y="18900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1200" y="250920"/>
              <a:ext cx="85694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Conclusione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49280" y="3770280"/>
            <a:ext cx="8280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No presentan riesgos de auditoría inherentes a su régimen jurídic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El control de la Sindicatura General de la Nación es integral e integrado, con un particular énfasis en la gestión de los fondos, los programas y los proyect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66B-68CE-4148-BDEA-8E6294C7ACC4}" type="slidenum">
              <a:t>20</a:t>
            </a:fld>
          </a:p>
        </p:txBody>
      </p:sp>
    </p:spTree>
  </p:cSld>
  <p:transition spd="med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Fondos Fiduciarios Públicos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Arial"/>
              </a:rPr>
              <a:t>FI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58920" y="1268280"/>
            <a:ext cx="7200720" cy="2519280"/>
            <a:chOff x="1258920" y="1268280"/>
            <a:chExt cx="7200720" cy="2519280"/>
          </a:xfrm>
        </p:grpSpPr>
        <p:sp>
          <p:nvSpPr>
            <p:cNvPr id="265" name=""/>
            <p:cNvSpPr/>
            <p:nvPr/>
          </p:nvSpPr>
          <p:spPr>
            <a:xfrm>
              <a:off x="1258920" y="1268280"/>
              <a:ext cx="6769080" cy="2087280"/>
            </a:xfrm>
            <a:prstGeom prst="rect">
              <a:avLst/>
            </a:prstGeom>
            <a:solidFill>
              <a:srgbClr val="2190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4560" y="1483920"/>
              <a:ext cx="6769080" cy="2087640"/>
            </a:xfrm>
            <a:prstGeom prst="rect">
              <a:avLst/>
            </a:prstGeom>
            <a:solidFill>
              <a:srgbClr val="2190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90560" y="1699920"/>
              <a:ext cx="6769080" cy="2087640"/>
            </a:xfrm>
            <a:prstGeom prst="rect">
              <a:avLst/>
            </a:prstGeom>
            <a:solidFill>
              <a:srgbClr val="2190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2E1-7450-4863-99EB-4D6B4DCBED39}" type="slidenum">
              <a:t>21</a:t>
            </a:fld>
          </a:p>
        </p:txBody>
      </p:sp>
    </p:spTree>
  </p:cSld>
  <p:transition spd="med"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189000"/>
            <a:ext cx="9144000" cy="647640"/>
            <a:chOff x="0" y="189000"/>
            <a:chExt cx="9144000" cy="647640"/>
          </a:xfrm>
        </p:grpSpPr>
        <p:sp>
          <p:nvSpPr>
            <p:cNvPr id="115" name=""/>
            <p:cNvSpPr/>
            <p:nvPr/>
          </p:nvSpPr>
          <p:spPr>
            <a:xfrm>
              <a:off x="0" y="18900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4200" y="260280"/>
              <a:ext cx="840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Modalidades de Fideicomis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35280" y="1847880"/>
            <a:ext cx="6478560" cy="3828960"/>
            <a:chOff x="1835280" y="1847880"/>
            <a:chExt cx="6478560" cy="3828960"/>
          </a:xfrm>
        </p:grpSpPr>
        <p:sp>
          <p:nvSpPr>
            <p:cNvPr id="118" name=""/>
            <p:cNvSpPr/>
            <p:nvPr/>
          </p:nvSpPr>
          <p:spPr>
            <a:xfrm>
              <a:off x="2511360" y="1847880"/>
              <a:ext cx="53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Fideicomiso de Subsidi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27280" y="2639880"/>
              <a:ext cx="50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Fideicomiso Financier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54280" y="3432240"/>
              <a:ext cx="5659560" cy="22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Fideicomiso de Infraestructura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Fideicomiso de Administración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Combinación de dos o  más de los anteriore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835280" y="3357720"/>
              <a:ext cx="648720" cy="576000"/>
              <a:chOff x="1835280" y="3357720"/>
              <a:chExt cx="648720" cy="576000"/>
            </a:xfrm>
          </p:grpSpPr>
          <p:sp>
            <p:nvSpPr>
              <p:cNvPr id="122" name=""/>
              <p:cNvSpPr/>
              <p:nvPr/>
            </p:nvSpPr>
            <p:spPr>
              <a:xfrm>
                <a:off x="1835280" y="3471120"/>
                <a:ext cx="619920" cy="462600"/>
              </a:xfrm>
              <a:custGeom>
                <a:avLst/>
                <a:gdLst/>
                <a:ahLst/>
                <a:rect l="l" t="t" r="r" b="b"/>
                <a:pathLst>
                  <a:path w="2373" h="1851">
                    <a:moveTo>
                      <a:pt x="230" y="0"/>
                    </a:moveTo>
                    <a:lnTo>
                      <a:pt x="390" y="169"/>
                    </a:lnTo>
                    <a:lnTo>
                      <a:pt x="890" y="463"/>
                    </a:lnTo>
                    <a:lnTo>
                      <a:pt x="1513" y="604"/>
                    </a:lnTo>
                    <a:lnTo>
                      <a:pt x="1664" y="104"/>
                    </a:lnTo>
                    <a:lnTo>
                      <a:pt x="2373" y="813"/>
                    </a:lnTo>
                    <a:lnTo>
                      <a:pt x="1590" y="1851"/>
                    </a:lnTo>
                    <a:lnTo>
                      <a:pt x="1456" y="1256"/>
                    </a:lnTo>
                    <a:lnTo>
                      <a:pt x="909" y="1190"/>
                    </a:lnTo>
                    <a:lnTo>
                      <a:pt x="249" y="992"/>
                    </a:lnTo>
                    <a:lnTo>
                      <a:pt x="0" y="741"/>
                    </a:lnTo>
                    <a:lnTo>
                      <a:pt x="135" y="292"/>
                    </a:lnTo>
                    <a:lnTo>
                      <a:pt x="154" y="38"/>
                    </a:lnTo>
                    <a:lnTo>
                      <a:pt x="230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422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87840" y="3461040"/>
                <a:ext cx="363240" cy="183240"/>
              </a:xfrm>
              <a:custGeom>
                <a:avLst/>
                <a:gdLst/>
                <a:ahLst/>
                <a:rect l="l" t="t" r="r" b="b"/>
                <a:pathLst>
                  <a:path w="1390" h="734">
                    <a:moveTo>
                      <a:pt x="59" y="139"/>
                    </a:moveTo>
                    <a:lnTo>
                      <a:pt x="0" y="0"/>
                    </a:lnTo>
                    <a:lnTo>
                      <a:pt x="40" y="234"/>
                    </a:lnTo>
                    <a:lnTo>
                      <a:pt x="229" y="412"/>
                    </a:lnTo>
                    <a:lnTo>
                      <a:pt x="747" y="667"/>
                    </a:lnTo>
                    <a:lnTo>
                      <a:pt x="1154" y="734"/>
                    </a:lnTo>
                    <a:lnTo>
                      <a:pt x="1390" y="686"/>
                    </a:lnTo>
                    <a:lnTo>
                      <a:pt x="645" y="507"/>
                    </a:lnTo>
                    <a:lnTo>
                      <a:pt x="200" y="194"/>
                    </a:lnTo>
                    <a:lnTo>
                      <a:pt x="59" y="139"/>
                    </a:lnTo>
                    <a:lnTo>
                      <a:pt x="59" y="1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3300"/>
                  </a:gs>
                  <a:gs pos="100000">
                    <a:srgbClr val="2f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73040" y="3493440"/>
                <a:ext cx="185040" cy="358920"/>
              </a:xfrm>
              <a:custGeom>
                <a:avLst/>
                <a:gdLst/>
                <a:ahLst/>
                <a:rect l="l" t="t" r="r" b="b"/>
                <a:pathLst>
                  <a:path w="709" h="1435">
                    <a:moveTo>
                      <a:pt x="0" y="0"/>
                    </a:moveTo>
                    <a:lnTo>
                      <a:pt x="9" y="255"/>
                    </a:lnTo>
                    <a:lnTo>
                      <a:pt x="509" y="690"/>
                    </a:lnTo>
                    <a:lnTo>
                      <a:pt x="114" y="1435"/>
                    </a:lnTo>
                    <a:lnTo>
                      <a:pt x="709" y="70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37080" y="3357720"/>
                <a:ext cx="646920" cy="556920"/>
              </a:xfrm>
              <a:custGeom>
                <a:avLst/>
                <a:gdLst/>
                <a:ahLst/>
                <a:rect l="l" t="t" r="r" b="b"/>
                <a:pathLst>
                  <a:path w="2475" h="2228">
                    <a:moveTo>
                      <a:pt x="709" y="0"/>
                    </a:moveTo>
                    <a:lnTo>
                      <a:pt x="515" y="78"/>
                    </a:lnTo>
                    <a:lnTo>
                      <a:pt x="300" y="194"/>
                    </a:lnTo>
                    <a:lnTo>
                      <a:pt x="178" y="280"/>
                    </a:lnTo>
                    <a:lnTo>
                      <a:pt x="100" y="358"/>
                    </a:lnTo>
                    <a:lnTo>
                      <a:pt x="72" y="443"/>
                    </a:lnTo>
                    <a:lnTo>
                      <a:pt x="100" y="616"/>
                    </a:lnTo>
                    <a:lnTo>
                      <a:pt x="93" y="803"/>
                    </a:lnTo>
                    <a:lnTo>
                      <a:pt x="0" y="1139"/>
                    </a:lnTo>
                    <a:lnTo>
                      <a:pt x="134" y="903"/>
                    </a:lnTo>
                    <a:lnTo>
                      <a:pt x="199" y="689"/>
                    </a:lnTo>
                    <a:lnTo>
                      <a:pt x="207" y="531"/>
                    </a:lnTo>
                    <a:lnTo>
                      <a:pt x="365" y="689"/>
                    </a:lnTo>
                    <a:lnTo>
                      <a:pt x="621" y="831"/>
                    </a:lnTo>
                    <a:lnTo>
                      <a:pt x="940" y="987"/>
                    </a:lnTo>
                    <a:lnTo>
                      <a:pt x="1290" y="1063"/>
                    </a:lnTo>
                    <a:lnTo>
                      <a:pt x="1583" y="1101"/>
                    </a:lnTo>
                    <a:lnTo>
                      <a:pt x="1657" y="677"/>
                    </a:lnTo>
                    <a:lnTo>
                      <a:pt x="1819" y="865"/>
                    </a:lnTo>
                    <a:lnTo>
                      <a:pt x="2138" y="1082"/>
                    </a:lnTo>
                    <a:lnTo>
                      <a:pt x="2296" y="1282"/>
                    </a:lnTo>
                    <a:lnTo>
                      <a:pt x="1853" y="1898"/>
                    </a:lnTo>
                    <a:lnTo>
                      <a:pt x="1659" y="2228"/>
                    </a:lnTo>
                    <a:lnTo>
                      <a:pt x="1874" y="1977"/>
                    </a:lnTo>
                    <a:lnTo>
                      <a:pt x="2224" y="1512"/>
                    </a:lnTo>
                    <a:lnTo>
                      <a:pt x="2475" y="1247"/>
                    </a:lnTo>
                    <a:lnTo>
                      <a:pt x="2345" y="1118"/>
                    </a:lnTo>
                    <a:lnTo>
                      <a:pt x="1845" y="645"/>
                    </a:lnTo>
                    <a:lnTo>
                      <a:pt x="1680" y="472"/>
                    </a:lnTo>
                    <a:lnTo>
                      <a:pt x="1589" y="495"/>
                    </a:lnTo>
                    <a:lnTo>
                      <a:pt x="1558" y="710"/>
                    </a:lnTo>
                    <a:lnTo>
                      <a:pt x="1507" y="1006"/>
                    </a:lnTo>
                    <a:lnTo>
                      <a:pt x="1300" y="970"/>
                    </a:lnTo>
                    <a:lnTo>
                      <a:pt x="1017" y="884"/>
                    </a:lnTo>
                    <a:lnTo>
                      <a:pt x="522" y="658"/>
                    </a:lnTo>
                    <a:lnTo>
                      <a:pt x="328" y="508"/>
                    </a:lnTo>
                    <a:lnTo>
                      <a:pt x="264" y="350"/>
                    </a:lnTo>
                    <a:lnTo>
                      <a:pt x="344" y="251"/>
                    </a:lnTo>
                    <a:lnTo>
                      <a:pt x="536" y="143"/>
                    </a:lnTo>
                    <a:lnTo>
                      <a:pt x="665" y="101"/>
                    </a:lnTo>
                    <a:lnTo>
                      <a:pt x="709" y="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87840" y="3411360"/>
                <a:ext cx="79920" cy="97920"/>
              </a:xfrm>
              <a:custGeom>
                <a:avLst/>
                <a:gdLst/>
                <a:ahLst/>
                <a:rect l="l" t="t" r="r" b="b"/>
                <a:pathLst>
                  <a:path w="306" h="394">
                    <a:moveTo>
                      <a:pt x="0" y="200"/>
                    </a:moveTo>
                    <a:lnTo>
                      <a:pt x="78" y="86"/>
                    </a:lnTo>
                    <a:lnTo>
                      <a:pt x="306" y="0"/>
                    </a:lnTo>
                    <a:lnTo>
                      <a:pt x="128" y="150"/>
                    </a:lnTo>
                    <a:lnTo>
                      <a:pt x="257" y="130"/>
                    </a:lnTo>
                    <a:lnTo>
                      <a:pt x="151" y="251"/>
                    </a:lnTo>
                    <a:lnTo>
                      <a:pt x="257" y="228"/>
                    </a:lnTo>
                    <a:lnTo>
                      <a:pt x="200" y="394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38160" y="3652560"/>
                <a:ext cx="412560" cy="263520"/>
              </a:xfrm>
              <a:custGeom>
                <a:avLst/>
                <a:gdLst/>
                <a:ahLst/>
                <a:rect l="l" t="t" r="r" b="b"/>
                <a:pathLst>
                  <a:path w="1578" h="1053">
                    <a:moveTo>
                      <a:pt x="0" y="0"/>
                    </a:moveTo>
                    <a:lnTo>
                      <a:pt x="67" y="156"/>
                    </a:lnTo>
                    <a:lnTo>
                      <a:pt x="289" y="304"/>
                    </a:lnTo>
                    <a:lnTo>
                      <a:pt x="768" y="471"/>
                    </a:lnTo>
                    <a:lnTo>
                      <a:pt x="1363" y="629"/>
                    </a:lnTo>
                    <a:lnTo>
                      <a:pt x="1578" y="1053"/>
                    </a:lnTo>
                    <a:lnTo>
                      <a:pt x="1513" y="422"/>
                    </a:lnTo>
                    <a:lnTo>
                      <a:pt x="1078" y="431"/>
                    </a:lnTo>
                    <a:lnTo>
                      <a:pt x="458" y="270"/>
                    </a:lnTo>
                    <a:lnTo>
                      <a:pt x="135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835280" y="4008600"/>
              <a:ext cx="648720" cy="576000"/>
              <a:chOff x="1835280" y="4008600"/>
              <a:chExt cx="648720" cy="576000"/>
            </a:xfrm>
          </p:grpSpPr>
          <p:sp>
            <p:nvSpPr>
              <p:cNvPr id="129" name=""/>
              <p:cNvSpPr/>
              <p:nvPr/>
            </p:nvSpPr>
            <p:spPr>
              <a:xfrm>
                <a:off x="1835280" y="4122000"/>
                <a:ext cx="619920" cy="462600"/>
              </a:xfrm>
              <a:custGeom>
                <a:avLst/>
                <a:gdLst/>
                <a:ahLst/>
                <a:rect l="l" t="t" r="r" b="b"/>
                <a:pathLst>
                  <a:path w="2373" h="1851">
                    <a:moveTo>
                      <a:pt x="230" y="0"/>
                    </a:moveTo>
                    <a:lnTo>
                      <a:pt x="390" y="169"/>
                    </a:lnTo>
                    <a:lnTo>
                      <a:pt x="890" y="463"/>
                    </a:lnTo>
                    <a:lnTo>
                      <a:pt x="1513" y="604"/>
                    </a:lnTo>
                    <a:lnTo>
                      <a:pt x="1664" y="104"/>
                    </a:lnTo>
                    <a:lnTo>
                      <a:pt x="2373" y="813"/>
                    </a:lnTo>
                    <a:lnTo>
                      <a:pt x="1590" y="1851"/>
                    </a:lnTo>
                    <a:lnTo>
                      <a:pt x="1456" y="1256"/>
                    </a:lnTo>
                    <a:lnTo>
                      <a:pt x="909" y="1190"/>
                    </a:lnTo>
                    <a:lnTo>
                      <a:pt x="249" y="992"/>
                    </a:lnTo>
                    <a:lnTo>
                      <a:pt x="0" y="741"/>
                    </a:lnTo>
                    <a:lnTo>
                      <a:pt x="135" y="292"/>
                    </a:lnTo>
                    <a:lnTo>
                      <a:pt x="154" y="38"/>
                    </a:lnTo>
                    <a:lnTo>
                      <a:pt x="230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422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87840" y="4111920"/>
                <a:ext cx="363240" cy="183240"/>
              </a:xfrm>
              <a:custGeom>
                <a:avLst/>
                <a:gdLst/>
                <a:ahLst/>
                <a:rect l="l" t="t" r="r" b="b"/>
                <a:pathLst>
                  <a:path w="1390" h="734">
                    <a:moveTo>
                      <a:pt x="59" y="139"/>
                    </a:moveTo>
                    <a:lnTo>
                      <a:pt x="0" y="0"/>
                    </a:lnTo>
                    <a:lnTo>
                      <a:pt x="40" y="234"/>
                    </a:lnTo>
                    <a:lnTo>
                      <a:pt x="229" y="412"/>
                    </a:lnTo>
                    <a:lnTo>
                      <a:pt x="747" y="667"/>
                    </a:lnTo>
                    <a:lnTo>
                      <a:pt x="1154" y="734"/>
                    </a:lnTo>
                    <a:lnTo>
                      <a:pt x="1390" y="686"/>
                    </a:lnTo>
                    <a:lnTo>
                      <a:pt x="645" y="507"/>
                    </a:lnTo>
                    <a:lnTo>
                      <a:pt x="200" y="194"/>
                    </a:lnTo>
                    <a:lnTo>
                      <a:pt x="59" y="139"/>
                    </a:lnTo>
                    <a:lnTo>
                      <a:pt x="59" y="1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3300"/>
                  </a:gs>
                  <a:gs pos="100000">
                    <a:srgbClr val="2f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73040" y="4144320"/>
                <a:ext cx="185040" cy="358920"/>
              </a:xfrm>
              <a:custGeom>
                <a:avLst/>
                <a:gdLst/>
                <a:ahLst/>
                <a:rect l="l" t="t" r="r" b="b"/>
                <a:pathLst>
                  <a:path w="709" h="1435">
                    <a:moveTo>
                      <a:pt x="0" y="0"/>
                    </a:moveTo>
                    <a:lnTo>
                      <a:pt x="9" y="255"/>
                    </a:lnTo>
                    <a:lnTo>
                      <a:pt x="509" y="690"/>
                    </a:lnTo>
                    <a:lnTo>
                      <a:pt x="114" y="1435"/>
                    </a:lnTo>
                    <a:lnTo>
                      <a:pt x="709" y="70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37080" y="4008600"/>
                <a:ext cx="646920" cy="556920"/>
              </a:xfrm>
              <a:custGeom>
                <a:avLst/>
                <a:gdLst/>
                <a:ahLst/>
                <a:rect l="l" t="t" r="r" b="b"/>
                <a:pathLst>
                  <a:path w="2475" h="2228">
                    <a:moveTo>
                      <a:pt x="709" y="0"/>
                    </a:moveTo>
                    <a:lnTo>
                      <a:pt x="515" y="78"/>
                    </a:lnTo>
                    <a:lnTo>
                      <a:pt x="300" y="194"/>
                    </a:lnTo>
                    <a:lnTo>
                      <a:pt x="178" y="280"/>
                    </a:lnTo>
                    <a:lnTo>
                      <a:pt x="100" y="358"/>
                    </a:lnTo>
                    <a:lnTo>
                      <a:pt x="72" y="443"/>
                    </a:lnTo>
                    <a:lnTo>
                      <a:pt x="100" y="616"/>
                    </a:lnTo>
                    <a:lnTo>
                      <a:pt x="93" y="803"/>
                    </a:lnTo>
                    <a:lnTo>
                      <a:pt x="0" y="1139"/>
                    </a:lnTo>
                    <a:lnTo>
                      <a:pt x="134" y="903"/>
                    </a:lnTo>
                    <a:lnTo>
                      <a:pt x="199" y="689"/>
                    </a:lnTo>
                    <a:lnTo>
                      <a:pt x="207" y="531"/>
                    </a:lnTo>
                    <a:lnTo>
                      <a:pt x="365" y="689"/>
                    </a:lnTo>
                    <a:lnTo>
                      <a:pt x="621" y="831"/>
                    </a:lnTo>
                    <a:lnTo>
                      <a:pt x="940" y="987"/>
                    </a:lnTo>
                    <a:lnTo>
                      <a:pt x="1290" y="1063"/>
                    </a:lnTo>
                    <a:lnTo>
                      <a:pt x="1583" y="1101"/>
                    </a:lnTo>
                    <a:lnTo>
                      <a:pt x="1657" y="677"/>
                    </a:lnTo>
                    <a:lnTo>
                      <a:pt x="1819" y="865"/>
                    </a:lnTo>
                    <a:lnTo>
                      <a:pt x="2138" y="1082"/>
                    </a:lnTo>
                    <a:lnTo>
                      <a:pt x="2296" y="1282"/>
                    </a:lnTo>
                    <a:lnTo>
                      <a:pt x="1853" y="1898"/>
                    </a:lnTo>
                    <a:lnTo>
                      <a:pt x="1659" y="2228"/>
                    </a:lnTo>
                    <a:lnTo>
                      <a:pt x="1874" y="1977"/>
                    </a:lnTo>
                    <a:lnTo>
                      <a:pt x="2224" y="1512"/>
                    </a:lnTo>
                    <a:lnTo>
                      <a:pt x="2475" y="1247"/>
                    </a:lnTo>
                    <a:lnTo>
                      <a:pt x="2345" y="1118"/>
                    </a:lnTo>
                    <a:lnTo>
                      <a:pt x="1845" y="645"/>
                    </a:lnTo>
                    <a:lnTo>
                      <a:pt x="1680" y="472"/>
                    </a:lnTo>
                    <a:lnTo>
                      <a:pt x="1589" y="495"/>
                    </a:lnTo>
                    <a:lnTo>
                      <a:pt x="1558" y="710"/>
                    </a:lnTo>
                    <a:lnTo>
                      <a:pt x="1507" y="1006"/>
                    </a:lnTo>
                    <a:lnTo>
                      <a:pt x="1300" y="970"/>
                    </a:lnTo>
                    <a:lnTo>
                      <a:pt x="1017" y="884"/>
                    </a:lnTo>
                    <a:lnTo>
                      <a:pt x="522" y="658"/>
                    </a:lnTo>
                    <a:lnTo>
                      <a:pt x="328" y="508"/>
                    </a:lnTo>
                    <a:lnTo>
                      <a:pt x="264" y="350"/>
                    </a:lnTo>
                    <a:lnTo>
                      <a:pt x="344" y="251"/>
                    </a:lnTo>
                    <a:lnTo>
                      <a:pt x="536" y="143"/>
                    </a:lnTo>
                    <a:lnTo>
                      <a:pt x="665" y="101"/>
                    </a:lnTo>
                    <a:lnTo>
                      <a:pt x="709" y="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87840" y="4062240"/>
                <a:ext cx="79920" cy="97920"/>
              </a:xfrm>
              <a:custGeom>
                <a:avLst/>
                <a:gdLst/>
                <a:ahLst/>
                <a:rect l="l" t="t" r="r" b="b"/>
                <a:pathLst>
                  <a:path w="306" h="394">
                    <a:moveTo>
                      <a:pt x="0" y="200"/>
                    </a:moveTo>
                    <a:lnTo>
                      <a:pt x="78" y="86"/>
                    </a:lnTo>
                    <a:lnTo>
                      <a:pt x="306" y="0"/>
                    </a:lnTo>
                    <a:lnTo>
                      <a:pt x="128" y="150"/>
                    </a:lnTo>
                    <a:lnTo>
                      <a:pt x="257" y="130"/>
                    </a:lnTo>
                    <a:lnTo>
                      <a:pt x="151" y="251"/>
                    </a:lnTo>
                    <a:lnTo>
                      <a:pt x="257" y="228"/>
                    </a:lnTo>
                    <a:lnTo>
                      <a:pt x="200" y="394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38160" y="4303440"/>
                <a:ext cx="412560" cy="263520"/>
              </a:xfrm>
              <a:custGeom>
                <a:avLst/>
                <a:gdLst/>
                <a:ahLst/>
                <a:rect l="l" t="t" r="r" b="b"/>
                <a:pathLst>
                  <a:path w="1578" h="1053">
                    <a:moveTo>
                      <a:pt x="0" y="0"/>
                    </a:moveTo>
                    <a:lnTo>
                      <a:pt x="67" y="156"/>
                    </a:lnTo>
                    <a:lnTo>
                      <a:pt x="289" y="304"/>
                    </a:lnTo>
                    <a:lnTo>
                      <a:pt x="768" y="471"/>
                    </a:lnTo>
                    <a:lnTo>
                      <a:pt x="1363" y="629"/>
                    </a:lnTo>
                    <a:lnTo>
                      <a:pt x="1578" y="1053"/>
                    </a:lnTo>
                    <a:lnTo>
                      <a:pt x="1513" y="422"/>
                    </a:lnTo>
                    <a:lnTo>
                      <a:pt x="1078" y="431"/>
                    </a:lnTo>
                    <a:lnTo>
                      <a:pt x="458" y="270"/>
                    </a:lnTo>
                    <a:lnTo>
                      <a:pt x="135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835280" y="4656240"/>
              <a:ext cx="648720" cy="576000"/>
              <a:chOff x="1835280" y="4656240"/>
              <a:chExt cx="648720" cy="576000"/>
            </a:xfrm>
          </p:grpSpPr>
          <p:sp>
            <p:nvSpPr>
              <p:cNvPr id="136" name=""/>
              <p:cNvSpPr/>
              <p:nvPr/>
            </p:nvSpPr>
            <p:spPr>
              <a:xfrm>
                <a:off x="1835280" y="4769640"/>
                <a:ext cx="619920" cy="462600"/>
              </a:xfrm>
              <a:custGeom>
                <a:avLst/>
                <a:gdLst/>
                <a:ahLst/>
                <a:rect l="l" t="t" r="r" b="b"/>
                <a:pathLst>
                  <a:path w="2373" h="1851">
                    <a:moveTo>
                      <a:pt x="230" y="0"/>
                    </a:moveTo>
                    <a:lnTo>
                      <a:pt x="390" y="169"/>
                    </a:lnTo>
                    <a:lnTo>
                      <a:pt x="890" y="463"/>
                    </a:lnTo>
                    <a:lnTo>
                      <a:pt x="1513" y="604"/>
                    </a:lnTo>
                    <a:lnTo>
                      <a:pt x="1664" y="104"/>
                    </a:lnTo>
                    <a:lnTo>
                      <a:pt x="2373" y="813"/>
                    </a:lnTo>
                    <a:lnTo>
                      <a:pt x="1590" y="1851"/>
                    </a:lnTo>
                    <a:lnTo>
                      <a:pt x="1456" y="1256"/>
                    </a:lnTo>
                    <a:lnTo>
                      <a:pt x="909" y="1190"/>
                    </a:lnTo>
                    <a:lnTo>
                      <a:pt x="249" y="992"/>
                    </a:lnTo>
                    <a:lnTo>
                      <a:pt x="0" y="741"/>
                    </a:lnTo>
                    <a:lnTo>
                      <a:pt x="135" y="292"/>
                    </a:lnTo>
                    <a:lnTo>
                      <a:pt x="154" y="38"/>
                    </a:lnTo>
                    <a:lnTo>
                      <a:pt x="230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422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87840" y="4759560"/>
                <a:ext cx="363240" cy="183240"/>
              </a:xfrm>
              <a:custGeom>
                <a:avLst/>
                <a:gdLst/>
                <a:ahLst/>
                <a:rect l="l" t="t" r="r" b="b"/>
                <a:pathLst>
                  <a:path w="1390" h="734">
                    <a:moveTo>
                      <a:pt x="59" y="139"/>
                    </a:moveTo>
                    <a:lnTo>
                      <a:pt x="0" y="0"/>
                    </a:lnTo>
                    <a:lnTo>
                      <a:pt x="40" y="234"/>
                    </a:lnTo>
                    <a:lnTo>
                      <a:pt x="229" y="412"/>
                    </a:lnTo>
                    <a:lnTo>
                      <a:pt x="747" y="667"/>
                    </a:lnTo>
                    <a:lnTo>
                      <a:pt x="1154" y="734"/>
                    </a:lnTo>
                    <a:lnTo>
                      <a:pt x="1390" y="686"/>
                    </a:lnTo>
                    <a:lnTo>
                      <a:pt x="645" y="507"/>
                    </a:lnTo>
                    <a:lnTo>
                      <a:pt x="200" y="194"/>
                    </a:lnTo>
                    <a:lnTo>
                      <a:pt x="59" y="139"/>
                    </a:lnTo>
                    <a:lnTo>
                      <a:pt x="59" y="1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3300"/>
                  </a:gs>
                  <a:gs pos="100000">
                    <a:srgbClr val="2f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3040" y="4791960"/>
                <a:ext cx="185040" cy="358920"/>
              </a:xfrm>
              <a:custGeom>
                <a:avLst/>
                <a:gdLst/>
                <a:ahLst/>
                <a:rect l="l" t="t" r="r" b="b"/>
                <a:pathLst>
                  <a:path w="709" h="1435">
                    <a:moveTo>
                      <a:pt x="0" y="0"/>
                    </a:moveTo>
                    <a:lnTo>
                      <a:pt x="9" y="255"/>
                    </a:lnTo>
                    <a:lnTo>
                      <a:pt x="509" y="690"/>
                    </a:lnTo>
                    <a:lnTo>
                      <a:pt x="114" y="1435"/>
                    </a:lnTo>
                    <a:lnTo>
                      <a:pt x="709" y="70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37080" y="4656240"/>
                <a:ext cx="646920" cy="556920"/>
              </a:xfrm>
              <a:custGeom>
                <a:avLst/>
                <a:gdLst/>
                <a:ahLst/>
                <a:rect l="l" t="t" r="r" b="b"/>
                <a:pathLst>
                  <a:path w="2475" h="2228">
                    <a:moveTo>
                      <a:pt x="709" y="0"/>
                    </a:moveTo>
                    <a:lnTo>
                      <a:pt x="515" y="78"/>
                    </a:lnTo>
                    <a:lnTo>
                      <a:pt x="300" y="194"/>
                    </a:lnTo>
                    <a:lnTo>
                      <a:pt x="178" y="280"/>
                    </a:lnTo>
                    <a:lnTo>
                      <a:pt x="100" y="358"/>
                    </a:lnTo>
                    <a:lnTo>
                      <a:pt x="72" y="443"/>
                    </a:lnTo>
                    <a:lnTo>
                      <a:pt x="100" y="616"/>
                    </a:lnTo>
                    <a:lnTo>
                      <a:pt x="93" y="803"/>
                    </a:lnTo>
                    <a:lnTo>
                      <a:pt x="0" y="1139"/>
                    </a:lnTo>
                    <a:lnTo>
                      <a:pt x="134" y="903"/>
                    </a:lnTo>
                    <a:lnTo>
                      <a:pt x="199" y="689"/>
                    </a:lnTo>
                    <a:lnTo>
                      <a:pt x="207" y="531"/>
                    </a:lnTo>
                    <a:lnTo>
                      <a:pt x="365" y="689"/>
                    </a:lnTo>
                    <a:lnTo>
                      <a:pt x="621" y="831"/>
                    </a:lnTo>
                    <a:lnTo>
                      <a:pt x="940" y="987"/>
                    </a:lnTo>
                    <a:lnTo>
                      <a:pt x="1290" y="1063"/>
                    </a:lnTo>
                    <a:lnTo>
                      <a:pt x="1583" y="1101"/>
                    </a:lnTo>
                    <a:lnTo>
                      <a:pt x="1657" y="677"/>
                    </a:lnTo>
                    <a:lnTo>
                      <a:pt x="1819" y="865"/>
                    </a:lnTo>
                    <a:lnTo>
                      <a:pt x="2138" y="1082"/>
                    </a:lnTo>
                    <a:lnTo>
                      <a:pt x="2296" y="1282"/>
                    </a:lnTo>
                    <a:lnTo>
                      <a:pt x="1853" y="1898"/>
                    </a:lnTo>
                    <a:lnTo>
                      <a:pt x="1659" y="2228"/>
                    </a:lnTo>
                    <a:lnTo>
                      <a:pt x="1874" y="1977"/>
                    </a:lnTo>
                    <a:lnTo>
                      <a:pt x="2224" y="1512"/>
                    </a:lnTo>
                    <a:lnTo>
                      <a:pt x="2475" y="1247"/>
                    </a:lnTo>
                    <a:lnTo>
                      <a:pt x="2345" y="1118"/>
                    </a:lnTo>
                    <a:lnTo>
                      <a:pt x="1845" y="645"/>
                    </a:lnTo>
                    <a:lnTo>
                      <a:pt x="1680" y="472"/>
                    </a:lnTo>
                    <a:lnTo>
                      <a:pt x="1589" y="495"/>
                    </a:lnTo>
                    <a:lnTo>
                      <a:pt x="1558" y="710"/>
                    </a:lnTo>
                    <a:lnTo>
                      <a:pt x="1507" y="1006"/>
                    </a:lnTo>
                    <a:lnTo>
                      <a:pt x="1300" y="970"/>
                    </a:lnTo>
                    <a:lnTo>
                      <a:pt x="1017" y="884"/>
                    </a:lnTo>
                    <a:lnTo>
                      <a:pt x="522" y="658"/>
                    </a:lnTo>
                    <a:lnTo>
                      <a:pt x="328" y="508"/>
                    </a:lnTo>
                    <a:lnTo>
                      <a:pt x="264" y="350"/>
                    </a:lnTo>
                    <a:lnTo>
                      <a:pt x="344" y="251"/>
                    </a:lnTo>
                    <a:lnTo>
                      <a:pt x="536" y="143"/>
                    </a:lnTo>
                    <a:lnTo>
                      <a:pt x="665" y="101"/>
                    </a:lnTo>
                    <a:lnTo>
                      <a:pt x="709" y="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87840" y="4709880"/>
                <a:ext cx="79920" cy="97920"/>
              </a:xfrm>
              <a:custGeom>
                <a:avLst/>
                <a:gdLst/>
                <a:ahLst/>
                <a:rect l="l" t="t" r="r" b="b"/>
                <a:pathLst>
                  <a:path w="306" h="394">
                    <a:moveTo>
                      <a:pt x="0" y="200"/>
                    </a:moveTo>
                    <a:lnTo>
                      <a:pt x="78" y="86"/>
                    </a:lnTo>
                    <a:lnTo>
                      <a:pt x="306" y="0"/>
                    </a:lnTo>
                    <a:lnTo>
                      <a:pt x="128" y="150"/>
                    </a:lnTo>
                    <a:lnTo>
                      <a:pt x="257" y="130"/>
                    </a:lnTo>
                    <a:lnTo>
                      <a:pt x="151" y="251"/>
                    </a:lnTo>
                    <a:lnTo>
                      <a:pt x="257" y="228"/>
                    </a:lnTo>
                    <a:lnTo>
                      <a:pt x="200" y="394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38160" y="4951080"/>
                <a:ext cx="412560" cy="263520"/>
              </a:xfrm>
              <a:custGeom>
                <a:avLst/>
                <a:gdLst/>
                <a:ahLst/>
                <a:rect l="l" t="t" r="r" b="b"/>
                <a:pathLst>
                  <a:path w="1578" h="1053">
                    <a:moveTo>
                      <a:pt x="0" y="0"/>
                    </a:moveTo>
                    <a:lnTo>
                      <a:pt x="67" y="156"/>
                    </a:lnTo>
                    <a:lnTo>
                      <a:pt x="289" y="304"/>
                    </a:lnTo>
                    <a:lnTo>
                      <a:pt x="768" y="471"/>
                    </a:lnTo>
                    <a:lnTo>
                      <a:pt x="1363" y="629"/>
                    </a:lnTo>
                    <a:lnTo>
                      <a:pt x="1578" y="1053"/>
                    </a:lnTo>
                    <a:lnTo>
                      <a:pt x="1513" y="422"/>
                    </a:lnTo>
                    <a:lnTo>
                      <a:pt x="1078" y="431"/>
                    </a:lnTo>
                    <a:lnTo>
                      <a:pt x="458" y="270"/>
                    </a:lnTo>
                    <a:lnTo>
                      <a:pt x="135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835280" y="1847880"/>
              <a:ext cx="648720" cy="576360"/>
              <a:chOff x="1835280" y="1847880"/>
              <a:chExt cx="648720" cy="576360"/>
            </a:xfrm>
          </p:grpSpPr>
          <p:sp>
            <p:nvSpPr>
              <p:cNvPr id="143" name=""/>
              <p:cNvSpPr/>
              <p:nvPr/>
            </p:nvSpPr>
            <p:spPr>
              <a:xfrm>
                <a:off x="1835280" y="1961280"/>
                <a:ext cx="619920" cy="462960"/>
              </a:xfrm>
              <a:custGeom>
                <a:avLst/>
                <a:gdLst/>
                <a:ahLst/>
                <a:rect l="l" t="t" r="r" b="b"/>
                <a:pathLst>
                  <a:path w="2373" h="1851">
                    <a:moveTo>
                      <a:pt x="230" y="0"/>
                    </a:moveTo>
                    <a:lnTo>
                      <a:pt x="390" y="169"/>
                    </a:lnTo>
                    <a:lnTo>
                      <a:pt x="890" y="463"/>
                    </a:lnTo>
                    <a:lnTo>
                      <a:pt x="1513" y="604"/>
                    </a:lnTo>
                    <a:lnTo>
                      <a:pt x="1664" y="104"/>
                    </a:lnTo>
                    <a:lnTo>
                      <a:pt x="2373" y="813"/>
                    </a:lnTo>
                    <a:lnTo>
                      <a:pt x="1590" y="1851"/>
                    </a:lnTo>
                    <a:lnTo>
                      <a:pt x="1456" y="1256"/>
                    </a:lnTo>
                    <a:lnTo>
                      <a:pt x="909" y="1190"/>
                    </a:lnTo>
                    <a:lnTo>
                      <a:pt x="249" y="992"/>
                    </a:lnTo>
                    <a:lnTo>
                      <a:pt x="0" y="741"/>
                    </a:lnTo>
                    <a:lnTo>
                      <a:pt x="135" y="292"/>
                    </a:lnTo>
                    <a:lnTo>
                      <a:pt x="154" y="38"/>
                    </a:lnTo>
                    <a:lnTo>
                      <a:pt x="230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422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87840" y="1951200"/>
                <a:ext cx="363240" cy="183600"/>
              </a:xfrm>
              <a:custGeom>
                <a:avLst/>
                <a:gdLst/>
                <a:ahLst/>
                <a:rect l="l" t="t" r="r" b="b"/>
                <a:pathLst>
                  <a:path w="1390" h="734">
                    <a:moveTo>
                      <a:pt x="59" y="139"/>
                    </a:moveTo>
                    <a:lnTo>
                      <a:pt x="0" y="0"/>
                    </a:lnTo>
                    <a:lnTo>
                      <a:pt x="40" y="234"/>
                    </a:lnTo>
                    <a:lnTo>
                      <a:pt x="229" y="412"/>
                    </a:lnTo>
                    <a:lnTo>
                      <a:pt x="747" y="667"/>
                    </a:lnTo>
                    <a:lnTo>
                      <a:pt x="1154" y="734"/>
                    </a:lnTo>
                    <a:lnTo>
                      <a:pt x="1390" y="686"/>
                    </a:lnTo>
                    <a:lnTo>
                      <a:pt x="645" y="507"/>
                    </a:lnTo>
                    <a:lnTo>
                      <a:pt x="200" y="194"/>
                    </a:lnTo>
                    <a:lnTo>
                      <a:pt x="59" y="139"/>
                    </a:lnTo>
                    <a:lnTo>
                      <a:pt x="59" y="1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3300"/>
                  </a:gs>
                  <a:gs pos="100000">
                    <a:srgbClr val="2f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73040" y="1983960"/>
                <a:ext cx="185040" cy="359280"/>
              </a:xfrm>
              <a:custGeom>
                <a:avLst/>
                <a:gdLst/>
                <a:ahLst/>
                <a:rect l="l" t="t" r="r" b="b"/>
                <a:pathLst>
                  <a:path w="709" h="1435">
                    <a:moveTo>
                      <a:pt x="0" y="0"/>
                    </a:moveTo>
                    <a:lnTo>
                      <a:pt x="9" y="255"/>
                    </a:lnTo>
                    <a:lnTo>
                      <a:pt x="509" y="690"/>
                    </a:lnTo>
                    <a:lnTo>
                      <a:pt x="114" y="1435"/>
                    </a:lnTo>
                    <a:lnTo>
                      <a:pt x="709" y="70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37080" y="1847880"/>
                <a:ext cx="646920" cy="557280"/>
              </a:xfrm>
              <a:custGeom>
                <a:avLst/>
                <a:gdLst/>
                <a:ahLst/>
                <a:rect l="l" t="t" r="r" b="b"/>
                <a:pathLst>
                  <a:path w="2475" h="2228">
                    <a:moveTo>
                      <a:pt x="709" y="0"/>
                    </a:moveTo>
                    <a:lnTo>
                      <a:pt x="515" y="78"/>
                    </a:lnTo>
                    <a:lnTo>
                      <a:pt x="300" y="194"/>
                    </a:lnTo>
                    <a:lnTo>
                      <a:pt x="178" y="280"/>
                    </a:lnTo>
                    <a:lnTo>
                      <a:pt x="100" y="358"/>
                    </a:lnTo>
                    <a:lnTo>
                      <a:pt x="72" y="443"/>
                    </a:lnTo>
                    <a:lnTo>
                      <a:pt x="100" y="616"/>
                    </a:lnTo>
                    <a:lnTo>
                      <a:pt x="93" y="803"/>
                    </a:lnTo>
                    <a:lnTo>
                      <a:pt x="0" y="1139"/>
                    </a:lnTo>
                    <a:lnTo>
                      <a:pt x="134" y="903"/>
                    </a:lnTo>
                    <a:lnTo>
                      <a:pt x="199" y="689"/>
                    </a:lnTo>
                    <a:lnTo>
                      <a:pt x="207" y="531"/>
                    </a:lnTo>
                    <a:lnTo>
                      <a:pt x="365" y="689"/>
                    </a:lnTo>
                    <a:lnTo>
                      <a:pt x="621" y="831"/>
                    </a:lnTo>
                    <a:lnTo>
                      <a:pt x="940" y="987"/>
                    </a:lnTo>
                    <a:lnTo>
                      <a:pt x="1290" y="1063"/>
                    </a:lnTo>
                    <a:lnTo>
                      <a:pt x="1583" y="1101"/>
                    </a:lnTo>
                    <a:lnTo>
                      <a:pt x="1657" y="677"/>
                    </a:lnTo>
                    <a:lnTo>
                      <a:pt x="1819" y="865"/>
                    </a:lnTo>
                    <a:lnTo>
                      <a:pt x="2138" y="1082"/>
                    </a:lnTo>
                    <a:lnTo>
                      <a:pt x="2296" y="1282"/>
                    </a:lnTo>
                    <a:lnTo>
                      <a:pt x="1853" y="1898"/>
                    </a:lnTo>
                    <a:lnTo>
                      <a:pt x="1659" y="2228"/>
                    </a:lnTo>
                    <a:lnTo>
                      <a:pt x="1874" y="1977"/>
                    </a:lnTo>
                    <a:lnTo>
                      <a:pt x="2224" y="1512"/>
                    </a:lnTo>
                    <a:lnTo>
                      <a:pt x="2475" y="1247"/>
                    </a:lnTo>
                    <a:lnTo>
                      <a:pt x="2345" y="1118"/>
                    </a:lnTo>
                    <a:lnTo>
                      <a:pt x="1845" y="645"/>
                    </a:lnTo>
                    <a:lnTo>
                      <a:pt x="1680" y="472"/>
                    </a:lnTo>
                    <a:lnTo>
                      <a:pt x="1589" y="495"/>
                    </a:lnTo>
                    <a:lnTo>
                      <a:pt x="1558" y="710"/>
                    </a:lnTo>
                    <a:lnTo>
                      <a:pt x="1507" y="1006"/>
                    </a:lnTo>
                    <a:lnTo>
                      <a:pt x="1300" y="970"/>
                    </a:lnTo>
                    <a:lnTo>
                      <a:pt x="1017" y="884"/>
                    </a:lnTo>
                    <a:lnTo>
                      <a:pt x="522" y="658"/>
                    </a:lnTo>
                    <a:lnTo>
                      <a:pt x="328" y="508"/>
                    </a:lnTo>
                    <a:lnTo>
                      <a:pt x="264" y="350"/>
                    </a:lnTo>
                    <a:lnTo>
                      <a:pt x="344" y="251"/>
                    </a:lnTo>
                    <a:lnTo>
                      <a:pt x="536" y="143"/>
                    </a:lnTo>
                    <a:lnTo>
                      <a:pt x="665" y="101"/>
                    </a:lnTo>
                    <a:lnTo>
                      <a:pt x="709" y="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87840" y="1901880"/>
                <a:ext cx="79920" cy="97920"/>
              </a:xfrm>
              <a:custGeom>
                <a:avLst/>
                <a:gdLst/>
                <a:ahLst/>
                <a:rect l="l" t="t" r="r" b="b"/>
                <a:pathLst>
                  <a:path w="306" h="394">
                    <a:moveTo>
                      <a:pt x="0" y="200"/>
                    </a:moveTo>
                    <a:lnTo>
                      <a:pt x="78" y="86"/>
                    </a:lnTo>
                    <a:lnTo>
                      <a:pt x="306" y="0"/>
                    </a:lnTo>
                    <a:lnTo>
                      <a:pt x="128" y="150"/>
                    </a:lnTo>
                    <a:lnTo>
                      <a:pt x="257" y="130"/>
                    </a:lnTo>
                    <a:lnTo>
                      <a:pt x="151" y="251"/>
                    </a:lnTo>
                    <a:lnTo>
                      <a:pt x="257" y="228"/>
                    </a:lnTo>
                    <a:lnTo>
                      <a:pt x="200" y="394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38160" y="2143080"/>
                <a:ext cx="412560" cy="263520"/>
              </a:xfrm>
              <a:custGeom>
                <a:avLst/>
                <a:gdLst/>
                <a:ahLst/>
                <a:rect l="l" t="t" r="r" b="b"/>
                <a:pathLst>
                  <a:path w="1578" h="1053">
                    <a:moveTo>
                      <a:pt x="0" y="0"/>
                    </a:moveTo>
                    <a:lnTo>
                      <a:pt x="67" y="156"/>
                    </a:lnTo>
                    <a:lnTo>
                      <a:pt x="289" y="304"/>
                    </a:lnTo>
                    <a:lnTo>
                      <a:pt x="768" y="471"/>
                    </a:lnTo>
                    <a:lnTo>
                      <a:pt x="1363" y="629"/>
                    </a:lnTo>
                    <a:lnTo>
                      <a:pt x="1578" y="1053"/>
                    </a:lnTo>
                    <a:lnTo>
                      <a:pt x="1513" y="422"/>
                    </a:lnTo>
                    <a:lnTo>
                      <a:pt x="1078" y="431"/>
                    </a:lnTo>
                    <a:lnTo>
                      <a:pt x="458" y="270"/>
                    </a:lnTo>
                    <a:lnTo>
                      <a:pt x="135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835280" y="2639880"/>
              <a:ext cx="648720" cy="462240"/>
              <a:chOff x="1835280" y="2639880"/>
              <a:chExt cx="648720" cy="462240"/>
            </a:xfrm>
          </p:grpSpPr>
          <p:sp>
            <p:nvSpPr>
              <p:cNvPr id="150" name=""/>
              <p:cNvSpPr/>
              <p:nvPr/>
            </p:nvSpPr>
            <p:spPr>
              <a:xfrm>
                <a:off x="1835280" y="2730960"/>
                <a:ext cx="619920" cy="371160"/>
              </a:xfrm>
              <a:custGeom>
                <a:avLst/>
                <a:gdLst/>
                <a:ahLst/>
                <a:rect l="l" t="t" r="r" b="b"/>
                <a:pathLst>
                  <a:path w="2373" h="1851">
                    <a:moveTo>
                      <a:pt x="230" y="0"/>
                    </a:moveTo>
                    <a:lnTo>
                      <a:pt x="390" y="169"/>
                    </a:lnTo>
                    <a:lnTo>
                      <a:pt x="890" y="463"/>
                    </a:lnTo>
                    <a:lnTo>
                      <a:pt x="1513" y="604"/>
                    </a:lnTo>
                    <a:lnTo>
                      <a:pt x="1664" y="104"/>
                    </a:lnTo>
                    <a:lnTo>
                      <a:pt x="2373" y="813"/>
                    </a:lnTo>
                    <a:lnTo>
                      <a:pt x="1590" y="1851"/>
                    </a:lnTo>
                    <a:lnTo>
                      <a:pt x="1456" y="1256"/>
                    </a:lnTo>
                    <a:lnTo>
                      <a:pt x="909" y="1190"/>
                    </a:lnTo>
                    <a:lnTo>
                      <a:pt x="249" y="992"/>
                    </a:lnTo>
                    <a:lnTo>
                      <a:pt x="0" y="741"/>
                    </a:lnTo>
                    <a:lnTo>
                      <a:pt x="135" y="292"/>
                    </a:lnTo>
                    <a:lnTo>
                      <a:pt x="154" y="38"/>
                    </a:lnTo>
                    <a:lnTo>
                      <a:pt x="230" y="0"/>
                    </a:lnTo>
                    <a:lnTo>
                      <a:pt x="2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422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87840" y="2722680"/>
                <a:ext cx="363240" cy="147240"/>
              </a:xfrm>
              <a:custGeom>
                <a:avLst/>
                <a:gdLst/>
                <a:ahLst/>
                <a:rect l="l" t="t" r="r" b="b"/>
                <a:pathLst>
                  <a:path w="1390" h="734">
                    <a:moveTo>
                      <a:pt x="59" y="139"/>
                    </a:moveTo>
                    <a:lnTo>
                      <a:pt x="0" y="0"/>
                    </a:lnTo>
                    <a:lnTo>
                      <a:pt x="40" y="234"/>
                    </a:lnTo>
                    <a:lnTo>
                      <a:pt x="229" y="412"/>
                    </a:lnTo>
                    <a:lnTo>
                      <a:pt x="747" y="667"/>
                    </a:lnTo>
                    <a:lnTo>
                      <a:pt x="1154" y="734"/>
                    </a:lnTo>
                    <a:lnTo>
                      <a:pt x="1390" y="686"/>
                    </a:lnTo>
                    <a:lnTo>
                      <a:pt x="645" y="507"/>
                    </a:lnTo>
                    <a:lnTo>
                      <a:pt x="200" y="194"/>
                    </a:lnTo>
                    <a:lnTo>
                      <a:pt x="59" y="139"/>
                    </a:lnTo>
                    <a:lnTo>
                      <a:pt x="59" y="1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3300"/>
                  </a:gs>
                  <a:gs pos="100000">
                    <a:srgbClr val="2f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73040" y="2748960"/>
                <a:ext cx="185040" cy="288000"/>
              </a:xfrm>
              <a:custGeom>
                <a:avLst/>
                <a:gdLst/>
                <a:ahLst/>
                <a:rect l="l" t="t" r="r" b="b"/>
                <a:pathLst>
                  <a:path w="709" h="1435">
                    <a:moveTo>
                      <a:pt x="0" y="0"/>
                    </a:moveTo>
                    <a:lnTo>
                      <a:pt x="9" y="255"/>
                    </a:lnTo>
                    <a:lnTo>
                      <a:pt x="509" y="690"/>
                    </a:lnTo>
                    <a:lnTo>
                      <a:pt x="114" y="1435"/>
                    </a:lnTo>
                    <a:lnTo>
                      <a:pt x="709" y="70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37080" y="2639880"/>
                <a:ext cx="646920" cy="447120"/>
              </a:xfrm>
              <a:custGeom>
                <a:avLst/>
                <a:gdLst/>
                <a:ahLst/>
                <a:rect l="l" t="t" r="r" b="b"/>
                <a:pathLst>
                  <a:path w="2475" h="2228">
                    <a:moveTo>
                      <a:pt x="709" y="0"/>
                    </a:moveTo>
                    <a:lnTo>
                      <a:pt x="515" y="78"/>
                    </a:lnTo>
                    <a:lnTo>
                      <a:pt x="300" y="194"/>
                    </a:lnTo>
                    <a:lnTo>
                      <a:pt x="178" y="280"/>
                    </a:lnTo>
                    <a:lnTo>
                      <a:pt x="100" y="358"/>
                    </a:lnTo>
                    <a:lnTo>
                      <a:pt x="72" y="443"/>
                    </a:lnTo>
                    <a:lnTo>
                      <a:pt x="100" y="616"/>
                    </a:lnTo>
                    <a:lnTo>
                      <a:pt x="93" y="803"/>
                    </a:lnTo>
                    <a:lnTo>
                      <a:pt x="0" y="1139"/>
                    </a:lnTo>
                    <a:lnTo>
                      <a:pt x="134" y="903"/>
                    </a:lnTo>
                    <a:lnTo>
                      <a:pt x="199" y="689"/>
                    </a:lnTo>
                    <a:lnTo>
                      <a:pt x="207" y="531"/>
                    </a:lnTo>
                    <a:lnTo>
                      <a:pt x="365" y="689"/>
                    </a:lnTo>
                    <a:lnTo>
                      <a:pt x="621" y="831"/>
                    </a:lnTo>
                    <a:lnTo>
                      <a:pt x="940" y="987"/>
                    </a:lnTo>
                    <a:lnTo>
                      <a:pt x="1290" y="1063"/>
                    </a:lnTo>
                    <a:lnTo>
                      <a:pt x="1583" y="1101"/>
                    </a:lnTo>
                    <a:lnTo>
                      <a:pt x="1657" y="677"/>
                    </a:lnTo>
                    <a:lnTo>
                      <a:pt x="1819" y="865"/>
                    </a:lnTo>
                    <a:lnTo>
                      <a:pt x="2138" y="1082"/>
                    </a:lnTo>
                    <a:lnTo>
                      <a:pt x="2296" y="1282"/>
                    </a:lnTo>
                    <a:lnTo>
                      <a:pt x="1853" y="1898"/>
                    </a:lnTo>
                    <a:lnTo>
                      <a:pt x="1659" y="2228"/>
                    </a:lnTo>
                    <a:lnTo>
                      <a:pt x="1874" y="1977"/>
                    </a:lnTo>
                    <a:lnTo>
                      <a:pt x="2224" y="1512"/>
                    </a:lnTo>
                    <a:lnTo>
                      <a:pt x="2475" y="1247"/>
                    </a:lnTo>
                    <a:lnTo>
                      <a:pt x="2345" y="1118"/>
                    </a:lnTo>
                    <a:lnTo>
                      <a:pt x="1845" y="645"/>
                    </a:lnTo>
                    <a:lnTo>
                      <a:pt x="1680" y="472"/>
                    </a:lnTo>
                    <a:lnTo>
                      <a:pt x="1589" y="495"/>
                    </a:lnTo>
                    <a:lnTo>
                      <a:pt x="1558" y="710"/>
                    </a:lnTo>
                    <a:lnTo>
                      <a:pt x="1507" y="1006"/>
                    </a:lnTo>
                    <a:lnTo>
                      <a:pt x="1300" y="970"/>
                    </a:lnTo>
                    <a:lnTo>
                      <a:pt x="1017" y="884"/>
                    </a:lnTo>
                    <a:lnTo>
                      <a:pt x="522" y="658"/>
                    </a:lnTo>
                    <a:lnTo>
                      <a:pt x="328" y="508"/>
                    </a:lnTo>
                    <a:lnTo>
                      <a:pt x="264" y="350"/>
                    </a:lnTo>
                    <a:lnTo>
                      <a:pt x="344" y="251"/>
                    </a:lnTo>
                    <a:lnTo>
                      <a:pt x="536" y="143"/>
                    </a:lnTo>
                    <a:lnTo>
                      <a:pt x="665" y="101"/>
                    </a:lnTo>
                    <a:lnTo>
                      <a:pt x="709" y="0"/>
                    </a:lnTo>
                    <a:lnTo>
                      <a:pt x="7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7840" y="2683080"/>
                <a:ext cx="79920" cy="78480"/>
              </a:xfrm>
              <a:custGeom>
                <a:avLst/>
                <a:gdLst/>
                <a:ahLst/>
                <a:rect l="l" t="t" r="r" b="b"/>
                <a:pathLst>
                  <a:path w="306" h="394">
                    <a:moveTo>
                      <a:pt x="0" y="200"/>
                    </a:moveTo>
                    <a:lnTo>
                      <a:pt x="78" y="86"/>
                    </a:lnTo>
                    <a:lnTo>
                      <a:pt x="306" y="0"/>
                    </a:lnTo>
                    <a:lnTo>
                      <a:pt x="128" y="150"/>
                    </a:lnTo>
                    <a:lnTo>
                      <a:pt x="257" y="130"/>
                    </a:lnTo>
                    <a:lnTo>
                      <a:pt x="151" y="251"/>
                    </a:lnTo>
                    <a:lnTo>
                      <a:pt x="257" y="228"/>
                    </a:lnTo>
                    <a:lnTo>
                      <a:pt x="200" y="394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38160" y="2876760"/>
                <a:ext cx="412560" cy="211320"/>
              </a:xfrm>
              <a:custGeom>
                <a:avLst/>
                <a:gdLst/>
                <a:ahLst/>
                <a:rect l="l" t="t" r="r" b="b"/>
                <a:pathLst>
                  <a:path w="1578" h="1053">
                    <a:moveTo>
                      <a:pt x="0" y="0"/>
                    </a:moveTo>
                    <a:lnTo>
                      <a:pt x="67" y="156"/>
                    </a:lnTo>
                    <a:lnTo>
                      <a:pt x="289" y="304"/>
                    </a:lnTo>
                    <a:lnTo>
                      <a:pt x="768" y="471"/>
                    </a:lnTo>
                    <a:lnTo>
                      <a:pt x="1363" y="629"/>
                    </a:lnTo>
                    <a:lnTo>
                      <a:pt x="1578" y="1053"/>
                    </a:lnTo>
                    <a:lnTo>
                      <a:pt x="1513" y="422"/>
                    </a:lnTo>
                    <a:lnTo>
                      <a:pt x="1078" y="431"/>
                    </a:lnTo>
                    <a:lnTo>
                      <a:pt x="458" y="270"/>
                    </a:lnTo>
                    <a:lnTo>
                      <a:pt x="135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F43-F36C-4A03-A6FB-633BC52D6590}" type="slidenum">
              <a:t>3</a:t>
            </a:fld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bd189"/>
                </a:solidFill>
                <a:latin typeface="Arial"/>
              </a:rPr>
              <a:t>¿Se pueden controlar </a:t>
            </a:r>
            <a:br>
              <a:rPr sz="4400"/>
            </a:br>
            <a:r>
              <a:rPr b="0" lang="es-AR" sz="4400" spc="-1" strike="noStrike">
                <a:solidFill>
                  <a:srgbClr val="ebd189"/>
                </a:solidFill>
                <a:latin typeface="Arial"/>
              </a:rPr>
              <a:t>los fondos fiduciario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eaeaea"/>
                </a:solidFill>
                <a:latin typeface="Arial"/>
              </a:rPr>
              <a:t>Hay muchas objeciones contra los fondos fiduciarios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eaeaea"/>
                </a:solidFill>
                <a:latin typeface="Arial"/>
              </a:rPr>
              <a:t>¿son ciertas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eaeaea"/>
                </a:solidFill>
                <a:latin typeface="Arial"/>
              </a:rPr>
              <a:t>¿los controlan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AR" sz="2800" spc="-1" strike="noStrike">
                <a:solidFill>
                  <a:srgbClr val="eaeaea"/>
                </a:solidFill>
                <a:latin typeface="Arial"/>
              </a:rPr>
              <a:t>¿cómo los controlan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48320" y="2027160"/>
            <a:ext cx="3809880" cy="40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B2F-34D7-4149-B548-21D53CEE029C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1187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dic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189000"/>
            <a:ext cx="9144000" cy="1018440"/>
            <a:chOff x="0" y="189000"/>
            <a:chExt cx="9144000" cy="1018440"/>
          </a:xfrm>
        </p:grpSpPr>
        <p:sp>
          <p:nvSpPr>
            <p:cNvPr id="161" name=""/>
            <p:cNvSpPr/>
            <p:nvPr/>
          </p:nvSpPr>
          <p:spPr>
            <a:xfrm>
              <a:off x="0" y="18900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18080" y="260280"/>
              <a:ext cx="4201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Objeciones a los fideicomisos públic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71640" y="1989000"/>
            <a:ext cx="7704000" cy="4573800"/>
            <a:chOff x="971640" y="1989000"/>
            <a:chExt cx="7704000" cy="4573800"/>
          </a:xfrm>
        </p:grpSpPr>
        <p:sp>
          <p:nvSpPr>
            <p:cNvPr id="164" name=""/>
            <p:cNvSpPr/>
            <p:nvPr/>
          </p:nvSpPr>
          <p:spPr>
            <a:xfrm>
              <a:off x="971640" y="1989000"/>
              <a:ext cx="7704000" cy="41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Carecen de regulación jurídica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Se crean a espaldas del Congreso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No están alcanzadas por las normas de control presupuestario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12000" y="59202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eaeaea"/>
                  </a:solidFill>
                  <a:latin typeface="Arial Narrow"/>
                </a:rPr>
                <a:t>…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E30-2AEF-460F-A60C-594441B7CE7E}" type="slidenum">
              <a:t>5</a:t>
            </a:fld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533520" y="609480"/>
            <a:ext cx="8208360" cy="4608360"/>
            <a:chOff x="533520" y="609480"/>
            <a:chExt cx="8208360" cy="4608360"/>
          </a:xfrm>
        </p:grpSpPr>
        <p:sp>
          <p:nvSpPr>
            <p:cNvPr id="167" name=""/>
            <p:cNvSpPr/>
            <p:nvPr/>
          </p:nvSpPr>
          <p:spPr>
            <a:xfrm>
              <a:off x="1038240" y="1617480"/>
              <a:ext cx="7703640" cy="36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Su contabilidad no es transparente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Es un atajo para nombrar personal fuera del sistema público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No se rinde cuentas del movimiento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Eluden el control propio de los organismos público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6094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eaeaea"/>
                  </a:solidFill>
                  <a:latin typeface="Arial Narrow"/>
                </a:rPr>
                <a:t>…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421-90BF-4461-A714-B0202DEC312E}" type="slidenum">
              <a:t>6</a:t>
            </a:fld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1187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tán incluídos por expresas disposiciones leg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152280"/>
            <a:ext cx="9144000" cy="647640"/>
            <a:chOff x="0" y="152280"/>
            <a:chExt cx="9144000" cy="647640"/>
          </a:xfrm>
        </p:grpSpPr>
        <p:sp>
          <p:nvSpPr>
            <p:cNvPr id="171" name=""/>
            <p:cNvSpPr/>
            <p:nvPr/>
          </p:nvSpPr>
          <p:spPr>
            <a:xfrm>
              <a:off x="0" y="15228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8080" y="223560"/>
              <a:ext cx="4201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14400" y="2209680"/>
            <a:ext cx="7704000" cy="3954240"/>
            <a:chOff x="914400" y="2209680"/>
            <a:chExt cx="7704000" cy="3954240"/>
          </a:xfrm>
        </p:grpSpPr>
        <p:sp>
          <p:nvSpPr>
            <p:cNvPr id="174" name=""/>
            <p:cNvSpPr/>
            <p:nvPr/>
          </p:nvSpPr>
          <p:spPr>
            <a:xfrm>
              <a:off x="914400" y="2209680"/>
              <a:ext cx="770400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Ley 25.565 (Presupuesto año 2002) los incluye dentro de las entidades del inc. D del artículo 8 de la Ley 24.156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365040" indent="-365040" algn="just">
                <a:lnSpc>
                  <a:spcPct val="110000"/>
                </a:lnSpc>
                <a:spcBef>
                  <a:spcPts val="1049"/>
                </a:spcBef>
                <a:spcAft>
                  <a:spcPts val="1049"/>
                </a:spcAft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ffffff"/>
                  </a:solidFill>
                  <a:latin typeface="Arial"/>
                </a:rPr>
                <a:t>La Ley 25.152 de Solvencia Fiscal (21/9/99) establece la obligación de señalar sus flujos de fondos en el Presupuesto Nacional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54760" y="5522760"/>
              <a:ext cx="86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572000" y="189000"/>
            <a:ext cx="43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egulación juríd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615-55EB-4371-94A3-54E307C2B8A1}" type="slidenum">
              <a:t>7</a:t>
            </a:fld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-541440" y="260280"/>
            <a:ext cx="9144000" cy="647640"/>
            <a:chOff x="-541440" y="260280"/>
            <a:chExt cx="9144000" cy="647640"/>
          </a:xfrm>
        </p:grpSpPr>
        <p:sp>
          <p:nvSpPr>
            <p:cNvPr id="178" name=""/>
            <p:cNvSpPr/>
            <p:nvPr/>
          </p:nvSpPr>
          <p:spPr>
            <a:xfrm>
              <a:off x="-541440" y="26028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1640" y="331560"/>
              <a:ext cx="813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Arial"/>
                </a:rPr>
                <a:t>Regulación jurídica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39640" y="1341360"/>
            <a:ext cx="8148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335240" indent="-53352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introdujo en el derecho público un instituto priva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ey 24.441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65040" indent="-36504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ey 25.565, Capítulo IX “De los Fondos Fiduciarios” (art. 48 a 52) y artículo 70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8C6-D420-4CCC-AA1A-5E21C77513B7}" type="slidenum">
              <a:t>8</a:t>
            </a:fld>
          </a:p>
        </p:txBody>
      </p:sp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6c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189000"/>
            <a:ext cx="9144000" cy="647640"/>
            <a:chOff x="0" y="189000"/>
            <a:chExt cx="9144000" cy="647640"/>
          </a:xfrm>
        </p:grpSpPr>
        <p:sp>
          <p:nvSpPr>
            <p:cNvPr id="182" name=""/>
            <p:cNvSpPr/>
            <p:nvPr/>
          </p:nvSpPr>
          <p:spPr>
            <a:xfrm>
              <a:off x="0" y="189000"/>
              <a:ext cx="9144000" cy="647640"/>
            </a:xfrm>
            <a:prstGeom prst="rect">
              <a:avLst/>
            </a:prstGeom>
            <a:gradFill rotWithShape="0">
              <a:gsLst>
                <a:gs pos="0">
                  <a:srgbClr val="576f9f">
                    <a:alpha val="81176"/>
                  </a:srgbClr>
                </a:gs>
                <a:gs pos="100000">
                  <a:srgbClr val="000068">
                    <a:alpha val="8117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71560" y="260280"/>
              <a:ext cx="8209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eaeaea"/>
                  </a:solidFill>
                  <a:latin typeface="Arial"/>
                </a:rPr>
                <a:t>Creación por Ley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91600" y="1153800"/>
            <a:ext cx="8423640" cy="3738600"/>
            <a:chOff x="291600" y="1153800"/>
            <a:chExt cx="8423640" cy="3738600"/>
          </a:xfrm>
        </p:grpSpPr>
        <p:sp>
          <p:nvSpPr>
            <p:cNvPr id="185" name=""/>
            <p:cNvSpPr/>
            <p:nvPr/>
          </p:nvSpPr>
          <p:spPr>
            <a:xfrm>
              <a:off x="1844640" y="1451160"/>
              <a:ext cx="6870600" cy="34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“</a:t>
              </a:r>
              <a:r>
                <a:rPr b="0" lang="es-MX" sz="2800" spc="-1" strike="noStrike">
                  <a:solidFill>
                    <a:srgbClr val="eaeaea"/>
                  </a:solidFill>
                  <a:latin typeface="Arial"/>
                </a:rPr>
                <a:t>Toda creación de un organismo descentralizado, empresa pública de cualquier naturaleza y Fondo Fiduciario integrado total o parcialmente con bienes y/o fondos del Estado Nacional, requerirá el dictado de una Ley”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ccff"/>
                  </a:solidFill>
                  <a:latin typeface="Arial Narrow"/>
                </a:rPr>
                <a:t>Art. 5, inc. a de la </a:t>
              </a:r>
              <a:r>
                <a:rPr b="1" lang="es-ES" sz="1800" spc="-1" strike="noStrike">
                  <a:solidFill>
                    <a:srgbClr val="66ccff"/>
                  </a:solidFill>
                  <a:latin typeface="Arial Narrow"/>
                </a:rPr>
                <a:t>Ley 25.152 (modificada por Ley 25.565) 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91600" y="1153800"/>
              <a:ext cx="1268280" cy="1010160"/>
              <a:chOff x="291600" y="1153800"/>
              <a:chExt cx="1268280" cy="1010160"/>
            </a:xfrm>
          </p:grpSpPr>
          <p:sp>
            <p:nvSpPr>
              <p:cNvPr id="187" name=""/>
              <p:cNvSpPr/>
              <p:nvPr/>
            </p:nvSpPr>
            <p:spPr>
              <a:xfrm flipV="1" rot="1027200">
                <a:off x="394560" y="1298880"/>
                <a:ext cx="1090080" cy="672480"/>
              </a:xfrm>
              <a:custGeom>
                <a:avLst/>
                <a:gdLst/>
                <a:ahLst/>
                <a:rect l="l" t="t" r="r" b="b"/>
                <a:pathLst>
                  <a:path w="3637" h="1258">
                    <a:moveTo>
                      <a:pt x="3124" y="1199"/>
                    </a:moveTo>
                    <a:lnTo>
                      <a:pt x="3132" y="1196"/>
                    </a:lnTo>
                    <a:lnTo>
                      <a:pt x="3151" y="1182"/>
                    </a:lnTo>
                    <a:lnTo>
                      <a:pt x="3164" y="1175"/>
                    </a:lnTo>
                    <a:lnTo>
                      <a:pt x="3179" y="1163"/>
                    </a:lnTo>
                    <a:lnTo>
                      <a:pt x="3198" y="1152"/>
                    </a:lnTo>
                    <a:lnTo>
                      <a:pt x="3217" y="1137"/>
                    </a:lnTo>
                    <a:lnTo>
                      <a:pt x="3228" y="1131"/>
                    </a:lnTo>
                    <a:lnTo>
                      <a:pt x="3240" y="1123"/>
                    </a:lnTo>
                    <a:lnTo>
                      <a:pt x="3251" y="1116"/>
                    </a:lnTo>
                    <a:lnTo>
                      <a:pt x="3263" y="1106"/>
                    </a:lnTo>
                    <a:lnTo>
                      <a:pt x="3274" y="1099"/>
                    </a:lnTo>
                    <a:lnTo>
                      <a:pt x="3286" y="1089"/>
                    </a:lnTo>
                    <a:lnTo>
                      <a:pt x="3299" y="1080"/>
                    </a:lnTo>
                    <a:lnTo>
                      <a:pt x="3312" y="1070"/>
                    </a:lnTo>
                    <a:lnTo>
                      <a:pt x="3363" y="1032"/>
                    </a:lnTo>
                    <a:lnTo>
                      <a:pt x="3415" y="988"/>
                    </a:lnTo>
                    <a:lnTo>
                      <a:pt x="3441" y="968"/>
                    </a:lnTo>
                    <a:lnTo>
                      <a:pt x="3466" y="945"/>
                    </a:lnTo>
                    <a:lnTo>
                      <a:pt x="3491" y="922"/>
                    </a:lnTo>
                    <a:lnTo>
                      <a:pt x="3514" y="899"/>
                    </a:lnTo>
                    <a:lnTo>
                      <a:pt x="3536" y="874"/>
                    </a:lnTo>
                    <a:lnTo>
                      <a:pt x="3557" y="852"/>
                    </a:lnTo>
                    <a:lnTo>
                      <a:pt x="3592" y="804"/>
                    </a:lnTo>
                    <a:lnTo>
                      <a:pt x="3618" y="758"/>
                    </a:lnTo>
                    <a:lnTo>
                      <a:pt x="3633" y="715"/>
                    </a:lnTo>
                    <a:lnTo>
                      <a:pt x="3637" y="675"/>
                    </a:lnTo>
                    <a:lnTo>
                      <a:pt x="3624" y="637"/>
                    </a:lnTo>
                    <a:lnTo>
                      <a:pt x="3603" y="599"/>
                    </a:lnTo>
                    <a:lnTo>
                      <a:pt x="3590" y="574"/>
                    </a:lnTo>
                    <a:lnTo>
                      <a:pt x="3578" y="551"/>
                    </a:lnTo>
                    <a:lnTo>
                      <a:pt x="3563" y="525"/>
                    </a:lnTo>
                    <a:lnTo>
                      <a:pt x="3550" y="500"/>
                    </a:lnTo>
                    <a:lnTo>
                      <a:pt x="3535" y="471"/>
                    </a:lnTo>
                    <a:lnTo>
                      <a:pt x="3519" y="443"/>
                    </a:lnTo>
                    <a:lnTo>
                      <a:pt x="3504" y="414"/>
                    </a:lnTo>
                    <a:lnTo>
                      <a:pt x="3487" y="384"/>
                    </a:lnTo>
                    <a:lnTo>
                      <a:pt x="3472" y="355"/>
                    </a:lnTo>
                    <a:lnTo>
                      <a:pt x="3455" y="325"/>
                    </a:lnTo>
                    <a:lnTo>
                      <a:pt x="3436" y="295"/>
                    </a:lnTo>
                    <a:lnTo>
                      <a:pt x="3419" y="266"/>
                    </a:lnTo>
                    <a:lnTo>
                      <a:pt x="3400" y="238"/>
                    </a:lnTo>
                    <a:lnTo>
                      <a:pt x="3382" y="209"/>
                    </a:lnTo>
                    <a:lnTo>
                      <a:pt x="3363" y="183"/>
                    </a:lnTo>
                    <a:lnTo>
                      <a:pt x="3344" y="156"/>
                    </a:lnTo>
                    <a:lnTo>
                      <a:pt x="3324" y="131"/>
                    </a:lnTo>
                    <a:lnTo>
                      <a:pt x="3305" y="108"/>
                    </a:lnTo>
                    <a:lnTo>
                      <a:pt x="3286" y="87"/>
                    </a:lnTo>
                    <a:lnTo>
                      <a:pt x="3265" y="68"/>
                    </a:lnTo>
                    <a:lnTo>
                      <a:pt x="3225" y="34"/>
                    </a:lnTo>
                    <a:lnTo>
                      <a:pt x="3204" y="21"/>
                    </a:lnTo>
                    <a:lnTo>
                      <a:pt x="3185" y="11"/>
                    </a:lnTo>
                    <a:lnTo>
                      <a:pt x="3164" y="4"/>
                    </a:lnTo>
                    <a:lnTo>
                      <a:pt x="3143" y="0"/>
                    </a:lnTo>
                    <a:lnTo>
                      <a:pt x="3103" y="2"/>
                    </a:lnTo>
                    <a:lnTo>
                      <a:pt x="3065" y="15"/>
                    </a:lnTo>
                    <a:lnTo>
                      <a:pt x="3010" y="70"/>
                    </a:lnTo>
                    <a:lnTo>
                      <a:pt x="2995" y="139"/>
                    </a:lnTo>
                    <a:lnTo>
                      <a:pt x="3000" y="175"/>
                    </a:lnTo>
                    <a:lnTo>
                      <a:pt x="3012" y="213"/>
                    </a:lnTo>
                    <a:lnTo>
                      <a:pt x="3027" y="251"/>
                    </a:lnTo>
                    <a:lnTo>
                      <a:pt x="3046" y="287"/>
                    </a:lnTo>
                    <a:lnTo>
                      <a:pt x="3069" y="323"/>
                    </a:lnTo>
                    <a:lnTo>
                      <a:pt x="3092" y="355"/>
                    </a:lnTo>
                    <a:lnTo>
                      <a:pt x="3114" y="386"/>
                    </a:lnTo>
                    <a:lnTo>
                      <a:pt x="3137" y="414"/>
                    </a:lnTo>
                    <a:lnTo>
                      <a:pt x="3171" y="452"/>
                    </a:lnTo>
                    <a:lnTo>
                      <a:pt x="3185" y="466"/>
                    </a:lnTo>
                    <a:lnTo>
                      <a:pt x="3116" y="475"/>
                    </a:lnTo>
                    <a:lnTo>
                      <a:pt x="3038" y="483"/>
                    </a:lnTo>
                    <a:lnTo>
                      <a:pt x="2938" y="490"/>
                    </a:lnTo>
                    <a:lnTo>
                      <a:pt x="2820" y="496"/>
                    </a:lnTo>
                    <a:lnTo>
                      <a:pt x="2692" y="500"/>
                    </a:lnTo>
                    <a:lnTo>
                      <a:pt x="2422" y="487"/>
                    </a:lnTo>
                    <a:lnTo>
                      <a:pt x="2358" y="477"/>
                    </a:lnTo>
                    <a:lnTo>
                      <a:pt x="2297" y="460"/>
                    </a:lnTo>
                    <a:lnTo>
                      <a:pt x="2268" y="449"/>
                    </a:lnTo>
                    <a:lnTo>
                      <a:pt x="2240" y="437"/>
                    </a:lnTo>
                    <a:lnTo>
                      <a:pt x="2213" y="426"/>
                    </a:lnTo>
                    <a:lnTo>
                      <a:pt x="2185" y="411"/>
                    </a:lnTo>
                    <a:lnTo>
                      <a:pt x="2160" y="397"/>
                    </a:lnTo>
                    <a:lnTo>
                      <a:pt x="2147" y="390"/>
                    </a:lnTo>
                    <a:lnTo>
                      <a:pt x="2133" y="382"/>
                    </a:lnTo>
                    <a:lnTo>
                      <a:pt x="2120" y="374"/>
                    </a:lnTo>
                    <a:lnTo>
                      <a:pt x="2109" y="367"/>
                    </a:lnTo>
                    <a:lnTo>
                      <a:pt x="2095" y="357"/>
                    </a:lnTo>
                    <a:lnTo>
                      <a:pt x="2084" y="350"/>
                    </a:lnTo>
                    <a:lnTo>
                      <a:pt x="2071" y="342"/>
                    </a:lnTo>
                    <a:lnTo>
                      <a:pt x="2059" y="335"/>
                    </a:lnTo>
                    <a:lnTo>
                      <a:pt x="2046" y="325"/>
                    </a:lnTo>
                    <a:lnTo>
                      <a:pt x="2034" y="317"/>
                    </a:lnTo>
                    <a:lnTo>
                      <a:pt x="2023" y="310"/>
                    </a:lnTo>
                    <a:lnTo>
                      <a:pt x="2010" y="300"/>
                    </a:lnTo>
                    <a:lnTo>
                      <a:pt x="1998" y="293"/>
                    </a:lnTo>
                    <a:lnTo>
                      <a:pt x="1987" y="285"/>
                    </a:lnTo>
                    <a:lnTo>
                      <a:pt x="1974" y="278"/>
                    </a:lnTo>
                    <a:lnTo>
                      <a:pt x="1962" y="268"/>
                    </a:lnTo>
                    <a:lnTo>
                      <a:pt x="1951" y="260"/>
                    </a:lnTo>
                    <a:lnTo>
                      <a:pt x="1939" y="253"/>
                    </a:lnTo>
                    <a:lnTo>
                      <a:pt x="1928" y="245"/>
                    </a:lnTo>
                    <a:lnTo>
                      <a:pt x="1915" y="238"/>
                    </a:lnTo>
                    <a:lnTo>
                      <a:pt x="1903" y="230"/>
                    </a:lnTo>
                    <a:lnTo>
                      <a:pt x="1892" y="224"/>
                    </a:lnTo>
                    <a:lnTo>
                      <a:pt x="1867" y="209"/>
                    </a:lnTo>
                    <a:lnTo>
                      <a:pt x="1842" y="198"/>
                    </a:lnTo>
                    <a:lnTo>
                      <a:pt x="1820" y="186"/>
                    </a:lnTo>
                    <a:lnTo>
                      <a:pt x="1795" y="175"/>
                    </a:lnTo>
                    <a:lnTo>
                      <a:pt x="1770" y="165"/>
                    </a:lnTo>
                    <a:lnTo>
                      <a:pt x="1744" y="158"/>
                    </a:lnTo>
                    <a:lnTo>
                      <a:pt x="1690" y="148"/>
                    </a:lnTo>
                    <a:lnTo>
                      <a:pt x="1637" y="144"/>
                    </a:lnTo>
                    <a:lnTo>
                      <a:pt x="1578" y="150"/>
                    </a:lnTo>
                    <a:lnTo>
                      <a:pt x="1521" y="164"/>
                    </a:lnTo>
                    <a:lnTo>
                      <a:pt x="1496" y="173"/>
                    </a:lnTo>
                    <a:lnTo>
                      <a:pt x="1472" y="183"/>
                    </a:lnTo>
                    <a:lnTo>
                      <a:pt x="1449" y="192"/>
                    </a:lnTo>
                    <a:lnTo>
                      <a:pt x="1428" y="205"/>
                    </a:lnTo>
                    <a:lnTo>
                      <a:pt x="1407" y="217"/>
                    </a:lnTo>
                    <a:lnTo>
                      <a:pt x="1386" y="230"/>
                    </a:lnTo>
                    <a:lnTo>
                      <a:pt x="1350" y="259"/>
                    </a:lnTo>
                    <a:lnTo>
                      <a:pt x="1318" y="287"/>
                    </a:lnTo>
                    <a:lnTo>
                      <a:pt x="1285" y="317"/>
                    </a:lnTo>
                    <a:lnTo>
                      <a:pt x="1255" y="348"/>
                    </a:lnTo>
                    <a:lnTo>
                      <a:pt x="1224" y="376"/>
                    </a:lnTo>
                    <a:lnTo>
                      <a:pt x="1194" y="403"/>
                    </a:lnTo>
                    <a:lnTo>
                      <a:pt x="1177" y="414"/>
                    </a:lnTo>
                    <a:lnTo>
                      <a:pt x="1160" y="426"/>
                    </a:lnTo>
                    <a:lnTo>
                      <a:pt x="1143" y="437"/>
                    </a:lnTo>
                    <a:lnTo>
                      <a:pt x="1126" y="445"/>
                    </a:lnTo>
                    <a:lnTo>
                      <a:pt x="1107" y="454"/>
                    </a:lnTo>
                    <a:lnTo>
                      <a:pt x="1088" y="460"/>
                    </a:lnTo>
                    <a:lnTo>
                      <a:pt x="1044" y="470"/>
                    </a:lnTo>
                    <a:lnTo>
                      <a:pt x="943" y="468"/>
                    </a:lnTo>
                    <a:lnTo>
                      <a:pt x="884" y="456"/>
                    </a:lnTo>
                    <a:lnTo>
                      <a:pt x="823" y="441"/>
                    </a:lnTo>
                    <a:lnTo>
                      <a:pt x="793" y="432"/>
                    </a:lnTo>
                    <a:lnTo>
                      <a:pt x="761" y="422"/>
                    </a:lnTo>
                    <a:lnTo>
                      <a:pt x="728" y="411"/>
                    </a:lnTo>
                    <a:lnTo>
                      <a:pt x="696" y="399"/>
                    </a:lnTo>
                    <a:lnTo>
                      <a:pt x="664" y="388"/>
                    </a:lnTo>
                    <a:lnTo>
                      <a:pt x="631" y="376"/>
                    </a:lnTo>
                    <a:lnTo>
                      <a:pt x="601" y="363"/>
                    </a:lnTo>
                    <a:lnTo>
                      <a:pt x="569" y="350"/>
                    </a:lnTo>
                    <a:lnTo>
                      <a:pt x="538" y="336"/>
                    </a:lnTo>
                    <a:lnTo>
                      <a:pt x="506" y="323"/>
                    </a:lnTo>
                    <a:lnTo>
                      <a:pt x="477" y="310"/>
                    </a:lnTo>
                    <a:lnTo>
                      <a:pt x="449" y="297"/>
                    </a:lnTo>
                    <a:lnTo>
                      <a:pt x="420" y="283"/>
                    </a:lnTo>
                    <a:lnTo>
                      <a:pt x="392" y="270"/>
                    </a:lnTo>
                    <a:lnTo>
                      <a:pt x="367" y="259"/>
                    </a:lnTo>
                    <a:lnTo>
                      <a:pt x="342" y="245"/>
                    </a:lnTo>
                    <a:lnTo>
                      <a:pt x="318" y="234"/>
                    </a:lnTo>
                    <a:lnTo>
                      <a:pt x="297" y="222"/>
                    </a:lnTo>
                    <a:lnTo>
                      <a:pt x="276" y="213"/>
                    </a:lnTo>
                    <a:lnTo>
                      <a:pt x="257" y="202"/>
                    </a:lnTo>
                    <a:lnTo>
                      <a:pt x="240" y="194"/>
                    </a:lnTo>
                    <a:lnTo>
                      <a:pt x="224" y="186"/>
                    </a:lnTo>
                    <a:lnTo>
                      <a:pt x="200" y="171"/>
                    </a:lnTo>
                    <a:lnTo>
                      <a:pt x="181" y="162"/>
                    </a:lnTo>
                    <a:lnTo>
                      <a:pt x="0" y="599"/>
                    </a:lnTo>
                    <a:lnTo>
                      <a:pt x="0" y="601"/>
                    </a:lnTo>
                    <a:lnTo>
                      <a:pt x="11" y="612"/>
                    </a:lnTo>
                    <a:lnTo>
                      <a:pt x="23" y="618"/>
                    </a:lnTo>
                    <a:lnTo>
                      <a:pt x="34" y="627"/>
                    </a:lnTo>
                    <a:lnTo>
                      <a:pt x="49" y="637"/>
                    </a:lnTo>
                    <a:lnTo>
                      <a:pt x="67" y="646"/>
                    </a:lnTo>
                    <a:lnTo>
                      <a:pt x="86" y="658"/>
                    </a:lnTo>
                    <a:lnTo>
                      <a:pt x="105" y="671"/>
                    </a:lnTo>
                    <a:lnTo>
                      <a:pt x="127" y="682"/>
                    </a:lnTo>
                    <a:lnTo>
                      <a:pt x="150" y="698"/>
                    </a:lnTo>
                    <a:lnTo>
                      <a:pt x="175" y="711"/>
                    </a:lnTo>
                    <a:lnTo>
                      <a:pt x="188" y="719"/>
                    </a:lnTo>
                    <a:lnTo>
                      <a:pt x="203" y="726"/>
                    </a:lnTo>
                    <a:lnTo>
                      <a:pt x="217" y="734"/>
                    </a:lnTo>
                    <a:lnTo>
                      <a:pt x="230" y="739"/>
                    </a:lnTo>
                    <a:lnTo>
                      <a:pt x="245" y="749"/>
                    </a:lnTo>
                    <a:lnTo>
                      <a:pt x="259" y="755"/>
                    </a:lnTo>
                    <a:lnTo>
                      <a:pt x="274" y="764"/>
                    </a:lnTo>
                    <a:lnTo>
                      <a:pt x="289" y="770"/>
                    </a:lnTo>
                    <a:lnTo>
                      <a:pt x="304" y="777"/>
                    </a:lnTo>
                    <a:lnTo>
                      <a:pt x="321" y="785"/>
                    </a:lnTo>
                    <a:lnTo>
                      <a:pt x="337" y="793"/>
                    </a:lnTo>
                    <a:lnTo>
                      <a:pt x="352" y="800"/>
                    </a:lnTo>
                    <a:lnTo>
                      <a:pt x="369" y="808"/>
                    </a:lnTo>
                    <a:lnTo>
                      <a:pt x="386" y="815"/>
                    </a:lnTo>
                    <a:lnTo>
                      <a:pt x="403" y="821"/>
                    </a:lnTo>
                    <a:lnTo>
                      <a:pt x="420" y="829"/>
                    </a:lnTo>
                    <a:lnTo>
                      <a:pt x="454" y="844"/>
                    </a:lnTo>
                    <a:lnTo>
                      <a:pt x="491" y="855"/>
                    </a:lnTo>
                    <a:lnTo>
                      <a:pt x="525" y="869"/>
                    </a:lnTo>
                    <a:lnTo>
                      <a:pt x="561" y="880"/>
                    </a:lnTo>
                    <a:lnTo>
                      <a:pt x="599" y="892"/>
                    </a:lnTo>
                    <a:lnTo>
                      <a:pt x="635" y="901"/>
                    </a:lnTo>
                    <a:lnTo>
                      <a:pt x="673" y="911"/>
                    </a:lnTo>
                    <a:lnTo>
                      <a:pt x="709" y="918"/>
                    </a:lnTo>
                    <a:lnTo>
                      <a:pt x="747" y="924"/>
                    </a:lnTo>
                    <a:lnTo>
                      <a:pt x="821" y="931"/>
                    </a:lnTo>
                    <a:lnTo>
                      <a:pt x="892" y="931"/>
                    </a:lnTo>
                    <a:lnTo>
                      <a:pt x="956" y="920"/>
                    </a:lnTo>
                    <a:lnTo>
                      <a:pt x="987" y="911"/>
                    </a:lnTo>
                    <a:lnTo>
                      <a:pt x="1017" y="901"/>
                    </a:lnTo>
                    <a:lnTo>
                      <a:pt x="1046" y="888"/>
                    </a:lnTo>
                    <a:lnTo>
                      <a:pt x="1074" y="874"/>
                    </a:lnTo>
                    <a:lnTo>
                      <a:pt x="1088" y="867"/>
                    </a:lnTo>
                    <a:lnTo>
                      <a:pt x="1101" y="859"/>
                    </a:lnTo>
                    <a:lnTo>
                      <a:pt x="1114" y="850"/>
                    </a:lnTo>
                    <a:lnTo>
                      <a:pt x="1127" y="842"/>
                    </a:lnTo>
                    <a:lnTo>
                      <a:pt x="1141" y="833"/>
                    </a:lnTo>
                    <a:lnTo>
                      <a:pt x="1152" y="825"/>
                    </a:lnTo>
                    <a:lnTo>
                      <a:pt x="1166" y="815"/>
                    </a:lnTo>
                    <a:lnTo>
                      <a:pt x="1177" y="806"/>
                    </a:lnTo>
                    <a:lnTo>
                      <a:pt x="1226" y="768"/>
                    </a:lnTo>
                    <a:lnTo>
                      <a:pt x="1272" y="730"/>
                    </a:lnTo>
                    <a:lnTo>
                      <a:pt x="1318" y="692"/>
                    </a:lnTo>
                    <a:lnTo>
                      <a:pt x="1361" y="658"/>
                    </a:lnTo>
                    <a:lnTo>
                      <a:pt x="1373" y="648"/>
                    </a:lnTo>
                    <a:lnTo>
                      <a:pt x="1384" y="641"/>
                    </a:lnTo>
                    <a:lnTo>
                      <a:pt x="1394" y="633"/>
                    </a:lnTo>
                    <a:lnTo>
                      <a:pt x="1405" y="627"/>
                    </a:lnTo>
                    <a:lnTo>
                      <a:pt x="1428" y="612"/>
                    </a:lnTo>
                    <a:lnTo>
                      <a:pt x="1451" y="603"/>
                    </a:lnTo>
                    <a:lnTo>
                      <a:pt x="1474" y="591"/>
                    </a:lnTo>
                    <a:lnTo>
                      <a:pt x="1496" y="584"/>
                    </a:lnTo>
                    <a:lnTo>
                      <a:pt x="1544" y="576"/>
                    </a:lnTo>
                    <a:lnTo>
                      <a:pt x="1595" y="578"/>
                    </a:lnTo>
                    <a:lnTo>
                      <a:pt x="1648" y="593"/>
                    </a:lnTo>
                    <a:lnTo>
                      <a:pt x="1675" y="604"/>
                    </a:lnTo>
                    <a:lnTo>
                      <a:pt x="1702" y="614"/>
                    </a:lnTo>
                    <a:lnTo>
                      <a:pt x="1726" y="625"/>
                    </a:lnTo>
                    <a:lnTo>
                      <a:pt x="1751" y="637"/>
                    </a:lnTo>
                    <a:lnTo>
                      <a:pt x="1774" y="648"/>
                    </a:lnTo>
                    <a:lnTo>
                      <a:pt x="1797" y="660"/>
                    </a:lnTo>
                    <a:lnTo>
                      <a:pt x="1820" y="669"/>
                    </a:lnTo>
                    <a:lnTo>
                      <a:pt x="1842" y="681"/>
                    </a:lnTo>
                    <a:lnTo>
                      <a:pt x="1863" y="692"/>
                    </a:lnTo>
                    <a:lnTo>
                      <a:pt x="1884" y="703"/>
                    </a:lnTo>
                    <a:lnTo>
                      <a:pt x="1905" y="713"/>
                    </a:lnTo>
                    <a:lnTo>
                      <a:pt x="1926" y="724"/>
                    </a:lnTo>
                    <a:lnTo>
                      <a:pt x="1947" y="734"/>
                    </a:lnTo>
                    <a:lnTo>
                      <a:pt x="1966" y="745"/>
                    </a:lnTo>
                    <a:lnTo>
                      <a:pt x="1987" y="755"/>
                    </a:lnTo>
                    <a:lnTo>
                      <a:pt x="2008" y="764"/>
                    </a:lnTo>
                    <a:lnTo>
                      <a:pt x="2029" y="774"/>
                    </a:lnTo>
                    <a:lnTo>
                      <a:pt x="2050" y="783"/>
                    </a:lnTo>
                    <a:lnTo>
                      <a:pt x="2071" y="793"/>
                    </a:lnTo>
                    <a:lnTo>
                      <a:pt x="2093" y="800"/>
                    </a:lnTo>
                    <a:lnTo>
                      <a:pt x="2116" y="810"/>
                    </a:lnTo>
                    <a:lnTo>
                      <a:pt x="2139" y="817"/>
                    </a:lnTo>
                    <a:lnTo>
                      <a:pt x="2162" y="823"/>
                    </a:lnTo>
                    <a:lnTo>
                      <a:pt x="2187" y="831"/>
                    </a:lnTo>
                    <a:lnTo>
                      <a:pt x="2238" y="844"/>
                    </a:lnTo>
                    <a:lnTo>
                      <a:pt x="2293" y="854"/>
                    </a:lnTo>
                    <a:lnTo>
                      <a:pt x="2352" y="861"/>
                    </a:lnTo>
                    <a:lnTo>
                      <a:pt x="2417" y="867"/>
                    </a:lnTo>
                    <a:lnTo>
                      <a:pt x="2550" y="869"/>
                    </a:lnTo>
                    <a:lnTo>
                      <a:pt x="2679" y="859"/>
                    </a:lnTo>
                    <a:lnTo>
                      <a:pt x="2797" y="844"/>
                    </a:lnTo>
                    <a:lnTo>
                      <a:pt x="2852" y="834"/>
                    </a:lnTo>
                    <a:lnTo>
                      <a:pt x="2903" y="825"/>
                    </a:lnTo>
                    <a:lnTo>
                      <a:pt x="2951" y="814"/>
                    </a:lnTo>
                    <a:lnTo>
                      <a:pt x="2993" y="804"/>
                    </a:lnTo>
                    <a:lnTo>
                      <a:pt x="3031" y="795"/>
                    </a:lnTo>
                    <a:lnTo>
                      <a:pt x="3061" y="785"/>
                    </a:lnTo>
                    <a:lnTo>
                      <a:pt x="3107" y="772"/>
                    </a:lnTo>
                    <a:lnTo>
                      <a:pt x="3122" y="768"/>
                    </a:lnTo>
                    <a:lnTo>
                      <a:pt x="3107" y="777"/>
                    </a:lnTo>
                    <a:lnTo>
                      <a:pt x="3092" y="787"/>
                    </a:lnTo>
                    <a:lnTo>
                      <a:pt x="3082" y="795"/>
                    </a:lnTo>
                    <a:lnTo>
                      <a:pt x="3071" y="802"/>
                    </a:lnTo>
                    <a:lnTo>
                      <a:pt x="3017" y="844"/>
                    </a:lnTo>
                    <a:lnTo>
                      <a:pt x="2989" y="869"/>
                    </a:lnTo>
                    <a:lnTo>
                      <a:pt x="2958" y="895"/>
                    </a:lnTo>
                    <a:lnTo>
                      <a:pt x="2926" y="924"/>
                    </a:lnTo>
                    <a:lnTo>
                      <a:pt x="2896" y="956"/>
                    </a:lnTo>
                    <a:lnTo>
                      <a:pt x="2867" y="988"/>
                    </a:lnTo>
                    <a:lnTo>
                      <a:pt x="2843" y="1023"/>
                    </a:lnTo>
                    <a:lnTo>
                      <a:pt x="2820" y="1057"/>
                    </a:lnTo>
                    <a:lnTo>
                      <a:pt x="2803" y="1093"/>
                    </a:lnTo>
                    <a:lnTo>
                      <a:pt x="2785" y="1163"/>
                    </a:lnTo>
                    <a:lnTo>
                      <a:pt x="2787" y="1196"/>
                    </a:lnTo>
                    <a:lnTo>
                      <a:pt x="2797" y="1220"/>
                    </a:lnTo>
                    <a:lnTo>
                      <a:pt x="2812" y="1237"/>
                    </a:lnTo>
                    <a:lnTo>
                      <a:pt x="2822" y="1243"/>
                    </a:lnTo>
                    <a:lnTo>
                      <a:pt x="2833" y="1249"/>
                    </a:lnTo>
                    <a:lnTo>
                      <a:pt x="2858" y="1256"/>
                    </a:lnTo>
                    <a:lnTo>
                      <a:pt x="2886" y="1258"/>
                    </a:lnTo>
                    <a:lnTo>
                      <a:pt x="2951" y="1253"/>
                    </a:lnTo>
                    <a:lnTo>
                      <a:pt x="3014" y="1237"/>
                    </a:lnTo>
                    <a:lnTo>
                      <a:pt x="3044" y="1230"/>
                    </a:lnTo>
                    <a:lnTo>
                      <a:pt x="3069" y="1220"/>
                    </a:lnTo>
                    <a:lnTo>
                      <a:pt x="3092" y="1213"/>
                    </a:lnTo>
                    <a:lnTo>
                      <a:pt x="3109" y="1205"/>
                    </a:lnTo>
                    <a:lnTo>
                      <a:pt x="3124" y="1199"/>
                    </a:lnTo>
                    <a:lnTo>
                      <a:pt x="3124" y="119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 rot="1027200">
                <a:off x="366120" y="1346760"/>
                <a:ext cx="1090080" cy="671040"/>
              </a:xfrm>
              <a:custGeom>
                <a:avLst/>
                <a:gdLst/>
                <a:ahLst/>
                <a:rect l="l" t="t" r="r" b="b"/>
                <a:pathLst>
                  <a:path w="3643" h="1259">
                    <a:moveTo>
                      <a:pt x="3132" y="1200"/>
                    </a:moveTo>
                    <a:lnTo>
                      <a:pt x="3139" y="1196"/>
                    </a:lnTo>
                    <a:lnTo>
                      <a:pt x="3158" y="1183"/>
                    </a:lnTo>
                    <a:lnTo>
                      <a:pt x="3171" y="1175"/>
                    </a:lnTo>
                    <a:lnTo>
                      <a:pt x="3187" y="1164"/>
                    </a:lnTo>
                    <a:lnTo>
                      <a:pt x="3206" y="1152"/>
                    </a:lnTo>
                    <a:lnTo>
                      <a:pt x="3225" y="1139"/>
                    </a:lnTo>
                    <a:lnTo>
                      <a:pt x="3236" y="1131"/>
                    </a:lnTo>
                    <a:lnTo>
                      <a:pt x="3246" y="1124"/>
                    </a:lnTo>
                    <a:lnTo>
                      <a:pt x="3257" y="1116"/>
                    </a:lnTo>
                    <a:lnTo>
                      <a:pt x="3270" y="1107"/>
                    </a:lnTo>
                    <a:lnTo>
                      <a:pt x="3282" y="1099"/>
                    </a:lnTo>
                    <a:lnTo>
                      <a:pt x="3293" y="1089"/>
                    </a:lnTo>
                    <a:lnTo>
                      <a:pt x="3306" y="1080"/>
                    </a:lnTo>
                    <a:lnTo>
                      <a:pt x="3318" y="1072"/>
                    </a:lnTo>
                    <a:lnTo>
                      <a:pt x="3371" y="1032"/>
                    </a:lnTo>
                    <a:lnTo>
                      <a:pt x="3422" y="989"/>
                    </a:lnTo>
                    <a:lnTo>
                      <a:pt x="3449" y="968"/>
                    </a:lnTo>
                    <a:lnTo>
                      <a:pt x="3474" y="945"/>
                    </a:lnTo>
                    <a:lnTo>
                      <a:pt x="3498" y="922"/>
                    </a:lnTo>
                    <a:lnTo>
                      <a:pt x="3521" y="899"/>
                    </a:lnTo>
                    <a:lnTo>
                      <a:pt x="3544" y="875"/>
                    </a:lnTo>
                    <a:lnTo>
                      <a:pt x="3563" y="852"/>
                    </a:lnTo>
                    <a:lnTo>
                      <a:pt x="3599" y="804"/>
                    </a:lnTo>
                    <a:lnTo>
                      <a:pt x="3626" y="761"/>
                    </a:lnTo>
                    <a:lnTo>
                      <a:pt x="3641" y="717"/>
                    </a:lnTo>
                    <a:lnTo>
                      <a:pt x="3643" y="675"/>
                    </a:lnTo>
                    <a:lnTo>
                      <a:pt x="3632" y="637"/>
                    </a:lnTo>
                    <a:lnTo>
                      <a:pt x="3609" y="599"/>
                    </a:lnTo>
                    <a:lnTo>
                      <a:pt x="3597" y="576"/>
                    </a:lnTo>
                    <a:lnTo>
                      <a:pt x="3584" y="552"/>
                    </a:lnTo>
                    <a:lnTo>
                      <a:pt x="3571" y="527"/>
                    </a:lnTo>
                    <a:lnTo>
                      <a:pt x="3557" y="500"/>
                    </a:lnTo>
                    <a:lnTo>
                      <a:pt x="3542" y="472"/>
                    </a:lnTo>
                    <a:lnTo>
                      <a:pt x="3527" y="443"/>
                    </a:lnTo>
                    <a:lnTo>
                      <a:pt x="3512" y="415"/>
                    </a:lnTo>
                    <a:lnTo>
                      <a:pt x="3495" y="384"/>
                    </a:lnTo>
                    <a:lnTo>
                      <a:pt x="3478" y="356"/>
                    </a:lnTo>
                    <a:lnTo>
                      <a:pt x="3460" y="325"/>
                    </a:lnTo>
                    <a:lnTo>
                      <a:pt x="3443" y="297"/>
                    </a:lnTo>
                    <a:lnTo>
                      <a:pt x="3426" y="266"/>
                    </a:lnTo>
                    <a:lnTo>
                      <a:pt x="3407" y="238"/>
                    </a:lnTo>
                    <a:lnTo>
                      <a:pt x="3388" y="209"/>
                    </a:lnTo>
                    <a:lnTo>
                      <a:pt x="3369" y="183"/>
                    </a:lnTo>
                    <a:lnTo>
                      <a:pt x="3350" y="158"/>
                    </a:lnTo>
                    <a:lnTo>
                      <a:pt x="3331" y="133"/>
                    </a:lnTo>
                    <a:lnTo>
                      <a:pt x="3312" y="109"/>
                    </a:lnTo>
                    <a:lnTo>
                      <a:pt x="3291" y="88"/>
                    </a:lnTo>
                    <a:lnTo>
                      <a:pt x="3272" y="69"/>
                    </a:lnTo>
                    <a:lnTo>
                      <a:pt x="3232" y="35"/>
                    </a:lnTo>
                    <a:lnTo>
                      <a:pt x="3211" y="21"/>
                    </a:lnTo>
                    <a:lnTo>
                      <a:pt x="3190" y="12"/>
                    </a:lnTo>
                    <a:lnTo>
                      <a:pt x="3171" y="4"/>
                    </a:lnTo>
                    <a:lnTo>
                      <a:pt x="3151" y="0"/>
                    </a:lnTo>
                    <a:lnTo>
                      <a:pt x="3111" y="2"/>
                    </a:lnTo>
                    <a:lnTo>
                      <a:pt x="3071" y="17"/>
                    </a:lnTo>
                    <a:lnTo>
                      <a:pt x="3016" y="71"/>
                    </a:lnTo>
                    <a:lnTo>
                      <a:pt x="3002" y="139"/>
                    </a:lnTo>
                    <a:lnTo>
                      <a:pt x="3006" y="175"/>
                    </a:lnTo>
                    <a:lnTo>
                      <a:pt x="3017" y="213"/>
                    </a:lnTo>
                    <a:lnTo>
                      <a:pt x="3035" y="251"/>
                    </a:lnTo>
                    <a:lnTo>
                      <a:pt x="3054" y="287"/>
                    </a:lnTo>
                    <a:lnTo>
                      <a:pt x="3076" y="323"/>
                    </a:lnTo>
                    <a:lnTo>
                      <a:pt x="3099" y="358"/>
                    </a:lnTo>
                    <a:lnTo>
                      <a:pt x="3122" y="386"/>
                    </a:lnTo>
                    <a:lnTo>
                      <a:pt x="3143" y="415"/>
                    </a:lnTo>
                    <a:lnTo>
                      <a:pt x="3179" y="453"/>
                    </a:lnTo>
                    <a:lnTo>
                      <a:pt x="3192" y="466"/>
                    </a:lnTo>
                    <a:lnTo>
                      <a:pt x="3122" y="476"/>
                    </a:lnTo>
                    <a:lnTo>
                      <a:pt x="3046" y="483"/>
                    </a:lnTo>
                    <a:lnTo>
                      <a:pt x="2945" y="491"/>
                    </a:lnTo>
                    <a:lnTo>
                      <a:pt x="2827" y="498"/>
                    </a:lnTo>
                    <a:lnTo>
                      <a:pt x="2700" y="500"/>
                    </a:lnTo>
                    <a:lnTo>
                      <a:pt x="2430" y="489"/>
                    </a:lnTo>
                    <a:lnTo>
                      <a:pt x="2365" y="477"/>
                    </a:lnTo>
                    <a:lnTo>
                      <a:pt x="2304" y="460"/>
                    </a:lnTo>
                    <a:lnTo>
                      <a:pt x="2276" y="451"/>
                    </a:lnTo>
                    <a:lnTo>
                      <a:pt x="2247" y="439"/>
                    </a:lnTo>
                    <a:lnTo>
                      <a:pt x="2219" y="426"/>
                    </a:lnTo>
                    <a:lnTo>
                      <a:pt x="2192" y="413"/>
                    </a:lnTo>
                    <a:lnTo>
                      <a:pt x="2166" y="398"/>
                    </a:lnTo>
                    <a:lnTo>
                      <a:pt x="2154" y="390"/>
                    </a:lnTo>
                    <a:lnTo>
                      <a:pt x="2141" y="382"/>
                    </a:lnTo>
                    <a:lnTo>
                      <a:pt x="2128" y="375"/>
                    </a:lnTo>
                    <a:lnTo>
                      <a:pt x="2114" y="367"/>
                    </a:lnTo>
                    <a:lnTo>
                      <a:pt x="2103" y="360"/>
                    </a:lnTo>
                    <a:lnTo>
                      <a:pt x="2090" y="350"/>
                    </a:lnTo>
                    <a:lnTo>
                      <a:pt x="2078" y="342"/>
                    </a:lnTo>
                    <a:lnTo>
                      <a:pt x="2065" y="335"/>
                    </a:lnTo>
                    <a:lnTo>
                      <a:pt x="2053" y="325"/>
                    </a:lnTo>
                    <a:lnTo>
                      <a:pt x="2042" y="318"/>
                    </a:lnTo>
                    <a:lnTo>
                      <a:pt x="2029" y="310"/>
                    </a:lnTo>
                    <a:lnTo>
                      <a:pt x="2017" y="301"/>
                    </a:lnTo>
                    <a:lnTo>
                      <a:pt x="2006" y="293"/>
                    </a:lnTo>
                    <a:lnTo>
                      <a:pt x="1993" y="285"/>
                    </a:lnTo>
                    <a:lnTo>
                      <a:pt x="1981" y="278"/>
                    </a:lnTo>
                    <a:lnTo>
                      <a:pt x="1970" y="270"/>
                    </a:lnTo>
                    <a:lnTo>
                      <a:pt x="1958" y="261"/>
                    </a:lnTo>
                    <a:lnTo>
                      <a:pt x="1947" y="253"/>
                    </a:lnTo>
                    <a:lnTo>
                      <a:pt x="1934" y="246"/>
                    </a:lnTo>
                    <a:lnTo>
                      <a:pt x="1922" y="238"/>
                    </a:lnTo>
                    <a:lnTo>
                      <a:pt x="1911" y="230"/>
                    </a:lnTo>
                    <a:lnTo>
                      <a:pt x="1899" y="225"/>
                    </a:lnTo>
                    <a:lnTo>
                      <a:pt x="1875" y="211"/>
                    </a:lnTo>
                    <a:lnTo>
                      <a:pt x="1850" y="198"/>
                    </a:lnTo>
                    <a:lnTo>
                      <a:pt x="1825" y="187"/>
                    </a:lnTo>
                    <a:lnTo>
                      <a:pt x="1801" y="175"/>
                    </a:lnTo>
                    <a:lnTo>
                      <a:pt x="1776" y="168"/>
                    </a:lnTo>
                    <a:lnTo>
                      <a:pt x="1751" y="158"/>
                    </a:lnTo>
                    <a:lnTo>
                      <a:pt x="1698" y="149"/>
                    </a:lnTo>
                    <a:lnTo>
                      <a:pt x="1643" y="147"/>
                    </a:lnTo>
                    <a:lnTo>
                      <a:pt x="1586" y="152"/>
                    </a:lnTo>
                    <a:lnTo>
                      <a:pt x="1529" y="164"/>
                    </a:lnTo>
                    <a:lnTo>
                      <a:pt x="1502" y="173"/>
                    </a:lnTo>
                    <a:lnTo>
                      <a:pt x="1479" y="183"/>
                    </a:lnTo>
                    <a:lnTo>
                      <a:pt x="1456" y="192"/>
                    </a:lnTo>
                    <a:lnTo>
                      <a:pt x="1434" y="206"/>
                    </a:lnTo>
                    <a:lnTo>
                      <a:pt x="1415" y="217"/>
                    </a:lnTo>
                    <a:lnTo>
                      <a:pt x="1394" y="230"/>
                    </a:lnTo>
                    <a:lnTo>
                      <a:pt x="1358" y="259"/>
                    </a:lnTo>
                    <a:lnTo>
                      <a:pt x="1323" y="287"/>
                    </a:lnTo>
                    <a:lnTo>
                      <a:pt x="1293" y="318"/>
                    </a:lnTo>
                    <a:lnTo>
                      <a:pt x="1262" y="348"/>
                    </a:lnTo>
                    <a:lnTo>
                      <a:pt x="1232" y="377"/>
                    </a:lnTo>
                    <a:lnTo>
                      <a:pt x="1200" y="403"/>
                    </a:lnTo>
                    <a:lnTo>
                      <a:pt x="1185" y="415"/>
                    </a:lnTo>
                    <a:lnTo>
                      <a:pt x="1167" y="426"/>
                    </a:lnTo>
                    <a:lnTo>
                      <a:pt x="1150" y="437"/>
                    </a:lnTo>
                    <a:lnTo>
                      <a:pt x="1133" y="445"/>
                    </a:lnTo>
                    <a:lnTo>
                      <a:pt x="1114" y="455"/>
                    </a:lnTo>
                    <a:lnTo>
                      <a:pt x="1093" y="460"/>
                    </a:lnTo>
                    <a:lnTo>
                      <a:pt x="1051" y="470"/>
                    </a:lnTo>
                    <a:lnTo>
                      <a:pt x="951" y="468"/>
                    </a:lnTo>
                    <a:lnTo>
                      <a:pt x="892" y="457"/>
                    </a:lnTo>
                    <a:lnTo>
                      <a:pt x="831" y="441"/>
                    </a:lnTo>
                    <a:lnTo>
                      <a:pt x="799" y="432"/>
                    </a:lnTo>
                    <a:lnTo>
                      <a:pt x="768" y="422"/>
                    </a:lnTo>
                    <a:lnTo>
                      <a:pt x="736" y="413"/>
                    </a:lnTo>
                    <a:lnTo>
                      <a:pt x="704" y="401"/>
                    </a:lnTo>
                    <a:lnTo>
                      <a:pt x="671" y="388"/>
                    </a:lnTo>
                    <a:lnTo>
                      <a:pt x="639" y="377"/>
                    </a:lnTo>
                    <a:lnTo>
                      <a:pt x="607" y="363"/>
                    </a:lnTo>
                    <a:lnTo>
                      <a:pt x="576" y="350"/>
                    </a:lnTo>
                    <a:lnTo>
                      <a:pt x="544" y="339"/>
                    </a:lnTo>
                    <a:lnTo>
                      <a:pt x="513" y="323"/>
                    </a:lnTo>
                    <a:lnTo>
                      <a:pt x="485" y="310"/>
                    </a:lnTo>
                    <a:lnTo>
                      <a:pt x="454" y="297"/>
                    </a:lnTo>
                    <a:lnTo>
                      <a:pt x="426" y="284"/>
                    </a:lnTo>
                    <a:lnTo>
                      <a:pt x="399" y="270"/>
                    </a:lnTo>
                    <a:lnTo>
                      <a:pt x="373" y="259"/>
                    </a:lnTo>
                    <a:lnTo>
                      <a:pt x="348" y="246"/>
                    </a:lnTo>
                    <a:lnTo>
                      <a:pt x="325" y="234"/>
                    </a:lnTo>
                    <a:lnTo>
                      <a:pt x="302" y="223"/>
                    </a:lnTo>
                    <a:lnTo>
                      <a:pt x="283" y="213"/>
                    </a:lnTo>
                    <a:lnTo>
                      <a:pt x="264" y="202"/>
                    </a:lnTo>
                    <a:lnTo>
                      <a:pt x="247" y="194"/>
                    </a:lnTo>
                    <a:lnTo>
                      <a:pt x="232" y="187"/>
                    </a:lnTo>
                    <a:lnTo>
                      <a:pt x="207" y="173"/>
                    </a:lnTo>
                    <a:lnTo>
                      <a:pt x="186" y="162"/>
                    </a:lnTo>
                    <a:lnTo>
                      <a:pt x="0" y="599"/>
                    </a:lnTo>
                    <a:lnTo>
                      <a:pt x="4" y="603"/>
                    </a:lnTo>
                    <a:lnTo>
                      <a:pt x="19" y="612"/>
                    </a:lnTo>
                    <a:lnTo>
                      <a:pt x="30" y="620"/>
                    </a:lnTo>
                    <a:lnTo>
                      <a:pt x="42" y="628"/>
                    </a:lnTo>
                    <a:lnTo>
                      <a:pt x="57" y="637"/>
                    </a:lnTo>
                    <a:lnTo>
                      <a:pt x="74" y="647"/>
                    </a:lnTo>
                    <a:lnTo>
                      <a:pt x="91" y="658"/>
                    </a:lnTo>
                    <a:lnTo>
                      <a:pt x="112" y="671"/>
                    </a:lnTo>
                    <a:lnTo>
                      <a:pt x="135" y="685"/>
                    </a:lnTo>
                    <a:lnTo>
                      <a:pt x="158" y="698"/>
                    </a:lnTo>
                    <a:lnTo>
                      <a:pt x="183" y="711"/>
                    </a:lnTo>
                    <a:lnTo>
                      <a:pt x="196" y="719"/>
                    </a:lnTo>
                    <a:lnTo>
                      <a:pt x="209" y="726"/>
                    </a:lnTo>
                    <a:lnTo>
                      <a:pt x="222" y="734"/>
                    </a:lnTo>
                    <a:lnTo>
                      <a:pt x="238" y="742"/>
                    </a:lnTo>
                    <a:lnTo>
                      <a:pt x="251" y="749"/>
                    </a:lnTo>
                    <a:lnTo>
                      <a:pt x="266" y="755"/>
                    </a:lnTo>
                    <a:lnTo>
                      <a:pt x="281" y="764"/>
                    </a:lnTo>
                    <a:lnTo>
                      <a:pt x="297" y="770"/>
                    </a:lnTo>
                    <a:lnTo>
                      <a:pt x="312" y="780"/>
                    </a:lnTo>
                    <a:lnTo>
                      <a:pt x="329" y="785"/>
                    </a:lnTo>
                    <a:lnTo>
                      <a:pt x="344" y="793"/>
                    </a:lnTo>
                    <a:lnTo>
                      <a:pt x="359" y="801"/>
                    </a:lnTo>
                    <a:lnTo>
                      <a:pt x="376" y="808"/>
                    </a:lnTo>
                    <a:lnTo>
                      <a:pt x="394" y="816"/>
                    </a:lnTo>
                    <a:lnTo>
                      <a:pt x="409" y="823"/>
                    </a:lnTo>
                    <a:lnTo>
                      <a:pt x="428" y="829"/>
                    </a:lnTo>
                    <a:lnTo>
                      <a:pt x="462" y="844"/>
                    </a:lnTo>
                    <a:lnTo>
                      <a:pt x="496" y="858"/>
                    </a:lnTo>
                    <a:lnTo>
                      <a:pt x="532" y="869"/>
                    </a:lnTo>
                    <a:lnTo>
                      <a:pt x="569" y="882"/>
                    </a:lnTo>
                    <a:lnTo>
                      <a:pt x="605" y="892"/>
                    </a:lnTo>
                    <a:lnTo>
                      <a:pt x="643" y="901"/>
                    </a:lnTo>
                    <a:lnTo>
                      <a:pt x="679" y="911"/>
                    </a:lnTo>
                    <a:lnTo>
                      <a:pt x="717" y="918"/>
                    </a:lnTo>
                    <a:lnTo>
                      <a:pt x="753" y="924"/>
                    </a:lnTo>
                    <a:lnTo>
                      <a:pt x="827" y="934"/>
                    </a:lnTo>
                    <a:lnTo>
                      <a:pt x="899" y="932"/>
                    </a:lnTo>
                    <a:lnTo>
                      <a:pt x="964" y="920"/>
                    </a:lnTo>
                    <a:lnTo>
                      <a:pt x="994" y="913"/>
                    </a:lnTo>
                    <a:lnTo>
                      <a:pt x="1025" y="901"/>
                    </a:lnTo>
                    <a:lnTo>
                      <a:pt x="1053" y="888"/>
                    </a:lnTo>
                    <a:lnTo>
                      <a:pt x="1082" y="875"/>
                    </a:lnTo>
                    <a:lnTo>
                      <a:pt x="1095" y="867"/>
                    </a:lnTo>
                    <a:lnTo>
                      <a:pt x="1108" y="859"/>
                    </a:lnTo>
                    <a:lnTo>
                      <a:pt x="1122" y="852"/>
                    </a:lnTo>
                    <a:lnTo>
                      <a:pt x="1135" y="842"/>
                    </a:lnTo>
                    <a:lnTo>
                      <a:pt x="1147" y="833"/>
                    </a:lnTo>
                    <a:lnTo>
                      <a:pt x="1160" y="825"/>
                    </a:lnTo>
                    <a:lnTo>
                      <a:pt x="1173" y="816"/>
                    </a:lnTo>
                    <a:lnTo>
                      <a:pt x="1185" y="806"/>
                    </a:lnTo>
                    <a:lnTo>
                      <a:pt x="1232" y="768"/>
                    </a:lnTo>
                    <a:lnTo>
                      <a:pt x="1280" y="730"/>
                    </a:lnTo>
                    <a:lnTo>
                      <a:pt x="1323" y="692"/>
                    </a:lnTo>
                    <a:lnTo>
                      <a:pt x="1369" y="658"/>
                    </a:lnTo>
                    <a:lnTo>
                      <a:pt x="1380" y="648"/>
                    </a:lnTo>
                    <a:lnTo>
                      <a:pt x="1390" y="641"/>
                    </a:lnTo>
                    <a:lnTo>
                      <a:pt x="1401" y="633"/>
                    </a:lnTo>
                    <a:lnTo>
                      <a:pt x="1413" y="628"/>
                    </a:lnTo>
                    <a:lnTo>
                      <a:pt x="1436" y="614"/>
                    </a:lnTo>
                    <a:lnTo>
                      <a:pt x="1458" y="603"/>
                    </a:lnTo>
                    <a:lnTo>
                      <a:pt x="1481" y="591"/>
                    </a:lnTo>
                    <a:lnTo>
                      <a:pt x="1504" y="586"/>
                    </a:lnTo>
                    <a:lnTo>
                      <a:pt x="1551" y="576"/>
                    </a:lnTo>
                    <a:lnTo>
                      <a:pt x="1601" y="578"/>
                    </a:lnTo>
                    <a:lnTo>
                      <a:pt x="1656" y="593"/>
                    </a:lnTo>
                    <a:lnTo>
                      <a:pt x="1683" y="605"/>
                    </a:lnTo>
                    <a:lnTo>
                      <a:pt x="1709" y="614"/>
                    </a:lnTo>
                    <a:lnTo>
                      <a:pt x="1734" y="626"/>
                    </a:lnTo>
                    <a:lnTo>
                      <a:pt x="1757" y="637"/>
                    </a:lnTo>
                    <a:lnTo>
                      <a:pt x="1782" y="648"/>
                    </a:lnTo>
                    <a:lnTo>
                      <a:pt x="1804" y="660"/>
                    </a:lnTo>
                    <a:lnTo>
                      <a:pt x="1827" y="671"/>
                    </a:lnTo>
                    <a:lnTo>
                      <a:pt x="1848" y="681"/>
                    </a:lnTo>
                    <a:lnTo>
                      <a:pt x="1871" y="692"/>
                    </a:lnTo>
                    <a:lnTo>
                      <a:pt x="1890" y="704"/>
                    </a:lnTo>
                    <a:lnTo>
                      <a:pt x="1913" y="715"/>
                    </a:lnTo>
                    <a:lnTo>
                      <a:pt x="1934" y="725"/>
                    </a:lnTo>
                    <a:lnTo>
                      <a:pt x="1953" y="736"/>
                    </a:lnTo>
                    <a:lnTo>
                      <a:pt x="1974" y="745"/>
                    </a:lnTo>
                    <a:lnTo>
                      <a:pt x="1995" y="755"/>
                    </a:lnTo>
                    <a:lnTo>
                      <a:pt x="2015" y="764"/>
                    </a:lnTo>
                    <a:lnTo>
                      <a:pt x="2036" y="774"/>
                    </a:lnTo>
                    <a:lnTo>
                      <a:pt x="2057" y="783"/>
                    </a:lnTo>
                    <a:lnTo>
                      <a:pt x="2078" y="793"/>
                    </a:lnTo>
                    <a:lnTo>
                      <a:pt x="2101" y="801"/>
                    </a:lnTo>
                    <a:lnTo>
                      <a:pt x="2122" y="810"/>
                    </a:lnTo>
                    <a:lnTo>
                      <a:pt x="2145" y="818"/>
                    </a:lnTo>
                    <a:lnTo>
                      <a:pt x="2169" y="825"/>
                    </a:lnTo>
                    <a:lnTo>
                      <a:pt x="2194" y="831"/>
                    </a:lnTo>
                    <a:lnTo>
                      <a:pt x="2245" y="844"/>
                    </a:lnTo>
                    <a:lnTo>
                      <a:pt x="2299" y="854"/>
                    </a:lnTo>
                    <a:lnTo>
                      <a:pt x="2360" y="861"/>
                    </a:lnTo>
                    <a:lnTo>
                      <a:pt x="2424" y="867"/>
                    </a:lnTo>
                    <a:lnTo>
                      <a:pt x="2557" y="869"/>
                    </a:lnTo>
                    <a:lnTo>
                      <a:pt x="2685" y="859"/>
                    </a:lnTo>
                    <a:lnTo>
                      <a:pt x="2804" y="844"/>
                    </a:lnTo>
                    <a:lnTo>
                      <a:pt x="2860" y="835"/>
                    </a:lnTo>
                    <a:lnTo>
                      <a:pt x="2911" y="825"/>
                    </a:lnTo>
                    <a:lnTo>
                      <a:pt x="2958" y="814"/>
                    </a:lnTo>
                    <a:lnTo>
                      <a:pt x="3000" y="804"/>
                    </a:lnTo>
                    <a:lnTo>
                      <a:pt x="3038" y="795"/>
                    </a:lnTo>
                    <a:lnTo>
                      <a:pt x="3069" y="785"/>
                    </a:lnTo>
                    <a:lnTo>
                      <a:pt x="3112" y="772"/>
                    </a:lnTo>
                    <a:lnTo>
                      <a:pt x="3130" y="768"/>
                    </a:lnTo>
                    <a:lnTo>
                      <a:pt x="3114" y="778"/>
                    </a:lnTo>
                    <a:lnTo>
                      <a:pt x="3099" y="789"/>
                    </a:lnTo>
                    <a:lnTo>
                      <a:pt x="3088" y="795"/>
                    </a:lnTo>
                    <a:lnTo>
                      <a:pt x="3078" y="804"/>
                    </a:lnTo>
                    <a:lnTo>
                      <a:pt x="3025" y="844"/>
                    </a:lnTo>
                    <a:lnTo>
                      <a:pt x="2997" y="869"/>
                    </a:lnTo>
                    <a:lnTo>
                      <a:pt x="2964" y="896"/>
                    </a:lnTo>
                    <a:lnTo>
                      <a:pt x="2934" y="926"/>
                    </a:lnTo>
                    <a:lnTo>
                      <a:pt x="2903" y="956"/>
                    </a:lnTo>
                    <a:lnTo>
                      <a:pt x="2875" y="989"/>
                    </a:lnTo>
                    <a:lnTo>
                      <a:pt x="2850" y="1023"/>
                    </a:lnTo>
                    <a:lnTo>
                      <a:pt x="2827" y="1059"/>
                    </a:lnTo>
                    <a:lnTo>
                      <a:pt x="2810" y="1093"/>
                    </a:lnTo>
                    <a:lnTo>
                      <a:pt x="2791" y="1166"/>
                    </a:lnTo>
                    <a:lnTo>
                      <a:pt x="2795" y="1196"/>
                    </a:lnTo>
                    <a:lnTo>
                      <a:pt x="2804" y="1221"/>
                    </a:lnTo>
                    <a:lnTo>
                      <a:pt x="2820" y="1238"/>
                    </a:lnTo>
                    <a:lnTo>
                      <a:pt x="2829" y="1245"/>
                    </a:lnTo>
                    <a:lnTo>
                      <a:pt x="2841" y="1249"/>
                    </a:lnTo>
                    <a:lnTo>
                      <a:pt x="2865" y="1257"/>
                    </a:lnTo>
                    <a:lnTo>
                      <a:pt x="2894" y="1259"/>
                    </a:lnTo>
                    <a:lnTo>
                      <a:pt x="2957" y="1253"/>
                    </a:lnTo>
                    <a:lnTo>
                      <a:pt x="3021" y="1238"/>
                    </a:lnTo>
                    <a:lnTo>
                      <a:pt x="3050" y="1230"/>
                    </a:lnTo>
                    <a:lnTo>
                      <a:pt x="3076" y="1221"/>
                    </a:lnTo>
                    <a:lnTo>
                      <a:pt x="3099" y="1213"/>
                    </a:lnTo>
                    <a:lnTo>
                      <a:pt x="3116" y="1205"/>
                    </a:lnTo>
                    <a:lnTo>
                      <a:pt x="3132" y="1200"/>
                    </a:lnTo>
                    <a:lnTo>
                      <a:pt x="3132" y="1200"/>
                    </a:lnTo>
                    <a:close/>
                  </a:path>
                </a:pathLst>
              </a:custGeom>
              <a:solidFill>
                <a:srgbClr val="fcab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0EB-1410-4189-99DE-00DE0010EAEE}" type="slidenum">
              <a:t>9</a:t>
            </a:fld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17:31:31Z</dcterms:created>
  <dc:creator>Elizabeth Martínez Cortés</dc:creator>
  <dc:description/>
  <dc:language>en-US</dc:language>
  <cp:lastModifiedBy>C.P.C.E.C.A.B.A.</cp:lastModifiedBy>
  <dcterms:modified xsi:type="dcterms:W3CDTF">2006-10-30T20:54:02Z</dcterms:modified>
  <cp:revision>23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