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5D88-9C13-4923-8CCF-81445E8F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C39E-F738-461F-B268-B0B5953A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628C-D49C-4553-9602-16B9292A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3476-F10D-4D84-B351-3C12740F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ED64-6F31-4EA3-BD8E-1A3563F0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D795-09CF-4540-A732-737CEC6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F21B-0321-4870-B0BE-FA29B83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C4B4-0D4C-4E7A-83D9-0AE2BBA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FA25-66C8-41A5-A595-0F28BCF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A5FB-E9E3-4A64-B97F-7085D39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5F4C-6165-4269-9347-D1398273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190E-65BB-40C4-B968-500566DB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B98-B9E6-4D1A-A8DD-49F92EB5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CF90-662F-4BC0-AC41-C29D8FD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ECE7-0B28-48FC-8148-DB542F72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1E01-3CA0-4ECF-933E-13176DB4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B99E-6657-478B-8517-DBDEA613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04B4-7D61-445A-B9E7-95BB9EE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DBC9-DC06-4BAD-A49C-BB5D9C51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16C8-34B3-40C9-AA35-982BB0E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DEBF-C507-4D0B-9519-B10B0D2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FE27-78A1-44CD-B50B-211D52B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C191-A9EF-48C1-8B15-7DE2500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09BB-6132-44A6-816F-A05E51B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EB70-B929-4022-9CC9-5A731D9D301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419-A9D3-4C9C-AC94-0F3933F5DC7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 situación tributaria Argentin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360" y="4266720"/>
            <a:ext cx="85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uan C. Gómez-Sabain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rcera Jornada Sector Energét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ptiembre 200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ecursos tributarios nacionales </a:t>
            </a:r>
            <a:br>
              <a:rPr sz="3400"/>
            </a:b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1990-2005 ( % del PIB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92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Arial"/>
              </a:rPr>
              <a:t>Estructura porcentual de la recaudación tributaria,1996 y 200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240" y="1914480"/>
            <a:ext cx="5197680" cy="3598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0720" y="1914480"/>
            <a:ext cx="5197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ecaudación impuesto a los réditos y a las ganancias 1932-20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92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ecaudación impuesto a las ventas y al valor agregado 1935-20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92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olución de los impuestos al comercio exterior 1932-20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92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uesto sobre los combust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ftas hasta 92 ron……………….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ftas de mas de 92 ron, nafta virgen, gasolina virgen, solv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guarrás ………………..…………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oil, diesel y kerosén…………1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to mínimo por litro naftas……$0,53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to mínimo resto………………$0,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echos de exportación sobre  hidrocarburos y derivad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róleo Cr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arzo 2002 se lo grava al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agosto 2004 se estableció u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recho adi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 sobre el precio de USD 32  que va del 3% al 20% cuando supera los USD 45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s  sobre otros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o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adas a la tasa del………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 Licuado de Propano y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adas a la tasa  del………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de los derechos de ex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11280" y="2293920"/>
            <a:ext cx="43214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s de exportación 200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drocarburos y deriv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824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 de la presión tributaria nacional y provi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ción de su com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rtamiento de los distintos im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ia recaudatoria de la actividad petr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ursos aportados al Fisco por la actividad, año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5516640"/>
            <a:ext cx="649080" cy="43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789360"/>
            <a:ext cx="647640" cy="287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1640" y="4292640"/>
            <a:ext cx="649440" cy="503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40000" y="2206800"/>
            <a:ext cx="4896000" cy="4028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380360" y="6021360"/>
            <a:ext cx="649080" cy="43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164360" y="3933720"/>
            <a:ext cx="287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093080" y="4581360"/>
            <a:ext cx="358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092720" y="573408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092720" y="616536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Gastos tributarios por combusti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293920"/>
            <a:ext cx="75614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Gastos tributarios en algunos países de América Lat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1981080"/>
            <a:ext cx="46087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gsabaini@ciudad.com.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Arial"/>
              </a:rPr>
              <a:t>Nivel de la presión tributaria total, nación y provinc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n 2005 se alcanzó una recaudación total récord de 27% del PIB como resultado de una presión tributaria nacional del 23% del PIB y una provincial del 4%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Arial"/>
              </a:rPr>
              <a:t>En el 2004 fue del 22,3% y 4,0% resp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olución de la recaudación Nacional y Provincial 1950-200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92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000000"/>
                </a:solidFill>
                <a:latin typeface="Arial"/>
              </a:rPr>
              <a:t>Presión tributaria en países selecciona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2130480"/>
            <a:ext cx="4603680" cy="281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68360" y="2565360"/>
            <a:ext cx="424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Argentina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  2005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           2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2293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A pesar del aumento en la presión tributaria de los últimos años, Argentina se mantiene lejos de la de Brasil y los países más desarrol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resión tributaria: Nivel de recaudación nac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principios de los años noventa la recaudación mostró un salto en su nivel, alcanzando valores cercanos al 17% del PIB de manera sostenida entre 1992 y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 partir de 2003, en la salida de la crisis, muestra un nuevo salto ascendente hasta ubicarse en los mayores niveles históricos (el promedio 2002-2005 fue superior a los 20 puntos del produ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ecaudación bruta nacional 1932-2005</a:t>
            </a:r>
            <a:br>
              <a:rPr sz="3400"/>
            </a:b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romedio por décadas, en % del PI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993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br>
              <a:rPr sz="3400"/>
            </a:b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structura de la recaud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s del IVA hasta 1996 pero caída de la participación en el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Gran aumento de la participación del impuesto a las ganancias en el total recaudado entre 1990 y 2005 (de 4 a 23%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sminución de los aportes y contribuciones a la seguridad social a partir de 199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Fuerte crecimiento de los impuestos al comercio exterior (13% del total en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ecaudación tributaria por décadas y por tipo de impuestos (1932-2005).</a:t>
            </a:r>
            <a:br>
              <a:rPr sz="3400"/>
            </a:b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En % del to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82803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1:18:27Z</dcterms:created>
  <dc:creator>Juan Carlos Gomez Sabaini</dc:creator>
  <dc:description/>
  <dc:language>en-US</dc:language>
  <cp:lastModifiedBy>juan carlos</cp:lastModifiedBy>
  <dcterms:modified xsi:type="dcterms:W3CDTF">2006-09-26T22:18:53Z</dcterms:modified>
  <cp:revision>28</cp:revision>
  <dc:subject/>
  <dc:title>Presión tributaria: A) Nivel de recaudación nacional</dc:title>
</cp:coreProperties>
</file>