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68D-A7E1-4190-8595-F059AB49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B53-6F94-4102-B617-70F6B7E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A66-61E3-4B22-BCDC-3EEA8EB4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641-02BB-465F-BF1C-3595AFEC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1929-56AA-4C88-968E-FADB224F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1743-0566-4772-8EE4-E6EE1DB4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9FF7-080D-4596-86BA-593644A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2173-8123-4D6E-BDCC-9531B62D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6DD7-5E71-458B-B82D-CF427B88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2BA-8A70-42AB-A180-E0BF26EC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9941-7C2A-41EE-8944-74364ED1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C5B-EA05-4FFC-BC8F-356A02F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5C08-ED57-4DE6-AE33-8BC9069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366A-0976-41E2-861C-FACD9BBE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046-AE8B-4D41-82FF-DDEFF85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2820-55F4-417A-9A4C-942EED42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E8A4-93F8-4909-9FB3-B65990E2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32D-C3B0-4601-8BFE-BF22220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241-66FF-4A23-A82F-5E154106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24C-3632-4A0C-97EC-3921C976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76A-E2E6-4BEA-ABE2-49D54B7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CC3-6D56-4ABF-9A40-F30EEF1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668-0EA7-4C0A-91B8-26FFC38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F6B-EB06-4491-BC48-AD1E00F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Lic. Julio R. Rot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Secr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45FB-EEA7-4FE9-8B0B-DEE796FF7B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685800" y="609480"/>
          <a:ext cx="1371600" cy="8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1371600" cy="851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25B2-2DB8-4902-A685-1D5D7AA385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438280"/>
            <a:ext cx="76978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La Evolución de la Bolsa Argent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Lucida Sans"/>
              </a:rPr>
              <a:t>Comparación en la reg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Lucida Sans"/>
              </a:rPr>
              <a:t>Bolsa desinvert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Necesidad de contar con un Mercado dinámico</a:t>
            </a:r>
            <a:br>
              <a:rPr sz="4400"/>
            </a:br>
            <a:br>
              <a:rPr sz="4400"/>
            </a:br>
            <a:r>
              <a:rPr b="1" lang="es-AR" sz="2400" spc="-1" strike="noStrike">
                <a:solidFill>
                  <a:srgbClr val="ffff00"/>
                </a:solidFill>
                <a:latin typeface="Lucida Sans"/>
              </a:rPr>
              <a:t>-</a:t>
            </a: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Ahorro interno insuficiente.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 Situación financiera de la Argentina en el mundo.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Revisión de las normas de transparencia.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Revisión de las normas de la CNV sobre oferta pública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362320"/>
            <a:ext cx="941868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El largo recorrido de la Bol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Lucida Sans"/>
              </a:rPr>
              <a:t>Operaciones en el viejo y nuevo reci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Lucida Sans"/>
              </a:rPr>
              <a:t>Las computado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Lucida Sans"/>
              </a:rPr>
              <a:t>¿Mayor transparencia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819520"/>
            <a:ext cx="1585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00"/>
                </a:solidFill>
                <a:latin typeface="Lucida Sans"/>
              </a:rPr>
              <a:t>                    </a:t>
            </a:r>
            <a:r>
              <a:rPr b="1" lang="es-AR" sz="4000" spc="-1" strike="noStrike">
                <a:solidFill>
                  <a:srgbClr val="ffff00"/>
                </a:solidFill>
                <a:latin typeface="Lucida Sans"/>
              </a:rPr>
              <a:t>La colocació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00"/>
                </a:solidFill>
                <a:latin typeface="Lucida Sans"/>
              </a:rPr>
              <a:t>     </a:t>
            </a:r>
            <a:r>
              <a:rPr b="1" lang="es-AR" sz="4000" spc="-1" strike="noStrike">
                <a:solidFill>
                  <a:srgbClr val="ffff00"/>
                </a:solidFill>
                <a:latin typeface="Lucida Sans"/>
              </a:rPr>
              <a:t>de las empresas privatizad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209680"/>
            <a:ext cx="1159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  </a:t>
            </a: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La aparición de los técn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Lucida Sans"/>
              </a:rPr>
              <a:t>-Técnicos vs. Fundamentalis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Lucida Sans"/>
              </a:rPr>
              <a:t>-¿Falta capacitación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22860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00"/>
                </a:solidFill>
                <a:latin typeface="Lucida Sans"/>
              </a:rPr>
              <a:t>Indices Bursátil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523880"/>
            <a:ext cx="105696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         </a:t>
            </a:r>
            <a:r>
              <a:rPr b="1" lang="es-AR" sz="4400" spc="-1" strike="noStrike">
                <a:solidFill>
                  <a:srgbClr val="ffff00"/>
                </a:solidFill>
                <a:latin typeface="Lucida Sans"/>
              </a:rPr>
              <a:t>Algunas propuest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Menor concentración en los índi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Índices representativos de todas las empr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Cotización obligatoria de las espec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Aumentar el “Floating” acceso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Calificación oblig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Normas para el derecho de re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Capitalización bursatil real y apar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Lucida Sans"/>
              </a:rPr>
              <a:t>-Requisito para nuevas empr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20:09:32Z</dcterms:created>
  <dc:creator>CPCECABA</dc:creator>
  <dc:description/>
  <dc:language>en-US</dc:language>
  <cp:lastModifiedBy>C.P.C.E.C.A.B.A</cp:lastModifiedBy>
  <dcterms:modified xsi:type="dcterms:W3CDTF">2009-09-28T13:23:55Z</dcterms:modified>
  <cp:revision>5</cp:revision>
  <dc:subject/>
  <dc:title>Presentación de PowerPoint</dc:title>
</cp:coreProperties>
</file>