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2E7-A03A-46E8-A988-FA282B3F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32A-C754-4426-A7F1-CD703F90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BFB-6D5F-4798-B01B-5A76512F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6AB-E88F-4957-8D47-D04ED7A4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9D3D-93C5-4F91-A9BF-E7C43308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ED41-AC66-49DF-948E-3AA3A0E1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01A4-D609-48D5-9196-19BBE989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5602-4C74-4BA8-AF1E-8602C177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1080-F740-47E5-BCB3-30A02C44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8D5E-9595-4A32-A76D-DC02DF02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B18C-140B-4110-A9B1-62CE3BE4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810-DF98-41C8-97DF-421955B3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E7CA-7CC7-4982-B27D-1E98D148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563-CAE8-47A9-AB57-2E657A99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E704-2182-4F2B-814D-46B27836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6413-5C75-48B2-BA9D-F84358D6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5132-1708-489A-8089-5B555720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428-BDC9-408E-9728-8D4585E7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ED4-DBD1-48BC-815A-358F2289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6D3-B015-4549-AA09-25C22D9F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F5E-1FE1-43C9-80B5-7C2037E4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0AD-5713-46C9-B585-59907CB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965-9A8B-4F61-801E-84F66F9E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105-BC01-468B-8CE1-6EEAB11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F8AD-163B-4CA3-ACC0-CDA109145B6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F521-F1FE-46D1-A23A-36AE1B10311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003366"/>
                </a:solidFill>
                <a:latin typeface="Times New Roman"/>
              </a:rPr>
              <a:t>EL LÍDER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MX" sz="3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MX" sz="3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MX" sz="3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MX" sz="39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s-MX" sz="39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003366"/>
                </a:solidFill>
                <a:latin typeface="Times New Roman"/>
              </a:rPr>
              <a:t>LA CONQUISTA DE LA MENTE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ODOLFO NAB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LÍD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800" spc="-1" strike="noStrike">
                <a:solidFill>
                  <a:srgbClr val="003366"/>
                </a:solidFill>
                <a:latin typeface="Times New Roman"/>
              </a:rPr>
              <a:t>Líder es el que tiene la capacidad de </a:t>
            </a:r>
            <a:r>
              <a:rPr b="1" lang="es-MX" sz="2800" spc="-1" strike="noStrike" u="sng">
                <a:solidFill>
                  <a:srgbClr val="003366"/>
                </a:solidFill>
                <a:uFillTx/>
                <a:latin typeface="Times New Roman"/>
              </a:rPr>
              <a:t>influir</a:t>
            </a:r>
            <a:r>
              <a:rPr b="1" lang="es-MX" sz="2800" spc="-1" strike="noStrike">
                <a:solidFill>
                  <a:srgbClr val="003366"/>
                </a:solidFill>
                <a:latin typeface="Times New Roman"/>
              </a:rPr>
              <a:t> en otros para que trabajen con </a:t>
            </a:r>
            <a:r>
              <a:rPr b="1" lang="es-MX" sz="2800" spc="-1" strike="noStrike" u="sng">
                <a:solidFill>
                  <a:srgbClr val="003366"/>
                </a:solidFill>
                <a:uFillTx/>
                <a:latin typeface="Times New Roman"/>
              </a:rPr>
              <a:t>entusiasmo</a:t>
            </a:r>
            <a:r>
              <a:rPr b="1" lang="es-MX" sz="2800" spc="-1" strike="noStrike">
                <a:solidFill>
                  <a:srgbClr val="003366"/>
                </a:solidFill>
                <a:latin typeface="Times New Roman"/>
              </a:rPr>
              <a:t> en el logro de objetivos que hacen al </a:t>
            </a:r>
            <a:r>
              <a:rPr b="1" lang="es-MX" sz="2800" spc="-1" strike="noStrike" u="sng">
                <a:solidFill>
                  <a:srgbClr val="003366"/>
                </a:solidFill>
                <a:uFillTx/>
                <a:latin typeface="Times New Roman"/>
              </a:rPr>
              <a:t>bien comú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FOC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¿ELPODER  o LA AUTORIDAD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BA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3366"/>
                </a:solidFill>
                <a:latin typeface="Times New Roman"/>
              </a:rPr>
              <a:t>LA CONFIA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EL RESPE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3366"/>
                </a:solidFill>
                <a:latin typeface="Times New Roman"/>
              </a:rPr>
              <a:t>LA EQU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CLAV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LIDERAZGO COMO SERVI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VALORES ENRIQUECE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¡MUCHAS GRACIAS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rodolfo@nabhen.co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2:36:53Z</dcterms:created>
  <dc:creator>.</dc:creator>
  <dc:description/>
  <dc:language>en-US</dc:language>
  <cp:lastModifiedBy>C.P.C.E.C.A.B.A</cp:lastModifiedBy>
  <dcterms:modified xsi:type="dcterms:W3CDTF">2010-11-05T17:15:31Z</dcterms:modified>
  <cp:revision>3</cp:revision>
  <dc:subject/>
  <dc:title>Diapositiva 1</dc:title>
</cp:coreProperties>
</file>