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E61-A62A-4AC3-8A9B-6DF0A894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A9E-A05B-41FD-BEED-28CF1343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18A-A7CC-4B5C-8F2D-B4710C35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92B-0FAF-4994-8232-9AD0DAFA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84D-B3D4-4523-84E6-10690740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6E5-C564-4A5A-9DB1-DBA644AE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608-D430-46DF-A318-2FDD03AF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EB8-47EE-4AF3-A906-A98D3507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FE6-1C0B-48B7-8B3A-BB356EC6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E0C-06A7-498E-B3CC-4D029D9A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375-A393-47D9-B758-82CE8C29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BD4-CC0C-4F8B-8A1B-C7D60CA9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7362-92D2-4229-9504-A9CA1134F9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a Universidad en la Sociedad del Cono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c. Martín López Armengo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Universidad en la Sociedad del Cono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etos y desafí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formación de profes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ultura infor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inculación con el medio como generación y transferencia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desafío de la inclusión y la retención con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Hacia una gestión profesional de organizaciones comple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c. Martín López Armengo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4:23:28Z</dcterms:created>
  <dc:creator>martin</dc:creator>
  <dc:description/>
  <dc:language>en-US</dc:language>
  <cp:lastModifiedBy>C.P.C.E.C.A.B.A</cp:lastModifiedBy>
  <dcterms:modified xsi:type="dcterms:W3CDTF">2010-11-16T16:10:29Z</dcterms:modified>
  <cp:revision>2</cp:revision>
  <dc:subject/>
  <dc:title>La Universidad en la Sociedad del Conocimiento</dc:title>
</cp:coreProperties>
</file>