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2.jpeg" ContentType="image/jpeg"/>
  <Override PartName="/ppt/media/image13.png" ContentType="image/png"/>
  <Override PartName="/ppt/media/image7.png" ContentType="image/pn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E14C-C548-43FC-8DB8-F42DD7872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D48-C3BD-42AF-9ABF-831956BD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73EB-3FD3-4837-8791-9CE753B05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947-4A03-4EE4-A2EF-8B1401679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9B40-2B8D-4AFF-945A-ECA8BA3AD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9281-A07A-451B-A619-9DBEC544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4EC48-FE87-4B0A-81D2-8EE90C4A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C981-7966-4D9B-BA73-EC4CCD78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A8A0-480F-4CC6-BB61-807627B4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F646-1022-4396-ABDB-1235B2A5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5757-C563-419E-9782-A3418AA7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5B6-F623-442B-9B90-03F97B64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CAE5C-8521-4FEF-97F7-4E12DBD6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642A-23F6-4BE6-9208-C13B13B33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9661-6CE3-4D53-BACA-39F4AEA9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9D12D-7067-4EF9-A314-4D84872E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BD7E-A935-4AA6-83BE-AE50F98F4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E9B43-FCD7-4B6B-88AB-92CFDF27E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B01B3-C8F8-4009-9BAA-6A28E833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9127E-369D-4499-890D-8888E069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3B75-EAC9-4C11-9350-6516262C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5C56-7FCD-40A1-B281-635B47F4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E1E6-0E56-404E-B6D2-13469ACA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2D5B2-FFA2-47F2-BB3C-5EAEABF6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9BE87-79B9-4EFB-9310-00DC94FF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9BA76-2F7A-4934-9EAC-D911F00D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4657E-4EC0-47E4-84E5-2B991E5A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7C23-6FAE-48D6-B8C2-C9736A9B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B6CEC-979F-44AF-9A26-33589B52E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31CF2-7370-4F13-9CAC-640B50DDD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0C252-60C0-49AB-ACEC-FD1D549B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1B44D-70E0-4BCF-BA69-8A8130424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95626-88CB-4940-AB1C-1F7F7CEF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44E8-F53A-4905-9A2A-5EE72E777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C7A5-681D-48F5-9A42-1FBAF149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E5E5E-1B11-4CF0-8876-04797842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DC4C0-FEDC-4597-8662-F6482838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E8CAA-0ADC-409C-B507-132A3A0B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6F308-F098-41D0-92E5-DFAE60DD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080C4-4F94-4B8D-AD7F-7E4F2117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1A6B-6B9F-4B21-AC2E-6FB5C06A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508B-1EF4-4F62-93C1-DFC902F3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F0AA5-6CAB-49B4-A8D1-76F82B771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B49EE-F8FE-40AF-B81C-0B7098722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50BF-D9C7-4C82-A22D-775CF103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2ECC4-8C0E-4BD0-ADA3-31F4F604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874D6-3668-464D-A2A4-492C9757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22653-2CBF-4739-A5BF-5E6FC87B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33437-6BFB-4127-A9B8-51A211AE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5CA87-AFF2-4D2D-B235-6C22CD23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C66D1-B5FB-4EB3-A7EE-1474E7BD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050AB-0275-4B18-A58A-BF1F1790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068A6-DFD3-4214-8ED6-4FBED145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B2499-EE1E-49C1-BC78-19E8E47E3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8AAEFE-3F28-4C62-9D4E-EB2925A9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F9A7-DAED-4C01-A372-19077641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FBD86-753C-4285-9B5C-991FC1A03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35C9B-5616-4380-912F-E8E4A407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D864-7B7C-487E-A53B-D4AF731E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B2360-6991-426A-B6FE-D34BAAE3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AEC1-5C48-45C1-BB19-A2653A4D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55E4A-B96A-40CF-A042-51079B1AD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003DE-1483-42DE-AE37-92F487F7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9246A1-5542-425B-9D6B-45C339FF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9735B-6777-4B28-8BE1-5B8A4B2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38BC3-2533-4804-9D83-F0DE9DCA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68A-22FD-4280-8D71-FFF2DFD7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785C7-B0DA-4654-A18B-C5465026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6489D-69E7-401F-B2C5-9D0D556D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EF8B4-3540-44CE-B313-B73F4FA6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20560-2211-4CA5-AD95-52A6E1F3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AF94F-A94D-4373-8795-41DC7399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CF34B-013B-454B-8B3F-FBC195348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FE729-2971-490B-BCF0-F5BA88E6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1492A-C6EE-4F93-AA17-690EE564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4679E-98D8-4C86-85BB-F570D537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207C2-8F68-46FF-A526-67437E88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2C7-67AF-4BBC-B151-3B19085F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46522-FD9C-48AC-BABB-70BE7EF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F45B0-D19F-4A7E-9C81-C4B4222A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41F2B-220C-4966-AE91-E6A00E43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37DB3-B83F-430A-937A-F6D7A00F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E84A8-DB84-4308-A275-F3D6D5AF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DF8D7-5929-4053-B56C-4D3B5884F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62FE1F-537C-4AE3-8F64-86CA7C1B6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27094-C0FB-46F4-81C8-BAC5515B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294AA-6E3F-4CB5-8D3A-E15FE234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CC309-0F41-4481-B070-7E34D197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635-9733-4B24-8910-FBBE71E9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2F7D4-8CCE-438E-AA35-63E01B805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4D1A9-E671-4BA8-9024-3AC7A3DC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605B8-1E43-47F6-87F0-57DBF68C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C1DEC-0375-42D5-8B44-5D175F1D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2EF724-A8DD-4E56-9D93-70DC0D15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023BF-49F2-4E2B-A64E-8023A355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A0122C-F681-444E-AC96-CACF16F9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78A8-FDCC-4D7E-82A5-10EC77C0B10F}" type="datetime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6780-3F2D-430E-A56F-E4D218619970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6 Triángulo isósceles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714E-B348-4BE1-930D-E78214D58D39}" type="datetime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5F8F-3D1F-4C99-88D9-A4854D1A1CE9}" type="slidenum">
              <a:rPr b="0" lang="es-A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3402-8E48-4CCD-AEBE-F5EDA5B441A7}" type="datetime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A9B8-5588-4F3A-BAE3-CF5C4C3F4D37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8 Triángulo rectángulo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7 Triángulo isósceles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10 Conector recto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9 Conector recto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43D0B-9F63-4320-B382-536ABF25E8F2}" type="datetime">
              <a:rPr b="0" lang="es-AR" sz="10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EB97-BAB1-43C7-9D48-2E439F282327}" type="slidenum">
              <a:rPr b="0" lang="es-A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10 Triángulo rectángulo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7 Conector recto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8 Conector recto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A457-0670-4122-BF4E-913820176030}" type="datetime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B663-60D3-4268-A99F-240502723405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9662-1A5F-4905-A139-C79260D75A8F}" type="datetime">
              <a:rPr b="0" lang="es-AR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B21D3-F950-4B8F-90F4-E14F3E4404CD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4635-6387-465A-BCA8-E2F92B82F701}" type="datetime">
              <a:rPr b="0" lang="es-AR" sz="9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6BFF-3A39-4041-80A1-2BB2B0CB88CB}" type="slidenum">
              <a:rPr b="0" lang="es-AR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84AF-6A45-48D6-882A-29B9DCBCF9D8}" type="datetime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15BF-F075-4F64-8C46-60136FA39449}" type="slidenum">
              <a:rPr b="0" lang="es-AR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1 Título" descr=""/>
          <p:cNvPicPr/>
          <p:nvPr/>
        </p:nvPicPr>
        <p:blipFill>
          <a:blip r:embed="rId1"/>
          <a:stretch/>
        </p:blipFill>
        <p:spPr>
          <a:xfrm>
            <a:off x="633240" y="2494080"/>
            <a:ext cx="8126640" cy="1481040"/>
          </a:xfrm>
          <a:prstGeom prst="rect">
            <a:avLst/>
          </a:prstGeom>
          <a:ln w="0">
            <a:noFill/>
          </a:ln>
        </p:spPr>
      </p:pic>
      <p:sp>
        <p:nvSpPr>
          <p:cNvPr id="346" name="3 CuadroTexto"/>
          <p:cNvSpPr/>
          <p:nvPr/>
        </p:nvSpPr>
        <p:spPr>
          <a:xfrm>
            <a:off x="515520" y="500040"/>
            <a:ext cx="24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BIENAL DE MANAGEMENT 2010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4 CuadroTexto"/>
          <p:cNvSpPr/>
          <p:nvPr/>
        </p:nvSpPr>
        <p:spPr>
          <a:xfrm>
            <a:off x="6084720" y="50004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LUIS PEREZ VAN MORLEGA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5 CuadroTexto"/>
          <p:cNvSpPr/>
          <p:nvPr/>
        </p:nvSpPr>
        <p:spPr>
          <a:xfrm>
            <a:off x="-183600" y="6286680"/>
            <a:ext cx="51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Prohibida la reproducción total 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6 CuadroTexto"/>
          <p:cNvSpPr/>
          <p:nvPr/>
        </p:nvSpPr>
        <p:spPr>
          <a:xfrm>
            <a:off x="7858080" y="62866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7 Imagen" descr="Knowledege management 2.jpg"/>
          <p:cNvPicPr/>
          <p:nvPr/>
        </p:nvPicPr>
        <p:blipFill>
          <a:blip r:embed="rId2"/>
          <a:stretch/>
        </p:blipFill>
        <p:spPr>
          <a:xfrm>
            <a:off x="3929040" y="642960"/>
            <a:ext cx="13716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1 Título" descr=""/>
          <p:cNvPicPr/>
          <p:nvPr/>
        </p:nvPicPr>
        <p:blipFill>
          <a:blip r:embed="rId1"/>
          <a:stretch/>
        </p:blipFill>
        <p:spPr>
          <a:xfrm>
            <a:off x="493560" y="646200"/>
            <a:ext cx="8309160" cy="1542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357120" y="2571840"/>
            <a:ext cx="807264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tención distribuida y simultáne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Información compartid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Diferente forma de buscar informació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Diferentes fuentes de información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lcance global de la comunicació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spacios diferentes para la creativida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3 CuadroTexto"/>
          <p:cNvSpPr/>
          <p:nvPr/>
        </p:nvSpPr>
        <p:spPr>
          <a:xfrm>
            <a:off x="515520" y="500040"/>
            <a:ext cx="24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BIENAL DE MANAGEMENT 2010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4 CuadroTexto"/>
          <p:cNvSpPr/>
          <p:nvPr/>
        </p:nvSpPr>
        <p:spPr>
          <a:xfrm>
            <a:off x="6084720" y="50004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LUIS PEREZ VAN MORLEGA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5 CuadroTexto"/>
          <p:cNvSpPr/>
          <p:nvPr/>
        </p:nvSpPr>
        <p:spPr>
          <a:xfrm>
            <a:off x="-183600" y="6286680"/>
            <a:ext cx="51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Prohibida la reproducción total 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6 CuadroTexto"/>
          <p:cNvSpPr/>
          <p:nvPr/>
        </p:nvSpPr>
        <p:spPr>
          <a:xfrm>
            <a:off x="7858080" y="62866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7" name="7 Imagen" descr="Knowledege management 1.jpg"/>
          <p:cNvPicPr/>
          <p:nvPr/>
        </p:nvPicPr>
        <p:blipFill>
          <a:blip r:embed="rId2"/>
          <a:stretch/>
        </p:blipFill>
        <p:spPr>
          <a:xfrm>
            <a:off x="6572160" y="3786120"/>
            <a:ext cx="24195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1 Título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 txBox="1"/>
          <p:nvPr/>
        </p:nvSpPr>
        <p:spPr>
          <a:xfrm>
            <a:off x="357120" y="2571840"/>
            <a:ext cx="807264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Work aholics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Trabajo full life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Des balance vida personal/laboral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Logros económicos, crecimiento del status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Carrera laboral corporativa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Trabajo individual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Total compromiso con la organización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3 CuadroTexto"/>
          <p:cNvSpPr/>
          <p:nvPr/>
        </p:nvSpPr>
        <p:spPr>
          <a:xfrm>
            <a:off x="515520" y="500040"/>
            <a:ext cx="24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BIENAL DE MANAGEMENT 2010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4 CuadroTexto"/>
          <p:cNvSpPr/>
          <p:nvPr/>
        </p:nvSpPr>
        <p:spPr>
          <a:xfrm>
            <a:off x="6084720" y="50004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LUIS PEREZ VAN MORLEGA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5 CuadroTexto"/>
          <p:cNvSpPr/>
          <p:nvPr/>
        </p:nvSpPr>
        <p:spPr>
          <a:xfrm>
            <a:off x="-183600" y="6286680"/>
            <a:ext cx="51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Prohibida la reproducción total 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6 CuadroTexto"/>
          <p:cNvSpPr/>
          <p:nvPr/>
        </p:nvSpPr>
        <p:spPr>
          <a:xfrm>
            <a:off x="7858080" y="62866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4" name="8 Imagen" descr="Beneficios 04.jpg"/>
          <p:cNvPicPr/>
          <p:nvPr/>
        </p:nvPicPr>
        <p:blipFill>
          <a:blip r:embed="rId2"/>
          <a:stretch/>
        </p:blipFill>
        <p:spPr>
          <a:xfrm>
            <a:off x="5357880" y="2143080"/>
            <a:ext cx="207180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1 Título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357120" y="2571840"/>
            <a:ext cx="807264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No son work aholics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Trabajo full time o part time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Trabajo en equipo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Equilibrio vida personal/laboral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Satisfacción objetivos personales de corto plazo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Relativo proyecto a largo plazo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alibri"/>
              </a:rPr>
              <a:t>Compromiso con su proyecto, no necesariamente con la organización</a:t>
            </a: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3 CuadroTexto"/>
          <p:cNvSpPr/>
          <p:nvPr/>
        </p:nvSpPr>
        <p:spPr>
          <a:xfrm>
            <a:off x="515520" y="500040"/>
            <a:ext cx="24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BIENAL DE MANAGEMENT 2010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4 CuadroTexto"/>
          <p:cNvSpPr/>
          <p:nvPr/>
        </p:nvSpPr>
        <p:spPr>
          <a:xfrm>
            <a:off x="6084720" y="50004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LUIS PEREZ VAN MORLEGA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5 CuadroTexto"/>
          <p:cNvSpPr/>
          <p:nvPr/>
        </p:nvSpPr>
        <p:spPr>
          <a:xfrm>
            <a:off x="-183600" y="6286680"/>
            <a:ext cx="51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Prohibida la reproducción total 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6 CuadroTexto"/>
          <p:cNvSpPr/>
          <p:nvPr/>
        </p:nvSpPr>
        <p:spPr>
          <a:xfrm>
            <a:off x="7858080" y="62866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1" name="7 Imagen" descr="Estudiantes 3.jpg"/>
          <p:cNvPicPr/>
          <p:nvPr/>
        </p:nvPicPr>
        <p:blipFill>
          <a:blip r:embed="rId2"/>
          <a:stretch/>
        </p:blipFill>
        <p:spPr>
          <a:xfrm>
            <a:off x="6215040" y="1857240"/>
            <a:ext cx="21430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1 Título" descr=""/>
          <p:cNvPicPr/>
          <p:nvPr/>
        </p:nvPicPr>
        <p:blipFill>
          <a:blip r:embed="rId1"/>
          <a:stretch/>
        </p:blipFill>
        <p:spPr>
          <a:xfrm>
            <a:off x="493560" y="646200"/>
            <a:ext cx="8242560" cy="1542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357120" y="2571840"/>
            <a:ext cx="807264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La franja 18/24 años es la que más dificultades tiene para conseguir trabaj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Dificultades que se allanan con un estudio universitari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Pero hay brechas por ahora importantes entre perfiles de graduados y necesidades del mercad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3 CuadroTexto"/>
          <p:cNvSpPr/>
          <p:nvPr/>
        </p:nvSpPr>
        <p:spPr>
          <a:xfrm>
            <a:off x="515520" y="500040"/>
            <a:ext cx="24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BIENAL DE MANAGEMENT 2010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4 CuadroTexto"/>
          <p:cNvSpPr/>
          <p:nvPr/>
        </p:nvSpPr>
        <p:spPr>
          <a:xfrm>
            <a:off x="6084720" y="50004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LUIS PEREZ VAN MORLEGA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5 CuadroTexto"/>
          <p:cNvSpPr/>
          <p:nvPr/>
        </p:nvSpPr>
        <p:spPr>
          <a:xfrm>
            <a:off x="-183600" y="6286680"/>
            <a:ext cx="51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Prohibida la reproducción total 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6 CuadroTexto"/>
          <p:cNvSpPr/>
          <p:nvPr/>
        </p:nvSpPr>
        <p:spPr>
          <a:xfrm>
            <a:off x="7858080" y="62866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05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8" name="7 Imagen" descr="Estudiantes 1.jpg"/>
          <p:cNvPicPr/>
          <p:nvPr/>
        </p:nvPicPr>
        <p:blipFill>
          <a:blip r:embed="rId2"/>
          <a:stretch/>
        </p:blipFill>
        <p:spPr>
          <a:xfrm>
            <a:off x="5572080" y="5072040"/>
            <a:ext cx="181296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7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1 Título" descr=""/>
          <p:cNvPicPr/>
          <p:nvPr/>
        </p:nvPicPr>
        <p:blipFill>
          <a:blip r:embed="rId1"/>
          <a:stretch/>
        </p:blipFill>
        <p:spPr>
          <a:xfrm>
            <a:off x="493560" y="590400"/>
            <a:ext cx="8332920" cy="163512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357120" y="2571840"/>
            <a:ext cx="807264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Aprovechar la atención distribuida para enfrentar áreas, posiciones y mercados más abierto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Posiciones que incluyan tele trabaj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Con posibilidad de desarrollar proyecto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Que incluyan remuneración variable por proyect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3 CuadroTexto"/>
          <p:cNvSpPr/>
          <p:nvPr/>
        </p:nvSpPr>
        <p:spPr>
          <a:xfrm>
            <a:off x="515520" y="500040"/>
            <a:ext cx="24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BIENAL DE MANAGEMENT 2010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4 CuadroTexto"/>
          <p:cNvSpPr/>
          <p:nvPr/>
        </p:nvSpPr>
        <p:spPr>
          <a:xfrm>
            <a:off x="6084720" y="50004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LUIS PEREZ VAN MORLEGA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5 CuadroTexto"/>
          <p:cNvSpPr/>
          <p:nvPr/>
        </p:nvSpPr>
        <p:spPr>
          <a:xfrm>
            <a:off x="-183600" y="6286680"/>
            <a:ext cx="51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Prohibida la reproducción total 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6 CuadroTexto"/>
          <p:cNvSpPr/>
          <p:nvPr/>
        </p:nvSpPr>
        <p:spPr>
          <a:xfrm>
            <a:off x="7858080" y="62866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06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7 Imagen" descr="Estudiantes 2.jpg"/>
          <p:cNvPicPr/>
          <p:nvPr/>
        </p:nvPicPr>
        <p:blipFill>
          <a:blip r:embed="rId2"/>
          <a:stretch/>
        </p:blipFill>
        <p:spPr>
          <a:xfrm>
            <a:off x="5857920" y="5072040"/>
            <a:ext cx="186048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1 Título" descr=""/>
          <p:cNvPicPr/>
          <p:nvPr/>
        </p:nvPicPr>
        <p:blipFill>
          <a:blip r:embed="rId1"/>
          <a:stretch/>
        </p:blipFill>
        <p:spPr>
          <a:xfrm>
            <a:off x="493560" y="78120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357120" y="2571840"/>
            <a:ext cx="807264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Se necesita una acción empresaria para congeniar ambas generacion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No es un axioma que la GX es el jefe actual de la G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Poner a los mejores en los mejores puestos, independientemente de la generación y de la edad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alibri"/>
              </a:rPr>
              <a:t>Estudiar, leer, aprende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3 CuadroTexto"/>
          <p:cNvSpPr/>
          <p:nvPr/>
        </p:nvSpPr>
        <p:spPr>
          <a:xfrm>
            <a:off x="515520" y="500040"/>
            <a:ext cx="244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BIENAL DE MANAGEMENT 2010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4 CuadroTexto"/>
          <p:cNvSpPr/>
          <p:nvPr/>
        </p:nvSpPr>
        <p:spPr>
          <a:xfrm>
            <a:off x="6084720" y="500040"/>
            <a:ext cx="22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LUIS PEREZ VAN MORLEGAN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5 CuadroTexto"/>
          <p:cNvSpPr/>
          <p:nvPr/>
        </p:nvSpPr>
        <p:spPr>
          <a:xfrm>
            <a:off x="-183600" y="6286680"/>
            <a:ext cx="51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Prohibida la reproducción total  o parcial sin consentimiento del autor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6 CuadroTexto"/>
          <p:cNvSpPr/>
          <p:nvPr/>
        </p:nvSpPr>
        <p:spPr>
          <a:xfrm>
            <a:off x="7858080" y="6286680"/>
            <a:ext cx="35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Century Gothic"/>
              </a:rPr>
              <a:t>06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92" name="8 Imagen" descr="Grupos 01.jpg"/>
          <p:cNvPicPr/>
          <p:nvPr/>
        </p:nvPicPr>
        <p:blipFill>
          <a:blip r:embed="rId2"/>
          <a:stretch/>
        </p:blipFill>
        <p:spPr>
          <a:xfrm>
            <a:off x="4572000" y="857160"/>
            <a:ext cx="2000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1T01:46:56Z</dcterms:created>
  <dc:creator>LPVM</dc:creator>
  <dc:description/>
  <dc:language>en-US</dc:language>
  <cp:lastModifiedBy>C.P.C.E.C.A.B.A</cp:lastModifiedBy>
  <dcterms:modified xsi:type="dcterms:W3CDTF">2010-11-16T16:27:10Z</dcterms:modified>
  <cp:revision>5</cp:revision>
  <dc:subject/>
  <dc:title>LUCHA GENERACIONAL EN LA SOCIEDAD DEL CONOCIMIENTO</dc:title>
</cp:coreProperties>
</file>