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593-C6F6-4F91-8935-51A26AAE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E81-BF35-4AFE-97B7-6C80552A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558C-2534-4B34-88D2-E3FA7171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F37-2D4E-4830-8535-BC036407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B820-F331-49A7-849C-7959EDB7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4539-19B3-4553-862B-B7A242EF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A10F-75EF-43F0-986D-B61D7D2C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EFE2-A7CA-471C-88C3-F0BCAEE0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3DA9-0798-473A-AD27-FD0126B7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F3ED-CC50-4D38-A174-F4D27534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3FFE-1722-465F-BBC5-3F7A4D1A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24C-4AED-4D2B-9FCA-65482596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BEDB-4EDF-41CC-B1B4-FF801163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BB73-9F75-422D-BA35-C79DCA83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CE36-67D8-4410-B99A-3ED5E5BF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3885-BA87-416A-B269-844B4AC1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801F-18A1-4921-8A05-E5A30955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99B-0099-4890-AC89-2BA09C10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265-C297-4F53-B65D-840BA038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29A-95FC-4202-83FB-FC9C59C1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8C1-03A0-4DB9-ADF8-73E0CA1E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A96-1CAA-4CF0-8E27-877A0194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1CF-0315-4679-975D-A6D02035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CBA-76A1-4849-ABB5-A5336FB6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C292-6FB0-4318-81E0-21EC361B21A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280" y="6058080"/>
            <a:ext cx="1582920" cy="723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72360" y="81000"/>
            <a:ext cx="854280" cy="86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4395-5C3C-41B5-9419-D6AD5A99D97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flipV="1">
            <a:off x="3166920" y="1125000"/>
            <a:ext cx="1836720" cy="15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78120" y="1434960"/>
            <a:ext cx="487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u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4320" y="907920"/>
            <a:ext cx="12171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troversia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02880" y="1419120"/>
            <a:ext cx="12186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frent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2880" y="1940040"/>
            <a:ext cx="12186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frontació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1760" y="2444760"/>
            <a:ext cx="129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li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82720" y="3033720"/>
            <a:ext cx="810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ter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5040" y="3502080"/>
            <a:ext cx="7581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rec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3760" y="4044960"/>
            <a:ext cx="5540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46520" y="4010040"/>
            <a:ext cx="801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7600" y="4491000"/>
            <a:ext cx="572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6880" y="4959360"/>
            <a:ext cx="8528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5427720"/>
            <a:ext cx="7416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lí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6880" y="5881680"/>
            <a:ext cx="996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conó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18400" y="993600"/>
            <a:ext cx="1040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abstr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7320" y="1765440"/>
            <a:ext cx="988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dividu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7240" y="2521080"/>
            <a:ext cx="1250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urindividu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2360" y="3276720"/>
            <a:ext cx="8848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lec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33520" y="4032360"/>
            <a:ext cx="7581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57800" y="3716280"/>
            <a:ext cx="9885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años a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5120" y="993600"/>
            <a:ext cx="1259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uja distribu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78120" y="2023920"/>
            <a:ext cx="639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Étic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796000" y="4005000"/>
            <a:ext cx="3585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012000" y="1736280"/>
            <a:ext cx="360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48360" y="11239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16000" y="1736640"/>
            <a:ext cx="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16000" y="2852640"/>
            <a:ext cx="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79640" y="28526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74920" y="28544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4920" y="416088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74920" y="4160880"/>
            <a:ext cx="46836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74920" y="4160880"/>
            <a:ext cx="46836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74920" y="4160880"/>
            <a:ext cx="468360" cy="14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74920" y="4160880"/>
            <a:ext cx="46836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374920" y="1017360"/>
            <a:ext cx="32544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74920" y="1557360"/>
            <a:ext cx="32544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66920" y="2637000"/>
            <a:ext cx="18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4920" y="155736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166920" y="1917720"/>
            <a:ext cx="1836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66920" y="2637000"/>
            <a:ext cx="18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66920" y="2637000"/>
            <a:ext cx="1836720" cy="15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6680" y="1631880"/>
            <a:ext cx="927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teri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1916280"/>
            <a:ext cx="36036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26520" y="2784600"/>
            <a:ext cx="11498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terpreta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262560" y="2491920"/>
            <a:ext cx="360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6880" y="2389320"/>
            <a:ext cx="1055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conómic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62560" y="2671920"/>
            <a:ext cx="36036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94880" y="4802040"/>
            <a:ext cx="10738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ranseú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4184640"/>
            <a:ext cx="39528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94520" y="4370400"/>
            <a:ext cx="1207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sumid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4184640"/>
            <a:ext cx="395280" cy="7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84A-40A8-4BB7-9D82-2B0F8C8AEB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40000" y="3392640"/>
            <a:ext cx="790560" cy="24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3440" y="692280"/>
            <a:ext cx="9291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mbi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ent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97400" y="3176640"/>
            <a:ext cx="1526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divid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91240" y="765000"/>
            <a:ext cx="9608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D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25760" y="765000"/>
            <a:ext cx="99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ten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32720" y="1521000"/>
            <a:ext cx="12690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cumul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ting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4520" y="2455920"/>
            <a:ext cx="10126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allos so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2720" y="3465360"/>
            <a:ext cx="14580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fectos en apor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contribu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2360" y="4727520"/>
            <a:ext cx="15174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fectos “Espad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amoc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81880" y="5594400"/>
            <a:ext cx="962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rt. 12 L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5840" y="9079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9079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2720" y="57340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33440" y="5518080"/>
            <a:ext cx="1259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vaciones y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us varian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3906720"/>
            <a:ext cx="14990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uestionamie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las prest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muner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3800" y="4915080"/>
            <a:ext cx="14457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cargos y mul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demnización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p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240000" y="1699920"/>
            <a:ext cx="790560" cy="16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240000" y="2599920"/>
            <a:ext cx="7905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0" y="3392640"/>
            <a:ext cx="7905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0" y="3392640"/>
            <a:ext cx="790560" cy="15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835280" y="116064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3571920"/>
            <a:ext cx="0" cy="13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3608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26400" y="2023920"/>
            <a:ext cx="193320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e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ehícu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c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t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astos de represen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49640" y="3179880"/>
            <a:ext cx="1851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go capital int + mul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9080" y="3579840"/>
            <a:ext cx="1869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ertificación de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74840" y="3971880"/>
            <a:ext cx="1080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ctific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08720" y="3716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506920" y="3319560"/>
            <a:ext cx="324000" cy="3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6920" y="3716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87080" y="4797360"/>
            <a:ext cx="903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43640" y="4976640"/>
            <a:ext cx="3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5280" y="2095560"/>
            <a:ext cx="108000" cy="971640"/>
          </a:xfrm>
          <a:custGeom>
            <a:avLst/>
            <a:gdLst>
              <a:gd name="textAreaLeft" fmla="*/ 69120 w 108000"/>
              <a:gd name="textAreaRight" fmla="*/ 108360 w 108000"/>
              <a:gd name="textAreaTop" fmla="*/ 25200 h 971640"/>
              <a:gd name="textAreaBottom" fmla="*/ 946440 h 9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22880" y="441360"/>
            <a:ext cx="726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ealt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24320" y="1130400"/>
            <a:ext cx="784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fuer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959280" y="58428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9280" y="909720"/>
            <a:ext cx="3254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27640" y="4400640"/>
            <a:ext cx="12704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carg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d. por desp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44200" y="4978440"/>
            <a:ext cx="12002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rregular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gist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02560" y="4614840"/>
            <a:ext cx="32364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02560" y="4938840"/>
            <a:ext cx="32364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18880" y="1197000"/>
            <a:ext cx="12780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staciones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munerato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19240" y="1773360"/>
            <a:ext cx="1557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tratos suces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292720" y="1411200"/>
            <a:ext cx="32400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92720" y="1735200"/>
            <a:ext cx="32400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28680" y="1305000"/>
            <a:ext cx="7858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sant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27600" y="1700280"/>
            <a:ext cx="9212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ventu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27960" y="2278080"/>
            <a:ext cx="1014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tra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r terc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202520" y="1881360"/>
            <a:ext cx="322200" cy="3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201080" y="1449360"/>
            <a:ext cx="323640" cy="46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01080" y="1914480"/>
            <a:ext cx="32364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AF9-FED9-47EA-A8A1-1E60D6DFB6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025520" y="668160"/>
            <a:ext cx="104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oras ext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53400" y="3087720"/>
            <a:ext cx="19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urindivid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70840" y="297000"/>
            <a:ext cx="110736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liquid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23360" y="1554120"/>
            <a:ext cx="12780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staciones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muner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4520" y="2809800"/>
            <a:ext cx="1243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tegoriz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23720" y="3457440"/>
            <a:ext cx="10220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5960" y="4254480"/>
            <a:ext cx="9291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enefici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19040" y="5081760"/>
            <a:ext cx="22395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ransporte – com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uardería – medic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es de salud - capaci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18880" y="1397160"/>
            <a:ext cx="135432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fectos labo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04280" y="2305080"/>
            <a:ext cx="99612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lu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291280" y="2889360"/>
            <a:ext cx="504720" cy="6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91280" y="2954160"/>
            <a:ext cx="504720" cy="40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91280" y="2954160"/>
            <a:ext cx="504720" cy="83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291280" y="2528640"/>
            <a:ext cx="504720" cy="42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076720" y="668160"/>
            <a:ext cx="28908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6720" y="776160"/>
            <a:ext cx="289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27280" y="3241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27280" y="338472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43280" y="295416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43280" y="3673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43280" y="3386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43280" y="29541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239640" y="44658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239640" y="17654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0" y="177336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240000" y="349380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411280" y="799920"/>
            <a:ext cx="0" cy="22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11280" y="34941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410920" y="7779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410920" y="52941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1720" y="820800"/>
            <a:ext cx="115776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l liquid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17080" y="1865160"/>
            <a:ext cx="198360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portes y contribucion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327640" y="1708200"/>
            <a:ext cx="28908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27640" y="181620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64280" y="4060800"/>
            <a:ext cx="93816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espec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968720" y="4376520"/>
            <a:ext cx="289080" cy="10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68720" y="4484520"/>
            <a:ext cx="289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85160" y="4529160"/>
            <a:ext cx="83592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din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97080" y="2728800"/>
            <a:ext cx="144864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uera de conven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98520" y="3160800"/>
            <a:ext cx="110736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02120" y="3592440"/>
            <a:ext cx="59688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t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083D-6EBF-4D76-946F-429A974707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639960" y="944640"/>
            <a:ext cx="15890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TRASINDI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9280" y="2766960"/>
            <a:ext cx="1454040" cy="1022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fli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lec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21320" y="476280"/>
            <a:ext cx="12078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recimient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s deleg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13400" y="1162080"/>
            <a:ext cx="10126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samble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4400" y="3141720"/>
            <a:ext cx="15462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TERSINDI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2720" y="3573360"/>
            <a:ext cx="1278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cuadr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94320" y="3933720"/>
            <a:ext cx="13543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present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04760" y="4513320"/>
            <a:ext cx="15980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TRASINDI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5400" y="5589720"/>
            <a:ext cx="11988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UE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DIG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00320" y="5229360"/>
            <a:ext cx="10828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10120" y="5557680"/>
            <a:ext cx="7430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ter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02120" y="5557680"/>
            <a:ext cx="936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form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99600" y="6097680"/>
            <a:ext cx="10310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conocla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8840" y="3500280"/>
            <a:ext cx="14104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GRUP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LITICA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4080" y="4299120"/>
            <a:ext cx="7416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t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87920" y="4657680"/>
            <a:ext cx="819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ique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25760" y="1522440"/>
            <a:ext cx="11484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BO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LEC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80000" y="4944960"/>
            <a:ext cx="1907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uevos grupos de 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56000" y="1989000"/>
            <a:ext cx="36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4149720"/>
            <a:ext cx="36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28680" y="4149720"/>
            <a:ext cx="144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1640" y="4797360"/>
            <a:ext cx="36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164360" y="3429000"/>
            <a:ext cx="36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43640" y="3429000"/>
            <a:ext cx="144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572000" y="1233360"/>
            <a:ext cx="0" cy="15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0072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48360" y="3645000"/>
            <a:ext cx="1044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2771640" y="173664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87960" y="2136600"/>
            <a:ext cx="13266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invidic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484360" y="3537000"/>
            <a:ext cx="1548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816360" y="3789000"/>
            <a:ext cx="75564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64000" y="537336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64000" y="5805360"/>
            <a:ext cx="43200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256360" y="728280"/>
            <a:ext cx="25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56360" y="1089000"/>
            <a:ext cx="25236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A5C4-D1FE-4900-9268-96EC524122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1200" y="2739960"/>
            <a:ext cx="13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le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39000" y="949320"/>
            <a:ext cx="744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uel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01920" y="2664000"/>
            <a:ext cx="854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d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68520" y="4938840"/>
            <a:ext cx="1950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tervención de par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04120" y="4068720"/>
            <a:ext cx="80100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iol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160880" y="2768400"/>
            <a:ext cx="50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60880" y="2913120"/>
            <a:ext cx="50472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60880" y="2913120"/>
            <a:ext cx="539640" cy="8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32160" y="2935440"/>
            <a:ext cx="25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036880" y="3152880"/>
            <a:ext cx="0" cy="19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92000" y="115920"/>
            <a:ext cx="192420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jeto activo </a:t>
            </a:r>
            <a:r>
              <a:rPr b="0" lang="es-ES_trad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Sindic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110120" y="863280"/>
            <a:ext cx="50472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10120" y="1117440"/>
            <a:ext cx="504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10120" y="1117440"/>
            <a:ext cx="54108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103640" y="296640"/>
            <a:ext cx="289080" cy="82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60880" y="2914560"/>
            <a:ext cx="539640" cy="12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11480" y="3852720"/>
            <a:ext cx="58752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í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516640" y="4048200"/>
            <a:ext cx="269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16640" y="4264200"/>
            <a:ext cx="26964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505240" y="29368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94040" y="4897440"/>
            <a:ext cx="104796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egitimad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302080" y="5114520"/>
            <a:ext cx="2826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03120" y="5315040"/>
            <a:ext cx="945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terc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407400" y="5726160"/>
            <a:ext cx="400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43800" y="5781600"/>
            <a:ext cx="955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u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iquete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13280" y="5775480"/>
            <a:ext cx="784080" cy="91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ti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 gru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lí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13240" y="5689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800160" y="5618160"/>
            <a:ext cx="252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7520" y="5602320"/>
            <a:ext cx="28728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66640" y="5942160"/>
            <a:ext cx="1044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CR  – C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708520" y="6192720"/>
            <a:ext cx="28908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08520" y="630072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97040" y="907920"/>
            <a:ext cx="666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g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60520" y="1095480"/>
            <a:ext cx="9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36880" y="1260360"/>
            <a:ext cx="0" cy="14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14120" y="684360"/>
            <a:ext cx="257940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bstención colectiva y concen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19160" y="1168560"/>
            <a:ext cx="126900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bjeto cole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51560" y="1636560"/>
            <a:ext cx="190584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cedimientos regla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03760" y="2124000"/>
            <a:ext cx="78588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loque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99080" y="2622600"/>
            <a:ext cx="228096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cupación del Establ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03760" y="3097080"/>
            <a:ext cx="78588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abot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05560" y="3584520"/>
            <a:ext cx="60588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o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89880" y="4336920"/>
            <a:ext cx="99612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sicológ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5113440"/>
            <a:ext cx="13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43320" y="571644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52880" y="5905440"/>
            <a:ext cx="755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81600" y="6445080"/>
            <a:ext cx="863280" cy="26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997600" y="6014880"/>
            <a:ext cx="431640" cy="2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997600" y="6302520"/>
            <a:ext cx="431640" cy="25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37240" y="6014880"/>
            <a:ext cx="432000" cy="2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80120" y="4545000"/>
            <a:ext cx="904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did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leg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32520" y="5229360"/>
            <a:ext cx="14241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buso de derec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13200" y="5594400"/>
            <a:ext cx="6058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o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7600" y="5950080"/>
            <a:ext cx="10569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jeto a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70120" y="50864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65400" y="508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25760" y="5086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160880" y="2305080"/>
            <a:ext cx="5396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012440" y="4538520"/>
            <a:ext cx="5022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27200" y="4938840"/>
            <a:ext cx="1107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eder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31520" y="5330880"/>
            <a:ext cx="8863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dic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65760" y="5075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664320" y="4677840"/>
            <a:ext cx="324000" cy="3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64320" y="507528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39480" y="0"/>
            <a:ext cx="1278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personerí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624720" y="368280"/>
            <a:ext cx="15699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eramente inscrip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300720" y="188640"/>
            <a:ext cx="324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300720" y="333360"/>
            <a:ext cx="324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01760" y="3141720"/>
            <a:ext cx="0" cy="14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DD0-49FA-4BB9-A21F-4C9C52B5C5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04320" y="2581200"/>
            <a:ext cx="1497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da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e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16080" y="3297240"/>
            <a:ext cx="9014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F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2680" y="122400"/>
            <a:ext cx="66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uel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86560" y="79200"/>
            <a:ext cx="108468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D NUTU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56120" y="1058760"/>
            <a:ext cx="801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iol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8720" y="826920"/>
            <a:ext cx="127800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nte la empr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960720" y="1101600"/>
            <a:ext cx="28908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60720" y="120960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72320" y="2035080"/>
            <a:ext cx="8024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der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a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08120" y="1765440"/>
            <a:ext cx="122940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der de f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997440" y="2120760"/>
            <a:ext cx="28872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97440" y="2228760"/>
            <a:ext cx="288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89440" y="2143080"/>
            <a:ext cx="0" cy="25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35240" y="3189240"/>
            <a:ext cx="9792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did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61840" y="2995560"/>
            <a:ext cx="125208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der Ejec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141800" y="3176640"/>
            <a:ext cx="30636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41800" y="3495600"/>
            <a:ext cx="306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24360" y="337032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17080" y="4021200"/>
            <a:ext cx="15156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seguridad juríd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19600" y="4525920"/>
            <a:ext cx="962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129120" y="4495680"/>
            <a:ext cx="985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tolog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57560" y="4203720"/>
            <a:ext cx="81792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to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32440" y="4664160"/>
            <a:ext cx="82044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32440" y="4664160"/>
            <a:ext cx="82044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132440" y="4363920"/>
            <a:ext cx="820440" cy="3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41800" y="4665600"/>
            <a:ext cx="811080" cy="11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413080" y="439200"/>
            <a:ext cx="739800" cy="24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413080" y="1353600"/>
            <a:ext cx="71892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13080" y="2938320"/>
            <a:ext cx="7189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13080" y="2938320"/>
            <a:ext cx="71892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44720" y="3297240"/>
            <a:ext cx="179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24000" y="43052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50880" y="1260360"/>
            <a:ext cx="246816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tra los trabajadores disid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06320" y="2378160"/>
            <a:ext cx="118368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uantific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2395440" y="2276280"/>
            <a:ext cx="757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50680" y="3735360"/>
            <a:ext cx="109800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der jud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53960" y="4653000"/>
            <a:ext cx="162684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siones del Es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952880" y="5119560"/>
            <a:ext cx="218484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riminalización de la prot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442640" y="5589720"/>
            <a:ext cx="145476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mbios de reg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441560" y="6076800"/>
            <a:ext cx="155844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sencias de reg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66200" y="5587920"/>
            <a:ext cx="2135880" cy="36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udicialización de la prot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093080" y="5803920"/>
            <a:ext cx="3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93080" y="5803920"/>
            <a:ext cx="3585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896440" y="3392640"/>
            <a:ext cx="7322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usti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912280" y="3970440"/>
            <a:ext cx="689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usti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b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5567400" y="3606480"/>
            <a:ext cx="323640" cy="3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67400" y="3930480"/>
            <a:ext cx="32364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933600" y="3897360"/>
            <a:ext cx="16041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uelga  + violencia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51600" y="4222800"/>
            <a:ext cx="10904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afuero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610320" y="4038480"/>
            <a:ext cx="324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610320" y="4254480"/>
            <a:ext cx="344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869160" y="3465360"/>
            <a:ext cx="903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alojo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59640" y="36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27560" y="647208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diegoj@dediego.com.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D4B-24FD-427E-8937-135DC1EC65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55:24Z</dcterms:created>
  <dc:creator>Marcelo A. Rodriguez</dc:creator>
  <dc:description/>
  <dc:language>en-US</dc:language>
  <cp:lastModifiedBy>C.P.C.E.C.A.B.A</cp:lastModifiedBy>
  <dcterms:modified xsi:type="dcterms:W3CDTF">2010-11-16T16:28:44Z</dcterms:modified>
  <cp:revision>25</cp:revision>
  <dc:subject/>
  <dc:title>Diapositiva 1</dc:title>
</cp:coreProperties>
</file>