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A39F07F-5F6B-4C33-B421-E79E775B02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7FB7D89-725E-4B3F-A2E6-F84DE945D18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1" descr="BANDA BLU OPT BAIRES RAST"/>
          <p:cNvPicPr/>
          <p:nvPr/>
        </p:nvPicPr>
        <p:blipFill>
          <a:blip r:embed="rId2"/>
          <a:stretch/>
        </p:blipFill>
        <p:spPr>
          <a:xfrm>
            <a:off x="0" y="6454800"/>
            <a:ext cx="9144000" cy="401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7" descr="logo UniBaires tagliato"/>
          <p:cNvPicPr/>
          <p:nvPr/>
        </p:nvPicPr>
        <p:blipFill>
          <a:blip r:embed="rId3"/>
          <a:stretch/>
        </p:blipFill>
        <p:spPr>
          <a:xfrm>
            <a:off x="108000" y="208080"/>
            <a:ext cx="1204920" cy="1658880"/>
          </a:xfrm>
          <a:prstGeom prst="rect">
            <a:avLst/>
          </a:prstGeom>
          <a:ln w="0">
            <a:noFill/>
          </a:ln>
        </p:spPr>
      </p:pic>
      <p:sp>
        <p:nvSpPr>
          <p:cNvPr id="2" name="Line 13"/>
          <p:cNvSpPr/>
          <p:nvPr/>
        </p:nvSpPr>
        <p:spPr>
          <a:xfrm>
            <a:off x="88920" y="0"/>
            <a:ext cx="0" cy="1871640"/>
          </a:xfrm>
          <a:prstGeom prst="line">
            <a:avLst/>
          </a:prstGeom>
          <a:ln w="190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0" y="1870200"/>
            <a:ext cx="830592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Line 29"/>
          <p:cNvSpPr/>
          <p:nvPr/>
        </p:nvSpPr>
        <p:spPr>
          <a:xfrm>
            <a:off x="8317080" y="6424560"/>
            <a:ext cx="0" cy="35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Line 30"/>
          <p:cNvSpPr/>
          <p:nvPr/>
        </p:nvSpPr>
        <p:spPr>
          <a:xfrm>
            <a:off x="8317080" y="6093000"/>
            <a:ext cx="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3" descr="logo UniBaires tagliato"/>
          <p:cNvPicPr/>
          <p:nvPr/>
        </p:nvPicPr>
        <p:blipFill>
          <a:blip r:embed="rId2"/>
          <a:stretch/>
        </p:blipFill>
        <p:spPr>
          <a:xfrm>
            <a:off x="108000" y="85680"/>
            <a:ext cx="792000" cy="108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0" descr="BANDA BLU 2 OPT BAIRES RAST"/>
          <p:cNvPicPr/>
          <p:nvPr/>
        </p:nvPicPr>
        <p:blipFill>
          <a:blip r:embed="rId3"/>
          <a:stretch/>
        </p:blipFill>
        <p:spPr>
          <a:xfrm>
            <a:off x="0" y="6454800"/>
            <a:ext cx="9144000" cy="401760"/>
          </a:xfrm>
          <a:prstGeom prst="rect">
            <a:avLst/>
          </a:prstGeom>
          <a:ln w="0">
            <a:noFill/>
          </a:ln>
        </p:spPr>
      </p:pic>
      <p:sp>
        <p:nvSpPr>
          <p:cNvPr id="44" name="Line 13"/>
          <p:cNvSpPr/>
          <p:nvPr/>
        </p:nvSpPr>
        <p:spPr>
          <a:xfrm>
            <a:off x="82440" y="0"/>
            <a:ext cx="1800" cy="1184400"/>
          </a:xfrm>
          <a:prstGeom prst="line">
            <a:avLst/>
          </a:prstGeom>
          <a:ln w="171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Line 14"/>
          <p:cNvSpPr/>
          <p:nvPr/>
        </p:nvSpPr>
        <p:spPr>
          <a:xfrm>
            <a:off x="0" y="1182600"/>
            <a:ext cx="8265960" cy="180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Line 28"/>
          <p:cNvSpPr/>
          <p:nvPr/>
        </p:nvSpPr>
        <p:spPr>
          <a:xfrm>
            <a:off x="8317080" y="6424560"/>
            <a:ext cx="0" cy="35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Line 29"/>
          <p:cNvSpPr/>
          <p:nvPr/>
        </p:nvSpPr>
        <p:spPr>
          <a:xfrm>
            <a:off x="8317080" y="6093000"/>
            <a:ext cx="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7"/>
          <p:cNvSpPr/>
          <p:nvPr/>
        </p:nvSpPr>
        <p:spPr>
          <a:xfrm>
            <a:off x="0" y="2133720"/>
            <a:ext cx="91440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Los Líderes de Organizaciones e Instituciones en la Era Global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33"/>
                </a:solidFill>
                <a:latin typeface="Arial"/>
              </a:rPr>
              <a:t>Giorgio Albert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33"/>
                </a:solidFill>
                <a:latin typeface="Arial"/>
              </a:rPr>
              <a:t>Ex Director y Fundador de la UNIBO en Argentin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33"/>
                </a:solidFill>
                <a:latin typeface="Arial"/>
              </a:rPr>
              <a:t>II Bienal de Management “Líderes en Acción”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33"/>
                </a:solidFill>
                <a:latin typeface="Arial"/>
              </a:rPr>
              <a:t>Consejo Profesional de Ciencias Económicas CABA</a:t>
            </a:r>
            <a:br>
              <a:rPr sz="2000"/>
            </a:br>
            <a:r>
              <a:rPr b="0" i="1" lang="it-IT" sz="2000" spc="-1" strike="noStrike">
                <a:solidFill>
                  <a:srgbClr val="333333"/>
                </a:solidFill>
                <a:latin typeface="Arial"/>
              </a:rPr>
              <a:t>Buenos Aires 10 de noviembre de 201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ctores de buen lideraz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91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líder se basa en 4 tipos de conocimie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 uno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 la red social mas cercana, su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 la organización que li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l contexto en el que op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lación Líder - Equ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líder debe elegir colaboradores de alto ni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be desarrollar una visión que plasme en un 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guión escrito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y comparta con su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be disponer de toda la información posible, tanto técnica como política relevante para sus dec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be asegurarse que las decisiones sean ejecu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Líder Global tiene que estar particularmente atento a los factores contextuales (internos/externos) de sus a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RGANIZACIÓN COMO INSTITUCIÓN</a:t>
            </a:r>
            <a:br>
              <a:rPr sz="32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 sólo eficiencia y eficacia, también legitim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dimensión contextual final es la comunidad social mas amplia donde pera la organizació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lideres de las compañías están obligados a contar con un punto de vista enseñable sobre ciudadanía e implicar a los miembros de su equipo en trabajos comunit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propósito de estas iniciativas es ver que con el liderazgo adecuado el presidente ejecutivo impulsa a sus empleados para que formen parte del desafío de convertir la compañía en una organización. Que compense a las comunidades donde opera” (Tichy and Bennis, 2010: 317-3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3"/>
          <p:cNvSpPr/>
          <p:nvPr/>
        </p:nvSpPr>
        <p:spPr>
          <a:xfrm>
            <a:off x="76320" y="3654360"/>
            <a:ext cx="89978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me Cognom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uttura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atti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www.ba.unibo.i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7" name="Picture 25" descr="LOGO BUENOS AIRES"/>
          <p:cNvPicPr/>
          <p:nvPr/>
        </p:nvPicPr>
        <p:blipFill>
          <a:blip r:embed="rId1"/>
          <a:stretch/>
        </p:blipFill>
        <p:spPr>
          <a:xfrm>
            <a:off x="3624120" y="1438200"/>
            <a:ext cx="18957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EMI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NO EXISTE UN MODELO UNICO DE LIDERAZ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INCIPALES FAC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DIVID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EXTUALES: ETAPAS DE DESARROLLO  DEL CAPIT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S ORGANIZ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ATURALEZA DE LOS REGIMENES POLI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CTORES CULTURALES; VALORES, NORMAS Y CONDUCTAS EN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SIS PRINCIPAL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OS LIDERES DE ORGANIZACIONES EN LA ERA DE LA    GLOBALIZACION TIENEN EL DESAFÍO DE TRASFORMAR A LAS MISMAS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lo, es necesaria una aclaración conceptual y un esbozo histórico que permitan entender los cambios en las formas de organización y en los respectivos estilos de liderazgo hasta llegar a la etapa actual en el contexto glob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ACLARACIÓN CONCEPTUAL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CUAL ES LA DIFERENCIA ENTRE UNA ORGANIZACIÓN Y UNA INSTITUCIÓN?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BOZO HISTÓR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TAPAS DEL DESARROLLO CAPITALISTA Y MODELOS ORGANIZ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LO DE 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YLORISMO Y FORDISMO (1900-1970) – LIDER AUTORIT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HE SECOND INDUSTRIAL DIVIDE: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ODUCCION EN BASE A LA ESPECIALIZACIÓN FLEXIBLE – LIDER ABIERTO Y PARTICIP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PRESA GLOBAL – LIDER GLOBAL MULTIFU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AYLORISMO/FORDISMO - LIDERAZ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Gran empresa horizontal y verticalmente integ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celación de las tareas comple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tandardización de procesos y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ducción en grandes l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rganización vertical y burocrática de la autoridad (One bes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CIALIZACION FLEXIBLE - LIDERAZG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RANDES CAMBIOS EN LOS MERCADOS DURANTE LOS 60´s y 70´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ar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onalización de la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UEVOS MODELOS ORGANIZ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trucción de cadena de valor: trabajo, inversión, conocimiento, innovación en productos y proce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presas con altos grados de flexibilidad y especialización en la cadena de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ubrimiento del factor humano relacional, como capital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mbios profundos en Grandes Empresas: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LOOSELY COUPLED ORGANIZATION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MPRESA GLOBAL - LIDERAZ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aparece la distinción entre mercado domestico y mercado internac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Globalización ya está en casa: cantidad, calidad, precio de los productos, niveles de productividad, tenían antes un referente doméstico, ahora se determinan en gran parte, en el contexto glob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Globalización difunde también “nuevos” valores socio-culturales a nivel mundial: la agenda medioambiental, los derechos humanos, la pobrez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MPRESA GLOBAL – LIDERAZGO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líder global deberá tener conocimientos específicos y al mismo tiempo multidisciplin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decisión no es resultado de la intuición pers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líder es quien tiene la última palabra, asume por ende la responsabilidad y acepta la rendición de cuentas de sus decisi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DECISCIONES SON LOS  FACTORES ESTRATÉGICOS DE LAS ORGANIZ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Flor</dc:creator>
  <dc:description/>
  <dc:language>en-US</dc:language>
  <cp:lastModifiedBy>C.P.C.E.C.A.B.A</cp:lastModifiedBy>
  <cp:lastPrinted>2009-04-22T19:24:48Z</cp:lastPrinted>
  <dcterms:modified xsi:type="dcterms:W3CDTF">2010-11-10T16:41:18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