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png" ContentType="image/png"/>
  <Override PartName="/ppt/media/image8.png" ContentType="image/png"/>
  <Override PartName="/ppt/media/image18.jpeg" ContentType="image/jpeg"/>
  <Override PartName="/ppt/media/image7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6593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652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1BC-476C-48D6-85AA-3582FC1BA1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BCB8-D5CE-4520-91AC-859BC1E035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1E8D-60E6-4B71-BCAF-4409D6BC4D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430E-2FAE-45D3-9F6B-073B9F97A3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120" y="464796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9EFF-4398-4305-8734-5799AA3200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D077-6420-421F-B081-3C7C1ABCA7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7A06-296A-4623-808E-9EFF1632A8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787F-4BDB-4CB8-A658-4D042695EE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3AD5-D211-4818-8FF1-EA8C0DCBC8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A61E-EA09-429B-89DF-E26EBB622D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A9AA-622B-4243-9EB6-1C295627CE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BE0-5B17-4BB3-BD8C-73275C0C56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9D19-FB2E-458A-98C1-78B85457FC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756-CD6F-484D-9EC5-58840FD167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0C50-EB49-4B3B-A99E-73739E319E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C871-8FCE-4588-A795-0AF6CBBE5D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1B7-457E-4983-B340-1315E290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B64-FB50-4397-B9AE-BC08D9E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BE4-3F6E-480B-B6FA-C4C52C66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6B1-79B6-473E-9701-90F8B891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9230-3BBD-43C2-9023-81D20017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2408-4167-4873-8014-BACBE325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B419-1777-47BB-9CBC-0C389451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3B1A-EAAE-43C0-ACA9-F92E55CA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218C-B30D-496E-83D8-A3D579E6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5CD2-450C-48F9-B4C4-3C5C019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C874-1206-44AC-A1C9-14B7B783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D34-8B87-44D7-A5FA-5F1E6634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EED-901B-4E92-8D5C-CC40D2E9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38D8-1C52-420F-B351-DB15E6B9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F69-7227-42BA-9AA9-E1408A6E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4E01-7BB8-4056-8C3C-F2C6613B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13C3-21CA-41C1-B06F-73F5ADA4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968-59C2-45FA-9621-0A8334A3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10C-A8F7-483F-B25A-8F54129F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A1C-3F7E-4444-8E7D-00AE6E63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6FC-9BED-4764-BFBF-2688018B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899-271E-48A1-8637-8E5164C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C47-C6EB-465B-9AAA-62D9FA46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190-7246-4939-B279-6867723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A563-B849-4651-9E50-149E1ABAA1C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imes New Roman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6FFF-15C7-4D6C-8584-F5E1059F4FA5}" type="slidenum">
              <a:rPr b="0" lang="es-E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3.bp.blogspot.com/_sW1ZRVz2pFE/SwLudIfaV8I/AAAAAAAAAAw/lJwL_cC9qdk/s1600/LENGUAJE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Victory-garde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226360" cy="42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II Jornadas de Resolución de Conflictos, Innovación &amp; Nuevas Tecnologías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 – 9 de Noviembre 2012</a:t>
            </a:r>
            <a:br>
              <a:rPr sz="3200"/>
            </a:br>
            <a:br>
              <a:rPr sz="3200"/>
            </a:br>
            <a:r>
              <a:rPr b="1" lang="es-E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s-ES" sz="3200" spc="-1" strike="noStrike">
                <a:solidFill>
                  <a:srgbClr val="009999"/>
                </a:solidFill>
                <a:latin typeface="Tahoma"/>
              </a:rPr>
              <a:t>Dra. Alicia Millán</a:t>
            </a:r>
            <a:br>
              <a:rPr sz="3200"/>
            </a:br>
            <a:r>
              <a:rPr b="1" lang="es-ES" sz="3200" spc="-1" strike="noStrike">
                <a:solidFill>
                  <a:srgbClr val="009999"/>
                </a:solidFill>
                <a:latin typeface="Tahoma"/>
              </a:rPr>
              <a:t>Directora del Centro de Mediación CPCECAB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116240" y="5334120"/>
            <a:ext cx="502776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2400" spc="-1" strike="noStrike">
              <a:solidFill>
                <a:srgbClr val="009999"/>
              </a:solidFill>
              <a:latin typeface="Tahoma"/>
            </a:endParaRPr>
          </a:p>
        </p:txBody>
      </p:sp>
      <p:pic>
        <p:nvPicPr>
          <p:cNvPr id="108" name="3 Imagen" descr="consejocaba.jpg"/>
          <p:cNvPicPr/>
          <p:nvPr/>
        </p:nvPicPr>
        <p:blipFill>
          <a:blip r:embed="rId1"/>
          <a:stretch/>
        </p:blipFill>
        <p:spPr>
          <a:xfrm>
            <a:off x="6286680" y="4929120"/>
            <a:ext cx="2286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65E8-840C-4110-85FE-39D81EEBFFC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4089240" cy="533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363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6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7558-77BB-4C1F-8FD9-C086985EF9C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Modelos de Pedagogía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Reproducció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Imagin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3429000" cy="272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2001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9E03-6545-46FB-B95C-EB250FB1614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333399"/>
                </a:solidFill>
                <a:latin typeface="Tahoma"/>
              </a:rPr>
              <a:t>Contexto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371600" y="3029040"/>
            <a:ext cx="3805200" cy="251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34383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501-2334-46C0-9087-9DE3D1895B5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600200" y="2995560"/>
            <a:ext cx="3567240" cy="2597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297180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838-89FD-4ECD-AF86-D3D83CDE222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4" descr="LENGUAJ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071800"/>
            <a:ext cx="7786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7222-FC84-4523-9A75-294D6C6D370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220px-Victory-gard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500040"/>
            <a:ext cx="771552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573D-AFA9-4D9E-9348-9024C5691BC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0000"/>
                </a:solidFill>
                <a:latin typeface="Tahoma"/>
              </a:rPr>
              <a:t>Muchas Gracias!!!!!!!!!!!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7575d1"/>
                </a:solidFill>
                <a:latin typeface="Tahoma"/>
              </a:rPr>
              <a:t>amillan_mediacion@consejo.org.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cc"/>
                </a:solidFill>
                <a:latin typeface="Tahoma"/>
              </a:rPr>
              <a:t>amillan@untref.edu.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3333cc"/>
                </a:solidFill>
                <a:latin typeface="Tahoma"/>
              </a:rPr>
              <a:t>4371-5669/8239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B13C-FC18-4348-A86F-553C96C47E3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ahoma"/>
              </a:rPr>
              <a:t>La globalización debe estar al servicio del desarrollo humano en el total respeto de los derechos y de la dignidad de todas las persona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Juan Pabl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Sesión Plenaria de la Pontificia Academia de Ciencias Sociales – Vaticano mayo 200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79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5B1B-4A0B-4C66-A761-AA42C0D107B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Tahoma"/>
              </a:rPr>
              <a:t>Sin desarrollo social paralelo no habrá desarrollo económico satisfactorio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James Wolfensohn (19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13A2-667D-4520-B17C-07427F5A6C0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Son estrategias para el desarrollo económico las capacidades existentes en una sociedad para resolver disputas, impulsar consensos, concertar al Estado y al sector privado (Capital Social, Cultura y Desarrol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ernardo Kliksberg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Documento publicado por el INDEES – Washingt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7880-43ED-44E7-A824-AA5CB1591E5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333399"/>
                </a:solidFill>
                <a:latin typeface="Tahoma"/>
              </a:rPr>
              <a:t>Educación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2909880" cy="217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374328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9F9-C2D2-4904-A1DD-92793C40EE5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826920" y="1752480"/>
            <a:ext cx="79218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Educar es precisamente promover lo humano y construir humanidad”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Phillip  Merie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7405560" y="0"/>
            <a:ext cx="1738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9ABD-F7AA-414D-A21F-9D167FEF8D2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8128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Verdana"/>
              </a:rPr>
              <a:t>La educación para comprender es un aspecto crítico de nuestro futuro más inmediato.</a:t>
            </a:r>
            <a:r>
              <a:rPr b="0" lang="es-AR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Edgard Morí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3366-5C99-4A7C-8AA7-513AA584289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cc3300"/>
                </a:solidFill>
                <a:latin typeface="Tahoma"/>
              </a:rPr>
              <a:t>Formación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j0090336"/>
          <p:cNvPicPr/>
          <p:nvPr/>
        </p:nvPicPr>
        <p:blipFill>
          <a:blip r:embed="rId1"/>
          <a:stretch/>
        </p:blipFill>
        <p:spPr>
          <a:xfrm>
            <a:off x="3124080" y="228600"/>
            <a:ext cx="4267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4 Marcador de pie de página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ra. Alicia Millán. Reservados todos los derech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E22F-527F-413F-9E96-A6D634DD4B2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5989680" cy="3147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2508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8:39:44Z</dcterms:created>
  <dc:creator>CPCECABA</dc:creator>
  <dc:description/>
  <dc:language>en-US</dc:language>
  <cp:lastModifiedBy>Usuario</cp:lastModifiedBy>
  <dcterms:modified xsi:type="dcterms:W3CDTF">2012-11-08T03:45:07Z</dcterms:modified>
  <cp:revision>88</cp:revision>
  <dc:subject/>
  <dc:title>Presentación de PowerPoint</dc:title>
</cp:coreProperties>
</file>