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40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8B5-24CC-4A5E-8111-BACDAE73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096-99CC-4DB3-96D5-DA726D5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B49-BD7D-401D-B13B-3B2832BD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83B-023A-4B92-8624-8BFE8F55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151-1D8F-4EFA-A258-D7211645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11A-388F-40D0-ACF6-A2177BC6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C3D-48A1-41EB-B0C0-144EFE2B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265-98CC-4CE6-B7F0-F241F6E2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AC3-DCE1-4026-BA57-BA0FE11B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FC3-F14F-431B-A90F-EB83422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7E4-3604-4636-9780-C01B1E1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EF8-9D47-4D87-9348-84FF9490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6C49-AFEA-4FB6-AE23-6A23380A6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image" Target="../media/image50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341360"/>
            <a:ext cx="9036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Garamond"/>
                <a:ea typeface="ＭＳ Ｐゴシック"/>
              </a:rPr>
              <a:t>2da Media Jornada Regional </a:t>
            </a:r>
            <a:br>
              <a:rPr sz="1800"/>
            </a:br>
            <a:r>
              <a:rPr b="1" lang="es-ES_tradnl" sz="1800" spc="-1" strike="noStrike">
                <a:solidFill>
                  <a:srgbClr val="333399"/>
                </a:solidFill>
                <a:latin typeface="Garamond"/>
                <a:ea typeface="ＭＳ Ｐゴシック"/>
              </a:rPr>
              <a:t>de Resolución de Conflictos, Innovación &amp; Nuevas Tecn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Garamond"/>
                <a:ea typeface="ＭＳ Ｐゴシック"/>
              </a:rPr>
              <a:t>09 de Noviembre de 2012, Ciudad Autónoma de Buenos Aires,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Organizada Odr Latinoamérica &amp; el Consejo Profesional de Ciencias Económicas de CA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Garamond"/>
              </a:rPr>
              <a:t>Nuevas Tecnologías en la Resolución de Conflictos en Ámbitos Público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Garamond"/>
              </a:rPr>
              <a:t>Expositora: María Débora Fort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236000" y="5516640"/>
            <a:ext cx="1008000" cy="303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58920" y="5445000"/>
          <a:ext cx="647640" cy="59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5445000"/>
                    <a:ext cx="6476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132360" y="5209920"/>
            <a:ext cx="17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      </a:t>
            </a:r>
            <a:r>
              <a:rPr b="1" lang="es-ES" sz="900" spc="-1" strike="noStrike">
                <a:solidFill>
                  <a:srgbClr val="808080"/>
                </a:solidFill>
                <a:latin typeface="Arial"/>
                <a:ea typeface="Times New Roman"/>
              </a:rPr>
              <a:t>MINISTERIO DE JUSTI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808080"/>
                </a:solidFill>
                <a:latin typeface="Arial"/>
                <a:ea typeface="Times New Roman"/>
              </a:rPr>
              <a:t>     </a:t>
            </a:r>
            <a:r>
              <a:rPr b="1" lang="es-ES" sz="900" spc="-1" strike="noStrike">
                <a:solidFill>
                  <a:srgbClr val="808080"/>
                </a:solidFill>
                <a:latin typeface="Arial"/>
                <a:ea typeface="Times New Roman"/>
              </a:rPr>
              <a:t>Y DERECHOS HUMAN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419640" y="5589720"/>
            <a:ext cx="14396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042920" y="1052640"/>
            <a:ext cx="2592360" cy="8636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1125360"/>
            <a:ext cx="24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66"/>
                </a:solidFill>
                <a:latin typeface="Verdana"/>
              </a:rPr>
              <a:t>CI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66"/>
                </a:solidFill>
                <a:latin typeface="Verdana"/>
              </a:rPr>
              <a:t>JURÍ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191628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2637000"/>
            <a:ext cx="1800360" cy="6476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2695680"/>
            <a:ext cx="2160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66"/>
                </a:solidFill>
                <a:latin typeface="Verdana"/>
              </a:rPr>
              <a:t>LA LEY ES IG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AR" sz="1200" spc="-1" strike="noStrike">
                <a:solidFill>
                  <a:srgbClr val="000066"/>
                </a:solidFill>
                <a:latin typeface="Verdana"/>
              </a:rPr>
              <a:t>PARA 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95640" y="2637000"/>
            <a:ext cx="2089080" cy="7920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278136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66"/>
                </a:solidFill>
                <a:latin typeface="Verdana"/>
              </a:rPr>
              <a:t>LA SENTENCIA ES DIFERENTE EN CADA CA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280" y="4148280"/>
            <a:ext cx="4105440" cy="1152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22100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Verdana"/>
              </a:rPr>
              <a:t>PARADIG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Verdana"/>
              </a:rPr>
              <a:t>JUSTICIA SANCION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268360" y="314172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0920" y="2852640"/>
            <a:ext cx="50328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1280" y="1341360"/>
            <a:ext cx="5148360" cy="1944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2349360"/>
            <a:ext cx="3529080" cy="9352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9080" y="1989000"/>
            <a:ext cx="3888000" cy="12956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11640" y="1628640"/>
            <a:ext cx="453708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Verdana"/>
              </a:rPr>
              <a:t>PARADIGMA DE JUSTICIA RESTAURATIVA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Verdana"/>
              <a:ea typeface="Verdana"/>
            </a:endParaRPr>
          </a:p>
        </p:txBody>
      </p:sp>
      <p:cxnSp>
        <p:nvCxnSpPr>
          <p:cNvPr id="321" name=""/>
          <p:cNvCxnSpPr/>
          <p:nvPr/>
        </p:nvCxnSpPr>
        <p:spPr>
          <a:xfrm flipH="1" rot="16200000">
            <a:off x="3006000" y="2439720"/>
            <a:ext cx="791280" cy="219780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2" name=""/>
          <p:cNvCxnSpPr/>
          <p:nvPr/>
        </p:nvCxnSpPr>
        <p:spPr>
          <a:xfrm rot="5400000">
            <a:off x="5148000" y="2709720"/>
            <a:ext cx="576360" cy="1872360"/>
          </a:xfrm>
          <a:prstGeom prst="curvedConnector2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323" name=""/>
          <p:cNvCxnSpPr>
            <a:stCxn id="311" idx="1"/>
          </p:cNvCxnSpPr>
          <p:nvPr/>
        </p:nvCxnSpPr>
        <p:spPr>
          <a:xfrm flipH="1" rot="16200000">
            <a:off x="2712240" y="2541960"/>
            <a:ext cx="2766240" cy="3186720"/>
          </a:xfrm>
          <a:prstGeom prst="curvedConnector5">
            <a:avLst>
              <a:gd name="adj1" fmla="val -12456"/>
              <a:gd name="adj2" fmla="val 38978"/>
              <a:gd name="adj3" fmla="val -12456"/>
            </a:avLst>
          </a:prstGeom>
          <a:ln w="9360">
            <a:solidFill>
              <a:srgbClr val="003300"/>
            </a:solidFill>
            <a:prstDash val="sysDot"/>
            <a:miter/>
            <a:tailEnd len="med" type="triangle" w="med"/>
          </a:ln>
        </p:spPr>
      </p:cxnSp>
      <p:cxnSp>
        <p:nvCxnSpPr>
          <p:cNvPr id="324" name=""/>
          <p:cNvCxnSpPr>
            <a:stCxn id="317" idx="5"/>
          </p:cNvCxnSpPr>
          <p:nvPr/>
        </p:nvCxnSpPr>
        <p:spPr>
          <a:xfrm rot="5400000">
            <a:off x="6355080" y="3739680"/>
            <a:ext cx="2627640" cy="1152720"/>
          </a:xfrm>
          <a:prstGeom prst="curvedConnector5">
            <a:avLst>
              <a:gd name="adj1" fmla="val 55343"/>
              <a:gd name="adj2" fmla="val 49984"/>
              <a:gd name="adj3" fmla="val 553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435640" y="5373720"/>
            <a:ext cx="1871640" cy="129528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08720" y="5516640"/>
            <a:ext cx="165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Verdana"/>
              </a:rPr>
              <a:t>EL MEDIADOR COMO GESTOR DE PROCESOS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>
            <a:endCxn id="312" idx="1"/>
          </p:cNvCxnSpPr>
          <p:nvPr/>
        </p:nvCxnSpPr>
        <p:spPr>
          <a:xfrm rot="10800000">
            <a:off x="2410560" y="3101400"/>
            <a:ext cx="3158280" cy="2559600"/>
          </a:xfrm>
          <a:prstGeom prst="curvedConnector5">
            <a:avLst>
              <a:gd name="adj1" fmla="val 107238"/>
              <a:gd name="adj2" fmla="val 49992"/>
              <a:gd name="adj3" fmla="val 107238"/>
            </a:avLst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1042920" y="260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66"/>
                </a:solidFill>
                <a:latin typeface="Verdana"/>
              </a:rPr>
              <a:t>La Mediación como instrumento de cohes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786200" y="2276640"/>
            <a:ext cx="324180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333399"/>
                </a:solidFill>
                <a:latin typeface="Verdana"/>
              </a:rPr>
              <a:t>RESPONSABILIDAD SOCIAL COMPARTIDA</a:t>
            </a:r>
            <a:endParaRPr b="1" lang="en-US" sz="1200" spc="1" strike="noStrike">
              <a:ln w="0">
                <a:noFill/>
              </a:ln>
              <a:solidFill>
                <a:srgbClr val="333399"/>
              </a:solidFill>
              <a:latin typeface="Verdana"/>
              <a:ea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788000" y="2203560"/>
            <a:ext cx="331308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333399"/>
                </a:solidFill>
                <a:latin typeface="Verdana"/>
              </a:rPr>
              <a:t>AUTOGESTIÓN DE LAS DIFERENCIAS</a:t>
            </a:r>
            <a:endParaRPr b="1" lang="en-US" sz="1200" spc="1" strike="noStrike">
              <a:ln w="0">
                <a:noFill/>
              </a:ln>
              <a:solidFill>
                <a:srgbClr val="333399"/>
              </a:solidFill>
              <a:latin typeface="Verdana"/>
              <a:ea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27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500"/>
                            </p:stCondLst>
                            <p:childTnLst>
                              <p:par>
                                <p:cTn id="6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500"/>
                            </p:stCondLst>
                            <p:childTnLst>
                              <p:par>
                                <p:cTn id="6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7000"/>
                            </p:stCondLst>
                            <p:childTnLst>
                              <p:par>
                                <p:cTn id="7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7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6000"/>
                            </p:stCondLst>
                            <p:childTnLst>
                              <p:par>
                                <p:cTn id="7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8500"/>
                            </p:stCondLst>
                            <p:childTnLst>
                              <p:par>
                                <p:cTn id="7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-3240"/>
            <a:ext cx="73454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835280"/>
            <a:ext cx="8353440" cy="4402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71640" y="383544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99"/>
                </a:solidFill>
                <a:latin typeface="Verdana"/>
              </a:rPr>
              <a:t>Innovación y Tecnología aplicadas a la  Negociación y Med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21440" y="369252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Resolución de Conflictos en la Era  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2517840" y="204120"/>
            <a:ext cx="10690200" cy="660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08" y="22"/>
                </a:moveTo>
                <a:arcTo wR="10800" hR="10800" stAng="-5620528" swAng="5855899"/>
                <a:lnTo>
                  <a:pt x="10800" y="10800"/>
                </a:lnTo>
                <a:close/>
              </a:path>
              <a:path fill="none" w="21600" h="21600">
                <a:moveTo>
                  <a:pt x="10108" y="22"/>
                </a:moveTo>
                <a:arcTo wR="10800" hR="10800" stAng="-5620528" swAng="5855899"/>
              </a:path>
            </a:pathLst>
          </a:cu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2917440" y="1268280"/>
            <a:ext cx="11089440" cy="446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9" y="0"/>
                </a:moveTo>
                <a:arcTo wR="10800" hR="10800" stAng="-5384388" swAng="5384388"/>
                <a:lnTo>
                  <a:pt x="10800" y="10800"/>
                </a:lnTo>
                <a:close/>
              </a:path>
              <a:path fill="none" w="21600" h="21600">
                <a:moveTo>
                  <a:pt x="10849" y="0"/>
                </a:moveTo>
                <a:arcTo wR="10800" hR="10800" stAng="-5384388" swAng="5384388"/>
              </a:path>
            </a:pathLst>
          </a:cu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45960"/>
            <a:ext cx="6985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Verdana"/>
              </a:rPr>
              <a:t>EL ÁMBITO PÚBLICO COMO PUNTO DE ARTICUL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Verdana"/>
              </a:rPr>
              <a:t>DE LOS PROCESOS EN MAR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224200">
            <a:off x="5880240" y="2791440"/>
            <a:ext cx="330984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innovación al servicio de la Comunidad</a:t>
            </a:r>
            <a:endParaRPr b="0" lang="en-US" sz="1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498920" y="1052640"/>
            <a:ext cx="144360" cy="540072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05160" y="1971720"/>
            <a:ext cx="43336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6000" y="5013360"/>
            <a:ext cx="89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¿Pero cómo es que los aspectos sociales siguen siendo la Cenicienta del conocimie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10920" y="2204640"/>
            <a:ext cx="8064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gest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ig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sualidad                                                                                                                                                        medició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spectos sociales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2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ff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proceso dialóg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x                                                       </a:t>
            </a:r>
            <a:r>
              <a:rPr b="1" lang="pt-BR" sz="1200" spc="-1" strike="noStrike">
                <a:solidFill>
                  <a:srgbClr val="333399"/>
                </a:solidFill>
                <a:latin typeface="Arial"/>
              </a:rPr>
              <a:t>x 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ff00"/>
                </a:solidFill>
                <a:latin typeface="Arial"/>
              </a:rPr>
              <a:t> x  </a:t>
            </a:r>
            <a:r>
              <a:rPr b="1" lang="pt-BR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200" spc="-1" strike="noStrike">
                <a:solidFill>
                  <a:srgbClr val="0000cc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</a:t>
            </a:r>
            <a:r>
              <a:rPr b="1" lang="pt-BR" sz="10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________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spectos económicos                                                                  as. sanitarios                   as. energé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I           N          C         E         R         T         I          D          U          M           B          R             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260280"/>
          <a:ext cx="57636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5763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58920" y="333360"/>
            <a:ext cx="1079640" cy="57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4000" y="6093000"/>
            <a:ext cx="521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Gian Piero Turchi – en Conferencia Universidad Siglo XXI ,Córdoba 10-11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348000" y="620640"/>
            <a:ext cx="26640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7"/>
          <p:cNvSpPr/>
          <p:nvPr/>
        </p:nvSpPr>
        <p:spPr>
          <a:xfrm>
            <a:off x="1828800" y="12952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828800" y="3504960"/>
            <a:ext cx="56386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828800" y="1268280"/>
            <a:ext cx="5695920" cy="22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828800" y="2514240"/>
            <a:ext cx="2971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828800" y="3581280"/>
            <a:ext cx="2971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800600" y="2514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0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Generación de una nueva matriz organizativa</a:t>
            </a:r>
            <a:br>
              <a:rPr sz="1600"/>
            </a:br>
            <a:r>
              <a:rPr b="1" lang="it-IT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en un espacio pluridimen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1835280" y="1268280"/>
            <a:ext cx="4614840" cy="515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1828800" y="5943600"/>
            <a:ext cx="4614840" cy="509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0"/>
          <p:cNvSpPr/>
          <p:nvPr/>
        </p:nvSpPr>
        <p:spPr>
          <a:xfrm flipH="1">
            <a:off x="6516360" y="3500280"/>
            <a:ext cx="934920" cy="2953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76320" y="3276720"/>
            <a:ext cx="172692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Garamond"/>
                <a:ea typeface="ＭＳ Ｐゴシック"/>
              </a:rPr>
              <a:t>Objetivo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596360" y="3213000"/>
            <a:ext cx="1425240" cy="7038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Garamond"/>
                <a:ea typeface="ＭＳ Ｐゴシック"/>
              </a:rPr>
              <a:t>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280" y="4149720"/>
            <a:ext cx="16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restablecer la potestad autónoma de las partes respecto de la gestión del conflicto o controv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3789360"/>
            <a:ext cx="0" cy="43164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789360"/>
            <a:ext cx="0" cy="43164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08720" y="4365720"/>
            <a:ext cx="16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99"/>
                </a:solidFill>
                <a:latin typeface="Arial"/>
              </a:rPr>
              <a:t>Responsabilidad social compartida, cohesión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 rot="18821400">
            <a:off x="3071160" y="1785960"/>
            <a:ext cx="487440" cy="1071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196400">
            <a:off x="3203280" y="148392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cc"/>
                </a:solidFill>
                <a:latin typeface="Arial"/>
              </a:rPr>
              <a:t>Provincias con Legislación en Med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421600">
            <a:off x="1980000" y="299700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66"/>
                </a:solidFill>
                <a:latin typeface="Arial"/>
              </a:rPr>
              <a:t>PARADIGMA DE JUSTICIA SANCIONATO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 rot="18821400">
            <a:off x="2279160" y="2129040"/>
            <a:ext cx="487440" cy="10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rot="16722000">
            <a:off x="818280" y="2142360"/>
            <a:ext cx="114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cc"/>
                </a:solidFill>
                <a:latin typeface="Arial"/>
              </a:rPr>
              <a:t>Provincias sin Legislación en Med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7438400">
            <a:off x="5467320" y="4776480"/>
            <a:ext cx="244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66"/>
                </a:solidFill>
                <a:latin typeface="Arial"/>
              </a:rPr>
              <a:t>PARADIGMA DE JUSTICIA REPARAD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68800">
            <a:off x="3209040" y="5847840"/>
            <a:ext cx="21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RED SALUDABLE DE SERV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9788600">
            <a:off x="2268720" y="443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788600">
            <a:off x="5077080" y="321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181600">
            <a:off x="3491640" y="465264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cc"/>
                </a:solidFill>
                <a:latin typeface="Arial"/>
              </a:rPr>
              <a:t>Comportamientos organiz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12000" y="5084640"/>
            <a:ext cx="223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cc"/>
                </a:solidFill>
                <a:latin typeface="Arial"/>
              </a:rPr>
              <a:t>participación de parte de los ciudadanos respecto a la definición y a la gestión de los criterios de la justicia mi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004080"/>
            <a:ext cx="2592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cc"/>
                </a:solidFill>
                <a:latin typeface="Arial"/>
              </a:rPr>
              <a:t>Diferencia entre prevención y promo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cc"/>
                </a:solidFill>
                <a:latin typeface="Arial"/>
              </a:rPr>
              <a:t>No se impide que algo suceda sino que se hace de modo que sucedan otras cosas diferent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331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Provincias con Legislación en Med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092560" y="4653000"/>
            <a:ext cx="959040" cy="2104920"/>
          </a:xfrm>
          <a:prstGeom prst="rect">
            <a:avLst/>
          </a:prstGeom>
          <a:ln w="0">
            <a:noFill/>
          </a:ln>
        </p:spPr>
      </p:pic>
      <p:grpSp>
        <p:nvGrpSpPr>
          <p:cNvPr id="95" name="11 Forma libre"/>
          <p:cNvGrpSpPr/>
          <p:nvPr/>
        </p:nvGrpSpPr>
        <p:grpSpPr>
          <a:xfrm>
            <a:off x="5114880" y="2743200"/>
            <a:ext cx="1004760" cy="1420560"/>
            <a:chOff x="5114880" y="2743200"/>
            <a:chExt cx="1004760" cy="1420560"/>
          </a:xfrm>
        </p:grpSpPr>
        <p:pic>
          <p:nvPicPr>
            <p:cNvPr id="96" name="11 Forma libre" descr=""/>
            <p:cNvPicPr/>
            <p:nvPr/>
          </p:nvPicPr>
          <p:blipFill>
            <a:blip r:embed="rId2"/>
            <a:stretch/>
          </p:blipFill>
          <p:spPr>
            <a:xfrm>
              <a:off x="5114880" y="2743200"/>
              <a:ext cx="1004760" cy="13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21360" y="2757240"/>
              <a:ext cx="99540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5 Forma libre"/>
          <p:cNvGrpSpPr/>
          <p:nvPr/>
        </p:nvGrpSpPr>
        <p:grpSpPr>
          <a:xfrm>
            <a:off x="4181400" y="1298520"/>
            <a:ext cx="725400" cy="901800"/>
            <a:chOff x="4181400" y="1298520"/>
            <a:chExt cx="725400" cy="901800"/>
          </a:xfrm>
        </p:grpSpPr>
        <p:pic>
          <p:nvPicPr>
            <p:cNvPr id="99" name="5 Forma libre" descr=""/>
            <p:cNvPicPr/>
            <p:nvPr/>
          </p:nvPicPr>
          <p:blipFill>
            <a:blip r:embed="rId3"/>
            <a:stretch/>
          </p:blipFill>
          <p:spPr>
            <a:xfrm>
              <a:off x="4181400" y="1298520"/>
              <a:ext cx="7254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187880" y="1303200"/>
              <a:ext cx="70812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8 Forma libre"/>
          <p:cNvGrpSpPr/>
          <p:nvPr/>
        </p:nvGrpSpPr>
        <p:grpSpPr>
          <a:xfrm>
            <a:off x="4743360" y="2048040"/>
            <a:ext cx="657360" cy="1049040"/>
            <a:chOff x="4743360" y="2048040"/>
            <a:chExt cx="657360" cy="1049040"/>
          </a:xfrm>
        </p:grpSpPr>
        <p:pic>
          <p:nvPicPr>
            <p:cNvPr id="102" name="8 Forma libre" descr=""/>
            <p:cNvPicPr/>
            <p:nvPr/>
          </p:nvPicPr>
          <p:blipFill>
            <a:blip r:embed="rId4"/>
            <a:stretch/>
          </p:blipFill>
          <p:spPr>
            <a:xfrm>
              <a:off x="4743360" y="2048040"/>
              <a:ext cx="6573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56320" y="2062080"/>
              <a:ext cx="6379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9 Forma libre"/>
          <p:cNvGrpSpPr/>
          <p:nvPr/>
        </p:nvGrpSpPr>
        <p:grpSpPr>
          <a:xfrm>
            <a:off x="5121360" y="1079640"/>
            <a:ext cx="834480" cy="785520"/>
            <a:chOff x="5121360" y="1079640"/>
            <a:chExt cx="834480" cy="785520"/>
          </a:xfrm>
        </p:grpSpPr>
        <p:pic>
          <p:nvPicPr>
            <p:cNvPr id="105" name="9 Forma libre" descr=""/>
            <p:cNvPicPr/>
            <p:nvPr/>
          </p:nvPicPr>
          <p:blipFill>
            <a:blip r:embed="rId5"/>
            <a:stretch/>
          </p:blipFill>
          <p:spPr>
            <a:xfrm>
              <a:off x="5127480" y="1079640"/>
              <a:ext cx="82836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21360" y="1087560"/>
              <a:ext cx="831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10 Forma libre"/>
          <p:cNvGrpSpPr/>
          <p:nvPr/>
        </p:nvGrpSpPr>
        <p:grpSpPr>
          <a:xfrm>
            <a:off x="4505400" y="2505240"/>
            <a:ext cx="426960" cy="761760"/>
            <a:chOff x="4505400" y="2505240"/>
            <a:chExt cx="426960" cy="761760"/>
          </a:xfrm>
        </p:grpSpPr>
        <p:pic>
          <p:nvPicPr>
            <p:cNvPr id="108" name="10 Forma libre" descr=""/>
            <p:cNvPicPr/>
            <p:nvPr/>
          </p:nvPicPr>
          <p:blipFill>
            <a:blip r:embed="rId6"/>
            <a:stretch/>
          </p:blipFill>
          <p:spPr>
            <a:xfrm>
              <a:off x="4505400" y="2505240"/>
              <a:ext cx="4269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18000" y="2511360"/>
              <a:ext cx="405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12 Forma libre"/>
          <p:cNvGrpSpPr/>
          <p:nvPr/>
        </p:nvGrpSpPr>
        <p:grpSpPr>
          <a:xfrm>
            <a:off x="4834080" y="1352520"/>
            <a:ext cx="591480" cy="817560"/>
            <a:chOff x="4834080" y="1352520"/>
            <a:chExt cx="591480" cy="817560"/>
          </a:xfrm>
        </p:grpSpPr>
        <p:pic>
          <p:nvPicPr>
            <p:cNvPr id="111" name="12 Forma libre" descr=""/>
            <p:cNvPicPr/>
            <p:nvPr/>
          </p:nvPicPr>
          <p:blipFill>
            <a:blip r:embed="rId7"/>
            <a:stretch/>
          </p:blipFill>
          <p:spPr>
            <a:xfrm>
              <a:off x="4834080" y="1375200"/>
              <a:ext cx="578880" cy="7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43080" y="1352520"/>
              <a:ext cx="58248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13 Forma libre"/>
          <p:cNvGrpSpPr/>
          <p:nvPr/>
        </p:nvGrpSpPr>
        <p:grpSpPr>
          <a:xfrm>
            <a:off x="5273640" y="798480"/>
            <a:ext cx="809640" cy="822240"/>
            <a:chOff x="5273640" y="798480"/>
            <a:chExt cx="809640" cy="822240"/>
          </a:xfrm>
        </p:grpSpPr>
        <p:pic>
          <p:nvPicPr>
            <p:cNvPr id="114" name="13 Forma libre" descr=""/>
            <p:cNvPicPr/>
            <p:nvPr/>
          </p:nvPicPr>
          <p:blipFill>
            <a:blip r:embed="rId8"/>
            <a:stretch/>
          </p:blipFill>
          <p:spPr>
            <a:xfrm>
              <a:off x="5273640" y="798480"/>
              <a:ext cx="80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280120" y="804960"/>
              <a:ext cx="79200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4 Forma libre"/>
          <p:cNvGrpSpPr/>
          <p:nvPr/>
        </p:nvGrpSpPr>
        <p:grpSpPr>
          <a:xfrm>
            <a:off x="3986280" y="3505320"/>
            <a:ext cx="1176120" cy="864720"/>
            <a:chOff x="3986280" y="3505320"/>
            <a:chExt cx="1176120" cy="864720"/>
          </a:xfrm>
        </p:grpSpPr>
        <p:pic>
          <p:nvPicPr>
            <p:cNvPr id="117" name="14 Forma libre" descr=""/>
            <p:cNvPicPr/>
            <p:nvPr/>
          </p:nvPicPr>
          <p:blipFill>
            <a:blip r:embed="rId9"/>
            <a:stretch/>
          </p:blipFill>
          <p:spPr>
            <a:xfrm>
              <a:off x="3986280" y="3516120"/>
              <a:ext cx="1176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000680" y="3505320"/>
              <a:ext cx="11523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46 Grupo"/>
          <p:cNvGrpSpPr/>
          <p:nvPr/>
        </p:nvGrpSpPr>
        <p:grpSpPr>
          <a:xfrm>
            <a:off x="324000" y="1916280"/>
            <a:ext cx="2441520" cy="504720"/>
            <a:chOff x="324000" y="1916280"/>
            <a:chExt cx="2441520" cy="504720"/>
          </a:xfrm>
        </p:grpSpPr>
        <p:grpSp>
          <p:nvGrpSpPr>
            <p:cNvPr id="120" name="15 Rectángulo"/>
            <p:cNvGrpSpPr/>
            <p:nvPr/>
          </p:nvGrpSpPr>
          <p:grpSpPr>
            <a:xfrm>
              <a:off x="324000" y="1916280"/>
              <a:ext cx="309240" cy="361800"/>
              <a:chOff x="324000" y="1916280"/>
              <a:chExt cx="309240" cy="361800"/>
            </a:xfrm>
          </p:grpSpPr>
          <p:pic>
            <p:nvPicPr>
              <p:cNvPr id="121" name="15 Rectángulo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4000" y="1916280"/>
                <a:ext cx="30924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336600" y="1929960"/>
                <a:ext cx="280440" cy="3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1 Título"/>
            <p:cNvSpPr/>
            <p:nvPr/>
          </p:nvSpPr>
          <p:spPr>
            <a:xfrm>
              <a:off x="616320" y="1929960"/>
              <a:ext cx="214920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vincias con legisl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47 Grupo"/>
          <p:cNvGrpSpPr/>
          <p:nvPr/>
        </p:nvGrpSpPr>
        <p:grpSpPr>
          <a:xfrm>
            <a:off x="324000" y="2492280"/>
            <a:ext cx="2441520" cy="505080"/>
            <a:chOff x="324000" y="2492280"/>
            <a:chExt cx="2441520" cy="505080"/>
          </a:xfrm>
        </p:grpSpPr>
        <p:grpSp>
          <p:nvGrpSpPr>
            <p:cNvPr id="125" name="17 Rectángulo"/>
            <p:cNvGrpSpPr/>
            <p:nvPr/>
          </p:nvGrpSpPr>
          <p:grpSpPr>
            <a:xfrm>
              <a:off x="324000" y="2492280"/>
              <a:ext cx="309240" cy="357840"/>
              <a:chOff x="324000" y="2492280"/>
              <a:chExt cx="309240" cy="357840"/>
            </a:xfrm>
          </p:grpSpPr>
          <p:pic>
            <p:nvPicPr>
              <p:cNvPr id="126" name="17 Rectángulo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4000" y="2492280"/>
                <a:ext cx="3092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36600" y="2503080"/>
                <a:ext cx="28044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1 Título"/>
            <p:cNvSpPr/>
            <p:nvPr/>
          </p:nvSpPr>
          <p:spPr>
            <a:xfrm>
              <a:off x="616320" y="2503080"/>
              <a:ext cx="214920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vincias sin legisl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21 Forma libre"/>
          <p:cNvGrpSpPr/>
          <p:nvPr/>
        </p:nvGrpSpPr>
        <p:grpSpPr>
          <a:xfrm>
            <a:off x="3962520" y="4286160"/>
            <a:ext cx="1158480" cy="809640"/>
            <a:chOff x="3962520" y="4286160"/>
            <a:chExt cx="1158480" cy="809640"/>
          </a:xfrm>
        </p:grpSpPr>
        <p:pic>
          <p:nvPicPr>
            <p:cNvPr id="130" name="21 Forma libre" descr=""/>
            <p:cNvPicPr/>
            <p:nvPr/>
          </p:nvPicPr>
          <p:blipFill>
            <a:blip r:embed="rId12"/>
            <a:stretch/>
          </p:blipFill>
          <p:spPr>
            <a:xfrm>
              <a:off x="4021200" y="4286160"/>
              <a:ext cx="10998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62520" y="4289400"/>
              <a:ext cx="11437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22 Forma libre"/>
          <p:cNvGrpSpPr/>
          <p:nvPr/>
        </p:nvGrpSpPr>
        <p:grpSpPr>
          <a:xfrm>
            <a:off x="4127400" y="1779480"/>
            <a:ext cx="706680" cy="755640"/>
            <a:chOff x="4127400" y="1779480"/>
            <a:chExt cx="706680" cy="755640"/>
          </a:xfrm>
        </p:grpSpPr>
        <p:pic>
          <p:nvPicPr>
            <p:cNvPr id="133" name="22 Forma libre" descr=""/>
            <p:cNvPicPr/>
            <p:nvPr/>
          </p:nvPicPr>
          <p:blipFill>
            <a:blip r:embed="rId13"/>
            <a:stretch/>
          </p:blipFill>
          <p:spPr>
            <a:xfrm>
              <a:off x="4127400" y="1779480"/>
              <a:ext cx="706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133880" y="1787400"/>
              <a:ext cx="68904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23 Forma libre"/>
          <p:cNvGrpSpPr/>
          <p:nvPr/>
        </p:nvGrpSpPr>
        <p:grpSpPr>
          <a:xfrm>
            <a:off x="4681440" y="1457280"/>
            <a:ext cx="304920" cy="365040"/>
            <a:chOff x="4681440" y="1457280"/>
            <a:chExt cx="304920" cy="365040"/>
          </a:xfrm>
        </p:grpSpPr>
        <p:pic>
          <p:nvPicPr>
            <p:cNvPr id="136" name="23 Forma libre" descr=""/>
            <p:cNvPicPr/>
            <p:nvPr/>
          </p:nvPicPr>
          <p:blipFill>
            <a:blip r:embed="rId14"/>
            <a:stretch/>
          </p:blipFill>
          <p:spPr>
            <a:xfrm>
              <a:off x="4681440" y="1457280"/>
              <a:ext cx="3049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691160" y="1461960"/>
              <a:ext cx="285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1 Título"/>
          <p:cNvSpPr/>
          <p:nvPr/>
        </p:nvSpPr>
        <p:spPr>
          <a:xfrm>
            <a:off x="4932360" y="170028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Sgto del este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5364000" y="155736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Cha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 Título"/>
          <p:cNvSpPr/>
          <p:nvPr/>
        </p:nvSpPr>
        <p:spPr>
          <a:xfrm>
            <a:off x="5580000" y="126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Formo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Título"/>
          <p:cNvSpPr/>
          <p:nvPr/>
        </p:nvSpPr>
        <p:spPr>
          <a:xfrm>
            <a:off x="4788000" y="2276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Córdob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Título"/>
          <p:cNvSpPr/>
          <p:nvPr/>
        </p:nvSpPr>
        <p:spPr>
          <a:xfrm>
            <a:off x="4140360" y="162864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Catamar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421164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La rio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427640" y="263700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San Lu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 Título"/>
          <p:cNvSpPr/>
          <p:nvPr/>
        </p:nvSpPr>
        <p:spPr>
          <a:xfrm>
            <a:off x="5219640" y="32846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4427640" y="386064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Rio Neg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4211640" y="4508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Chub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36 Forma libre"/>
          <p:cNvGrpSpPr/>
          <p:nvPr/>
        </p:nvGrpSpPr>
        <p:grpSpPr>
          <a:xfrm>
            <a:off x="3925800" y="5010120"/>
            <a:ext cx="951120" cy="1231920"/>
            <a:chOff x="3925800" y="5010120"/>
            <a:chExt cx="951120" cy="1231920"/>
          </a:xfrm>
        </p:grpSpPr>
        <p:pic>
          <p:nvPicPr>
            <p:cNvPr id="149" name="36 Forma libre" descr=""/>
            <p:cNvPicPr/>
            <p:nvPr/>
          </p:nvPicPr>
          <p:blipFill>
            <a:blip r:embed="rId15"/>
            <a:stretch/>
          </p:blipFill>
          <p:spPr>
            <a:xfrm>
              <a:off x="3925800" y="5010120"/>
              <a:ext cx="9511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33720" y="5019840"/>
              <a:ext cx="92736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1 Título"/>
          <p:cNvSpPr/>
          <p:nvPr/>
        </p:nvSpPr>
        <p:spPr>
          <a:xfrm>
            <a:off x="4067280" y="54450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Santa cru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38 Forma libre"/>
          <p:cNvGrpSpPr/>
          <p:nvPr/>
        </p:nvGrpSpPr>
        <p:grpSpPr>
          <a:xfrm>
            <a:off x="4383000" y="6267600"/>
            <a:ext cx="639720" cy="438120"/>
            <a:chOff x="4383000" y="6267600"/>
            <a:chExt cx="639720" cy="438120"/>
          </a:xfrm>
        </p:grpSpPr>
        <p:pic>
          <p:nvPicPr>
            <p:cNvPr id="153" name="38 Forma libre" descr=""/>
            <p:cNvPicPr/>
            <p:nvPr/>
          </p:nvPicPr>
          <p:blipFill>
            <a:blip r:embed="rId16"/>
            <a:stretch/>
          </p:blipFill>
          <p:spPr>
            <a:xfrm>
              <a:off x="4383000" y="6267600"/>
              <a:ext cx="6397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389480" y="6273720"/>
              <a:ext cx="6206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1 Título"/>
          <p:cNvSpPr/>
          <p:nvPr/>
        </p:nvSpPr>
        <p:spPr>
          <a:xfrm>
            <a:off x="4067280" y="645336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Calibri"/>
                <a:ea typeface="Arial"/>
              </a:rPr>
              <a:t>Tierra del fueg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40 Forma libre"/>
          <p:cNvGrpSpPr/>
          <p:nvPr/>
        </p:nvGrpSpPr>
        <p:grpSpPr>
          <a:xfrm>
            <a:off x="5218200" y="1768320"/>
            <a:ext cx="633240" cy="1193760"/>
            <a:chOff x="5218200" y="1768320"/>
            <a:chExt cx="633240" cy="1193760"/>
          </a:xfrm>
        </p:grpSpPr>
        <p:pic>
          <p:nvPicPr>
            <p:cNvPr id="157" name="40 Forma libre" descr=""/>
            <p:cNvPicPr/>
            <p:nvPr/>
          </p:nvPicPr>
          <p:blipFill>
            <a:blip r:embed="rId17"/>
            <a:stretch/>
          </p:blipFill>
          <p:spPr>
            <a:xfrm>
              <a:off x="5218200" y="1769400"/>
              <a:ext cx="633240" cy="11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222880" y="1768320"/>
              <a:ext cx="622440" cy="11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1 Título"/>
          <p:cNvSpPr/>
          <p:nvPr/>
        </p:nvSpPr>
        <p:spPr>
          <a:xfrm>
            <a:off x="5219640" y="206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Calibri"/>
                <a:ea typeface="Arial"/>
              </a:rPr>
              <a:t>Santa 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42 Forma libre"/>
          <p:cNvGrpSpPr/>
          <p:nvPr/>
        </p:nvGrpSpPr>
        <p:grpSpPr>
          <a:xfrm>
            <a:off x="6235560" y="1420920"/>
            <a:ext cx="482760" cy="480960"/>
            <a:chOff x="6235560" y="1420920"/>
            <a:chExt cx="482760" cy="480960"/>
          </a:xfrm>
        </p:grpSpPr>
        <p:pic>
          <p:nvPicPr>
            <p:cNvPr id="161" name="42 Forma libre" descr=""/>
            <p:cNvPicPr/>
            <p:nvPr/>
          </p:nvPicPr>
          <p:blipFill>
            <a:blip r:embed="rId18"/>
            <a:stretch/>
          </p:blipFill>
          <p:spPr>
            <a:xfrm>
              <a:off x="6235560" y="1420920"/>
              <a:ext cx="482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246720" y="1425600"/>
              <a:ext cx="45108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1 Título"/>
          <p:cNvSpPr/>
          <p:nvPr/>
        </p:nvSpPr>
        <p:spPr>
          <a:xfrm>
            <a:off x="6300720" y="1628640"/>
            <a:ext cx="574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Mi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44 Forma libre"/>
          <p:cNvGrpSpPr/>
          <p:nvPr/>
        </p:nvGrpSpPr>
        <p:grpSpPr>
          <a:xfrm>
            <a:off x="4237200" y="701640"/>
            <a:ext cx="1083960" cy="835200"/>
            <a:chOff x="4237200" y="701640"/>
            <a:chExt cx="1083960" cy="835200"/>
          </a:xfrm>
        </p:grpSpPr>
        <p:pic>
          <p:nvPicPr>
            <p:cNvPr id="165" name="44 Forma libre" descr=""/>
            <p:cNvPicPr/>
            <p:nvPr/>
          </p:nvPicPr>
          <p:blipFill>
            <a:blip r:embed="rId19"/>
            <a:stretch/>
          </p:blipFill>
          <p:spPr>
            <a:xfrm>
              <a:off x="4237200" y="701640"/>
              <a:ext cx="10839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241880" y="714240"/>
              <a:ext cx="106992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1 Título"/>
          <p:cNvSpPr/>
          <p:nvPr/>
        </p:nvSpPr>
        <p:spPr>
          <a:xfrm>
            <a:off x="4716360" y="1484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Tucum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 Título"/>
          <p:cNvSpPr/>
          <p:nvPr/>
        </p:nvSpPr>
        <p:spPr>
          <a:xfrm>
            <a:off x="4572000" y="119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Calibri"/>
                <a:ea typeface="Arial"/>
              </a:rPr>
              <a:t>S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48 Forma libre"/>
          <p:cNvGrpSpPr/>
          <p:nvPr/>
        </p:nvGrpSpPr>
        <p:grpSpPr>
          <a:xfrm>
            <a:off x="5694480" y="1676520"/>
            <a:ext cx="687240" cy="633240"/>
            <a:chOff x="5694480" y="1676520"/>
            <a:chExt cx="687240" cy="633240"/>
          </a:xfrm>
        </p:grpSpPr>
        <p:pic>
          <p:nvPicPr>
            <p:cNvPr id="170" name="48 Forma libre" descr=""/>
            <p:cNvPicPr/>
            <p:nvPr/>
          </p:nvPicPr>
          <p:blipFill>
            <a:blip r:embed="rId20"/>
            <a:stretch/>
          </p:blipFill>
          <p:spPr>
            <a:xfrm>
              <a:off x="5694480" y="1676520"/>
              <a:ext cx="687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707080" y="1685880"/>
              <a:ext cx="660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1 Título"/>
          <p:cNvSpPr/>
          <p:nvPr/>
        </p:nvSpPr>
        <p:spPr>
          <a:xfrm>
            <a:off x="5796000" y="1916280"/>
            <a:ext cx="57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Calibri"/>
                <a:ea typeface="Arial"/>
              </a:rPr>
              <a:t>Corrient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51 Forma libre"/>
          <p:cNvGrpSpPr/>
          <p:nvPr/>
        </p:nvGrpSpPr>
        <p:grpSpPr>
          <a:xfrm>
            <a:off x="4475160" y="676440"/>
            <a:ext cx="530280" cy="536400"/>
            <a:chOff x="4475160" y="676440"/>
            <a:chExt cx="530280" cy="536400"/>
          </a:xfrm>
        </p:grpSpPr>
        <p:pic>
          <p:nvPicPr>
            <p:cNvPr id="174" name="51 Forma libre" descr=""/>
            <p:cNvPicPr/>
            <p:nvPr/>
          </p:nvPicPr>
          <p:blipFill>
            <a:blip r:embed="rId21"/>
            <a:stretch/>
          </p:blipFill>
          <p:spPr>
            <a:xfrm>
              <a:off x="4475160" y="676440"/>
              <a:ext cx="530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478400" y="681120"/>
              <a:ext cx="5094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1 Título"/>
          <p:cNvSpPr/>
          <p:nvPr/>
        </p:nvSpPr>
        <p:spPr>
          <a:xfrm>
            <a:off x="4500720" y="83664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Calibri"/>
                <a:ea typeface="Arial"/>
              </a:rPr>
              <a:t>Juj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53 Forma libre"/>
          <p:cNvGrpSpPr/>
          <p:nvPr/>
        </p:nvGrpSpPr>
        <p:grpSpPr>
          <a:xfrm>
            <a:off x="4425840" y="3041640"/>
            <a:ext cx="749520" cy="798120"/>
            <a:chOff x="4425840" y="3041640"/>
            <a:chExt cx="749520" cy="798120"/>
          </a:xfrm>
        </p:grpSpPr>
        <p:pic>
          <p:nvPicPr>
            <p:cNvPr id="178" name="53 Forma libre" descr=""/>
            <p:cNvPicPr/>
            <p:nvPr/>
          </p:nvPicPr>
          <p:blipFill>
            <a:blip r:embed="rId22"/>
            <a:stretch/>
          </p:blipFill>
          <p:spPr>
            <a:xfrm>
              <a:off x="4425840" y="3074760"/>
              <a:ext cx="749520" cy="76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437000" y="3041640"/>
              <a:ext cx="72720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1 Título"/>
          <p:cNvSpPr/>
          <p:nvPr/>
        </p:nvSpPr>
        <p:spPr>
          <a:xfrm>
            <a:off x="4427640" y="335772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La Pam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55 Forma libre"/>
          <p:cNvGrpSpPr/>
          <p:nvPr/>
        </p:nvGrpSpPr>
        <p:grpSpPr>
          <a:xfrm>
            <a:off x="5529240" y="2189160"/>
            <a:ext cx="480960" cy="719280"/>
            <a:chOff x="5529240" y="2189160"/>
            <a:chExt cx="480960" cy="719280"/>
          </a:xfrm>
        </p:grpSpPr>
        <p:pic>
          <p:nvPicPr>
            <p:cNvPr id="182" name="55 Forma libre" descr=""/>
            <p:cNvPicPr/>
            <p:nvPr/>
          </p:nvPicPr>
          <p:blipFill>
            <a:blip r:embed="rId23"/>
            <a:stretch/>
          </p:blipFill>
          <p:spPr>
            <a:xfrm>
              <a:off x="5529240" y="2189160"/>
              <a:ext cx="480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38960" y="2203560"/>
              <a:ext cx="45720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1 Título"/>
          <p:cNvSpPr/>
          <p:nvPr/>
        </p:nvSpPr>
        <p:spPr>
          <a:xfrm>
            <a:off x="5651640" y="2349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Calibri"/>
                <a:ea typeface="Arial"/>
              </a:rPr>
              <a:t>Entre Rí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57 Forma libre"/>
          <p:cNvGrpSpPr/>
          <p:nvPr/>
        </p:nvGrpSpPr>
        <p:grpSpPr>
          <a:xfrm>
            <a:off x="3956040" y="3303720"/>
            <a:ext cx="519120" cy="933480"/>
            <a:chOff x="3956040" y="3303720"/>
            <a:chExt cx="519120" cy="933480"/>
          </a:xfrm>
        </p:grpSpPr>
        <p:pic>
          <p:nvPicPr>
            <p:cNvPr id="186" name="57 Forma libre" descr=""/>
            <p:cNvPicPr/>
            <p:nvPr/>
          </p:nvPicPr>
          <p:blipFill>
            <a:blip r:embed="rId24"/>
            <a:stretch/>
          </p:blipFill>
          <p:spPr>
            <a:xfrm>
              <a:off x="3956040" y="3303720"/>
              <a:ext cx="5191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970440" y="3319560"/>
              <a:ext cx="49212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58 Forma libre"/>
          <p:cNvGrpSpPr/>
          <p:nvPr/>
        </p:nvGrpSpPr>
        <p:grpSpPr>
          <a:xfrm>
            <a:off x="4065480" y="2535120"/>
            <a:ext cx="609480" cy="1006560"/>
            <a:chOff x="4065480" y="2535120"/>
            <a:chExt cx="609480" cy="1006560"/>
          </a:xfrm>
        </p:grpSpPr>
        <p:pic>
          <p:nvPicPr>
            <p:cNvPr id="189" name="58 Forma libre" descr=""/>
            <p:cNvPicPr/>
            <p:nvPr/>
          </p:nvPicPr>
          <p:blipFill>
            <a:blip r:embed="rId25"/>
            <a:stretch/>
          </p:blipFill>
          <p:spPr>
            <a:xfrm>
              <a:off x="4065480" y="2535120"/>
              <a:ext cx="6004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071600" y="2540160"/>
              <a:ext cx="60336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1 Título"/>
          <p:cNvSpPr/>
          <p:nvPr/>
        </p:nvSpPr>
        <p:spPr>
          <a:xfrm>
            <a:off x="3924360" y="35002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Neuqu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 Título"/>
          <p:cNvSpPr/>
          <p:nvPr/>
        </p:nvSpPr>
        <p:spPr>
          <a:xfrm>
            <a:off x="4067280" y="299736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Mend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61 Forma libre"/>
          <p:cNvGrpSpPr/>
          <p:nvPr/>
        </p:nvGrpSpPr>
        <p:grpSpPr>
          <a:xfrm>
            <a:off x="4022640" y="1908000"/>
            <a:ext cx="604800" cy="743040"/>
            <a:chOff x="4022640" y="1908000"/>
            <a:chExt cx="604800" cy="743040"/>
          </a:xfrm>
        </p:grpSpPr>
        <p:pic>
          <p:nvPicPr>
            <p:cNvPr id="194" name="61 Forma libre" descr=""/>
            <p:cNvPicPr/>
            <p:nvPr/>
          </p:nvPicPr>
          <p:blipFill>
            <a:blip r:embed="rId26"/>
            <a:stretch/>
          </p:blipFill>
          <p:spPr>
            <a:xfrm>
              <a:off x="4022640" y="1908000"/>
              <a:ext cx="604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030560" y="1914480"/>
              <a:ext cx="5778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1 Título"/>
          <p:cNvSpPr/>
          <p:nvPr/>
        </p:nvSpPr>
        <p:spPr>
          <a:xfrm>
            <a:off x="4067280" y="227664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San Ju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6165720"/>
            <a:ext cx="21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Noelia Torres - U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Título"/>
          <p:cNvSpPr/>
          <p:nvPr/>
        </p:nvSpPr>
        <p:spPr>
          <a:xfrm>
            <a:off x="179280" y="692280"/>
            <a:ext cx="3313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Calibri"/>
                <a:ea typeface="Arial"/>
              </a:rPr>
              <a:t>Provincias con Legisl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5491080" y="4076640"/>
            <a:ext cx="1222560" cy="2681280"/>
          </a:xfrm>
          <a:prstGeom prst="rect">
            <a:avLst/>
          </a:prstGeom>
          <a:ln w="0">
            <a:noFill/>
          </a:ln>
        </p:spPr>
      </p:pic>
      <p:grpSp>
        <p:nvGrpSpPr>
          <p:cNvPr id="200" name="4 Forma libre"/>
          <p:cNvGrpSpPr/>
          <p:nvPr/>
        </p:nvGrpSpPr>
        <p:grpSpPr>
          <a:xfrm>
            <a:off x="5114880" y="2743200"/>
            <a:ext cx="1004760" cy="1420560"/>
            <a:chOff x="5114880" y="2743200"/>
            <a:chExt cx="1004760" cy="1420560"/>
          </a:xfrm>
        </p:grpSpPr>
        <p:pic>
          <p:nvPicPr>
            <p:cNvPr id="201" name="4 Forma libre" descr=""/>
            <p:cNvPicPr/>
            <p:nvPr/>
          </p:nvPicPr>
          <p:blipFill>
            <a:blip r:embed="rId2"/>
            <a:stretch/>
          </p:blipFill>
          <p:spPr>
            <a:xfrm>
              <a:off x="5114880" y="2743200"/>
              <a:ext cx="1004760" cy="13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121360" y="2757240"/>
              <a:ext cx="99540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5 Forma libre"/>
          <p:cNvSpPr/>
          <p:nvPr/>
        </p:nvSpPr>
        <p:spPr>
          <a:xfrm>
            <a:off x="4187880" y="1303200"/>
            <a:ext cx="708120" cy="881280"/>
          </a:xfrm>
          <a:custGeom>
            <a:avLst/>
            <a:gdLst/>
            <a:ahLst/>
            <a:rect l="l" t="t" r="r" b="b"/>
            <a:pathLst>
              <a:path w="708025" h="881592">
                <a:moveTo>
                  <a:pt x="650346" y="881592"/>
                </a:moveTo>
                <a:cubicBezTo>
                  <a:pt x="668338" y="881592"/>
                  <a:pt x="694267" y="851959"/>
                  <a:pt x="701146" y="827617"/>
                </a:cubicBezTo>
                <a:cubicBezTo>
                  <a:pt x="708025" y="803275"/>
                  <a:pt x="695854" y="762530"/>
                  <a:pt x="691621" y="735542"/>
                </a:cubicBezTo>
                <a:cubicBezTo>
                  <a:pt x="687388" y="708555"/>
                  <a:pt x="682096" y="685800"/>
                  <a:pt x="675746" y="665692"/>
                </a:cubicBezTo>
                <a:cubicBezTo>
                  <a:pt x="669396" y="645584"/>
                  <a:pt x="655638" y="637646"/>
                  <a:pt x="653521" y="614892"/>
                </a:cubicBezTo>
                <a:cubicBezTo>
                  <a:pt x="651404" y="592138"/>
                  <a:pt x="666221" y="552450"/>
                  <a:pt x="663046" y="529167"/>
                </a:cubicBezTo>
                <a:cubicBezTo>
                  <a:pt x="659871" y="505884"/>
                  <a:pt x="647171" y="479425"/>
                  <a:pt x="634471" y="475192"/>
                </a:cubicBezTo>
                <a:cubicBezTo>
                  <a:pt x="621771" y="470959"/>
                  <a:pt x="609600" y="516467"/>
                  <a:pt x="586846" y="503767"/>
                </a:cubicBezTo>
                <a:cubicBezTo>
                  <a:pt x="564092" y="491067"/>
                  <a:pt x="507471" y="427567"/>
                  <a:pt x="497946" y="398992"/>
                </a:cubicBezTo>
                <a:cubicBezTo>
                  <a:pt x="488421" y="370417"/>
                  <a:pt x="528638" y="356129"/>
                  <a:pt x="529696" y="332317"/>
                </a:cubicBezTo>
                <a:cubicBezTo>
                  <a:pt x="530754" y="308505"/>
                  <a:pt x="506413" y="276754"/>
                  <a:pt x="504296" y="256117"/>
                </a:cubicBezTo>
                <a:cubicBezTo>
                  <a:pt x="502179" y="235480"/>
                  <a:pt x="525992" y="219075"/>
                  <a:pt x="516996" y="208492"/>
                </a:cubicBezTo>
                <a:cubicBezTo>
                  <a:pt x="508000" y="197909"/>
                  <a:pt x="470959" y="203200"/>
                  <a:pt x="450321" y="192617"/>
                </a:cubicBezTo>
                <a:cubicBezTo>
                  <a:pt x="429684" y="182034"/>
                  <a:pt x="398992" y="162984"/>
                  <a:pt x="393171" y="144992"/>
                </a:cubicBezTo>
                <a:cubicBezTo>
                  <a:pt x="387350" y="127000"/>
                  <a:pt x="414338" y="105304"/>
                  <a:pt x="415396" y="84667"/>
                </a:cubicBezTo>
                <a:cubicBezTo>
                  <a:pt x="416454" y="64030"/>
                  <a:pt x="425979" y="31221"/>
                  <a:pt x="399521" y="21167"/>
                </a:cubicBezTo>
                <a:cubicBezTo>
                  <a:pt x="373063" y="11113"/>
                  <a:pt x="305858" y="25929"/>
                  <a:pt x="256646" y="24342"/>
                </a:cubicBezTo>
                <a:cubicBezTo>
                  <a:pt x="207434" y="22755"/>
                  <a:pt x="133350" y="0"/>
                  <a:pt x="104246" y="11642"/>
                </a:cubicBezTo>
                <a:cubicBezTo>
                  <a:pt x="75142" y="23284"/>
                  <a:pt x="80963" y="67205"/>
                  <a:pt x="82021" y="94192"/>
                </a:cubicBezTo>
                <a:cubicBezTo>
                  <a:pt x="83079" y="121179"/>
                  <a:pt x="120332" y="146935"/>
                  <a:pt x="110596" y="173567"/>
                </a:cubicBezTo>
                <a:cubicBezTo>
                  <a:pt x="100860" y="200199"/>
                  <a:pt x="22019" y="232817"/>
                  <a:pt x="23606" y="253984"/>
                </a:cubicBezTo>
                <a:cubicBezTo>
                  <a:pt x="25193" y="275151"/>
                  <a:pt x="102977" y="280103"/>
                  <a:pt x="120121" y="300567"/>
                </a:cubicBezTo>
                <a:cubicBezTo>
                  <a:pt x="137265" y="321031"/>
                  <a:pt x="136525" y="364067"/>
                  <a:pt x="126471" y="376767"/>
                </a:cubicBezTo>
                <a:cubicBezTo>
                  <a:pt x="116417" y="389467"/>
                  <a:pt x="79375" y="356659"/>
                  <a:pt x="59796" y="376767"/>
                </a:cubicBezTo>
                <a:cubicBezTo>
                  <a:pt x="40217" y="396875"/>
                  <a:pt x="0" y="479955"/>
                  <a:pt x="8996" y="497417"/>
                </a:cubicBezTo>
                <a:cubicBezTo>
                  <a:pt x="17992" y="514880"/>
                  <a:pt x="91017" y="474663"/>
                  <a:pt x="113771" y="481542"/>
                </a:cubicBezTo>
                <a:cubicBezTo>
                  <a:pt x="136525" y="488421"/>
                  <a:pt x="131763" y="527579"/>
                  <a:pt x="145521" y="538692"/>
                </a:cubicBezTo>
                <a:cubicBezTo>
                  <a:pt x="159279" y="549805"/>
                  <a:pt x="179917" y="539750"/>
                  <a:pt x="196321" y="548217"/>
                </a:cubicBezTo>
                <a:cubicBezTo>
                  <a:pt x="212725" y="556684"/>
                  <a:pt x="223309" y="584200"/>
                  <a:pt x="243946" y="589492"/>
                </a:cubicBezTo>
                <a:cubicBezTo>
                  <a:pt x="264583" y="594784"/>
                  <a:pt x="296863" y="583142"/>
                  <a:pt x="320146" y="579967"/>
                </a:cubicBezTo>
                <a:cubicBezTo>
                  <a:pt x="343429" y="576792"/>
                  <a:pt x="361950" y="560388"/>
                  <a:pt x="383646" y="570442"/>
                </a:cubicBezTo>
                <a:cubicBezTo>
                  <a:pt x="405342" y="580496"/>
                  <a:pt x="429154" y="620184"/>
                  <a:pt x="450321" y="640292"/>
                </a:cubicBezTo>
                <a:cubicBezTo>
                  <a:pt x="471488" y="660400"/>
                  <a:pt x="486834" y="659871"/>
                  <a:pt x="510646" y="691092"/>
                </a:cubicBezTo>
                <a:cubicBezTo>
                  <a:pt x="534458" y="722313"/>
                  <a:pt x="569384" y="795867"/>
                  <a:pt x="593196" y="827617"/>
                </a:cubicBezTo>
                <a:cubicBezTo>
                  <a:pt x="617008" y="859367"/>
                  <a:pt x="632354" y="881592"/>
                  <a:pt x="650346" y="881592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3b3b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6 Forma libre"/>
          <p:cNvGrpSpPr/>
          <p:nvPr/>
        </p:nvGrpSpPr>
        <p:grpSpPr>
          <a:xfrm>
            <a:off x="4743360" y="2048040"/>
            <a:ext cx="657360" cy="1049040"/>
            <a:chOff x="4743360" y="2048040"/>
            <a:chExt cx="657360" cy="1049040"/>
          </a:xfrm>
        </p:grpSpPr>
        <p:pic>
          <p:nvPicPr>
            <p:cNvPr id="205" name="6 Forma libre" descr=""/>
            <p:cNvPicPr/>
            <p:nvPr/>
          </p:nvPicPr>
          <p:blipFill>
            <a:blip r:embed="rId3"/>
            <a:stretch/>
          </p:blipFill>
          <p:spPr>
            <a:xfrm>
              <a:off x="4743360" y="2048040"/>
              <a:ext cx="6573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756320" y="2062080"/>
              <a:ext cx="6379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7 Forma libre"/>
          <p:cNvGrpSpPr/>
          <p:nvPr/>
        </p:nvGrpSpPr>
        <p:grpSpPr>
          <a:xfrm>
            <a:off x="5121360" y="1079640"/>
            <a:ext cx="834480" cy="785520"/>
            <a:chOff x="5121360" y="1079640"/>
            <a:chExt cx="834480" cy="785520"/>
          </a:xfrm>
        </p:grpSpPr>
        <p:pic>
          <p:nvPicPr>
            <p:cNvPr id="208" name="7 Forma libre" descr=""/>
            <p:cNvPicPr/>
            <p:nvPr/>
          </p:nvPicPr>
          <p:blipFill>
            <a:blip r:embed="rId4"/>
            <a:stretch/>
          </p:blipFill>
          <p:spPr>
            <a:xfrm>
              <a:off x="5127480" y="1079640"/>
              <a:ext cx="82836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21360" y="1087560"/>
              <a:ext cx="831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8 Forma libre"/>
          <p:cNvGrpSpPr/>
          <p:nvPr/>
        </p:nvGrpSpPr>
        <p:grpSpPr>
          <a:xfrm>
            <a:off x="4505400" y="2505240"/>
            <a:ext cx="426960" cy="761760"/>
            <a:chOff x="4505400" y="2505240"/>
            <a:chExt cx="426960" cy="761760"/>
          </a:xfrm>
        </p:grpSpPr>
        <p:pic>
          <p:nvPicPr>
            <p:cNvPr id="211" name="8 Forma libre" descr=""/>
            <p:cNvPicPr/>
            <p:nvPr/>
          </p:nvPicPr>
          <p:blipFill>
            <a:blip r:embed="rId5"/>
            <a:stretch/>
          </p:blipFill>
          <p:spPr>
            <a:xfrm>
              <a:off x="4505400" y="2505240"/>
              <a:ext cx="4269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518000" y="2511360"/>
              <a:ext cx="405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9 Forma libre"/>
          <p:cNvGrpSpPr/>
          <p:nvPr/>
        </p:nvGrpSpPr>
        <p:grpSpPr>
          <a:xfrm>
            <a:off x="4834080" y="1352520"/>
            <a:ext cx="591480" cy="817560"/>
            <a:chOff x="4834080" y="1352520"/>
            <a:chExt cx="591480" cy="817560"/>
          </a:xfrm>
        </p:grpSpPr>
        <p:pic>
          <p:nvPicPr>
            <p:cNvPr id="214" name="9 Forma libre" descr=""/>
            <p:cNvPicPr/>
            <p:nvPr/>
          </p:nvPicPr>
          <p:blipFill>
            <a:blip r:embed="rId6"/>
            <a:stretch/>
          </p:blipFill>
          <p:spPr>
            <a:xfrm>
              <a:off x="4834080" y="1375200"/>
              <a:ext cx="578880" cy="7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843080" y="1352520"/>
              <a:ext cx="58248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10 Forma libre"/>
          <p:cNvSpPr/>
          <p:nvPr/>
        </p:nvSpPr>
        <p:spPr>
          <a:xfrm>
            <a:off x="5280120" y="804960"/>
            <a:ext cx="792000" cy="806400"/>
          </a:xfrm>
          <a:custGeom>
            <a:avLst/>
            <a:gdLst/>
            <a:ahLst/>
            <a:rect l="l" t="t" r="r" b="b"/>
            <a:pathLst>
              <a:path w="792957" h="806847">
                <a:moveTo>
                  <a:pt x="666750" y="802878"/>
                </a:moveTo>
                <a:cubicBezTo>
                  <a:pt x="688975" y="806847"/>
                  <a:pt x="665559" y="761603"/>
                  <a:pt x="676275" y="738584"/>
                </a:cubicBezTo>
                <a:cubicBezTo>
                  <a:pt x="686991" y="715565"/>
                  <a:pt x="715566" y="687387"/>
                  <a:pt x="731044" y="664765"/>
                </a:cubicBezTo>
                <a:cubicBezTo>
                  <a:pt x="746522" y="642143"/>
                  <a:pt x="760016" y="620316"/>
                  <a:pt x="769144" y="602853"/>
                </a:cubicBezTo>
                <a:cubicBezTo>
                  <a:pt x="778272" y="585391"/>
                  <a:pt x="792957" y="579834"/>
                  <a:pt x="785813" y="559990"/>
                </a:cubicBezTo>
                <a:cubicBezTo>
                  <a:pt x="778669" y="540146"/>
                  <a:pt x="750888" y="499665"/>
                  <a:pt x="726282" y="483790"/>
                </a:cubicBezTo>
                <a:cubicBezTo>
                  <a:pt x="701676" y="467915"/>
                  <a:pt x="671116" y="477043"/>
                  <a:pt x="638175" y="464740"/>
                </a:cubicBezTo>
                <a:cubicBezTo>
                  <a:pt x="605234" y="452437"/>
                  <a:pt x="563166" y="434975"/>
                  <a:pt x="528638" y="409972"/>
                </a:cubicBezTo>
                <a:cubicBezTo>
                  <a:pt x="494110" y="384969"/>
                  <a:pt x="457598" y="334169"/>
                  <a:pt x="431007" y="314722"/>
                </a:cubicBezTo>
                <a:cubicBezTo>
                  <a:pt x="404416" y="295275"/>
                  <a:pt x="369094" y="293290"/>
                  <a:pt x="369094" y="293290"/>
                </a:cubicBezTo>
                <a:cubicBezTo>
                  <a:pt x="335360" y="280987"/>
                  <a:pt x="254794" y="255190"/>
                  <a:pt x="228600" y="240903"/>
                </a:cubicBezTo>
                <a:cubicBezTo>
                  <a:pt x="202406" y="226616"/>
                  <a:pt x="211932" y="207565"/>
                  <a:pt x="211932" y="207565"/>
                </a:cubicBezTo>
                <a:cubicBezTo>
                  <a:pt x="207963" y="199628"/>
                  <a:pt x="221854" y="208756"/>
                  <a:pt x="204788" y="193278"/>
                </a:cubicBezTo>
                <a:cubicBezTo>
                  <a:pt x="187722" y="177800"/>
                  <a:pt x="140891" y="146050"/>
                  <a:pt x="109538" y="114697"/>
                </a:cubicBezTo>
                <a:cubicBezTo>
                  <a:pt x="78185" y="83344"/>
                  <a:pt x="33338" y="10318"/>
                  <a:pt x="16669" y="5159"/>
                </a:cubicBezTo>
                <a:cubicBezTo>
                  <a:pt x="0" y="0"/>
                  <a:pt x="9922" y="36512"/>
                  <a:pt x="9525" y="83740"/>
                </a:cubicBezTo>
                <a:cubicBezTo>
                  <a:pt x="9128" y="130968"/>
                  <a:pt x="6351" y="251619"/>
                  <a:pt x="14288" y="288528"/>
                </a:cubicBezTo>
                <a:cubicBezTo>
                  <a:pt x="22225" y="325437"/>
                  <a:pt x="28178" y="283369"/>
                  <a:pt x="57150" y="305197"/>
                </a:cubicBezTo>
                <a:cubicBezTo>
                  <a:pt x="86122" y="327025"/>
                  <a:pt x="138510" y="381397"/>
                  <a:pt x="188119" y="419497"/>
                </a:cubicBezTo>
                <a:cubicBezTo>
                  <a:pt x="237729" y="457597"/>
                  <a:pt x="313135" y="494507"/>
                  <a:pt x="354807" y="533797"/>
                </a:cubicBezTo>
                <a:cubicBezTo>
                  <a:pt x="396479" y="573088"/>
                  <a:pt x="406797" y="625078"/>
                  <a:pt x="438150" y="655240"/>
                </a:cubicBezTo>
                <a:cubicBezTo>
                  <a:pt x="469503" y="685402"/>
                  <a:pt x="504825" y="686991"/>
                  <a:pt x="542925" y="714772"/>
                </a:cubicBezTo>
                <a:cubicBezTo>
                  <a:pt x="581025" y="742553"/>
                  <a:pt x="644525" y="798909"/>
                  <a:pt x="666750" y="802878"/>
                </a:cubicBezTo>
                <a:close/>
              </a:path>
            </a:pathLst>
          </a:custGeom>
          <a:noFill/>
          <a:ln w="19080">
            <a:solidFill>
              <a:srgbClr val="3b3b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1 Forma libre"/>
          <p:cNvGrpSpPr/>
          <p:nvPr/>
        </p:nvGrpSpPr>
        <p:grpSpPr>
          <a:xfrm>
            <a:off x="3986280" y="3505320"/>
            <a:ext cx="1176120" cy="864720"/>
            <a:chOff x="3986280" y="3505320"/>
            <a:chExt cx="1176120" cy="864720"/>
          </a:xfrm>
        </p:grpSpPr>
        <p:pic>
          <p:nvPicPr>
            <p:cNvPr id="218" name="11 Forma libre" descr=""/>
            <p:cNvPicPr/>
            <p:nvPr/>
          </p:nvPicPr>
          <p:blipFill>
            <a:blip r:embed="rId7"/>
            <a:stretch/>
          </p:blipFill>
          <p:spPr>
            <a:xfrm>
              <a:off x="3986280" y="3516120"/>
              <a:ext cx="1176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00680" y="3505320"/>
              <a:ext cx="11523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12 Grupo"/>
          <p:cNvGrpSpPr/>
          <p:nvPr/>
        </p:nvGrpSpPr>
        <p:grpSpPr>
          <a:xfrm>
            <a:off x="324000" y="1916280"/>
            <a:ext cx="2850840" cy="576000"/>
            <a:chOff x="324000" y="1916280"/>
            <a:chExt cx="2850840" cy="576000"/>
          </a:xfrm>
        </p:grpSpPr>
        <p:grpSp>
          <p:nvGrpSpPr>
            <p:cNvPr id="221" name="13 Rectángulo"/>
            <p:cNvGrpSpPr/>
            <p:nvPr/>
          </p:nvGrpSpPr>
          <p:grpSpPr>
            <a:xfrm>
              <a:off x="324000" y="1916280"/>
              <a:ext cx="357840" cy="404640"/>
              <a:chOff x="324000" y="1916280"/>
              <a:chExt cx="357840" cy="404640"/>
            </a:xfrm>
          </p:grpSpPr>
          <p:pic>
            <p:nvPicPr>
              <p:cNvPr id="222" name="13 Rectángulo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000" y="1916280"/>
                <a:ext cx="357840" cy="4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336600" y="1929960"/>
                <a:ext cx="32760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1 Título"/>
            <p:cNvSpPr/>
            <p:nvPr/>
          </p:nvSpPr>
          <p:spPr>
            <a:xfrm>
              <a:off x="663840" y="1929960"/>
              <a:ext cx="25110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vincias mediación volunt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15 Grupo"/>
          <p:cNvGrpSpPr/>
          <p:nvPr/>
        </p:nvGrpSpPr>
        <p:grpSpPr>
          <a:xfrm>
            <a:off x="324000" y="2421000"/>
            <a:ext cx="2592360" cy="576360"/>
            <a:chOff x="324000" y="2421000"/>
            <a:chExt cx="2592360" cy="576360"/>
          </a:xfrm>
        </p:grpSpPr>
        <p:grpSp>
          <p:nvGrpSpPr>
            <p:cNvPr id="226" name="16 Rectángulo"/>
            <p:cNvGrpSpPr/>
            <p:nvPr/>
          </p:nvGrpSpPr>
          <p:grpSpPr>
            <a:xfrm>
              <a:off x="324000" y="2421000"/>
              <a:ext cx="327240" cy="405360"/>
              <a:chOff x="324000" y="2421000"/>
              <a:chExt cx="327240" cy="405360"/>
            </a:xfrm>
          </p:grpSpPr>
          <p:pic>
            <p:nvPicPr>
              <p:cNvPr id="227" name="16 Rectángulo" descr=""/>
              <p:cNvPicPr/>
              <p:nvPr/>
            </p:nvPicPr>
            <p:blipFill>
              <a:blip r:embed="rId9"/>
              <a:stretch/>
            </p:blipFill>
            <p:spPr>
              <a:xfrm>
                <a:off x="324000" y="2421000"/>
                <a:ext cx="327240" cy="40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336600" y="2433600"/>
                <a:ext cx="297360" cy="3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1 Título"/>
            <p:cNvSpPr/>
            <p:nvPr/>
          </p:nvSpPr>
          <p:spPr>
            <a:xfrm>
              <a:off x="633600" y="2433600"/>
              <a:ext cx="22827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vincias mediación obligato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20 Forma libre"/>
          <p:cNvGrpSpPr/>
          <p:nvPr/>
        </p:nvGrpSpPr>
        <p:grpSpPr>
          <a:xfrm>
            <a:off x="3962520" y="4286160"/>
            <a:ext cx="1158480" cy="809640"/>
            <a:chOff x="3962520" y="4286160"/>
            <a:chExt cx="1158480" cy="809640"/>
          </a:xfrm>
        </p:grpSpPr>
        <p:pic>
          <p:nvPicPr>
            <p:cNvPr id="231" name="20 Forma libre" descr=""/>
            <p:cNvPicPr/>
            <p:nvPr/>
          </p:nvPicPr>
          <p:blipFill>
            <a:blip r:embed="rId10"/>
            <a:stretch/>
          </p:blipFill>
          <p:spPr>
            <a:xfrm>
              <a:off x="4021200" y="4286160"/>
              <a:ext cx="10998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962520" y="4289400"/>
              <a:ext cx="11437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21 Forma libre"/>
          <p:cNvSpPr/>
          <p:nvPr/>
        </p:nvSpPr>
        <p:spPr>
          <a:xfrm>
            <a:off x="4133880" y="1787400"/>
            <a:ext cx="689040" cy="735120"/>
          </a:xfrm>
          <a:custGeom>
            <a:avLst/>
            <a:gdLst/>
            <a:ahLst/>
            <a:rect l="l" t="t" r="r" b="b"/>
            <a:pathLst>
              <a:path w="688578" h="735013">
                <a:moveTo>
                  <a:pt x="488156" y="722313"/>
                </a:moveTo>
                <a:cubicBezTo>
                  <a:pt x="524272" y="735013"/>
                  <a:pt x="623888" y="731044"/>
                  <a:pt x="647700" y="727075"/>
                </a:cubicBezTo>
                <a:cubicBezTo>
                  <a:pt x="671513" y="723106"/>
                  <a:pt x="635397" y="724297"/>
                  <a:pt x="631031" y="698500"/>
                </a:cubicBezTo>
                <a:cubicBezTo>
                  <a:pt x="626665" y="672703"/>
                  <a:pt x="619522" y="607219"/>
                  <a:pt x="621506" y="572294"/>
                </a:cubicBezTo>
                <a:cubicBezTo>
                  <a:pt x="623490" y="537369"/>
                  <a:pt x="633810" y="514350"/>
                  <a:pt x="642938" y="488950"/>
                </a:cubicBezTo>
                <a:cubicBezTo>
                  <a:pt x="652066" y="463550"/>
                  <a:pt x="670322" y="436960"/>
                  <a:pt x="676275" y="419894"/>
                </a:cubicBezTo>
                <a:cubicBezTo>
                  <a:pt x="682228" y="402828"/>
                  <a:pt x="688578" y="407590"/>
                  <a:pt x="678656" y="386556"/>
                </a:cubicBezTo>
                <a:cubicBezTo>
                  <a:pt x="668734" y="365522"/>
                  <a:pt x="637778" y="324644"/>
                  <a:pt x="616744" y="293688"/>
                </a:cubicBezTo>
                <a:cubicBezTo>
                  <a:pt x="595710" y="262732"/>
                  <a:pt x="572691" y="223441"/>
                  <a:pt x="552450" y="200819"/>
                </a:cubicBezTo>
                <a:cubicBezTo>
                  <a:pt x="532209" y="178197"/>
                  <a:pt x="511175" y="175022"/>
                  <a:pt x="495300" y="157956"/>
                </a:cubicBezTo>
                <a:cubicBezTo>
                  <a:pt x="479425" y="140890"/>
                  <a:pt x="471884" y="110728"/>
                  <a:pt x="457200" y="98425"/>
                </a:cubicBezTo>
                <a:cubicBezTo>
                  <a:pt x="442516" y="86122"/>
                  <a:pt x="427435" y="82154"/>
                  <a:pt x="407194" y="84138"/>
                </a:cubicBezTo>
                <a:cubicBezTo>
                  <a:pt x="386953" y="86122"/>
                  <a:pt x="359569" y="108347"/>
                  <a:pt x="335756" y="110331"/>
                </a:cubicBezTo>
                <a:cubicBezTo>
                  <a:pt x="311943" y="112315"/>
                  <a:pt x="278606" y="103981"/>
                  <a:pt x="264319" y="96044"/>
                </a:cubicBezTo>
                <a:cubicBezTo>
                  <a:pt x="250032" y="88107"/>
                  <a:pt x="259953" y="69056"/>
                  <a:pt x="250031" y="62706"/>
                </a:cubicBezTo>
                <a:cubicBezTo>
                  <a:pt x="240109" y="56356"/>
                  <a:pt x="215504" y="65088"/>
                  <a:pt x="204788" y="57944"/>
                </a:cubicBezTo>
                <a:cubicBezTo>
                  <a:pt x="194073" y="50800"/>
                  <a:pt x="196850" y="28575"/>
                  <a:pt x="185738" y="19844"/>
                </a:cubicBezTo>
                <a:cubicBezTo>
                  <a:pt x="174626" y="11113"/>
                  <a:pt x="156369" y="5159"/>
                  <a:pt x="138113" y="5556"/>
                </a:cubicBezTo>
                <a:cubicBezTo>
                  <a:pt x="119857" y="5953"/>
                  <a:pt x="92075" y="20638"/>
                  <a:pt x="76200" y="22225"/>
                </a:cubicBezTo>
                <a:cubicBezTo>
                  <a:pt x="60325" y="23813"/>
                  <a:pt x="54372" y="0"/>
                  <a:pt x="42863" y="15081"/>
                </a:cubicBezTo>
                <a:cubicBezTo>
                  <a:pt x="31354" y="30162"/>
                  <a:pt x="0" y="88107"/>
                  <a:pt x="7144" y="112713"/>
                </a:cubicBezTo>
                <a:cubicBezTo>
                  <a:pt x="14288" y="137319"/>
                  <a:pt x="67469" y="139700"/>
                  <a:pt x="85725" y="162719"/>
                </a:cubicBezTo>
                <a:cubicBezTo>
                  <a:pt x="103981" y="185738"/>
                  <a:pt x="110728" y="218281"/>
                  <a:pt x="116681" y="250825"/>
                </a:cubicBezTo>
                <a:cubicBezTo>
                  <a:pt x="122634" y="283369"/>
                  <a:pt x="114300" y="343694"/>
                  <a:pt x="121444" y="357981"/>
                </a:cubicBezTo>
                <a:cubicBezTo>
                  <a:pt x="128588" y="372269"/>
                  <a:pt x="136525" y="333772"/>
                  <a:pt x="159544" y="336550"/>
                </a:cubicBezTo>
                <a:cubicBezTo>
                  <a:pt x="182563" y="339328"/>
                  <a:pt x="227409" y="354409"/>
                  <a:pt x="259556" y="374650"/>
                </a:cubicBezTo>
                <a:cubicBezTo>
                  <a:pt x="291703" y="394891"/>
                  <a:pt x="323850" y="429419"/>
                  <a:pt x="352425" y="457994"/>
                </a:cubicBezTo>
                <a:cubicBezTo>
                  <a:pt x="381000" y="486569"/>
                  <a:pt x="417909" y="513953"/>
                  <a:pt x="431006" y="546100"/>
                </a:cubicBezTo>
                <a:cubicBezTo>
                  <a:pt x="444103" y="578247"/>
                  <a:pt x="421084" y="620713"/>
                  <a:pt x="431006" y="650875"/>
                </a:cubicBezTo>
                <a:cubicBezTo>
                  <a:pt x="440928" y="681037"/>
                  <a:pt x="452040" y="709613"/>
                  <a:pt x="488156" y="722313"/>
                </a:cubicBezTo>
                <a:close/>
              </a:path>
            </a:pathLst>
          </a:custGeom>
          <a:noFill/>
          <a:ln w="19080">
            <a:solidFill>
              <a:srgbClr val="3b3b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22 Forma libre"/>
          <p:cNvGrpSpPr/>
          <p:nvPr/>
        </p:nvGrpSpPr>
        <p:grpSpPr>
          <a:xfrm>
            <a:off x="4681440" y="1457280"/>
            <a:ext cx="304920" cy="365040"/>
            <a:chOff x="4681440" y="1457280"/>
            <a:chExt cx="304920" cy="365040"/>
          </a:xfrm>
        </p:grpSpPr>
        <p:pic>
          <p:nvPicPr>
            <p:cNvPr id="235" name="22 Forma libre" descr=""/>
            <p:cNvPicPr/>
            <p:nvPr/>
          </p:nvPicPr>
          <p:blipFill>
            <a:blip r:embed="rId11"/>
            <a:stretch/>
          </p:blipFill>
          <p:spPr>
            <a:xfrm>
              <a:off x="4681440" y="1457280"/>
              <a:ext cx="3049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691160" y="1461960"/>
              <a:ext cx="285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1 Título"/>
          <p:cNvSpPr/>
          <p:nvPr/>
        </p:nvSpPr>
        <p:spPr>
          <a:xfrm>
            <a:off x="4932360" y="170028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Sgto del este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 Título"/>
          <p:cNvSpPr/>
          <p:nvPr/>
        </p:nvSpPr>
        <p:spPr>
          <a:xfrm>
            <a:off x="5364000" y="1557360"/>
            <a:ext cx="5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Cha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1 Título"/>
          <p:cNvSpPr/>
          <p:nvPr/>
        </p:nvSpPr>
        <p:spPr>
          <a:xfrm>
            <a:off x="4788000" y="2276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Córdob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 Título"/>
          <p:cNvSpPr/>
          <p:nvPr/>
        </p:nvSpPr>
        <p:spPr>
          <a:xfrm>
            <a:off x="4140360" y="162864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Catamar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 Título"/>
          <p:cNvSpPr/>
          <p:nvPr/>
        </p:nvSpPr>
        <p:spPr>
          <a:xfrm>
            <a:off x="4427640" y="263700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San Lu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 Título"/>
          <p:cNvSpPr/>
          <p:nvPr/>
        </p:nvSpPr>
        <p:spPr>
          <a:xfrm>
            <a:off x="5219640" y="32846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 Título"/>
          <p:cNvSpPr/>
          <p:nvPr/>
        </p:nvSpPr>
        <p:spPr>
          <a:xfrm>
            <a:off x="4427640" y="386064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Rio Neg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 Título"/>
          <p:cNvSpPr/>
          <p:nvPr/>
        </p:nvSpPr>
        <p:spPr>
          <a:xfrm>
            <a:off x="4211640" y="4508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Chub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33 Forma libre"/>
          <p:cNvSpPr/>
          <p:nvPr/>
        </p:nvSpPr>
        <p:spPr>
          <a:xfrm>
            <a:off x="3933720" y="5019840"/>
            <a:ext cx="927360" cy="1209600"/>
          </a:xfrm>
          <a:custGeom>
            <a:avLst/>
            <a:gdLst/>
            <a:ahLst/>
            <a:rect l="l" t="t" r="r" b="b"/>
            <a:pathLst>
              <a:path w="927893" h="1209675">
                <a:moveTo>
                  <a:pt x="172243" y="72231"/>
                </a:moveTo>
                <a:cubicBezTo>
                  <a:pt x="126206" y="84931"/>
                  <a:pt x="173830" y="115887"/>
                  <a:pt x="172243" y="138906"/>
                </a:cubicBezTo>
                <a:cubicBezTo>
                  <a:pt x="170656" y="161925"/>
                  <a:pt x="166687" y="192880"/>
                  <a:pt x="162718" y="210343"/>
                </a:cubicBezTo>
                <a:cubicBezTo>
                  <a:pt x="158749" y="227806"/>
                  <a:pt x="149225" y="231775"/>
                  <a:pt x="148431" y="243681"/>
                </a:cubicBezTo>
                <a:cubicBezTo>
                  <a:pt x="147637" y="255587"/>
                  <a:pt x="162719" y="268287"/>
                  <a:pt x="157956" y="281781"/>
                </a:cubicBezTo>
                <a:cubicBezTo>
                  <a:pt x="153193" y="295275"/>
                  <a:pt x="126206" y="307181"/>
                  <a:pt x="119856" y="324643"/>
                </a:cubicBezTo>
                <a:cubicBezTo>
                  <a:pt x="113506" y="342105"/>
                  <a:pt x="122237" y="365919"/>
                  <a:pt x="119856" y="386556"/>
                </a:cubicBezTo>
                <a:cubicBezTo>
                  <a:pt x="117475" y="407193"/>
                  <a:pt x="104774" y="433387"/>
                  <a:pt x="105568" y="448468"/>
                </a:cubicBezTo>
                <a:cubicBezTo>
                  <a:pt x="106362" y="463549"/>
                  <a:pt x="122237" y="463549"/>
                  <a:pt x="124618" y="477043"/>
                </a:cubicBezTo>
                <a:cubicBezTo>
                  <a:pt x="126999" y="490537"/>
                  <a:pt x="124618" y="515937"/>
                  <a:pt x="119856" y="529431"/>
                </a:cubicBezTo>
                <a:cubicBezTo>
                  <a:pt x="115094" y="542925"/>
                  <a:pt x="100012" y="546894"/>
                  <a:pt x="96043" y="558006"/>
                </a:cubicBezTo>
                <a:cubicBezTo>
                  <a:pt x="92074" y="569118"/>
                  <a:pt x="103980" y="583406"/>
                  <a:pt x="96043" y="596106"/>
                </a:cubicBezTo>
                <a:cubicBezTo>
                  <a:pt x="88106" y="608806"/>
                  <a:pt x="54768" y="620712"/>
                  <a:pt x="48418" y="634206"/>
                </a:cubicBezTo>
                <a:cubicBezTo>
                  <a:pt x="42068" y="647700"/>
                  <a:pt x="65087" y="667543"/>
                  <a:pt x="57943" y="677068"/>
                </a:cubicBezTo>
                <a:cubicBezTo>
                  <a:pt x="50799" y="686593"/>
                  <a:pt x="11112" y="668337"/>
                  <a:pt x="5556" y="691356"/>
                </a:cubicBezTo>
                <a:cubicBezTo>
                  <a:pt x="0" y="714375"/>
                  <a:pt x="13494" y="780256"/>
                  <a:pt x="24606" y="815181"/>
                </a:cubicBezTo>
                <a:cubicBezTo>
                  <a:pt x="35719" y="850106"/>
                  <a:pt x="61119" y="878681"/>
                  <a:pt x="72231" y="900906"/>
                </a:cubicBezTo>
                <a:cubicBezTo>
                  <a:pt x="83343" y="923131"/>
                  <a:pt x="76994" y="947737"/>
                  <a:pt x="91281" y="948531"/>
                </a:cubicBezTo>
                <a:cubicBezTo>
                  <a:pt x="105568" y="949325"/>
                  <a:pt x="141287" y="905668"/>
                  <a:pt x="157956" y="905668"/>
                </a:cubicBezTo>
                <a:cubicBezTo>
                  <a:pt x="174625" y="905668"/>
                  <a:pt x="186531" y="927894"/>
                  <a:pt x="191293" y="948531"/>
                </a:cubicBezTo>
                <a:cubicBezTo>
                  <a:pt x="196055" y="969168"/>
                  <a:pt x="188912" y="1008856"/>
                  <a:pt x="186531" y="1029493"/>
                </a:cubicBezTo>
                <a:cubicBezTo>
                  <a:pt x="184150" y="1050131"/>
                  <a:pt x="171450" y="1057275"/>
                  <a:pt x="177006" y="1072356"/>
                </a:cubicBezTo>
                <a:cubicBezTo>
                  <a:pt x="182562" y="1087437"/>
                  <a:pt x="207168" y="1104106"/>
                  <a:pt x="219868" y="1119981"/>
                </a:cubicBezTo>
                <a:cubicBezTo>
                  <a:pt x="232568" y="1135856"/>
                  <a:pt x="226219" y="1163637"/>
                  <a:pt x="253206" y="1167606"/>
                </a:cubicBezTo>
                <a:cubicBezTo>
                  <a:pt x="280194" y="1171575"/>
                  <a:pt x="334962" y="1147762"/>
                  <a:pt x="381793" y="1143793"/>
                </a:cubicBezTo>
                <a:cubicBezTo>
                  <a:pt x="428624" y="1139824"/>
                  <a:pt x="496887" y="1136649"/>
                  <a:pt x="534193" y="1143793"/>
                </a:cubicBezTo>
                <a:cubicBezTo>
                  <a:pt x="571499" y="1150937"/>
                  <a:pt x="585787" y="1177925"/>
                  <a:pt x="605631" y="1186656"/>
                </a:cubicBezTo>
                <a:cubicBezTo>
                  <a:pt x="625475" y="1195387"/>
                  <a:pt x="656431" y="1209675"/>
                  <a:pt x="653256" y="1196181"/>
                </a:cubicBezTo>
                <a:cubicBezTo>
                  <a:pt x="650081" y="1182687"/>
                  <a:pt x="605631" y="1142205"/>
                  <a:pt x="586581" y="1105693"/>
                </a:cubicBezTo>
                <a:cubicBezTo>
                  <a:pt x="567531" y="1069181"/>
                  <a:pt x="545306" y="1011237"/>
                  <a:pt x="538956" y="977106"/>
                </a:cubicBezTo>
                <a:cubicBezTo>
                  <a:pt x="532606" y="942975"/>
                  <a:pt x="542925" y="925512"/>
                  <a:pt x="548481" y="900906"/>
                </a:cubicBezTo>
                <a:cubicBezTo>
                  <a:pt x="554037" y="876300"/>
                  <a:pt x="556418" y="847724"/>
                  <a:pt x="572293" y="829468"/>
                </a:cubicBezTo>
                <a:cubicBezTo>
                  <a:pt x="588168" y="811212"/>
                  <a:pt x="624681" y="806449"/>
                  <a:pt x="643731" y="791368"/>
                </a:cubicBezTo>
                <a:cubicBezTo>
                  <a:pt x="662781" y="776287"/>
                  <a:pt x="678656" y="762794"/>
                  <a:pt x="686593" y="738981"/>
                </a:cubicBezTo>
                <a:cubicBezTo>
                  <a:pt x="694531" y="715169"/>
                  <a:pt x="683419" y="680243"/>
                  <a:pt x="691356" y="648493"/>
                </a:cubicBezTo>
                <a:cubicBezTo>
                  <a:pt x="699293" y="616743"/>
                  <a:pt x="712787" y="580231"/>
                  <a:pt x="734218" y="548481"/>
                </a:cubicBezTo>
                <a:cubicBezTo>
                  <a:pt x="755649" y="516731"/>
                  <a:pt x="796131" y="481805"/>
                  <a:pt x="819943" y="457993"/>
                </a:cubicBezTo>
                <a:cubicBezTo>
                  <a:pt x="843755" y="434181"/>
                  <a:pt x="859631" y="422275"/>
                  <a:pt x="877093" y="405606"/>
                </a:cubicBezTo>
                <a:cubicBezTo>
                  <a:pt x="894555" y="388937"/>
                  <a:pt x="921543" y="373062"/>
                  <a:pt x="924718" y="357981"/>
                </a:cubicBezTo>
                <a:cubicBezTo>
                  <a:pt x="927893" y="342900"/>
                  <a:pt x="897731" y="330993"/>
                  <a:pt x="896143" y="315118"/>
                </a:cubicBezTo>
                <a:cubicBezTo>
                  <a:pt x="894556" y="299243"/>
                  <a:pt x="917574" y="277812"/>
                  <a:pt x="915193" y="262731"/>
                </a:cubicBezTo>
                <a:cubicBezTo>
                  <a:pt x="912812" y="247650"/>
                  <a:pt x="892175" y="232568"/>
                  <a:pt x="881856" y="224631"/>
                </a:cubicBezTo>
                <a:cubicBezTo>
                  <a:pt x="871537" y="216694"/>
                  <a:pt x="869156" y="216694"/>
                  <a:pt x="853281" y="215106"/>
                </a:cubicBezTo>
                <a:cubicBezTo>
                  <a:pt x="837406" y="213519"/>
                  <a:pt x="806450" y="221456"/>
                  <a:pt x="786606" y="215106"/>
                </a:cubicBezTo>
                <a:cubicBezTo>
                  <a:pt x="766762" y="208756"/>
                  <a:pt x="749299" y="193675"/>
                  <a:pt x="734218" y="177006"/>
                </a:cubicBezTo>
                <a:cubicBezTo>
                  <a:pt x="719137" y="160337"/>
                  <a:pt x="707231" y="139699"/>
                  <a:pt x="696118" y="115093"/>
                </a:cubicBezTo>
                <a:cubicBezTo>
                  <a:pt x="685006" y="90487"/>
                  <a:pt x="671512" y="47624"/>
                  <a:pt x="667543" y="29368"/>
                </a:cubicBezTo>
                <a:cubicBezTo>
                  <a:pt x="663574" y="11112"/>
                  <a:pt x="708818" y="0"/>
                  <a:pt x="672306" y="5556"/>
                </a:cubicBezTo>
                <a:cubicBezTo>
                  <a:pt x="635794" y="11112"/>
                  <a:pt x="532606" y="53181"/>
                  <a:pt x="448468" y="62706"/>
                </a:cubicBezTo>
                <a:cubicBezTo>
                  <a:pt x="364331" y="72231"/>
                  <a:pt x="218280" y="59531"/>
                  <a:pt x="172243" y="72231"/>
                </a:cubicBezTo>
                <a:close/>
              </a:path>
            </a:pathLst>
          </a:custGeom>
          <a:noFill/>
          <a:ln w="19080">
            <a:solidFill>
              <a:srgbClr val="3b3b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35 Forma libre"/>
          <p:cNvGrpSpPr/>
          <p:nvPr/>
        </p:nvGrpSpPr>
        <p:grpSpPr>
          <a:xfrm>
            <a:off x="4383000" y="6267600"/>
            <a:ext cx="639720" cy="438120"/>
            <a:chOff x="4383000" y="6267600"/>
            <a:chExt cx="639720" cy="438120"/>
          </a:xfrm>
        </p:grpSpPr>
        <p:pic>
          <p:nvPicPr>
            <p:cNvPr id="247" name="35 Forma libre" descr=""/>
            <p:cNvPicPr/>
            <p:nvPr/>
          </p:nvPicPr>
          <p:blipFill>
            <a:blip r:embed="rId12"/>
            <a:stretch/>
          </p:blipFill>
          <p:spPr>
            <a:xfrm>
              <a:off x="4383000" y="6267600"/>
              <a:ext cx="6397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389480" y="6273720"/>
              <a:ext cx="6206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1 Título"/>
          <p:cNvSpPr/>
          <p:nvPr/>
        </p:nvSpPr>
        <p:spPr>
          <a:xfrm>
            <a:off x="4067280" y="645336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Calibri"/>
                <a:ea typeface="Arial"/>
              </a:rPr>
              <a:t>Tierra del fueg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37 Forma libre"/>
          <p:cNvGrpSpPr/>
          <p:nvPr/>
        </p:nvGrpSpPr>
        <p:grpSpPr>
          <a:xfrm>
            <a:off x="5218200" y="1768320"/>
            <a:ext cx="633240" cy="1193760"/>
            <a:chOff x="5218200" y="1768320"/>
            <a:chExt cx="633240" cy="1193760"/>
          </a:xfrm>
        </p:grpSpPr>
        <p:pic>
          <p:nvPicPr>
            <p:cNvPr id="251" name="37 Forma libre" descr=""/>
            <p:cNvPicPr/>
            <p:nvPr/>
          </p:nvPicPr>
          <p:blipFill>
            <a:blip r:embed="rId13"/>
            <a:stretch/>
          </p:blipFill>
          <p:spPr>
            <a:xfrm>
              <a:off x="5218200" y="1769400"/>
              <a:ext cx="633240" cy="11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222880" y="1768320"/>
              <a:ext cx="622440" cy="11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1 Título"/>
          <p:cNvSpPr/>
          <p:nvPr/>
        </p:nvSpPr>
        <p:spPr>
          <a:xfrm>
            <a:off x="5219640" y="206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Santa 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39 Forma libre"/>
          <p:cNvGrpSpPr/>
          <p:nvPr/>
        </p:nvGrpSpPr>
        <p:grpSpPr>
          <a:xfrm>
            <a:off x="6235560" y="1420920"/>
            <a:ext cx="482760" cy="480960"/>
            <a:chOff x="6235560" y="1420920"/>
            <a:chExt cx="482760" cy="480960"/>
          </a:xfrm>
        </p:grpSpPr>
        <p:pic>
          <p:nvPicPr>
            <p:cNvPr id="255" name="39 Forma libre" descr=""/>
            <p:cNvPicPr/>
            <p:nvPr/>
          </p:nvPicPr>
          <p:blipFill>
            <a:blip r:embed="rId14"/>
            <a:stretch/>
          </p:blipFill>
          <p:spPr>
            <a:xfrm>
              <a:off x="6235560" y="1420920"/>
              <a:ext cx="482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246720" y="1425600"/>
              <a:ext cx="45108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1 Título"/>
          <p:cNvSpPr/>
          <p:nvPr/>
        </p:nvSpPr>
        <p:spPr>
          <a:xfrm>
            <a:off x="6300720" y="1628640"/>
            <a:ext cx="574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Mi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41 Forma libre"/>
          <p:cNvGrpSpPr/>
          <p:nvPr/>
        </p:nvGrpSpPr>
        <p:grpSpPr>
          <a:xfrm>
            <a:off x="4237200" y="701640"/>
            <a:ext cx="1083960" cy="835200"/>
            <a:chOff x="4237200" y="701640"/>
            <a:chExt cx="1083960" cy="835200"/>
          </a:xfrm>
        </p:grpSpPr>
        <p:pic>
          <p:nvPicPr>
            <p:cNvPr id="259" name="41 Forma libre" descr=""/>
            <p:cNvPicPr/>
            <p:nvPr/>
          </p:nvPicPr>
          <p:blipFill>
            <a:blip r:embed="rId15"/>
            <a:stretch/>
          </p:blipFill>
          <p:spPr>
            <a:xfrm>
              <a:off x="4237200" y="701640"/>
              <a:ext cx="10839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241880" y="714240"/>
              <a:ext cx="106992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1 Título"/>
          <p:cNvSpPr/>
          <p:nvPr/>
        </p:nvSpPr>
        <p:spPr>
          <a:xfrm>
            <a:off x="4716360" y="1484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Tucum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 Título"/>
          <p:cNvSpPr/>
          <p:nvPr/>
        </p:nvSpPr>
        <p:spPr>
          <a:xfrm>
            <a:off x="4572000" y="119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Calibri"/>
                <a:ea typeface="Arial"/>
              </a:rPr>
              <a:t>S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44 Forma libre"/>
          <p:cNvGrpSpPr/>
          <p:nvPr/>
        </p:nvGrpSpPr>
        <p:grpSpPr>
          <a:xfrm>
            <a:off x="5694480" y="1676520"/>
            <a:ext cx="687240" cy="633240"/>
            <a:chOff x="5694480" y="1676520"/>
            <a:chExt cx="687240" cy="633240"/>
          </a:xfrm>
        </p:grpSpPr>
        <p:pic>
          <p:nvPicPr>
            <p:cNvPr id="264" name="44 Forma libre" descr=""/>
            <p:cNvPicPr/>
            <p:nvPr/>
          </p:nvPicPr>
          <p:blipFill>
            <a:blip r:embed="rId16"/>
            <a:stretch/>
          </p:blipFill>
          <p:spPr>
            <a:xfrm>
              <a:off x="5694480" y="1676520"/>
              <a:ext cx="687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707080" y="1685880"/>
              <a:ext cx="660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1 Título"/>
          <p:cNvSpPr/>
          <p:nvPr/>
        </p:nvSpPr>
        <p:spPr>
          <a:xfrm>
            <a:off x="5796000" y="1916280"/>
            <a:ext cx="57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Calibri"/>
                <a:ea typeface="Arial"/>
              </a:rPr>
              <a:t>Corrient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46 Forma libre"/>
          <p:cNvGrpSpPr/>
          <p:nvPr/>
        </p:nvGrpSpPr>
        <p:grpSpPr>
          <a:xfrm>
            <a:off x="4022640" y="1908000"/>
            <a:ext cx="604800" cy="743040"/>
            <a:chOff x="4022640" y="1908000"/>
            <a:chExt cx="604800" cy="743040"/>
          </a:xfrm>
        </p:grpSpPr>
        <p:pic>
          <p:nvPicPr>
            <p:cNvPr id="268" name="46 Forma libre" descr=""/>
            <p:cNvPicPr/>
            <p:nvPr/>
          </p:nvPicPr>
          <p:blipFill>
            <a:blip r:embed="rId17"/>
            <a:stretch/>
          </p:blipFill>
          <p:spPr>
            <a:xfrm>
              <a:off x="4022640" y="1908000"/>
              <a:ext cx="604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30560" y="1914480"/>
              <a:ext cx="5778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1 Título"/>
          <p:cNvSpPr/>
          <p:nvPr/>
        </p:nvSpPr>
        <p:spPr>
          <a:xfrm>
            <a:off x="4067280" y="227664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San Ju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48 Grupo"/>
          <p:cNvGrpSpPr/>
          <p:nvPr/>
        </p:nvGrpSpPr>
        <p:grpSpPr>
          <a:xfrm>
            <a:off x="324000" y="2924280"/>
            <a:ext cx="2592360" cy="576000"/>
            <a:chOff x="324000" y="2924280"/>
            <a:chExt cx="2592360" cy="576000"/>
          </a:xfrm>
        </p:grpSpPr>
        <p:grpSp>
          <p:nvGrpSpPr>
            <p:cNvPr id="272" name="49 Rectángulo"/>
            <p:cNvGrpSpPr/>
            <p:nvPr/>
          </p:nvGrpSpPr>
          <p:grpSpPr>
            <a:xfrm>
              <a:off x="324000" y="2924280"/>
              <a:ext cx="327240" cy="407160"/>
              <a:chOff x="324000" y="2924280"/>
              <a:chExt cx="327240" cy="407160"/>
            </a:xfrm>
          </p:grpSpPr>
          <p:pic>
            <p:nvPicPr>
              <p:cNvPr id="273" name="49 Rectángulo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4000" y="2924280"/>
                <a:ext cx="327240" cy="40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336600" y="2934360"/>
                <a:ext cx="29736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1 Título"/>
            <p:cNvSpPr/>
            <p:nvPr/>
          </p:nvSpPr>
          <p:spPr>
            <a:xfrm>
              <a:off x="633600" y="2934360"/>
              <a:ext cx="228276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vincias mediación mix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51 Forma libre"/>
          <p:cNvGrpSpPr/>
          <p:nvPr/>
        </p:nvGrpSpPr>
        <p:grpSpPr>
          <a:xfrm>
            <a:off x="5529240" y="2189160"/>
            <a:ext cx="480960" cy="719280"/>
            <a:chOff x="5529240" y="2189160"/>
            <a:chExt cx="480960" cy="719280"/>
          </a:xfrm>
        </p:grpSpPr>
        <p:pic>
          <p:nvPicPr>
            <p:cNvPr id="277" name="51 Forma libre" descr=""/>
            <p:cNvPicPr/>
            <p:nvPr/>
          </p:nvPicPr>
          <p:blipFill>
            <a:blip r:embed="rId19"/>
            <a:stretch/>
          </p:blipFill>
          <p:spPr>
            <a:xfrm>
              <a:off x="5529240" y="2189160"/>
              <a:ext cx="480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538960" y="2203560"/>
              <a:ext cx="45720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1 Título"/>
          <p:cNvSpPr/>
          <p:nvPr/>
        </p:nvSpPr>
        <p:spPr>
          <a:xfrm>
            <a:off x="5651640" y="2349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Calibri"/>
                <a:ea typeface="Arial"/>
              </a:rPr>
              <a:t>Entre Rí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56 Forma libre"/>
          <p:cNvSpPr/>
          <p:nvPr/>
        </p:nvSpPr>
        <p:spPr>
          <a:xfrm>
            <a:off x="3970440" y="3319560"/>
            <a:ext cx="492120" cy="907920"/>
          </a:xfrm>
          <a:custGeom>
            <a:avLst/>
            <a:gdLst/>
            <a:ahLst/>
            <a:rect l="l" t="t" r="r" b="b"/>
            <a:pathLst>
              <a:path w="492124" h="908050">
                <a:moveTo>
                  <a:pt x="20637" y="886619"/>
                </a:moveTo>
                <a:cubicBezTo>
                  <a:pt x="38099" y="904875"/>
                  <a:pt x="86518" y="908050"/>
                  <a:pt x="106362" y="900906"/>
                </a:cubicBezTo>
                <a:cubicBezTo>
                  <a:pt x="126206" y="893762"/>
                  <a:pt x="128588" y="860425"/>
                  <a:pt x="139700" y="843756"/>
                </a:cubicBezTo>
                <a:cubicBezTo>
                  <a:pt x="150812" y="827087"/>
                  <a:pt x="161131" y="814388"/>
                  <a:pt x="173037" y="800894"/>
                </a:cubicBezTo>
                <a:cubicBezTo>
                  <a:pt x="184943" y="787400"/>
                  <a:pt x="200818" y="769144"/>
                  <a:pt x="211137" y="762794"/>
                </a:cubicBezTo>
                <a:cubicBezTo>
                  <a:pt x="221456" y="756444"/>
                  <a:pt x="227806" y="770732"/>
                  <a:pt x="234950" y="762794"/>
                </a:cubicBezTo>
                <a:cubicBezTo>
                  <a:pt x="242094" y="754857"/>
                  <a:pt x="249237" y="729457"/>
                  <a:pt x="254000" y="715169"/>
                </a:cubicBezTo>
                <a:cubicBezTo>
                  <a:pt x="258763" y="700881"/>
                  <a:pt x="254794" y="686594"/>
                  <a:pt x="263525" y="677069"/>
                </a:cubicBezTo>
                <a:cubicBezTo>
                  <a:pt x="272256" y="667544"/>
                  <a:pt x="296068" y="666750"/>
                  <a:pt x="306387" y="658019"/>
                </a:cubicBezTo>
                <a:cubicBezTo>
                  <a:pt x="316706" y="649288"/>
                  <a:pt x="317500" y="634206"/>
                  <a:pt x="325437" y="624681"/>
                </a:cubicBezTo>
                <a:cubicBezTo>
                  <a:pt x="333374" y="615156"/>
                  <a:pt x="341312" y="611188"/>
                  <a:pt x="354012" y="600869"/>
                </a:cubicBezTo>
                <a:cubicBezTo>
                  <a:pt x="366712" y="590550"/>
                  <a:pt x="388143" y="577850"/>
                  <a:pt x="401637" y="562769"/>
                </a:cubicBezTo>
                <a:cubicBezTo>
                  <a:pt x="415131" y="547688"/>
                  <a:pt x="425450" y="522287"/>
                  <a:pt x="434975" y="510381"/>
                </a:cubicBezTo>
                <a:cubicBezTo>
                  <a:pt x="444500" y="498475"/>
                  <a:pt x="450850" y="499268"/>
                  <a:pt x="458787" y="491331"/>
                </a:cubicBezTo>
                <a:cubicBezTo>
                  <a:pt x="466724" y="483394"/>
                  <a:pt x="479425" y="510381"/>
                  <a:pt x="482600" y="462756"/>
                </a:cubicBezTo>
                <a:cubicBezTo>
                  <a:pt x="485775" y="415131"/>
                  <a:pt x="492124" y="249237"/>
                  <a:pt x="477837" y="205581"/>
                </a:cubicBezTo>
                <a:cubicBezTo>
                  <a:pt x="463550" y="161925"/>
                  <a:pt x="414337" y="206375"/>
                  <a:pt x="396875" y="200819"/>
                </a:cubicBezTo>
                <a:cubicBezTo>
                  <a:pt x="379413" y="195263"/>
                  <a:pt x="380206" y="180975"/>
                  <a:pt x="373062" y="172244"/>
                </a:cubicBezTo>
                <a:cubicBezTo>
                  <a:pt x="365918" y="163513"/>
                  <a:pt x="365124" y="150018"/>
                  <a:pt x="354012" y="148431"/>
                </a:cubicBezTo>
                <a:cubicBezTo>
                  <a:pt x="342900" y="146844"/>
                  <a:pt x="323056" y="160338"/>
                  <a:pt x="306387" y="162719"/>
                </a:cubicBezTo>
                <a:cubicBezTo>
                  <a:pt x="289718" y="165100"/>
                  <a:pt x="264319" y="171450"/>
                  <a:pt x="254000" y="162719"/>
                </a:cubicBezTo>
                <a:cubicBezTo>
                  <a:pt x="243681" y="153988"/>
                  <a:pt x="255587" y="127000"/>
                  <a:pt x="244475" y="110331"/>
                </a:cubicBezTo>
                <a:cubicBezTo>
                  <a:pt x="233363" y="93662"/>
                  <a:pt x="203994" y="80962"/>
                  <a:pt x="187325" y="62706"/>
                </a:cubicBezTo>
                <a:cubicBezTo>
                  <a:pt x="170656" y="44450"/>
                  <a:pt x="161924" y="0"/>
                  <a:pt x="144462" y="794"/>
                </a:cubicBezTo>
                <a:cubicBezTo>
                  <a:pt x="127000" y="1588"/>
                  <a:pt x="95250" y="49213"/>
                  <a:pt x="82550" y="67469"/>
                </a:cubicBezTo>
                <a:cubicBezTo>
                  <a:pt x="69850" y="85725"/>
                  <a:pt x="73818" y="92075"/>
                  <a:pt x="68262" y="110331"/>
                </a:cubicBezTo>
                <a:cubicBezTo>
                  <a:pt x="62706" y="128587"/>
                  <a:pt x="51593" y="151606"/>
                  <a:pt x="49212" y="177006"/>
                </a:cubicBezTo>
                <a:cubicBezTo>
                  <a:pt x="46831" y="202406"/>
                  <a:pt x="51594" y="235744"/>
                  <a:pt x="53975" y="262731"/>
                </a:cubicBezTo>
                <a:cubicBezTo>
                  <a:pt x="56356" y="289719"/>
                  <a:pt x="53181" y="314325"/>
                  <a:pt x="63500" y="338931"/>
                </a:cubicBezTo>
                <a:cubicBezTo>
                  <a:pt x="73819" y="363537"/>
                  <a:pt x="106362" y="393700"/>
                  <a:pt x="115887" y="410369"/>
                </a:cubicBezTo>
                <a:cubicBezTo>
                  <a:pt x="125412" y="427038"/>
                  <a:pt x="125413" y="427038"/>
                  <a:pt x="120650" y="438944"/>
                </a:cubicBezTo>
                <a:cubicBezTo>
                  <a:pt x="115888" y="450850"/>
                  <a:pt x="94456" y="468312"/>
                  <a:pt x="87312" y="481806"/>
                </a:cubicBezTo>
                <a:cubicBezTo>
                  <a:pt x="80168" y="495300"/>
                  <a:pt x="77787" y="519906"/>
                  <a:pt x="77787" y="519906"/>
                </a:cubicBezTo>
                <a:cubicBezTo>
                  <a:pt x="72231" y="542131"/>
                  <a:pt x="61119" y="596106"/>
                  <a:pt x="53975" y="615156"/>
                </a:cubicBezTo>
                <a:cubicBezTo>
                  <a:pt x="46831" y="634206"/>
                  <a:pt x="42862" y="631825"/>
                  <a:pt x="34925" y="634206"/>
                </a:cubicBezTo>
                <a:cubicBezTo>
                  <a:pt x="26988" y="636587"/>
                  <a:pt x="5556" y="617538"/>
                  <a:pt x="6350" y="629444"/>
                </a:cubicBezTo>
                <a:cubicBezTo>
                  <a:pt x="7144" y="641350"/>
                  <a:pt x="40481" y="678657"/>
                  <a:pt x="39687" y="705644"/>
                </a:cubicBezTo>
                <a:cubicBezTo>
                  <a:pt x="38893" y="732631"/>
                  <a:pt x="3174" y="762000"/>
                  <a:pt x="1587" y="791369"/>
                </a:cubicBezTo>
                <a:cubicBezTo>
                  <a:pt x="0" y="820738"/>
                  <a:pt x="3175" y="868363"/>
                  <a:pt x="20637" y="886619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3b3b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57 Forma libre"/>
          <p:cNvSpPr/>
          <p:nvPr/>
        </p:nvSpPr>
        <p:spPr>
          <a:xfrm>
            <a:off x="4071960" y="2540160"/>
            <a:ext cx="612720" cy="1001520"/>
          </a:xfrm>
          <a:custGeom>
            <a:avLst/>
            <a:gdLst/>
            <a:ahLst/>
            <a:rect l="l" t="t" r="r" b="b"/>
            <a:pathLst>
              <a:path w="611188" h="1002506">
                <a:moveTo>
                  <a:pt x="375444" y="961231"/>
                </a:moveTo>
                <a:cubicBezTo>
                  <a:pt x="385763" y="919956"/>
                  <a:pt x="327026" y="761205"/>
                  <a:pt x="361157" y="718343"/>
                </a:cubicBezTo>
                <a:cubicBezTo>
                  <a:pt x="395288" y="675481"/>
                  <a:pt x="549276" y="735012"/>
                  <a:pt x="580232" y="704056"/>
                </a:cubicBezTo>
                <a:cubicBezTo>
                  <a:pt x="611188" y="673100"/>
                  <a:pt x="552450" y="576262"/>
                  <a:pt x="546894" y="532606"/>
                </a:cubicBezTo>
                <a:cubicBezTo>
                  <a:pt x="541338" y="488950"/>
                  <a:pt x="543719" y="473868"/>
                  <a:pt x="546894" y="442118"/>
                </a:cubicBezTo>
                <a:cubicBezTo>
                  <a:pt x="550069" y="410368"/>
                  <a:pt x="569119" y="369094"/>
                  <a:pt x="565944" y="342106"/>
                </a:cubicBezTo>
                <a:cubicBezTo>
                  <a:pt x="562769" y="315118"/>
                  <a:pt x="538956" y="300037"/>
                  <a:pt x="527844" y="280193"/>
                </a:cubicBezTo>
                <a:cubicBezTo>
                  <a:pt x="516732" y="260349"/>
                  <a:pt x="506413" y="244474"/>
                  <a:pt x="499269" y="223043"/>
                </a:cubicBezTo>
                <a:cubicBezTo>
                  <a:pt x="492125" y="201612"/>
                  <a:pt x="484982" y="151606"/>
                  <a:pt x="484982" y="151606"/>
                </a:cubicBezTo>
                <a:cubicBezTo>
                  <a:pt x="481013" y="131762"/>
                  <a:pt x="484982" y="116681"/>
                  <a:pt x="475457" y="103981"/>
                </a:cubicBezTo>
                <a:cubicBezTo>
                  <a:pt x="465932" y="91281"/>
                  <a:pt x="445295" y="84931"/>
                  <a:pt x="427832" y="75406"/>
                </a:cubicBezTo>
                <a:cubicBezTo>
                  <a:pt x="410370" y="65881"/>
                  <a:pt x="392113" y="50800"/>
                  <a:pt x="370682" y="46831"/>
                </a:cubicBezTo>
                <a:cubicBezTo>
                  <a:pt x="349251" y="42862"/>
                  <a:pt x="317500" y="50799"/>
                  <a:pt x="299244" y="51593"/>
                </a:cubicBezTo>
                <a:cubicBezTo>
                  <a:pt x="280988" y="52387"/>
                  <a:pt x="274638" y="55562"/>
                  <a:pt x="261144" y="51593"/>
                </a:cubicBezTo>
                <a:cubicBezTo>
                  <a:pt x="247650" y="47624"/>
                  <a:pt x="218282" y="27781"/>
                  <a:pt x="218282" y="27781"/>
                </a:cubicBezTo>
                <a:cubicBezTo>
                  <a:pt x="205582" y="20637"/>
                  <a:pt x="203200" y="0"/>
                  <a:pt x="184944" y="8731"/>
                </a:cubicBezTo>
                <a:cubicBezTo>
                  <a:pt x="166688" y="17462"/>
                  <a:pt x="130969" y="65087"/>
                  <a:pt x="108744" y="80168"/>
                </a:cubicBezTo>
                <a:cubicBezTo>
                  <a:pt x="86519" y="95249"/>
                  <a:pt x="64294" y="89693"/>
                  <a:pt x="51594" y="99218"/>
                </a:cubicBezTo>
                <a:cubicBezTo>
                  <a:pt x="38894" y="108743"/>
                  <a:pt x="34925" y="122237"/>
                  <a:pt x="32544" y="137318"/>
                </a:cubicBezTo>
                <a:cubicBezTo>
                  <a:pt x="30163" y="152399"/>
                  <a:pt x="35720" y="169862"/>
                  <a:pt x="37307" y="189706"/>
                </a:cubicBezTo>
                <a:cubicBezTo>
                  <a:pt x="38895" y="209550"/>
                  <a:pt x="40482" y="243681"/>
                  <a:pt x="42069" y="256381"/>
                </a:cubicBezTo>
                <a:cubicBezTo>
                  <a:pt x="43656" y="269081"/>
                  <a:pt x="40482" y="256381"/>
                  <a:pt x="46832" y="265906"/>
                </a:cubicBezTo>
                <a:cubicBezTo>
                  <a:pt x="53182" y="275431"/>
                  <a:pt x="72232" y="288131"/>
                  <a:pt x="80169" y="313531"/>
                </a:cubicBezTo>
                <a:cubicBezTo>
                  <a:pt x="88106" y="338931"/>
                  <a:pt x="99219" y="374650"/>
                  <a:pt x="94457" y="418306"/>
                </a:cubicBezTo>
                <a:cubicBezTo>
                  <a:pt x="89695" y="461962"/>
                  <a:pt x="62706" y="543718"/>
                  <a:pt x="51594" y="575468"/>
                </a:cubicBezTo>
                <a:cubicBezTo>
                  <a:pt x="40482" y="607218"/>
                  <a:pt x="35719" y="600075"/>
                  <a:pt x="27782" y="608806"/>
                </a:cubicBezTo>
                <a:cubicBezTo>
                  <a:pt x="19845" y="617537"/>
                  <a:pt x="0" y="617537"/>
                  <a:pt x="3969" y="627856"/>
                </a:cubicBezTo>
                <a:cubicBezTo>
                  <a:pt x="7938" y="638175"/>
                  <a:pt x="45244" y="651668"/>
                  <a:pt x="51594" y="670718"/>
                </a:cubicBezTo>
                <a:cubicBezTo>
                  <a:pt x="57944" y="689768"/>
                  <a:pt x="40481" y="718343"/>
                  <a:pt x="42069" y="742156"/>
                </a:cubicBezTo>
                <a:cubicBezTo>
                  <a:pt x="43657" y="765969"/>
                  <a:pt x="48419" y="792956"/>
                  <a:pt x="61119" y="813593"/>
                </a:cubicBezTo>
                <a:cubicBezTo>
                  <a:pt x="73819" y="834230"/>
                  <a:pt x="103981" y="847725"/>
                  <a:pt x="118269" y="865981"/>
                </a:cubicBezTo>
                <a:cubicBezTo>
                  <a:pt x="132557" y="884237"/>
                  <a:pt x="134144" y="906462"/>
                  <a:pt x="146844" y="923131"/>
                </a:cubicBezTo>
                <a:cubicBezTo>
                  <a:pt x="159544" y="939800"/>
                  <a:pt x="175419" y="959643"/>
                  <a:pt x="194469" y="965993"/>
                </a:cubicBezTo>
                <a:cubicBezTo>
                  <a:pt x="213519" y="972343"/>
                  <a:pt x="243682" y="961231"/>
                  <a:pt x="261144" y="961231"/>
                </a:cubicBezTo>
                <a:cubicBezTo>
                  <a:pt x="278606" y="961231"/>
                  <a:pt x="284163" y="962818"/>
                  <a:pt x="299244" y="965993"/>
                </a:cubicBezTo>
                <a:cubicBezTo>
                  <a:pt x="314325" y="969168"/>
                  <a:pt x="365125" y="1002506"/>
                  <a:pt x="375444" y="961231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3b3b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 Título"/>
          <p:cNvSpPr/>
          <p:nvPr/>
        </p:nvSpPr>
        <p:spPr>
          <a:xfrm>
            <a:off x="3924360" y="35002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Neuqu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 Título"/>
          <p:cNvSpPr/>
          <p:nvPr/>
        </p:nvSpPr>
        <p:spPr>
          <a:xfrm>
            <a:off x="4067280" y="299736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Calibri"/>
                <a:ea typeface="Arial"/>
              </a:rPr>
              <a:t>Mend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638172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Noelia Torres - U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42920" y="1052640"/>
            <a:ext cx="2592360" cy="8636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42920" y="1125360"/>
            <a:ext cx="24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66"/>
                </a:solidFill>
                <a:latin typeface="Verdana"/>
              </a:rPr>
              <a:t>CI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66"/>
                </a:solidFill>
                <a:latin typeface="Verdana"/>
              </a:rPr>
              <a:t>JURÍ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191628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9640" y="2637000"/>
            <a:ext cx="1800360" cy="6476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2695680"/>
            <a:ext cx="2160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66"/>
                </a:solidFill>
                <a:latin typeface="Verdana"/>
              </a:rPr>
              <a:t>LA LEY ES IG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AR" sz="1200" spc="-1" strike="noStrike">
                <a:solidFill>
                  <a:srgbClr val="000066"/>
                </a:solidFill>
                <a:latin typeface="Verdana"/>
              </a:rPr>
              <a:t>PARA 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95640" y="2637000"/>
            <a:ext cx="2089080" cy="7920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278136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66"/>
                </a:solidFill>
                <a:latin typeface="Verdana"/>
              </a:rPr>
              <a:t>LA SENTENCIA ES DIFERENTE EN CADA CA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4148280"/>
            <a:ext cx="4105440" cy="1152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22100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Verdana"/>
              </a:rPr>
              <a:t>PARADIG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Verdana"/>
              </a:rPr>
              <a:t>JUSTICIA SANCION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268360" y="314172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50920" y="2852640"/>
            <a:ext cx="50328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/>
          <p:nvPr/>
        </p:nvCxnSpPr>
        <p:spPr>
          <a:xfrm flipH="1" rot="16200000">
            <a:off x="3006000" y="2439720"/>
            <a:ext cx="791280" cy="219780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/>
          <p:nvPr/>
        </p:nvCxnSpPr>
        <p:spPr>
          <a:xfrm rot="5400000">
            <a:off x="5148000" y="2709720"/>
            <a:ext cx="576360" cy="1872360"/>
          </a:xfrm>
          <a:prstGeom prst="curvedConnector2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98" name=""/>
          <p:cNvCxnSpPr>
            <a:stCxn id="290" idx="1"/>
          </p:cNvCxnSpPr>
          <p:nvPr/>
        </p:nvCxnSpPr>
        <p:spPr>
          <a:xfrm flipH="1" rot="16200000">
            <a:off x="2712240" y="2541960"/>
            <a:ext cx="2766240" cy="3186720"/>
          </a:xfrm>
          <a:prstGeom prst="curvedConnector5">
            <a:avLst>
              <a:gd name="adj1" fmla="val -12456"/>
              <a:gd name="adj2" fmla="val 38978"/>
              <a:gd name="adj3" fmla="val -12456"/>
            </a:avLst>
          </a:prstGeom>
          <a:ln w="9360">
            <a:solidFill>
              <a:srgbClr val="003300"/>
            </a:solidFill>
            <a:prstDash val="sysDot"/>
            <a:miter/>
            <a:tailEnd len="med" type="triangle" w="med"/>
          </a:ln>
        </p:spPr>
      </p:cxnSp>
      <p:cxnSp>
        <p:nvCxnSpPr>
          <p:cNvPr id="299" name=""/>
          <p:cNvCxnSpPr/>
          <p:nvPr/>
        </p:nvCxnSpPr>
        <p:spPr>
          <a:xfrm rot="5400000">
            <a:off x="6355080" y="3739680"/>
            <a:ext cx="2627640" cy="1152720"/>
          </a:xfrm>
          <a:prstGeom prst="curvedConnector5">
            <a:avLst>
              <a:gd name="adj1" fmla="val 55343"/>
              <a:gd name="adj2" fmla="val 49984"/>
              <a:gd name="adj3" fmla="val 553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5435640" y="5373720"/>
            <a:ext cx="1871640" cy="129528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08720" y="5516640"/>
            <a:ext cx="165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Verdana"/>
              </a:rPr>
              <a:t>EL MEDIADOR COMO GESTOR DE PROCESOS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endCxn id="291" idx="1"/>
          </p:cNvCxnSpPr>
          <p:nvPr/>
        </p:nvCxnSpPr>
        <p:spPr>
          <a:xfrm rot="10800000">
            <a:off x="2410560" y="3101400"/>
            <a:ext cx="3158280" cy="2559600"/>
          </a:xfrm>
          <a:prstGeom prst="curvedConnector5">
            <a:avLst>
              <a:gd name="adj1" fmla="val 107238"/>
              <a:gd name="adj2" fmla="val 49992"/>
              <a:gd name="adj3" fmla="val 107238"/>
            </a:avLst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1042920" y="260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Verdana"/>
              </a:rPr>
              <a:t>Paradigmas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88000" y="2203560"/>
            <a:ext cx="331308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333399"/>
                </a:solidFill>
                <a:latin typeface="Verdana"/>
              </a:rPr>
              <a:t>AUTOGESTIÓN DE LAS DIFERENCIAS</a:t>
            </a:r>
            <a:endParaRPr b="1" lang="en-US" sz="1200" spc="1" strike="noStrike">
              <a:ln w="0">
                <a:noFill/>
              </a:ln>
              <a:solidFill>
                <a:srgbClr val="333399"/>
              </a:solidFill>
              <a:latin typeface="Verdana"/>
              <a:ea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2124000" y="27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500"/>
                            </p:stCondLst>
                            <p:childTnLst>
                              <p:par>
                                <p:cTn id="6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6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85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9500"/>
                            </p:stCondLst>
                            <p:childTnLst>
                              <p:par>
                                <p:cTn id="6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3:16:07Z</dcterms:created>
  <dc:creator>Debora</dc:creator>
  <dc:description/>
  <dc:language>en-US</dc:language>
  <cp:lastModifiedBy>Debora</cp:lastModifiedBy>
  <dcterms:modified xsi:type="dcterms:W3CDTF">2012-11-09T06:10:07Z</dcterms:modified>
  <cp:revision>43</cp:revision>
  <dc:subject/>
  <dc:title>Diapositiva 1</dc:title>
</cp:coreProperties>
</file>