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0D1-F87E-45C2-B7E1-D57B3103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028-A4AF-4269-AB72-2927CF9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235-60CB-49AD-BD8D-715C5CA1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A87-2666-40E1-A647-639A0564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2A244-3AD7-4874-8C21-8389B016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038B7-39E8-4841-9598-B1C806B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99E35-D653-4D8B-9B2D-F709888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8419-E3A5-4571-8636-0342A10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6774B-44A8-42BF-BA2A-C3146EB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DBCA5-BB3D-4939-ACF4-F67BBF7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D754B-85A3-45CC-BDED-FEA94F7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C10-A4F9-424C-85C7-FC9D350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398E-2248-4B84-8045-6727EF0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04C35-A82F-4E9F-90DC-DE6EC0F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9DE46-4894-4047-8716-0986F67A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6A3A7-0F9E-468C-94F3-CF05DABD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EFA0C-2D00-4CEC-95C3-0ED0E89D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ECA-1750-409E-AEFC-0BA6A8B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8DA-BB67-456F-ACA4-1D3948B8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871-DA2F-4782-8AED-9A1E84DA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ACE-ECCD-48EB-9955-B559302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317-EADD-4D58-AE14-B24E8C3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A62-ED09-40CF-BD97-44B8D56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260-9E8A-47EC-96BF-BDDCF86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90C5-019E-4E26-9F4A-2DF078DA266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576-B5D7-4188-B9E0-65C7CB342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EB4-2AC7-45B4-95AA-8CFBCA141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3CF7-BCCC-4A2B-8B6E-5369BF844D3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36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Formación a Distancia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fesionales en Resolución de Conflictos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Lic. Osvaldo Daniel Avelluto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Universidad Nacional de 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Tres de Febr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5640" y="5516640"/>
            <a:ext cx="62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7451640" y="5013360"/>
            <a:ext cx="1400400" cy="18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E670C-7482-4CC8-AA2E-D62AD70B36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arrera de Posgrado en Negociación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Talle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min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signa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A1C-6E93-42AB-8486-B1C358868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Quienes necesitan saber negoci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stina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1A0-8E3C-412C-A235-0BEAE552B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Instituto del Confli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n esta iniciativa también es destacable la aplicación de nuevas tecnolog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D9A-B188-4EF5-9026-353124E5BA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. Osvaldo Daniel Avellu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velluto@untref.edu.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236-3A0C-4F3F-919F-629E54C5A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mer Carrera de grado e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lución de Conflicto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ació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Dictada íntegramente a distancia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7A5-F6DB-470E-B61A-081777943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¿Porque es necesario crea una  nueva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Profesión Universitar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9BE-EF01-4C8C-8B0D-5846DA6BE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Requisitos para que se establezca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 como profe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5D9-1690-4DA8-BDBA-1B50F079BF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cción de la modalidad dentro del nivel Superior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rera de Gr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ciclo de complementación-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6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E21-2123-4B9E-8DBA-D652FAB67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disciplin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cterística fundamental de nuestro saber 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nuestra práctic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C75-7C24-462B-B827-81257EEBC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¿Que se enseñ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ncipales Conocimientos que debe poseer el nuevo profe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324-A9DE-4900-9F53-46C896664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" y="1917360"/>
            <a:ext cx="9021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Como se enseñar esta discipl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Valorar las herramien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de las Nuevas Tecnolog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6EB-604E-441C-9394-F7D87CEFC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santi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Un desafío particular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562-C331-4310-AB73-6B77D35DCF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1:28:15Z</dcterms:created>
  <dc:creator>x</dc:creator>
  <dc:description/>
  <dc:language>en-US</dc:language>
  <cp:lastModifiedBy>Pc</cp:lastModifiedBy>
  <dcterms:modified xsi:type="dcterms:W3CDTF">2012-11-06T00:05:55Z</dcterms:modified>
  <cp:revision>36</cp:revision>
  <dc:subject/>
  <dc:title>     La formación a distancia, de Profesionales para la Paz  Lic. Osvaldo Daniel Avelluto  Universidad Nacional de Tres de Febrero</dc:title>
</cp:coreProperties>
</file>