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902825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719280" y="750600"/>
            <a:ext cx="5357520" cy="370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49840" y="0"/>
            <a:ext cx="2947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49840" y="9428040"/>
            <a:ext cx="29476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722160" y="750960"/>
            <a:ext cx="5353200" cy="37069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49840" y="0"/>
            <a:ext cx="2947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49840" y="9428040"/>
            <a:ext cx="29476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22160" y="750960"/>
            <a:ext cx="5353200" cy="37069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75A9A-C9A4-46BE-8908-194FFE12C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22040" y="1269360"/>
            <a:ext cx="835416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60880" y="2927520"/>
            <a:ext cx="43466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0880" y="3879360"/>
            <a:ext cx="43466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1A6E9-C00E-4032-A7DC-938055ACF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22040" y="1269360"/>
            <a:ext cx="835416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60880" y="2927520"/>
            <a:ext cx="21211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88560" y="2927520"/>
            <a:ext cx="21211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0880" y="3879360"/>
            <a:ext cx="21211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288560" y="3879360"/>
            <a:ext cx="21211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CBA5-454E-4E82-A21F-FAC9BED79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22040" y="1269360"/>
            <a:ext cx="835416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60880" y="2927520"/>
            <a:ext cx="13993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530400" y="2927520"/>
            <a:ext cx="13993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00280" y="2927520"/>
            <a:ext cx="13993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0880" y="3879360"/>
            <a:ext cx="13993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530400" y="3879360"/>
            <a:ext cx="13993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00280" y="3879360"/>
            <a:ext cx="13993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E741-D6C5-423E-9244-F12D25F3B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13FD-91B5-48C3-9ABE-A1B78EBD76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22040" y="1269360"/>
            <a:ext cx="835416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60880" y="2927520"/>
            <a:ext cx="434664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C274-8A56-4BB9-8276-DDF0C0C4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22040" y="1269360"/>
            <a:ext cx="835416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60880" y="2927520"/>
            <a:ext cx="434664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D81-3F2B-49A2-880A-AF6E4D4F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22040" y="1269360"/>
            <a:ext cx="835416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60880" y="2927520"/>
            <a:ext cx="212112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288560" y="2927520"/>
            <a:ext cx="212112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8B91-0B1B-4687-B20A-EAA19A4B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22040" y="1269360"/>
            <a:ext cx="835416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20C-6AF9-4A10-9853-7E0916C6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22040" y="1269360"/>
            <a:ext cx="835416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1460-B0D1-4A00-B630-38F5FA07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22040" y="1269360"/>
            <a:ext cx="835416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60880" y="2927520"/>
            <a:ext cx="21211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288560" y="2927520"/>
            <a:ext cx="212112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0880" y="3879360"/>
            <a:ext cx="21211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4760-217C-4303-BB8B-5660D214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22040" y="1269360"/>
            <a:ext cx="835416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60880" y="2927520"/>
            <a:ext cx="434664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4244-F9C6-4F6E-BE02-4F61F9712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22040" y="1269360"/>
            <a:ext cx="835416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60880" y="2927520"/>
            <a:ext cx="212112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88560" y="2927520"/>
            <a:ext cx="21211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288560" y="3879360"/>
            <a:ext cx="21211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5C4-FD1D-4C0A-A464-C297D28A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22040" y="1269360"/>
            <a:ext cx="835416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60880" y="2927520"/>
            <a:ext cx="21211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288560" y="2927520"/>
            <a:ext cx="21211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60880" y="3879360"/>
            <a:ext cx="43466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5B9-5123-4782-87A5-FC06EA56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22040" y="1269360"/>
            <a:ext cx="835416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60880" y="2927520"/>
            <a:ext cx="43466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0880" y="3879360"/>
            <a:ext cx="43466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04A-34CB-4836-A96D-BA40CFEE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22040" y="1269360"/>
            <a:ext cx="835416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60880" y="2927520"/>
            <a:ext cx="21211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288560" y="2927520"/>
            <a:ext cx="21211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60880" y="3879360"/>
            <a:ext cx="21211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88560" y="3879360"/>
            <a:ext cx="21211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385-3DF2-49E1-9565-CCDDE85A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22040" y="1269360"/>
            <a:ext cx="835416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60880" y="2927520"/>
            <a:ext cx="13993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530400" y="2927520"/>
            <a:ext cx="13993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000280" y="2927520"/>
            <a:ext cx="13993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0880" y="3879360"/>
            <a:ext cx="13993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6530400" y="3879360"/>
            <a:ext cx="13993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8000280" y="3879360"/>
            <a:ext cx="13993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7F22-50D8-4607-A225-9993107DBE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2040" y="1269360"/>
            <a:ext cx="835416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60880" y="2927520"/>
            <a:ext cx="434664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7CCC-1FA0-48D6-8A92-B5B4449F9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2040" y="1269360"/>
            <a:ext cx="835416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60880" y="2927520"/>
            <a:ext cx="212112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288560" y="2927520"/>
            <a:ext cx="212112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8EC6-C284-4F04-87AE-444AE5A58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22040" y="1269360"/>
            <a:ext cx="835416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C635-14BE-4951-BECC-AB7B7285E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22040" y="1269360"/>
            <a:ext cx="835416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CF39-EE2C-494E-A15F-2BC286938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2040" y="1269360"/>
            <a:ext cx="835416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60880" y="2927520"/>
            <a:ext cx="21211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288560" y="2927520"/>
            <a:ext cx="212112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0880" y="3879360"/>
            <a:ext cx="21211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D79F-ACC2-49E7-B7B3-6D97037F1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22040" y="1269360"/>
            <a:ext cx="835416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60880" y="2927520"/>
            <a:ext cx="212112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288560" y="2927520"/>
            <a:ext cx="21211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88560" y="3879360"/>
            <a:ext cx="21211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BFFD-C259-48B7-B758-95038ED27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22040" y="1269360"/>
            <a:ext cx="835416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60880" y="2927520"/>
            <a:ext cx="21211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288560" y="2927520"/>
            <a:ext cx="212112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0880" y="3879360"/>
            <a:ext cx="43466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357A-D451-4B61-B6E6-6227AAE29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7480" y="834120"/>
            <a:ext cx="8437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7560" y="2361960"/>
            <a:ext cx="83314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0000" y="6242040"/>
            <a:ext cx="636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563C-6480-4528-8DB7-3981E70CD2F0}" type="slidenum">
              <a:rPr b="1" lang="es-A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8607600" y="839880"/>
          <a:ext cx="664920" cy="35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07600" y="839880"/>
                    <a:ext cx="6649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354360" cy="6858000"/>
            <a:chOff x="0" y="0"/>
            <a:chExt cx="6354360" cy="685800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49518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2680" y="990720"/>
              <a:ext cx="56116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3933720" y="4889520"/>
            <a:ext cx="5280840" cy="318960"/>
            <a:chOff x="3933720" y="4889520"/>
            <a:chExt cx="5280840" cy="318960"/>
          </a:xfrm>
        </p:grpSpPr>
        <p:sp>
          <p:nvSpPr>
            <p:cNvPr id="45" name=""/>
            <p:cNvSpPr/>
            <p:nvPr/>
          </p:nvSpPr>
          <p:spPr>
            <a:xfrm flipH="1">
              <a:off x="3933720" y="4889520"/>
              <a:ext cx="500976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933040" y="4889520"/>
              <a:ext cx="28152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2639880" y="6248520"/>
            <a:ext cx="23083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3"/>
          </p:nvPr>
        </p:nvSpPr>
        <p:spPr>
          <a:xfrm>
            <a:off x="82080" y="6248520"/>
            <a:ext cx="636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1FA5-4B50-4148-AB49-3FB18699BD60}" type="slidenum">
              <a:rPr b="1" lang="es-A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title"/>
          </p:nvPr>
        </p:nvSpPr>
        <p:spPr>
          <a:xfrm>
            <a:off x="1022040" y="1269360"/>
            <a:ext cx="835416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9080" y="1341360"/>
            <a:ext cx="865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ALTERNATIVAS DE FINANCIAMIEN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551800" y="5877000"/>
          <a:ext cx="96516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1800" y="5877000"/>
                    <a:ext cx="9651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951440" y="5661000"/>
            <a:ext cx="331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Arial"/>
              </a:rPr>
              <a:t>Lic. Ariel Stofenmache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Arial"/>
              </a:rPr>
              <a:t>Stofenmacher &amp; Co, Lavalle 534, 6B,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Arial"/>
              </a:rPr>
              <a:t>Buenos Aires,Tel: 4394-2309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Arial"/>
              </a:rPr>
              <a:t>ariel.stofenmacher@gmail.co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3080" y="476280"/>
            <a:ext cx="784836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FACTOR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573200"/>
            <a:ext cx="770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CESION DE DERECHOS SOBRE DOCUMENTOS A COBR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CHEQU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FACTUR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CON RECURSO/SIN RECURS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  </a:t>
            </a: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VENTAJA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PERMITE FINANCIAR VENT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TRANSFORMA FLUJOS FUTUROS EN CASH/ PREDICTIBILIDAD A LA CA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ADMINISTRACION DE CARTERA/COSTOS OPERAC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IMPUESTO A LOS CREDITOS Y DEBIT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FINANCIAMIENTO FLEX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FACTORING INTERNACION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DESVENTAJA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COSTOS ALTOS CON MUCHOS VALORES PEQUEÑ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A501-967C-42DE-A78F-F165C6E15A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3080" y="476280"/>
            <a:ext cx="784836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OBLIGACIONES NEGOCIAB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79080" y="1484280"/>
            <a:ext cx="770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BONOS PRIVADOS QUE EMITEN LAS EMPRES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ESTRUCTURA A MEDI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TIPICAMENTE ES DE “RENTA FIJ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VENTAJ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FINANCIAMIENTO A MEDIANO Y LARGO PLAZ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SI SON PUBLICAS- MERCADO SECUNDARIO/LIQUIDE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PARA EL INVERSOR EXENTO DE IMPUESTO A LAS GANANCIAS LOS RESULTADOS DE LAS 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F5C3-6A0E-455E-97B4-F4546585A6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495440" y="1773360"/>
          <a:ext cx="6972120" cy="439236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  <a:gridCol w="2323800"/>
              </a:tblGrid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CAPITAL DE TRABAJ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INVERSION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COMPRA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ASI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ACTORI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EX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ARJETA CREDI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ARRAN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29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N / TITULOS CORPORATIVO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MPLIACION DE CAPITAL-OP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DEICOMISO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703440" y="476280"/>
            <a:ext cx="7848360" cy="636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COMO DECIDIR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5861-D7FA-43AF-B9D9-7B413F669F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03440" y="476280"/>
            <a:ext cx="7848360" cy="636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ALGUNOS PROS &amp; C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30360" y="1773360"/>
          <a:ext cx="8582040" cy="3992400"/>
        </p:xfrm>
        <a:graphic>
          <a:graphicData uri="http://schemas.openxmlformats.org/drawingml/2006/table">
            <a:tbl>
              <a:tblPr/>
              <a:tblGrid>
                <a:gridCol w="2860560"/>
                <a:gridCol w="3189240"/>
                <a:gridCol w="253224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O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CON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ASI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RANTIA DEL BI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--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ACTORI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RANTIA DEL VALO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ASA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C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MINISTRAC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--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ARRAN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RANTIA DE BIEN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--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N/TITULO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STRUCTURAC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ASA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MPLIACION DE CAPITA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 COSTO TAS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ESION ACCION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40B32-6353-4A31-AA97-2BC2BE1F3E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8551800" y="5877000"/>
          <a:ext cx="96516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1800" y="5877000"/>
                    <a:ext cx="9651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4952880" y="1219320"/>
            <a:ext cx="4724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Lic. Ariel Stofenmach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tofenmacher &amp; C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Lavalle 534 6B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Buenos Ai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l: 4394-2309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ariel.stofenmacher@gmail.co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3800" y="1710360"/>
            <a:ext cx="777528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3366"/>
                </a:solidFill>
                <a:latin typeface="Arial"/>
              </a:rPr>
              <a:t>Si seguimos haciendo lo que estamos haciendo seguiremos consiguiendo lo que estamos consiguiend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3366"/>
                </a:solidFill>
                <a:latin typeface="Arial"/>
              </a:rPr>
              <a:t>Stephen Cove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4D07-89C0-49B1-B9EC-08FE1DCECC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3080" y="476280"/>
            <a:ext cx="784836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GU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484280"/>
            <a:ext cx="7704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QUE FINANCIAR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QUIENES FINANCIAN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INSTRUMENT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COMO DECIDIR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B3A8-22B6-4524-996F-0E4CF286F4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3080" y="476280"/>
            <a:ext cx="784836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QUE FINANCIAR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080" y="1557360"/>
            <a:ext cx="7704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CAPITAL DE TRABAJ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INVERS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COMPR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96A3-2D26-48B7-AE2E-7E6D71ABDC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080" y="476280"/>
            <a:ext cx="784836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QUIENES FINANCIA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9080" y="1484280"/>
            <a:ext cx="7704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CAPITAL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FONDOS SEMILLA (“SEED CAPITAL”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CAPITAL DE RIESGO (“VENTURE CAPITAL”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FONDOS DE PRIVATE EQU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DEUD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BANCOS COMERCI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BANCOS PUBLIC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FINANCIERAS/COOPERATIVAS/MUTU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CAJAS DE CREDI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ORGANISMOS MULTILATERALES DE CREDI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ORGANISMOS PUBLIC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6362-A1B9-41AE-BA19-4DE2880B2C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080" y="476280"/>
            <a:ext cx="784836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INSTRUMENT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080" y="1197000"/>
            <a:ext cx="7704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ESTRUCTUR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TAS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PLAZ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MONE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GARANT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86880" indent="-2570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FLUJ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6880" indent="-2570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BIENES INMUEBLES/MUEB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6880" indent="-2570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AC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6880" indent="-2570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GARANTÌAS DE SG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6880" indent="-2570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SEGUR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IMPAC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86880" indent="-2570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IMPOSITIV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6880" indent="-2570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BALANC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D0F3-B51C-4192-A1F6-E68E1EC4AE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080" y="476280"/>
            <a:ext cx="784836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INSTRUMENT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9080" y="1484280"/>
            <a:ext cx="7704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LEA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FACTO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ON/TITULOS CORPORATIV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WARR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FINANCIAMIENTO DE EXPORTA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TARJETAS CORPORA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AMPLIACION DE CAPITAL-OP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FIDEICOMI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49A8-A5A7-4EA9-A877-E038A2D090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080" y="476280"/>
            <a:ext cx="784836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LEAS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06000" y="1198080"/>
            <a:ext cx="7704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ALQUILER CON OPCION A COMP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1760" indent="-251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CAN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1760" indent="-251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TASA IMPLICI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1760" indent="-251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VALOR RESIDU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VENTAJAS IMPOSITIVA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1760" indent="-251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DEDUCCION DEL CANON EN EL IMPUESTO A LAS GANANCI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1760" indent="-251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PAGO FINANCIADO DEL I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1760" indent="-251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DISMINUCION DEL VALOR DE LOS BIENES PARA EL PAGO DE LOS IMPUESTOS PATRIMONI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1760" indent="-251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AMORTIZACION ACELERA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VENTAJAS OPERATIVA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1760" indent="-251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FINANCIA 100% A MEDIANO Y LARG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1760" indent="-251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MEJORA EL FLUJO DE FONDOS DE LA COMPANIA / LIBERA CAPITAL DE TRABAJ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1760" indent="-251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ACCESO AL BIEN CON EROGACION MINI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1760" indent="-251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PERMITE ACTUALIZACION TECNOLOG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1760" indent="-251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NO SE CONTABILIZA COMO PASIV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9190-4716-48A5-9ACC-60923F7277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080" y="476280"/>
            <a:ext cx="784836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LEAS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79080" y="1484280"/>
            <a:ext cx="7704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30% BIENES DE CAPITAL EN EL MUN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3% EN ARGENTI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EN ARGENTINA SALDO DE $1.700 M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75% CON PyM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75% MENOS DE $5 M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RUBROS: AUTOMOTORES, HARDWARE, SOFTWARE, PATENTES, MAQUINARIA AGRICOLA, EQUIPOS DE COMUNICACIONES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CEB4-3263-4F5B-A2CF-51253CC9D6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15:45:10Z</dcterms:created>
  <dc:creator>S&amp;Co</dc:creator>
  <dc:description/>
  <dc:language>en-US</dc:language>
  <cp:lastModifiedBy>Congresos y Eventos</cp:lastModifiedBy>
  <cp:lastPrinted>2006-08-09T14:50:44Z</cp:lastPrinted>
  <dcterms:modified xsi:type="dcterms:W3CDTF">2006-08-09T14:52:39Z</dcterms:modified>
  <cp:revision>593</cp:revision>
  <dc:subject/>
  <dc:title>S&amp;Co</dc:title>
</cp:coreProperties>
</file>