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69290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924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790440" y="-360"/>
            <a:ext cx="290196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4960" y="741240"/>
            <a:ext cx="491652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4960" y="4679640"/>
            <a:ext cx="4902120" cy="442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9356400"/>
            <a:ext cx="290196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790440" y="9356400"/>
            <a:ext cx="290196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7425959-E04F-47CC-96D3-DE5C9C7AD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0640" y="4680000"/>
            <a:ext cx="491184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al vez el principal punto débil de los datos del primer trimestre está dado por la composición del incremento de la IB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spués de recuperarse a un mayor ritmo la IBIF en bienes de capital que en construcción, en el inicio de 2006 ambas avazaron a un mismo ritmo, hecho que podría repetirse en lo que resta del a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te elemento tiene relevancia si se considera que si bien el ratio IBIF/PIB prácticamente recuperó los valores pre crisis, lo hizo a costa de un incremento del peso de la IBIF en constru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0640" y="4680000"/>
            <a:ext cx="491184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obstante, con los últimos datos, sumado a lo previsto para el resto del año, el stock de capital (tanto de equipo durable, como de construcción) crecería a un ritmo elevado, incluso superior al promedio de la década del 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ún así, el ratio stock de capital/PIB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2DC41-3145-453A-ABC5-F6FC109A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D89C7-0476-46AF-92DD-7FE36CFE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6825-CF08-4709-964E-EF4ACFCB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90BC1-F7F1-42A9-BB98-00DCD07C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46B2C-75CA-4ADE-A7CB-608F6C9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703F4-8901-44E8-8270-6AD72574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556A-BD38-4B4C-BD85-9E8DE792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BE923-482E-4909-A106-7018C526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90F09-3D07-4DE1-84DD-4A4A036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04BFD-B21D-4032-92FE-C63DAFA1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9C099-A040-4E43-A071-1113D27A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5514B-D284-4DC4-B150-B3EA79C3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3AE-A6D8-4834-BC60-090F512C314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990720"/>
            <a:ext cx="7078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8CE-BB70-4307-A80E-B2AD05543AE4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3B2-80DF-490A-80BE-4F1AA5D83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981080"/>
            <a:ext cx="7924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Escenario Económico Argenti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Perspectivas de cre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iguel Angel Pes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icepresidente B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9 de Agost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3080" y="1789200"/>
            <a:ext cx="7197840" cy="5068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Aumento de ventas de productos con mayores grados de elaboración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3080" y="1797120"/>
            <a:ext cx="7197840" cy="5060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Con perdida relativa de segmentos de productos primarios y combustibles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3080" y="1789200"/>
            <a:ext cx="7197840" cy="5068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Las composición de importaciones presenta una mejora con mayor presencia de compras que sostienen a la inversió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3080" y="1797120"/>
            <a:ext cx="7197840" cy="50608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Con un aumento significativo del segmento de bienes de capital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3080" y="1789200"/>
            <a:ext cx="7197840" cy="5068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l peso del endeudamiento público sobre las cuentas externas ha sido significativ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3080" y="1789200"/>
            <a:ext cx="7197840" cy="5068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Lo que hacía que el desequilibrio de la cuenta corriente fuera permanent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El escenario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internacional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ctual es favorable al igual que sus perspectiva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 términos de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Crecimiento internacion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Niveles de tasas de interé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Niveles de precios de commodi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ción crecientes de nuevas regiones y países que plantean beneficios potenciales para nuestro comerc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El crecimiento económico global continúa sólido y más balanceado entre reg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3090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3080" y="1778040"/>
            <a:ext cx="7197840" cy="5079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érminos de intercambio en altos nivele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52560" y="1766880"/>
            <a:ext cx="7238880" cy="5091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Fundamentalmente por la evolución de los precios de </a:t>
            </a:r>
            <a:r>
              <a:rPr b="0" i="1" lang="es-ES_tradnl" sz="2800" spc="-1" strike="noStrike">
                <a:solidFill>
                  <a:srgbClr val="333399"/>
                </a:solidFill>
                <a:latin typeface="Tahoma"/>
              </a:rPr>
              <a:t>commodities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 en un marco de tasas de interés razonab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246400"/>
            <a:ext cx="78487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22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Volatilidad macroeconómica amplia: “saltos”, subas y bajas, de inflación y del producto. Se genera un régimen de alta inflación y de estancamiento del crecimiento de mediano y largo plaz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Restricción al crecimiento sostenible por cuestiones (ciclos “stop and go”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Insuficiencia de ahorro domestico (exceso de absorción sobre producto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Insuficiencia de divisas, choque de Sector Exter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Desde mediados de los 70s hay un aumento del endeudamiento externo que profundiza los limites que impone la cuenta corriente e incorpora a las cuentas publicas como una nueva restricción ope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Caracterización del comportamiento macroeconómico en Argent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39680" y="1635120"/>
            <a:ext cx="7499520" cy="5222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Con la importancia creciente de nuevos jugadores que potencialmente favorecen a nuestro comercio como Ch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1752480"/>
            <a:ext cx="7499520" cy="5222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Y también la Ind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797120"/>
            <a:ext cx="7197480" cy="5060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80240" y="266688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04-Ago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US$ 26.87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609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l rol de las reservas como barrera efectiva ante cambios en el escenari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849320"/>
            <a:ext cx="6945120" cy="5008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8080" y="609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Política seguida por varios países de la reg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volución Reciente de las Cuentas Públicas y el  Sector Real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uentas públicas que muestran continuos resultados positivos favorecidos por el fuerte crecimiento y que no incorporan restricciones futuras por el resultado del canje de deu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igoroso crecimiento: 16 trimestres de aumentos del PIB ininterrumpid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flación en niveles razonables en un marco de ajuste de precios relativ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ostenida recuperación de las variables ocupacionales y socia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89920" cy="5007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Sostenimiento de cuentas públicas equilib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95320" y="1679400"/>
            <a:ext cx="7353360" cy="5178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3049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ápida y fuerte recuperación desde el fondo de la crisis apoyada en la inversión y el consumo domé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10640" cy="4937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144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La inversión sigue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crec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iendo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con fuerza 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n términos interanua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08080" y="1914480"/>
            <a:ext cx="6934320" cy="4883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...dando lugar a un importante aumento de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l Stock de capi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812960"/>
            <a:ext cx="7162560" cy="5045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l crecimiento se observa tanto en los productores de bienes como en los de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3080" y="1789200"/>
            <a:ext cx="7197840" cy="506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95280" y="762120"/>
            <a:ext cx="716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volución del PBI y de la inflació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3080" y="1797120"/>
            <a:ext cx="7197840" cy="506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07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n un marco donde la inflación se ha mantenido en niveles razo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1920960"/>
            <a:ext cx="7010640" cy="4937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Con una fuerte explicación de ajuste de precios relativos post d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695600"/>
            <a:ext cx="7315200" cy="516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3808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l ambiente de estabilidad y crecimiento ha permitido una recuperación de niveles de ingresos no disrup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73080" y="1778040"/>
            <a:ext cx="7197840" cy="50799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Y mejoras en los indicadores de empleo, condición indispensable para implementar políticas sostenib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volución Monetar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9340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cuperó el rol de la política monetaria y cambiaria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monetizó la economía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avanzó en la normalización del sistema financiero y del sistema de pag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789200"/>
            <a:ext cx="7197840" cy="5068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La economía se ha monetizado superando los efectos de la crisis financie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15200" cy="5083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144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Se recupera la confianza en el sistema financiero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3080" y="1797120"/>
            <a:ext cx="7197840" cy="5060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380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Luego de la caída 2001-02, se ve una recuperación del nivel de préstamos a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58960" y="1774800"/>
            <a:ext cx="7189560" cy="500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380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Y se percibe un retorno de los ahorros del sector privado hacia los ban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29400" cy="506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66680" y="68580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Y las entidades motorizan el préstamo a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3080" y="1789200"/>
            <a:ext cx="7197840" cy="5068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Evolución de la Cuenta Corriente del Balance de Pagos. Largo Plazo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4978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educiendo de forma continua la exposición al secto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3080" y="1797120"/>
            <a:ext cx="7197840" cy="5060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La monetización y baja inflación favorecieron a una reducción de tasas nominales de inte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4976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380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La mejor situación económica general permite una regularización de car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629400" cy="506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38080" y="762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Como resultado de lo anterior se verifica una mejora en la solvencia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09340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uperación económica sin precedentes donde no se perciben presiones fiscales o de sector externo en el corto plaz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cenario internacional que muestra un conjunto de condiciones favorables –tasas precios y países de importancia-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ctor financiero que se ha recuperado con rapidez de la crisis 2001-02 y con potencia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789200"/>
            <a:ext cx="7197480" cy="5068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Evolución superávits de los sectores publico y externo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alida de la crisis: se observa un proceso de fuerte recuperación real que requiere d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Una situación fiscal sostenible en el mediano y largo plazo -Solvencia Fiscal-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l mantenimiento de un nivel del tipo de cambio real competitivo –Solvencia Externa-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La implementación de una política monetaria prudente y flexible que acompañe al ciclo económico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Arial"/>
              </a:rPr>
              <a:t> –Estabilidad de Precios-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71288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La Cuenta Corriente muestra los mejores resultados en los últimos quince años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238880" cy="5091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Las exportaciones muestran un positivo comportamiento en los últimos diez años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789200"/>
            <a:ext cx="7207200" cy="5068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Las importaciones siguen al comportamiento del PBI, aunque en la ultima fase se ve un ligero cambio.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22:39:15Z</dcterms:created>
  <dc:creator> </dc:creator>
  <dc:description/>
  <dc:language>en-US</dc:language>
  <cp:lastModifiedBy>Congresos y Eventos</cp:lastModifiedBy>
  <dcterms:modified xsi:type="dcterms:W3CDTF">2006-08-14T14:11:43Z</dcterms:modified>
  <cp:revision>1574</cp:revision>
  <dc:subject/>
  <dc:title>Presentación de Coyuntura</dc:title>
</cp:coreProperties>
</file>