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BDC-4CBC-413D-B0D3-B04B24E4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189-CAFB-491A-9F22-A3D21425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4E9-BA6C-4E97-B15B-6FEF52E4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FC8-90AC-4422-B05B-BA70C7F3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232-3AC8-443D-BD17-D55EE56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23C-574A-43AA-8C38-C074115D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462-B7E5-4080-89B5-2A6F58B6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E86-9019-47E8-8116-3D5BA94A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E29-3A4D-4248-BFC9-8C4AA7C7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E39-A00B-4878-B09E-FD22CBB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39D-74D2-4E37-BA72-9DED061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8E7-933A-4FDD-8EDF-768E8281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201D-5431-44BE-8C09-2602C7D1B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5238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525780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1b31"/>
                </a:solidFill>
                <a:latin typeface="Times New Roman"/>
              </a:rPr>
              <a:t>- Ciudad Autónoma de Buenos Aires, 10 de Agosto de 2.006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-1440"/>
            <a:ext cx="88329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II Encuentro de Jóvenes Profesionales en Ciencias Económicas</a:t>
            </a:r>
            <a:br>
              <a:rPr sz="2000"/>
            </a:br>
            <a:r>
              <a:rPr b="1" lang="es-ES" sz="2000" spc="-1" strike="noStrike">
                <a:solidFill>
                  <a:srgbClr val="c61b31"/>
                </a:solidFill>
                <a:latin typeface="Verdana"/>
              </a:rPr>
              <a:t>"Consolidando el crecimiento para el logro de la jerarquización profesional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146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EL FIDEICOMISO COMO ESTRATEGIA DE GESTION EMPRES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11160" y="-111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11160" y="-111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26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26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-11160" y="-111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11160" y="-111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00000" y="1628640"/>
            <a:ext cx="8244000" cy="482472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6068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8928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00280" cy="5067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-31680"/>
            <a:ext cx="1079640" cy="68896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19700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2133720"/>
            <a:ext cx="2808360" cy="825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umnst777 Blk BT"/>
              </a:rPr>
              <a:t>GOBIERN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umnst777 Blk BT"/>
              </a:rPr>
              <a:t>LA PROVI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3840" y="4402080"/>
            <a:ext cx="1780920" cy="459720"/>
          </a:xfrm>
          <a:prstGeom prst="rect">
            <a:avLst/>
          </a:prstGeom>
          <a:solidFill>
            <a:srgbClr val="c61b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umnst777 Blk BT"/>
              </a:rPr>
              <a:t>DEU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5270400"/>
            <a:ext cx="287964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umnst777 Blk BT"/>
              </a:rPr>
              <a:t>COMITÉ DE ADMINIS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48000" y="256536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2852640"/>
            <a:ext cx="1224000" cy="863640"/>
          </a:xfrm>
          <a:custGeom>
            <a:avLst/>
            <a:gdLst/>
            <a:ahLst/>
            <a:rect l="l" t="t" r="r" b="b"/>
            <a:pathLst>
              <a:path w="926" h="373">
                <a:moveTo>
                  <a:pt x="0" y="0"/>
                </a:moveTo>
                <a:lnTo>
                  <a:pt x="926" y="373"/>
                </a:lnTo>
                <a:lnTo>
                  <a:pt x="862" y="3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555280" y="4868280"/>
            <a:ext cx="1368360" cy="865080"/>
          </a:xfrm>
          <a:custGeom>
            <a:avLst/>
            <a:gdLst/>
            <a:ahLst/>
            <a:rect l="l" t="t" r="r" b="b"/>
            <a:pathLst>
              <a:path w="926" h="373">
                <a:moveTo>
                  <a:pt x="0" y="0"/>
                </a:moveTo>
                <a:lnTo>
                  <a:pt x="926" y="373"/>
                </a:lnTo>
                <a:lnTo>
                  <a:pt x="862" y="3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4437000"/>
            <a:ext cx="0" cy="79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956720" y="3068640"/>
            <a:ext cx="0" cy="26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40560" y="210816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mite bo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2852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ransfiere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556000" y="4005000"/>
            <a:ext cx="1295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2060640"/>
            <a:ext cx="433440" cy="43164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4000" y="2781360"/>
            <a:ext cx="433440" cy="43164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04000" y="573408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96160" y="4508640"/>
            <a:ext cx="21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ransfiere los fo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 Tesoro Provi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12800" y="4718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cibe mand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67800" y="558972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estiona el recup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3080" y="39546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gan deu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437000"/>
            <a:ext cx="433440" cy="36036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3573360"/>
            <a:ext cx="433440" cy="43200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5229360"/>
            <a:ext cx="433440" cy="43164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70920" y="5157720"/>
            <a:ext cx="433440" cy="43200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79360" y="1700280"/>
            <a:ext cx="209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Unicode MS"/>
              </a:rPr>
              <a:t>Fiduci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75840" y="1724040"/>
            <a:ext cx="164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Unicode MS"/>
              </a:rPr>
              <a:t>Benefici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2920" y="6093000"/>
            <a:ext cx="325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Unicode MS"/>
              </a:rPr>
              <a:t>Administrador Fiduci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61b31"/>
                </a:solidFill>
                <a:latin typeface="Arial"/>
              </a:rPr>
              <a:t>ESTRUCTURACION DEL FC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2305080" cy="542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356000" y="3716280"/>
            <a:ext cx="179064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47640" y="134136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333399"/>
                </a:solidFill>
                <a:latin typeface="Humnst777 Blk BT"/>
              </a:rPr>
              <a:t>Distribución de montos y cantidad de deudores por segmento de deuda al momento de su cesión al F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umnst777 Blk BT"/>
              </a:rPr>
              <a:t>Integración: Cartera C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2682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507960" cy="266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600200" y="2179800"/>
            <a:ext cx="7075440" cy="4417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87280" y="6524640"/>
            <a:ext cx="568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Humnst777 Blk BT"/>
              </a:rPr>
              <a:t>NOTA</a:t>
            </a:r>
            <a:r>
              <a:rPr b="0" lang="es-ES" sz="1200" spc="-1" strike="noStrike">
                <a:solidFill>
                  <a:srgbClr val="000000"/>
                </a:solidFill>
                <a:latin typeface="Humnst777 Blk BT"/>
              </a:rPr>
              <a:t>: Montos a valores de Diciembre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76520" y="14130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Humnst777 Blk BT"/>
              </a:rPr>
              <a:t>Segmentación de la Cartera de deudores </a:t>
            </a:r>
            <a:r>
              <a:rPr b="0" i="1" lang="es-AR" sz="2400" spc="-1" strike="noStrike">
                <a:solidFill>
                  <a:srgbClr val="333399"/>
                </a:solidFill>
                <a:latin typeface="Humnst777 Blk BT"/>
              </a:rPr>
              <a:t>T</a:t>
            </a:r>
            <a:r>
              <a:rPr b="0" i="1" lang="es-ES" sz="2400" spc="-1" strike="noStrike">
                <a:solidFill>
                  <a:srgbClr val="333399"/>
                </a:solidFill>
                <a:latin typeface="Humnst777 Blk BT"/>
              </a:rPr>
              <a:t>ransmitida, según la actividad del deu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umnst777 Blk BT"/>
              </a:rPr>
              <a:t>Integración: Cartera C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2682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507960" cy="266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187280" y="1844640"/>
            <a:ext cx="77724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9800" y="12682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1b31"/>
                </a:solidFill>
                <a:latin typeface="Arial"/>
                <a:ea typeface="Times New Roman"/>
              </a:rPr>
              <a:t>IMPORTANCIA RELATIVA DEL FR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1b31"/>
                </a:solidFill>
                <a:latin typeface="Arial"/>
                <a:ea typeface="Times New Roman"/>
              </a:rPr>
              <a:t>EN EL SISTEMA FINANCIERO</a:t>
            </a:r>
            <a:r>
              <a:rPr b="1" lang="en-US" sz="2800" spc="-1" strike="noStrike">
                <a:solidFill>
                  <a:srgbClr val="c61b3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620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6858000" cy="3405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187280" y="6524640"/>
            <a:ext cx="568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Humnst777 Blk BT"/>
              </a:rPr>
              <a:t>FUENTE</a:t>
            </a:r>
            <a:r>
              <a:rPr b="0" lang="es-ES" sz="1200" spc="-1" strike="noStrike">
                <a:solidFill>
                  <a:srgbClr val="000000"/>
                </a:solidFill>
                <a:latin typeface="Humnst777 Blk BT"/>
              </a:rPr>
              <a:t>: Información de Entidades Financieras (BCRA) - Octubre de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76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61b31"/>
                </a:solidFill>
                <a:latin typeface="Arial"/>
              </a:rPr>
              <a:t>LOS DESAFIOS ORGANIZ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6068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8928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447920"/>
            <a:ext cx="8534160" cy="581400"/>
          </a:xfrm>
          <a:prstGeom prst="rect">
            <a:avLst/>
          </a:prstGeom>
          <a:solidFill>
            <a:srgbClr val="1c2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AMAÑO DE LA ESTRU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257800"/>
            <a:ext cx="8534160" cy="581400"/>
          </a:xfrm>
          <a:prstGeom prst="rect">
            <a:avLst/>
          </a:prstGeom>
          <a:solidFill>
            <a:srgbClr val="1c2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OPORTE TECNOLO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438280"/>
            <a:ext cx="8534160" cy="1068840"/>
          </a:xfrm>
          <a:prstGeom prst="rect">
            <a:avLst/>
          </a:prstGeom>
          <a:solidFill>
            <a:srgbClr val="1c2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TENCION PERSONALIZADA, Y PROFESIONAL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886200"/>
            <a:ext cx="8534160" cy="1068840"/>
          </a:xfrm>
          <a:prstGeom prst="rect">
            <a:avLst/>
          </a:prstGeom>
          <a:solidFill>
            <a:srgbClr val="1c2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RAPIDA ADAPTABILIDAD A LOS DESAF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6019920"/>
            <a:ext cx="8610480" cy="520560"/>
          </a:xfrm>
          <a:prstGeom prst="rect">
            <a:avLst/>
          </a:prstGeom>
          <a:solidFill>
            <a:srgbClr val="1c2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NCENTIVOS DE DESARROLLO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6068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8928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19700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2416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228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61b31"/>
                </a:solidFill>
                <a:latin typeface="Arial"/>
                <a:ea typeface="Times New Roman"/>
              </a:rPr>
              <a:t>INDICADORES DE EFICIENCIA</a:t>
            </a:r>
            <a:r>
              <a:rPr b="1" lang="en-US" sz="3600" spc="-1" strike="noStrike">
                <a:solidFill>
                  <a:srgbClr val="c61b3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11280" y="2104920"/>
            <a:ext cx="8281800" cy="3905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87280" y="6524640"/>
            <a:ext cx="568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Humnst777 Blk BT"/>
              </a:rPr>
              <a:t>FUENTE</a:t>
            </a:r>
            <a:r>
              <a:rPr b="0" lang="es-ES" sz="1200" spc="-1" strike="noStrike">
                <a:solidFill>
                  <a:srgbClr val="000000"/>
                </a:solidFill>
                <a:latin typeface="Humnst777 Blk BT"/>
              </a:rPr>
              <a:t>: Información de Entidades Financieras (BCRA) - Octubre de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61b31"/>
                </a:solidFill>
                <a:latin typeface="Arial"/>
              </a:rPr>
              <a:t>Recupero Creditic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3640" y="1413000"/>
            <a:ext cx="73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volución de las cobranzas y las refinanciaciones no vencidas a Junio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6068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19700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62388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35560" y="533520"/>
            <a:ext cx="76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3300"/>
                </a:solidFill>
                <a:latin typeface="Tahoma"/>
              </a:rPr>
              <a:t>Condición esencial para atraer invers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58880" y="1981080"/>
            <a:ext cx="69534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cc"/>
                </a:solidFill>
                <a:latin typeface="Tahoma"/>
              </a:rPr>
              <a:t>QUE EL MERCADO PERCI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cc"/>
                </a:solidFill>
                <a:latin typeface="Tahoma"/>
              </a:rPr>
              <a:t>CON ABSOLUTA CLAR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cc"/>
                </a:solidFill>
                <a:latin typeface="Tahoma"/>
              </a:rPr>
              <a:t>QUE EL OBJETO DEL FIDEICOMI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cc"/>
                </a:solidFill>
                <a:latin typeface="Tahoma"/>
              </a:rPr>
              <a:t>GENERA UN RETOR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cc"/>
                </a:solidFill>
                <a:latin typeface="Tahoma"/>
              </a:rPr>
              <a:t>HOLGADAMENTE SUFIC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cc"/>
                </a:solidFill>
                <a:latin typeface="Tahoma"/>
              </a:rPr>
              <a:t>PARA RECUPERAR SU IN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cc"/>
                </a:solidFill>
                <a:latin typeface="Tahoma"/>
              </a:rPr>
              <a:t>EN TIEMPO Y FO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6068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9280" y="16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260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15238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73720" y="6019920"/>
            <a:ext cx="363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74520"/>
            <a:ext cx="88329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II Encuentro de Jóvenes Profesionales en Ciencias Económicas</a:t>
            </a:r>
            <a:br>
              <a:rPr sz="2000"/>
            </a:br>
            <a:r>
              <a:rPr b="1" lang="es-ES" sz="2000" spc="-1" strike="noStrike">
                <a:solidFill>
                  <a:srgbClr val="c61b31"/>
                </a:solidFill>
                <a:latin typeface="Verdana"/>
              </a:rPr>
              <a:t>"Consolidando el crecimiento para el logro de la jerarquización profesional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94000" y="495216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Ing. Oscar G. N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41680" y="4114080"/>
            <a:ext cx="470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333399"/>
                </a:solidFill>
                <a:latin typeface="Times New Roman"/>
              </a:rPr>
              <a:t>Muchas Gracias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7720" y="155736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9520" y="594360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- Ciudad Autónoma de Buenos Aires, 10 de Agosto de 2.006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9800" y="12682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61b31"/>
                </a:solidFill>
                <a:latin typeface="Arial"/>
              </a:rPr>
              <a:t>TEORIA ECONOMICA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676520"/>
            <a:ext cx="7391520" cy="703440"/>
          </a:xfrm>
          <a:prstGeom prst="rect">
            <a:avLst/>
          </a:prstGeom>
          <a:solidFill>
            <a:srgbClr val="1c2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743200"/>
            <a:ext cx="7391520" cy="1312920"/>
          </a:xfrm>
          <a:prstGeom prst="rect">
            <a:avLst/>
          </a:prstGeom>
          <a:solidFill>
            <a:srgbClr val="1c2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PROCESO DE TRANSF. DE LA PRODUCC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419720"/>
            <a:ext cx="7391520" cy="703440"/>
          </a:xfrm>
          <a:prstGeom prst="rect">
            <a:avLst/>
          </a:prstGeom>
          <a:solidFill>
            <a:srgbClr val="1c2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INFORMAC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5562720"/>
            <a:ext cx="7391520" cy="703440"/>
          </a:xfrm>
          <a:prstGeom prst="rect">
            <a:avLst/>
          </a:prstGeom>
          <a:solidFill>
            <a:srgbClr val="1c2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14300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3300"/>
                </a:solidFill>
                <a:latin typeface="Arial"/>
              </a:rPr>
              <a:t>QUE </a:t>
            </a:r>
            <a:r>
              <a:rPr b="1" lang="es-AR" sz="1800" spc="-1" strike="noStrike">
                <a:solidFill>
                  <a:srgbClr val="333399"/>
                </a:solidFill>
                <a:latin typeface="Arial"/>
              </a:rPr>
              <a:t>tipo de proyecto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905120"/>
            <a:ext cx="914400" cy="0"/>
          </a:xfrm>
          <a:prstGeom prst="line">
            <a:avLst/>
          </a:prstGeom>
          <a:ln w="38160">
            <a:solidFill>
              <a:srgbClr val="c61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1676520"/>
            <a:ext cx="198108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12193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1295280"/>
            <a:ext cx="2971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Times New Roman"/>
              </a:rPr>
              <a:t>Maqu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Times New Roman"/>
              </a:rPr>
              <a:t>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Times New Roman"/>
              </a:rPr>
              <a:t>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3352680"/>
            <a:ext cx="685800" cy="0"/>
          </a:xfrm>
          <a:prstGeom prst="line">
            <a:avLst/>
          </a:prstGeom>
          <a:ln w="38160">
            <a:solidFill>
              <a:srgbClr val="c61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3124080"/>
            <a:ext cx="411480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OCIOS/INVERS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124080"/>
            <a:ext cx="411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3300"/>
                </a:solidFill>
                <a:latin typeface="Arial"/>
              </a:rPr>
              <a:t>QUIENES </a:t>
            </a:r>
            <a:r>
              <a:rPr b="1" lang="es-AR" sz="1800" spc="-1" strike="noStrike">
                <a:solidFill>
                  <a:srgbClr val="333399"/>
                </a:solidFill>
                <a:latin typeface="Arial"/>
              </a:rPr>
              <a:t>serán los beneficiario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419720"/>
            <a:ext cx="297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3300"/>
                </a:solidFill>
                <a:latin typeface="Arial"/>
              </a:rPr>
              <a:t>COMO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e financi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38862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3962520"/>
            <a:ext cx="3200400" cy="3988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RECURSOS IN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4800600"/>
            <a:ext cx="3200400" cy="3988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RECURS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770600">
            <a:off x="6628680" y="388548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03848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3300"/>
                </a:solidFill>
                <a:latin typeface="Arial"/>
              </a:rPr>
              <a:t>Disponibilidad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472428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1c25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3300"/>
                </a:solidFill>
                <a:latin typeface="Arial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5257800"/>
            <a:ext cx="1218960" cy="1295280"/>
          </a:xfrm>
          <a:custGeom>
            <a:avLst/>
            <a:gdLst>
              <a:gd name="textAreaLeft" fmla="*/ 349920 w 1218960"/>
              <a:gd name="textAreaRight" fmla="*/ 1044000 w 121896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095880"/>
            <a:ext cx="716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1c25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3300"/>
                </a:solidFill>
                <a:latin typeface="Arial"/>
              </a:rPr>
              <a:t>DESARROLLO DEL PROCESO DE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61b31"/>
                </a:solidFill>
                <a:latin typeface="Arial"/>
              </a:rPr>
              <a:t>EL PROCESO DE DECISION DE FINANCIAMIENTO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91440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1295280"/>
            <a:ext cx="507960" cy="266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524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61b31"/>
                </a:solidFill>
                <a:latin typeface="Arial"/>
              </a:rPr>
              <a:t>INSTRUMENTO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1157400"/>
            <a:ext cx="533376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1c2587"/>
                </a:solidFill>
                <a:uFillTx/>
                <a:latin typeface="Arial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tidades Bancarias Públicas o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inanci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rganismos Nacionales y/o Inter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1c2587"/>
                </a:solidFill>
                <a:uFillTx/>
                <a:latin typeface="Arial"/>
              </a:rPr>
              <a:t>N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ondos Comunes de 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War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ociedades de Garantía Recípro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IDECOMISOS (Secutiriz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828800" y="3581280"/>
            <a:ext cx="5079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800" y="12682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80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61b31"/>
                </a:solidFill>
                <a:latin typeface="Arial"/>
              </a:rPr>
              <a:t>MERCADO DE FIDEICOMI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7920" y="63244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: elaboración propia en base a datos de Instituto Argentino de Mercado de Capi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6592680" cy="200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08720" y="2852640"/>
            <a:ext cx="144720" cy="576360"/>
          </a:xfrm>
          <a:custGeom>
            <a:avLst/>
            <a:gdLst>
              <a:gd name="textAreaLeft" fmla="*/ 0 w 144720"/>
              <a:gd name="textAreaRight" fmla="*/ 52200 w 144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5445000"/>
            <a:ext cx="1871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Humnst777 Blk BT"/>
              </a:rPr>
              <a:t>+ 1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58920" y="4797360"/>
            <a:ext cx="4057560" cy="133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5640" y="5373720"/>
            <a:ext cx="144360" cy="792000"/>
          </a:xfrm>
          <a:custGeom>
            <a:avLst/>
            <a:gdLst>
              <a:gd name="textAreaLeft" fmla="*/ 0 w 144360"/>
              <a:gd name="textAreaRight" fmla="*/ 5220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96360" y="2924280"/>
            <a:ext cx="1547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Humnst777 Blk BT"/>
              </a:rPr>
              <a:t>+ 5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6551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9800" y="12682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80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61b31"/>
                </a:solidFill>
                <a:latin typeface="Arial"/>
              </a:rPr>
              <a:t>¿QUE ES UN FIDEICOMI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124080"/>
            <a:ext cx="421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743200"/>
            <a:ext cx="2063520" cy="685800"/>
          </a:xfrm>
          <a:prstGeom prst="rect">
            <a:avLst/>
          </a:prstGeom>
          <a:gradFill rotWithShape="0">
            <a:gsLst>
              <a:gs pos="0">
                <a:srgbClr val="c61b31"/>
              </a:gs>
              <a:gs pos="50000">
                <a:srgbClr val="ffffff"/>
              </a:gs>
              <a:gs pos="100000">
                <a:srgbClr val="c61b31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Fiduc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72480" y="2819520"/>
            <a:ext cx="1898640" cy="685800"/>
          </a:xfrm>
          <a:prstGeom prst="rect">
            <a:avLst/>
          </a:prstGeom>
          <a:gradFill rotWithShape="0">
            <a:gsLst>
              <a:gs pos="0">
                <a:srgbClr val="c61b31"/>
              </a:gs>
              <a:gs pos="50000">
                <a:srgbClr val="ffffff"/>
              </a:gs>
              <a:gs pos="100000">
                <a:srgbClr val="c61b31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37360" y="4038480"/>
            <a:ext cx="1733760" cy="838440"/>
          </a:xfrm>
          <a:prstGeom prst="flowChartDocument">
            <a:avLst/>
          </a:prstGeom>
          <a:solidFill>
            <a:srgbClr val="ffffff"/>
          </a:solidFill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61b31"/>
                </a:solidFill>
                <a:latin typeface="Tahoma"/>
              </a:rPr>
              <a:t>CON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3000" y="2666880"/>
            <a:ext cx="1815840" cy="8384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Tahoma"/>
              </a:rPr>
              <a:t>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62280" y="3505320"/>
            <a:ext cx="9079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8480" y="3581280"/>
            <a:ext cx="1320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35440" y="4419720"/>
            <a:ext cx="1650960" cy="609480"/>
          </a:xfrm>
          <a:prstGeom prst="rect">
            <a:avLst/>
          </a:prstGeom>
          <a:gradFill rotWithShape="0">
            <a:gsLst>
              <a:gs pos="0">
                <a:srgbClr val="c61b31"/>
              </a:gs>
              <a:gs pos="50000">
                <a:srgbClr val="ffffff"/>
              </a:gs>
              <a:gs pos="100000">
                <a:srgbClr val="c61b31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Tahoma"/>
              </a:rPr>
              <a:t>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563868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61b3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61b31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c61b31"/>
                </a:solidFill>
                <a:latin typeface="Arial"/>
              </a:rPr>
              <a:t>CODIGO CIVIL (Artículo 2.6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61b3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61b31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c61b31"/>
                </a:solidFill>
                <a:latin typeface="Arial"/>
              </a:rPr>
              <a:t>LEY 24.441 (Diciembre de 1.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924680" y="2437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1676520"/>
            <a:ext cx="2063880" cy="68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61b31"/>
                </a:solidFill>
                <a:latin typeface="Tahoma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9800" y="12682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28600" y="1557360"/>
            <a:ext cx="507960" cy="266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3960" y="457200"/>
            <a:ext cx="842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c61b31"/>
                </a:solidFill>
                <a:uFillTx/>
                <a:latin typeface="Arial"/>
              </a:rPr>
              <a:t>TIPOS DE FIDEICOMI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447920"/>
            <a:ext cx="7670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88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587"/>
                </a:solidFill>
                <a:latin typeface="Garamond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1c2587"/>
                </a:solidFill>
                <a:latin typeface="Garamond"/>
                <a:ea typeface="Times New Roman"/>
              </a:rPr>
              <a:t>Comunes y Ordi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1c2587"/>
              </a:buClr>
              <a:buFont typeface="Times"/>
              <a:buChar char="–"/>
              <a:tabLst>
                <a:tab algn="l" pos="388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587"/>
                </a:solidFill>
                <a:latin typeface="Times New Roman"/>
                <a:ea typeface="Times New Roman"/>
              </a:rPr>
              <a:t>De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1c2587"/>
              </a:buClr>
              <a:buFont typeface="Times"/>
              <a:buChar char="–"/>
              <a:tabLst>
                <a:tab algn="l" pos="388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587"/>
                </a:solidFill>
                <a:latin typeface="Times New Roman"/>
                <a:ea typeface="Times New Roman"/>
              </a:rPr>
              <a:t>De Garant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1c2587"/>
              </a:buClr>
              <a:buFont typeface="Times"/>
              <a:buChar char="–"/>
              <a:tabLst>
                <a:tab algn="l" pos="388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587"/>
                </a:solidFill>
                <a:latin typeface="Times New Roman"/>
                <a:ea typeface="Times New Roman"/>
              </a:rPr>
              <a:t>De Adminis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1c2587"/>
              </a:buClr>
              <a:buFont typeface="Times"/>
              <a:buChar char="–"/>
              <a:tabLst>
                <a:tab algn="l" pos="388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587"/>
                </a:solidFill>
                <a:latin typeface="Times New Roman"/>
                <a:ea typeface="Times New Roman"/>
              </a:rPr>
              <a:t>Mix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88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587"/>
                </a:solidFill>
                <a:latin typeface="Garamond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1c2587"/>
                </a:solidFill>
                <a:latin typeface="Garamond"/>
                <a:ea typeface="Times New Roman"/>
              </a:rPr>
              <a:t>Financieros </a:t>
            </a:r>
            <a:r>
              <a:rPr b="1" lang="en-US" sz="1800" spc="-1" strike="noStrike">
                <a:solidFill>
                  <a:srgbClr val="1c2587"/>
                </a:solidFill>
                <a:latin typeface="Garamond"/>
                <a:ea typeface="Times New Roman"/>
              </a:rPr>
              <a:t>(Art. 19 Ley Nº24.44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c2587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1c2587"/>
                </a:solidFill>
                <a:latin typeface="Times New Roman"/>
                <a:ea typeface="Times New Roman"/>
              </a:rPr>
              <a:t>...es aquel Contrato de Fideicomiso (…) en el cual el fiduciario es una entidad financiera o una sociedad especialmente autorizada a funcionar por la Comisión Nacional de Valores para actuar como fiduciario financiero, y beneficiarios son los titulares de certificados de participación en el dominio fiduciario o de títulos representativos de deuda garantizados con los bienes así transmitid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5079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9800" y="1268280"/>
            <a:ext cx="8686800" cy="0"/>
          </a:xfrm>
          <a:prstGeom prst="line">
            <a:avLst/>
          </a:prstGeom>
          <a:ln w="31680">
            <a:solidFill>
              <a:srgbClr val="c61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80880"/>
            <a:ext cx="75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61b31"/>
                </a:solidFill>
                <a:latin typeface="Arial"/>
              </a:rPr>
              <a:t>VENTAJAS DEL FIDEICOMI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057400"/>
            <a:ext cx="9658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752480"/>
            <a:ext cx="834408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37476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isla los activos involucrados (embargos, concursos o quiebras no lo afect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819520"/>
            <a:ext cx="83440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37476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Es más flexible que la hipoteca y la pre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581280"/>
            <a:ext cx="83440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37476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Es adaptable al negocio específico que se pretende realiz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267080"/>
            <a:ext cx="83440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37476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Brinda certeza en la provisión de fo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5029200"/>
            <a:ext cx="83440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37476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segura el destino de los recur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867280"/>
            <a:ext cx="834408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37476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ermite coordinar los vencimientos con los compromisos adqui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10810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205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057400"/>
            <a:ext cx="9658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419720"/>
            <a:ext cx="777240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61b31"/>
                </a:solidFill>
                <a:latin typeface="Arial"/>
              </a:rPr>
              <a:t>EL FIDEICOMISO COMO ESTRATEGIA DE GESTION EMPRES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3919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0:16:48Z</dcterms:created>
  <dc:creator>Juan</dc:creator>
  <dc:description/>
  <dc:language>en-US</dc:language>
  <cp:lastModifiedBy>Congresos y Eventos</cp:lastModifiedBy>
  <dcterms:modified xsi:type="dcterms:W3CDTF">2006-08-14T12:13:49Z</dcterms:modified>
  <cp:revision>26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984102</vt:r8>
  </property>
  <property fmtid="{D5CDD505-2E9C-101B-9397-08002B2CF9AE}" pid="3" name="_AuthorEmail">
    <vt:lpwstr>cavidal@fideicomiso12726.com.ar</vt:lpwstr>
  </property>
  <property fmtid="{D5CDD505-2E9C-101B-9397-08002B2CF9AE}" pid="4" name="_AuthorEmailDisplayName">
    <vt:lpwstr>Carlos Antonio Vidal</vt:lpwstr>
  </property>
  <property fmtid="{D5CDD505-2E9C-101B-9397-08002B2CF9AE}" pid="5" name="_EmailEntryID">
    <vt:lpwstr>000000005592853DC639764EAE00A113DCEA972707007697904635D12E44B1AEE83412681ABC000000013A1700007697904635D12E44B1AEE83412681ABC000001D2EC990000</vt:lpwstr>
  </property>
  <property fmtid="{D5CDD505-2E9C-101B-9397-08002B2CF9AE}" pid="6" name="_EmailSubject">
    <vt:lpwstr>PRESENTACION ING OSCAR NAVA</vt:lpwstr>
  </property>
  <property fmtid="{D5CDD505-2E9C-101B-9397-08002B2CF9AE}" pid="7" name="_PreviousAdHocReviewCycleID">
    <vt:r8>962196287</vt:r8>
  </property>
  <property fmtid="{D5CDD505-2E9C-101B-9397-08002B2CF9AE}" pid="8" name="_ReviewCycleID">
    <vt:r8>-777701146</vt:r8>
  </property>
</Properties>
</file>